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33A8-6E9C-4955-A9CD-A9E5788A89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урение - одна из вреднейших     привыче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7F34-4473-4DC0-8DCA-6EB52D3FEC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C1E3-D1D5-45F2-9C44-E15642B4AB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 ведет к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никотиномании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BF15-2C6D-438A-AF56-75950E4FCC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ящий человек – раб сигар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378B-8060-46B7-A0B6-3EAE41ECE7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 пассивном курении некурящий человек страдает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воздействия табачного дыма страд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органы пищеварения; - лёгочная сист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сердечно-сосудист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AD5-B772-4654-A922-5BBEBFD203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Это надо 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774D-E1FB-4A44-BD09-8608CAAE06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3 раз чаще заболевают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2 раз –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нфарктом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11C7-C152-433B-980A-0253F26DCA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Алкоголь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его влияние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ронический гастрит желу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вивается цирроз печ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( разрушение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оздействует на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скоряет биологическое ста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иводит к развитию алкоголизм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76EC-B55F-4646-A0FF-F52C4AB5CB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CA8C-029F-495E-B14C-BEF13F2605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ервая помощь при отравлении алкогол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ложить набок и очистить дыхательны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ть понюхать ватку, смоченную в нашатырном спир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мыть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ложить на голову холодный компр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ызвать скорую помощ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175-F02A-4234-82A2-C1DB792A75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2F91-C802-47F7-AB41-BA19C70501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ahoma"/>
              </a:rPr>
              <a:t>Официальная стати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CC9E-5D6C-4AEE-98A8-D795E31594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 Татарстане на 1 октября 2011 года с диагнозом «наркомания» на учете состо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9 тысяч 631 челов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 этом сообщили во вторник на совещании в Кабмине РТ, прошедшем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едседательством главы Государственного антинаркотического комит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езоморфин -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паснейший синтетический наркоти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9C69-79C3-4AB9-B401-AA2F80BFE2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EB29-0D2B-4D39-BEC2-70DB20E651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знаки наркотического от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вышение мышечного тон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ужение зрачков и ослабление их реакции на с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79BE-4246-4FC3-B9A6-A4AF7CD626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Как вы поступите, если увидите вашего сына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ьяным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В кармане вашей дочери вы обнаружили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таба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. Ваши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Как отреагировать на то, что сын(дочь) стали употреблять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тики</a:t>
            </a:r>
            <a:r>
              <a:rPr b="1" lang="en-US" sz="1200" spc="-1" strike="noStrike" u="sng">
                <a:solidFill>
                  <a:srgbClr val="080808"/>
                </a:solidFill>
                <a:uFillTx/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Как ж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редотвратить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двигающую беду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3683-4994-461B-983D-2273C6440A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Как же предотвратить надвигающуюся беду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1. Прежде всего вооружитесь зн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следствиях и методах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5. Интересуйтесь друзьями, комп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AD57-C550-4962-A078-67AB308F4E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илен не тот , кто никогда не падал, а тот, кто падал и встава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1ACE-506C-410A-8AA4-B6429972CB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2487-357B-4A66-B993-1646299C14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ствия вредных привы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исходит истощение организма, нервной системы и псих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личность деград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рушаются отношения с родителями, родными, друзьями, учит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овершаются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алкоголиков и наркоманов рождаются неполноценные де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ступает преждевременная смерть (7 лет - средний срок жизни нарком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EDE1-243A-4CBC-A713-FC8FEE961F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alibri"/>
              </a:rPr>
              <a:t>Воспитание и под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амое главное - э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ваше воспитание, поддержка и люб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8DF-349E-46CE-ACAB-AB8FCC3C54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помнит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Здоровье - это сокровище, которое нужно сохранять ежедневно.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Calibri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D7E5-4D10-429C-847B-610CB2B4F6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доровье – богатст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у что ж, мой друг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Решенье за тобой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сам командовать судьбой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согласиться можешь, но отк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Окажется получше в сотню р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жизнь свою спасти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думай, может, ты на правильном пути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о если всё – таки успел свернуть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о потрудись себе здоровье ты верну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5F1-F3C7-40A7-9D87-7A836EC7A5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изнь прекрасн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сь к ней бережн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AB8-4BCC-41AA-93B6-D802748F98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3AB6-6D75-43C2-B01B-D2B772DD2E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Понятие о вредных привы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Табако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Алког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Нарко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5.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DE75-79B6-4E52-8F74-7DFC338B07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Ответьте 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Что к ним относ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курение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 Каково воздействие табачного дыма на организ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алкоголизм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Последствия алкого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Виды наркотиков, их действие,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8D33-73EA-4370-BFED-F305B0B549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ahoma"/>
              </a:rPr>
              <a:t>Понятие о вредных  привыч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Вредная  привычка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редные  привычки серьезно ухудшают состояние здоровь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3CDE-E95C-4695-A429-E592E1BE53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 вредным  привычкам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абакокурение, алкоголизм, наркомания, игромания, компьюте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отовый телефон, телевидение, шоко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ме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яжёлый р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4D6A-9E39-4F98-AA1D-B0D5099ACE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Calibri"/>
              </a:rPr>
              <a:t>Влияние вредных привыч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На формирование подростков  отрицательно влияют вредные привыч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ычаи и традиции социальной среды (праздничные застол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едостатки в воспитательной работе (организация досуга и отдыха подрост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ценка отказа выпить, как проявление недоброжелательности по отношению к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равственная незрелость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F691-1CAE-4325-A965-F2E9572530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0AA-D33E-42C7-90DA-7151EF79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395-0A09-4E43-9BA9-8BF62DE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5D6-3BAF-4FDA-918E-61FE35C9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911-D868-42DE-A1ED-FC43E709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EF4E7-DB4F-41D9-96F7-3AF6F9B2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81634-AA9A-434C-A1CE-785FEFB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4EED-77C8-4E71-9112-EA6B90B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7DBB9-6C05-4F04-A2DA-035415C7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5C234-1241-4678-87F0-F421BACC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FF56-EC25-405C-A2C0-4CBDA025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B523-B470-4C09-BAF2-14BDB5F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D8B-E8A6-4D32-A1FF-42B9AD59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0AEC-4271-4921-8E1B-0BE8CF8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727FD-59AB-4FC7-B831-18FD3658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CED67-01B2-4CF4-B7A0-E4C88FA3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55158-8466-4AF0-8A28-78317A99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DE0A1-C93E-4E0E-8ACA-BDD5D54C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58C-D2F3-4639-A24E-6FF1E3FB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795-DDC4-49DD-ABA9-359720A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001-5B3E-4ECE-9A32-14EBC01E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099-F56D-4A23-8F09-BB28D38A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51A-F443-4B1B-804F-164C1A4D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B97-FB84-4E9B-BBF1-E10F62D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B58-84B3-4347-AB14-D89CC67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5AF-566E-44BB-9735-04688BCEA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EA4-F1F4-4BA8-B913-D55E693F97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916360" y="170028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Мака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Оль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87280" y="393372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аместитель директора по воспитательной работе, 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ение - одна из вреднейших     привыче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590480"/>
            <a:ext cx="73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Фото: Fotobank"/>
          <p:cNvPicPr/>
          <p:nvPr/>
        </p:nvPicPr>
        <p:blipFill>
          <a:blip r:embed="rId1"/>
          <a:srcRect l="0" t="0" r="15354" b="0"/>
          <a:stretch/>
        </p:blipFill>
        <p:spPr>
          <a:xfrm rot="426000">
            <a:off x="7164000" y="1700280"/>
            <a:ext cx="1522440" cy="15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809415_8968nothumb500"/>
          <p:cNvPicPr/>
          <p:nvPr/>
        </p:nvPicPr>
        <p:blipFill>
          <a:blip r:embed="rId2"/>
          <a:srcRect l="709" t="2835" r="1417" b="6378"/>
          <a:stretch/>
        </p:blipFill>
        <p:spPr>
          <a:xfrm rot="20632800">
            <a:off x="7308720" y="3789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5060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483360" y="3333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851280" y="69228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 ведет 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икотиномании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smoker"/>
          <p:cNvPicPr/>
          <p:nvPr/>
        </p:nvPicPr>
        <p:blipFill>
          <a:blip r:embed="rId1"/>
          <a:stretch/>
        </p:blipFill>
        <p:spPr>
          <a:xfrm>
            <a:off x="1187280" y="907920"/>
            <a:ext cx="1989360" cy="265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 - копия"/>
          <p:cNvPicPr/>
          <p:nvPr/>
        </p:nvPicPr>
        <p:blipFill>
          <a:blip r:embed="rId2"/>
          <a:stretch/>
        </p:blipFill>
        <p:spPr>
          <a:xfrm>
            <a:off x="1116000" y="4005360"/>
            <a:ext cx="2295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Курящий человек – раб сигар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{69748758-827C-4953-9A4A-14C2851495D5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16000" y="1628640"/>
            <a:ext cx="7095960" cy="4283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 пассивном курении некурящий человек страдает бол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{60948C64-3001-4DCF-9C4C-9B1925FD6C4A}"/>
          <p:cNvPicPr/>
          <p:nvPr/>
        </p:nvPicPr>
        <p:blipFill>
          <a:blip r:embed="rId1"/>
          <a:stretch/>
        </p:blipFill>
        <p:spPr>
          <a:xfrm rot="194400">
            <a:off x="4284720" y="90756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21378000">
            <a:off x="-252360" y="3573000"/>
            <a:ext cx="496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От воздействия табачного дыма страд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 rot="21392400">
            <a:off x="3348000" y="4508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органы пищеварения; - лёгоч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сердечно-сосудист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012000" y="981000"/>
            <a:ext cx="2376360" cy="2189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9" name="Picture 3" descr="i[16]"/>
          <p:cNvPicPr/>
          <p:nvPr/>
        </p:nvPicPr>
        <p:blipFill>
          <a:blip r:embed="rId2"/>
          <a:stretch/>
        </p:blipFill>
        <p:spPr>
          <a:xfrm>
            <a:off x="5940360" y="3789360"/>
            <a:ext cx="2389320" cy="23256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05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Это надо зн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" descr="385"/>
          <p:cNvPicPr/>
          <p:nvPr/>
        </p:nvPicPr>
        <p:blipFill>
          <a:blip r:embed="rId1"/>
          <a:stretch/>
        </p:blipFill>
        <p:spPr>
          <a:xfrm>
            <a:off x="5292720" y="2565360"/>
            <a:ext cx="2544840" cy="26449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pic>
        <p:nvPicPr>
          <p:cNvPr id="165" name="Picture 5" descr="24"/>
          <p:cNvPicPr/>
          <p:nvPr/>
        </p:nvPicPr>
        <p:blipFill>
          <a:blip r:embed="rId2"/>
          <a:stretch/>
        </p:blipFill>
        <p:spPr>
          <a:xfrm>
            <a:off x="1476360" y="1773360"/>
            <a:ext cx="2479680" cy="29527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66" name="Rectangle 10"/>
          <p:cNvSpPr/>
          <p:nvPr/>
        </p:nvSpPr>
        <p:spPr>
          <a:xfrm>
            <a:off x="-468360" y="4797360"/>
            <a:ext cx="57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3 раз чаще заболевают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стенокард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211640" y="544500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2 раз 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инфарктом миок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Алкоголь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его влияние на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Хронический гастрит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( разрушение печен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здействует на головной моз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Ускоряет биологическое ста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риводит к развитию алкоголизм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674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11280" y="2565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48000" y="1413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Мастер –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549360"/>
          <a:ext cx="230508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3050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6"/>
          <p:cNvGraphicFramePr/>
          <p:nvPr/>
        </p:nvGraphicFramePr>
        <p:xfrm>
          <a:off x="6300720" y="4869000"/>
          <a:ext cx="2158920" cy="15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215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7"/>
          <p:cNvSpPr/>
          <p:nvPr/>
        </p:nvSpPr>
        <p:spPr>
          <a:xfrm>
            <a:off x="684360" y="4797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етрадиционные формы и методы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80808"/>
                </a:solidFill>
                <a:uFillTx/>
                <a:latin typeface="Tahoma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помощь при отравлении алкогол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уложить набок и очистить дыхательные пу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дать понюхать ватку, смоченную в нашатырном спи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ромыть желуд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оложить на голову холодный компр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звать скорую помощ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708360" y="3933720"/>
            <a:ext cx="511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11280" y="40464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мания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7273f70fe41c24d60cde3c457a3"/>
          <p:cNvPicPr/>
          <p:nvPr/>
        </p:nvPicPr>
        <p:blipFill>
          <a:blip r:embed="rId1"/>
          <a:stretch/>
        </p:blipFill>
        <p:spPr>
          <a:xfrm>
            <a:off x="395280" y="3284640"/>
            <a:ext cx="3530520" cy="2509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6372360" y="3789360"/>
            <a:ext cx="2160360" cy="193680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84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052640"/>
            <a:ext cx="203040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119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фициальная стат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19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684360" y="4724280"/>
            <a:ext cx="7272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езоморфин -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паснейший синтетический наркотик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5280" y="476280"/>
            <a:ext cx="8209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 Татарстане на 1 октября 2011 года с диагнозом «наркомания» на учете состо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9 тысяч 631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б этом сообщили во вторник на совещании в Кабмине РТ, прошедшем п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едседательством главы Государственного антинаркотического комите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newface1"/>
          <p:cNvPicPr/>
          <p:nvPr/>
        </p:nvPicPr>
        <p:blipFill>
          <a:blip r:embed="rId1"/>
          <a:stretch/>
        </p:blipFill>
        <p:spPr>
          <a:xfrm>
            <a:off x="2987640" y="2060640"/>
            <a:ext cx="3011400" cy="2259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93" name="Picture 5" descr="faces1"/>
          <p:cNvPicPr/>
          <p:nvPr/>
        </p:nvPicPr>
        <p:blipFill>
          <a:blip r:embed="rId2"/>
          <a:stretch/>
        </p:blipFill>
        <p:spPr>
          <a:xfrm rot="21370200">
            <a:off x="1116000" y="4292280"/>
            <a:ext cx="316872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4" name="Picture 6" descr="faces6"/>
          <p:cNvPicPr/>
          <p:nvPr/>
        </p:nvPicPr>
        <p:blipFill>
          <a:blip r:embed="rId3"/>
          <a:stretch/>
        </p:blipFill>
        <p:spPr>
          <a:xfrm rot="21333600">
            <a:off x="250920" y="2276280"/>
            <a:ext cx="2881080" cy="1815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5" name="Picture 7" descr="faces5"/>
          <p:cNvPicPr/>
          <p:nvPr/>
        </p:nvPicPr>
        <p:blipFill>
          <a:blip r:embed="rId4"/>
          <a:stretch/>
        </p:blipFill>
        <p:spPr>
          <a:xfrm rot="224400">
            <a:off x="5076360" y="4365720"/>
            <a:ext cx="3168720" cy="1996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6" name="Picture 8" descr="faces8"/>
          <p:cNvPicPr/>
          <p:nvPr/>
        </p:nvPicPr>
        <p:blipFill>
          <a:blip r:embed="rId5"/>
          <a:stretch/>
        </p:blipFill>
        <p:spPr>
          <a:xfrm rot="361200">
            <a:off x="6012000" y="2276280"/>
            <a:ext cx="2881080" cy="181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blinds dir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{D9F07142-893E-4CD8-BBB3-5B9F270B2188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755640" y="260280"/>
            <a:ext cx="7921800" cy="626904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знаки наркотического от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вышение мышечного тону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ужение зрачков и ослабление их реакции на св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краснение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addiction-1"/>
          <p:cNvPicPr/>
          <p:nvPr/>
        </p:nvPicPr>
        <p:blipFill>
          <a:blip r:embed="rId1"/>
          <a:stretch/>
        </p:blipFill>
        <p:spPr>
          <a:xfrm>
            <a:off x="6732720" y="3500280"/>
            <a:ext cx="1484280" cy="24782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46920" y="620640"/>
            <a:ext cx="58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дагогические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484280"/>
            <a:ext cx="8496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1. Как вы поступите, если увидите вашего сына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ьяным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2. В кармане вашей дочери вы обнаружили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табак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. Ваши дей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3. Как отреагировать на то, что сын(дочь) стали употреблять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тики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4. Как же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редотвратить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надвигающую беду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79280" y="831240"/>
            <a:ext cx="87487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1. Прежде всего вооружитесь зн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последствиях и методах ле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5. Интересуйтесь друзьями, комп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48760" y="189000"/>
            <a:ext cx="87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же предотвратить надвигающуюся бед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илен не тот , кто никогда не падал, а тот, кто падал и встава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Содержимое 3" descr="Как оградить ребенка от алкоголя и наркотиков?"/>
          <p:cNvPicPr/>
          <p:nvPr/>
        </p:nvPicPr>
        <p:blipFill>
          <a:blip r:embed="rId1"/>
          <a:stretch/>
        </p:blipFill>
        <p:spPr>
          <a:xfrm rot="21408000">
            <a:off x="971640" y="2205000"/>
            <a:ext cx="3636720" cy="324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http://schkola2009.ucoz.ru/j0422194.jpg"/>
          <p:cNvPicPr/>
          <p:nvPr/>
        </p:nvPicPr>
        <p:blipFill>
          <a:blip r:embed="rId2"/>
          <a:stretch/>
        </p:blipFill>
        <p:spPr>
          <a:xfrm rot="230400">
            <a:off x="4716000" y="2133360"/>
            <a:ext cx="3241800" cy="30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SCN4283"/>
          <p:cNvPicPr/>
          <p:nvPr/>
        </p:nvPicPr>
        <p:blipFill>
          <a:blip r:embed="rId3"/>
          <a:stretch/>
        </p:blipFill>
        <p:spPr>
          <a:xfrm>
            <a:off x="3203640" y="4365720"/>
            <a:ext cx="2952720" cy="21128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392360" cy="320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" y="620640"/>
            <a:ext cx="525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468360" y="3357720"/>
          <a:ext cx="338436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57720"/>
                    <a:ext cx="33843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5867280" y="836640"/>
          <a:ext cx="2449800" cy="16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836640"/>
                    <a:ext cx="24498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оисходит истощение организма, нервной системы и псих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личность деградиру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разрушаются отношения с родителями, родными, друзьями, уч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совершаются преступ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т алкоголиков и наркоманов рождаются неполноценные де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ступает преждевременная смерть (7 лет - средний срок жизни наркома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05120" y="33336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следствия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амое главное - эт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аше воспитание, поддержка и люб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0"/>
            <a:ext cx="184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21520" y="404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спитание и поддер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vospitanie_ditej"/>
          <p:cNvPicPr/>
          <p:nvPr/>
        </p:nvPicPr>
        <p:blipFill>
          <a:blip r:embed="rId1"/>
          <a:stretch/>
        </p:blipFill>
        <p:spPr>
          <a:xfrm rot="221400">
            <a:off x="5724000" y="1628640"/>
            <a:ext cx="2735280" cy="1808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nnyDay"/>
          <p:cNvPicPr/>
          <p:nvPr/>
        </p:nvPicPr>
        <p:blipFill>
          <a:blip r:embed="rId2"/>
          <a:stretch/>
        </p:blipFill>
        <p:spPr>
          <a:xfrm rot="21413400">
            <a:off x="539640" y="393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349236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413000"/>
            <a:ext cx="825804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доровье - это сокровище, которое нужно сохранять ежедневно.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доровье – богатств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341360"/>
            <a:ext cx="8507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у что ж, мой друг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Решенье за тобой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сам командовать судьбой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согласиться можешь, но отк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Окажется получше в сотню р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жизнь свою спасти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Подумай, может, ты на правильном пути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о если всё – таки успел свернуть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о потрудись себе здоровье ты верн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192be6fe5aa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529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579760" y="501336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знь прекрасна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546200" y="566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носитесь к ней бережно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162b7f268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56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50000" y="44593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28560" y="55897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27672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 Понятие о вредных привы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04920" y="234936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 Табакокур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62280" y="3141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3.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339640" y="39337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4. Нарко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900880" y="472428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5.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2536452_web_w236_h400"/>
          <p:cNvPicPr/>
          <p:nvPr/>
        </p:nvPicPr>
        <p:blipFill>
          <a:blip r:embed="rId1"/>
          <a:stretch/>
        </p:blipFill>
        <p:spPr>
          <a:xfrm>
            <a:off x="539640" y="4292640"/>
            <a:ext cx="1257480" cy="213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536452_web_w236_h400"/>
          <p:cNvPicPr/>
          <p:nvPr/>
        </p:nvPicPr>
        <p:blipFill>
          <a:blip r:embed="rId2"/>
          <a:stretch/>
        </p:blipFill>
        <p:spPr>
          <a:xfrm>
            <a:off x="7740720" y="476280"/>
            <a:ext cx="96048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6920" y="508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4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наркомания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Виды наркотиков, их действие, стат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53080" y="419040"/>
            <a:ext cx="49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ьте 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16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вредные привычки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Что к ним относи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11280" y="2637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курение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 Каково воздействие табачного дыма на организ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755640" y="3860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3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алкоголизм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Последствия алкогол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Вредная  привычка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07640" y="39672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онятие о вредных  привыч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smoker"/>
          <p:cNvPicPr/>
          <p:nvPr/>
        </p:nvPicPr>
        <p:blipFill>
          <a:blip r:embed="rId1"/>
          <a:stretch/>
        </p:blipFill>
        <p:spPr>
          <a:xfrm>
            <a:off x="971640" y="386064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340000" y="407664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редные  привычки серьезно ухудшают состояние здоровья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826920" y="1413000"/>
            <a:ext cx="388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абакокурение, алкоголизм, наркомания, игромания, компьюте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отовый телефон, телевидение, шокола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ме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яжёлый рок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21000" y="355680"/>
            <a:ext cx="76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 вредным  привычкам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Stok_photo_Addiction1"/>
          <p:cNvPicPr/>
          <p:nvPr/>
        </p:nvPicPr>
        <p:blipFill>
          <a:blip r:embed="rId1"/>
          <a:stretch/>
        </p:blipFill>
        <p:spPr>
          <a:xfrm rot="409800">
            <a:off x="5292360" y="1341000"/>
            <a:ext cx="2664000" cy="244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essfoto_425087"/>
          <p:cNvPicPr/>
          <p:nvPr/>
        </p:nvPicPr>
        <p:blipFill>
          <a:blip r:embed="rId2"/>
          <a:stretch/>
        </p:blipFill>
        <p:spPr>
          <a:xfrm>
            <a:off x="5076720" y="3789360"/>
            <a:ext cx="2735280" cy="2192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лияние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8362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На формирование подростков  отрицательно влияют вредные привычк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бычаи и традиции социальной среды (праздничные застоль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едостатки в воспитательной работе (организация досуга и отдыха подрост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ценка отказа выпить, как проявление недоброжелательности по отношению к други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равственная незрелость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971640" y="620640"/>
            <a:ext cx="7313400" cy="54849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ыйЛучшийМагазин</dc:creator>
  <dc:description/>
  <dc:language>en-US</dc:language>
  <cp:lastModifiedBy>LEGION</cp:lastModifiedBy>
  <dcterms:modified xsi:type="dcterms:W3CDTF">2015-05-12T09:25:56Z</dcterms:modified>
  <cp:revision>232</cp:revision>
  <dc:subject/>
  <dc:title>Макарова Ольга Николаевна</dc:title>
</cp:coreProperties>
</file>