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6.gif" ContentType="image/gif"/>
  <Override PartName="/ppt/media/image20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E910-FD25-4039-8B3C-6629669E03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../slides/slide22.xml"/><Relationship Id="rId5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урение - одна из вреднейших     привыче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EB82-917B-4060-8501-0C082BAD5D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C54E-EAE6-4B0B-B0B7-2D919E4C8C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 ведет к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никотиномании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87B2-9DD9-4B8A-B6A8-6FCFD3F47A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ящий человек – раб сигар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5A4E-79E6-460A-A99F-B78E2B1E71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 пассивном курении некурящий человек страдает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воздействия табачного дыма страд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органы пищеварения; - лёгочная сист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сердечно-сосудист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AFE2-EB22-48FC-867B-607EDFB6F5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Это надо зн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71E6-ABCF-4766-8A5E-7FDC56B839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3 раз чаще заболевают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2 раз –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нфарктом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9A01-BA01-431B-A1F5-8022BD7868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Алкоголь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его влияние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ронический гастрит желу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вивается цирроз печ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( разрушение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оздействует на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скоряет биологическое ста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иводит к развитию алкоголизм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B3D0-718C-4E35-874C-37C53F3D31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D57B-D5B0-4D24-8CFD-03CC77D289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ервая помощь при отравлении алкоголе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ложить набок и очистить дыхательны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ть понюхать ватку, смоченную в нашатырном спир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мыть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ложить на голову холодный компр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ызвать скорую помощ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5EC2-4EDF-45B7-B70A-C768C0650E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B7FF-9702-472C-ADD6-773D74983A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ahoma"/>
              </a:rPr>
              <a:t>Официальная стати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FDCF-ACF0-4629-A7A6-8969E6A7A5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 Татарстане на 1 октября 2011 года с диагнозом «наркомания» на учете состо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9 тысяч 631 челов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 этом сообщили во вторник на совещании в Кабмине РТ, прошедшем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едседательством главы Государственного антинаркотического комит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езоморфин -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паснейший синтетический наркоти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830C-A81E-4F29-9EC3-19D31D502D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0748-57F2-4390-8937-FE136D411B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знаки наркотического от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вышение мышечного тон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ужение зрачков и ослабление их реакции на с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44F9-2707-49D3-A8A9-0D7F3AB730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едагогические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Как вы поступите, если увидите вашего сына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ьяным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В кармане вашей дочери вы обнаружили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таба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. Ваши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Как отреагировать на то, что сын(дочь) стали употреблять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тики</a:t>
            </a:r>
            <a:r>
              <a:rPr b="1" lang="en-US" sz="1200" spc="-1" strike="noStrike" u="sng">
                <a:solidFill>
                  <a:srgbClr val="080808"/>
                </a:solidFill>
                <a:uFillTx/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Как ж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редотвратить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двигающую беду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90A8-58B7-4C91-8D8B-EF14CA9D106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Как же предотвратить надвигающуюся беду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1. Прежде всего вооружитесь зн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следствиях и методах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5. Интересуйтесь друзьями, комп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59B4-1816-4A8F-A0F1-483BFB984B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илен не тот , кто никогда не падал, а тот, кто падал и встава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F0AC-29F7-41B2-89B1-6EE66F03BF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0988-EF6D-47BE-B5B7-CFCEC0A113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следствия вредных привы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исходит истощение организма, нервной системы и псих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личность деград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рушаются отношения с родителями, родными, друзьями, учит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овершаются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алкоголиков и наркоманов рождаются неполноценные де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ступает преждевременная смерть (7 лет - средний срок жизни нарком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AD37-CB27-4F4C-BEBF-7B481681FD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Calibri"/>
              </a:rPr>
              <a:t>Воспитание и поддерж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амое главное - э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ваше воспитание, поддержка и люб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DD1E-354F-4009-92EA-7D44DC1F5D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Запомните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Здоровье - это сокровище, которое нужно сохранять ежедневно.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Calibri"/>
              </a:rPr>
              <a:t>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ED08-72E6-423C-862C-5F012F8F62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доровье – богатств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у что ж, мой друг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Решенье за тобой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сам командовать судьбой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согласиться можешь, но отк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Окажется получше в сотню р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жизнь свою спасти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думай, может, ты на правильном пути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о если всё – таки успел свернуть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о потрудись себе здоровье ты верну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6E7A-CFE8-4BF9-8AD5-6DB8829E9D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изнь прекрасн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сь к ней бережн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9D75-38F6-4D07-B3F9-BE41D95C39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49C3-FA9B-4608-B301-EBD2CBDB31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Понятие о вредных привы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Табако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Алког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Нарко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5.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1D43-92C2-4774-A3F7-66B20A3543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Ответьте 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Что к ним относ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курение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 Каково воздействие табачного дыма на организ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алкоголизм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Последствия алкого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Виды наркотиков, их действие,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19F3-7FD5-4534-972B-DB10811B21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ahoma"/>
              </a:rPr>
              <a:t>Понятие о вредных  привыч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Вредная  привычка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редные  привычки серьезно ухудшают состояние здоровь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453E-417B-45A0-BC67-56D59028DC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 вредным  привычкам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абакокурение, алкоголизм, наркомания, игромания, компьюте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отовый телефон, телевидение, шоко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ме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яжёлый р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AE8E-A0BC-4381-8F1F-BB2F40741E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Calibri"/>
              </a:rPr>
              <a:t>Влияние вредных привыч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На формирование подростков  отрицательно влияют вредные привычк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ычаи и традиции социальной среды (праздничные застол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едостатки в воспитательной работе (организация досуга и отдыха подрост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ценка отказа выпить, как проявление недоброжелательности по отношению к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равственная незрелость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9526-28A3-4495-971E-B4AACDCD59E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D61-1174-4FDE-AB4E-E9BABFE5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94E-DBCF-4B23-857E-598BEFED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1E5-B9D2-4B39-94A5-A8F2F202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858-E6DA-4717-AA38-1F5E6EF9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5C573-C431-4E02-89D9-4C7E6059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D0F6D-A587-4A2D-994C-2FC0A6BD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44A33-4E3D-4730-8A4D-352A2024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59717-4E2A-4026-9AFF-441AE628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CE87B-6AFE-4045-9DC5-9BDF2FBD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EB9ED-EAD6-45F1-9E67-C92F7C53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EDD67-99C9-45C9-A858-DFD2F339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F6C-BB2D-4AA7-94A6-2F8BD4D3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B155F-7B4E-49B8-9738-2E10DC17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02740-3074-4B70-8B92-EEA91EE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DD802-3833-4374-AABB-3729E698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5A6DA-812A-41AE-BB48-7E5C1EFF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60799-5810-4CFC-AB53-4530F090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3E1-D091-4482-A138-575557F8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F25-C87A-452F-A27E-411EEC85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7D8-F202-4836-924D-CF9DA554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F4C-9AEE-4E3A-834F-51090CD5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8DD-CB7C-4FC7-80CE-B9219FD7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282-930A-446C-AA44-8EEBE68A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B54-4A7A-46B4-B0FB-1E464E04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8754-D2A2-4EFF-9F7B-AAC7BEF8F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A289-D439-45F0-B800-3DAAB5A303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gnk.gov.ru/index.php?module=ContentExpress&amp;func=display&amp;ceid=26&amp;bid=28&amp;btitle=&#1054;&#1073;&#1088;&#1072;&#1090;&#1085;&#1072;&#1103;%20&#1089;&#1074;&#1103;&#1079;&#1100;&amp;meid=12" TargetMode="External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2916360" y="170028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Макар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Оль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187280" y="3933720"/>
            <a:ext cx="66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аместитель директора по воспитательной работе, учитель русского языка и литерату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квалификационной катег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34544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урение - одна из вреднейших     привыче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590480"/>
            <a:ext cx="73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Фото: Fotobank"/>
          <p:cNvPicPr/>
          <p:nvPr/>
        </p:nvPicPr>
        <p:blipFill>
          <a:blip r:embed="rId1"/>
          <a:srcRect l="0" t="0" r="15354" b="0"/>
          <a:stretch/>
        </p:blipFill>
        <p:spPr>
          <a:xfrm rot="426000">
            <a:off x="7164000" y="1700280"/>
            <a:ext cx="1522440" cy="1585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809415_8968nothumb500"/>
          <p:cNvPicPr/>
          <p:nvPr/>
        </p:nvPicPr>
        <p:blipFill>
          <a:blip r:embed="rId2"/>
          <a:srcRect l="709" t="2835" r="1417" b="6378"/>
          <a:stretch/>
        </p:blipFill>
        <p:spPr>
          <a:xfrm rot="20632800">
            <a:off x="7308720" y="3789000"/>
            <a:ext cx="1440000" cy="1335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{4CCEB5F7-E7D0-44A2-B1F4-2F4898BBE422}"/>
          <p:cNvPicPr/>
          <p:nvPr/>
        </p:nvPicPr>
        <p:blipFill>
          <a:blip r:embed="rId1"/>
          <a:stretch/>
        </p:blipFill>
        <p:spPr>
          <a:xfrm>
            <a:off x="755640" y="1197000"/>
            <a:ext cx="7601040" cy="50608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3483360" y="3333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851280" y="692280"/>
            <a:ext cx="460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 ведет к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никотиномании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smoker"/>
          <p:cNvPicPr/>
          <p:nvPr/>
        </p:nvPicPr>
        <p:blipFill>
          <a:blip r:embed="rId1"/>
          <a:stretch/>
        </p:blipFill>
        <p:spPr>
          <a:xfrm>
            <a:off x="1187280" y="907920"/>
            <a:ext cx="1989360" cy="2651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3 - копия"/>
          <p:cNvPicPr/>
          <p:nvPr/>
        </p:nvPicPr>
        <p:blipFill>
          <a:blip r:embed="rId2"/>
          <a:stretch/>
        </p:blipFill>
        <p:spPr>
          <a:xfrm>
            <a:off x="1116000" y="4005360"/>
            <a:ext cx="2295360" cy="14284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</a:rPr>
              <a:t>Курящий человек – раб сигаре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{69748758-827C-4953-9A4A-14C2851495D5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1116000" y="1628640"/>
            <a:ext cx="7095960" cy="4283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и пассивном курении некурящий человек страдает боль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{60948C64-3001-4DCF-9C4C-9B1925FD6C4A}"/>
          <p:cNvPicPr/>
          <p:nvPr/>
        </p:nvPicPr>
        <p:blipFill>
          <a:blip r:embed="rId1"/>
          <a:stretch/>
        </p:blipFill>
        <p:spPr>
          <a:xfrm rot="194400">
            <a:off x="4284720" y="907560"/>
            <a:ext cx="4248000" cy="3084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 rot="21378000">
            <a:off x="-252360" y="3573000"/>
            <a:ext cx="496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От воздействия табачного дыма страд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 rot="21392400">
            <a:off x="3348000" y="450864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органы пищеварения; - лёгочная систе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сердечно-сосудистая систе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012000" y="981000"/>
            <a:ext cx="2376360" cy="21891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59" name="Picture 3" descr="i[16]"/>
          <p:cNvPicPr/>
          <p:nvPr/>
        </p:nvPicPr>
        <p:blipFill>
          <a:blip r:embed="rId2"/>
          <a:stretch/>
        </p:blipFill>
        <p:spPr>
          <a:xfrm>
            <a:off x="5940360" y="3789360"/>
            <a:ext cx="2389320" cy="23256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9054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Это надо зна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761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3" descr="385"/>
          <p:cNvPicPr/>
          <p:nvPr/>
        </p:nvPicPr>
        <p:blipFill>
          <a:blip r:embed="rId1"/>
          <a:stretch/>
        </p:blipFill>
        <p:spPr>
          <a:xfrm>
            <a:off x="5292720" y="2565360"/>
            <a:ext cx="2544840" cy="26449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2700000" blurRad="0" rotWithShape="0">
              <a:srgbClr val="009900">
                <a:alpha val="50000"/>
              </a:srgbClr>
            </a:outerShdw>
          </a:effectLst>
        </p:spPr>
      </p:pic>
      <p:pic>
        <p:nvPicPr>
          <p:cNvPr id="165" name="Picture 5" descr="24"/>
          <p:cNvPicPr/>
          <p:nvPr/>
        </p:nvPicPr>
        <p:blipFill>
          <a:blip r:embed="rId2"/>
          <a:stretch/>
        </p:blipFill>
        <p:spPr>
          <a:xfrm>
            <a:off x="1476360" y="1773360"/>
            <a:ext cx="2479680" cy="29527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</p:pic>
      <p:sp>
        <p:nvSpPr>
          <p:cNvPr id="166" name="Rectangle 10"/>
          <p:cNvSpPr/>
          <p:nvPr/>
        </p:nvSpPr>
        <p:spPr>
          <a:xfrm>
            <a:off x="-468360" y="4797360"/>
            <a:ext cx="57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3 раз чаще заболевают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стенокард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211640" y="5445000"/>
            <a:ext cx="45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2 раз –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инфарктом миокар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{113CC2FF-72B8-49C3-8B82-23BAA4DDAF5D}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5400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Алкоголь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его влияние на орга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Хронический гастрит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Развивается цирроз печ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( разрушение печен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здействует на головной моз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Ускоряет биологическое ста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риводит к развитию алкоголизм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{98FD7FE8-D60D-423A-9DA8-38886AD4623F}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56674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611280" y="2565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48000" y="1413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Мастер –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 те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395280" y="549360"/>
          <a:ext cx="230508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230508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6"/>
          <p:cNvGraphicFramePr/>
          <p:nvPr/>
        </p:nvGraphicFramePr>
        <p:xfrm>
          <a:off x="6300720" y="4869000"/>
          <a:ext cx="2158920" cy="15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4869000"/>
                    <a:ext cx="215892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7"/>
          <p:cNvSpPr/>
          <p:nvPr/>
        </p:nvSpPr>
        <p:spPr>
          <a:xfrm>
            <a:off x="684360" y="479736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етрадиционные формы и методы работы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80808"/>
                </a:solidFill>
                <a:uFillTx/>
                <a:latin typeface="Tahoma"/>
              </a:rPr>
              <a:t>родител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ервая помощь при отравлении алкоголе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уложить набок и очистить дыхательные пу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дать понюхать ватку, смоченную в нашатырном спир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ромыть желуд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оложить на голову холодный компре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ызвать скорую помощ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708360" y="3933720"/>
            <a:ext cx="5111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611280" y="404640"/>
            <a:ext cx="79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мания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7273f70fe41c24d60cde3c457a3"/>
          <p:cNvPicPr/>
          <p:nvPr/>
        </p:nvPicPr>
        <p:blipFill>
          <a:blip r:embed="rId1"/>
          <a:stretch/>
        </p:blipFill>
        <p:spPr>
          <a:xfrm>
            <a:off x="395280" y="3284640"/>
            <a:ext cx="3530520" cy="2509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ws_ac8d5cadc9ff225291a1f6189b6d3829_0"/>
          <p:cNvPicPr/>
          <p:nvPr/>
        </p:nvPicPr>
        <p:blipFill>
          <a:blip r:embed="rId1"/>
          <a:stretch/>
        </p:blipFill>
        <p:spPr>
          <a:xfrm>
            <a:off x="6372360" y="3789360"/>
            <a:ext cx="2160360" cy="1936800"/>
          </a:xfrm>
          <a:prstGeom prst="rect">
            <a:avLst/>
          </a:prstGeom>
          <a:ln w="114480">
            <a:solidFill>
              <a:srgbClr val="33cc33"/>
            </a:solidFill>
            <a:miter/>
          </a:ln>
        </p:spPr>
      </p:pic>
      <p:pic>
        <p:nvPicPr>
          <p:cNvPr id="184" name="Picture 3" descr="gnk-100x100-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1052640"/>
            <a:ext cx="2030400" cy="195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119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Официальная стати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619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6"/>
          <p:cNvSpPr/>
          <p:nvPr/>
        </p:nvSpPr>
        <p:spPr>
          <a:xfrm>
            <a:off x="684360" y="4724280"/>
            <a:ext cx="7272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езоморфин - 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паснейший синтетический наркотик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5280" y="476280"/>
            <a:ext cx="8209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В Татарстане на 1 октября 2011 года с диагнозом «наркомания» на учете состоя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9 тысяч 631 челов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б этом сообщили во вторник на совещании в Кабмине РТ, прошедшем по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едседательством главы Государственного антинаркотического комите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newface1"/>
          <p:cNvPicPr/>
          <p:nvPr/>
        </p:nvPicPr>
        <p:blipFill>
          <a:blip r:embed="rId1"/>
          <a:stretch/>
        </p:blipFill>
        <p:spPr>
          <a:xfrm>
            <a:off x="2987640" y="2060640"/>
            <a:ext cx="3011400" cy="22590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93" name="Picture 5" descr="faces1"/>
          <p:cNvPicPr/>
          <p:nvPr/>
        </p:nvPicPr>
        <p:blipFill>
          <a:blip r:embed="rId2"/>
          <a:stretch/>
        </p:blipFill>
        <p:spPr>
          <a:xfrm rot="21370200">
            <a:off x="1116000" y="4292280"/>
            <a:ext cx="3168720" cy="1996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94" name="Picture 6" descr="faces6"/>
          <p:cNvPicPr/>
          <p:nvPr/>
        </p:nvPicPr>
        <p:blipFill>
          <a:blip r:embed="rId3"/>
          <a:stretch/>
        </p:blipFill>
        <p:spPr>
          <a:xfrm rot="21333600">
            <a:off x="250920" y="2276280"/>
            <a:ext cx="2881080" cy="18158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5" name="Picture 7" descr="faces5"/>
          <p:cNvPicPr/>
          <p:nvPr/>
        </p:nvPicPr>
        <p:blipFill>
          <a:blip r:embed="rId4"/>
          <a:stretch/>
        </p:blipFill>
        <p:spPr>
          <a:xfrm rot="224400">
            <a:off x="5076360" y="4365720"/>
            <a:ext cx="3168720" cy="19969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6" name="Picture 8" descr="faces8"/>
          <p:cNvPicPr/>
          <p:nvPr/>
        </p:nvPicPr>
        <p:blipFill>
          <a:blip r:embed="rId5"/>
          <a:stretch/>
        </p:blipFill>
        <p:spPr>
          <a:xfrm rot="361200">
            <a:off x="6012000" y="2276280"/>
            <a:ext cx="2881080" cy="1815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blinds dir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{D9F07142-893E-4CD8-BBB3-5B9F270B2188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755640" y="260280"/>
            <a:ext cx="7921800" cy="626904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ризнаки наркотического от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вышение мышечного тону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ужение зрачков и ослабление их реакции на св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краснение ко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" descr="addiction-1"/>
          <p:cNvPicPr/>
          <p:nvPr/>
        </p:nvPicPr>
        <p:blipFill>
          <a:blip r:embed="rId1"/>
          <a:stretch/>
        </p:blipFill>
        <p:spPr>
          <a:xfrm>
            <a:off x="6732720" y="3500280"/>
            <a:ext cx="1484280" cy="24782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546920" y="620640"/>
            <a:ext cx="58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дагогические ситу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50920" y="1484280"/>
            <a:ext cx="849636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1. Как вы поступите, если увидите вашего сына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ьяным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2. В кармане вашей дочери вы обнаружили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табак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. Ваши действ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3. Как отреагировать на то, что сын(дочь) стали употреблять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тики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4. Как же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редотвратить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надвигающую беду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79280" y="831240"/>
            <a:ext cx="874872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1. Прежде всего вооружитесь зна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последствиях и методах ле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5. Интересуйтесь друзьями, компан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48760" y="189000"/>
            <a:ext cx="87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же предотвратить надвигающуюся беду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илен не тот , кто никогда не падал, а тот, кто падал и вставал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Содержимое 3" descr="Как оградить ребенка от алкоголя и наркотиков?"/>
          <p:cNvPicPr/>
          <p:nvPr/>
        </p:nvPicPr>
        <p:blipFill>
          <a:blip r:embed="rId1"/>
          <a:stretch/>
        </p:blipFill>
        <p:spPr>
          <a:xfrm rot="21408000">
            <a:off x="971640" y="2205000"/>
            <a:ext cx="3636720" cy="32400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http://schkola2009.ucoz.ru/j0422194.jpg"/>
          <p:cNvPicPr/>
          <p:nvPr/>
        </p:nvPicPr>
        <p:blipFill>
          <a:blip r:embed="rId2"/>
          <a:stretch/>
        </p:blipFill>
        <p:spPr>
          <a:xfrm rot="230400">
            <a:off x="4716000" y="2133360"/>
            <a:ext cx="3241800" cy="3098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SCN4283"/>
          <p:cNvPicPr/>
          <p:nvPr/>
        </p:nvPicPr>
        <p:blipFill>
          <a:blip r:embed="rId3"/>
          <a:stretch/>
        </p:blipFill>
        <p:spPr>
          <a:xfrm>
            <a:off x="3203640" y="4365720"/>
            <a:ext cx="2952720" cy="21128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4140360" y="2997360"/>
            <a:ext cx="4392360" cy="3203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" y="620640"/>
            <a:ext cx="525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468360" y="3357720"/>
          <a:ext cx="3384360" cy="23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57720"/>
                    <a:ext cx="338436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5867280" y="836640"/>
          <a:ext cx="2449800" cy="16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836640"/>
                    <a:ext cx="244980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оисходит истощение организма, нервной системы и псих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личность деградиру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разрушаются отношения с родителями, родными, друзьями, уч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совершаются преступ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т алкоголиков и наркоманов рождаются неполноценные де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ступает преждевременная смерть (7 лет - средний срок жизни наркоман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05120" y="33336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оследствия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амое главное - эт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ваше воспитание, поддержка и любов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0" y="0"/>
            <a:ext cx="184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27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721520" y="40464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спитание и поддерж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vospitanie_ditej"/>
          <p:cNvPicPr/>
          <p:nvPr/>
        </p:nvPicPr>
        <p:blipFill>
          <a:blip r:embed="rId1"/>
          <a:stretch/>
        </p:blipFill>
        <p:spPr>
          <a:xfrm rot="221400">
            <a:off x="5724000" y="1628640"/>
            <a:ext cx="2735280" cy="1808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SunnyDay"/>
          <p:cNvPicPr/>
          <p:nvPr/>
        </p:nvPicPr>
        <p:blipFill>
          <a:blip r:embed="rId2"/>
          <a:stretch/>
        </p:blipFill>
        <p:spPr>
          <a:xfrm rot="21413400">
            <a:off x="539640" y="3933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3492360" y="378936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помнит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3640" y="1413000"/>
            <a:ext cx="825804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доровье - это сокровище, которое нужно сохранять ежедневно.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доровье – богатство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341360"/>
            <a:ext cx="8507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у что ж, мой друг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Решенье за тобой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сам командовать судьбой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согласиться можешь, но отк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Окажется получше в сотню р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жизнь свою спасти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Подумай, может, ты на правильном пути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о если всё – таки успел свернуть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о потрудись себе здоровье ты верн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c192be6fe5aa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529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2579760" y="5013360"/>
            <a:ext cx="42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изнь прекрасна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546200" y="5661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носитесь к ней бережно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c162b7f268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561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450000" y="445932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пасибо за внимание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328560" y="558972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елаем успехов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276720" y="692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0920" y="148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 Понятие о вредных привы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204920" y="2349360"/>
            <a:ext cx="35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 Табакокур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862280" y="314172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3. Алког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339640" y="39337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4. Нарком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2900880" y="472428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5.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3" descr="2536452_web_w236_h400"/>
          <p:cNvPicPr/>
          <p:nvPr/>
        </p:nvPicPr>
        <p:blipFill>
          <a:blip r:embed="rId1"/>
          <a:stretch/>
        </p:blipFill>
        <p:spPr>
          <a:xfrm>
            <a:off x="539640" y="4292640"/>
            <a:ext cx="1257480" cy="2130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2536452_web_w236_h400"/>
          <p:cNvPicPr/>
          <p:nvPr/>
        </p:nvPicPr>
        <p:blipFill>
          <a:blip r:embed="rId2"/>
          <a:stretch/>
        </p:blipFill>
        <p:spPr>
          <a:xfrm>
            <a:off x="7740720" y="476280"/>
            <a:ext cx="96048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826920" y="508464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4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наркомания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Виды наркотиков, их действие, стати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053080" y="419040"/>
            <a:ext cx="49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тветьте  на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116000" y="1341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вредные привычки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Что к ним относи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11280" y="2637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курение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 Каково воздействие табачного дыма на организ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755640" y="386064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3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алкоголизм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Последствия алкогол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Вредная  привычка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007640" y="396720"/>
            <a:ext cx="69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Понятие о вредных  привыч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smoker"/>
          <p:cNvPicPr/>
          <p:nvPr/>
        </p:nvPicPr>
        <p:blipFill>
          <a:blip r:embed="rId1"/>
          <a:stretch/>
        </p:blipFill>
        <p:spPr>
          <a:xfrm>
            <a:off x="971640" y="3860640"/>
            <a:ext cx="1512720" cy="2017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2340000" y="4076640"/>
            <a:ext cx="573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редные  привычки серьезно ухудшают состояние здоровья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826920" y="1413000"/>
            <a:ext cx="388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абакокурение, алкоголизм, наркомания, игромания, компьютер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отовый телефон, телевидение, шокола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ме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яжёлый рок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21000" y="355680"/>
            <a:ext cx="76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 вредным  привычкам относя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Stok_photo_Addiction1"/>
          <p:cNvPicPr/>
          <p:nvPr/>
        </p:nvPicPr>
        <p:blipFill>
          <a:blip r:embed="rId1"/>
          <a:stretch/>
        </p:blipFill>
        <p:spPr>
          <a:xfrm rot="409800">
            <a:off x="5292360" y="1341000"/>
            <a:ext cx="2664000" cy="244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essfoto_425087"/>
          <p:cNvPicPr/>
          <p:nvPr/>
        </p:nvPicPr>
        <p:blipFill>
          <a:blip r:embed="rId2"/>
          <a:stretch/>
        </p:blipFill>
        <p:spPr>
          <a:xfrm>
            <a:off x="5076720" y="3789360"/>
            <a:ext cx="2735280" cy="2192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491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лияние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8362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На формирование подростков  отрицательно влияют вредные привычки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бычаи и традиции социальной среды (праздничные застоль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едостатки в воспитательной работе (организация досуга и отдыха подрост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ценка отказа выпить, как проявление недоброжелательности по отношению к други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равственная незрелость подрост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{2B0A6592-5102-4B46-AA99-3A94A017779B}"/>
          <p:cNvPicPr/>
          <p:nvPr/>
        </p:nvPicPr>
        <p:blipFill>
          <a:blip r:embed="rId1"/>
          <a:stretch/>
        </p:blipFill>
        <p:spPr>
          <a:xfrm>
            <a:off x="971640" y="620640"/>
            <a:ext cx="7313400" cy="54849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мыйЛучшийМагазин</dc:creator>
  <dc:description/>
  <dc:language>en-US</dc:language>
  <cp:lastModifiedBy>LEGION</cp:lastModifiedBy>
  <dcterms:modified xsi:type="dcterms:W3CDTF">2015-05-12T09:25:56Z</dcterms:modified>
  <cp:revision>232</cp:revision>
  <dc:subject/>
  <dc:title>Макарова Ольга Николаевна</dc:title>
</cp:coreProperties>
</file>