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26.gif" ContentType="image/gif"/>
  <Override PartName="/ppt/media/image20.jpeg" ContentType="image/jpeg"/>
  <Override PartName="/ppt/media/image19.png" ContentType="image/png"/>
  <Override PartName="/ppt/media/image24.jpeg" ContentType="image/jpeg"/>
  <Override PartName="/ppt/media/image23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0.jpeg" ContentType="image/jpeg"/>
  <Override PartName="/ppt/media/image1.png" ContentType="image/png"/>
  <Override PartName="/ppt/media/image29.jpeg" ContentType="image/jpeg"/>
  <Override PartName="/ppt/media/image5.png" ContentType="image/png"/>
  <Override PartName="/ppt/media/image35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7.jpeg" ContentType="image/jpeg"/>
  <Override PartName="/ppt/media/image36.jpeg" ContentType="image/jpeg"/>
  <Override PartName="/ppt/media/image18.png" ContentType="image/png"/>
  <Override PartName="/ppt/media/image6.jpeg" ContentType="image/jpeg"/>
  <Override PartName="/ppt/media/image40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EC4A8-83BE-4AA4-84EE-889664317C9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image" Target="../media/image27.png"/><Relationship Id="rId4" Type="http://schemas.openxmlformats.org/officeDocument/2006/relationships/slide" Target="../slides/slide22.xml"/><Relationship Id="rId5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урение - одна из вреднейших     привычек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D9ABA-1111-4009-B012-8C1FFC12B68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E565-9F73-45FA-BD97-AC85B19D0F6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ение ведет к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никотиномании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0626-5F24-4401-95FF-A469F47A241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Курящий человек – раб сигарет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F84A-23CC-4DA7-A431-2CB5015525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и пассивном курении некурящий человек страдает больш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воздействия табачного дыма страдаю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органы пищеварения; - лёгочная систем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сердечно-сосудистая систе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34853-66F2-46B8-9F4F-C9C33337FC2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Это надо знать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9BCA9-9B12-4597-8860-993DEA2E29D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1200"/>
            </a:br>
            <a:br>
              <a:rPr sz="14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3 раз чаще заболевают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стенокард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  12 раз – </a:t>
            </a: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инфарктом миокар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F1688-9F18-4663-B428-CC19CECC5EA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Алкоголь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,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его влияние на орган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ронический гастрит желуд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вивается цирроз печ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( разрушение печен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оздействует на головной моз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скоряет биологическое ста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иводит к развитию алкоголизма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BF1BF-90CF-4C64-959F-0A1191CAB59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9E004-2C63-495B-83AD-93BE7137CFBF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ервая помощь при отравлении алкоголем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уложить набок и очистить дыхательные пу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ть понюхать ватку, смоченную в нашатырном спирт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мыть желудок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ложить на голову холодный компресс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ызвать скорую помощь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FEFD-4F78-45EB-A919-2AD45FCD882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4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12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397C-6E26-41BF-A47F-48C6FFDF789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Tahoma"/>
              </a:rPr>
              <a:t>Официальная статист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5F766-D64B-48C3-9D28-D4F47053EB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 Татарстане на 1 октября 2011 года с диагнозом «наркомания» на учете состоя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9 тысяч 631 человек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 этом сообщили во вторник на совещании в Кабмине РТ, прошедшем под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едседательством главы Государственного антинаркотического комитет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езоморфин -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паснейший синтетический наркоти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6EDE-0FF4-4033-918C-5C19AA1C8A6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E8FA-3888-4933-A523-2E8829A9A5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Признаки наркотического отравления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вышение мышечного тонус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ужение зрачков и ослабление их реакции на св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окраснение ко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E61D2-3EBF-4279-9260-6B522AC9375D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</a:rPr>
              <a:t>Педагогические ситу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Как вы поступите, если увидите вашего сына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ьяным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В кармане вашей дочери вы обнаружили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табак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. Ваши действ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Как отреагировать на то, что сын(дочь) стали употреблять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наркотики</a:t>
            </a:r>
            <a:r>
              <a:rPr b="1" lang="en-US" sz="1200" spc="-1" strike="noStrike" u="sng">
                <a:solidFill>
                  <a:srgbClr val="080808"/>
                </a:solidFill>
                <a:uFillTx/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Как ж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предотвратить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двигающую беду</a:t>
            </a:r>
            <a:r>
              <a:rPr b="1" lang="en-US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4D26C-2295-44EA-B1EE-DBDDBDC6D3B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Как же предотвратить надвигающуюся беду</a:t>
            </a:r>
            <a:r>
              <a:rPr b="1" lang="en-US" sz="1200" spc="-1" strike="noStrike" u="sng">
                <a:solidFill>
                  <a:srgbClr val="ff0000"/>
                </a:solidFill>
                <a:uFillTx/>
                <a:latin typeface="Calibri"/>
                <a:ea typeface="Tahoma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1. Прежде всего вооружитесь знан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следствиях и методах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5. Интересуйтесь друзьями, компани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61D29-3BFF-47E0-B847-8AFFF59FD902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илен не тот , кто никогда не падал, а тот, кто падал и вставал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2FDFF-FE13-4C8A-9398-3027A11B1725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«Профилактика вредных привычек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CBA12-EF76-49DF-AF75-8C61BA845C6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оследствия вредных привыче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происходит истощение организма, нервной системы и псих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личность деградирует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разрушаются отношения с родителями, родными, друзьями, учителя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овершаются преступле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т алкоголиков и наркоманов рождаются неполноценные де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аступает преждевременная смерть (7 лет - средний срок жизни наркоман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4C6CE-F731-428A-B730-8763D119F71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Calibri"/>
              </a:rPr>
              <a:t>Воспитание и поддерж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амое главное - эт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ваше воспитание, поддержка и любов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A8129-0D3E-4B73-BF9E-8799459078A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Запомните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Здоровье - это сокровище, которое нужно сохранять ежедневно.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80808"/>
                </a:solidFill>
                <a:latin typeface="Calibri"/>
              </a:rPr>
              <a:t>               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556EC-B284-4E7B-A07E-A081129F1EE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Здоровье – богатство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у что ж, мой друг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Решенье за тобой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сам командовать судьбой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согласиться можешь, но отк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Окажется получше в сотню раз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ы вправе жизнь свою спасти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Подумай, может, ты на правильном пути,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Но если всё – таки успел свернуть, </a:t>
            </a:r>
            <a:br>
              <a:rPr sz="1200"/>
            </a:b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о потрудись себе здоровье ты вернуть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887BA-2920-4A91-8E45-7A497C52720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изнь прекрасна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Относитесь к ней бережно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17A28-1195-4880-AD53-2C86B757C25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пасибо за внимание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Желаем успехов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D5397-8B3E-4D89-B40D-91C70DE7A8C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 Понятие о вредных привычк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 Табакокур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3. Алког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4. Наркома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5. Здоровый образ жиз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D036A-3466-468E-9D2A-CEDA6177407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Tahoma"/>
              </a:rPr>
              <a:t>Ответьте  на вопрос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1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вредные привычки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 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Что к ним относитс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2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</a:rPr>
              <a:t>курение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? Каково воздействие табачного дыма на организ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3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алкоголизм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Последствия алкогол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4.Что такое </a:t>
            </a: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наркомания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? Виды наркотиков, их действие, статист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D0F4A-7937-4C3E-9429-E923EB02A43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Calibri"/>
                <a:ea typeface="Tahoma"/>
              </a:rPr>
              <a:t>Понятие о вредных  привычка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80808"/>
                </a:solidFill>
                <a:uFillTx/>
                <a:latin typeface="Calibri"/>
                <a:ea typeface="Tahoma"/>
              </a:rPr>
              <a:t>Вредная  привычка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Вредные  привычки серьезно ухудшают состояние здоровья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AC6CF-1C9A-41E6-B7A1-70736847419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К вредным  привычкам относя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абакокурение, алкоголизм, наркомания, игромания, компьютер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отовый телефон, телевидение, шокола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смех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  <a:ea typeface="Tahoma"/>
              </a:rPr>
              <a:t>тяжёлый рок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BC42A-2171-4131-82F5-D01C9CBB8B3B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80808"/>
                </a:solidFill>
                <a:latin typeface="Calibri"/>
              </a:rPr>
              <a:t>Влияние вредных привыче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ff0000"/>
                </a:solidFill>
                <a:uFillTx/>
                <a:latin typeface="Calibri"/>
              </a:rPr>
              <a:t>На формирование подростков  отрицательно влияют вредные привычки 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бычаи и традиции социальной среды (праздничные застолья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едостатки в воспитательной работе (организация досуга и отдыха подростков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оценка отказа выпить, как проявление недоброжелательности по отношению к други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80808"/>
                </a:solidFill>
                <a:latin typeface="Calibri"/>
              </a:rPr>
              <a:t>нравственная незрелость подрост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9E653-6E10-460E-8378-CAF2F2EC66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0A4A2-03F1-4433-836E-06BB470FB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657A-B370-4AB1-AA77-877927CB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356E-22C7-45CD-B102-15B48689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D20F-0F2C-4DD0-A028-D64879D4C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D1B0AE-2A98-4D52-A958-8DD510A4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A9AF7-DD5D-4137-9D51-76A0233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F9425-1468-43F5-9077-948AAAAB2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5852D-F9EC-4DC5-9AC1-6560CB48F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AE313E-04DC-43E3-9F60-7C25743B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5F4515-817F-45FB-B7B4-F3F0EA93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8F6F0-EA42-4270-9311-61BB3EED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D5269-5FA9-4C61-AC70-16D1C30FB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A56A7D-E71B-458A-85B7-814B7D4C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0849C-4FDD-4583-BCD1-0392EEDE8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3A55A-552A-4CB4-9EE3-F5B34FC22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081C2B-D216-441A-808E-FA9398E2A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192192-B540-4A53-AE41-61BA88DD1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12C5-C007-49B2-81A4-4502952FD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A82D-6454-4B7C-9F4E-A0128643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3B2B-97C8-47D7-9FE4-B13E0E6B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5FF4-526A-445F-91D3-6D41B679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B800-7F1B-4E6B-94DD-024D9DD9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BB72-EA9E-4259-9BCC-035DC5091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5B6-4104-4D1D-BD89-CFAD366D6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3723-FA91-4D76-8777-A396BCE7720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50000">
              <a:srgbClr val="3333ff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7A8BB-6494-44B5-9B92-527A834C647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hyperlink" Target="http://www.gnk.gov.ru/index.php?module=ContentExpress&amp;func=display&amp;ceid=26&amp;bid=28&amp;btitle=&#1054;&#1073;&#1088;&#1072;&#1090;&#1085;&#1072;&#1103;%20&#1089;&#1074;&#1103;&#1079;&#1100;&amp;meid=12" TargetMode="External"/><Relationship Id="rId3" Type="http://schemas.openxmlformats.org/officeDocument/2006/relationships/image" Target="../media/image26.gif"/><Relationship Id="rId4" Type="http://schemas.openxmlformats.org/officeDocument/2006/relationships/image" Target="../media/image27.png"/><Relationship Id="rId5" Type="http://schemas.openxmlformats.org/officeDocument/2006/relationships/image" Target="../media/image27.png"/><Relationship Id="rId6" Type="http://schemas.openxmlformats.org/officeDocument/2006/relationships/image" Target="../media/image2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2916360" y="1700280"/>
            <a:ext cx="2952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Макаров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Ольга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Николаев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187280" y="3933720"/>
            <a:ext cx="6696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аместитель директора по воспитательной работе, учитель русского языка и литератур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80808"/>
                </a:solidFill>
                <a:latin typeface="Tahoma"/>
              </a:rPr>
              <a:t>I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квалификационной категори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755640" y="333000"/>
            <a:ext cx="7345440" cy="1469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урение - одна из вреднейших     привычек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0" y="1590480"/>
            <a:ext cx="7380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Курение является социальной проблемой общества, как для его курящей, так и для некурящей част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первых, нужно  бросить курить,</a:t>
            </a:r>
            <a:br>
              <a:rPr sz="2400"/>
            </a:b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во-вторых, избежать влияния курящего общества и не «заразить» их привычкой, а также – сохранить своё здоровье от продуктов курения, поскольку вещества, входящие в выдыхаемый курильщиками дым, не на много безопаснее того, если бы человек сам курил и принимал в себя никотин и многое другое, что входит в зажжённую сигарету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0" name="Picture 4" descr="Фото: Fotobank"/>
          <p:cNvPicPr/>
          <p:nvPr/>
        </p:nvPicPr>
        <p:blipFill>
          <a:blip r:embed="rId1"/>
          <a:srcRect l="0" t="0" r="15354" b="0"/>
          <a:stretch/>
        </p:blipFill>
        <p:spPr>
          <a:xfrm rot="426000">
            <a:off x="7164000" y="1700280"/>
            <a:ext cx="1522440" cy="15858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809415_8968nothumb500"/>
          <p:cNvPicPr/>
          <p:nvPr/>
        </p:nvPicPr>
        <p:blipFill>
          <a:blip r:embed="rId2"/>
          <a:srcRect l="709" t="2835" r="1417" b="6378"/>
          <a:stretch/>
        </p:blipFill>
        <p:spPr>
          <a:xfrm rot="20632800">
            <a:off x="7308720" y="3789000"/>
            <a:ext cx="1440000" cy="1335240"/>
          </a:xfrm>
          <a:prstGeom prst="rect">
            <a:avLst/>
          </a:prstGeom>
          <a:ln w="0">
            <a:noFill/>
          </a:ln>
        </p:spPr>
      </p:pic>
      <p:sp>
        <p:nvSpPr>
          <p:cNvPr id="14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heel spokes="8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{4CCEB5F7-E7D0-44A2-B1F4-2F4898BBE422}"/>
          <p:cNvPicPr/>
          <p:nvPr/>
        </p:nvPicPr>
        <p:blipFill>
          <a:blip r:embed="rId1"/>
          <a:stretch/>
        </p:blipFill>
        <p:spPr>
          <a:xfrm>
            <a:off x="755640" y="1197000"/>
            <a:ext cx="7601040" cy="506088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3483360" y="333360"/>
            <a:ext cx="198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4"/>
          <p:cNvSpPr/>
          <p:nvPr/>
        </p:nvSpPr>
        <p:spPr>
          <a:xfrm>
            <a:off x="3851280" y="692280"/>
            <a:ext cx="4608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Курение ведет к </a:t>
            </a: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никотиномании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зависимости дыхательного центра головного мозга от стимулирующих его работу веществ, содержащихся в табачном ды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smoker"/>
          <p:cNvPicPr/>
          <p:nvPr/>
        </p:nvPicPr>
        <p:blipFill>
          <a:blip r:embed="rId1"/>
          <a:stretch/>
        </p:blipFill>
        <p:spPr>
          <a:xfrm>
            <a:off x="1187280" y="907920"/>
            <a:ext cx="1989360" cy="26514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3 - копия"/>
          <p:cNvPicPr/>
          <p:nvPr/>
        </p:nvPicPr>
        <p:blipFill>
          <a:blip r:embed="rId2"/>
          <a:stretch/>
        </p:blipFill>
        <p:spPr>
          <a:xfrm>
            <a:off x="1116000" y="4005360"/>
            <a:ext cx="2295360" cy="1428480"/>
          </a:xfrm>
          <a:prstGeom prst="rect">
            <a:avLst/>
          </a:prstGeom>
          <a:ln w="0">
            <a:noFill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</a:rPr>
              <a:t>Курящий человек – раб сигареты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1" name="Picture 7" descr="{69748758-827C-4953-9A4A-14C2851495D5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1116000" y="1628640"/>
            <a:ext cx="7095960" cy="4283280"/>
          </a:xfrm>
          <a:prstGeom prst="rect">
            <a:avLst/>
          </a:prstGeom>
          <a:ln w="0">
            <a:noFill/>
          </a:ln>
        </p:spPr>
      </p:pic>
      <p:sp>
        <p:nvSpPr>
          <p:cNvPr id="1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При пассивном курении некурящий человек страдает больш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4" name="Picture 5" descr="{60948C64-3001-4DCF-9C4C-9B1925FD6C4A}"/>
          <p:cNvPicPr/>
          <p:nvPr/>
        </p:nvPicPr>
        <p:blipFill>
          <a:blip r:embed="rId1"/>
          <a:stretch/>
        </p:blipFill>
        <p:spPr>
          <a:xfrm rot="194400">
            <a:off x="4284720" y="907560"/>
            <a:ext cx="4248000" cy="3084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6"/>
          <p:cNvSpPr/>
          <p:nvPr/>
        </p:nvSpPr>
        <p:spPr>
          <a:xfrm rot="21378000">
            <a:off x="-252360" y="3573000"/>
            <a:ext cx="4965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От воздействия табачного дыма страдают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Rectangle 7"/>
          <p:cNvSpPr/>
          <p:nvPr/>
        </p:nvSpPr>
        <p:spPr>
          <a:xfrm rot="21392400">
            <a:off x="3348000" y="4508640"/>
            <a:ext cx="4681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органы пищеварения; - лёгочная система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- сердечно-сосудистая систе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ipe dir="u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0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db3c0276-6e20-4c86-9bcf-39a6921ef004"/>
          <p:cNvPicPr/>
          <p:nvPr/>
        </p:nvPicPr>
        <p:blipFill>
          <a:blip r:embed="rId1"/>
          <a:stretch/>
        </p:blipFill>
        <p:spPr>
          <a:xfrm>
            <a:off x="6012000" y="981000"/>
            <a:ext cx="2376360" cy="2189160"/>
          </a:xfrm>
          <a:prstGeom prst="rect">
            <a:avLst/>
          </a:prstGeom>
          <a:ln w="76320">
            <a:solidFill>
              <a:srgbClr val="00cc00"/>
            </a:solidFill>
            <a:miter/>
          </a:ln>
        </p:spPr>
      </p:pic>
      <p:pic>
        <p:nvPicPr>
          <p:cNvPr id="159" name="Picture 3" descr="i[16]"/>
          <p:cNvPicPr/>
          <p:nvPr/>
        </p:nvPicPr>
        <p:blipFill>
          <a:blip r:embed="rId2"/>
          <a:stretch/>
        </p:blipFill>
        <p:spPr>
          <a:xfrm>
            <a:off x="5940360" y="3789360"/>
            <a:ext cx="2389320" cy="232560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0544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Это надо знать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50560" y="1341000"/>
            <a:ext cx="5761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поражает сердечно-сосудистую систему, органы дыхания, желудочно-кишечный тракт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ильщики болеют раком лёгких в несколько раз чаще, чем некурящие и составляют 96-100% всех больных раком лёгких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cc3300"/>
              </a:buClr>
              <a:buSzPct val="22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увеличивает вероятность других видов злокачественных опухолей (полости рта, пищевода, гортани, поджелудочной железы, желудка, толстой кишки,  печени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Курение является фактором риска сердечно-сосудистых заболеваний (атеросклероз и инфаркт миокарда).</a:t>
            </a:r>
            <a:br>
              <a:rPr sz="2800"/>
            </a:br>
            <a:br>
              <a:rPr sz="32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4" name="Picture 3" descr="385"/>
          <p:cNvPicPr/>
          <p:nvPr/>
        </p:nvPicPr>
        <p:blipFill>
          <a:blip r:embed="rId1"/>
          <a:stretch/>
        </p:blipFill>
        <p:spPr>
          <a:xfrm>
            <a:off x="5292720" y="2565360"/>
            <a:ext cx="2544840" cy="26449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2700000" blurRad="0" rotWithShape="0">
              <a:srgbClr val="009900">
                <a:alpha val="50000"/>
              </a:srgbClr>
            </a:outerShdw>
          </a:effectLst>
        </p:spPr>
      </p:pic>
      <p:pic>
        <p:nvPicPr>
          <p:cNvPr id="165" name="Picture 5" descr="24"/>
          <p:cNvPicPr/>
          <p:nvPr/>
        </p:nvPicPr>
        <p:blipFill>
          <a:blip r:embed="rId2"/>
          <a:stretch/>
        </p:blipFill>
        <p:spPr>
          <a:xfrm>
            <a:off x="1476360" y="1773360"/>
            <a:ext cx="2479680" cy="2952720"/>
          </a:xfrm>
          <a:prstGeom prst="rect">
            <a:avLst/>
          </a:prstGeom>
          <a:ln w="76320">
            <a:solidFill>
              <a:srgbClr val="33cc33"/>
            </a:solidFill>
            <a:miter/>
          </a:ln>
          <a:effectLst>
            <a:outerShdw dist="107932" dir="13500000" blurRad="0" rotWithShape="0">
              <a:srgbClr val="009900">
                <a:alpha val="50000"/>
              </a:srgbClr>
            </a:outerShdw>
          </a:effectLst>
        </p:spPr>
      </p:pic>
      <p:sp>
        <p:nvSpPr>
          <p:cNvPr id="166" name="Rectangle 10"/>
          <p:cNvSpPr/>
          <p:nvPr/>
        </p:nvSpPr>
        <p:spPr>
          <a:xfrm>
            <a:off x="-468360" y="4797360"/>
            <a:ext cx="578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3 раз чаще заболевают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стенокард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4211640" y="5445000"/>
            <a:ext cx="45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В  12 раз 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инфарктом миокард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5" descr="{113CC2FF-72B8-49C3-8B82-23BAA4DDAF5D}"/>
          <p:cNvPicPr/>
          <p:nvPr/>
        </p:nvPicPr>
        <p:blipFill>
          <a:blip r:embed="rId1"/>
          <a:stretch/>
        </p:blipFill>
        <p:spPr>
          <a:xfrm>
            <a:off x="971640" y="549360"/>
            <a:ext cx="7238880" cy="5400720"/>
          </a:xfrm>
          <a:prstGeom prst="rect">
            <a:avLst/>
          </a:prstGeom>
          <a:ln w="0">
            <a:noFill/>
          </a:ln>
        </p:spPr>
      </p:pic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Алкоголь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,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его влияние на организм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Хронический гастрит желудк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Развивается цирроз печен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( разрушение печен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здействует на головной мозг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Ускоряет биологическое старени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риводит к развитию алкоголизма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nodeType="clickEffect" fill="hold">
                      <p:stCondLst>
                        <p:cond delay="0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2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04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0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0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14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15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16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1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320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32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32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323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5" descr="{98FD7FE8-D60D-423A-9DA8-38886AD4623F}"/>
          <p:cNvPicPr/>
          <p:nvPr/>
        </p:nvPicPr>
        <p:blipFill>
          <a:blip r:embed="rId1"/>
          <a:stretch/>
        </p:blipFill>
        <p:spPr>
          <a:xfrm>
            <a:off x="900000" y="620640"/>
            <a:ext cx="7488360" cy="5667480"/>
          </a:xfrm>
          <a:prstGeom prst="rect">
            <a:avLst/>
          </a:prstGeom>
          <a:ln w="0">
            <a:noFill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4"/>
          <p:cNvSpPr/>
          <p:nvPr/>
        </p:nvSpPr>
        <p:spPr>
          <a:xfrm>
            <a:off x="611280" y="2565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3348000" y="1413000"/>
            <a:ext cx="273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Мастер – клас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 тему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5" name="Object 14"/>
          <p:cNvGraphicFramePr/>
          <p:nvPr/>
        </p:nvGraphicFramePr>
        <p:xfrm>
          <a:off x="395280" y="549360"/>
          <a:ext cx="2305080" cy="150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549360"/>
                    <a:ext cx="2305080" cy="15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7" name="Object 16"/>
          <p:cNvGraphicFramePr/>
          <p:nvPr/>
        </p:nvGraphicFramePr>
        <p:xfrm>
          <a:off x="6300720" y="4869000"/>
          <a:ext cx="2158920" cy="152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8" name="Object 1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4869000"/>
                    <a:ext cx="2158920" cy="152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Rectangle 17"/>
          <p:cNvSpPr/>
          <p:nvPr/>
        </p:nvSpPr>
        <p:spPr>
          <a:xfrm>
            <a:off x="684360" y="4797360"/>
            <a:ext cx="489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етрадиционные формы и методы работы с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80808"/>
                </a:solidFill>
                <a:uFillTx/>
                <a:latin typeface="Tahoma"/>
              </a:rPr>
              <a:t>родителя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ver dir="r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0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ервая помощь при отравлении алкоголем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уложить набок и очистить дыхательные пути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дать понюхать ватку, смоченную в нашатырном спирте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ромыть желудок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положить на голову холодный компресс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ызвать скорую помощь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vert"/>
  </p:transition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2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708360" y="3933720"/>
            <a:ext cx="5111640" cy="23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Arial"/>
                <a:ea typeface="Arial"/>
              </a:rPr>
              <a:t>Признаки наркомании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непреодолимое влечение к приёму наркотиков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  </a:t>
            </a:r>
            <a:r>
              <a:rPr b="1" lang="ru-RU" sz="2400" spc="-1" strike="noStrike">
                <a:solidFill>
                  <a:srgbClr val="080808"/>
                </a:solidFill>
                <a:latin typeface="Arial"/>
                <a:ea typeface="Arial"/>
              </a:rPr>
              <a:t>тенденция к повышению количества, принимаемого вещест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Rectangle 5"/>
          <p:cNvSpPr/>
          <p:nvPr/>
        </p:nvSpPr>
        <p:spPr>
          <a:xfrm>
            <a:off x="611280" y="404640"/>
            <a:ext cx="792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мания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- (от греч. оцепенение, сон, безумие) – это хроническое заболевание, вызванное употреблением наркотико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1" name="Picture 6" descr="7273f70fe41c24d60cde3c457a3"/>
          <p:cNvPicPr/>
          <p:nvPr/>
        </p:nvPicPr>
        <p:blipFill>
          <a:blip r:embed="rId1"/>
          <a:stretch/>
        </p:blipFill>
        <p:spPr>
          <a:xfrm>
            <a:off x="395280" y="3284640"/>
            <a:ext cx="3530520" cy="25095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r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nodeType="clickEffect" fill="hold">
                      <p:stCondLst>
                        <p:cond delay="0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news_ac8d5cadc9ff225291a1f6189b6d3829_0"/>
          <p:cNvPicPr/>
          <p:nvPr/>
        </p:nvPicPr>
        <p:blipFill>
          <a:blip r:embed="rId1"/>
          <a:stretch/>
        </p:blipFill>
        <p:spPr>
          <a:xfrm>
            <a:off x="6372360" y="3789360"/>
            <a:ext cx="2160360" cy="1936800"/>
          </a:xfrm>
          <a:prstGeom prst="rect">
            <a:avLst/>
          </a:prstGeom>
          <a:ln w="114480">
            <a:solidFill>
              <a:srgbClr val="33cc33"/>
            </a:solidFill>
            <a:miter/>
          </a:ln>
        </p:spPr>
      </p:pic>
      <p:pic>
        <p:nvPicPr>
          <p:cNvPr id="184" name="Picture 3" descr="gnk-100x100-4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00720" y="1052640"/>
            <a:ext cx="2030400" cy="1954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31640" y="0"/>
            <a:ext cx="6119640" cy="9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Официальная статисти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61927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Средний возраст приобщения к наркотикам в России составляет по статистике 15-17 лет, резко увеличивается процент употребления наркотиков детьми 9-13 лет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Зафиксированы случаи употребления наркотиков детьми 6-7 лет – к наркомании их приобщают родители-наркоманы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499"/>
              </a:spcBef>
              <a:buSzPct val="12343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  <a:ea typeface="Tahoma"/>
              </a:rPr>
              <a:t>Как заявил в феврале 2010 г. заместитель директора ФСКН России Олег Сафонов, по данным ООН самое большое число наркозависимых, в Иране и Афганистане, третьей в этом списке значится Россия. По данным Минздрава в России около 550 тысяч наркозависимых лиц, но по экспертным оценкам их около 2-2,5 млн человек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wipe dir="l"/>
  </p:transition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nodeType="clickEffect" fill="hold">
                      <p:stCondLst>
                        <p:cond delay="0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6"/>
          <p:cNvSpPr/>
          <p:nvPr/>
        </p:nvSpPr>
        <p:spPr>
          <a:xfrm>
            <a:off x="684360" y="4724280"/>
            <a:ext cx="7272360" cy="21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езоморфин - 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«крокодил» - 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паснейший синтетический наркотик</a:t>
            </a:r>
            <a:r>
              <a:rPr b="1" lang="ru-RU" sz="2400" spc="-1" strike="noStrike">
                <a:solidFill>
                  <a:srgbClr val="080808"/>
                </a:solidFill>
                <a:latin typeface="Calibri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Calibri"/>
                <a:ea typeface="Times New Roman"/>
              </a:rPr>
              <a:t>Гашиш, марихуана, героин, опий, кокаин, морфий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Rectangle 6"/>
          <p:cNvSpPr/>
          <p:nvPr/>
        </p:nvSpPr>
        <p:spPr>
          <a:xfrm>
            <a:off x="395280" y="476280"/>
            <a:ext cx="8209080" cy="42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В Татарстане на 1 октября 2011 года с диагнозом «наркомания» на учете состоят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9 тысяч 631 человек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б этом сообщили во вторник на совещании в Кабмине РТ, прошедшем под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едседательством главы Государственного антинаркотического комитет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директора Федеральной службы по контролю за оборотом наркотиков России Виктора Иванов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Фотографии людей до и после того, как они начали принимать наркоти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2" name="Picture 4" descr="newface1"/>
          <p:cNvPicPr/>
          <p:nvPr/>
        </p:nvPicPr>
        <p:blipFill>
          <a:blip r:embed="rId1"/>
          <a:stretch/>
        </p:blipFill>
        <p:spPr>
          <a:xfrm>
            <a:off x="2987640" y="2060640"/>
            <a:ext cx="3011400" cy="2259000"/>
          </a:xfrm>
          <a:prstGeom prst="rect">
            <a:avLst/>
          </a:prstGeom>
          <a:ln w="76320">
            <a:solidFill>
              <a:srgbClr val="ff6600"/>
            </a:solidFill>
            <a:miter/>
          </a:ln>
        </p:spPr>
      </p:pic>
      <p:pic>
        <p:nvPicPr>
          <p:cNvPr id="193" name="Picture 5" descr="faces1"/>
          <p:cNvPicPr/>
          <p:nvPr/>
        </p:nvPicPr>
        <p:blipFill>
          <a:blip r:embed="rId2"/>
          <a:stretch/>
        </p:blipFill>
        <p:spPr>
          <a:xfrm rot="21370200">
            <a:off x="1116000" y="4292280"/>
            <a:ext cx="3168720" cy="199692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pic>
        <p:nvPicPr>
          <p:cNvPr id="194" name="Picture 6" descr="faces6"/>
          <p:cNvPicPr/>
          <p:nvPr/>
        </p:nvPicPr>
        <p:blipFill>
          <a:blip r:embed="rId3"/>
          <a:stretch/>
        </p:blipFill>
        <p:spPr>
          <a:xfrm rot="21333600">
            <a:off x="250920" y="2276280"/>
            <a:ext cx="2881080" cy="181584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5" name="Picture 7" descr="faces5"/>
          <p:cNvPicPr/>
          <p:nvPr/>
        </p:nvPicPr>
        <p:blipFill>
          <a:blip r:embed="rId4"/>
          <a:stretch/>
        </p:blipFill>
        <p:spPr>
          <a:xfrm rot="224400">
            <a:off x="5076360" y="4365720"/>
            <a:ext cx="3168720" cy="1996920"/>
          </a:xfrm>
          <a:prstGeom prst="rect">
            <a:avLst/>
          </a:prstGeom>
          <a:ln w="76320">
            <a:solidFill>
              <a:srgbClr val="33cc33"/>
            </a:solidFill>
            <a:miter/>
          </a:ln>
        </p:spPr>
      </p:pic>
      <p:pic>
        <p:nvPicPr>
          <p:cNvPr id="196" name="Picture 8" descr="faces8"/>
          <p:cNvPicPr/>
          <p:nvPr/>
        </p:nvPicPr>
        <p:blipFill>
          <a:blip r:embed="rId5"/>
          <a:stretch/>
        </p:blipFill>
        <p:spPr>
          <a:xfrm rot="361200">
            <a:off x="6012000" y="2276280"/>
            <a:ext cx="2881080" cy="1815840"/>
          </a:xfrm>
          <a:prstGeom prst="rect">
            <a:avLst/>
          </a:prstGeom>
          <a:ln w="76320">
            <a:solidFill>
              <a:srgbClr val="ffff00"/>
            </a:solidFill>
            <a:miter/>
          </a:ln>
        </p:spPr>
      </p:pic>
      <p:sp>
        <p:nvSpPr>
          <p:cNvPr id="1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60000">
    <p:blinds dir="vert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nodeType="clickEffect" fill="hold">
                      <p:stCondLst>
                        <p:cond delay="0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6" descr="{D9F07142-893E-4CD8-BBB3-5B9F270B2188}"/>
          <p:cNvPicPr/>
          <p:nvPr/>
        </p:nvPicPr>
        <p:blipFill>
          <a:blip r:embed="rId1">
            <a:lum contrast="14000"/>
          </a:blip>
          <a:stretch/>
        </p:blipFill>
        <p:spPr>
          <a:xfrm>
            <a:off x="755640" y="260280"/>
            <a:ext cx="7921800" cy="626904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Признаки наркотического отравления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вышение мышечного тонуса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ужение зрачков и ослабление их реакции на свет;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покраснение кож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5" descr="addiction-1"/>
          <p:cNvPicPr/>
          <p:nvPr/>
        </p:nvPicPr>
        <p:blipFill>
          <a:blip r:embed="rId1"/>
          <a:stretch/>
        </p:blipFill>
        <p:spPr>
          <a:xfrm>
            <a:off x="6732720" y="3500280"/>
            <a:ext cx="1484280" cy="2478240"/>
          </a:xfrm>
          <a:prstGeom prst="rect">
            <a:avLst/>
          </a:prstGeom>
          <a:ln w="0">
            <a:noFill/>
          </a:ln>
        </p:spPr>
      </p:pic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0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44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5"/>
          <p:cNvSpPr/>
          <p:nvPr/>
        </p:nvSpPr>
        <p:spPr>
          <a:xfrm>
            <a:off x="1546920" y="620640"/>
            <a:ext cx="585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0000"/>
                </a:solidFill>
                <a:uFillTx/>
                <a:latin typeface="Tahoma"/>
              </a:rPr>
              <a:t>Педагогические ситу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50920" y="1484280"/>
            <a:ext cx="8496360" cy="491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1. Как вы поступите, если увидите вашего сына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ьяным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2. В кармане вашей дочери вы обнаружили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табак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. Ваши действи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3. Как отреагировать на то, что сын(дочь) стали употреблять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наркотики</a:t>
            </a:r>
            <a:r>
              <a:rPr b="1" lang="en-US" sz="3200" spc="-1" strike="noStrike" u="sng">
                <a:solidFill>
                  <a:srgbClr val="080808"/>
                </a:solidFill>
                <a:uFillTx/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4. Как же </a:t>
            </a:r>
            <a:r>
              <a:rPr b="1" lang="ru-RU" sz="3200" spc="-1" strike="noStrike" u="sng">
                <a:solidFill>
                  <a:srgbClr val="080808"/>
                </a:solidFill>
                <a:uFillTx/>
                <a:latin typeface="Tahoma"/>
              </a:rPr>
              <a:t>предотвратить </a:t>
            </a: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надвигающую беду</a:t>
            </a:r>
            <a:r>
              <a:rPr b="1" lang="en-US" sz="32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1"/>
          <p:cNvSpPr/>
          <p:nvPr/>
        </p:nvSpPr>
        <p:spPr>
          <a:xfrm>
            <a:off x="179280" y="831240"/>
            <a:ext cx="8748720" cy="57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1. Прежде всего вооружитесь зна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2. Старайтесь , как можно больше узнать об алкогольной и наркотической зависимост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последствиях и методах леч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3. Не зря говорят «знание - это сила». Когда попадает в беду ребёнок, то даже слабые родители становятся сильны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4. Говорите с подростком о вредных привычках, убеждайте, приводите факты. Не ждите беды, предупреждайте её появлен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5. Интересуйтесь друзьями, компан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  <a:ea typeface="Tahoma"/>
              </a:rPr>
              <a:t>6.Предоставьте подростку возможность высказать своё мнение, выслушайте ег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248760" y="189000"/>
            <a:ext cx="875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Как же предотвратить надвигающуюся беду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Tahoma"/>
                <a:ea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92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Силен не тот , кто никогда не падал, а тот, кто падал и вставал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11" name="Содержимое 3" descr="Как оградить ребенка от алкоголя и наркотиков?"/>
          <p:cNvPicPr/>
          <p:nvPr/>
        </p:nvPicPr>
        <p:blipFill>
          <a:blip r:embed="rId1"/>
          <a:stretch/>
        </p:blipFill>
        <p:spPr>
          <a:xfrm rot="21408000">
            <a:off x="971640" y="2205000"/>
            <a:ext cx="3636720" cy="3240000"/>
          </a:xfrm>
          <a:prstGeom prst="rect">
            <a:avLst/>
          </a:prstGeom>
          <a:ln w="0">
            <a:noFill/>
          </a:ln>
        </p:spPr>
      </p:pic>
      <p:pic>
        <p:nvPicPr>
          <p:cNvPr id="212" name="Рисунок 5" descr="http://schkola2009.ucoz.ru/j0422194.jpg"/>
          <p:cNvPicPr/>
          <p:nvPr/>
        </p:nvPicPr>
        <p:blipFill>
          <a:blip r:embed="rId2"/>
          <a:stretch/>
        </p:blipFill>
        <p:spPr>
          <a:xfrm rot="230400">
            <a:off x="4716000" y="2133360"/>
            <a:ext cx="3241800" cy="309852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DSCN4283"/>
          <p:cNvPicPr/>
          <p:nvPr/>
        </p:nvPicPr>
        <p:blipFill>
          <a:blip r:embed="rId3"/>
          <a:stretch/>
        </p:blipFill>
        <p:spPr>
          <a:xfrm>
            <a:off x="3203640" y="4365720"/>
            <a:ext cx="2952720" cy="211284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Рисунок 1" descr=""/>
          <p:cNvPicPr/>
          <p:nvPr/>
        </p:nvPicPr>
        <p:blipFill>
          <a:blip r:embed="rId1"/>
          <a:stretch/>
        </p:blipFill>
        <p:spPr>
          <a:xfrm>
            <a:off x="4140360" y="2997360"/>
            <a:ext cx="4392360" cy="320328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4"/>
          <p:cNvSpPr/>
          <p:nvPr/>
        </p:nvSpPr>
        <p:spPr>
          <a:xfrm>
            <a:off x="324000" y="620640"/>
            <a:ext cx="5256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Arial"/>
              </a:rPr>
              <a:t>Родительское собрание на тему: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  <a:ea typeface="Tahoma"/>
              </a:rPr>
              <a:t>«Профилактика вредных привычек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Object 5"/>
          <p:cNvGraphicFramePr/>
          <p:nvPr/>
        </p:nvGraphicFramePr>
        <p:xfrm>
          <a:off x="468360" y="3357720"/>
          <a:ext cx="3384360" cy="2306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3357720"/>
                    <a:ext cx="3384360" cy="23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Object 8"/>
          <p:cNvGraphicFramePr/>
          <p:nvPr/>
        </p:nvGraphicFramePr>
        <p:xfrm>
          <a:off x="5867280" y="836640"/>
          <a:ext cx="2449800" cy="1630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Object 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867280" y="836640"/>
                    <a:ext cx="2449800" cy="163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d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4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4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8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происходит истощение организма, нервной системы и психик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личность деградирует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разрушаются отношения с родителями, родными, друзьями, учителям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совершаются преступления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от алкоголиков и наркоманов рождаются неполноценные дети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аступает преждевременная смерть (7 лет - средний срок жизни наркомана);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но на ранней стадии употребления наркотиков подросток может проявить волю и сам отказаться от их употреблен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05120" y="333360"/>
            <a:ext cx="720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Последствия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амое главное - это 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  <a:ea typeface="Tahoma"/>
              </a:rPr>
              <a:t>ваше воспитание, поддержка и любов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Rectangle 1"/>
          <p:cNvSpPr/>
          <p:nvPr/>
        </p:nvSpPr>
        <p:spPr>
          <a:xfrm>
            <a:off x="0" y="0"/>
            <a:ext cx="184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12708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1721520" y="404640"/>
            <a:ext cx="565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оспитание и поддержк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1" name="Picture 8" descr="vospitanie_ditej"/>
          <p:cNvPicPr/>
          <p:nvPr/>
        </p:nvPicPr>
        <p:blipFill>
          <a:blip r:embed="rId1"/>
          <a:stretch/>
        </p:blipFill>
        <p:spPr>
          <a:xfrm rot="221400">
            <a:off x="5724000" y="1628640"/>
            <a:ext cx="2735280" cy="1808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SunnyDay"/>
          <p:cNvPicPr/>
          <p:nvPr/>
        </p:nvPicPr>
        <p:blipFill>
          <a:blip r:embed="rId2"/>
          <a:stretch/>
        </p:blipFill>
        <p:spPr>
          <a:xfrm rot="21413400">
            <a:off x="539640" y="393336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10"/>
          <p:cNvSpPr/>
          <p:nvPr/>
        </p:nvSpPr>
        <p:spPr>
          <a:xfrm>
            <a:off x="3492360" y="3789360"/>
            <a:ext cx="50403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аш ребенок, состоявшийся как нравственная и успешная личность, - самая высокая мера оценки вашего жизненного пу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nodeType="clickEffect" fill="hold">
                      <p:stCondLst>
                        <p:cond delay="0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Tahoma"/>
              </a:rPr>
              <a:t>Запомните!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23640" y="1413000"/>
            <a:ext cx="8258040" cy="35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Быть здоровым - значит не иметь проблем с самочувствием, быть физически и духовно полноценным человеком.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Здоровье - это сокровище, которое нужно сохранять ежедневно.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Хорошее здоровье - основа долгой, счастливой и полноценной жизни, и особенно это важно для сегодняшних детей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67480" indent="-2674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80808"/>
                </a:solidFill>
                <a:latin typeface="Tahoma"/>
              </a:rPr>
              <a:t>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newsflash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4400" spc="-1" strike="noStrike">
                <a:solidFill>
                  <a:srgbClr val="ff0000"/>
                </a:solidFill>
                <a:latin typeface="Tahoma"/>
              </a:rPr>
              <a:t>Здоровье – богатство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23640" y="1341360"/>
            <a:ext cx="8507160" cy="44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у что ж, мой друг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Решенье за тобой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сам командовать судьбой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согласиться можешь, но отк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Окажется получше в сотню раз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ы вправе жизнь свою спасти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Подумай, может, ты на правильном пути,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Но если всё – таки успел свернуть, </a:t>
            </a:r>
            <a:br>
              <a:rPr sz="2800"/>
            </a:b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о потрудись себе здоровье ты вернуть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4" descr="c192be6fe5aa"/>
          <p:cNvPicPr/>
          <p:nvPr/>
        </p:nvPicPr>
        <p:blipFill>
          <a:blip r:embed="rId1"/>
          <a:stretch/>
        </p:blipFill>
        <p:spPr>
          <a:xfrm>
            <a:off x="468360" y="333360"/>
            <a:ext cx="8280360" cy="4529160"/>
          </a:xfrm>
          <a:prstGeom prst="rect">
            <a:avLst/>
          </a:prstGeom>
          <a:ln w="0">
            <a:noFill/>
          </a:ln>
        </p:spPr>
      </p:pic>
      <p:sp>
        <p:nvSpPr>
          <p:cNvPr id="232" name="Rectangle 5"/>
          <p:cNvSpPr/>
          <p:nvPr/>
        </p:nvSpPr>
        <p:spPr>
          <a:xfrm>
            <a:off x="2579760" y="5013360"/>
            <a:ext cx="429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изнь прекрасна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Rectangle 6"/>
          <p:cNvSpPr/>
          <p:nvPr/>
        </p:nvSpPr>
        <p:spPr>
          <a:xfrm>
            <a:off x="1546200" y="566100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Относитесь к ней бережно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nodeType="clickEffect" fill="hold">
                      <p:stCondLst>
                        <p:cond delay="0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8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4" descr="c162b7f268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35616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5"/>
          <p:cNvSpPr/>
          <p:nvPr/>
        </p:nvSpPr>
        <p:spPr>
          <a:xfrm>
            <a:off x="450000" y="4459320"/>
            <a:ext cx="519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Спасибо за внимание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Rectangle 6"/>
          <p:cNvSpPr/>
          <p:nvPr/>
        </p:nvSpPr>
        <p:spPr>
          <a:xfrm>
            <a:off x="3328560" y="5589720"/>
            <a:ext cx="40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Желаем успехов!!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nodeType="clickEffect" fill="hold">
                      <p:stCondLst>
                        <p:cond delay="0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3276720" y="6922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80808"/>
                </a:solidFill>
                <a:latin typeface="Arial"/>
              </a:rPr>
              <a:t>План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250920" y="148428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 Понятие о вредных привычка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Rectangle 9"/>
          <p:cNvSpPr/>
          <p:nvPr/>
        </p:nvSpPr>
        <p:spPr>
          <a:xfrm>
            <a:off x="1204920" y="2349360"/>
            <a:ext cx="353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 Табакокурение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Rectangle 10"/>
          <p:cNvSpPr/>
          <p:nvPr/>
        </p:nvSpPr>
        <p:spPr>
          <a:xfrm>
            <a:off x="1862280" y="3141720"/>
            <a:ext cx="242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3. Алкогол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11"/>
          <p:cNvSpPr/>
          <p:nvPr/>
        </p:nvSpPr>
        <p:spPr>
          <a:xfrm>
            <a:off x="2339640" y="39337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4. Наркомания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2900880" y="4724280"/>
            <a:ext cx="510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5. Здоровый образ жизн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13" descr="2536452_web_w236_h400"/>
          <p:cNvPicPr/>
          <p:nvPr/>
        </p:nvPicPr>
        <p:blipFill>
          <a:blip r:embed="rId1"/>
          <a:stretch/>
        </p:blipFill>
        <p:spPr>
          <a:xfrm>
            <a:off x="539640" y="4292640"/>
            <a:ext cx="1257480" cy="21304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4" descr="2536452_web_w236_h400"/>
          <p:cNvPicPr/>
          <p:nvPr/>
        </p:nvPicPr>
        <p:blipFill>
          <a:blip r:embed="rId2"/>
          <a:stretch/>
        </p:blipFill>
        <p:spPr>
          <a:xfrm>
            <a:off x="7740720" y="476280"/>
            <a:ext cx="96048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3050"/>
                            </p:stCondLst>
                            <p:childTnLst>
                              <p:par>
                                <p:cTn id="10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nodeType="afterEffect" fill="hold">
                            <p:stCondLst>
                              <p:cond delay="4050"/>
                            </p:stCondLst>
                            <p:childTnLst>
                              <p:par>
                                <p:cTn id="11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150"/>
                            </p:stCondLst>
                            <p:childTnLst>
                              <p:par>
                                <p:cTn id="1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5"/>
          <p:cNvSpPr/>
          <p:nvPr/>
        </p:nvSpPr>
        <p:spPr>
          <a:xfrm>
            <a:off x="826920" y="5084640"/>
            <a:ext cx="727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4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наркомания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Виды наркотиков, их действие, статисти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Rectangle 6"/>
          <p:cNvSpPr/>
          <p:nvPr/>
        </p:nvSpPr>
        <p:spPr>
          <a:xfrm>
            <a:off x="2053080" y="419040"/>
            <a:ext cx="495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Ответьте  на вопросы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1116000" y="1341360"/>
            <a:ext cx="676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1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вредные привычки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 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Что к ним относитс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611280" y="263700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2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</a:rPr>
              <a:t>курение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? Каково воздействие табачного дыма на организм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Rectangle 9"/>
          <p:cNvSpPr/>
          <p:nvPr/>
        </p:nvSpPr>
        <p:spPr>
          <a:xfrm>
            <a:off x="755640" y="3860640"/>
            <a:ext cx="774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3.Что такое </a:t>
            </a: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алкоголизм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? Последствия алкоголизм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horz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80808"/>
                </a:solidFill>
                <a:uFillTx/>
                <a:latin typeface="Tahoma"/>
                <a:ea typeface="Tahoma"/>
              </a:rPr>
              <a:t>Вредная  привычка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– закрепленный в личности способ поведения, агрессивный по отношению к самой личности или обществ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1007640" y="396720"/>
            <a:ext cx="69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  <a:ea typeface="Tahoma"/>
              </a:rPr>
              <a:t>Понятие о вредных  привычках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6" descr="smoker"/>
          <p:cNvPicPr/>
          <p:nvPr/>
        </p:nvPicPr>
        <p:blipFill>
          <a:blip r:embed="rId1"/>
          <a:stretch/>
        </p:blipFill>
        <p:spPr>
          <a:xfrm>
            <a:off x="971640" y="3860640"/>
            <a:ext cx="1512720" cy="20178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7"/>
          <p:cNvSpPr/>
          <p:nvPr/>
        </p:nvSpPr>
        <p:spPr>
          <a:xfrm>
            <a:off x="2340000" y="4076640"/>
            <a:ext cx="5730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</a:rPr>
              <a:t>Вредные  привычки серьезно ухудшают состояние здоровья человек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0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5"/>
          <p:cNvSpPr/>
          <p:nvPr/>
        </p:nvSpPr>
        <p:spPr>
          <a:xfrm>
            <a:off x="826920" y="1413000"/>
            <a:ext cx="38894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абакокурение, алкоголизм, наркомания, игромания, компьютер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отовый телефон, телевидение, шоколад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смех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 </a:t>
            </a:r>
            <a:r>
              <a:rPr b="1" lang="ru-RU" sz="2800" spc="-1" strike="noStrike">
                <a:solidFill>
                  <a:srgbClr val="080808"/>
                </a:solidFill>
                <a:latin typeface="Tahoma"/>
                <a:ea typeface="Tahoma"/>
              </a:rPr>
              <a:t>тяжёлый рок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621000" y="355680"/>
            <a:ext cx="761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К вредным  привычкам относятся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0" name="Picture 7" descr="Stok_photo_Addiction1"/>
          <p:cNvPicPr/>
          <p:nvPr/>
        </p:nvPicPr>
        <p:blipFill>
          <a:blip r:embed="rId1"/>
          <a:stretch/>
        </p:blipFill>
        <p:spPr>
          <a:xfrm rot="409800">
            <a:off x="5292360" y="1341000"/>
            <a:ext cx="2664000" cy="2446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pressfoto_425087"/>
          <p:cNvPicPr/>
          <p:nvPr/>
        </p:nvPicPr>
        <p:blipFill>
          <a:blip r:embed="rId2"/>
          <a:stretch/>
        </p:blipFill>
        <p:spPr>
          <a:xfrm>
            <a:off x="5076720" y="3789360"/>
            <a:ext cx="2735280" cy="219240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plit dir="out" orient="horz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0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8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58560" y="0"/>
            <a:ext cx="649116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80808"/>
                </a:solidFill>
                <a:latin typeface="Tahoma"/>
              </a:rPr>
              <a:t>Влияние вредных привычек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68360" y="836280"/>
            <a:ext cx="82152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На формирование подростков  отрицательно влияют вредные привычки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специфические дефекты воспитания (отрицательный пример родителей, разрешение родителей принимать алкоголь в их присутствии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бычаи и традиции социальной среды (праздничные застолья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едостатки в воспитательной работе (организация досуга и отдыха подростков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остаточно снисходительное отношение в обществе к употреблению курения и алкогольных напитков (плюс сравнительная доступность и стоимость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оценка отказа выпить, как проявление недоброжелательности по отношению к другим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давление компании и наличие в ней отрицательных “авторитетных” людей как примера для подражания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 algn="ctr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80808"/>
                </a:solidFill>
                <a:latin typeface="Tahoma"/>
              </a:rPr>
              <a:t>нравственная незрелость подростков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5" descr="{2B0A6592-5102-4B46-AA99-3A94A017779B}"/>
          <p:cNvPicPr/>
          <p:nvPr/>
        </p:nvPicPr>
        <p:blipFill>
          <a:blip r:embed="rId1"/>
          <a:stretch/>
        </p:blipFill>
        <p:spPr>
          <a:xfrm>
            <a:off x="971640" y="620640"/>
            <a:ext cx="7313400" cy="548496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comb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амыйЛучшийМагазин</dc:creator>
  <dc:description/>
  <dc:language>en-US</dc:language>
  <cp:lastModifiedBy>LEGION</cp:lastModifiedBy>
  <dcterms:modified xsi:type="dcterms:W3CDTF">2015-05-12T09:25:56Z</dcterms:modified>
  <cp:revision>232</cp:revision>
  <dc:subject/>
  <dc:title>Макарова Ольга Николаевна</dc:title>
</cp:coreProperties>
</file>