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ECC4B-C042-4F24-A92E-C6137C97E4D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c3300"/>
                </a:solidFill>
                <a:latin typeface="Times New Roman"/>
              </a:rPr>
              <a:t>Первая помощь при укусах змей и насеком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c3300"/>
                </a:solidFill>
                <a:latin typeface="Calibri"/>
              </a:rPr>
              <a:t>Арзамасцева Лариса Алексеев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c3300"/>
                </a:solidFill>
                <a:latin typeface="Calibri"/>
              </a:rPr>
              <a:t>преподаватель-организатор ОБЖ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2846F-54AE-48D2-A1C0-0E9F7EF43C0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3300"/>
                </a:solidFill>
                <a:latin typeface="Calibri"/>
              </a:rPr>
              <a:t>Симптомы клещевого энцефалит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8000"/>
                </a:solidFill>
                <a:latin typeface="Calibri"/>
              </a:rPr>
              <a:t>Повышение температуры тела, лихорад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8000"/>
                </a:solidFill>
                <a:latin typeface="Calibri"/>
              </a:rPr>
              <a:t>Головные бо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8000"/>
                </a:solidFill>
                <a:latin typeface="Calibri"/>
              </a:rPr>
              <a:t>Тошнота, рво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8000"/>
                </a:solidFill>
                <a:latin typeface="Calibri"/>
              </a:rPr>
              <a:t>Невозможность движения мышц лица, шеи, верхних и нижних конечност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8000"/>
                </a:solidFill>
                <a:latin typeface="Calibri"/>
              </a:rPr>
              <a:t>Может закончиться и полным выздоровлением, и смертью больно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8000"/>
                </a:solidFill>
                <a:latin typeface="Calibri"/>
              </a:rPr>
              <a:t>Нередко человек остается на всю жизнь инвалид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AF1E8-EDF0-48DF-AB88-0D6E0D778FC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c3300"/>
                </a:solidFill>
                <a:latin typeface="Calibri"/>
              </a:rPr>
              <a:t>Клещевой энцефали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c3300"/>
                </a:solidFill>
                <a:latin typeface="Calibri"/>
              </a:rPr>
              <a:t>Обнаруженных на поверхности одежды клещей сразу же уничтожьте, бросив в огонь или в банку с керосином. Не следует давить их, особенно руками. Если же это произошло немедленно вымойте руки с мылом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4ACBF-0A52-4AD8-974C-3F2B0C7D536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3300"/>
                </a:solidFill>
                <a:latin typeface="Calibri"/>
              </a:rPr>
              <a:t>Первая помощь при укусе клещ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8000"/>
                </a:solidFill>
                <a:latin typeface="Calibri"/>
              </a:rPr>
              <a:t>Вымыть руки с мыл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8000"/>
                </a:solidFill>
                <a:latin typeface="Calibri"/>
              </a:rPr>
              <a:t>На место, где присосался клещ капнуть каплю масла или вазели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8000"/>
                </a:solidFill>
                <a:latin typeface="Calibri"/>
              </a:rPr>
              <a:t>Через 1-2 минуты удалить клеща пинцетом легким покачиванием из стороны в сторон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8000"/>
                </a:solidFill>
                <a:latin typeface="Calibri"/>
              </a:rPr>
              <a:t>Место укуса обработать спиртом или йод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8000"/>
                </a:solidFill>
                <a:latin typeface="Calibri"/>
              </a:rPr>
              <a:t>Немедленно отправить пострадавшего в медицинское учрежд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D6FA7-104F-4F3D-BE61-A7898AF5BC8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cc3300"/>
                </a:solidFill>
                <a:latin typeface="Calibri"/>
              </a:rPr>
              <a:t>Как уберечься от энцефалита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Наиболее велика опасность заражения в мае, июне и первой половине июл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Отправляясь в лес, защитите себя от попадания клещей под одежду и присасывания их к тел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Регулярно проводите само- и взаимоосмотры одежды и те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Для стоянок выбирайте сухие, незатемненные поляны вдали от кустарников и деревье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По возвращении из леса не входите в дом в верхней одежде, предварительно не осмотрев себя и свою одежду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869A2-BBC4-44F8-8625-8B32A955BC4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c3300"/>
                </a:solidFill>
                <a:latin typeface="Calibri"/>
              </a:rPr>
              <a:t>Ядовитые зме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8000"/>
                </a:solidFill>
                <a:latin typeface="Calibri"/>
              </a:rPr>
              <a:t>Среднеазиатская коб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Крупная змея длиной до 1,6 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Распространена в южных</a:t>
            </a:r>
            <a:br>
              <a:rPr sz="1200"/>
            </a:b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областях Средней Азии: </a:t>
            </a:r>
            <a:br>
              <a:rPr sz="1200"/>
            </a:b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юго-запад Таджикистана, </a:t>
            </a:r>
            <a:br>
              <a:rPr sz="1200"/>
            </a:b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юг Узбекистана и Туркмении. </a:t>
            </a:r>
            <a:br>
              <a:rPr sz="1200"/>
            </a:b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Кобру можно встретить в </a:t>
            </a:r>
            <a:br>
              <a:rPr sz="1200"/>
            </a:b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предгорьях, долинах рек, </a:t>
            </a:r>
            <a:br>
              <a:rPr sz="1200"/>
            </a:b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обычна среди кустарников, </a:t>
            </a:r>
            <a:br>
              <a:rPr sz="1200"/>
            </a:b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нередко встречается в </a:t>
            </a:r>
            <a:br>
              <a:rPr sz="1200"/>
            </a:b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заброшенных строениях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8000"/>
                </a:solidFill>
                <a:latin typeface="Calibri"/>
              </a:rPr>
              <a:t>Обыкновенная гадюка </a:t>
            </a: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до 75 см длиной.</a:t>
            </a:r>
            <a:br>
              <a:rPr sz="1200"/>
            </a:b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 Гадюка — самая широко распространенная ядовитая змея нашей стра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Гадюку можно встретить в европейской части Росси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в Сибири вплоть до Сахали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85BC8-5624-430F-8F1A-4A890F8D3DF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8000"/>
                </a:solidFill>
                <a:latin typeface="Calibri"/>
              </a:rPr>
              <a:t>Обыкновенная медянка</a:t>
            </a:r>
            <a:br>
              <a:rPr sz="1200"/>
            </a:b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Широко распространенная в Росс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Длина достигает 65 с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В борьбе с крупной и сильной добычей пускает в ход ядовитые зубы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с помощью которых вводит в жертву парализующий ядовитый секр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8000"/>
                </a:solidFill>
                <a:latin typeface="Calibri"/>
              </a:rPr>
              <a:t>Кошачья змея </a:t>
            </a:r>
            <a:br>
              <a:rPr sz="1200"/>
            </a:br>
            <a:r>
              <a:rPr b="1" lang="ru-RU" sz="1200" spc="-1" strike="noStrike">
                <a:solidFill>
                  <a:srgbClr val="008000"/>
                </a:solidFill>
                <a:latin typeface="Calibri"/>
              </a:rPr>
              <a:t>Р</a:t>
            </a: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аспространена в Азербайджане, Дагестане. Обитает в сухих каменистых местах, но нередко селится в камышовых кровлях домов. В случае опасности собирает в клубок заднюю часть туловища и поднимает переднюю. Делает стремительные броски в сторону враг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71866-C50C-4899-81D2-86824EDCCE1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3300"/>
                </a:solidFill>
                <a:latin typeface="Calibri"/>
              </a:rPr>
              <a:t>Первые минуты после укуса ядовитой зме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c3300"/>
                </a:solidFill>
                <a:latin typeface="Calibri"/>
              </a:rPr>
              <a:t>При укусе ядовитой змеи на коже человека остаются две небольшие красные точки - от проникновения ядовитых зубов. В первые минуты после укуса в этом месте возникает слабая боль и чувство жжения, кожа краснеет, нарастает отек. Через 2-6 часов появляются высокая температура, головокружение, сухость во рту, жажда, тошнота, рвота, иногда сонливость или, наоборот, возбужд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79E06-2FBA-4F0D-B323-4C1308890E9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c3300"/>
                </a:solidFill>
                <a:latin typeface="Calibri"/>
              </a:rPr>
              <a:t>Первые действия при укусе зме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3300"/>
                </a:solidFill>
                <a:latin typeface="Calibri"/>
              </a:rPr>
              <a:t>Сразу после укуса необходимо обеспечить пострадавшему покой 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33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cc3300"/>
                </a:solidFill>
                <a:latin typeface="Calibri"/>
              </a:rPr>
              <a:t>горизонтальное положение,  это обеспечит минимальную скорость      переноса яда кровь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33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cc3300"/>
                </a:solidFill>
                <a:latin typeface="Calibri"/>
              </a:rPr>
              <a:t>Успокойте пострадавшег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33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cc3300"/>
                </a:solidFill>
                <a:latin typeface="Calibri"/>
              </a:rPr>
              <a:t>Транспортируйте его в безопасное, защищенное от непогоды мест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71CD9-109D-442E-8196-F269ED149BB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c3300"/>
                </a:solidFill>
                <a:latin typeface="Calibri"/>
              </a:rPr>
              <a:t>Первая помощь- радикальный метод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3300"/>
                </a:solidFill>
                <a:latin typeface="Calibri"/>
              </a:rPr>
              <a:t>Если имеется шприц и противоядная сыворотка, то наиболее радикальным методом лечения будет немедленное ее введ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69CC5-4DE0-426C-9A9E-EDAE5AB6110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c3300"/>
                </a:solidFill>
                <a:latin typeface="Calibri"/>
              </a:rPr>
              <a:t>Отсасывание я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c3300"/>
                </a:solidFill>
                <a:latin typeface="Calibri"/>
              </a:rPr>
              <a:t>Немедленно приступить к отсасыванию яда из ранки. Для этого сразу после укуса раскройте рану нaдaвливанием пальцев, а затем в течение 15-20 мин отсасывайте яд ртом. Кровянистую жидкость сплевывайте. Эти действия безвредны для оказывающего помощь. При правильном и своевременном проведении отсасывания яда из ранки удается отсосать 50% я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14981-1D58-4B36-89F9-259125566DC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c3300"/>
                </a:solidFill>
                <a:latin typeface="Calibri"/>
              </a:rPr>
              <a:t>Опасные насеком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52DD6-D870-44BD-B6CA-6AD52DCAF85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c3300"/>
                </a:solidFill>
                <a:latin typeface="Calibri"/>
              </a:rPr>
              <a:t>Обработка ран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c3300"/>
                </a:solidFill>
                <a:latin typeface="Calibri"/>
              </a:rPr>
              <a:t>Для уменьшения циркуляции крови на место укуса можно наложить холод (целлофановый пакет с холодной водой). Продезинфицируйте ранку йодом или зеленкой и наложите стерильную повязку, которую следует ослаблять по мере нарастания оте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BCC41-A200-4479-B5D0-848605E4F4C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c3300"/>
                </a:solidFill>
                <a:latin typeface="Calibri"/>
              </a:rPr>
              <a:t>Первая помощ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c3300"/>
                </a:solidFill>
                <a:latin typeface="Calibri"/>
              </a:rPr>
              <a:t>Придайте пораженному участку тела возвышенное положение, зафиксируйте его, наложите иммобилизационную повязку или шину. Дайте пострадавшему обильное питье. Употребление кофе противопоказано. Организуйте доставку пострадавшего в лечебное завед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7F87A-6716-4AC8-AD67-A395DB4FEFC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c3300"/>
                </a:solidFill>
                <a:latin typeface="Calibri"/>
              </a:rPr>
              <a:t>Вопросы для повтор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8000"/>
                </a:solidFill>
                <a:latin typeface="Calibri"/>
              </a:rPr>
              <a:t>Укусы каких насекомых опасны для человек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8000"/>
                </a:solidFill>
                <a:latin typeface="Calibri"/>
              </a:rPr>
              <a:t>Как называется реакция организма в ответ на укусы насекомых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8000"/>
                </a:solidFill>
                <a:latin typeface="Calibri"/>
              </a:rPr>
              <a:t>Перечислите признаки укуса насекомого. Как оказать первую медицинскую помощь при укусе насекомых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8000"/>
                </a:solidFill>
                <a:latin typeface="Calibri"/>
              </a:rPr>
              <a:t>Чем опасны энцефалитные клещи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8000"/>
                </a:solidFill>
                <a:latin typeface="Calibri"/>
              </a:rPr>
              <a:t> </a:t>
            </a:r>
            <a:r>
              <a:rPr b="1" i="1" lang="ru-RU" sz="1200" spc="-1" strike="noStrike">
                <a:solidFill>
                  <a:srgbClr val="008000"/>
                </a:solidFill>
                <a:latin typeface="Calibri"/>
              </a:rPr>
              <a:t>Какое действие оказывает на человека змеиный яд в небольшом количеств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8000"/>
                </a:solidFill>
                <a:latin typeface="Calibri"/>
              </a:rPr>
              <a:t> </a:t>
            </a:r>
            <a:r>
              <a:rPr b="1" i="1" lang="ru-RU" sz="1200" spc="-1" strike="noStrike">
                <a:solidFill>
                  <a:srgbClr val="008000"/>
                </a:solidFill>
                <a:latin typeface="Calibri"/>
              </a:rPr>
              <a:t>Где используется змеиный яд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8000"/>
                </a:solidFill>
                <a:latin typeface="Calibri"/>
              </a:rPr>
              <a:t>Назовите первые признаки укуса змей. Что нужно делать при оказании первой медицинской помощи при укусах змей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8000"/>
                </a:solidFill>
                <a:latin typeface="Calibri"/>
              </a:rPr>
              <a:t>Как защитить себя от укусов змей, гуляя по лесу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4915F-DA15-4E56-A122-D1E708502DC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c3300"/>
                </a:solidFill>
                <a:latin typeface="Calibri"/>
              </a:rPr>
              <a:t>Укусы насеком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3300"/>
                </a:solidFill>
                <a:latin typeface="Calibri"/>
              </a:rPr>
              <a:t>При укусе насекомого в ранку попадает ядовитое вещество, которое вызывает отравление организм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0F04A-C967-44CE-965F-676175CE8AB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c3300"/>
                </a:solidFill>
                <a:latin typeface="Calibri"/>
              </a:rPr>
              <a:t>Первые признаки укуса насеком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c3300"/>
                </a:solidFill>
                <a:latin typeface="Calibri"/>
              </a:rPr>
              <a:t>Признаки укуса насекомых появляются минут через 15-20 после укус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8000"/>
                </a:solidFill>
                <a:latin typeface="Calibri"/>
              </a:rPr>
              <a:t>1. Повышение температуры те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8000"/>
                </a:solidFill>
                <a:latin typeface="Calibri"/>
              </a:rPr>
              <a:t>2. Сыпь по всему тел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8000"/>
                </a:solidFill>
                <a:latin typeface="Calibri"/>
              </a:rPr>
              <a:t>3. Головная бо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EA3CB-6034-4EB8-888D-F7547880E1D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c3300"/>
                </a:solidFill>
                <a:latin typeface="Calibri"/>
              </a:rPr>
              <a:t>Помни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3300"/>
                </a:solidFill>
                <a:latin typeface="Calibri"/>
              </a:rPr>
              <a:t>Наиболее опасны ужаливания пчел, ос, шершней в полость рта, куда насекомое может попасть, когда человек ест фрукты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8000"/>
                </a:solidFill>
                <a:latin typeface="Calibri"/>
              </a:rPr>
              <a:t>В таких случаях необходима срочная медицинская помощь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8000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008000"/>
                </a:solidFill>
                <a:latin typeface="Calibri"/>
              </a:rPr>
              <a:t>так как возникающие отек гортани и удушье смертельно опасн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8927D-D311-474C-A9D3-4567B600093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c3300"/>
                </a:solidFill>
                <a:latin typeface="Calibri"/>
              </a:rPr>
              <a:t>Первая помощь-первые действ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c3300"/>
                </a:solidFill>
                <a:latin typeface="Calibri"/>
              </a:rPr>
              <a:t>В первую очередь нужно удалить из кожи жало насекомого, ужаленное место смочить спиртом. Приложить к ужаленному месту холод (полиэтиленовый пакет с холодной водой). Давать пострадавшему обильное пить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27DFA-EC4C-4253-AEEE-15FFF4B5031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ccc00"/>
                </a:solidFill>
                <a:latin typeface="Calibri"/>
              </a:rPr>
              <a:t>Первая помощь- первые действ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C2B62-B667-45E6-8A8E-342604300CD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c3300"/>
                </a:solidFill>
                <a:latin typeface="Calibri"/>
              </a:rPr>
              <a:t>Клещевой энцефали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c3300"/>
                </a:solidFill>
                <a:latin typeface="Calibri"/>
              </a:rPr>
              <a:t>При укусе клещи вносят в ранку вместе со слюн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c3300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cc3300"/>
                </a:solidFill>
                <a:latin typeface="Calibri"/>
              </a:rPr>
              <a:t>вирус энцефалита. Укусы клещей можно и не заметить: для человека они безболезненны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7A164-8619-4FF7-BE98-493CA4FA9F6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78EBD-00FA-480B-BDE1-D063D1E47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BD1B2-A986-408C-8168-A4369452F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4ADDB-7DC6-40E0-B71A-190601FDF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56454-25DA-4F75-8972-2F13B0422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92DEA-1EC3-4FE2-91C3-31EFA5D37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3691A-BA94-4914-8587-74CA3A18F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7EF1F-8CCA-43DB-A855-563231A3A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31D56-1A5F-4F66-9C58-DE16348A7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8B9CD-1735-46D5-95E0-888DE1417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13778-DBB6-4498-95B1-5B739CEA2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260A9-98FE-4F9A-B21B-C288E25CD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666C2-91A8-4833-8CB5-A136C9D3A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73647-A5B0-45C3-B48B-6F7E99831D8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3300"/>
                </a:solidFill>
                <a:latin typeface="Times New Roman"/>
              </a:rPr>
              <a:t>Первая помощь при укусах змей и насекомы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3300"/>
                </a:solidFill>
                <a:latin typeface="Arial"/>
              </a:rPr>
              <a:t>Арзамасцева Лариса Алексее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3300"/>
                </a:solidFill>
                <a:latin typeface="Arial"/>
              </a:rPr>
              <a:t>преподаватель-организатор ОБЖ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3300"/>
                </a:solidFill>
                <a:latin typeface="Arial"/>
              </a:rPr>
              <a:t>Симптомы клещевого энцефали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8000"/>
                </a:solidFill>
                <a:latin typeface="Arial"/>
              </a:rPr>
              <a:t>Повышение температуры тела, лихорад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8000"/>
                </a:solidFill>
                <a:latin typeface="Arial"/>
              </a:rPr>
              <a:t>Головные бо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8000"/>
                </a:solidFill>
                <a:latin typeface="Arial"/>
              </a:rPr>
              <a:t>Тошнота, рво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8000"/>
                </a:solidFill>
                <a:latin typeface="Arial"/>
              </a:rPr>
              <a:t>Невозможность движения мышц лица, шеи, верхних и нижних конечност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8000"/>
                </a:solidFill>
                <a:latin typeface="Arial"/>
              </a:rPr>
              <a:t>Может закончиться и полным выздоровлением, и смертью больно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8000"/>
                </a:solidFill>
                <a:latin typeface="Arial"/>
              </a:rPr>
              <a:t>Нередко человек остается на всю жизнь инвалид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3300"/>
                </a:solidFill>
                <a:latin typeface="Arial"/>
              </a:rPr>
              <a:t>Клещевой энцефали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642920" y="1628280"/>
            <a:ext cx="4038840" cy="36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3300"/>
                </a:solidFill>
                <a:latin typeface="Arial"/>
              </a:rPr>
              <a:t>Обнаруженных на поверхности одежды клещей сразу же уничтожьте, бросив в огонь или в банку с керосином. Не следует давить их, особенно руками. Если же это произошло немедленно вымойте руки с мылом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2" descr="http://f.mypage.ru/8f75e7cc3ff39a652aa54b67812e0618_e9a3c84dac5ef79d6eff642a8aeb736c.jpg"/>
          <p:cNvPicPr/>
          <p:nvPr/>
        </p:nvPicPr>
        <p:blipFill>
          <a:blip r:embed="rId1"/>
          <a:stretch/>
        </p:blipFill>
        <p:spPr>
          <a:xfrm>
            <a:off x="826920" y="1557360"/>
            <a:ext cx="3581640" cy="271476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8"/>
          <p:cNvSpPr/>
          <p:nvPr/>
        </p:nvSpPr>
        <p:spPr>
          <a:xfrm>
            <a:off x="324000" y="5229360"/>
            <a:ext cx="860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Arial"/>
              </a:rPr>
              <a:t>После укуса следует немедленно обратиться к врачу для введения лекарства, предохраняющего от заболевания. Чем скорее будет удален клещ, тем меньше вероятность заболевания энцефалитом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3300"/>
                </a:solidFill>
                <a:latin typeface="Arial"/>
              </a:rPr>
              <a:t>Первая помощь при укусе клещ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8000"/>
                </a:solidFill>
                <a:latin typeface="Arial"/>
              </a:rPr>
              <a:t>Вымыть руки с мыл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8000"/>
                </a:solidFill>
                <a:latin typeface="Arial"/>
              </a:rPr>
              <a:t>На место, где присосался клещ капнуть каплю масла или вазел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8000"/>
                </a:solidFill>
                <a:latin typeface="Arial"/>
              </a:rPr>
              <a:t>Через 1-2 минуты удалить клеща пинцетом легким покачиванием из стороны в сторон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8000"/>
                </a:solidFill>
                <a:latin typeface="Arial"/>
              </a:rPr>
              <a:t>Место укуса обработать спиртом или йод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8000"/>
                </a:solidFill>
                <a:latin typeface="Arial"/>
              </a:rPr>
              <a:t>Немедленно отправить пострадавшего в медицинское учрежд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3300"/>
                </a:solidFill>
                <a:latin typeface="Arial"/>
              </a:rPr>
              <a:t>Как уберечься от энцефалит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Arial"/>
              </a:rPr>
              <a:t>Наиболее велика опасность заражения в мае, июне и первой половине июл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Arial"/>
              </a:rPr>
              <a:t>Отправляясь в лес, защитите себя от попадания клещей под одежду и присасывания их к тел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8000"/>
                </a:solidFill>
                <a:latin typeface="Arial"/>
              </a:rPr>
              <a:t>Регулярно проводите само- и взаимоосмотры одежды и те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8000"/>
                </a:solidFill>
                <a:latin typeface="Arial"/>
              </a:rPr>
              <a:t>Для стоянок выбирайте сухие, незатемненные поляны вдали от кустарников и деревье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8000"/>
                </a:solidFill>
                <a:latin typeface="Arial"/>
              </a:rPr>
              <a:t>По возвращении из леса не входите в дом в верхней одежде, предварительно не осмотрев себя и свою одежд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2" descr="http://img1.1tv.ru/imgsize480x360/PR20090701173230.GIF"/>
          <p:cNvPicPr/>
          <p:nvPr/>
        </p:nvPicPr>
        <p:blipFill>
          <a:blip r:embed="rId1"/>
          <a:stretch/>
        </p:blipFill>
        <p:spPr>
          <a:xfrm>
            <a:off x="6804000" y="2492280"/>
            <a:ext cx="1514520" cy="1177920"/>
          </a:xfrm>
          <a:prstGeom prst="rect">
            <a:avLst/>
          </a:prstGeom>
          <a:ln w="0">
            <a:noFill/>
          </a:ln>
        </p:spPr>
      </p:pic>
      <p:sp>
        <p:nvSpPr>
          <p:cNvPr id="13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3300"/>
                </a:solidFill>
                <a:latin typeface="Arial"/>
              </a:rPr>
              <a:t>Ядовитые зме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Рисунок 5" descr="1.jpg"/>
          <p:cNvPicPr/>
          <p:nvPr/>
        </p:nvPicPr>
        <p:blipFill>
          <a:blip r:embed="rId1"/>
          <a:stretch/>
        </p:blipFill>
        <p:spPr>
          <a:xfrm>
            <a:off x="611280" y="1125360"/>
            <a:ext cx="3071880" cy="216252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5"/>
          <p:cNvSpPr/>
          <p:nvPr/>
        </p:nvSpPr>
        <p:spPr>
          <a:xfrm>
            <a:off x="325080" y="3213000"/>
            <a:ext cx="34617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Arial"/>
              </a:rPr>
              <a:t>Среднеазиатская коб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Крупная змея длиной до 1,6 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Распространена в южных</a:t>
            </a:r>
            <a:br>
              <a:rPr sz="1800"/>
            </a:b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областях Средней Азии: </a:t>
            </a:r>
            <a:br>
              <a:rPr sz="1800"/>
            </a:b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юго-запад Таджикистана, </a:t>
            </a:r>
            <a:br>
              <a:rPr sz="1800"/>
            </a:b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юг Узбекистана и Туркмении. </a:t>
            </a:r>
            <a:br>
              <a:rPr sz="1800"/>
            </a:b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Кобру можно встретить в </a:t>
            </a:r>
            <a:br>
              <a:rPr sz="1800"/>
            </a:b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предгорьях, долинах рек, </a:t>
            </a:r>
            <a:br>
              <a:rPr sz="1800"/>
            </a:b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обычна среди кустарников, </a:t>
            </a:r>
            <a:br>
              <a:rPr sz="1800"/>
            </a:b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нередко встречается в </a:t>
            </a:r>
            <a:br>
              <a:rPr sz="1800"/>
            </a:b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заброшенных строениях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Рисунок 10" descr="2.jpg"/>
          <p:cNvPicPr/>
          <p:nvPr/>
        </p:nvPicPr>
        <p:blipFill>
          <a:blip r:embed="rId2"/>
          <a:stretch/>
        </p:blipFill>
        <p:spPr>
          <a:xfrm>
            <a:off x="4932360" y="1413000"/>
            <a:ext cx="2771640" cy="247968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7"/>
          <p:cNvSpPr/>
          <p:nvPr/>
        </p:nvSpPr>
        <p:spPr>
          <a:xfrm>
            <a:off x="3995640" y="4076640"/>
            <a:ext cx="48452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Arial"/>
              </a:rPr>
              <a:t>Обыкновенная гадюка </a:t>
            </a: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до 75 см длиной.</a:t>
            </a:r>
            <a:br>
              <a:rPr sz="1800"/>
            </a:b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 Гадюка — самая широко распространенная ядовитая змея нашей стра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Гадюку можно встретить в европейской части Росси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в Сибири вплоть до Сахал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Рисунок 12" descr="8.jpg"/>
          <p:cNvPicPr/>
          <p:nvPr/>
        </p:nvPicPr>
        <p:blipFill>
          <a:blip r:embed="rId1"/>
          <a:stretch/>
        </p:blipFill>
        <p:spPr>
          <a:xfrm>
            <a:off x="611280" y="549360"/>
            <a:ext cx="2843280" cy="199872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5"/>
          <p:cNvSpPr/>
          <p:nvPr/>
        </p:nvSpPr>
        <p:spPr>
          <a:xfrm>
            <a:off x="324000" y="2997360"/>
            <a:ext cx="39812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Arial"/>
              </a:rPr>
              <a:t>Обыкновенная медянка</a:t>
            </a:r>
            <a:br>
              <a:rPr sz="1800"/>
            </a:b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Широко распространенная в Росс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Длина достигает 65 с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В борьбе с крупной и сильной добычей пускает в ход ядовитые зубы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с помощью которых вводит в жертву парализующий ядовитый секр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Рисунок 8" descr="7.jpg"/>
          <p:cNvPicPr/>
          <p:nvPr/>
        </p:nvPicPr>
        <p:blipFill>
          <a:blip r:embed="rId2"/>
          <a:stretch/>
        </p:blipFill>
        <p:spPr>
          <a:xfrm>
            <a:off x="4788000" y="333360"/>
            <a:ext cx="3997080" cy="242892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7"/>
          <p:cNvSpPr/>
          <p:nvPr/>
        </p:nvSpPr>
        <p:spPr>
          <a:xfrm>
            <a:off x="5076720" y="3068640"/>
            <a:ext cx="35989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Arial"/>
              </a:rPr>
              <a:t>Кошачья змея </a:t>
            </a:r>
            <a:br>
              <a:rPr sz="1800"/>
            </a:br>
            <a:r>
              <a:rPr b="1" lang="ru-RU" sz="1800" spc="-1" strike="noStrike">
                <a:solidFill>
                  <a:srgbClr val="008000"/>
                </a:solidFill>
                <a:latin typeface="Arial"/>
              </a:rPr>
              <a:t>Р</a:t>
            </a: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аспространена в Азербайджане, Дагестане. Обитает в сухих каменистых местах, но нередко селится в камышовых кровлях домов. В случае опасности собирает в клубок заднюю часть туловища и поднимает переднюю. Делает стремительные броски в сторону враг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3300"/>
                </a:solidFill>
                <a:latin typeface="Arial"/>
              </a:rPr>
              <a:t>Первые минуты после укуса ядовитой зме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При укусе ядовитой змеи на коже человека остаются две небольшие красные точки - от проникновения ядовитых зубов. В первые минуты после укуса в этом месте возникает слабая боль и чувство жжения, кожа краснеет, нарастает отек. Через 2-6 часов появляются высокая температура, головокружение, сухость во рту, жажда, тошнота, рвота, иногда сонливость или, наоборот, возбужд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2" descr="http://www.snakes-kazakhstan.idhost.kz/images/gaduka4.jpg"/>
          <p:cNvPicPr/>
          <p:nvPr/>
        </p:nvPicPr>
        <p:blipFill>
          <a:blip r:embed="rId1"/>
          <a:stretch/>
        </p:blipFill>
        <p:spPr>
          <a:xfrm>
            <a:off x="539640" y="1628640"/>
            <a:ext cx="3791160" cy="3829320"/>
          </a:xfrm>
          <a:prstGeom prst="rect">
            <a:avLst/>
          </a:prstGeom>
          <a:ln w="0">
            <a:noFill/>
          </a:ln>
        </p:spPr>
      </p:pic>
      <p:sp>
        <p:nvSpPr>
          <p:cNvPr id="1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3300"/>
                </a:solidFill>
                <a:latin typeface="Arial"/>
              </a:rPr>
              <a:t>Первые действия при укусе зме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Рисунок 5" descr="6F7ECADF0BCF0EAF1D67D94088628B8E.jpg"/>
          <p:cNvPicPr/>
          <p:nvPr/>
        </p:nvPicPr>
        <p:blipFill>
          <a:blip r:embed="rId1"/>
          <a:stretch/>
        </p:blipFill>
        <p:spPr>
          <a:xfrm>
            <a:off x="2195640" y="1197000"/>
            <a:ext cx="4762440" cy="3286080"/>
          </a:xfrm>
          <a:prstGeom prst="rect">
            <a:avLst/>
          </a:prstGeom>
          <a:ln w="9360">
            <a:solidFill>
              <a:srgbClr val="262626"/>
            </a:solidFill>
            <a:miter/>
          </a:ln>
        </p:spPr>
      </p:pic>
      <p:sp>
        <p:nvSpPr>
          <p:cNvPr id="154" name="Text Box 5"/>
          <p:cNvSpPr/>
          <p:nvPr/>
        </p:nvSpPr>
        <p:spPr>
          <a:xfrm>
            <a:off x="324000" y="4653000"/>
            <a:ext cx="7899120" cy="24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Сразу после укуса необходимо обеспечить пострадавшему покой 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горизонтальное положение,  это обеспечит минимальную скорость      переноса яда кровь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Успокойте пострадавшег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Транспортируйте его в безопасное, защищенное от непогоды мест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3300"/>
                </a:solidFill>
                <a:latin typeface="Arial"/>
              </a:rPr>
              <a:t>Первая помощь- радикальный мето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648320" y="2420640"/>
            <a:ext cx="403848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Если имеется шприц и противоядная сыворотка, то наиболее радикальным методом лечения будет немедленное ее введ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Рисунок 4" descr="8FE1667A9865E15AC83E74B727E5781D.jpg"/>
          <p:cNvPicPr/>
          <p:nvPr/>
        </p:nvPicPr>
        <p:blipFill>
          <a:blip r:embed="rId1"/>
          <a:stretch/>
        </p:blipFill>
        <p:spPr>
          <a:xfrm>
            <a:off x="395280" y="2421000"/>
            <a:ext cx="4038480" cy="2786040"/>
          </a:xfrm>
          <a:prstGeom prst="rect">
            <a:avLst/>
          </a:prstGeom>
          <a:ln w="9360">
            <a:solidFill>
              <a:srgbClr val="262626"/>
            </a:solidFill>
            <a:miter/>
          </a:ln>
        </p:spPr>
      </p:pic>
      <p:sp>
        <p:nvSpPr>
          <p:cNvPr id="1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3300"/>
                </a:solidFill>
                <a:latin typeface="Arial"/>
              </a:rPr>
              <a:t>Отсасывание я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Немедленно приступить к отсасыванию яда из ранки. Для этого сразу после укуса раскройте рану нaдaвливанием пальцев, а затем в течение 15-20 мин отсасывайте яд ртом. Кровянистую жидкость сплевывайте. Эти действия безвредны для оказывающего помощь. При правильном и своевременном проведении отсасывания яда из ранки удается отсосать 50% я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Рисунок 4" descr="kadr-sovet-08_08_04.jpg"/>
          <p:cNvPicPr/>
          <p:nvPr/>
        </p:nvPicPr>
        <p:blipFill>
          <a:blip r:embed="rId1"/>
          <a:stretch/>
        </p:blipFill>
        <p:spPr>
          <a:xfrm>
            <a:off x="539640" y="1628640"/>
            <a:ext cx="3810240" cy="2857680"/>
          </a:xfrm>
          <a:prstGeom prst="rect">
            <a:avLst/>
          </a:prstGeom>
          <a:ln w="9360">
            <a:solidFill>
              <a:srgbClr val="262626"/>
            </a:solidFill>
            <a:miter/>
          </a:ln>
        </p:spPr>
      </p:pic>
      <p:sp>
        <p:nvSpPr>
          <p:cNvPr id="1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3300"/>
                </a:solidFill>
                <a:latin typeface="Arial"/>
              </a:rPr>
              <a:t>Опасные насекомы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684360" y="1268280"/>
            <a:ext cx="2925720" cy="43894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" descr=""/>
          <p:cNvPicPr/>
          <p:nvPr/>
        </p:nvPicPr>
        <p:blipFill>
          <a:blip r:embed="rId2"/>
          <a:stretch/>
        </p:blipFill>
        <p:spPr>
          <a:xfrm>
            <a:off x="4140360" y="1268280"/>
            <a:ext cx="4613040" cy="4356360"/>
          </a:xfrm>
          <a:prstGeom prst="rect">
            <a:avLst/>
          </a:prstGeom>
          <a:ln w="0">
            <a:noFill/>
          </a:ln>
        </p:spPr>
      </p:pic>
      <p:sp>
        <p:nvSpPr>
          <p:cNvPr id="54" name="Text Box 6"/>
          <p:cNvSpPr/>
          <p:nvPr/>
        </p:nvSpPr>
        <p:spPr>
          <a:xfrm>
            <a:off x="1259280" y="5805360"/>
            <a:ext cx="157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3300"/>
                </a:solidFill>
                <a:latin typeface="Arial"/>
              </a:rPr>
              <a:t>Пче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7"/>
          <p:cNvSpPr/>
          <p:nvPr/>
        </p:nvSpPr>
        <p:spPr>
          <a:xfrm>
            <a:off x="5941800" y="5877000"/>
            <a:ext cx="10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3300"/>
                </a:solidFill>
                <a:latin typeface="Arial"/>
              </a:rPr>
              <a:t>Ос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3300"/>
                </a:solidFill>
                <a:latin typeface="Arial"/>
              </a:rPr>
              <a:t>Обработка ран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3300"/>
                </a:solidFill>
                <a:latin typeface="Arial"/>
              </a:rPr>
              <a:t>Для уменьшения циркуляции крови на место укуса можно наложить холод (целлофановый пакет с холодной водой). Продезинфицируйте ранку йодом или зеленкой и наложите стерильную повязку, которую следует ослаблять по мере нарастания оте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8" descr="i?id=498496182-00-72&amp;n=21"/>
          <p:cNvPicPr/>
          <p:nvPr/>
        </p:nvPicPr>
        <p:blipFill>
          <a:blip r:embed="rId1"/>
          <a:stretch/>
        </p:blipFill>
        <p:spPr>
          <a:xfrm>
            <a:off x="826920" y="1989000"/>
            <a:ext cx="3324240" cy="3324240"/>
          </a:xfrm>
          <a:prstGeom prst="rect">
            <a:avLst/>
          </a:prstGeom>
          <a:ln w="0">
            <a:noFill/>
          </a:ln>
        </p:spPr>
      </p:pic>
      <p:sp>
        <p:nvSpPr>
          <p:cNvPr id="1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3300"/>
                </a:solidFill>
                <a:latin typeface="Arial"/>
              </a:rPr>
              <a:t>Первая помощь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c3300"/>
                </a:solidFill>
                <a:latin typeface="Arial"/>
              </a:rPr>
              <a:t>Придайте пораженному участку тела возвышенное положение, зафиксируйте его, наложите иммобилизационную повязку или шину. Дайте пострадавшему обильное питье. Употребление кофе противопоказано. Организуйте доставку пострадавшего в лечебное завед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Рисунок 4" descr="3-5-2.jpg"/>
          <p:cNvPicPr/>
          <p:nvPr/>
        </p:nvPicPr>
        <p:blipFill>
          <a:blip r:embed="rId1"/>
          <a:stretch/>
        </p:blipFill>
        <p:spPr>
          <a:xfrm>
            <a:off x="571680" y="2428920"/>
            <a:ext cx="3809880" cy="2867040"/>
          </a:xfrm>
          <a:prstGeom prst="rect">
            <a:avLst/>
          </a:prstGeom>
          <a:ln w="9360">
            <a:solidFill>
              <a:srgbClr val="262626"/>
            </a:solidFill>
            <a:miter/>
          </a:ln>
        </p:spPr>
      </p:pic>
      <p:sp>
        <p:nvSpPr>
          <p:cNvPr id="1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3300"/>
                </a:solidFill>
                <a:latin typeface="Arial"/>
              </a:rPr>
              <a:t>Вопросы для повтор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8000"/>
                </a:solidFill>
                <a:latin typeface="Arial"/>
              </a:rPr>
              <a:t>Укусы каких насекомых опасны для человек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8000"/>
                </a:solidFill>
                <a:latin typeface="Arial"/>
              </a:rPr>
              <a:t>Как называется реакция организма в ответ на укусы насекомых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8000"/>
                </a:solidFill>
                <a:latin typeface="Arial"/>
              </a:rPr>
              <a:t>Перечислите признаки укуса насекомого. Как оказать первую медицинскую помощь при укусе насекомых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8000"/>
                </a:solidFill>
                <a:latin typeface="Arial"/>
              </a:rPr>
              <a:t>Чем опасны энцефалитные клещи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8000"/>
                </a:solidFill>
                <a:latin typeface="Arial"/>
              </a:rPr>
              <a:t> </a:t>
            </a:r>
            <a:r>
              <a:rPr b="1" i="1" lang="ru-RU" sz="2000" spc="-1" strike="noStrike">
                <a:solidFill>
                  <a:srgbClr val="008000"/>
                </a:solidFill>
                <a:latin typeface="Arial"/>
              </a:rPr>
              <a:t>Какое действие оказывает на человека змеиный яд в небольшом количеств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8000"/>
                </a:solidFill>
                <a:latin typeface="Arial"/>
              </a:rPr>
              <a:t> </a:t>
            </a:r>
            <a:r>
              <a:rPr b="1" i="1" lang="ru-RU" sz="2000" spc="-1" strike="noStrike">
                <a:solidFill>
                  <a:srgbClr val="008000"/>
                </a:solidFill>
                <a:latin typeface="Arial"/>
              </a:rPr>
              <a:t>Где используется змеиный яд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8000"/>
                </a:solidFill>
                <a:latin typeface="Arial"/>
              </a:rPr>
              <a:t>Назовите первые признаки укуса змей. Что нужно делать при оказании первой медицинской помощи при укусах змей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8000"/>
                </a:solidFill>
                <a:latin typeface="Arial"/>
              </a:rPr>
              <a:t>Как защитить себя от укусов змей, гуляя по лесу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Рисунок 5" descr="Рисунок1.jpg"/>
          <p:cNvPicPr/>
          <p:nvPr/>
        </p:nvPicPr>
        <p:blipFill>
          <a:blip r:embed="rId1"/>
          <a:stretch/>
        </p:blipFill>
        <p:spPr>
          <a:xfrm>
            <a:off x="7308720" y="5157720"/>
            <a:ext cx="1143000" cy="1390680"/>
          </a:xfrm>
          <a:prstGeom prst="rect">
            <a:avLst/>
          </a:prstGeom>
          <a:ln w="9360">
            <a:solidFill>
              <a:srgbClr val="7f7f7f"/>
            </a:solidFill>
            <a:miter/>
          </a:ln>
        </p:spPr>
      </p:pic>
      <p:sp>
        <p:nvSpPr>
          <p:cNvPr id="1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468360" y="476280"/>
            <a:ext cx="4770360" cy="3143160"/>
          </a:xfrm>
          <a:prstGeom prst="rect">
            <a:avLst/>
          </a:prstGeom>
          <a:ln w="0">
            <a:noFill/>
          </a:ln>
        </p:spPr>
      </p:pic>
      <p:sp>
        <p:nvSpPr>
          <p:cNvPr id="58" name="Text Box 5"/>
          <p:cNvSpPr/>
          <p:nvPr/>
        </p:nvSpPr>
        <p:spPr>
          <a:xfrm>
            <a:off x="1477440" y="3860640"/>
            <a:ext cx="213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3300"/>
                </a:solidFill>
                <a:latin typeface="Arial"/>
              </a:rPr>
              <a:t>Слепен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3" descr=""/>
          <p:cNvPicPr/>
          <p:nvPr/>
        </p:nvPicPr>
        <p:blipFill>
          <a:blip r:embed="rId2"/>
          <a:stretch/>
        </p:blipFill>
        <p:spPr>
          <a:xfrm>
            <a:off x="4643280" y="2060640"/>
            <a:ext cx="4000680" cy="3676680"/>
          </a:xfrm>
          <a:prstGeom prst="rect">
            <a:avLst/>
          </a:prstGeom>
          <a:ln w="0">
            <a:noFill/>
          </a:ln>
        </p:spPr>
      </p:pic>
      <p:sp>
        <p:nvSpPr>
          <p:cNvPr id="60" name="Text Box 8"/>
          <p:cNvSpPr/>
          <p:nvPr/>
        </p:nvSpPr>
        <p:spPr>
          <a:xfrm>
            <a:off x="5436720" y="5877000"/>
            <a:ext cx="237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3300"/>
                </a:solidFill>
                <a:latin typeface="Arial"/>
              </a:rPr>
              <a:t>Шершен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3300"/>
                </a:solidFill>
                <a:latin typeface="Arial"/>
              </a:rPr>
              <a:t>Укусы насекомы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28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При укусе насекомого в ранку попадает ядовитое вещество, которое вызывает отравление организм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2" descr="http://www.stihi.ru/pics/2012/04/03/6798.jpg"/>
          <p:cNvPicPr/>
          <p:nvPr/>
        </p:nvPicPr>
        <p:blipFill>
          <a:blip r:embed="rId1"/>
          <a:stretch/>
        </p:blipFill>
        <p:spPr>
          <a:xfrm>
            <a:off x="395280" y="1773360"/>
            <a:ext cx="4038480" cy="2738160"/>
          </a:xfrm>
          <a:prstGeom prst="rect">
            <a:avLst/>
          </a:prstGeom>
          <a:ln w="0">
            <a:noFill/>
          </a:ln>
        </p:spPr>
      </p:pic>
      <p:sp>
        <p:nvSpPr>
          <p:cNvPr id="65" name="Text Box 8"/>
          <p:cNvSpPr/>
          <p:nvPr/>
        </p:nvSpPr>
        <p:spPr>
          <a:xfrm>
            <a:off x="611280" y="5157720"/>
            <a:ext cx="691344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Реакцию организма на укусы насекомых называют   </a:t>
            </a: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аллергической реакцие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3300"/>
                </a:solidFill>
                <a:latin typeface="Arial"/>
              </a:rPr>
              <a:t>Первые признаки укуса насекомы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Рисунок 3" descr="7ac093538eac9bd1e6c00a3dcb80e2be.jpg"/>
          <p:cNvPicPr/>
          <p:nvPr/>
        </p:nvPicPr>
        <p:blipFill>
          <a:blip r:embed="rId1"/>
          <a:stretch/>
        </p:blipFill>
        <p:spPr>
          <a:xfrm>
            <a:off x="428760" y="785880"/>
            <a:ext cx="3214440" cy="2994120"/>
          </a:xfrm>
          <a:prstGeom prst="rect">
            <a:avLst/>
          </a:prstGeom>
          <a:ln w="0">
            <a:noFill/>
          </a:ln>
        </p:spPr>
      </p:pic>
      <p:pic>
        <p:nvPicPr>
          <p:cNvPr id="69" name="Рисунок 5" descr="clip_image001.jpg"/>
          <p:cNvPicPr/>
          <p:nvPr/>
        </p:nvPicPr>
        <p:blipFill>
          <a:blip r:embed="rId2"/>
          <a:stretch/>
        </p:blipFill>
        <p:spPr>
          <a:xfrm>
            <a:off x="539640" y="4076640"/>
            <a:ext cx="3333960" cy="2238480"/>
          </a:xfrm>
          <a:prstGeom prst="rect">
            <a:avLst/>
          </a:prstGeom>
          <a:ln w="9360">
            <a:solidFill>
              <a:srgbClr val="262626"/>
            </a:solidFill>
            <a:miter/>
          </a:ln>
        </p:spPr>
      </p:pic>
      <p:sp>
        <p:nvSpPr>
          <p:cNvPr id="70" name="Text Box 6"/>
          <p:cNvSpPr/>
          <p:nvPr/>
        </p:nvSpPr>
        <p:spPr>
          <a:xfrm>
            <a:off x="3780000" y="1844640"/>
            <a:ext cx="4608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3300"/>
                </a:solidFill>
                <a:latin typeface="Arial"/>
              </a:rPr>
              <a:t>Признаки укуса насекомых появляются минут через 15-20 после укус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9"/>
          <p:cNvSpPr/>
          <p:nvPr/>
        </p:nvSpPr>
        <p:spPr>
          <a:xfrm>
            <a:off x="4356000" y="3860640"/>
            <a:ext cx="3733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8000"/>
                </a:solidFill>
                <a:latin typeface="Arial"/>
              </a:rPr>
              <a:t>1. Повышение температуры те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8000"/>
                </a:solidFill>
                <a:latin typeface="Arial"/>
              </a:rPr>
              <a:t>2. Сыпь по всему тел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8000"/>
                </a:solidFill>
                <a:latin typeface="Arial"/>
              </a:rPr>
              <a:t>3. Головная бо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3300"/>
                </a:solidFill>
                <a:latin typeface="Arial"/>
              </a:rPr>
              <a:t>Помни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254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Наиболее опасны ужаливания пчел, ос, шершней в полость рта, куда насекомое может попасть, когда человек ест фрукты. </a:t>
            </a:r>
            <a:br>
              <a:rPr sz="2400"/>
            </a:b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Рисунок 3" descr="1217270999_image00013.jpg"/>
          <p:cNvPicPr/>
          <p:nvPr/>
        </p:nvPicPr>
        <p:blipFill>
          <a:blip r:embed="rId1"/>
          <a:stretch/>
        </p:blipFill>
        <p:spPr>
          <a:xfrm>
            <a:off x="611280" y="1628640"/>
            <a:ext cx="3809880" cy="2590920"/>
          </a:xfrm>
          <a:prstGeom prst="rect">
            <a:avLst/>
          </a:prstGeom>
          <a:ln w="9360">
            <a:solidFill>
              <a:srgbClr val="262626"/>
            </a:solidFill>
            <a:miter/>
          </a:ln>
        </p:spPr>
      </p:pic>
      <p:sp>
        <p:nvSpPr>
          <p:cNvPr id="76" name="Text Box 7"/>
          <p:cNvSpPr/>
          <p:nvPr/>
        </p:nvSpPr>
        <p:spPr>
          <a:xfrm>
            <a:off x="539640" y="4437000"/>
            <a:ext cx="9272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8000"/>
                </a:solidFill>
                <a:latin typeface="Arial"/>
              </a:rPr>
              <a:t>В таких случаях необходима срочная медицинская помощ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8000"/>
                </a:solidFill>
                <a:latin typeface="Arial"/>
              </a:rPr>
              <a:t>так как возникающие отек гортани и удушье смертельно опасн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3300"/>
                </a:solidFill>
                <a:latin typeface="Arial"/>
              </a:rPr>
              <a:t>Первая помощь-первые действ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348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60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3300"/>
                </a:solidFill>
                <a:latin typeface="Arial"/>
              </a:rPr>
              <a:t>В первую очередь нужно удалить из кожи жало насекомого, ужаленное место смочить спиртом. Приложить к ужаленному месту холод (полиэтиленовый пакет с холодной водой). Давать пострадавшему обильное пить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Рисунок 3" descr="jalo_s.jpg"/>
          <p:cNvPicPr/>
          <p:nvPr/>
        </p:nvPicPr>
        <p:blipFill>
          <a:blip r:embed="rId1"/>
          <a:stretch/>
        </p:blipFill>
        <p:spPr>
          <a:xfrm>
            <a:off x="611280" y="1628640"/>
            <a:ext cx="3809880" cy="2514600"/>
          </a:xfrm>
          <a:prstGeom prst="rect">
            <a:avLst/>
          </a:prstGeom>
          <a:ln w="9360">
            <a:solidFill>
              <a:srgbClr val="262626"/>
            </a:solidFill>
            <a:miter/>
          </a:ln>
        </p:spPr>
      </p:pic>
      <p:sp>
        <p:nvSpPr>
          <p:cNvPr id="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cc00"/>
                </a:solidFill>
                <a:latin typeface="Arial"/>
              </a:rPr>
              <a:t>Первая помощь- первые действ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4"/>
          <p:cNvSpPr/>
          <p:nvPr/>
        </p:nvSpPr>
        <p:spPr>
          <a:xfrm>
            <a:off x="468360" y="1557360"/>
            <a:ext cx="568944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Аккуратно удалить жал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(если оно есть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900000" y="2565360"/>
            <a:ext cx="56898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ромыть ранку спиртом ил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лабым раствором марганцов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403280" y="3573360"/>
            <a:ext cx="576108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На место укуса наложить хол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10"/>
          <p:cNvSpPr/>
          <p:nvPr/>
        </p:nvSpPr>
        <p:spPr>
          <a:xfrm>
            <a:off x="1979640" y="4653000"/>
            <a:ext cx="576108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Дать пострадавшему 1-2 таблет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димедрола,или супрастина, или тавиги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1"/>
          <p:cNvSpPr/>
          <p:nvPr/>
        </p:nvSpPr>
        <p:spPr>
          <a:xfrm>
            <a:off x="2556000" y="5734080"/>
            <a:ext cx="576108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Если состояние ухудшается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рочно достави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 медицинское учрежд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15"/>
          <p:cNvSpPr/>
          <p:nvPr/>
        </p:nvSpPr>
        <p:spPr>
          <a:xfrm>
            <a:off x="6804000" y="1700280"/>
            <a:ext cx="1309680" cy="1584360"/>
          </a:xfrm>
          <a:custGeom>
            <a:avLst/>
            <a:gdLst>
              <a:gd name="textAreaLeft" fmla="*/ 175320 w 1309680"/>
              <a:gd name="textAreaRight" fmla="*/ 1134360 w 1309680"/>
              <a:gd name="textAreaTop" fmla="*/ 277200 h 1584360"/>
              <a:gd name="textAreaBottom" fmla="*/ 1148760 h 158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4518"/>
                <a:lnTo>
                  <a:pt x="7193" y="21169"/>
                </a:lnTo>
                <a:lnTo>
                  <a:pt x="0" y="17280"/>
                </a:lnTo>
                <a:lnTo>
                  <a:pt x="7193" y="12529"/>
                </a:lnTo>
                <a:lnTo>
                  <a:pt x="7193" y="14689"/>
                </a:lnTo>
                <a:arcTo wR="21600" hR="7560" stAng="2684518" swAng="-232708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18"/>
          <p:cNvSpPr/>
          <p:nvPr/>
        </p:nvSpPr>
        <p:spPr>
          <a:xfrm>
            <a:off x="7885080" y="3573360"/>
            <a:ext cx="878040" cy="1727280"/>
          </a:xfrm>
          <a:custGeom>
            <a:avLst/>
            <a:gdLst>
              <a:gd name="textAreaLeft" fmla="*/ 117360 w 878040"/>
              <a:gd name="textAreaRight" fmla="*/ 760680 w 878040"/>
              <a:gd name="textAreaTop" fmla="*/ 307800 h 1727280"/>
              <a:gd name="textAreaBottom" fmla="*/ 1246680 h 172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701" stAng="-5400000" swAng="5400000"/>
                <a:lnTo>
                  <a:pt x="21600" y="11739"/>
                </a:lnTo>
                <a:arcTo wR="21600" hR="7701" stAng="0" swAng="2009483"/>
                <a:lnTo>
                  <a:pt x="10246" y="20678"/>
                </a:lnTo>
                <a:lnTo>
                  <a:pt x="0" y="17421"/>
                </a:lnTo>
                <a:lnTo>
                  <a:pt x="10246" y="12320"/>
                </a:lnTo>
                <a:lnTo>
                  <a:pt x="10246" y="14480"/>
                </a:lnTo>
                <a:arcTo wR="21600" hR="7701" stAng="2009483" swAng="-1677537"/>
                <a:lnTo>
                  <a:pt x="20844" y="9720"/>
                </a:lnTo>
                <a:arcTo wR="21600" hR="7701" stAng="-331946" swAng="-5068054"/>
                <a:close/>
              </a:path>
              <a:path fill="darkenLess" w="21600" h="21600">
                <a:moveTo>
                  <a:pt x="0" y="0"/>
                </a:moveTo>
                <a:arcTo wR="21600" hR="7701" stAng="-5400000" swAng="5400000"/>
                <a:lnTo>
                  <a:pt x="21600" y="11739"/>
                </a:lnTo>
                <a:arcTo wR="21600" hR="7701" stAng="0" swAng="-331946"/>
                <a:lnTo>
                  <a:pt x="20844" y="9720"/>
                </a:lnTo>
                <a:arcTo wR="21600" hR="7701" stAng="-331946" swAng="-5068054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20"/>
          <p:cNvSpPr/>
          <p:nvPr/>
        </p:nvSpPr>
        <p:spPr>
          <a:xfrm>
            <a:off x="0" y="2924280"/>
            <a:ext cx="1187280" cy="1512720"/>
          </a:xfrm>
          <a:custGeom>
            <a:avLst/>
            <a:gdLst>
              <a:gd name="textAreaLeft" fmla="*/ 158760 w 1187280"/>
              <a:gd name="textAreaRight" fmla="*/ 1028520 w 1187280"/>
              <a:gd name="textAreaTop" fmla="*/ 264600 h 1512720"/>
              <a:gd name="textAreaBottom" fmla="*/ 1096920 h 151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21"/>
          <p:cNvSpPr/>
          <p:nvPr/>
        </p:nvSpPr>
        <p:spPr>
          <a:xfrm>
            <a:off x="611280" y="5373720"/>
            <a:ext cx="1296720" cy="1224000"/>
          </a:xfrm>
          <a:custGeom>
            <a:avLst/>
            <a:gdLst>
              <a:gd name="textAreaLeft" fmla="*/ 173520 w 1296720"/>
              <a:gd name="textAreaRight" fmla="*/ 1123200 w 129672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22"/>
          <p:cNvSpPr/>
          <p:nvPr/>
        </p:nvSpPr>
        <p:spPr>
          <a:xfrm>
            <a:off x="468360" y="1557360"/>
            <a:ext cx="568944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Аккуратно удалить жал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(если оно есть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3"/>
          <p:cNvSpPr/>
          <p:nvPr/>
        </p:nvSpPr>
        <p:spPr>
          <a:xfrm>
            <a:off x="900000" y="2565360"/>
            <a:ext cx="56898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ромыть ранку спиртом ил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лабым раствором марганцов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4"/>
          <p:cNvSpPr/>
          <p:nvPr/>
        </p:nvSpPr>
        <p:spPr>
          <a:xfrm>
            <a:off x="1403280" y="3573360"/>
            <a:ext cx="576108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На место укуса наложить хол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5"/>
          <p:cNvSpPr/>
          <p:nvPr/>
        </p:nvSpPr>
        <p:spPr>
          <a:xfrm>
            <a:off x="468360" y="1557360"/>
            <a:ext cx="568944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Аккуратно удалить жал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(если оно есть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6"/>
          <p:cNvSpPr/>
          <p:nvPr/>
        </p:nvSpPr>
        <p:spPr>
          <a:xfrm>
            <a:off x="900000" y="2565360"/>
            <a:ext cx="56898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ромыть ранку спиртом ил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лабым раствором марганцов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7"/>
          <p:cNvSpPr/>
          <p:nvPr/>
        </p:nvSpPr>
        <p:spPr>
          <a:xfrm>
            <a:off x="1979640" y="4653000"/>
            <a:ext cx="576108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Дать пострадавшему 1-2 таблет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димедрола,или супрастина, или тавиги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28"/>
          <p:cNvSpPr/>
          <p:nvPr/>
        </p:nvSpPr>
        <p:spPr>
          <a:xfrm>
            <a:off x="1403280" y="3573360"/>
            <a:ext cx="576108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На место укуса наложить хол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29"/>
          <p:cNvSpPr/>
          <p:nvPr/>
        </p:nvSpPr>
        <p:spPr>
          <a:xfrm>
            <a:off x="468360" y="1557360"/>
            <a:ext cx="568944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Аккуратно удалить жал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(если оно есть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30"/>
          <p:cNvSpPr/>
          <p:nvPr/>
        </p:nvSpPr>
        <p:spPr>
          <a:xfrm>
            <a:off x="900000" y="2565360"/>
            <a:ext cx="56898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ромыть ранку спиртом ил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лабым раствором марганцов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31"/>
          <p:cNvSpPr/>
          <p:nvPr/>
        </p:nvSpPr>
        <p:spPr>
          <a:xfrm>
            <a:off x="2556000" y="5734080"/>
            <a:ext cx="5761080" cy="914400"/>
          </a:xfrm>
          <a:prstGeom prst="rect">
            <a:avLst/>
          </a:prstGeom>
          <a:gradFill rotWithShape="0">
            <a:gsLst>
              <a:gs pos="0">
                <a:srgbClr val="5e5e00"/>
              </a:gs>
              <a:gs pos="50000">
                <a:srgbClr val="cccc00"/>
              </a:gs>
              <a:gs pos="100000">
                <a:srgbClr val="5e5e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Если состояние ухудшается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рочно достави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 медицинское учрежд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32"/>
          <p:cNvSpPr/>
          <p:nvPr/>
        </p:nvSpPr>
        <p:spPr>
          <a:xfrm>
            <a:off x="1979640" y="4653000"/>
            <a:ext cx="5761080" cy="914400"/>
          </a:xfrm>
          <a:prstGeom prst="rect">
            <a:avLst/>
          </a:prstGeom>
          <a:gradFill rotWithShape="0">
            <a:gsLst>
              <a:gs pos="0">
                <a:srgbClr val="5e5e00"/>
              </a:gs>
              <a:gs pos="50000">
                <a:srgbClr val="cccc00"/>
              </a:gs>
              <a:gs pos="100000">
                <a:srgbClr val="5e5e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Дать пострадавшему 1-2 таблет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димедрола, или супрастина, или тавиги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33"/>
          <p:cNvSpPr/>
          <p:nvPr/>
        </p:nvSpPr>
        <p:spPr>
          <a:xfrm>
            <a:off x="1403280" y="3573360"/>
            <a:ext cx="5761080" cy="914400"/>
          </a:xfrm>
          <a:prstGeom prst="rect">
            <a:avLst/>
          </a:prstGeom>
          <a:gradFill rotWithShape="0">
            <a:gsLst>
              <a:gs pos="0">
                <a:srgbClr val="5e5e00"/>
              </a:gs>
              <a:gs pos="50000">
                <a:srgbClr val="cccc00"/>
              </a:gs>
              <a:gs pos="100000">
                <a:srgbClr val="5e5e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На место укуса наложить хол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34"/>
          <p:cNvSpPr/>
          <p:nvPr/>
        </p:nvSpPr>
        <p:spPr>
          <a:xfrm>
            <a:off x="468360" y="1557360"/>
            <a:ext cx="5689440" cy="914400"/>
          </a:xfrm>
          <a:prstGeom prst="rect">
            <a:avLst/>
          </a:prstGeom>
          <a:gradFill rotWithShape="0">
            <a:gsLst>
              <a:gs pos="0">
                <a:srgbClr val="5e5e00"/>
              </a:gs>
              <a:gs pos="50000">
                <a:srgbClr val="cccc00"/>
              </a:gs>
              <a:gs pos="100000">
                <a:srgbClr val="5e5e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Аккуратно удалить жал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(если оно есть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35"/>
          <p:cNvSpPr/>
          <p:nvPr/>
        </p:nvSpPr>
        <p:spPr>
          <a:xfrm>
            <a:off x="900000" y="2565360"/>
            <a:ext cx="5689800" cy="914400"/>
          </a:xfrm>
          <a:prstGeom prst="rect">
            <a:avLst/>
          </a:prstGeom>
          <a:gradFill rotWithShape="0">
            <a:gsLst>
              <a:gs pos="0">
                <a:srgbClr val="5e5e00"/>
              </a:gs>
              <a:gs pos="50000">
                <a:srgbClr val="cccc00"/>
              </a:gs>
              <a:gs pos="100000">
                <a:srgbClr val="5e5e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ромыть ранку спиртом ил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лабым раствором марганцов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36"/>
          <p:cNvSpPr/>
          <p:nvPr/>
        </p:nvSpPr>
        <p:spPr>
          <a:xfrm>
            <a:off x="6804000" y="1700280"/>
            <a:ext cx="1309680" cy="1584360"/>
          </a:xfrm>
          <a:custGeom>
            <a:avLst/>
            <a:gdLst>
              <a:gd name="textAreaLeft" fmla="*/ 175320 w 1309680"/>
              <a:gd name="textAreaRight" fmla="*/ 1134360 w 1309680"/>
              <a:gd name="textAreaTop" fmla="*/ 277200 h 1584360"/>
              <a:gd name="textAreaBottom" fmla="*/ 1148760 h 158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4518"/>
                <a:lnTo>
                  <a:pt x="7193" y="21169"/>
                </a:lnTo>
                <a:lnTo>
                  <a:pt x="0" y="17280"/>
                </a:lnTo>
                <a:lnTo>
                  <a:pt x="7193" y="12529"/>
                </a:lnTo>
                <a:lnTo>
                  <a:pt x="7193" y="14689"/>
                </a:lnTo>
                <a:arcTo wR="21600" hR="7560" stAng="2684518" swAng="-232708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37"/>
          <p:cNvSpPr/>
          <p:nvPr/>
        </p:nvSpPr>
        <p:spPr>
          <a:xfrm>
            <a:off x="7885080" y="3573360"/>
            <a:ext cx="878040" cy="1727280"/>
          </a:xfrm>
          <a:custGeom>
            <a:avLst/>
            <a:gdLst>
              <a:gd name="textAreaLeft" fmla="*/ 117360 w 878040"/>
              <a:gd name="textAreaRight" fmla="*/ 760680 w 878040"/>
              <a:gd name="textAreaTop" fmla="*/ 307800 h 1727280"/>
              <a:gd name="textAreaBottom" fmla="*/ 1246680 h 172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701" stAng="-5400000" swAng="5400000"/>
                <a:lnTo>
                  <a:pt x="21600" y="11739"/>
                </a:lnTo>
                <a:arcTo wR="21600" hR="7701" stAng="0" swAng="2009483"/>
                <a:lnTo>
                  <a:pt x="10246" y="20678"/>
                </a:lnTo>
                <a:lnTo>
                  <a:pt x="0" y="17421"/>
                </a:lnTo>
                <a:lnTo>
                  <a:pt x="10246" y="12320"/>
                </a:lnTo>
                <a:lnTo>
                  <a:pt x="10246" y="14480"/>
                </a:lnTo>
                <a:arcTo wR="21600" hR="7701" stAng="2009483" swAng="-1677537"/>
                <a:lnTo>
                  <a:pt x="20844" y="9720"/>
                </a:lnTo>
                <a:arcTo wR="21600" hR="7701" stAng="-331946" swAng="-5068054"/>
                <a:close/>
              </a:path>
              <a:path fill="darkenLess" w="21600" h="21600">
                <a:moveTo>
                  <a:pt x="0" y="0"/>
                </a:moveTo>
                <a:arcTo wR="21600" hR="7701" stAng="-5400000" swAng="5400000"/>
                <a:lnTo>
                  <a:pt x="21600" y="11739"/>
                </a:lnTo>
                <a:arcTo wR="21600" hR="7701" stAng="0" swAng="-331946"/>
                <a:lnTo>
                  <a:pt x="20844" y="9720"/>
                </a:lnTo>
                <a:arcTo wR="21600" hR="7701" stAng="-331946" swAng="-5068054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38"/>
          <p:cNvSpPr/>
          <p:nvPr/>
        </p:nvSpPr>
        <p:spPr>
          <a:xfrm>
            <a:off x="0" y="2924280"/>
            <a:ext cx="1187280" cy="1512720"/>
          </a:xfrm>
          <a:custGeom>
            <a:avLst/>
            <a:gdLst>
              <a:gd name="textAreaLeft" fmla="*/ 158760 w 1187280"/>
              <a:gd name="textAreaRight" fmla="*/ 1028520 w 1187280"/>
              <a:gd name="textAreaTop" fmla="*/ 264600 h 1512720"/>
              <a:gd name="textAreaBottom" fmla="*/ 1096920 h 151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39"/>
          <p:cNvSpPr/>
          <p:nvPr/>
        </p:nvSpPr>
        <p:spPr>
          <a:xfrm>
            <a:off x="6804000" y="1700280"/>
            <a:ext cx="1309680" cy="1584360"/>
          </a:xfrm>
          <a:custGeom>
            <a:avLst/>
            <a:gdLst>
              <a:gd name="textAreaLeft" fmla="*/ 175320 w 1309680"/>
              <a:gd name="textAreaRight" fmla="*/ 1134360 w 1309680"/>
              <a:gd name="textAreaTop" fmla="*/ 277200 h 1584360"/>
              <a:gd name="textAreaBottom" fmla="*/ 1148760 h 158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4518"/>
                <a:lnTo>
                  <a:pt x="7193" y="21169"/>
                </a:lnTo>
                <a:lnTo>
                  <a:pt x="0" y="17280"/>
                </a:lnTo>
                <a:lnTo>
                  <a:pt x="7193" y="12529"/>
                </a:lnTo>
                <a:lnTo>
                  <a:pt x="7193" y="14689"/>
                </a:lnTo>
                <a:arcTo wR="21600" hR="7560" stAng="2684518" swAng="-232708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40"/>
          <p:cNvSpPr/>
          <p:nvPr/>
        </p:nvSpPr>
        <p:spPr>
          <a:xfrm>
            <a:off x="7885080" y="3573360"/>
            <a:ext cx="878040" cy="1727280"/>
          </a:xfrm>
          <a:custGeom>
            <a:avLst/>
            <a:gdLst>
              <a:gd name="textAreaLeft" fmla="*/ 117360 w 878040"/>
              <a:gd name="textAreaRight" fmla="*/ 760680 w 878040"/>
              <a:gd name="textAreaTop" fmla="*/ 307800 h 1727280"/>
              <a:gd name="textAreaBottom" fmla="*/ 1246680 h 172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701" stAng="-5400000" swAng="5400000"/>
                <a:lnTo>
                  <a:pt x="21600" y="11739"/>
                </a:lnTo>
                <a:arcTo wR="21600" hR="7701" stAng="0" swAng="2009483"/>
                <a:lnTo>
                  <a:pt x="10246" y="20678"/>
                </a:lnTo>
                <a:lnTo>
                  <a:pt x="0" y="17421"/>
                </a:lnTo>
                <a:lnTo>
                  <a:pt x="10246" y="12320"/>
                </a:lnTo>
                <a:lnTo>
                  <a:pt x="10246" y="14480"/>
                </a:lnTo>
                <a:arcTo wR="21600" hR="7701" stAng="2009483" swAng="-1677537"/>
                <a:lnTo>
                  <a:pt x="20844" y="9720"/>
                </a:lnTo>
                <a:arcTo wR="21600" hR="7701" stAng="-331946" swAng="-5068054"/>
                <a:close/>
              </a:path>
              <a:path fill="darkenLess" w="21600" h="21600">
                <a:moveTo>
                  <a:pt x="0" y="0"/>
                </a:moveTo>
                <a:arcTo wR="21600" hR="7701" stAng="-5400000" swAng="5400000"/>
                <a:lnTo>
                  <a:pt x="21600" y="11739"/>
                </a:lnTo>
                <a:arcTo wR="21600" hR="7701" stAng="0" swAng="-331946"/>
                <a:lnTo>
                  <a:pt x="20844" y="9720"/>
                </a:lnTo>
                <a:arcTo wR="21600" hR="7701" stAng="-331946" swAng="-5068054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41"/>
          <p:cNvSpPr/>
          <p:nvPr/>
        </p:nvSpPr>
        <p:spPr>
          <a:xfrm>
            <a:off x="611280" y="5373720"/>
            <a:ext cx="1296720" cy="1224000"/>
          </a:xfrm>
          <a:custGeom>
            <a:avLst/>
            <a:gdLst>
              <a:gd name="textAreaLeft" fmla="*/ 173520 w 1296720"/>
              <a:gd name="textAreaRight" fmla="*/ 1123200 w 129672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42"/>
          <p:cNvSpPr/>
          <p:nvPr/>
        </p:nvSpPr>
        <p:spPr>
          <a:xfrm>
            <a:off x="0" y="2924280"/>
            <a:ext cx="1187280" cy="1512720"/>
          </a:xfrm>
          <a:custGeom>
            <a:avLst/>
            <a:gdLst>
              <a:gd name="textAreaLeft" fmla="*/ 158760 w 1187280"/>
              <a:gd name="textAreaRight" fmla="*/ 1028520 w 1187280"/>
              <a:gd name="textAreaTop" fmla="*/ 264600 h 1512720"/>
              <a:gd name="textAreaBottom" fmla="*/ 1096920 h 151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43"/>
          <p:cNvSpPr/>
          <p:nvPr/>
        </p:nvSpPr>
        <p:spPr>
          <a:xfrm>
            <a:off x="6804000" y="1700280"/>
            <a:ext cx="1309680" cy="1584360"/>
          </a:xfrm>
          <a:custGeom>
            <a:avLst/>
            <a:gdLst>
              <a:gd name="textAreaLeft" fmla="*/ 175320 w 1309680"/>
              <a:gd name="textAreaRight" fmla="*/ 1134360 w 1309680"/>
              <a:gd name="textAreaTop" fmla="*/ 277200 h 1584360"/>
              <a:gd name="textAreaBottom" fmla="*/ 1148760 h 158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4518"/>
                <a:lnTo>
                  <a:pt x="7193" y="21169"/>
                </a:lnTo>
                <a:lnTo>
                  <a:pt x="0" y="17280"/>
                </a:lnTo>
                <a:lnTo>
                  <a:pt x="7193" y="12529"/>
                </a:lnTo>
                <a:lnTo>
                  <a:pt x="7193" y="14689"/>
                </a:lnTo>
                <a:arcTo wR="21600" hR="7560" stAng="2684518" swAng="-232708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44"/>
          <p:cNvSpPr/>
          <p:nvPr/>
        </p:nvSpPr>
        <p:spPr>
          <a:xfrm>
            <a:off x="7885080" y="3573360"/>
            <a:ext cx="878040" cy="1727280"/>
          </a:xfrm>
          <a:custGeom>
            <a:avLst/>
            <a:gdLst>
              <a:gd name="textAreaLeft" fmla="*/ 117360 w 878040"/>
              <a:gd name="textAreaRight" fmla="*/ 760680 w 878040"/>
              <a:gd name="textAreaTop" fmla="*/ 307800 h 1727280"/>
              <a:gd name="textAreaBottom" fmla="*/ 1246680 h 172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701" stAng="-5400000" swAng="5400000"/>
                <a:lnTo>
                  <a:pt x="21600" y="11739"/>
                </a:lnTo>
                <a:arcTo wR="21600" hR="7701" stAng="0" swAng="2009483"/>
                <a:lnTo>
                  <a:pt x="10246" y="20678"/>
                </a:lnTo>
                <a:lnTo>
                  <a:pt x="0" y="17421"/>
                </a:lnTo>
                <a:lnTo>
                  <a:pt x="10246" y="12320"/>
                </a:lnTo>
                <a:lnTo>
                  <a:pt x="10246" y="14480"/>
                </a:lnTo>
                <a:arcTo wR="21600" hR="7701" stAng="2009483" swAng="-1677537"/>
                <a:lnTo>
                  <a:pt x="20844" y="9720"/>
                </a:lnTo>
                <a:arcTo wR="21600" hR="7701" stAng="-331946" swAng="-5068054"/>
                <a:close/>
              </a:path>
              <a:path fill="darkenLess" w="21600" h="21600">
                <a:moveTo>
                  <a:pt x="0" y="0"/>
                </a:moveTo>
                <a:arcTo wR="21600" hR="7701" stAng="-5400000" swAng="5400000"/>
                <a:lnTo>
                  <a:pt x="21600" y="11739"/>
                </a:lnTo>
                <a:arcTo wR="21600" hR="7701" stAng="0" swAng="-331946"/>
                <a:lnTo>
                  <a:pt x="20844" y="9720"/>
                </a:lnTo>
                <a:arcTo wR="21600" hR="7701" stAng="-331946" swAng="-5068054"/>
                <a:close/>
              </a:path>
            </a:pathLst>
          </a:cu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3300"/>
                </a:solidFill>
                <a:latin typeface="Arial"/>
              </a:rPr>
              <a:t>Клещевой энцефали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31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2" descr="http://www.lentachel.ru/image/N4mNYUMbIgNjAVYR.jpg"/>
          <p:cNvPicPr/>
          <p:nvPr/>
        </p:nvPicPr>
        <p:blipFill>
          <a:blip r:embed="rId1"/>
          <a:stretch/>
        </p:blipFill>
        <p:spPr>
          <a:xfrm>
            <a:off x="468360" y="1628640"/>
            <a:ext cx="4000320" cy="30672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4" descr="http://www.sarov.net/p/1cp.jpg"/>
          <p:cNvPicPr/>
          <p:nvPr/>
        </p:nvPicPr>
        <p:blipFill>
          <a:blip r:embed="rId2"/>
          <a:stretch/>
        </p:blipFill>
        <p:spPr>
          <a:xfrm>
            <a:off x="4716360" y="1628640"/>
            <a:ext cx="4071960" cy="307188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8"/>
          <p:cNvSpPr/>
          <p:nvPr/>
        </p:nvSpPr>
        <p:spPr>
          <a:xfrm>
            <a:off x="539640" y="4869000"/>
            <a:ext cx="8209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3300"/>
                </a:solidFill>
                <a:latin typeface="Arial"/>
              </a:rPr>
              <a:t>При укусе клещи вносят в ранку вместе со слюн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cc3300"/>
                </a:solidFill>
                <a:latin typeface="Arial"/>
              </a:rPr>
              <a:t>вирус энцефалита. Укусы клещей можно и не заметить: для человека они безболезненны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25T11:33:31Z</dcterms:created>
  <dc:creator>Лариса</dc:creator>
  <dc:description/>
  <dc:language>en-US</dc:language>
  <cp:lastModifiedBy>LEGION</cp:lastModifiedBy>
  <dcterms:modified xsi:type="dcterms:W3CDTF">2015-05-12T09:28:18Z</dcterms:modified>
  <cp:revision>6</cp:revision>
  <dc:subject/>
  <dc:title>Первая помощь при укусах змей и насекомых</dc:title>
</cp:coreProperties>
</file>