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0979D-895B-4554-BDD0-EF582E45F25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к на тему: </a:t>
            </a: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Полезные 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0099"/>
                </a:solidFill>
                <a:latin typeface="Georgia"/>
              </a:rPr>
              <a:t>ВРЕДНЫЕ ПРИВЫ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14D9C-D113-4196-85EC-C0C96EAF6B3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99"/>
                </a:solidFill>
                <a:latin typeface="Calibri"/>
              </a:rPr>
              <a:t>Отличие алкоголизма как болезни от других заболеваний человек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отличие от других заболеваний  человека, где он болеет и стремится вылечиться и осознает свою болезнь, то больные, страдающие алкогольной или наркотической зависимостью часто не осознают свою болезнь и лечиться категорически отказываю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BD73-A18E-4B1C-A119-38DD7EF8406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99"/>
                </a:solidFill>
                <a:latin typeface="Calibri"/>
              </a:rPr>
              <a:t>Отличие алкоголизма как болезни от других заболеваний человек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отличие от других заболеваний  человека, где он болеет и стремится вылечиться и осознает свою болезнь, то больные, страдающие алкогольной или наркотической зависимостью часто не осознают свою болезнь и лечиться категорически отказываю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224F4-0791-41D7-8BD1-6AF106A5B21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Как влияет алкоголизм </a:t>
            </a:r>
            <a:br>
              <a:rPr sz="1200"/>
            </a:b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на жизн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алкоголизацией связано 50% дорожно-транспортных происшествий, 50% убийств, 25% самоубийств, до 50% семей распадается на почве злоупотребления алкоголем одним из супруг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цирроза печени и целого букета других заболеваний, связанных с употреблением алкоголя, средняя продолжительность жизни больных укорочена на 10 лет, по сравнению со здоровым населени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56782-8550-4933-BA8C-503DC7FC4E5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ccff"/>
                </a:solidFill>
                <a:latin typeface="Impact"/>
              </a:rPr>
              <a:t>Нарком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9328D-6775-4FBF-A45A-8D35D350F4A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ифы о наркотика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жизни все надо попробовать, в том числе и нарко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сть люди, которые принимают наркотики много лет и прекрасно живу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гкие наркотики принимать можно, это безопас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ркотики делают людей свободн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ркотики часто принимают сильные и смелые лю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истые наркотики безвред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41754-B9C5-40A3-A54E-84939575F23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лияние наркотиков на организм челове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ркотическая зависим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сутствие нравственных установ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рушение закона, влекущее уголовную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сутствие нормальной семь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ловек в постоянном поиске психоактивных веще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тоянные материальные затруд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сутствие работы, постоянного заработ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ногочисленные болезни, вызванные разладом в работе орга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иск заболеть СПИД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нижение остроты зрения, слу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нний атеросклеро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нняя смер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AA47A-ECD7-40E5-B8A4-2F741FCA1BF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сли ты любишь себя и ценишь свое здоровье, ты скажешь «нет» всему, что может принести тебе вре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E7A3A-9399-4B63-A764-4BC4396F3C4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Посейте поступок – и вы пожнете привычк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посейте привычку – и вы пожнете характер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посейте характер – и вы пожнете судьб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99"/>
                </a:solidFill>
                <a:latin typeface="Calibri"/>
              </a:rPr>
              <a:t>У.Теккерей – англ. </a:t>
            </a:r>
            <a:r>
              <a:rPr b="1" i="1" lang="uk-UA" sz="1200" spc="-1" strike="noStrike">
                <a:solidFill>
                  <a:srgbClr val="000099"/>
                </a:solidFill>
                <a:latin typeface="Calibri"/>
              </a:rPr>
              <a:t>п</a:t>
            </a:r>
            <a:r>
              <a:rPr b="1" i="1" lang="ru-RU" sz="1200" spc="-1" strike="noStrike">
                <a:solidFill>
                  <a:srgbClr val="000099"/>
                </a:solidFill>
                <a:latin typeface="Calibri"/>
              </a:rPr>
              <a:t>иса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F4296-48DB-4C6F-9252-E7B286300F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ff"/>
                </a:solidFill>
                <a:latin typeface="Calibri"/>
              </a:rPr>
              <a:t>Привычк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это поведение, ставшее для человека обычным, постоян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37F41-4902-494A-B90A-56ADD299B43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ff"/>
                </a:solidFill>
                <a:latin typeface="Calibri"/>
              </a:rPr>
              <a:t>Игровое задани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лабоволие, любовь к спорту, жажда наслаждений, благоразумие,  любопытств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клонность к подражанию, сила воли, неорганизованнос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адность, осторож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886DD-379F-44C4-B92C-96ADC99F9D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ccff"/>
                </a:solidFill>
                <a:latin typeface="Impact"/>
              </a:rPr>
              <a:t>Кур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E95CA-9540-47C3-AF7A-0FF60B7CF55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alibri"/>
              </a:rPr>
              <a:t>Состав табачного ды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икот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гарный газ (С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нильная кис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ксусная кис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уравьиная кис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сляная кис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мми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ви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Хр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B8B0F-311F-42EF-9871-D88CB827B3F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ифы о курен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урят вс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Все взрослые куря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Бросить курить лег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Курение – безвредное заня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Курение опасно только тому, кто кур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6.Курение помогает оставаться строй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382A9-B99D-42AA-A295-5F8BD0B3E15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зультаты влияния курения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орган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68F39-A5CF-40AD-B94F-593553191FB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ccff"/>
                </a:solidFill>
                <a:latin typeface="Impact"/>
              </a:rPr>
              <a:t>Пьянство</a:t>
            </a:r>
            <a:r>
              <a:rPr b="0" lang="en-US" sz="1200" spc="-1" strike="noStrike">
                <a:solidFill>
                  <a:srgbClr val="33ccff"/>
                </a:solidFill>
                <a:latin typeface="Impact"/>
              </a:rPr>
              <a:t>       </a:t>
            </a:r>
            <a:r>
              <a:rPr b="0" lang="uk-UA" sz="1200" spc="-1" strike="noStrike">
                <a:solidFill>
                  <a:srgbClr val="33ccff"/>
                </a:solidFill>
                <a:latin typeface="Impact"/>
              </a:rPr>
              <a:t>и</a:t>
            </a:r>
            <a:r>
              <a:rPr b="0" lang="en-US" sz="1200" spc="-1" strike="noStrike">
                <a:solidFill>
                  <a:srgbClr val="33ccff"/>
                </a:solidFill>
                <a:latin typeface="Impact"/>
              </a:rPr>
              <a:t> </a:t>
            </a:r>
            <a:r>
              <a:rPr b="0" lang="uk-UA" sz="1200" spc="-1" strike="noStrike">
                <a:solidFill>
                  <a:srgbClr val="33ccff"/>
                </a:solidFill>
                <a:latin typeface="Impact"/>
              </a:rPr>
              <a:t>алкогол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0CA68-D5C7-4292-9E74-920C227978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A481-9587-42A1-85F1-15016129B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BD24-5021-480A-8FE1-E445EA13E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3A28A4-E8EE-4A12-9C17-472A89D9B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27E661-A2C5-4306-AB35-8DC9EC45C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A5D1F5-162B-4435-A814-5734E59BA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B08D5D-14A7-4811-A0F5-FC6EEFF8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8F8C4B-D2B8-4282-91EE-3EAA4124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33C698-E823-461B-8995-5F570F39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B058DE-47C3-412E-B1F4-A91F5389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C77A56-30AC-48F4-8678-F68DD08B8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968246-56F9-4D22-8BE1-B5389509D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82874B-3B15-4619-A2E6-58492CEC8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319D-42C0-4E0B-BCF3-79DD0F419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DF661A-8E8E-4400-88BD-29CABD649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89B86C-3028-4BA9-999B-A1D497424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D97725-224E-4617-86D9-862CD70E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6549D7-74EE-4668-9C27-4CC880BD0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A16CCB-4F02-44DD-9325-47B195ADB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544C05-1AC6-4A78-AED6-63A39429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16EFE6-9BB1-4AE3-B5DD-66A6D899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2679C4-5CBD-4E72-BC8A-05127C5F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382AB3-5009-43EF-A6E9-493A6773E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9E576F-E00D-4F51-A94C-21BF1981A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252D-E4EC-4E7F-816A-5A865927D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3C7C22-E271-4173-934E-5CEB48939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376EDE-298D-47D0-9CAA-6926014D7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BEA7E6-4B39-4FBA-BE63-08A4C2A5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D3C632-AF9C-4091-8F88-4A7A54284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2F64D1-9404-4208-A8E7-5C266CB90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F729E9-BF14-465E-BB4A-D7FBFB0E2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161A9A-1DCA-4016-94F0-89E596020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50120A-EB8D-4EC2-8F5C-3DD2DB97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AFA7F3-E0D4-4627-9023-DFFB72EE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63A0B9-98D9-4CB7-9C33-6941264E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2A864-A902-40C8-AD22-A76F99699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CC94B6-C072-4DC1-A9D0-2C396263A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C758EB-D45F-4C2D-9C40-876CC7F9D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F0D87C-380A-44E1-87C0-B90D18B27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8F8632-2F99-4CCB-B9D1-949B5A7A2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F6FA71-40B8-4D77-B004-2F28BA29D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557AB7-ECC4-416A-9A49-545252F68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A2057E-B86D-4A65-90ED-05B1CA189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8A105E-7C4D-414C-84C2-C0B8E01B0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52F91B-07BB-4498-B965-C98F5683E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9081D0-32BC-4559-9512-26AF2D56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9ACB4-3E5C-4A3B-B8B5-7D1F9B2E1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76DDF1-1745-4F02-B207-2E673868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D45667-A818-4AB1-9266-D97EE17E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AF4066-912F-42EF-8779-5940E6E52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83861B-7C61-4F47-A65D-540452AC1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19DC17-2233-4BFF-848B-DAF615165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59B265-32A3-48B1-98C1-584218216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E1505C-3DA0-41B7-9C43-7FFFCC14C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297A7B-19F0-4448-8AFB-C80D220DC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7CA068-B52C-4871-84B7-FA8780C05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9F6472-409B-4D94-AB3B-CC8A4F657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D32E6-12C7-4564-8615-85A6E3247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4D6841-12E5-490C-ACF0-430C486AB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0DD112-0C00-47AC-9FAA-8AF5AC9B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15F5F4-E54C-4597-B6DD-D31728B5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115B81-7CE6-4B5D-9BCC-81229C0E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F1B5FF-3B63-420C-BE74-A8746D73B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F02C0E-EC8A-4F91-9A33-2332B1681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613587-F237-4363-B9E0-1D10152DA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BDFE1-ECF4-42DC-A117-2C603DCF5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8C55A-81E8-450D-9102-6E8DD5C0E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DF92F-5227-4BF1-9B65-205CE1D6C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D538D-8697-4C85-BAC9-73F6B7C6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86AA-32A6-4E34-BA03-9C0778C2F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0C752-D936-493D-816E-23F076D8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47190-4A7A-4EC8-ABF9-BB736F09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6084F-22BF-4FF3-A173-ED0AD11F6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B0383-3C45-4511-97B4-10E57422E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A0FF7-E1BA-462F-A9C7-A56925E5B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B2077-8F49-4060-8207-93B878799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EE2BD-4A9D-41B8-AF89-ABD5D02EC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DB532-99FA-4609-92E1-1A88AD251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4C387-5C13-40C5-BD0E-570F81F6A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41904-79B7-4CFE-8649-9A2EF3612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37D6-6188-4ABB-AA08-A69C19A08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249B3-D992-4B86-A629-CCDFEA218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4B10B-98DD-4A87-8250-015ABA54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1BB86-BBCD-4281-ACEE-0C3D405B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AB9C7-3C4C-425E-8F3C-86D98008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F0CDD-C9C3-4469-ACA1-706CB8AD5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D7F25-C057-4AED-8305-BECCD1AA2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5A9FA-BF17-4D7F-A4E7-BB6FC717D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C6F91-97FF-40D8-9E58-92BF07CD7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22DAC-26AF-4B9E-9240-55E108A67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C7DC0-56CC-4E36-B24F-6AC3E37BF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069C-371E-45A9-A788-6F1AE6223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29F2B-EEFA-49A7-B849-E4EF3BB49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1ACB6-1949-43A0-95A4-E6017908D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5977E-469C-4D62-8C19-CF261F633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4BAB3-5C25-4F93-9646-ECCDBA4C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C7B88-345B-472E-BA69-DF2528C6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EEB6B-99F2-4024-AB30-5BBC9D4F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606CD-BBD9-4B44-A76D-38B502A77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79B15-6EF4-4705-9F04-14945368C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7C2E1-A71D-4F3D-8105-BAEC46838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FD2EC-CA2F-4CBE-A3F2-EF87605D5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AAAE-2847-4B6B-8266-0DBF7BF6E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57C38-8835-4EA6-8D3E-686302005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F8DA4-8A20-4FF2-90ED-E8AFC78C5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87849-E67E-4796-84F0-DB600FDD7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8DA54-148A-46DB-8700-0CF3A1FA4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B1371-2D69-4650-9600-207451B5B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39E95-8014-4292-A51C-96D36BF9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AFDB0-A1B5-4CEA-867C-0F676FC7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26143-2FE8-404C-A1EA-7CDF337E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05A88-0D6F-473B-A225-ECB98A305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AD2FB-2B75-4264-A63D-17B0A46CD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2087-4618-446C-A8EF-BC9EFA925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EEFA2-7545-46C8-A78F-BA8902A5C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5F9168-9BA4-49E1-BFA8-D65C4B284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D5C4F-802B-4282-85AE-96AAB1EC0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8C33C-7208-4AD6-9172-B4AACD509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D1567-8612-416B-A691-CF58B7A23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C004CA-4502-4DC1-87D6-FBB7BD900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A16F53-9D1D-492A-92C2-E99D39F64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8E7DE-EA53-4970-9C1A-DCD4FDE9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07A13-BFD9-43BA-B753-BB3BBEEE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538432-55EC-4242-B448-FCAD466B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49E8-43DD-46C3-8271-2EB6A123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DC3ED-0BB5-4BDD-8214-D09A7E422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596660-7D8C-45B0-A0CB-4779FFACC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0B917-65AC-4197-AB4E-F80D548FE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841B6-0D8F-40D6-ADB3-A74C53CF4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EAF1FA-B080-4E57-B0A1-1800CB1C9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86DC0-CB3C-4EBB-94D1-087F410E4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3D175-45BA-404F-89D7-FBFC0D2D5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D5955-0CBA-42A0-AF14-654E0697E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12F624-8C45-4F1F-9593-49038C930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07A021-1904-46F5-9B40-AE7CA208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325D-0471-4D2E-8AD0-68E91C90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725AC-BDCD-498A-9549-0C70B815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985F52-535A-4DC6-BCF4-054D9A05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8DDC2-F82F-4E79-9D9A-D75969934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C6D4A-4339-4C1C-A7B0-3C7FEAC3B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D0C5CC-5D42-4BF6-8692-6E545F320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A18111-4F01-4575-B19B-622CB4B29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E07ABD-6006-4BE0-84B8-2D96452F2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0A86EF-9ABB-45E3-8993-F7B24BE81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407593-FC91-4C60-830B-B49634B06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453E7B-B78D-48FD-90FE-3767A26A9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C4A3-FA4E-410C-A63F-74FB7325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4AEF40-39BC-44AA-BC54-B13E3047C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DDB3C9-D6C0-4AF3-A5B6-ABCD1439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9C9D47-88AC-44F5-8D68-AE765D57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2CD99F-0549-456F-924B-166ADB8D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2705F5-A6D2-414F-A081-312FAC6A3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DEB380-43A6-43AC-A77C-9E62C00DC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C8044C-CB44-4EA7-B8CC-50E503710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76B491-FB05-423F-AD24-FD25A9CDC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C1696C-737B-48D0-930A-A436BBE3C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72D1D6-86CE-4345-9F13-651377DC2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B8E7F-96F8-4643-8189-0F1CEED3404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25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9D95A-C9F5-4587-BDE9-018FDED90DB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72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6217B-2930-4CF1-9566-5637F773AF7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519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253EC-4C47-47C7-A838-1E66E11280F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566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BA359-BB67-4EC3-848D-1E77BABC7F0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27B8F-3D13-4FEB-BD34-15D1AB17C61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96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14856-526D-46BC-A57C-EB06D25C333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43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3D87C-6055-4C5F-85B7-8C0F3B50F00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90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30A61-DB52-4B3C-A543-C393A906BAB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37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1BCA1-57FB-497D-B2B7-C132B6DCD67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84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2AA82-739E-4E62-BF32-D8FC1A9878F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3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F60E8-103D-4B3D-8621-403CECF0136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78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68B28-9D86-4C9B-85C0-BAFCACA5BB8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ne-kurim.ru/photogallery/zdorovie/legkie_kurilshhika1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ne-kurim.ru/photogallery/zdorovie/legkie_nekurjashhego/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ne-kurim.ru/photogallery/zdorovie/119066425546f8183fa54d8/" TargetMode="External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WordArt 5"/>
          <p:cNvSpPr txBox="1"/>
          <p:nvPr/>
        </p:nvSpPr>
        <p:spPr>
          <a:xfrm>
            <a:off x="380880" y="2057400"/>
            <a:ext cx="83059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000099"/>
                </a:solidFill>
                <a:latin typeface="Georgia"/>
              </a:rPr>
              <a:t>ВРЕДНЫЕ ПРИВЫЧКИ</a:t>
            </a:r>
            <a:endParaRPr b="1" i="1" lang="en-US" sz="4000" spc="1" strike="noStrike">
              <a:ln w="9360">
                <a:solidFill>
                  <a:srgbClr val="0066ff"/>
                </a:solidFill>
                <a:miter/>
              </a:ln>
              <a:solidFill>
                <a:srgbClr val="000099"/>
              </a:solidFill>
              <a:latin typeface="Georgia"/>
              <a:ea typeface="Georgia"/>
            </a:endParaRPr>
          </a:p>
        </p:txBody>
      </p:sp>
      <p:pic>
        <p:nvPicPr>
          <p:cNvPr id="620" name="Picture 11" descr="shkolniki_kurieniie"/>
          <p:cNvPicPr/>
          <p:nvPr/>
        </p:nvPicPr>
        <p:blipFill>
          <a:blip r:embed="rId1"/>
          <a:stretch/>
        </p:blipFill>
        <p:spPr>
          <a:xfrm>
            <a:off x="2819520" y="3124080"/>
            <a:ext cx="3504960" cy="259092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12" descr="о вредных привычках&#10;детей, советы детских психологов"/>
          <p:cNvPicPr/>
          <p:nvPr/>
        </p:nvPicPr>
        <p:blipFill>
          <a:blip r:embed="rId2"/>
          <a:stretch/>
        </p:blipFill>
        <p:spPr>
          <a:xfrm>
            <a:off x="152280" y="40384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13" descr="вредные привычки у детей"/>
          <p:cNvPicPr/>
          <p:nvPr/>
        </p:nvPicPr>
        <p:blipFill>
          <a:blip r:embed="rId3"/>
          <a:stretch/>
        </p:blipFill>
        <p:spPr>
          <a:xfrm>
            <a:off x="6324480" y="3886200"/>
            <a:ext cx="2708280" cy="2971800"/>
          </a:xfrm>
          <a:prstGeom prst="rect">
            <a:avLst/>
          </a:prstGeom>
          <a:ln w="0">
            <a:noFill/>
          </a:ln>
        </p:spPr>
      </p:pic>
      <p:sp>
        <p:nvSpPr>
          <p:cNvPr id="623" name="Text Box 8"/>
          <p:cNvSpPr/>
          <p:nvPr/>
        </p:nvSpPr>
        <p:spPr>
          <a:xfrm>
            <a:off x="152280" y="76320"/>
            <a:ext cx="883944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Урок на тему: </a:t>
            </a:r>
            <a:r>
              <a:rPr b="1" lang="ru-RU" sz="8000" spc="-1" strike="noStrike">
                <a:solidFill>
                  <a:srgbClr val="0033cc"/>
                </a:solidFill>
                <a:latin typeface="Arial"/>
              </a:rPr>
              <a:t>Полезные 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66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Отличие алкоголизма как болезни от других заболеваний челове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 отличие от других заболеваний  человека, где он болеет и стремится вылечиться и осознает свою болезнь, то больные, страдающие алкогольной или наркотической зависимостью часто не осознают свою болезнь и лечиться категорически отказываютс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Мифы об алкоголе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ф 1. С помощью алкоголя можно быстро согреть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ф 2. Алкоголь усиливает аппети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ф 3. Алкоголь снимает стрес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ф 4. Алкоголь повышает работоспособн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ф 5. Алкоголь понижает артериальное давл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ф 6. Качественный алкоголь вреда не наноси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ф 7. Алкоголь — лекарство от простуды. Многие лечатся от простуды водкой — с яблоками, с медом, с чем-нибудь ещ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ф 8. Пиво — это не алкоголь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ф 9. Алкоголь не калорие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ф 10. Надо не запивать, а закусывать. Большинство из нас уверены, что крепкие напитки нужно непременно закусы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Picture 4" descr="29156"/>
          <p:cNvPicPr/>
          <p:nvPr/>
        </p:nvPicPr>
        <p:blipFill>
          <a:blip r:embed="rId1"/>
          <a:stretch/>
        </p:blipFill>
        <p:spPr>
          <a:xfrm>
            <a:off x="4281480" y="0"/>
            <a:ext cx="4862520" cy="3446640"/>
          </a:xfrm>
          <a:prstGeom prst="rect">
            <a:avLst/>
          </a:prstGeom>
          <a:ln w="0">
            <a:noFill/>
          </a:ln>
        </p:spPr>
      </p:pic>
      <p:sp>
        <p:nvSpPr>
          <p:cNvPr id="659" name="Text Box 5"/>
          <p:cNvSpPr/>
          <p:nvPr/>
        </p:nvSpPr>
        <p:spPr>
          <a:xfrm>
            <a:off x="0" y="228600"/>
            <a:ext cx="4191120" cy="1739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Как влияет алкоголизм </a:t>
            </a:r>
            <a:br>
              <a:rPr sz="3600"/>
            </a:b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на жизн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6"/>
          <p:cNvSpPr/>
          <p:nvPr/>
        </p:nvSpPr>
        <p:spPr>
          <a:xfrm>
            <a:off x="152280" y="2209680"/>
            <a:ext cx="388620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алкоголизацией связано 50% дорожно-транспортных происшествий, 50% убийств, 25% самоубийств, до 50% семей распадается на почве злоупотребления алкоголем одним из супруг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7"/>
          <p:cNvSpPr/>
          <p:nvPr/>
        </p:nvSpPr>
        <p:spPr>
          <a:xfrm>
            <a:off x="3809880" y="3581280"/>
            <a:ext cx="5334120" cy="28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результате цирроза печени и целого букета других заболеваний, связанных с употреблением алкоголя, средняя продолжительность жизни больных укорочена на 10 лет, по сравнению со здоровым население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WordArt 4"/>
          <p:cNvSpPr txBox="1"/>
          <p:nvPr/>
        </p:nvSpPr>
        <p:spPr>
          <a:xfrm>
            <a:off x="228600" y="304920"/>
            <a:ext cx="8686800" cy="579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аркомани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Мифы о наркотика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8394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жизни все надо попробовать, в том числе и нарко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ть люди, которые принимают наркотики много лет и прекрасно жив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егкие наркотики принимать можно, это безопас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ркотики делают людей свободн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ркотики часто принимают сильные и смелые лю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истые наркотики безвред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265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Влияние наркотиков на организм челове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ркотическая зависим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сутствие нравственных установ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рушение закона, влекущее уголовную ответств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сутствие нормальной семь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ловек в постоянном поиске психоактивных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тоянные материальные затруд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сутствие работы, постоянного заработ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ногочисленные болезни, вызванные разладом в работе орга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иск заболеть СПИД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нижение остроты зрения, слу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нний атеросклеро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нняя смер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Picture 4" descr="p22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ты любишь себя и ценишь свое здоровье, ты скажешь «нет» всему, что может принести тебе вр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Picture 8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6"/>
          <p:cNvSpPr/>
          <p:nvPr/>
        </p:nvSpPr>
        <p:spPr>
          <a:xfrm>
            <a:off x="380880" y="717120"/>
            <a:ext cx="8153640" cy="4968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Посейте поступок – и вы пожнете привычку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посейте привычку – и вы пожнете характер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посейте характер – и вы пожнете судьбу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У.Теккерей – англ. </a:t>
            </a:r>
            <a:r>
              <a:rPr b="1" i="1" lang="uk-UA" sz="3200" spc="-1" strike="noStrike">
                <a:solidFill>
                  <a:srgbClr val="000099"/>
                </a:solidFill>
                <a:latin typeface="Arial"/>
              </a:rPr>
              <a:t>п</a:t>
            </a: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иса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9"/>
          <p:cNvSpPr/>
          <p:nvPr/>
        </p:nvSpPr>
        <p:spPr>
          <a:xfrm>
            <a:off x="152280" y="109440"/>
            <a:ext cx="8839440" cy="6677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66ff"/>
                </a:solidFill>
                <a:latin typeface="Arial"/>
              </a:rPr>
              <a:t>Привычка</a:t>
            </a: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 – это поведение, ставшее для человека обычным, постоянным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66ff"/>
                </a:solidFill>
                <a:latin typeface="Arial"/>
              </a:rPr>
              <a:t>Игровое задание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83944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лабоволие, любовь к спорту, жажда наслаждений, благоразумие,  любопытство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клонность к подражанию, сила воли, неорганизованность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жадность, осторож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WordArt 8"/>
          <p:cNvSpPr txBox="1"/>
          <p:nvPr/>
        </p:nvSpPr>
        <p:spPr>
          <a:xfrm>
            <a:off x="228600" y="152280"/>
            <a:ext cx="8534520" cy="670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урени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Arial"/>
              </a:rPr>
              <a:t>Состав табачного дым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809880" cy="498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икот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гарный газ (С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нильная кисл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ксусная кисл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уравьиная кисл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сляная кисл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мми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ин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6"/>
          <p:cNvSpPr/>
          <p:nvPr/>
        </p:nvSpPr>
        <p:spPr>
          <a:xfrm>
            <a:off x="4267080" y="1676520"/>
            <a:ext cx="44197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ту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ышья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диоактивные вещества: полоний, висмут, кал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ен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ачный дёготь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Picture 2" descr="F:\курение\8d3d6e78190d.jpg"/>
          <p:cNvPicPr/>
          <p:nvPr/>
        </p:nvPicPr>
        <p:blipFill>
          <a:blip r:embed="rId1"/>
          <a:stretch/>
        </p:blipFill>
        <p:spPr>
          <a:xfrm>
            <a:off x="5715000" y="4191120"/>
            <a:ext cx="3429000" cy="2666880"/>
          </a:xfrm>
          <a:prstGeom prst="rect">
            <a:avLst/>
          </a:prstGeom>
          <a:ln w="0">
            <a:noFill/>
          </a:ln>
        </p:spPr>
      </p:pic>
      <p:sp>
        <p:nvSpPr>
          <p:cNvPr id="6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Мифы о курен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53341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урят в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Все взрослые куря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 Бросить курить лег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.Курение – безвредное заня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.Курение опасно только тому, кто кур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.Курение помогает оставаться строй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Picture 7" descr="j0301252"/>
          <p:cNvPicPr/>
          <p:nvPr/>
        </p:nvPicPr>
        <p:blipFill>
          <a:blip r:embed="rId1"/>
          <a:stretch/>
        </p:blipFill>
        <p:spPr>
          <a:xfrm>
            <a:off x="4989600" y="1447920"/>
            <a:ext cx="4154400" cy="4343400"/>
          </a:xfrm>
          <a:prstGeom prst="rect">
            <a:avLst/>
          </a:prstGeom>
          <a:ln w="0">
            <a:noFill/>
          </a:ln>
        </p:spPr>
      </p:pic>
      <p:sp>
        <p:nvSpPr>
          <p:cNvPr id="6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зультаты влияния курения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 организ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Picture 3" descr="small_information_items_119179576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981080"/>
            <a:ext cx="2305080" cy="320040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4" descr="small_information_items_119179571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00400" y="1981080"/>
            <a:ext cx="2416320" cy="312444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5" descr="small_information_items_119066425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19920" y="1981080"/>
            <a:ext cx="2819160" cy="3124440"/>
          </a:xfrm>
          <a:prstGeom prst="rect">
            <a:avLst/>
          </a:prstGeom>
          <a:ln w="0">
            <a:noFill/>
          </a:ln>
        </p:spPr>
      </p:pic>
      <p:sp>
        <p:nvSpPr>
          <p:cNvPr id="6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WordArt 5"/>
          <p:cNvSpPr txBox="1"/>
          <p:nvPr/>
        </p:nvSpPr>
        <p:spPr>
          <a:xfrm>
            <a:off x="228600" y="152280"/>
            <a:ext cx="861048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ьянство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9" name="WordArt 6"/>
          <p:cNvSpPr txBox="1"/>
          <p:nvPr/>
        </p:nvSpPr>
        <p:spPr>
          <a:xfrm>
            <a:off x="3809880" y="3200400"/>
            <a:ext cx="762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0" name="WordArt 7"/>
          <p:cNvSpPr txBox="1"/>
          <p:nvPr/>
        </p:nvSpPr>
        <p:spPr>
          <a:xfrm>
            <a:off x="228600" y="4343400"/>
            <a:ext cx="86104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алкоголизм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5-12T09:31:47Z</dcterms:modified>
  <cp:revision>19</cp:revision>
  <dc:subject/>
  <dc:title>Урок на тему: Полезные 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