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F7A0-E8E7-445C-A729-066673CDE6F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Родительское собр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Подросток в мире вредных привыч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35DF-74B5-4A75-AE06-AB43C56F8D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4f81bd"/>
                </a:solidFill>
                <a:latin typeface="Calibri"/>
              </a:rPr>
              <a:t>Принципы поддержки подростк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ерп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ак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Делика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очное использование слова как важного инструмента в отно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D019-26D1-43EC-B043-A5FF005B1A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81bd"/>
                </a:solidFill>
                <a:latin typeface="Calibri"/>
              </a:rPr>
              <a:t>Принципы поддержки подрост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Умение поставить себя на место ребё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Гибкая система контроля, не довлеющая над сознанием ребёнка, а поддерживающая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знакомление подростка с научными фактами и сведениями о вреде наркотиков, курения и 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C24B-D009-4DFE-8C7D-891DB11D1F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Всякий порок есть следствие праздности.</a:t>
            </a:r>
            <a:br>
              <a:rPr sz="1200"/>
            </a:b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           П.Кур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E93F-0709-4BFC-AAF6-340223D0AD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Опасность, которую таят наркоти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ркотик – это средство, которое постоянно увеличивает потребности его ис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вязанность к наркотику ведёт к быстрой деградации личности подростка, физической завис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ркомания ведёт к нравственной и интеллектуальной деград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11D5-AD24-4A4E-AAD4-23174ABDE7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чины начала употребления наркот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Бесплатное предложение попробовать наркот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 любопы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о незн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изкая самооценка подрос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тремление уйти от тоски и одино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EF0F-1A34-4F2A-92FF-5B44C221FD2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акторы, способствующие вовлечению подростков в наркоман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ожности во взаимоотношениях со старшими или отсутствие контроля со стороны р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EC73-ADB8-41AF-9616-1494090983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акторы, способствующие вовлечению подростков в наркоман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тдельные подростки стремятся выделиться в коллективе сверстников любой ценой – из-за того, что привыкли к повышенному вниманию в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8A37-29DB-473E-8B93-07165C5804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акторы, способствующие вовлечению подростков в наркоман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ередко используется сила принуждения, особенно к слабовольным, либо к подросткам, лишённым внимания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B2E1-1185-457A-A1F0-012E7DE22C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Признаки пристрастия ребёнка к наркотик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зкая смена друз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зкое ухудшение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менение пищев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учаи забывчивости, бессвязная р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зкие перемены настро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1419-65D7-4A94-B81A-8F3B67FE41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81bd"/>
                </a:solidFill>
                <a:latin typeface="Calibri"/>
              </a:rPr>
              <a:t>Признаки пристрастия ребёнка к наркотика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олная утрата прежни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незапное нарушение координации дви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Частое упоминание о наркотиках в шутках и разгово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 фоне полного здоровья – расширение зрачков, покраснение глаз, кашель, насморк, рв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B96E-2E73-453B-833F-65408680F1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Быть внимательным к ребёнку – это не значит пристально следить за каждым его шагом и подозревать во всём плохом.</a:t>
            </a:r>
            <a:br>
              <a:rPr sz="1200"/>
            </a:b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Это значит любить и поддерживать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61A4-1830-4097-8EF3-88855FF23A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45D8-5D67-4D90-B7C8-F826D837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002-7066-43F6-90DA-07F20101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5BC-872A-493E-9352-9C8CE05C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BEEF-DDB8-439C-BFA6-3D5710F0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DACD-38BD-4091-A04A-2BDCD8F9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2DC5-00E4-4D83-B67C-DAAAB730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FA29-7897-433B-B4EA-90FEC8A3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9A69-6480-4B77-8F2B-1F898FDE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F75B-8E9A-4EF7-8315-1BBAA6D2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B2A1-7748-4B61-8669-AAE167A6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5059-0B43-4754-9F2F-70A14535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AA11-5C55-4EC5-AB27-F2D3CB61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67B4-A595-4A13-925B-CFBCE659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D8F0-17FD-4522-870B-C955FD3E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13FB-7A10-44D9-BDF6-90122DA3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2149-FD0C-4FF0-B81C-457A16FE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9C16-756A-4A10-B1DC-BECA1A94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BC5-3FE9-4C0B-81CC-6D114609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3373-1EDC-40FF-8239-86B49783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915-DF9A-4BAA-B51B-6B01567C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D604-F757-4C91-9D61-FAA3EDB4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932-23B1-47A3-8189-14A7BBC6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378-C954-431A-AB65-10FD3037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26C-03AB-48E8-AC82-2B4903BB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18DE-B1A8-4472-B8B8-46DBB2256FA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9527-A078-4B43-9A8D-92B196CF464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Arial"/>
              </a:rPr>
              <a:t>Родительское собрание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32000" y="242064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«Подросток в мире вредных привычек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нципы поддержки подростк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ерп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Вним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ак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Делика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очное использование слова как важного инструмента в отношения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нципы поддержки подростк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Умение поставить себя на место ребё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Гибкая система контроля, не довлеющая над сознанием ребёнка, а поддерживающая е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Ознакомление подростка с научными фактами и сведениями о вреде наркотиков, курения и алкогол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99ff"/>
                </a:solidFill>
                <a:latin typeface="Arial"/>
              </a:rPr>
              <a:t>Всякий порок есть следствие праздности.</a:t>
            </a:r>
            <a:br>
              <a:rPr sz="7200"/>
            </a:br>
            <a:r>
              <a:rPr b="1" lang="ru-RU" sz="7200" spc="-1" strike="noStrike">
                <a:solidFill>
                  <a:srgbClr val="3399ff"/>
                </a:solidFill>
                <a:latin typeface="Arial"/>
              </a:rPr>
              <a:t>                П.Курье.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пасность, которую таят наркотик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Наркотик – это средство, которое постоянно увеличивает потребности его использов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Привязанность к наркотику ведёт к быстрой деградации личности подростка, физической зависим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Наркомания ведёт к нравственной и интеллектуальной деграда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ичины начала употребления наркотиков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Бесплатное предложение попробовать наркоти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Из любопыт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По незнанию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Низкая самооценка подрост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Стремление уйти от тоски и одиноче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акторы, способствующие вовлечению подростков в наркоманию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Сложности во взаимоотношениях со старшими или отсутствие контроля со стороны родителе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акторы, способствующие вовлечению подростков в наркоманию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Отдельные подростки стремятся выделиться в коллективе сверстников любой ценой – из-за того, что привыкли к повышенному вниманию в семь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акторы, способствующие вовлечению подростков в наркоманию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Нередко используется сила принуждения, особенно к слабовольным, либо к подросткам, лишённым внимания взрослых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знаки пристрастия ребёнка к наркотика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Резкая смена друз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Резкое ухудшение повед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Изменение пищевых привыче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Случаи забывчивости, бессвязная реч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Резкие перемены настро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Полная утрата прежних интерес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Внезапное нарушение координации движе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Частое упоминание о наркотиках в шутках и разговора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На фоне полного здоровья – расширение зрачков, покраснение глаз, кашель, насморк, рво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знаки пристрастия ребёнка к наркотика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99ff"/>
                </a:solidFill>
                <a:latin typeface="Arial"/>
              </a:rPr>
              <a:t>Быть внимательным к ребёнку – это не значит пристально следить за каждым его шагом и подозревать во всём плохом.</a:t>
            </a:r>
            <a:br>
              <a:rPr sz="4800"/>
            </a:br>
            <a:r>
              <a:rPr b="1" lang="ru-RU" sz="4800" spc="-1" strike="noStrike">
                <a:solidFill>
                  <a:srgbClr val="3399ff"/>
                </a:solidFill>
                <a:latin typeface="Arial"/>
              </a:rPr>
              <a:t>Это значит любить и поддерживать его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20:41:30Z</dcterms:created>
  <dc:creator>dom</dc:creator>
  <dc:description/>
  <dc:language>en-US</dc:language>
  <cp:lastModifiedBy>LEGION</cp:lastModifiedBy>
  <dcterms:modified xsi:type="dcterms:W3CDTF">2015-05-12T09:32:12Z</dcterms:modified>
  <cp:revision>5</cp:revision>
  <dc:subject/>
  <dc:title>«Подросток в мире вредных привычек»</dc:title>
</cp:coreProperties>
</file>