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6FC58-063D-4AA4-8450-D927CD758D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800080"/>
                </a:solidFill>
                <a:latin typeface="Calibri"/>
              </a:rPr>
              <a:t>Родительское собрание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«Подросток в мире вредных привыче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5F60A-5AA8-41AC-9BCE-78ED45A365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ерп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акт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Деликат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Точное использование слова как важного инструмента в отношен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8B5E-65F5-48FF-BC6E-9D0AECB18B3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нципы поддержки подростк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Умение поставить себя на место ребё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Гибкая система контроля, не довлеющая над сознанием ребёнка, а поддерживающая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E6CD6-C036-4AAB-9745-0C466213FA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Всякий порок есть следствие праздности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          П.Кур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3AA5-2E9D-47AE-B28B-89E01FC3662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ff"/>
                </a:solidFill>
                <a:latin typeface="Calibri"/>
              </a:rPr>
              <a:t>Опасность, которую таят наркотик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ркомания ведёт к нравственной и интеллектуальной деград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49CEC-2BB3-4791-8935-83535E2F822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ричины начала употребления наркотик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Бесплатное предложение попробовать наркоти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 любопыт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 незна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изкая самооценка подрост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тремление уйти от тоски и одино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E71DD-FE40-4BC2-AD9D-991A47ABEC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BE65A-842C-44AF-A91B-6F9B12174E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F8734-982C-46EC-9CAF-B8CFF7E4CC9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Факторы, способствующие вовлечению подростков в наркомани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E458-5299-4EC3-A66A-910487E989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ая смена друз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ое ухудшение пове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Изменение пищевых привыч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лучаи забывчивости, бессвязная реч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зкие перемены настро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AFED9-6757-427F-B560-0018655DA81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f81bd"/>
                </a:solidFill>
                <a:latin typeface="Calibri"/>
              </a:rPr>
              <a:t>Признаки пристрастия ребёнка к наркотика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Полная утрата прежних интере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незапное нарушение координации дви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Частое упоминание о наркотиках в шутках и разгов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4DEF-ACF8-4FEB-8B8C-052C429059A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1200"/>
            </a:b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Это значит любить и поддерживать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03B7-FB39-49CF-8DCD-E6DAFB86C7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2D6-CDD8-4781-9CC3-B678C25B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3179-32C9-4B1D-A50B-092B08A58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2BB1-EF23-4589-A9C6-94208BE44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45CC-9A2B-4D9D-A81D-F6FF624D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1CC0-8690-4B4A-AF75-6C9176C52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4CE7-0F52-4FDB-B999-2039530C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4C267-9613-4AA3-B47A-12B10EF8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E906-F8D9-4096-A770-3C88B3BCC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61D2C-9B8F-4DC1-9D03-D2A391FE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F2583-3323-4996-A9AC-F80332E61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CF37-BDC4-4E4D-B3CE-70DE199EE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9C4C-0FF7-4E33-A7CA-4EE59DDB0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C2AA-4D7A-457B-AE3B-276B071B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40A3B-92E1-4925-BEDA-1D93DADCA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B5699-533F-4059-B445-6B5C82E0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F7C4-CA22-4558-9855-40587BAE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9DC7B-7C6C-4D11-9F71-75BE0320C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DCA-5100-4FF4-87CD-9B2BF2A1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AF97-8382-4454-A221-6AB7ECE3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89FF-902A-4080-A27C-EF968625C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C9E8-D307-4C72-A565-8FDABB24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F2B9-D8AE-486D-A36F-D6963F59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A6D4-92F0-49E7-B794-8B0CA7819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C2E6-1E76-4395-A6DA-739FF5BA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8CE42-8B80-46BC-B767-882DADCCE35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AF3F-BC16-43CA-A651-5CB3DE30A9B6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cc66"/>
                </a:solidFill>
                <a:latin typeface="Arial"/>
              </a:rPr>
              <a:t>Родительское собрание</a:t>
            </a:r>
            <a:endParaRPr b="0" lang="en-US" sz="5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332000" y="242064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6000" spc="-1" strike="noStrike">
                <a:solidFill>
                  <a:srgbClr val="ffffcc"/>
                </a:solidFill>
                <a:latin typeface="Arial"/>
              </a:rPr>
              <a:t>«Подросток в мире вредных привычек»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ерпе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Вним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актич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Деликат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Точное использование слова как важного инструмента в отношения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нципы поддержки подростка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Умение поставить себя на место ребёнк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Гибкая система контроля, не довлеющая над сознанием ребёнка, а поддерживающая его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Ознакомление подростка с научными фактами и сведениями о вреде наркотиков, курения и алкогол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280" y="277920"/>
            <a:ext cx="814716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Всякий порок есть следствие праздности.</a:t>
            </a:r>
            <a:br>
              <a:rPr sz="7200"/>
            </a:br>
            <a:r>
              <a:rPr b="1" lang="ru-RU" sz="7200" spc="-1" strike="noStrike">
                <a:solidFill>
                  <a:srgbClr val="3399ff"/>
                </a:solidFill>
                <a:latin typeface="Arial"/>
              </a:rPr>
              <a:t>                П.Курье.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47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Опасность, которую таят наркотики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тик – это средство, которое постоянно увеличивает потребности его использования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ривязанность к наркотику ведёт к быстрой деградации личности подростка, физической зависимост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ркомания ведёт к нравственной и интеллектуальной деградации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ичины начала употребления наркотиков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1700280"/>
            <a:ext cx="91440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Бесплатное предложение попробовать наркоти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 любопыт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По незнани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Низкая самооценка подростк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тремление уйти от тоски и одиночеств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Сложности во взаимоотношениях со старшими или отсутствие контроля со стороны родителей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0" y="2276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Отдельные подростки стремятся выделиться в коллективе сверстников любой ценой – из-за того, что привыкли к повышенному вниманию в семье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7510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Arial"/>
              </a:rPr>
              <a:t>Факторы, способствующие вовлечению подростков в наркоманию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cc66"/>
                </a:solidFill>
                <a:latin typeface="Arial"/>
              </a:rPr>
              <a:t>Нередко используется сила принуждения, особенно к слабовольным, либо к подросткам, лишённым внимания взрослы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ая смена друз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ое ухудшение повед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Изменение пищевых привычек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Случаи забывчивости, бессвязная речь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66"/>
                </a:solidFill>
                <a:latin typeface="Arial"/>
              </a:rPr>
              <a:t>Резкие перемены настроения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Полная утрата прежних интерес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Внезапное нарушение координации движений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Частое упоминание о наркотиках в шутках и разговорах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cc66"/>
                </a:solidFill>
                <a:latin typeface="Arial"/>
              </a:rPr>
              <a:t>На фоне полного здоровья – расширение зрачков, покраснение глаз, кашель, насморк, рвота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0" y="277920"/>
            <a:ext cx="91440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Признаки пристрастия ребёнка к наркотикам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95280" y="277920"/>
            <a:ext cx="8291520" cy="603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Быть внимательным к ребёнку – это не значит пристально следить за каждым его шагом и подозревать во всём плохом.</a:t>
            </a:r>
            <a:br>
              <a:rPr sz="4800"/>
            </a:br>
            <a:r>
              <a:rPr b="1" lang="ru-RU" sz="4800" spc="-1" strike="noStrike">
                <a:solidFill>
                  <a:srgbClr val="3399ff"/>
                </a:solidFill>
                <a:latin typeface="Arial"/>
              </a:rPr>
              <a:t>Это значит любить и поддерживать его.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3T20:41:30Z</dcterms:created>
  <dc:creator>dom</dc:creator>
  <dc:description/>
  <dc:language>en-US</dc:language>
  <cp:lastModifiedBy>LEGION</cp:lastModifiedBy>
  <dcterms:modified xsi:type="dcterms:W3CDTF">2015-05-12T09:32:12Z</dcterms:modified>
  <cp:revision>5</cp:revision>
  <dc:subject/>
  <dc:title>«Подросток в мире вредных привычек»</dc:title>
</cp:coreProperties>
</file>