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.wmf" ContentType="image/x-wmf"/>
  <Override PartName="/ppt/media/image2.wmf" ContentType="image/x-wmf"/>
  <Override PartName="/ppt/media/image3.gif" ContentType="image/gif"/>
  <Override PartName="/ppt/media/image11.wmf" ContentType="image/x-wmf"/>
  <Override PartName="/ppt/media/image4.gif" ContentType="image/gif"/>
  <Override PartName="/ppt/media/image7.wmf" ContentType="image/x-wmf"/>
  <Override PartName="/ppt/media/image6.gif" ContentType="image/gif"/>
  <Override PartName="/ppt/media/image12.gif" ContentType="image/gif"/>
  <Override PartName="/ppt/media/image15.png" ContentType="image/png"/>
  <Override PartName="/ppt/media/image9.wmf" ContentType="image/x-wmf"/>
  <Override PartName="/ppt/media/image14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423F-3299-4202-B114-008CBF5D73F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Проек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Информационное обще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C5BC-692D-46FE-9D93-D5E0F30B16D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ополагающий вопрос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ффективно организовать индивидуальное информационное пространство учени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E0FB-8B84-4E5A-99D2-332D0CE2FB1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облемные вопрос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уществуют закономерности и проблемы становления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звивается личности в информационном обществ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ерспективы развития информационных и коммуникационных технологий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9886-D150-44DD-BE6F-7E342426169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бные вопрос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критерии развитости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характеристики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информационные ресурсы совреме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Законодательство РФ осуществляет правовое регулирование проблем, связанных с информацией и компьютер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 этика в Интерн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DA1E-C93D-4590-89E2-36FEE35FB48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апы и сроки проведения  про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58C1-7CBC-4B3F-9653-265270095D9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апы и сроки проведения 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E54B-5425-4885-B35A-FDC3ED2703D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темы для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револю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развитости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асности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ресурсы совреме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личности в информационном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нет и автор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трина информационной безопасност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"О правой охране программ для электронно-вычислительных машин и баз данных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«Об информации, информатизации и защите информ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ый кодекс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"Об электронно-цифровой подпис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та информации от несанкционированного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7C34-2877-4E43-8A60-1B62CC66F1C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974-FD1B-4EBA-B947-729A6CF5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414-026A-4B13-AFAF-38A8E368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0B79-8070-4957-ABC9-963BFCE0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F77-282F-4082-8EF3-B60B346F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EF67-2491-4A75-8404-15FB1DD7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681A-93C4-4D23-9B7F-995340B4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7180-7E4B-44BF-9667-8BD63311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D95B-B338-435E-A502-36A85577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FA9D-F26E-4531-94BA-D85867B5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A618-7033-4F68-8F48-AB97C024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E48D-D738-4A3A-A830-E6655313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2ED-AAE7-419E-B351-6F11DAF3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DEAC-3FF8-4B1B-9A81-2E768069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278A-D4BB-458C-9231-109386AA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C44C-4CA4-47E1-A4EA-CFD6FD81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26E9-4BFA-4C09-A711-06C72AD5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7DBD-59CE-4A4B-97F8-84E52F19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C2C-47C0-4A59-BA1E-0F01A48B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68D-1029-4137-BF6B-20BF70EB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D31-3183-4AEB-9A77-3B60BB47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F41-C563-4502-89BA-1FEE0CF2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75A-27A3-4557-8187-F0BBC354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3DB-388E-4039-8CE6-CA34826F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73D-1C29-4A7F-9219-9341F826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884B-FE55-4121-94D8-65FD35FB53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56B9-B56B-417A-9FA1-B19980DD3A03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1844640"/>
            <a:ext cx="889308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Проект:</a:t>
            </a:r>
            <a:br>
              <a:rPr sz="4800"/>
            </a:b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«Информационное общество»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03280" y="189000"/>
            <a:ext cx="68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гимназия №15 города Костром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908000" y="60930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острома, 201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6" descr="MC900297565[1]"/>
          <p:cNvPicPr/>
          <p:nvPr/>
        </p:nvPicPr>
        <p:blipFill>
          <a:blip r:embed="rId1"/>
          <a:stretch/>
        </p:blipFill>
        <p:spPr>
          <a:xfrm>
            <a:off x="3132000" y="4005360"/>
            <a:ext cx="2808360" cy="1798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MC900326024[1]"/>
          <p:cNvPicPr/>
          <p:nvPr/>
        </p:nvPicPr>
        <p:blipFill>
          <a:blip r:embed="rId2"/>
          <a:stretch/>
        </p:blipFill>
        <p:spPr>
          <a:xfrm>
            <a:off x="611280" y="4005360"/>
            <a:ext cx="1152360" cy="1141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MM900236374[1]"/>
          <p:cNvPicPr/>
          <p:nvPr/>
        </p:nvPicPr>
        <p:blipFill>
          <a:blip r:embed="rId3"/>
          <a:stretch/>
        </p:blipFill>
        <p:spPr>
          <a:xfrm>
            <a:off x="6877080" y="3860640"/>
            <a:ext cx="1512720" cy="14274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Основополагающий вопрос</a:t>
            </a:r>
            <a:br>
              <a:rPr sz="40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Как эффективно организовать индивидуальное информационное пространство ученика?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6" descr="MM900254500[1]"/>
          <p:cNvPicPr/>
          <p:nvPr/>
        </p:nvPicPr>
        <p:blipFill>
          <a:blip r:embed="rId1"/>
          <a:stretch/>
        </p:blipFill>
        <p:spPr>
          <a:xfrm>
            <a:off x="3203640" y="37893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Проблемные вопросы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е существуют закономерности и проблемы становления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развивается личности в информационном обществе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перспективы развития информационных и коммуникационных технологий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4" descr="MC900437631[1]"/>
          <p:cNvPicPr/>
          <p:nvPr/>
        </p:nvPicPr>
        <p:blipFill>
          <a:blip r:embed="rId1"/>
          <a:stretch/>
        </p:blipFill>
        <p:spPr>
          <a:xfrm>
            <a:off x="6386400" y="2060640"/>
            <a:ext cx="2757600" cy="27576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Учебные вопросы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основные критерии развитости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характеристики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информационные ресурсы совреме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е Законодательство РФ осуществляет правовое регулирование проблем, связанных с информацией и компьютерами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аво и этика в Интернете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4" descr="MM900254490[1]"/>
          <p:cNvPicPr/>
          <p:nvPr/>
        </p:nvPicPr>
        <p:blipFill>
          <a:blip r:embed="rId1"/>
          <a:stretch/>
        </p:blipFill>
        <p:spPr>
          <a:xfrm>
            <a:off x="7380360" y="5445000"/>
            <a:ext cx="838080" cy="119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j0300840"/>
          <p:cNvPicPr/>
          <p:nvPr/>
        </p:nvPicPr>
        <p:blipFill>
          <a:blip r:embed="rId2"/>
          <a:stretch/>
        </p:blipFill>
        <p:spPr>
          <a:xfrm>
            <a:off x="7667640" y="3429000"/>
            <a:ext cx="1152360" cy="97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MC900438634[1]"/>
          <p:cNvPicPr/>
          <p:nvPr/>
        </p:nvPicPr>
        <p:blipFill>
          <a:blip r:embed="rId3"/>
          <a:stretch/>
        </p:blipFill>
        <p:spPr>
          <a:xfrm>
            <a:off x="6664320" y="1700280"/>
            <a:ext cx="2479680" cy="10414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Этапы и сроки проведения  проект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79280" y="1341360"/>
          <a:ext cx="8785440" cy="5146920"/>
        </p:xfrm>
        <a:graphic>
          <a:graphicData uri="http://schemas.openxmlformats.org/drawingml/2006/table">
            <a:tbl>
              <a:tblPr/>
              <a:tblGrid>
                <a:gridCol w="1293840"/>
                <a:gridCol w="5688000"/>
                <a:gridCol w="1803600"/>
              </a:tblGrid>
              <a:tr h="73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этап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я или с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ние тем исследований учеников (постановка основного проблемного вопроса и «мозговой штурм» учащихся)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групп для проведения исследований, выдвижение гипотез решения проблем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творческого названия проекта (учитель совместно с учащимися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я плана работы учащихся в группе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е со школьниками возможных источников информации, вопросов защиты авторских пра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Control 4"/>
          <p:cNvSpPr/>
          <p:nvPr/>
        </p:nvSpPr>
        <p:spPr>
          <a:xfrm>
            <a:off x="2322360" y="-541440"/>
            <a:ext cx="5616720" cy="64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Этапы и сроки проведения 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1413000"/>
          <a:ext cx="8964720" cy="4557600"/>
        </p:xfrm>
        <a:graphic>
          <a:graphicData uri="http://schemas.openxmlformats.org/drawingml/2006/table">
            <a:tbl>
              <a:tblPr/>
              <a:tblGrid>
                <a:gridCol w="1320840"/>
                <a:gridCol w="5803920"/>
                <a:gridCol w="183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3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стоятельная работа учащихся по обсуждению задания каждого в группе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1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3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стоятельная работа групп по выполнению заданий (работа с Интернет-ресурсами и электронными энциклопедиями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3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4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одготовка школьниками результатов исследований в виде электронных документо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4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5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ндивидуальные консультации групп с преподавателем (предзащита  проекта-исследования), анализ предварительных результатов исследований, корректирование проектов групп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4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6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ащита результатов и выводо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3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6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ыполнение контрольного теста по теме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1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Control 4"/>
          <p:cNvSpPr/>
          <p:nvPr/>
        </p:nvSpPr>
        <p:spPr>
          <a:xfrm>
            <a:off x="2322360" y="-541440"/>
            <a:ext cx="5616720" cy="64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имерные темы для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формационные револю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Критерии развитости информацио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Опасности информацио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формационные ресурсы совреме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азвитие личности в информационном обществ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тернет и авторское прав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Доктрина информационной безопасности Российской Федер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"О правой охране программ для электронно-вычислительных машин и баз данных"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«Об информации, информатизации и защите информации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Уголовный кодекс Российской Федер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"Об электронно-цифровой подписи"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щита информации от несанкционированного доступ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5" descr="MC900333398[1]"/>
          <p:cNvPicPr/>
          <p:nvPr/>
        </p:nvPicPr>
        <p:blipFill>
          <a:blip r:embed="rId1"/>
          <a:stretch/>
        </p:blipFill>
        <p:spPr>
          <a:xfrm>
            <a:off x="7596360" y="1844640"/>
            <a:ext cx="1037880" cy="1866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MP900408864[1]"/>
          <p:cNvPicPr/>
          <p:nvPr/>
        </p:nvPicPr>
        <p:blipFill>
          <a:blip r:embed="rId2"/>
          <a:stretch/>
        </p:blipFill>
        <p:spPr>
          <a:xfrm>
            <a:off x="7667640" y="4797360"/>
            <a:ext cx="1312920" cy="1312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MC900071191[1]"/>
          <p:cNvPicPr/>
          <p:nvPr/>
        </p:nvPicPr>
        <p:blipFill>
          <a:blip r:embed="rId3"/>
          <a:stretch/>
        </p:blipFill>
        <p:spPr>
          <a:xfrm>
            <a:off x="7451640" y="189000"/>
            <a:ext cx="1530360" cy="1643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MM900284137[1]"/>
          <p:cNvPicPr/>
          <p:nvPr/>
        </p:nvPicPr>
        <p:blipFill>
          <a:blip r:embed="rId4"/>
          <a:stretch/>
        </p:blipFill>
        <p:spPr>
          <a:xfrm>
            <a:off x="0" y="0"/>
            <a:ext cx="1819440" cy="148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MM900234673[1]"/>
          <p:cNvPicPr/>
          <p:nvPr/>
        </p:nvPicPr>
        <p:blipFill>
          <a:blip r:embed="rId5"/>
          <a:stretch/>
        </p:blipFill>
        <p:spPr>
          <a:xfrm>
            <a:off x="324000" y="595800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468360" y="1268280"/>
            <a:ext cx="8207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Times New Roman"/>
              </a:rPr>
              <a:t>"Дорогу осилит идущий"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Times New Roman"/>
              </a:rPr>
              <a:t>Удачи!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017520" cy="3202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6372360" y="3141720"/>
            <a:ext cx="2116080" cy="3240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8:18:57Z</dcterms:created>
  <dc:creator>Ирина</dc:creator>
  <dc:description/>
  <dc:language>en-US</dc:language>
  <cp:lastModifiedBy>LEGION</cp:lastModifiedBy>
  <dcterms:modified xsi:type="dcterms:W3CDTF">2015-07-01T12:06:47Z</dcterms:modified>
  <cp:revision>6</cp:revision>
  <dc:subject/>
  <dc:title>Информационное общество</dc:title>
</cp:coreProperties>
</file>