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.wmf" ContentType="image/x-wmf"/>
  <Override PartName="/ppt/media/image2.wmf" ContentType="image/x-wmf"/>
  <Override PartName="/ppt/media/image3.gif" ContentType="image/gif"/>
  <Override PartName="/ppt/media/image11.wmf" ContentType="image/x-wmf"/>
  <Override PartName="/ppt/media/image4.gif" ContentType="image/gif"/>
  <Override PartName="/ppt/media/image7.wmf" ContentType="image/x-wmf"/>
  <Override PartName="/ppt/media/image6.gif" ContentType="image/gif"/>
  <Override PartName="/ppt/media/image12.gif" ContentType="image/gif"/>
  <Override PartName="/ppt/media/image15.png" ContentType="image/png"/>
  <Override PartName="/ppt/media/image9.wmf" ContentType="image/x-wmf"/>
  <Override PartName="/ppt/media/image14.png" ContentType="image/pn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2E01-4D57-4611-B6A1-9D529B6E4A4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Проект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«Информационное обществ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A5A7-5D17-4AAA-A8EE-E63019FEB305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новополагающий вопрос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эффективно организовать индивидуальное информационное пространство ученик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2A68-F958-4EBE-B606-4585F73F24D1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роблемные вопросы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существуют закономерности и проблемы становления информационного обществ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развивается личности в информационном обществ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перспективы развития информационных и коммуникационных технологий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DAA9-A54B-45E4-97ED-FFF66AA922E2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Учебные вопросы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основные критерии развитости информационного обществ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характеристики информационного обществ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информационные ресурсы современного обществ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е Законодательство РФ осуществляет правовое регулирование проблем, связанных с информацией и компьютерам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и этика в Интерне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060E-A428-45CE-9CB7-0C88A8926ED3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тапы и сроки проведения  проек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FB9D-747F-4E9D-971E-8937526CD018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тапы и сроки проведения 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08F7-444F-4270-A4FB-48847BBFE2CC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ые темы для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ые револю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терии развитости информационного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асности информационного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ые ресурсы современного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е личности в информационном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рнет и автор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трина информационной безопасности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"О правой охране программ для электронно-вычислительных машин и баз данных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«Об информации, информатизации и защите информац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головный кодекс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"Об электронно-цифровой подпис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щита информации от несанкционированного дост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5B21-81D1-4F3A-A227-AD478C638095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0B00-8FBB-47D6-A53E-C9559CE40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00D8-3BE3-4B86-920B-F7A39CE5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C01B-2B80-46A8-9BEB-4770C66B0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F46E-B43B-48CE-AA71-E6A47B03F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5135-ABA7-492F-8E97-1D076C811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1602-9790-41C6-A9D4-F407E334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60B3-9CB4-4524-89A8-9A4870F2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EC3A-E58E-4511-BC02-3DD1EC38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5DBC-637C-4ABB-A5C1-48C0B3DD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160E-708C-4A61-AB50-EF27E818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4603-98F2-40E8-9875-B6B3D5D2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293E-D251-445E-9E83-8564F405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9F4C-288E-48A2-9F4A-93AA118E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2813-AB45-4D7F-A829-C66FD94C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3A31-3CC7-408D-BB77-0DFA75B1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4C2A-390C-4BE9-9A67-BFF2E63B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2984-9444-4F00-AFFC-6507F06E7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127A-1E75-4D87-90F2-25099E6F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B064-6537-489C-B72D-989D132A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7215-9D1C-47CE-9710-B35B927B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928B-8672-48D4-BEEE-6A2EAF73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4F56-6EBB-49F6-884B-DFFD038C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D28F-FB95-4F47-AA87-58D02220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6764-79F2-4A67-9528-848ED70B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B945-E299-45FF-B785-7CD1256B58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000"/>
              <a:ext cx="3622680" cy="6129000"/>
              <a:chOff x="5407560" y="63000"/>
              <a:chExt cx="362268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160" y="348120"/>
                <a:ext cx="211644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9840"/>
                <a:ext cx="90648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3800" y="297720"/>
              <a:ext cx="891360" cy="829440"/>
              <a:chOff x="5653800" y="29772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400" y="79632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64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5720" y="39744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1200" y="5253480"/>
              <a:ext cx="1062360" cy="833400"/>
              <a:chOff x="961200" y="5253480"/>
              <a:chExt cx="1062360" cy="8334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400" y="5520600"/>
                <a:ext cx="250920" cy="3016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8000" y="5730840"/>
                <a:ext cx="429480" cy="250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560" y="5377680"/>
                <a:ext cx="448920" cy="127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50A9-DE2D-4CC0-BE3F-44171D62CD7A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1844640"/>
            <a:ext cx="8893080" cy="16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2236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99"/>
                </a:solidFill>
                <a:latin typeface="Monotype Corsiva"/>
              </a:rPr>
              <a:t>Проект:</a:t>
            </a:r>
            <a:br>
              <a:rPr sz="4800"/>
            </a:br>
            <a:r>
              <a:rPr b="1" lang="ru-RU" sz="4800" spc="-1" strike="noStrike">
                <a:solidFill>
                  <a:srgbClr val="006699"/>
                </a:solidFill>
                <a:latin typeface="Monotype Corsiva"/>
              </a:rPr>
              <a:t>«Информационное общество»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403280" y="189000"/>
            <a:ext cx="6842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Муниципальное общеобразовательное учреждение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гимназия №15 города Костром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1908000" y="609300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Кострома, 2010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7" name="Picture 6" descr="MC900297565[1]"/>
          <p:cNvPicPr/>
          <p:nvPr/>
        </p:nvPicPr>
        <p:blipFill>
          <a:blip r:embed="rId1"/>
          <a:stretch/>
        </p:blipFill>
        <p:spPr>
          <a:xfrm>
            <a:off x="3132000" y="4005360"/>
            <a:ext cx="2808360" cy="1798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MC900326024[1]"/>
          <p:cNvPicPr/>
          <p:nvPr/>
        </p:nvPicPr>
        <p:blipFill>
          <a:blip r:embed="rId2"/>
          <a:stretch/>
        </p:blipFill>
        <p:spPr>
          <a:xfrm>
            <a:off x="611280" y="4005360"/>
            <a:ext cx="1152360" cy="1141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MM900236374[1]"/>
          <p:cNvPicPr/>
          <p:nvPr/>
        </p:nvPicPr>
        <p:blipFill>
          <a:blip r:embed="rId3"/>
          <a:stretch/>
        </p:blipFill>
        <p:spPr>
          <a:xfrm>
            <a:off x="6877080" y="3860640"/>
            <a:ext cx="1512720" cy="142740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Основополагающий вопрос</a:t>
            </a:r>
            <a:br>
              <a:rPr sz="40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Как эффективно организовать индивидуальное информационное пространство ученика?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3" name="Picture 6" descr="MM900254500[1]"/>
          <p:cNvPicPr/>
          <p:nvPr/>
        </p:nvPicPr>
        <p:blipFill>
          <a:blip r:embed="rId1"/>
          <a:stretch/>
        </p:blipFill>
        <p:spPr>
          <a:xfrm>
            <a:off x="3203640" y="378936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66"/>
                </a:solidFill>
                <a:latin typeface="Verdana"/>
              </a:rPr>
              <a:t>Проблемные вопросы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ие существуют закономерности и проблемы становления информационного общества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 развивается личности в информационном обществе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овы перспективы развития информационных и коммуникационных технологий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Picture 4" descr="MC900437631[1]"/>
          <p:cNvPicPr/>
          <p:nvPr/>
        </p:nvPicPr>
        <p:blipFill>
          <a:blip r:embed="rId1"/>
          <a:stretch/>
        </p:blipFill>
        <p:spPr>
          <a:xfrm>
            <a:off x="6386400" y="2060640"/>
            <a:ext cx="2757600" cy="275760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66"/>
                </a:solidFill>
                <a:latin typeface="Verdana"/>
              </a:rPr>
              <a:t>Учебные вопросы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овы основные критерии развитости информационного общества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овы характеристики информационного общества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овы информационные ресурсы современного общества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ое Законодательство РФ осуществляет правовое регулирование проблем, связанных с информацией и компьютерами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аво и этика в Интернете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1" name="Picture 4" descr="MM900254490[1]"/>
          <p:cNvPicPr/>
          <p:nvPr/>
        </p:nvPicPr>
        <p:blipFill>
          <a:blip r:embed="rId1"/>
          <a:stretch/>
        </p:blipFill>
        <p:spPr>
          <a:xfrm>
            <a:off x="7380360" y="5445000"/>
            <a:ext cx="838080" cy="1190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j0300840"/>
          <p:cNvPicPr/>
          <p:nvPr/>
        </p:nvPicPr>
        <p:blipFill>
          <a:blip r:embed="rId2"/>
          <a:stretch/>
        </p:blipFill>
        <p:spPr>
          <a:xfrm>
            <a:off x="7667640" y="3429000"/>
            <a:ext cx="1152360" cy="971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MC900438634[1]"/>
          <p:cNvPicPr/>
          <p:nvPr/>
        </p:nvPicPr>
        <p:blipFill>
          <a:blip r:embed="rId3"/>
          <a:stretch/>
        </p:blipFill>
        <p:spPr>
          <a:xfrm>
            <a:off x="6664320" y="1700280"/>
            <a:ext cx="2479680" cy="104148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Этапы и сроки проведения  проекта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 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79280" y="1341360"/>
          <a:ext cx="8785440" cy="5146920"/>
        </p:xfrm>
        <a:graphic>
          <a:graphicData uri="http://schemas.openxmlformats.org/drawingml/2006/table">
            <a:tbl>
              <a:tblPr/>
              <a:tblGrid>
                <a:gridCol w="1293840"/>
                <a:gridCol w="5688000"/>
                <a:gridCol w="1803600"/>
              </a:tblGrid>
              <a:tr h="739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ап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ние этап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емя или с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4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1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улирование тем исследований учеников (постановка основного проблемного вопроса и «мозговой штурм» учащихся)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20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1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ирование групп для проведения исследований, выдвижение гипотез решения проблем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25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2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бор творческого названия проекта (учитель совместно с учащимися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10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2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суждения плана работы учащихся в группе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15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2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суждение со школьниками возможных источников информации, вопросов защиты авторских прав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20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Control 4"/>
          <p:cNvSpPr/>
          <p:nvPr/>
        </p:nvSpPr>
        <p:spPr>
          <a:xfrm>
            <a:off x="2322360" y="-541440"/>
            <a:ext cx="5616720" cy="64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Этапы и сроки проведения  проек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79280" y="1413000"/>
          <a:ext cx="8964720" cy="4557600"/>
        </p:xfrm>
        <a:graphic>
          <a:graphicData uri="http://schemas.openxmlformats.org/drawingml/2006/table">
            <a:tbl>
              <a:tblPr/>
              <a:tblGrid>
                <a:gridCol w="1320840"/>
                <a:gridCol w="5803920"/>
                <a:gridCol w="183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Monotype Corsiva"/>
                        </a:rPr>
                        <a:t>3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Самостоятельная работа учащихся по обсуждению задания каждого в группе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Monotype Corsiva"/>
                        </a:rPr>
                        <a:t>10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Monotype Corsiva"/>
                        </a:rPr>
                        <a:t>3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Самостоятельная работа групп по выполнению заданий (работа с Интернет-ресурсами и электронными энциклопедиями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Monotype Corsiva"/>
                        </a:rPr>
                        <a:t>35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Monotype Corsiva"/>
                        </a:rPr>
                        <a:t>4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Подготовка школьниками результатов исследований в виде электронных документов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Monotype Corsiva"/>
                        </a:rPr>
                        <a:t>45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Monotype Corsiva"/>
                        </a:rPr>
                        <a:t>5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Индивидуальные консультации групп с преподавателем (предзащита  проекта-исследования), анализ предварительных результатов исследований, корректирование проектов групп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Monotype Corsiva"/>
                        </a:rPr>
                        <a:t>45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Monotype Corsiva"/>
                        </a:rPr>
                        <a:t>6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Защита результатов и выводов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Monotype Corsiva"/>
                        </a:rPr>
                        <a:t>30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Monotype Corsiva"/>
                        </a:rPr>
                        <a:t>6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Выполнение контрольного теста по теме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Monotype Corsiva"/>
                        </a:rPr>
                        <a:t>15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Control 4"/>
          <p:cNvSpPr/>
          <p:nvPr/>
        </p:nvSpPr>
        <p:spPr>
          <a:xfrm>
            <a:off x="2322360" y="-541440"/>
            <a:ext cx="5616720" cy="64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римерные темы для исследован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Информационные революци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Критерии развитости информационного обществ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Опасности информационного обществ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Информационные ресурсы современного обществ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Развитие личности в информационном обществ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Интернет и авторское прав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Доктрина информационной безопасности Российской Федераци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Закон "О правой охране программ для электронно-вычислительных машин и баз данных"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Закон «Об информации, информатизации и защите информации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Уголовный кодекс Российской Федераци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Закон "Об электронно-цифровой подписи"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Защита информации от несанкционированного доступ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5" name="Picture 5" descr="MC900333398[1]"/>
          <p:cNvPicPr/>
          <p:nvPr/>
        </p:nvPicPr>
        <p:blipFill>
          <a:blip r:embed="rId1"/>
          <a:stretch/>
        </p:blipFill>
        <p:spPr>
          <a:xfrm>
            <a:off x="7596360" y="1844640"/>
            <a:ext cx="1037880" cy="1866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MP900408864[1]"/>
          <p:cNvPicPr/>
          <p:nvPr/>
        </p:nvPicPr>
        <p:blipFill>
          <a:blip r:embed="rId2"/>
          <a:stretch/>
        </p:blipFill>
        <p:spPr>
          <a:xfrm>
            <a:off x="7667640" y="4797360"/>
            <a:ext cx="1312920" cy="1312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MC900071191[1]"/>
          <p:cNvPicPr/>
          <p:nvPr/>
        </p:nvPicPr>
        <p:blipFill>
          <a:blip r:embed="rId3"/>
          <a:stretch/>
        </p:blipFill>
        <p:spPr>
          <a:xfrm>
            <a:off x="7451640" y="189000"/>
            <a:ext cx="1530360" cy="16430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MM900284137[1]"/>
          <p:cNvPicPr/>
          <p:nvPr/>
        </p:nvPicPr>
        <p:blipFill>
          <a:blip r:embed="rId4"/>
          <a:stretch/>
        </p:blipFill>
        <p:spPr>
          <a:xfrm>
            <a:off x="0" y="0"/>
            <a:ext cx="1819440" cy="1488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MM900234673[1]"/>
          <p:cNvPicPr/>
          <p:nvPr/>
        </p:nvPicPr>
        <p:blipFill>
          <a:blip r:embed="rId5"/>
          <a:stretch/>
        </p:blipFill>
        <p:spPr>
          <a:xfrm>
            <a:off x="324000" y="5958000"/>
            <a:ext cx="900000" cy="90000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468360" y="1268280"/>
            <a:ext cx="82072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99"/>
                </a:solidFill>
                <a:latin typeface="Times New Roman"/>
              </a:rPr>
              <a:t>"Дорогу осилит идущий"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99"/>
                </a:solidFill>
                <a:latin typeface="Times New Roman"/>
              </a:rPr>
              <a:t>Удачи!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324000" y="3213000"/>
            <a:ext cx="3017520" cy="3202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"/>
          <p:cNvPicPr/>
          <p:nvPr/>
        </p:nvPicPr>
        <p:blipFill>
          <a:blip r:embed="rId2"/>
          <a:stretch/>
        </p:blipFill>
        <p:spPr>
          <a:xfrm>
            <a:off x="6372360" y="3141720"/>
            <a:ext cx="2116080" cy="324000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8:18:57Z</dcterms:created>
  <dc:creator>Ирина</dc:creator>
  <dc:description/>
  <dc:language>en-US</dc:language>
  <cp:lastModifiedBy>LEGION</cp:lastModifiedBy>
  <dcterms:modified xsi:type="dcterms:W3CDTF">2015-07-01T12:06:47Z</dcterms:modified>
  <cp:revision>6</cp:revision>
  <dc:subject/>
  <dc:title>Информационное общество</dc:title>
</cp:coreProperties>
</file>