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493B-B6D1-4D03-880E-9C975E76E200}" type="datetime">
              <a:rPr b="0" lang="en-GB" sz="1200" spc="-1" strike="noStrike">
                <a:solidFill>
                  <a:srgbClr val="000000"/>
                </a:solidFill>
                <a:latin typeface="Arial Narrow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F78E-1F39-440C-9B97-10C1F82C34B4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F3EA-00A5-4A7D-B38C-07F9758271DF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достижение высокого уровня европейских разработок в информационных и коммуникационных технологиях (ИКТ), направленных на удовлетворение общественных и экономических потребностей. Укрепление научно-технической базы Европы в области ИКТ, приведение в движение и стимулирование инноваций через ИКТ. Обеспечение быстрой трансформации прогресса в области ИКТ в преимущества для европейских граждан, бизнеса, промышленности и правительст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5FBA-ECF1-4C41-825A-BE296BC39F6C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ие основы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ые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щие и возникающи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0CC6-1E94-4AA6-A6D8-71BC2996810A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ческие основы ИК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электрон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ника и интегрированные микр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етвленные коммуникационные сети неограниченной мо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роенные системы, вычисления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зна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нитивные и обучающи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, визуализац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FE18-2DE7-432E-A18F-5B593DB6D168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грация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ьные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ототехнически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ллектуальные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48C0-1B33-4CCB-AECE-868809712C46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кладные иссле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здравоохра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людей с ограниченными способност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в интересах охраны окружающей сред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прави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контен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ативности и развития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-поддержка для бизнес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доверия и конфиденци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44B4-B839-4431-84FE-67A555BD7AE9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электроник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тоника и интегрированные микр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нан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стемы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доление ограничений в миниатюриза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образие и плот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производительности и технологичности производства при низких затрата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ощенная  интеграция ИКТ в различные прилож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нтерфейс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овые исследования, основанные на новых концепция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етвленные коммуникационные сети неограниченной мощно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семестный доступ к неоднородным сетям – фиксированным, мобильным, беспроводным и широковещательным сетям для персональных, региональных и глобальных целей – обеспечивающий предоставление прямого доступа к все возрастающим объемам данных и услуг повсеместно и в любое врем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A209-D269-4326-8008-0875DE767AF3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роенные системы, вычисления и управлени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щные, безопасные и распределенные вычислительные и коммуникационные системы, встраиваемые в объекты и физические инфраструктуры и способные взаимодействовать со средой и адаптироваться к не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чное, адаптивное, надежное и безопасное программное обеспечение и услуг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ые вычислительные архитекту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.ч. предоставляемые в виде утили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FCB2-F353-4933-BC07-59F51BC7BB2B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стемы знаний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гнитивные и обучающие систем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лечение и использование знаний, контент, встроенный в веб и мультимеди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усственные системы, построенные на принципах биологических систем, способные воспринимать, понимать, обучаться, эволюционировать и действовать автономн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 применением машин и человеческого фактора, основанные на углубленном понимании когнитивных процессов челове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делирование, визуализаци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альные средства инновационного проектирования  и креативность в продуктах, услугах и цифровых  мульти-медиа, а также естественного взаимодействия и контекстуаль-ного взаимодействия с лингвистической поддержк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4D36-14BA-40E3-952E-0D6BB8DD52CF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,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.ч. достижен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ки, биотехнологий,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оведения, наук о жизни, с целью миниатюризации ИКТ устройств до размеров, совместимых и взаимодействующих с живыми организмами, для повышения производительности системного инжиниринга и обработки информации, а также для моделирования и имитации живого ми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A6EE-24AF-4564-BDE4-86561EF1698D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сональные сред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для персональных комму-никаций и вычисле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ированные в аксессуа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д-меты одежды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лантант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х интерфейсы и взаимосвязь с услугами и ресурсам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ие сред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данных, мониторинг, управле-ние и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имость и интегрированное использо-вание всех устройст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ый цифровой контен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бототехнические систем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ные автономные систем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управление, операционные способно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взаимодейств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атюризац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ллектуальные инфраструктур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альные средства для создания инфраструктур, которые позволят сделать повседневную жизнь более эффективной, легко адаптируемой и устойчив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4BC9-2CE8-4A14-846D-96DEDDBA73DC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ussels, 6 April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posal fo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 OF THE EUROPEAN PARLIAMENT AND OF THE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cerning the seventh framework programme of the European Community for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earch, technological development and demonstration activities (2007 to 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THE EUROPE OF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resented by the Commi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EC1D-328E-4945-835B-5C669622617D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решения социальных пробле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системы и службы в областях, представляющих интерес для широкой общественности, в интересах повышения качества, эффективности, улучшения доступа и охва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добные для пользователя приложения, интеграция новых технологий и инициатив, таких как интеллектуальный образ жизн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здравоохранени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я профилактики заболеваний и ранней диагности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номность, безопасность и мобильность пациент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странство знаний по здравоохранен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обеспечения цифрового равенств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дей с ограниченными способностя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еодоления цифровой дискримина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спомогатель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зайн для все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3767-491D-412F-BE4B-F3179AB6BEDD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бильности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ллектуальные транспортные системы на основе ИКТ, обеспечивающие безопасную, комфортную и эффективную транспортировку людей и товар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в интересах охраны окружающей сред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стойчивого развит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овышения степени защищенности и преодоления последствий природных и промышленных катастро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правительст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, открытость и отчетность для органов общественного и государственного управления и связей с гражданами и бизнесом на принципах демократ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B418-3F27-4B0A-8B12-CF95ED3587B0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КТ для контент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реативности и развития личност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ые парадигм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ультимеди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овые формы контен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ние интерактивного цифрового контен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гащение опыта пользователе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нтабельная доставка  контен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овершенствованные технолог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истанционного обучени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даптивные и контекстно-ориентированные реше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ктивное обучен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КТ-системы для поддержк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оступности и долговременного использования цифровых культурных ресурс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многоязычной сре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1C8E-00E4-4D4C-BD13-A1B368728501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КТ-поддержка для бизнеса и промышленност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ые формы динамических сетевых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изне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процесс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фровые экосистем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тимизированная организация работ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поративные рабочие пространст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строе и адаптивное проектирование, производство и доставка заказных товар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фровое и виртуальное производств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струментальные средства моделирования, имитации и презента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ниатюрные и интегрированные ИКТ-продукт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КТ для доверия и конфиденциальност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ение идентификацие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тверждение подлинности и авторизац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технологии, обеспечивающие секретность  информа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ение правами и ресурса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щита от киберугро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EB25-E4F4-4353-B217-FB157ABA2855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Будущие и возникающи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ущие и возникающие технологи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исследований на передовых рубежах знаний на основе ИКТ и их комбинация с другими релевантными областями и дисциплинами с целью стимулирования новых идей и радикально новых применений и использования новых опций в глобальных направлениях исследований в области ИК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11E1-3DF1-44A3-93E3-6F0F79EBA9A6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рок действия: 2007 – 2013 г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юджет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72 726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иллионов евро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труктур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трудничеств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44432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лн евро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деи (11862 млн евр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юди (7129 млн евр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тенциал (7486 млн евр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DC46-3FAD-4725-B648-BB8001B7E5ED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Сотрудничество» (4443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держка всего спектра научной деятельности, осущес-твляемой в рамках транснационального сотрудничества, от совместных проектов и сетей до координации национальных научных програм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ущей силой в этой программе станет промышл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Сотрудничество» состоит из трех подпрограм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вместные исследования будут затрачены основные средства, выделяемые ЕС на финансирование нау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ые технологические инициативы, созданные, как правило, на основе Европейских Технологических Платфор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ция национальных научных програм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странами ЕС и третьими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83B9-6AA9-4D51-9A46-E9D5A5D9A402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Идеи» (1186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содействие динамизму, креативности и обеспечение научного превосходства европейских исследований  на передовых рубежах знаний во всех научных и технологических областях, включая инженерные науки, социо-экономические и гуманитарные исследова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у программу будет координировать Европейский Научный Сове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Люди» (7129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количественное и качественное укрепление кадрового потенциала европейской науки и технологий через серию акций Мари Кюр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23F2-1B9F-4A56-A465-F24CF7A6C86C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Потенциал»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ies) – 7486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лн ев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держка научной инфраструкту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я, проводимые в интересах средних и малых предприятий и научного потенциала европейских регион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Regions of Knowledge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также стимулирование реализации полного научного потенциал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Convergence Regions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яющегося ЕС  и построение эффективного и демократического европейского общества, основанного на знания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21E5-12F2-479D-9B32-98B14DBFB3F6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равоохране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8317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ы питания, сельское хозяйство и био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455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2670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науки, нанотехнологии, материалы и новые производствен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83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931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среда и изменения клима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535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 и аэронавт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5940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о-экономические и гуманитарные исследова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79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ические исследования и исследования в области безопасности (3960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6057-BD16-4F76-9B68-B7488C3B26BF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чество с третьими странами будет направлено в особенности на следующие группы стра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-кандидаты на вступление в Е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, граничащие с ЕС, страны Средиземноморья, Западных Балкан и новые независимые государств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wly Independent Stat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иеся страны с учетом их конкретных нуж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переходной экономик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рамках тематических приоритетов будет поддержано по конкурсам программы «Сотрудничество». Международные акции в сфере кадрового научного потенциала будут поддержаны в рамках программы «Люди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760E-001B-40EB-A6DB-C98090CC28B9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B6FB-DB63-4A78-BF50-BF21FE13F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6F42-A218-4561-8449-9951CA950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95FB-2DD9-4CCA-870D-E13AC34B6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DB91-85D0-46B0-97B3-8EFE42AAB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5DBAB-64E0-496A-9AE5-7CF3C20AAB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FAAC8-5CB9-4386-B0C3-E7B1AC79D7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9B551-077C-4AF4-B290-F4B4484F5D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74092-8ABB-4E69-83BA-C9DAF95542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83D8B-B920-4543-A81E-8934F9BB71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895120" y="533520"/>
            <a:ext cx="6838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D79AE-B8F3-4BFD-832A-B681ACC29C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6D219-B2FF-44CD-8C77-A27800A921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338D-C931-42ED-B231-CE86F53B3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BA439-5034-49C9-8629-8FBF1C69D9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5A20F-BED1-4AA3-B0EA-54857782D8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CD2AE-CD91-44AD-9C02-26CBF093FC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11932-C03F-4992-9E38-B4A42D6807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A3111-DAB4-4810-AEA2-50FC2EDC31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D63E-CB08-4FE5-8FCC-32B140089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D730-167F-4401-885E-15BDB1F166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A1717-2BBB-4F49-8C2C-D7C28FF20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895120" y="533520"/>
            <a:ext cx="6838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AE2B-6C91-4F50-9D29-A57D43E2A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390F-E7A8-4765-88F0-DF863367B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4FC4-DE81-4C46-A6A8-C255CF1BC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33ED-6BB1-404F-9302-6422EBBCE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55306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Line 24"/>
          <p:cNvSpPr/>
          <p:nvPr/>
        </p:nvSpPr>
        <p:spPr>
          <a:xfrm>
            <a:off x="0" y="1219320"/>
            <a:ext cx="9909000" cy="0"/>
          </a:xfrm>
          <a:prstGeom prst="line">
            <a:avLst/>
          </a:prstGeom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AutoShape 25"/>
          <p:cNvSpPr/>
          <p:nvPr/>
        </p:nvSpPr>
        <p:spPr>
          <a:xfrm>
            <a:off x="1905120" y="171360"/>
            <a:ext cx="419040" cy="419040"/>
          </a:xfrm>
          <a:custGeom>
            <a:avLst/>
            <a:gdLst/>
            <a:ahLst/>
            <a:rect l="l" t="t" r="r" b="b"/>
            <a:pathLst>
              <a:path w="419100" h="419100">
                <a:moveTo>
                  <a:pt x="0" y="160082"/>
                </a:moveTo>
                <a:lnTo>
                  <a:pt x="160083" y="160083"/>
                </a:lnTo>
                <a:lnTo>
                  <a:pt x="209550" y="0"/>
                </a:lnTo>
                <a:lnTo>
                  <a:pt x="259017" y="160083"/>
                </a:lnTo>
                <a:lnTo>
                  <a:pt x="419100" y="160082"/>
                </a:lnTo>
                <a:lnTo>
                  <a:pt x="289590" y="259017"/>
                </a:lnTo>
                <a:lnTo>
                  <a:pt x="339059" y="419099"/>
                </a:lnTo>
                <a:lnTo>
                  <a:pt x="209550" y="320162"/>
                </a:lnTo>
                <a:lnTo>
                  <a:pt x="80041" y="419099"/>
                </a:lnTo>
                <a:lnTo>
                  <a:pt x="129510" y="259017"/>
                </a:lnTo>
                <a:lnTo>
                  <a:pt x="0" y="160082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AutoShape 26"/>
          <p:cNvSpPr/>
          <p:nvPr/>
        </p:nvSpPr>
        <p:spPr>
          <a:xfrm rot="20940000">
            <a:off x="1219320" y="2286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AutoShape 27"/>
          <p:cNvSpPr/>
          <p:nvPr/>
        </p:nvSpPr>
        <p:spPr>
          <a:xfrm rot="1320000">
            <a:off x="168120" y="244080"/>
            <a:ext cx="882720" cy="882720"/>
          </a:xfrm>
          <a:custGeom>
            <a:avLst/>
            <a:gdLst/>
            <a:ahLst/>
            <a:rect l="l" t="t" r="r" b="b"/>
            <a:pathLst>
              <a:path w="882650" h="882650">
                <a:moveTo>
                  <a:pt x="1" y="337141"/>
                </a:moveTo>
                <a:lnTo>
                  <a:pt x="337144" y="337144"/>
                </a:lnTo>
                <a:lnTo>
                  <a:pt x="441325" y="0"/>
                </a:lnTo>
                <a:lnTo>
                  <a:pt x="545506" y="337144"/>
                </a:lnTo>
                <a:lnTo>
                  <a:pt x="882649" y="337141"/>
                </a:lnTo>
                <a:lnTo>
                  <a:pt x="609893" y="545505"/>
                </a:lnTo>
                <a:lnTo>
                  <a:pt x="714078" y="882648"/>
                </a:lnTo>
                <a:lnTo>
                  <a:pt x="441325" y="674280"/>
                </a:lnTo>
                <a:lnTo>
                  <a:pt x="168572" y="882648"/>
                </a:lnTo>
                <a:lnTo>
                  <a:pt x="272757" y="545505"/>
                </a:lnTo>
                <a:lnTo>
                  <a:pt x="1" y="337141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AutoShape 28"/>
          <p:cNvSpPr/>
          <p:nvPr/>
        </p:nvSpPr>
        <p:spPr>
          <a:xfrm rot="1086000">
            <a:off x="2590920" y="304920"/>
            <a:ext cx="380880" cy="304560"/>
          </a:xfrm>
          <a:custGeom>
            <a:avLst/>
            <a:gdLst/>
            <a:ahLst/>
            <a:rect l="l" t="t" r="r" b="b"/>
            <a:pathLst>
              <a:path w="381000" h="304800">
                <a:moveTo>
                  <a:pt x="0" y="116423"/>
                </a:moveTo>
                <a:lnTo>
                  <a:pt x="145530" y="116424"/>
                </a:lnTo>
                <a:lnTo>
                  <a:pt x="190500" y="0"/>
                </a:lnTo>
                <a:lnTo>
                  <a:pt x="235470" y="116424"/>
                </a:lnTo>
                <a:lnTo>
                  <a:pt x="381000" y="116423"/>
                </a:lnTo>
                <a:lnTo>
                  <a:pt x="263263" y="188376"/>
                </a:lnTo>
                <a:lnTo>
                  <a:pt x="308235" y="304799"/>
                </a:lnTo>
                <a:lnTo>
                  <a:pt x="190500" y="232845"/>
                </a:lnTo>
                <a:lnTo>
                  <a:pt x="72765" y="304799"/>
                </a:lnTo>
                <a:lnTo>
                  <a:pt x="117737" y="188376"/>
                </a:lnTo>
                <a:lnTo>
                  <a:pt x="0" y="116423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AutoShape 29"/>
          <p:cNvSpPr/>
          <p:nvPr/>
        </p:nvSpPr>
        <p:spPr>
          <a:xfrm rot="2313600">
            <a:off x="3231720" y="533160"/>
            <a:ext cx="304920" cy="228600"/>
          </a:xfrm>
          <a:custGeom>
            <a:avLst/>
            <a:gdLst/>
            <a:ahLst/>
            <a:rect l="l" t="t" r="r" b="b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lnTo>
                  <a:pt x="0" y="87317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Text Box 32"/>
          <p:cNvSpPr/>
          <p:nvPr/>
        </p:nvSpPr>
        <p:spPr>
          <a:xfrm>
            <a:off x="234360" y="1324080"/>
            <a:ext cx="465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Ф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" name="Picture 34" descr="C:\LENA\Enrin\Flyer\iosLogoEng.gif"/>
          <p:cNvPicPr/>
          <p:nvPr/>
        </p:nvPicPr>
        <p:blipFill>
          <a:blip r:embed="rId2"/>
          <a:stretch/>
        </p:blipFill>
        <p:spPr>
          <a:xfrm>
            <a:off x="9112320" y="6350040"/>
            <a:ext cx="403200" cy="42372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sldNum" idx="1"/>
          </p:nvPr>
        </p:nvSpPr>
        <p:spPr>
          <a:xfrm>
            <a:off x="80010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999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513A-0EA7-4CC3-B2EE-665E6EB86331}" type="slidenum">
              <a:rPr b="0" lang="ru-RU" sz="2000" spc="-1" strike="noStrike">
                <a:solidFill>
                  <a:srgbClr val="009999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rc 48"/>
          <p:cNvSpPr/>
          <p:nvPr/>
        </p:nvSpPr>
        <p:spPr>
          <a:xfrm>
            <a:off x="0" y="839880"/>
            <a:ext cx="55306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Line 2"/>
          <p:cNvSpPr/>
          <p:nvPr/>
        </p:nvSpPr>
        <p:spPr>
          <a:xfrm>
            <a:off x="1523880" y="1219320"/>
            <a:ext cx="8385120" cy="0"/>
          </a:xfrm>
          <a:prstGeom prst="line">
            <a:avLst/>
          </a:prstGeom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AutoShape 37"/>
          <p:cNvSpPr/>
          <p:nvPr/>
        </p:nvSpPr>
        <p:spPr>
          <a:xfrm>
            <a:off x="1905120" y="171360"/>
            <a:ext cx="419040" cy="419040"/>
          </a:xfrm>
          <a:custGeom>
            <a:avLst/>
            <a:gdLst/>
            <a:ahLst/>
            <a:rect l="l" t="t" r="r" b="b"/>
            <a:pathLst>
              <a:path w="419100" h="419100">
                <a:moveTo>
                  <a:pt x="0" y="160082"/>
                </a:moveTo>
                <a:lnTo>
                  <a:pt x="160083" y="160083"/>
                </a:lnTo>
                <a:lnTo>
                  <a:pt x="209550" y="0"/>
                </a:lnTo>
                <a:lnTo>
                  <a:pt x="259017" y="160083"/>
                </a:lnTo>
                <a:lnTo>
                  <a:pt x="419100" y="160082"/>
                </a:lnTo>
                <a:lnTo>
                  <a:pt x="289590" y="259017"/>
                </a:lnTo>
                <a:lnTo>
                  <a:pt x="339059" y="419099"/>
                </a:lnTo>
                <a:lnTo>
                  <a:pt x="209550" y="320162"/>
                </a:lnTo>
                <a:lnTo>
                  <a:pt x="80041" y="419099"/>
                </a:lnTo>
                <a:lnTo>
                  <a:pt x="129510" y="259017"/>
                </a:lnTo>
                <a:lnTo>
                  <a:pt x="0" y="160082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AutoShape 38"/>
          <p:cNvSpPr/>
          <p:nvPr/>
        </p:nvSpPr>
        <p:spPr>
          <a:xfrm rot="20940000">
            <a:off x="1219320" y="2286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AutoShape 39"/>
          <p:cNvSpPr/>
          <p:nvPr/>
        </p:nvSpPr>
        <p:spPr>
          <a:xfrm rot="1320000">
            <a:off x="168120" y="244080"/>
            <a:ext cx="882720" cy="882720"/>
          </a:xfrm>
          <a:custGeom>
            <a:avLst/>
            <a:gdLst/>
            <a:ahLst/>
            <a:rect l="l" t="t" r="r" b="b"/>
            <a:pathLst>
              <a:path w="882650" h="882650">
                <a:moveTo>
                  <a:pt x="1" y="337141"/>
                </a:moveTo>
                <a:lnTo>
                  <a:pt x="337144" y="337144"/>
                </a:lnTo>
                <a:lnTo>
                  <a:pt x="441325" y="0"/>
                </a:lnTo>
                <a:lnTo>
                  <a:pt x="545506" y="337144"/>
                </a:lnTo>
                <a:lnTo>
                  <a:pt x="882649" y="337141"/>
                </a:lnTo>
                <a:lnTo>
                  <a:pt x="609893" y="545505"/>
                </a:lnTo>
                <a:lnTo>
                  <a:pt x="714078" y="882648"/>
                </a:lnTo>
                <a:lnTo>
                  <a:pt x="441325" y="674280"/>
                </a:lnTo>
                <a:lnTo>
                  <a:pt x="168572" y="882648"/>
                </a:lnTo>
                <a:lnTo>
                  <a:pt x="272757" y="545505"/>
                </a:lnTo>
                <a:lnTo>
                  <a:pt x="1" y="337141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AutoShape 40"/>
          <p:cNvSpPr/>
          <p:nvPr/>
        </p:nvSpPr>
        <p:spPr>
          <a:xfrm rot="1086000">
            <a:off x="2590920" y="304920"/>
            <a:ext cx="380880" cy="304560"/>
          </a:xfrm>
          <a:custGeom>
            <a:avLst/>
            <a:gdLst/>
            <a:ahLst/>
            <a:rect l="l" t="t" r="r" b="b"/>
            <a:pathLst>
              <a:path w="381000" h="304800">
                <a:moveTo>
                  <a:pt x="0" y="116423"/>
                </a:moveTo>
                <a:lnTo>
                  <a:pt x="145530" y="116424"/>
                </a:lnTo>
                <a:lnTo>
                  <a:pt x="190500" y="0"/>
                </a:lnTo>
                <a:lnTo>
                  <a:pt x="235470" y="116424"/>
                </a:lnTo>
                <a:lnTo>
                  <a:pt x="381000" y="116423"/>
                </a:lnTo>
                <a:lnTo>
                  <a:pt x="263263" y="188376"/>
                </a:lnTo>
                <a:lnTo>
                  <a:pt x="308235" y="304799"/>
                </a:lnTo>
                <a:lnTo>
                  <a:pt x="190500" y="232845"/>
                </a:lnTo>
                <a:lnTo>
                  <a:pt x="72765" y="304799"/>
                </a:lnTo>
                <a:lnTo>
                  <a:pt x="117737" y="188376"/>
                </a:lnTo>
                <a:lnTo>
                  <a:pt x="0" y="116423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AutoShape 41"/>
          <p:cNvSpPr/>
          <p:nvPr/>
        </p:nvSpPr>
        <p:spPr>
          <a:xfrm rot="2313600">
            <a:off x="3231720" y="533160"/>
            <a:ext cx="304920" cy="228600"/>
          </a:xfrm>
          <a:custGeom>
            <a:avLst/>
            <a:gdLst/>
            <a:ahLst/>
            <a:rect l="l" t="t" r="r" b="b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lnTo>
                  <a:pt x="0" y="87317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Text Box 43"/>
          <p:cNvSpPr/>
          <p:nvPr/>
        </p:nvSpPr>
        <p:spPr>
          <a:xfrm>
            <a:off x="4114800" y="6307200"/>
            <a:ext cx="50292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242280" y="1324080"/>
            <a:ext cx="465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Ф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6" name="Picture 46" descr="C:\LENA\Enrin\Flyer\iosLogoEng.gif"/>
          <p:cNvPicPr/>
          <p:nvPr/>
        </p:nvPicPr>
        <p:blipFill>
          <a:blip r:embed="rId2"/>
          <a:stretch/>
        </p:blipFill>
        <p:spPr>
          <a:xfrm>
            <a:off x="9112320" y="6350040"/>
            <a:ext cx="403200" cy="423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7467480" y="-360"/>
            <a:ext cx="2438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999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A580-01DC-4322-8CF2-FCC45EA4B1ED}" type="slidenum">
              <a:rPr b="0" lang="ru-RU" sz="1400" spc="-1" strike="noStrike">
                <a:solidFill>
                  <a:srgbClr val="009999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996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23520" y="449532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В.М.Михов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Директор ГосНИИ ОС, Руководитель НКТ «ИНФОТЕХ»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143000" y="1752480"/>
            <a:ext cx="8153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066680" y="1219320"/>
            <a:ext cx="83822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Научно-техническая программа «Информационные и коммуникационные технологии» Седьмой рамочной программы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научно-технического развития ЕС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достижение высокого уровня европейских разработок в информационных и коммуникационных технологиях (ИКТ), направленных на удовлетворение общественных и экономических потребностей. Укрепление научно-технической базы Европы в области ИКТ, приведение в движение и стимулирование инноваций через ИКТ. Обеспечение быстрой трансформации прогресса в области ИКТ в преимущества для европейских граждан, бизнеса, промышленности и правительств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Rectangle 1029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труктура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Технологические основы ИКТ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Интеграция технологий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Прикладные исследования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Будущие и возникающие технологии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Технологические основы ИКТ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ноэлектроника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отоника и интегрированные микро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но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истем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азветвленные коммуникационные сети неограниченной мощ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строенные системы, вычисления и управление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истемы знаний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огнитивные и обучающие систем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оделирование, визуализация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нтеграция технологий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ерсональные сред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омашние сред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обототехнические систем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нтеллектуальные инфраструктур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икладные исследования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решения социальных проблем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здравоохранения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людей с ограниченными способностям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обиль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в интересах охраны окружающей среды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правительств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контента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реативности и развития лич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-поддержка для бизнеса и промышлен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доверия и конфиденциаль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Наноэлектроника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фотоника и интегрированные микро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/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нано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системы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еодоление ограничений в миниатюриз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грац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ногообразие и плотность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вышение производительности и технологичности производства при низких затратах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прощенная  интеграция ИКТ в различные приложен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интерфейс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исковые исследования, основанные на новых концепциях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Разветвленные коммуникационные сети неограниченной мощ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всеместный доступ к неоднородным сетям – фиксированным, мобильным, беспроводным и широковещательным сетям для персональных, региональных и глобальных целей – обеспечивающий предоставление прямого доступа к все возрастающим объемам данных и услуг повсеместно и в любое врем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Встроенные системы, вычисления и управление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ощные, безопасные и распределенные вычислительные и коммуникационные системы, встраиваемые в объекты и физические инфраструктуры и способные взаимодействовать со средой и адаптироваться к не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инамичное, адаптивное, надежное и безопасное программное обеспечение и услуг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новые вычислительные архитектур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в т.ч. предоставляемые в виде утилит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142640" y="14475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Системы знаний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когнитивные и обучающие систем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звлечение и использование знаний, контент, встроенный в веб и мультимеди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скусственные системы, построенные на принципах биологических систем, способные воспринимать, понимать, обучаться, эволюционировать и действовать автономно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бучение с применением машин и человеческого фактора, основанные на углубленном понимании когнитивных процессов челове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Моделирование, визуализаци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струментальные средства инновационного проектирования  и креативность в продуктах, услугах и цифровых  мульти-медиа, а также естественного взаимодействия и контекстуаль-ного взаимодействия с лингвистической поддержко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,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т.ч. достижения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области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изики, биотехнологий,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атериаловедения, наук о жизни, с целью миниатюризации ИКТ устройств до размеров, совместимых и взаимодействующих с живыми организмами, для повышения производительности системного инжиниринга и обработки информации, а также для моделирования и имитации живого мира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142640" y="14475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Персональные сред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стройства для персональных комму-никаций и вычислени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грированные в аксессуар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пред-меты одежды 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мплантант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их интерфейсы и взаимосвязь с услугами и ресурсам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Домашние сред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ередача данных, мониторинг, управле-ние и поддерж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вместимость и интегрированное использо-вание всех устройст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рактивный цифровой контент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Робототехнические систем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ерспективные автономные систем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бучение, управление, операционные способност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естественное взаимодействие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иниатюризац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нтеллектуальные инфраструктур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струментальные средства для создания инфраструктур, которые позволят сделать повседневную жизнь более эффективной, легко адаптируемой и устойчиво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Интеграция технологий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Brussels, 6 April 2005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Proposal for 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DECISION OF THE EUROPEAN PARLIAMENT AND OF THE COUNCI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concerning the seventh framework programme of the European Community for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research, technological development and demonstration activities (2007 to 2013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BUILDING THE EUROPE OF KNOWLEDG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(presented by the Commission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ект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142640" y="14475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решения социальных проблем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овые системы и службы в областях, представляющих интерес для широкой общественности, в интересах повышения качества, эффективности, улучшения доступа и охва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удобные для пользователя приложения, интеграция новых технологий и инициатив, таких как интеллектуальный образ жизн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здравоохранени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лучшения профилактики заболеваний и ранней диагностик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автономность, безопасность и мобильность пациент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формационное пространство знаний по здравоохранению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обеспечения цифрового равенства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людей с ограниченными способностями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 преодоления цифровой дискримин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вспомогательные 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изайн для всех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142640" y="15238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мобильности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ллектуальные транспортные системы на основе ИКТ, обеспечивающие безопасную, комфортную и эффективную транспортировку людей и товар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в интересах охраны окружающей среды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 устойчивого развит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ля повышения степени защищенности и преодоления последствий природных и промышленных катастроф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правительств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эффективность, открытость и отчетность для органов общественного и государственного управления и связей с гражданами и бизнесом на принципах демократ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контента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креативности и развития лич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овые парадигм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мультимеди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 новые формы контен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здание интерактивного цифрового контен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богащение опыта пользователе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рентабельная доставка  контен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совершенствованные технологии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дистанционного обучени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адаптивные и контекстно-ориентированные решен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активное обучение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КТ-системы для поддержки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доступности и долговременного использования цифровых культурных ресурсов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в многоязычной среде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-поддержка для бизнеса и промышлен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овые формы динамических сетевых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бизнес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-процесс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цифровые экосистем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птимизированная организация работ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корпоративные рабочие пространств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производство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быстрое и адаптивное проектирование, производство и доставка заказных товар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цифровое и виртуальное производство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струментальные средства моделирования, имитации и презент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иниатюрные и интегрированные ИКТ-продукт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доверия и конфиденциаль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правление идентификацие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дтверждение подлинности и авторизац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технологии, обеспечивающие секретность  информ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правление правами и ресурсам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защита от киберугроз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Будущие и возникающие технологи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ддержка исследований на передовых рубежах знаний на основе ИКТ и их комбинация с другими релевантными областями и дисциплинами с целью стимулирования новых идей и радикально новых применений и использования новых опций в глобальных направлениях исследований в области ИКТ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Будущие и возникающие технологии</a:t>
            </a:r>
            <a:endParaRPr b="1" lang="en-US" sz="22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3520" y="15998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рок действия: 2007 – 2013 гг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Бюджет: 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  <a:ea typeface="Times New Roman"/>
              </a:rPr>
              <a:t>72 726 </a:t>
            </a: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миллионов евро</a:t>
            </a:r>
            <a:r>
              <a:rPr b="1" lang="ru-RU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труктура: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отрудничество 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(44432 </a:t>
            </a: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млн евро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деи (11862 млн евро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Люди (7129 млн евро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Потенциал (7486 млн евро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ект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ект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11" name="Object 7"/>
          <p:cNvGraphicFramePr/>
          <p:nvPr/>
        </p:nvGraphicFramePr>
        <p:xfrm>
          <a:off x="838080" y="1295280"/>
          <a:ext cx="4419720" cy="34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441972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80"/>
          <p:cNvGraphicFramePr/>
          <p:nvPr/>
        </p:nvGraphicFramePr>
        <p:xfrm>
          <a:off x="5105520" y="3435480"/>
          <a:ext cx="4647960" cy="2782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4" name="Object 18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435480"/>
                    <a:ext cx="464796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90720" y="13712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ограмма «Сотрудничество» (44432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Цель: поддержка всего спектра научной деятельности, осущес-твляемой в рамках транснационального сотрудничества, от совместных проектов и сетей до координации национальных научных програм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вижущей силой в этой программе станет промышленность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ограмма «Сотрудничество» состоит из трех подпрограм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а совместные исследования будут затрачены основные средства, выделяемые ЕС на финансирование наук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вместные технологические инициативы, созданные, как правило, на основе Европейских Технологических Платфор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Координация национальных научных програм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еждународное сотрудничество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ежду странами ЕС и третьими странами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труктура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а «Идеи» (11862 млн евро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содействие динамизму, креативности и обеспечение научного превосходства европейских исследований  на передовых рубежах знаний во всех научных и технологических областях, включая инженерные науки, социо-экономические и гуманитарные исследования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Эту программу будет координировать Европейский Научный Совет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а «Люди» (7129 млн евро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количественное и качественное укрепление кадрового потенциала европейской науки и технологий через серию акций Мари Кюри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труктура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а «Потенциал» (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pacities) – 7486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лн евро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поддержка научной инфраструктуры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сследования, проводимые в интересах средних и малых предприятий и научного потенциала европейских регионов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(Regions of Knowledge)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, а также стимулирование реализации полного научного потенциала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(Convergence Regions)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асширяющегося ЕС  и построение эффективного и демократического европейского общества, основанного на знаниях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труктура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90360" y="14475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Здравоохранение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8317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одукты питания, сельское хозяйство и био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2455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12670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анонауки, нанотехнологии, материалы и новые производственные 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4832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Энергети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2931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кружающая среда и изменения клима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2535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Транспорт и аэронавти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5940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цио-экономические и гуманитарные исследован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792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Космические исследования и исследования в области безопасности (3960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сновные тематические направления 7РП в рамках программы «Сотрудничество»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еждународное сотрудничество в 7РП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трудничество с третьими странами будет направлено в особенности на следующие группы стран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траны-кандидаты на вступление в ЕС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траны, граничащие с ЕС, страны Средиземноморья, Западных Балкан и новые независимые государства (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the Newly Independent States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Развивающиеся страны с учетом их конкретных нуж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траны с переходной экономико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еждународное сотрудничество в рамках тематических приоритетов будет поддержано по конкурсам программы «Сотрудничество». Международные акции в сфере кадрового научного потенциала будут поддержаны в рамках программы «Люди»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7:53:13Z</dcterms:created>
  <dc:creator>mvm</dc:creator>
  <dc:description/>
  <dc:language>en-US</dc:language>
  <cp:lastModifiedBy>LEGION</cp:lastModifiedBy>
  <cp:lastPrinted>1999-02-08T15:51:10Z</cp:lastPrinted>
  <dcterms:modified xsi:type="dcterms:W3CDTF">2015-07-01T12:07:50Z</dcterms:modified>
  <cp:revision>157</cp:revision>
  <dc:subject/>
  <dc:title>Презентация PowerPoint</dc:title>
</cp:coreProperties>
</file>