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433B-23A1-41E7-9378-0C64F66812C9}" type="datetime">
              <a:rPr b="0" lang="en-GB" sz="1200" spc="-1" strike="noStrike">
                <a:solidFill>
                  <a:srgbClr val="000000"/>
                </a:solidFill>
                <a:latin typeface="Arial Narrow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0AFD-A964-4F1B-ABE3-B6977FFF9F95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B88A-3479-486E-9859-D9B818A0FBC4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B928-36A9-4152-B4F0-CFEE3D0F0DF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рук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1E71-B015-4D3B-ADA4-4B9B9D76B60F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логические основы ИК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82E8-35ED-4E15-BAF6-5D3798A4D13C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грация технолог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782AB-37C2-4FCD-94A3-79AD7D23ED35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кладные исследова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людей с ограниченными способ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би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E5E5-EEE2-4414-974C-C4B11A5BC35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электрони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тоника и интегрированные микр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нан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ообразие и плотност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терфейс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9F70-D1F6-4943-83AF-CDE3735BF29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овые вычислительные архите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предоставляемые в виде утили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8633-2C91-40C0-9736-5664F8F60FE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стемы знаний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гнитивные и обучающ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делирование, визуализац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7F03-44E7-4847-A629-85BE2CB7D83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.ч. достижен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бласти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ки, биотехнологий,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5BBD-2D77-423E-B643-B360644C333E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сональны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ированные в аксессуа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ед-меты одежды 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плантант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ие сред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ый цифровой контен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бототехнические систем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ные автономные систем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взаимодейств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атюризац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ллектуальные инфраструктуры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3854-1759-473F-ABB8-F0F6CA85889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ussels, 6 April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roposal fo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ILDING THE EUROPE OF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resented by the Commi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7A2E-8221-4AA8-B941-31242D1E625A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решения социальных проблем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здравоохранени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юдей с ограниченными способностя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преодоления цифровой дискримина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спомогатель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для все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50EC-1A70-4AC8-8539-EC5EA0971D41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бильности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стойчивого развит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Т для правительст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B22A-6506-4E5B-89F2-8D5E073B99F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B5E5-B976-4791-A3F3-2767C1AF2870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0ED9-4205-449E-A0C8-B69E3CEC0E72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ущие и возникающие технологии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103F-F24C-4205-8BD6-339D95F93691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31AA-15AA-4130-8DF5-FBE2A059B327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(444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странами ЕС и третьими стра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041A-2BBD-4804-B234-16547EA27F6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Идеи» (1186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Люди» (7129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0C94-67BC-447A-A4BF-F7B220BDA5BD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грамма «Потенциал»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acities) – 7486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лн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C4B5B-11FE-4F6A-9863-C6D9F4AFB42E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равоохранени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8317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45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1267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483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931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среда и изменения климат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2535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 и аэронавти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594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792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5E85-416C-4532-A376-27DB538C5B79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-кандидаты на вступление в Е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ы с переходной экономико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53E8-2FB2-490C-A1B2-889499BC3FE3}" type="slidenum">
              <a:rPr b="0" lang="en-GB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5F77-E703-4F2D-9FAC-03BFA9EC8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FDCC-4A29-4B8C-A932-A8153396F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9A36-F251-457B-AAAE-2F4CC3A65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68044-2540-4575-A0C0-0ABC69B29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E5FFD-0069-4B57-AC18-F2F60E77E6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6E40D-BB00-4D00-9390-B08CD5FAAA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60460-25F3-42F3-A7EC-4AE5594358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B12C7-31EF-4136-9D69-13BB2DA891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A114-09D0-411B-8DF0-B3A0E5F15B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69C9A-ABBD-4E19-A738-8DB9D877E2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B29CF-134F-424B-902E-4C950BF3FF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2D770-888E-47D9-A28A-143434AED4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CFADC-FF17-47CF-85E4-D908D93699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8C60D-98C8-495A-ACF9-A52EBD2787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1431C-3C53-4862-B2E5-9DEA11DBA5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2580-2D31-4DFC-9B98-905DEA5258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613C9-284D-45F7-9054-B2FC5A6330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1B929-BACC-4AA4-BB76-4853B0997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4F180-6AF3-4440-A366-54291077E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34B2-EBA3-4777-B05F-1F984E7C2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895120" y="533520"/>
            <a:ext cx="6838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FF5A-83DB-440A-8562-67041B4D3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7118D-D4C3-4A71-8AD0-DE81F377C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B8EE-7D2E-434B-98A7-A79887B94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E03FA-0F2C-4D95-925E-11CABD5D8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rc 2"/>
          <p:cNvSpPr/>
          <p:nvPr/>
        </p:nvSpPr>
        <p:spPr>
          <a:xfrm>
            <a:off x="0" y="84312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" name="Line 24"/>
          <p:cNvSpPr/>
          <p:nvPr/>
        </p:nvSpPr>
        <p:spPr>
          <a:xfrm>
            <a:off x="0" y="1219320"/>
            <a:ext cx="990900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AutoShape 25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AutoShape 26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AutoShape 27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AutoShape 28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AutoShape 29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" name="Text Box 32"/>
          <p:cNvSpPr/>
          <p:nvPr/>
        </p:nvSpPr>
        <p:spPr>
          <a:xfrm>
            <a:off x="23436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9" name="Picture 34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2"/>
          <p:cNvSpPr>
            <a:spLocks noGrp="1"/>
          </p:cNvSpPr>
          <p:nvPr>
            <p:ph type="sldNum" idx="1"/>
          </p:nvPr>
        </p:nvSpPr>
        <p:spPr>
          <a:xfrm>
            <a:off x="80010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588F-69A5-4C7B-BA0B-E32C9FDCFBD2}" type="slidenum">
              <a:rPr b="0" lang="ru-RU" sz="20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rc 48"/>
          <p:cNvSpPr/>
          <p:nvPr/>
        </p:nvSpPr>
        <p:spPr>
          <a:xfrm>
            <a:off x="0" y="839880"/>
            <a:ext cx="5530680" cy="60181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" name="Line 2"/>
          <p:cNvSpPr/>
          <p:nvPr/>
        </p:nvSpPr>
        <p:spPr>
          <a:xfrm>
            <a:off x="1523880" y="1219320"/>
            <a:ext cx="8385120" cy="0"/>
          </a:xfrm>
          <a:prstGeom prst="line">
            <a:avLst/>
          </a:prstGeom>
          <a:ln cap="sq"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AutoShape 37"/>
          <p:cNvSpPr/>
          <p:nvPr/>
        </p:nvSpPr>
        <p:spPr>
          <a:xfrm>
            <a:off x="1905120" y="171360"/>
            <a:ext cx="419040" cy="419040"/>
          </a:xfrm>
          <a:custGeom>
            <a:avLst/>
            <a:gdLst/>
            <a:ahLst/>
            <a:rect l="l" t="t" r="r" b="b"/>
            <a:pathLst>
              <a:path w="419100" h="419100">
                <a:moveTo>
                  <a:pt x="0" y="160082"/>
                </a:moveTo>
                <a:lnTo>
                  <a:pt x="160083" y="160083"/>
                </a:lnTo>
                <a:lnTo>
                  <a:pt x="209550" y="0"/>
                </a:lnTo>
                <a:lnTo>
                  <a:pt x="259017" y="160083"/>
                </a:lnTo>
                <a:lnTo>
                  <a:pt x="419100" y="160082"/>
                </a:lnTo>
                <a:lnTo>
                  <a:pt x="289590" y="259017"/>
                </a:lnTo>
                <a:lnTo>
                  <a:pt x="339059" y="419099"/>
                </a:lnTo>
                <a:lnTo>
                  <a:pt x="209550" y="320162"/>
                </a:lnTo>
                <a:lnTo>
                  <a:pt x="80041" y="419099"/>
                </a:lnTo>
                <a:lnTo>
                  <a:pt x="129510" y="259017"/>
                </a:lnTo>
                <a:lnTo>
                  <a:pt x="0" y="160082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" name="AutoShape 38"/>
          <p:cNvSpPr/>
          <p:nvPr/>
        </p:nvSpPr>
        <p:spPr>
          <a:xfrm rot="20940000">
            <a:off x="1219320" y="22860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AutoShape 39"/>
          <p:cNvSpPr/>
          <p:nvPr/>
        </p:nvSpPr>
        <p:spPr>
          <a:xfrm rot="1320000">
            <a:off x="168120" y="244080"/>
            <a:ext cx="882720" cy="882720"/>
          </a:xfrm>
          <a:custGeom>
            <a:avLst/>
            <a:gdLst/>
            <a:ahLst/>
            <a:rect l="l" t="t" r="r" b="b"/>
            <a:pathLst>
              <a:path w="882650" h="882650">
                <a:moveTo>
                  <a:pt x="1" y="337141"/>
                </a:moveTo>
                <a:lnTo>
                  <a:pt x="337144" y="337144"/>
                </a:lnTo>
                <a:lnTo>
                  <a:pt x="441325" y="0"/>
                </a:lnTo>
                <a:lnTo>
                  <a:pt x="545506" y="337144"/>
                </a:lnTo>
                <a:lnTo>
                  <a:pt x="882649" y="337141"/>
                </a:lnTo>
                <a:lnTo>
                  <a:pt x="609893" y="545505"/>
                </a:lnTo>
                <a:lnTo>
                  <a:pt x="714078" y="882648"/>
                </a:lnTo>
                <a:lnTo>
                  <a:pt x="441325" y="674280"/>
                </a:lnTo>
                <a:lnTo>
                  <a:pt x="168572" y="882648"/>
                </a:lnTo>
                <a:lnTo>
                  <a:pt x="272757" y="545505"/>
                </a:lnTo>
                <a:lnTo>
                  <a:pt x="1" y="33714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AutoShape 40"/>
          <p:cNvSpPr/>
          <p:nvPr/>
        </p:nvSpPr>
        <p:spPr>
          <a:xfrm rot="1086000">
            <a:off x="2590920" y="304920"/>
            <a:ext cx="380880" cy="304560"/>
          </a:xfrm>
          <a:custGeom>
            <a:avLst/>
            <a:gdLst/>
            <a:ahLst/>
            <a:rect l="l" t="t" r="r" b="b"/>
            <a:pathLst>
              <a:path w="381000" h="304800">
                <a:moveTo>
                  <a:pt x="0" y="116423"/>
                </a:moveTo>
                <a:lnTo>
                  <a:pt x="145530" y="116424"/>
                </a:lnTo>
                <a:lnTo>
                  <a:pt x="190500" y="0"/>
                </a:lnTo>
                <a:lnTo>
                  <a:pt x="235470" y="116424"/>
                </a:lnTo>
                <a:lnTo>
                  <a:pt x="381000" y="116423"/>
                </a:lnTo>
                <a:lnTo>
                  <a:pt x="263263" y="188376"/>
                </a:lnTo>
                <a:lnTo>
                  <a:pt x="308235" y="304799"/>
                </a:lnTo>
                <a:lnTo>
                  <a:pt x="190500" y="232845"/>
                </a:lnTo>
                <a:lnTo>
                  <a:pt x="72765" y="304799"/>
                </a:lnTo>
                <a:lnTo>
                  <a:pt x="117737" y="188376"/>
                </a:lnTo>
                <a:lnTo>
                  <a:pt x="0" y="116423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AutoShape 41"/>
          <p:cNvSpPr/>
          <p:nvPr/>
        </p:nvSpPr>
        <p:spPr>
          <a:xfrm rot="2313600">
            <a:off x="3231720" y="533160"/>
            <a:ext cx="304920" cy="228600"/>
          </a:xfrm>
          <a:custGeom>
            <a:avLst/>
            <a:gdLst/>
            <a:ahLst/>
            <a:rect l="l" t="t" r="r" b="b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lnTo>
                  <a:pt x="0" y="87317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100000">
                <a:srgbClr val="0033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Text Box 43"/>
          <p:cNvSpPr/>
          <p:nvPr/>
        </p:nvSpPr>
        <p:spPr>
          <a:xfrm>
            <a:off x="4114800" y="6307200"/>
            <a:ext cx="50292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242280" y="1324080"/>
            <a:ext cx="4658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Ф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О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Т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 Narrow"/>
              </a:rPr>
              <a:t>Х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" name="Picture 46" descr="C:\LENA\Enrin\Flyer\iosLogoEng.gif"/>
          <p:cNvPicPr/>
          <p:nvPr/>
        </p:nvPicPr>
        <p:blipFill>
          <a:blip r:embed="rId2"/>
          <a:stretch/>
        </p:blipFill>
        <p:spPr>
          <a:xfrm>
            <a:off x="9112320" y="6350040"/>
            <a:ext cx="403200" cy="4237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533520"/>
            <a:ext cx="6838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2"/>
          </p:nvPr>
        </p:nvSpPr>
        <p:spPr>
          <a:xfrm>
            <a:off x="7467480" y="-360"/>
            <a:ext cx="2438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2E96-12C1-44D3-A40D-5175D65D77FC}" type="slidenum">
              <a:rPr b="0" lang="ru-RU" sz="1400" spc="-1" strike="noStrike">
                <a:solidFill>
                  <a:srgbClr val="009999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99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ff9966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523520" y="4495320"/>
            <a:ext cx="7239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В.М.Михов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Директор ГосНИИ ОС, Руководитель НКТ «ИНФОТЕХ»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143000" y="1752480"/>
            <a:ext cx="815328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1066680" y="1219320"/>
            <a:ext cx="83822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ая программа «Информационные и коммуникационные технологии» Седьмой рамочной программы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научно-технического развития ЕС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достижение высокого уровня европейских разработок в информационных и коммуникационных технологиях (ИКТ), направленных на удовлетворение общественных и экономических потребностей. Укрепление научно-технической базы Европы в области ИКТ, приведение в движение и стимулирование инноваций через ИКТ. Обеспечение быстрой трансформации прогресса в области ИКТ в преимущества для европейских граждан, бизнеса, промышленности и правительст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6" name="Rectangle 1029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Технологические основы ИКТ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Интеграция технологий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Прикладные исследования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Технологические основы ИКТ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нано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Интеграция технологий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икладные исследования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людей с ограниченными способностям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оби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33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«Информационные и коммуникационные технологии» в 7-ой рамочной программе ЕС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2640" y="13712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Наноэлектроник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отоника и интегрированные микр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/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нан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</a:rPr>
              <a:t>-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еодоление ограничений в миниатюриз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ногообразие и плотность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ышение производительности и технологичности производства при низких затрата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ощенная  интеграция ИКТ в различные прилож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нтерфейс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исковые исследования, основанные на новых концепция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азветвленные коммуникационные сети неограниченной мощ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всеместный доступ к неоднородным сетям – фиксированным, мобильным, беспроводным и широковещательным сетям для персональных, региональных и глобальных целей – обеспечивающий предоставление прямого доступа к все возрастающим объемам данных и услуг повсеместно и в любое врем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строенные системы, вычисления и управление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ощные, безопасные и распределенные вычислительные и коммуникационные системы, встраиваемые в объекты и физические инфраструктуры и способные взаимодействовать со средой и адаптироваться к н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граммное обеспечение, грид-технологии, безопасность и надежность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намичное, адаптивное, надежное и безопасное программное обеспечение и услуг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новые вычислительные архитекту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в т.ч. предоставляемые в виде утили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Системы знаний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огнитивные и обучающ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звлечение и использование знаний, контент, встроенный в веб и 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скусственные системы, построенные на принципах биологических систем, способные воспринимать, понимать, обучаться, эволюционировать и действовать автономн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 с применением машин и человеческого фактора, основанные на углубленном понимании когнитивных процессов челове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делирование, визуализац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взаимодействие и комбинирование виртуальной и реальной ре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инновационного проектирования  и креативность в продуктах, услугах и цифровых  мульти-медиа, а также естественного взаимодействия и контекстуаль-ного взаимодействия с лингвистической поддерж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Технологические основы ИКТ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Новые перспективы взаимодействия ИКТ с другими научными дисциплинами и технологическими областями,</a:t>
            </a:r>
            <a:r>
              <a:rPr b="1" i="1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т.ч. достижения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области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физики, биотехнологий,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атериаловедения, наук о жизни, с целью миниатюризации ИКТ устройств до размеров, совместимых и взаимодействующих с живыми организмами, для повышения производительности системного инжиниринга и обработки информации, а также для моделирования и имитации живого мира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ерсональны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тройства для персональных комму-никаций и вычислени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грированные в аксессуар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пред-меты одежды 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мплантан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их интерфейсы и взаимосвязь с услуг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машние сред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едача данных, мониторинг, управле-ние и поддерж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имость и интегрированное использо-вание всех устройст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рактивный цифровой контен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Робототехнические систем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ерспективные автономные 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учение, управление, операционные способност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естественное взаимодейств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теллектуальные инфраструктуры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для создания инфраструктур, которые позволят сделать повседневную жизнь более эффективной, легко адаптируемой и устойчив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Интеграция технологий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russels, 6 April 2005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Proposal for 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DECISION OF THE EUROPEAN PARLIAMENT AND OF THE COUNCI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concerning the seventh framework programme of the European Community for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research, technological development and demonstration activities (2007 to 2013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BUILDING THE EUROPE OF KNOWLEDG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presented by the Commission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142640" y="14475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решения социальных проблем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системы и службы в областях, представляющих интерес для широкой общественности, в интересах повышения качества, эффективности, улучшения доступа и охв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удобные для пользователя приложения, интеграция новых технологий и инициатив, таких как интеллектуальный образ жизн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здравоохран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лучшения профилактики заболеваний и ранней диагности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втономность, безопасность и мобильность пациент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формационное пространство знаний по здравоохранению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обеспечения цифрового равенств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людей с ограниченными способностями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преодоления цифровой дискримин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спомогатель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изайн для всех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142640" y="1523880"/>
            <a:ext cx="85345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обильности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теллектуальные транспортные системы на основе ИКТ, обеспечивающие безопасную, комфортную и эффективную транспортировку людей и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в интересах охраны окружающей среды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устойчивого развит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ля повышения степени защищенности и преодоления последствий природных и промышленных катастроф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правительств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ффективность, открытость и отчетность для органов общественного и государственного управления и связей с гражданами и бизнесом на принципах демократ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контента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креативности и развития лич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парадиг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мультимеди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 новые формы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здание интерактивного цифрового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богащение опыта пользовател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ентабельная доставка  контен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совершенствованные технологи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истанционного обучения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даптивные и контекстно-ориентированные реше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активное обуч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КТ-системы для поддержки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доступности и долговременного использования цифровых культурных ресурсов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в многоязычной среде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-поддержка для бизнеса и промышлен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овые формы динамических сетевых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изнес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процесс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ые экосистем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птимизированная организация рабо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рпоративные рабочие пространств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–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производство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быстрое и адаптивное проектирование, производство и доставка заказных товаров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ифровое и виртуальное производ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инструментальные средства моделирования, имитации и презент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иниатюрные и интегрированные ИКТ-продукты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КТ для доверия и конфиденциальност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идентификацие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тверждение подлинности и авторизац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технологии, обеспечивающие секретность  информац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управление правами и ресурсам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ащита от киберугроз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Прикладные исследования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42640" y="167652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Будущие и возникающие технологии</a:t>
            </a:r>
            <a:r>
              <a:rPr b="1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оддержка исследований на передовых рубежах знаний на основе ИКТ и их комбинация с другими релевантными областями и дисциплинами с целью стимулирования новых идей и радикально новых применений и использования новых опций в глобальных направлениях исследований в области ИКТ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cc"/>
                </a:solidFill>
                <a:latin typeface="Arial"/>
              </a:rPr>
              <a:t>Информационные и коммуникационные технологии в 7РП: Будущие и возникающие технологии</a:t>
            </a:r>
            <a:endParaRPr b="1" lang="en-US" sz="22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352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рок действия: 2007 – 2013 гг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Бюджет: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  <a:ea typeface="Times New Roman"/>
              </a:rPr>
              <a:t>72 726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иллионов евро</a:t>
            </a:r>
            <a:r>
              <a:rPr b="1" lang="ru-RU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труктура: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Сотрудничество 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(44432 </a:t>
            </a: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млн евро</a:t>
            </a:r>
            <a:r>
              <a:rPr b="1" lang="en-US" sz="26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Идеи (11862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Люди (7129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Потенциал (7486 млн евро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Проект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111" name="Object 7"/>
          <p:cNvGraphicFramePr/>
          <p:nvPr/>
        </p:nvGraphicFramePr>
        <p:xfrm>
          <a:off x="838080" y="1295280"/>
          <a:ext cx="4419720" cy="34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4419720" cy="34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80"/>
          <p:cNvGraphicFramePr/>
          <p:nvPr/>
        </p:nvGraphicFramePr>
        <p:xfrm>
          <a:off x="5105520" y="3435480"/>
          <a:ext cx="4647960" cy="278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Object 18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435480"/>
                    <a:ext cx="464796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90720" y="13712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(444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Цель: поддержка всего спектра научной деятельности, осущес-твляемой в рамках транснационального сотрудничества, от совместных проектов и сетей до координации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Движущей силой в этой программе станет промышленность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грамма «Сотрудничество» состоит из трех под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 совместные исследования будут затрачены основные средства, выделяемые ЕС на финансирование наук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вместные технологические инициативы, созданные, как правило, на основе Европейских Технологических Платфор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ординация национальных научных программ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 странами ЕС и третьими странами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Идеи» (11862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содействие динамизму, креативности и обеспечение научного превосходства европейских исследований  на передовых рубежах знаний во всех научных и технологических областях, включая инженерные науки, социо-экономические и гуманитарные исследования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Эту программу будет координировать Европейский Научный Совет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Люди» (7129 млн евро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количественное и качественное укрепление кадрового потенциала европейской науки и технологий через серию акций Мари Кюри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90360" y="16002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рограмма «Потенциал» (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pacities) – 7486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млн евро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Цель: поддержка научной инфраструктуры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исследования, проводимые в интересах средних и малых предприятий и научного потенциала европейских регионов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(Regions of Knowledge)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, а также стимулирование реализации полного научного потенциала 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(Convergence Regions)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расширяющегося ЕС  и построение эффективного и демократического европейского общества, основанного на знаниях</a:t>
            </a:r>
            <a:r>
              <a:rPr b="0" lang="en-US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труктура 7-ой рамочной программы научно-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технического развития Европейского Союза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90360" y="14475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Здравоохранение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8317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Продукты питания, сельское хозяйство и био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45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Информационные и коммуникацио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1267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Нанонауки, нанотехнологии, материалы и новые производственные технологии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483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нерге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931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кружающая среда и изменения климат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2535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Транспорт и аэронавтика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594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цио-экономические и гуманитарные исследования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(792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69360" indent="-3693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Космические исследования и исследования в области безопасности (3960 млн евро)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Основные тематические направления 7РП в рамках программы «Сотрудничество»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2057400" y="398520"/>
            <a:ext cx="769608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ждународное сотрудничество в 7РП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90360" y="1371240"/>
            <a:ext cx="8305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отрудничество с третьими странами будет направлено в особенности на следующие группы стран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: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-кандидаты на вступление в ЕС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, граничащие с ЕС, страны Средиземноморья, Западных Балкан и новые независимые государства (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the Newly Independent States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Развивающиеся страны с учетом их конкретных нужд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;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Страны с переходной экономикой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Международное сотрудничество в рамках тематических приоритетов будет поддержано по конкурсам программы «Сотрудничество». Международные акции в сфере кадрового научного потенциала будут поддержаны в рамках программы «Люди»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7:53:13Z</dcterms:created>
  <dc:creator>mvm</dc:creator>
  <dc:description/>
  <dc:language>en-US</dc:language>
  <cp:lastModifiedBy>LEGION</cp:lastModifiedBy>
  <cp:lastPrinted>1999-02-08T15:51:10Z</cp:lastPrinted>
  <dcterms:modified xsi:type="dcterms:W3CDTF">2015-07-01T12:07:50Z</dcterms:modified>
  <cp:revision>157</cp:revision>
  <dc:subject/>
  <dc:title>Презентация PowerPoint</dc:title>
</cp:coreProperties>
</file>