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5C8FE-1DBB-4211-997D-4883A284AAAB}" type="datetime">
              <a:rPr b="0" lang="en-GB" sz="1200" spc="-1" strike="noStrike">
                <a:solidFill>
                  <a:srgbClr val="000000"/>
                </a:solidFill>
                <a:latin typeface="Arial Narrow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01FC2-56B3-45FE-83ED-D63B90733CBD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1A5B1-781B-4B65-B2AE-5F99A48AA1BB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формационные и коммуникационные техн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: достижение высокого уровня европейских разработок в информационных и коммуникационных технологиях (ИКТ), направленных на удовлетворение общественных и экономических потребностей. Укрепление научно-технической базы Европы в области ИКТ, приведение в движение и стимулирование инноваций через ИКТ. Обеспечение быстрой трансформации прогресса в области ИКТ в преимущества для европейских граждан, бизнеса, промышленности и правительств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7E6E1-3EDD-4BF4-B6B0-8296B68F2720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формационные и коммуникационные техн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руктур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ческие основы И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ые перспективы взаимодействия ИКТ с другими научными дисциплинами и технологическими областя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грация технолог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кладные исслед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дущие и возникающие техн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417A6-6314-4D31-A439-9491F348D9F6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формационные и коммуникационные технолог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ехнологические основы ИК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электроник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тоника и интегрированные микр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етвленные коммуникационные сети неограниченной мощ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троенные системы, вычисления и 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раммное обеспечение, грид-технологии, безопасность и надеж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ы знани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гнитивные и обучающие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ирование, визуализаци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действие и комбинирование виртуальной и реальной реа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F5F64-FCF2-4326-9866-5C21963E3F38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Информационные и коммуникационные технологи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овые перспективы взаимодействия ИКТ с другими научными дисциплинами и технологическими областя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еграция технолог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ьные сре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ие сре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бототехнические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ллектуальные инфраструк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04528-B086-4213-A40F-CA8941794482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Информационные и коммуникационные технологи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кладные исследова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КТ для решения соци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КТ для здравоохра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КТ для людей с ограниченными способност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КТ дл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би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КТ в интересах охраны окружающей среды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КТ для правитель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КТ для контент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еативности и развития лич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КТ-поддержка для бизнеса и промышл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КТ для доверия и конфиденциа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480F7-9B9C-48D4-B0EF-C99513CB09DE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Информационные и коммуникационные технологии в 7РП: Технологические основы И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ноэлектроника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отоника и интегрированные микр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/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нан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истемы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одоление ограничений в миниатюризаци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граци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ногообразие и плотност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производительности и технологичности производства при низких затрата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ощенная  интеграция ИКТ в различные приложени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нтерфейс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исковые исследования, основанные на новых концепция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ветвленные коммуникационные сети неограниченной мощности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семестный доступ к неоднородным сетям – фиксированным, мобильным, беспроводным и широковещательным сетям для персональных, региональных и глобальных целей – обеспечивающий предоставление прямого доступа к все возрастающим объемам данных и услуг повсеместно и в любое врем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82B6D-2323-4D76-98FC-8DF542068192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Информационные и коммуникационные технологии в 7РП: Технологические основы И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троенные системы, вычисления и управление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щные, безопасные и распределенные вычислительные и коммуникационные системы, встраиваемые в объекты и физические инфраструктуры и способные взаимодействовать со средой и адаптироваться к не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граммное обеспечение, грид-технологии, безопасность и надежность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намичное, адаптивное, надежное и безопасное программное обеспечение и услуг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овые вычислительные архитектур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.ч. предоставляемые в виде утили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929D7-52A0-4FFB-91EF-1BDE47C2D79F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истемы знаний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гнитивные и обучающие системы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влечение и использование знаний, контент, встроенный в веб и мультимеди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кусственные системы, построенные на принципах биологических систем, способные воспринимать, понимать, обучаться, эволюционировать и действовать автономн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учение с применением машин и человеческого фактора, основанные на углубленном понимании когнитивных процессов человек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делирование, визуализаци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заимодействие и комбинирование виртуальной и реальной реальности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трументальные средства инновационного проектирования  и креативность в продуктах, услугах и цифровых  мульти-медиа, а также естественного взаимодействия и контекстуаль-ного взаимодействия с лингвистической поддержко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1F0D4-E3FF-433D-99B0-CF8F4C7F4B83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овые перспективы взаимодействия ИКТ с другими научными дисциплинами и технологическими областями,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.ч. достижения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бласти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ики, биотехнологий,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риаловедения, наук о жизни, с целью миниатюризации ИКТ устройств до размеров, совместимых и взаимодействующих с живыми организмами, для повышения производительности системного инжиниринга и обработки информации, а также для моделирования и имитации живого мир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2F7AA-D4F4-411E-8EBB-EF606A87BA53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рсональные среды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ройства для персональных комму-никаций и вычислени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грированные в аксессуар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ред-меты одежды 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плантант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х интерфейсы и взаимосвязь с услугами и ресурсам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машние среды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ача данных, мониторинг, управле-ние и поддержк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местимость и интегрированное использо-вание всех устройств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активный цифровой контен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обототехнические системы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пективные автономные систем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учение, управление, операционные способност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тественное взаимодействи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атюризаци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еллектуальные инфраструктуры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трументальные средства для создания инфраструктур, которые позволят сделать повседневную жизнь более эффективной, легко адаптируемой и устойчиво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8D5B4-2F64-4DC4-96B1-D09A199DFF6E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russels, 6 April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roposal for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ECISION OF THE EUROPEAN PARLIAMENT AND OF THE COUNC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oncerning the seventh framework programme of the European Community for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esearch, technological development and demonstration activities (2007 to 20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UILDING THE EUROPE OF KNOWL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presented by the Commiss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9D75D-47FA-4A99-8B1F-A4466A66E76D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КТ для решения социальных проблем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ые системы и службы в областях, представляющих интерес для широкой общественности, в интересах повышения качества, эффективности, улучшения доступа и охват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удобные для пользователя приложения, интеграция новых технологий и инициатив, таких как интеллектуальный образ жизн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КТ для здравоохранени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я профилактики заболеваний и ранней диагностик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номность, безопасность и мобильность пациентов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ое пространство знаний по здравоохранению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КТ для обеспечения цифрового равенства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юдей с ограниченными способностями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преодоления цифровой дискриминаци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спомогательные технологи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зайн для все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EDAE4-5385-4B14-B490-A0EA5C6ECEA4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КТ дл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бильности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ллектуальные транспортные системы на основе ИКТ, обеспечивающие безопасную, комфортную и эффективную транспортировку людей и товаров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КТ в интересах охраны окружающей среды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устойчивого развити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повышения степени защищенности и преодоления последствий природных и промышленных катастро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КТ для правительств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ивность, открытость и отчетность для органов общественного и государственного управления и связей с гражданами и бизнесом на принципах демократи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9678B-AB64-4AC3-81E1-5BF8090D17DF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Информационные и коммуникационные технологии в 7РП: Прикладные исслед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КТ для контент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реативности и развития личности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овые парадигмы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мультимеди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новые формы контент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здание интерактивного цифрового контент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огащение опыта пользователей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нтабельная доставка  контент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совершенствованные технологии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дистанционного обучения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даптивные и контекстно-ориентированные решени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ктивное обучени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КТ-системы для поддержки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доступности и долговременного использования цифровых культурных ресурсов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 многоязычной сред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10951-AC5E-488D-932B-A87B5BE161F3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Информационные и коммуникационные технологии в 7РП: Прикладные исслед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КТ-поддержка для бизнеса и промышленности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овые формы динамических сетевых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бизнес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процессов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цифровые экосистемы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птимизированная организация работы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рпоративные рабочие пространств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оизводство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ыстрое и адаптивное проектирование, производство и доставка заказных товаров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цифровое и виртуальное производств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нструментальные средства моделирования, имитации и презентаци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иниатюрные и интегрированные ИКТ-продукты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КТ для доверия и конфиденциальности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правление идентификацией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дтверждение подлинности и авторизаци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технологии, обеспечивающие секретность  информаци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правление правами и ресурсам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щита от киберугроз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857A4-9AE8-419F-80B2-BF66250B78C2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Информационные и коммуникационные технологии в 7РП: Будущие и возникающие техн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удущие и возникающие технологии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держка исследований на передовых рубежах знаний на основе ИКТ и их комбинация с другими релевантными областями и дисциплинами с целью стимулирования новых идей и радикально новых применений и использования новых опций в глобальных направлениях исследований в области ИК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CA7D6-C8E6-40C2-B401-3607B8F03E5F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рок действия: 2007 – 2013 гг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Бюджет: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72 726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миллионов евро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труктура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отрудничество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44432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млн евро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Идеи (11862 млн евро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Люди (7129 млн евро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отенциал (7486 млн евро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1A651-2B4F-4A03-B8A1-2819FC8160F3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рамма «Сотрудничество» (44432 млн евр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: поддержка всего спектра научной деятельности, осущес-твляемой в рамках транснационального сотрудничества, от совместных проектов и сетей до координации национальных научных програм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ижущей силой в этой программе станет промышлен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рамма «Сотрудничество» состоит из трех подпрограм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совместные исследования будут затрачены основные средства, выделяемые ЕС на финансирование наук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местные технологические инициативы, созданные, как правило, на основе Европейских Технологических Платфор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ординация национальных научных програм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ое сотрудничеств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 странами ЕС и третьими стран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464A0-9FC4-46E5-BEB4-2DB17EC5FDD3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рамма «Идеи» (11862 млн евр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: содействие динамизму, креативности и обеспечение научного превосходства европейских исследований  на передовых рубежах знаний во всех научных и технологических областях, включая инженерные науки, социо-экономические и гуманитарные исследовани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у программу будет координировать Европейский Научный Сове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рамма «Люди» (7129 млн евр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: количественное и качественное укрепление кадрового потенциала европейской науки и технологий через серию акций Мари Кюр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E4406-07C3-4440-9FD8-F3E240E7CDB7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рамма «Потенциал»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acities) – 7486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лн евр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: поддержка научной инфраструктур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следования, проводимые в интересах средних и малых предприятий и научного потенциала европейских регионов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(Regions of Knowledge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а также стимулирование реализации полного научного потенциал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Convergence Regions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ширяющегося ЕС  и построение эффективного и демократического европейского общества, основанного на знания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D3598-5CF3-489B-80A4-B6E12DB0BB17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дравоохранени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8317 млн евр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укты питания, сельское хозяйство и биотехнологи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2455 млн евр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формационные и коммуникационные технологи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2670 млн евр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науки, нанотехнологии, материалы и новые производственные технологи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4832 млн евр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нергетик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2931 млн евр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ружающая среда и изменения климат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2535 млн евр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нспорт и аэронавтик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5940 млн евр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о-экономические и гуманитарные исследовани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792 млн евр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смические исследования и исследования в области безопасности (3960 млн евр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E0493-774C-476C-9846-6F33FC167BA3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трудничество с третьими странами будет направлено в особенности на следующие группы стран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ны-кандидаты на вступление в Е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ны, граничащие с ЕС, страны Средиземноморья, Западных Балкан и новые независимые государства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e Newly Independent State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вающиеся страны с учетом их конкретных нужд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ны с переходной экономико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ое сотрудничество в рамках тематических приоритетов будет поддержано по конкурсам программы «Сотрудничество». Международные акции в сфере кадрового научного потенциала будут поддержаны в рамках программы «Люди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DA1F4-CF36-4B9B-B609-27415F3394FF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CCB2C-3393-48A8-A2C2-015A88E71D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8DADF-2223-43AC-BAD9-4318AED90B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E0006-7A6B-4E58-8F16-2CCB12DC48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50BCA-FD7A-4CBD-8CBE-38A637FD61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B90EF-F9F8-40BB-9AEF-7263FD261D9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7414F-FE69-42F9-81E1-35B897F3EBC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67864-9DA6-47F0-AFFB-B723D7ADCFD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822DA-94E3-480A-9590-BDA9E0F1A43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10586-C8BC-4248-A588-31A67758EAA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895120" y="533520"/>
            <a:ext cx="68389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5F332-B10D-44E9-8D0B-FBA857FBB23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C0AFA-3329-4086-A066-08FA05F4D1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18052-81A4-49EF-B650-F34D520C29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5A4A8-A82C-4B61-B34E-B3E5DB7619A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DEAA7-52D6-40FE-887F-9A0821451C1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424C6-DE2B-4C99-9D4E-DAA1B4C2588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BA36C-83F2-4E20-8FB5-8C349DA49F9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DB319-E181-45CF-8340-B359DD2FCB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62E28-6F07-4A97-9AB0-B211CF4EDF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A2DE9-0EA7-44EA-A86A-11256B46EB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FF20C-1903-4ED9-B4A1-109046990D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895120" y="533520"/>
            <a:ext cx="68389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F9202-BE1A-4320-96C3-2B8EADEE23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C9EA6-E5A7-466F-A230-E8D2CD6CE9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B2174-D4F8-4378-83F3-4FA0EA4083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26439-E5F1-4B9A-A401-8ACE10418C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5530680" cy="60181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" name="Line 24"/>
          <p:cNvSpPr/>
          <p:nvPr/>
        </p:nvSpPr>
        <p:spPr>
          <a:xfrm>
            <a:off x="0" y="1219320"/>
            <a:ext cx="9909000" cy="0"/>
          </a:xfrm>
          <a:prstGeom prst="line">
            <a:avLst/>
          </a:prstGeom>
          <a:ln cap="sq"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AutoShape 25"/>
          <p:cNvSpPr/>
          <p:nvPr/>
        </p:nvSpPr>
        <p:spPr>
          <a:xfrm>
            <a:off x="1905120" y="171360"/>
            <a:ext cx="419040" cy="419040"/>
          </a:xfrm>
          <a:custGeom>
            <a:avLst/>
            <a:gdLst/>
            <a:ahLst/>
            <a:rect l="l" t="t" r="r" b="b"/>
            <a:pathLst>
              <a:path w="419100" h="419100">
                <a:moveTo>
                  <a:pt x="0" y="160082"/>
                </a:moveTo>
                <a:lnTo>
                  <a:pt x="160083" y="160083"/>
                </a:lnTo>
                <a:lnTo>
                  <a:pt x="209550" y="0"/>
                </a:lnTo>
                <a:lnTo>
                  <a:pt x="259017" y="160083"/>
                </a:lnTo>
                <a:lnTo>
                  <a:pt x="419100" y="160082"/>
                </a:lnTo>
                <a:lnTo>
                  <a:pt x="289590" y="259017"/>
                </a:lnTo>
                <a:lnTo>
                  <a:pt x="339059" y="419099"/>
                </a:lnTo>
                <a:lnTo>
                  <a:pt x="209550" y="320162"/>
                </a:lnTo>
                <a:lnTo>
                  <a:pt x="80041" y="419099"/>
                </a:lnTo>
                <a:lnTo>
                  <a:pt x="129510" y="259017"/>
                </a:lnTo>
                <a:lnTo>
                  <a:pt x="0" y="160082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AutoShape 26"/>
          <p:cNvSpPr/>
          <p:nvPr/>
        </p:nvSpPr>
        <p:spPr>
          <a:xfrm rot="20940000">
            <a:off x="1219320" y="228600"/>
            <a:ext cx="457200" cy="457200"/>
          </a:xfrm>
          <a:custGeom>
            <a:avLst/>
            <a:gdLst/>
            <a:ahLst/>
            <a:rect l="l" t="t" r="r" b="b"/>
            <a:pathLst>
              <a:path w="457200" h="457200">
                <a:moveTo>
                  <a:pt x="0" y="174634"/>
                </a:moveTo>
                <a:lnTo>
                  <a:pt x="174636" y="174636"/>
                </a:lnTo>
                <a:lnTo>
                  <a:pt x="228600" y="0"/>
                </a:lnTo>
                <a:lnTo>
                  <a:pt x="282564" y="174636"/>
                </a:lnTo>
                <a:lnTo>
                  <a:pt x="457200" y="174634"/>
                </a:lnTo>
                <a:lnTo>
                  <a:pt x="315916" y="282564"/>
                </a:lnTo>
                <a:lnTo>
                  <a:pt x="369882" y="457199"/>
                </a:lnTo>
                <a:lnTo>
                  <a:pt x="228600" y="349267"/>
                </a:lnTo>
                <a:lnTo>
                  <a:pt x="87318" y="457199"/>
                </a:lnTo>
                <a:lnTo>
                  <a:pt x="141284" y="282564"/>
                </a:lnTo>
                <a:lnTo>
                  <a:pt x="0" y="174634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AutoShape 27"/>
          <p:cNvSpPr/>
          <p:nvPr/>
        </p:nvSpPr>
        <p:spPr>
          <a:xfrm rot="1320000">
            <a:off x="168120" y="244080"/>
            <a:ext cx="882720" cy="882720"/>
          </a:xfrm>
          <a:custGeom>
            <a:avLst/>
            <a:gdLst/>
            <a:ahLst/>
            <a:rect l="l" t="t" r="r" b="b"/>
            <a:pathLst>
              <a:path w="882650" h="882650">
                <a:moveTo>
                  <a:pt x="1" y="337141"/>
                </a:moveTo>
                <a:lnTo>
                  <a:pt x="337144" y="337144"/>
                </a:lnTo>
                <a:lnTo>
                  <a:pt x="441325" y="0"/>
                </a:lnTo>
                <a:lnTo>
                  <a:pt x="545506" y="337144"/>
                </a:lnTo>
                <a:lnTo>
                  <a:pt x="882649" y="337141"/>
                </a:lnTo>
                <a:lnTo>
                  <a:pt x="609893" y="545505"/>
                </a:lnTo>
                <a:lnTo>
                  <a:pt x="714078" y="882648"/>
                </a:lnTo>
                <a:lnTo>
                  <a:pt x="441325" y="674280"/>
                </a:lnTo>
                <a:lnTo>
                  <a:pt x="168572" y="882648"/>
                </a:lnTo>
                <a:lnTo>
                  <a:pt x="272757" y="545505"/>
                </a:lnTo>
                <a:lnTo>
                  <a:pt x="1" y="337141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AutoShape 28"/>
          <p:cNvSpPr/>
          <p:nvPr/>
        </p:nvSpPr>
        <p:spPr>
          <a:xfrm rot="1086000">
            <a:off x="2590920" y="304920"/>
            <a:ext cx="380880" cy="304560"/>
          </a:xfrm>
          <a:custGeom>
            <a:avLst/>
            <a:gdLst/>
            <a:ahLst/>
            <a:rect l="l" t="t" r="r" b="b"/>
            <a:pathLst>
              <a:path w="381000" h="304800">
                <a:moveTo>
                  <a:pt x="0" y="116423"/>
                </a:moveTo>
                <a:lnTo>
                  <a:pt x="145530" y="116424"/>
                </a:lnTo>
                <a:lnTo>
                  <a:pt x="190500" y="0"/>
                </a:lnTo>
                <a:lnTo>
                  <a:pt x="235470" y="116424"/>
                </a:lnTo>
                <a:lnTo>
                  <a:pt x="381000" y="116423"/>
                </a:lnTo>
                <a:lnTo>
                  <a:pt x="263263" y="188376"/>
                </a:lnTo>
                <a:lnTo>
                  <a:pt x="308235" y="304799"/>
                </a:lnTo>
                <a:lnTo>
                  <a:pt x="190500" y="232845"/>
                </a:lnTo>
                <a:lnTo>
                  <a:pt x="72765" y="304799"/>
                </a:lnTo>
                <a:lnTo>
                  <a:pt x="117737" y="188376"/>
                </a:lnTo>
                <a:lnTo>
                  <a:pt x="0" y="116423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AutoShape 29"/>
          <p:cNvSpPr/>
          <p:nvPr/>
        </p:nvSpPr>
        <p:spPr>
          <a:xfrm rot="2313600">
            <a:off x="3231720" y="533160"/>
            <a:ext cx="304920" cy="228600"/>
          </a:xfrm>
          <a:custGeom>
            <a:avLst/>
            <a:gdLst/>
            <a:ahLst/>
            <a:rect l="l" t="t" r="r" b="b"/>
            <a:pathLst>
              <a:path w="304800" h="228600">
                <a:moveTo>
                  <a:pt x="0" y="87317"/>
                </a:moveTo>
                <a:lnTo>
                  <a:pt x="116424" y="87318"/>
                </a:lnTo>
                <a:lnTo>
                  <a:pt x="152400" y="0"/>
                </a:lnTo>
                <a:lnTo>
                  <a:pt x="188376" y="87318"/>
                </a:lnTo>
                <a:lnTo>
                  <a:pt x="304800" y="87317"/>
                </a:lnTo>
                <a:lnTo>
                  <a:pt x="210611" y="141282"/>
                </a:lnTo>
                <a:lnTo>
                  <a:pt x="246588" y="228599"/>
                </a:lnTo>
                <a:lnTo>
                  <a:pt x="152400" y="174634"/>
                </a:lnTo>
                <a:lnTo>
                  <a:pt x="58212" y="228599"/>
                </a:lnTo>
                <a:lnTo>
                  <a:pt x="94189" y="141282"/>
                </a:lnTo>
                <a:lnTo>
                  <a:pt x="0" y="87317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" name="Text Box 32"/>
          <p:cNvSpPr/>
          <p:nvPr/>
        </p:nvSpPr>
        <p:spPr>
          <a:xfrm>
            <a:off x="234360" y="1324080"/>
            <a:ext cx="4658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Н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К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Т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И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Н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Ф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Т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Е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Х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9" name="Picture 34" descr="C:\LENA\Enrin\Flyer\iosLogoEng.gif"/>
          <p:cNvPicPr/>
          <p:nvPr/>
        </p:nvPicPr>
        <p:blipFill>
          <a:blip r:embed="rId2"/>
          <a:stretch/>
        </p:blipFill>
        <p:spPr>
          <a:xfrm>
            <a:off x="9112320" y="6350040"/>
            <a:ext cx="403200" cy="42372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2"/>
          <p:cNvSpPr>
            <a:spLocks noGrp="1"/>
          </p:cNvSpPr>
          <p:nvPr>
            <p:ph type="sldNum" idx="1"/>
          </p:nvPr>
        </p:nvSpPr>
        <p:spPr>
          <a:xfrm>
            <a:off x="80010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009999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F2224-5673-411E-BC10-E439B27E697E}" type="slidenum">
              <a:rPr b="0" lang="ru-RU" sz="2000" spc="-1" strike="noStrike">
                <a:solidFill>
                  <a:srgbClr val="009999"/>
                </a:solidFill>
                <a:latin typeface="Arial Narrow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Arc 48"/>
          <p:cNvSpPr/>
          <p:nvPr/>
        </p:nvSpPr>
        <p:spPr>
          <a:xfrm>
            <a:off x="0" y="839880"/>
            <a:ext cx="5530680" cy="60181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" name="Line 2"/>
          <p:cNvSpPr/>
          <p:nvPr/>
        </p:nvSpPr>
        <p:spPr>
          <a:xfrm>
            <a:off x="1523880" y="1219320"/>
            <a:ext cx="8385120" cy="0"/>
          </a:xfrm>
          <a:prstGeom prst="line">
            <a:avLst/>
          </a:prstGeom>
          <a:ln cap="sq"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" name="AutoShape 37"/>
          <p:cNvSpPr/>
          <p:nvPr/>
        </p:nvSpPr>
        <p:spPr>
          <a:xfrm>
            <a:off x="1905120" y="171360"/>
            <a:ext cx="419040" cy="419040"/>
          </a:xfrm>
          <a:custGeom>
            <a:avLst/>
            <a:gdLst/>
            <a:ahLst/>
            <a:rect l="l" t="t" r="r" b="b"/>
            <a:pathLst>
              <a:path w="419100" h="419100">
                <a:moveTo>
                  <a:pt x="0" y="160082"/>
                </a:moveTo>
                <a:lnTo>
                  <a:pt x="160083" y="160083"/>
                </a:lnTo>
                <a:lnTo>
                  <a:pt x="209550" y="0"/>
                </a:lnTo>
                <a:lnTo>
                  <a:pt x="259017" y="160083"/>
                </a:lnTo>
                <a:lnTo>
                  <a:pt x="419100" y="160082"/>
                </a:lnTo>
                <a:lnTo>
                  <a:pt x="289590" y="259017"/>
                </a:lnTo>
                <a:lnTo>
                  <a:pt x="339059" y="419099"/>
                </a:lnTo>
                <a:lnTo>
                  <a:pt x="209550" y="320162"/>
                </a:lnTo>
                <a:lnTo>
                  <a:pt x="80041" y="419099"/>
                </a:lnTo>
                <a:lnTo>
                  <a:pt x="129510" y="259017"/>
                </a:lnTo>
                <a:lnTo>
                  <a:pt x="0" y="160082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" name="AutoShape 38"/>
          <p:cNvSpPr/>
          <p:nvPr/>
        </p:nvSpPr>
        <p:spPr>
          <a:xfrm rot="20940000">
            <a:off x="1219320" y="228600"/>
            <a:ext cx="457200" cy="457200"/>
          </a:xfrm>
          <a:custGeom>
            <a:avLst/>
            <a:gdLst/>
            <a:ahLst/>
            <a:rect l="l" t="t" r="r" b="b"/>
            <a:pathLst>
              <a:path w="457200" h="457200">
                <a:moveTo>
                  <a:pt x="0" y="174634"/>
                </a:moveTo>
                <a:lnTo>
                  <a:pt x="174636" y="174636"/>
                </a:lnTo>
                <a:lnTo>
                  <a:pt x="228600" y="0"/>
                </a:lnTo>
                <a:lnTo>
                  <a:pt x="282564" y="174636"/>
                </a:lnTo>
                <a:lnTo>
                  <a:pt x="457200" y="174634"/>
                </a:lnTo>
                <a:lnTo>
                  <a:pt x="315916" y="282564"/>
                </a:lnTo>
                <a:lnTo>
                  <a:pt x="369882" y="457199"/>
                </a:lnTo>
                <a:lnTo>
                  <a:pt x="228600" y="349267"/>
                </a:lnTo>
                <a:lnTo>
                  <a:pt x="87318" y="457199"/>
                </a:lnTo>
                <a:lnTo>
                  <a:pt x="141284" y="282564"/>
                </a:lnTo>
                <a:lnTo>
                  <a:pt x="0" y="174634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" name="AutoShape 39"/>
          <p:cNvSpPr/>
          <p:nvPr/>
        </p:nvSpPr>
        <p:spPr>
          <a:xfrm rot="1320000">
            <a:off x="168120" y="244080"/>
            <a:ext cx="882720" cy="882720"/>
          </a:xfrm>
          <a:custGeom>
            <a:avLst/>
            <a:gdLst/>
            <a:ahLst/>
            <a:rect l="l" t="t" r="r" b="b"/>
            <a:pathLst>
              <a:path w="882650" h="882650">
                <a:moveTo>
                  <a:pt x="1" y="337141"/>
                </a:moveTo>
                <a:lnTo>
                  <a:pt x="337144" y="337144"/>
                </a:lnTo>
                <a:lnTo>
                  <a:pt x="441325" y="0"/>
                </a:lnTo>
                <a:lnTo>
                  <a:pt x="545506" y="337144"/>
                </a:lnTo>
                <a:lnTo>
                  <a:pt x="882649" y="337141"/>
                </a:lnTo>
                <a:lnTo>
                  <a:pt x="609893" y="545505"/>
                </a:lnTo>
                <a:lnTo>
                  <a:pt x="714078" y="882648"/>
                </a:lnTo>
                <a:lnTo>
                  <a:pt x="441325" y="674280"/>
                </a:lnTo>
                <a:lnTo>
                  <a:pt x="168572" y="882648"/>
                </a:lnTo>
                <a:lnTo>
                  <a:pt x="272757" y="545505"/>
                </a:lnTo>
                <a:lnTo>
                  <a:pt x="1" y="337141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" name="AutoShape 40"/>
          <p:cNvSpPr/>
          <p:nvPr/>
        </p:nvSpPr>
        <p:spPr>
          <a:xfrm rot="1086000">
            <a:off x="2590920" y="304920"/>
            <a:ext cx="380880" cy="304560"/>
          </a:xfrm>
          <a:custGeom>
            <a:avLst/>
            <a:gdLst/>
            <a:ahLst/>
            <a:rect l="l" t="t" r="r" b="b"/>
            <a:pathLst>
              <a:path w="381000" h="304800">
                <a:moveTo>
                  <a:pt x="0" y="116423"/>
                </a:moveTo>
                <a:lnTo>
                  <a:pt x="145530" y="116424"/>
                </a:lnTo>
                <a:lnTo>
                  <a:pt x="190500" y="0"/>
                </a:lnTo>
                <a:lnTo>
                  <a:pt x="235470" y="116424"/>
                </a:lnTo>
                <a:lnTo>
                  <a:pt x="381000" y="116423"/>
                </a:lnTo>
                <a:lnTo>
                  <a:pt x="263263" y="188376"/>
                </a:lnTo>
                <a:lnTo>
                  <a:pt x="308235" y="304799"/>
                </a:lnTo>
                <a:lnTo>
                  <a:pt x="190500" y="232845"/>
                </a:lnTo>
                <a:lnTo>
                  <a:pt x="72765" y="304799"/>
                </a:lnTo>
                <a:lnTo>
                  <a:pt x="117737" y="188376"/>
                </a:lnTo>
                <a:lnTo>
                  <a:pt x="0" y="116423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AutoShape 41"/>
          <p:cNvSpPr/>
          <p:nvPr/>
        </p:nvSpPr>
        <p:spPr>
          <a:xfrm rot="2313600">
            <a:off x="3231720" y="533160"/>
            <a:ext cx="304920" cy="228600"/>
          </a:xfrm>
          <a:custGeom>
            <a:avLst/>
            <a:gdLst/>
            <a:ahLst/>
            <a:rect l="l" t="t" r="r" b="b"/>
            <a:pathLst>
              <a:path w="304800" h="228600">
                <a:moveTo>
                  <a:pt x="0" y="87317"/>
                </a:moveTo>
                <a:lnTo>
                  <a:pt x="116424" y="87318"/>
                </a:lnTo>
                <a:lnTo>
                  <a:pt x="152400" y="0"/>
                </a:lnTo>
                <a:lnTo>
                  <a:pt x="188376" y="87318"/>
                </a:lnTo>
                <a:lnTo>
                  <a:pt x="304800" y="87317"/>
                </a:lnTo>
                <a:lnTo>
                  <a:pt x="210611" y="141282"/>
                </a:lnTo>
                <a:lnTo>
                  <a:pt x="246588" y="228599"/>
                </a:lnTo>
                <a:lnTo>
                  <a:pt x="152400" y="174634"/>
                </a:lnTo>
                <a:lnTo>
                  <a:pt x="58212" y="228599"/>
                </a:lnTo>
                <a:lnTo>
                  <a:pt x="94189" y="141282"/>
                </a:lnTo>
                <a:lnTo>
                  <a:pt x="0" y="87317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Text Box 43"/>
          <p:cNvSpPr/>
          <p:nvPr/>
        </p:nvSpPr>
        <p:spPr>
          <a:xfrm>
            <a:off x="4114800" y="6307200"/>
            <a:ext cx="502920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5" name="Text Box 45"/>
          <p:cNvSpPr/>
          <p:nvPr/>
        </p:nvSpPr>
        <p:spPr>
          <a:xfrm>
            <a:off x="242280" y="1324080"/>
            <a:ext cx="4658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Н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К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Т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И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Н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Ф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Т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Е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Х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6" name="Picture 46" descr="C:\LENA\Enrin\Flyer\iosLogoEng.gif"/>
          <p:cNvPicPr/>
          <p:nvPr/>
        </p:nvPicPr>
        <p:blipFill>
          <a:blip r:embed="rId2"/>
          <a:stretch/>
        </p:blipFill>
        <p:spPr>
          <a:xfrm>
            <a:off x="9112320" y="6350040"/>
            <a:ext cx="403200" cy="4237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ldNum" idx="2"/>
          </p:nvPr>
        </p:nvSpPr>
        <p:spPr>
          <a:xfrm>
            <a:off x="7467480" y="-360"/>
            <a:ext cx="2438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9999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E5101-6483-4973-A00E-6E8D55E37E64}" type="slidenum">
              <a:rPr b="0" lang="ru-RU" sz="1400" spc="-1" strike="noStrike">
                <a:solidFill>
                  <a:srgbClr val="009999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99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ff9966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523520" y="4495320"/>
            <a:ext cx="7239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В.М.Михов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Директор ГосНИИ ОС, Руководитель НКТ «ИНФОТЕХ»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1143000" y="1752480"/>
            <a:ext cx="81532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5" name="Rectangle 10"/>
          <p:cNvSpPr/>
          <p:nvPr/>
        </p:nvSpPr>
        <p:spPr>
          <a:xfrm>
            <a:off x="1066680" y="1219320"/>
            <a:ext cx="838224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Научно-техническая программа «Информационные и коммуникационные технологии» Седьмой рамочной программы 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научно-технического развития ЕС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990360" y="16002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Информационные и коммуникационные технологии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Цель: достижение высокого уровня европейских разработок в информационных и коммуникационных технологиях (ИКТ), направленных на удовлетворение общественных и экономических потребностей. Укрепление научно-технической базы Европы в области ИКТ, приведение в движение и стимулирование инноваций через ИКТ. Обеспечение быстрой трансформации прогресса в области ИКТ в преимущества для европейских граждан, бизнеса, промышленности и правительств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6" name="Rectangle 1029"/>
          <p:cNvSpPr/>
          <p:nvPr/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«Информационные и коммуникационные технологии» в 7-ой рамочной программе ЕС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990360" y="16002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Arial"/>
              </a:rPr>
              <a:t>Информационные и коммуникационные технологии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Arial"/>
              </a:rPr>
              <a:t>Структура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99"/>
                </a:solidFill>
                <a:latin typeface="Arial"/>
              </a:rPr>
              <a:t>Технологические основы ИКТ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99"/>
                </a:solidFill>
                <a:latin typeface="Arial"/>
              </a:rPr>
              <a:t>Новые перспективы взаимодействия ИКТ с другими научными дисциплинами и технологическими областями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99"/>
                </a:solidFill>
                <a:latin typeface="Arial"/>
              </a:rPr>
              <a:t>Интеграция технологий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99"/>
                </a:solidFill>
                <a:latin typeface="Arial"/>
              </a:rPr>
              <a:t>Прикладные исследования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99"/>
                </a:solidFill>
                <a:latin typeface="Arial"/>
              </a:rPr>
              <a:t>Будущие и возникающие технологии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«Информационные и коммуникационные технологии» в 7-ой рамочной программе ЕС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990360" y="16002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Информационные и коммуникационные технологии: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Технологические основы ИКТ: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Наноэлектроника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фотоника и интегрированные микро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/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нано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системы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Разветвленные коммуникационные сети неограниченной мощности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Встроенные системы, вычисления и управление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Программное обеспечение, грид-технологии, безопасность и надежность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Системы знаний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когнитивные и обучающие системы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Моделирование, визуализация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взаимодействие и комбинирование виртуальной и реальной реальности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«Информационные и коммуникационные технологии» в 7-ой рамочной программе ЕС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990360" y="16002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Arial"/>
              </a:rPr>
              <a:t>Информационные и коммуникационные технологии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Новые перспективы взаимодействия ИКТ с другими научными дисциплинами и технологическими областями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Интеграция технологий: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buClr>
                <a:srgbClr val="0033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Персональные среды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buClr>
                <a:srgbClr val="0033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Домашние среды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buClr>
                <a:srgbClr val="0033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Робототехнические системы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buClr>
                <a:srgbClr val="0033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Интеллектуальные инфраструктуры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«Информационные и коммуникационные технологии» в 7-ой рамочной программе ЕС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990360" y="137124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Arial"/>
              </a:rPr>
              <a:t>Информационные и коммуникационные технологии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Прикладные исследования: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33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ИКТ для решения социальных проблем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33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ИКТ для здравоохранения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33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ИКТ для людей с ограниченными способностями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33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ИКТ для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мобильности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33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ИКТ в интересах охраны окружающей среды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33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ИКТ для правительств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33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ИКТ для контента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креативности и развития личности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33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ИКТ-поддержка для бизнеса и промышленности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33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ИКТ для доверия и конфиденциальности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«Информационные и коммуникационные технологии» в 7-ой рамочной программе ЕС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142640" y="137124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buClr>
                <a:srgbClr val="003399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Наноэлектроника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,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фотоника и интегрированные микро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/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 нано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</a:rPr>
              <a:t>-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системы: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преодоление ограничений в миниатюризации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,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интеграция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,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многообразие и плотность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повышение производительности и технологичности производства при низких затратах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упрощенная  интеграция ИКТ в различные приложения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 интерфейсы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поисковые исследования, основанные на новых концепциях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Разветвленные коммуникационные сети неограниченной мощности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: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повсеместный доступ к неоднородным сетям – фиксированным, мобильным, беспроводным и широковещательным сетям для персональных, региональных и глобальных целей – обеспечивающий предоставление прямого доступа к все возрастающим объемам данных и услуг повсеместно и в любое время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Информационные и коммуникационные технологии в 7РП: Технологические основы ИКТ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142640" y="16765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Встроенные системы, вычисления и управление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: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мощные, безопасные и распределенные вычислительные и коммуникационные системы, встраиваемые в объекты и физические инфраструктуры и способные взаимодействовать со средой и адаптироваться к ней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Программное обеспечение, грид-технологии, безопасность и надежность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: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динамичное, адаптивное, надежное и безопасное программное обеспечение и услуги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,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 новые вычислительные архитектуры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,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в т.ч. предоставляемые в виде утилит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Информационные и коммуникационные технологии в 7РП: Технологические основы ИКТ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142640" y="144756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Системы знаний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,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когнитивные и обучающие системы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: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извлечение и использование знаний, контент, встроенный в веб и мультимедиа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искусственные системы, построенные на принципах биологических систем, способные воспринимать, понимать, обучаться, эволюционировать и действовать автономно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обучение с применением машин и человеческого фактора, основанные на углубленном понимании когнитивных процессов человека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Моделирование, визуализация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,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взаимодействие и комбинирование виртуальной и реальной реальности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: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инструментальные средства инновационного проектирования  и креативность в продуктах, услугах и цифровых  мульти-медиа, а также естественного взаимодействия и контекстуаль-ного взаимодействия с лингвистической поддержкой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Информационные и коммуникационные технологии в 7РП: Технологические основы ИКТ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142640" y="16765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Новые перспективы взаимодействия ИКТ с другими научными дисциплинами и технологическими областями,</a:t>
            </a:r>
            <a:r>
              <a:rPr b="1" i="1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в т.ч. достижения</a:t>
            </a:r>
            <a:r>
              <a:rPr b="0" i="1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в области</a:t>
            </a:r>
            <a:r>
              <a:rPr b="0" i="1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физики, биотехнологий,</a:t>
            </a:r>
            <a:r>
              <a:rPr b="0" i="1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материаловедения, наук о жизни, с целью миниатюризации ИКТ устройств до размеров, совместимых и взаимодействующих с живыми организмами, для повышения производительности системного инжиниринга и обработки информации, а также для моделирования и имитации живого мира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Информационные и коммуникационные технологии в 7РП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142640" y="144756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Персональные среды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: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устройства для персональных комму-никаций и вычислений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,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интегрированные в аксессуары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,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 пред-меты одежды и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имплантанты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 их интерфейсы и взаимосвязь с услугами и ресурсами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Домашние среды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: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передача данных, мониторинг, управле-ние и поддержка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совместимость и интегрированное использо-вание всех устройств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интерактивный цифровой контент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Робототехнические системы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: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перспективные автономные системы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обучение, управление, операционные способности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,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естественное взаимодействие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миниатюризация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Интеллектуальные инфраструктуры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: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инструментальные средства для создания инфраструктур, которые позволят сделать повседневную жизнь более эффективной, легко адаптируемой и устойчивой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Информационные и коммуникационные технологии в 7РП: Интеграция технологий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990360" y="16002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Brussels, 6 April 2005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Proposal for a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DECISION OF THE EUROPEAN PARLIAMENT AND OF THE COUNCI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concerning the seventh framework programme of the European Community for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research, technological development and demonstration activities (2007 to 2013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BUILDING THE EUROPE OF KNOWLEDG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(presented by the Commission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Проект 7-ой рамочной программы научно-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технического развития Европейского Союза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142640" y="14475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ИКТ для решения социальных проблем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: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Новые системы и службы в областях, представляющих интерес для широкой общественности, в интересах повышения качества, эффективности, улучшения доступа и охвата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 удобные для пользователя приложения, интеграция новых технологий и инициатив, таких как интеллектуальный образ жизни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ИКТ для здравоохранения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,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улучшения профилактики заболеваний и ранней диагностики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автономность, безопасность и мобильность пациентов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информационное пространство знаний по здравоохранению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ИКТ для обеспечения цифрового равенства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людей с ограниченными способностями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и преодоления цифровой дискриминации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 вспомогательные технологии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дизайн для всех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Информационные и коммуникационные технологии в 7РП: Прикладные исследования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1142640" y="1523880"/>
            <a:ext cx="85345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ИКТ для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мобильности: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интеллектуальные транспортные системы на основе ИКТ, обеспечивающие безопасную, комфортную и эффективную транспортировку людей и товаров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ИКТ в интересах охраны окружающей среды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и устойчивого развития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,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для повышения степени защищенности и преодоления последствий природных и промышленных катастроф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ИКТ для правительств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эффективность, открытость и отчетность для органов общественного и государственного управления и связей с гражданами и бизнесом на принципах демократии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Информационные и коммуникационные технологии в 7РП: Прикладные исследования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1142640" y="16765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ИКТ для контента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,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креативности и развития личности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–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новые парадигмы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мультимедиа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и новые формы контента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создание интерактивного цифрового контента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обогащение опыта пользователей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рентабельная доставка  контента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–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усовершенствованные технологии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дистанционного обучения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адаптивные и контекстно-ориентированные решения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активное обучение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–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ИКТ-системы для поддержки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доступности и долговременного использования цифровых культурных ресурсов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 в многоязычной среде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Информационные и коммуникационные технологии в 7РП: Прикладные исследования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142640" y="16765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ИКТ-поддержка для бизнеса и промышленности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–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новые формы динамических сетевых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бизнес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-процессов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,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цифровые экосистемы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оптимизированная организация работы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и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корпоративные рабочие пространства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–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производство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: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быстрое и адаптивное проектирование, производство и доставка заказных товаров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цифровое и виртуальное производство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инструментальные средства моделирования, имитации и презентации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миниатюрные и интегрированные ИКТ-продукты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ИКТ для доверия и конфиденциальности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: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управление идентификацией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подтверждение подлинности и авторизация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 технологии, обеспечивающие секретность  информации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управление правами и ресурсами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защита от киберугроз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Информационные и коммуникационные технологии в 7РП: Прикладные исследования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1142640" y="16765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Будущие и возникающие технологии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: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поддержка исследований на передовых рубежах знаний на основе ИКТ и их комбинация с другими релевантными областями и дисциплинами с целью стимулирования новых идей и радикально новых применений и использования новых опций в глобальных направлениях исследований в области ИКТ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cc"/>
                </a:solidFill>
                <a:latin typeface="Arial"/>
              </a:rPr>
              <a:t>Информационные и коммуникационные технологии в 7РП: Будущие и возникающие технологии</a:t>
            </a:r>
            <a:endParaRPr b="1" lang="en-US" sz="22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523520" y="159984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Arial"/>
              </a:rPr>
              <a:t>Срок действия: 2007 – 2013 гг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Arial"/>
              </a:rPr>
              <a:t>Бюджет: </a:t>
            </a:r>
            <a:r>
              <a:rPr b="1" lang="en-US" sz="2600" spc="-1" strike="noStrike">
                <a:solidFill>
                  <a:srgbClr val="003399"/>
                </a:solidFill>
                <a:latin typeface="Arial"/>
                <a:ea typeface="Times New Roman"/>
              </a:rPr>
              <a:t>72 726 </a:t>
            </a:r>
            <a:r>
              <a:rPr b="1" lang="ru-RU" sz="2600" spc="-1" strike="noStrike">
                <a:solidFill>
                  <a:srgbClr val="003399"/>
                </a:solidFill>
                <a:latin typeface="Arial"/>
              </a:rPr>
              <a:t>миллионов евро</a:t>
            </a:r>
            <a:r>
              <a:rPr b="1" lang="ru-RU" sz="26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Arial"/>
              </a:rPr>
              <a:t>Структура: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Arial"/>
              </a:rPr>
              <a:t>Сотрудничество </a:t>
            </a: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(44432 </a:t>
            </a:r>
            <a:r>
              <a:rPr b="1" lang="ru-RU" sz="2600" spc="-1" strike="noStrike">
                <a:solidFill>
                  <a:srgbClr val="003399"/>
                </a:solidFill>
                <a:latin typeface="Arial"/>
              </a:rPr>
              <a:t>млн евро</a:t>
            </a: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Arial"/>
              </a:rPr>
              <a:t>Идеи (11862 млн евро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Arial"/>
              </a:rPr>
              <a:t>Люди (7129 млн евро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Arial"/>
              </a:rPr>
              <a:t>Потенциал (7486 млн евро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Проект 7-ой рамочной программы научно-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технического развития Европейского Союза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Проект 7-ой рамочной программы научно-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технического развития Европейского Союза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111" name="Object 7"/>
          <p:cNvGraphicFramePr/>
          <p:nvPr/>
        </p:nvGraphicFramePr>
        <p:xfrm>
          <a:off x="838080" y="1295280"/>
          <a:ext cx="4419720" cy="3490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295280"/>
                    <a:ext cx="4419720" cy="34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180"/>
          <p:cNvGraphicFramePr/>
          <p:nvPr/>
        </p:nvGraphicFramePr>
        <p:xfrm>
          <a:off x="5105520" y="3435480"/>
          <a:ext cx="4647960" cy="2782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4" name="Object 18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3435480"/>
                    <a:ext cx="4647960" cy="27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990720" y="13712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Программа «Сотрудничество» (44432 млн евро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Цель: поддержка всего спектра научной деятельности, осущес-твляемой в рамках транснационального сотрудничества, от совместных проектов и сетей до координации национальных научных программ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Движущей силой в этой программе станет промышленность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Программа «Сотрудничество» состоит из трех подпрограмм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: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На совместные исследования будут затрачены основные средства, выделяемые ЕС на финансирование науки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Совместные технологические инициативы, созданные, как правило, на основе Европейских Технологических Платформ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Координация национальных научных программ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Международное сотрудничество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между странами ЕС и третьими странами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Структура 7-ой рамочной программы научно-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технического развития Европейского Союза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90360" y="16002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Программа «Идеи» (11862 млн евро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Цель: содействие динамизму, креативности и обеспечение научного превосходства европейских исследований  на передовых рубежах знаний во всех научных и технологических областях, включая инженерные науки, социо-экономические и гуманитарные исследования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.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Эту программу будет координировать Европейский Научный Совет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Программа «Люди» (7129 млн евро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Цель: количественное и качественное укрепление кадрового потенциала европейской науки и технологий через серию акций Мари Кюри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.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Структура 7-ой рамочной программы научно-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технического развития Европейского Союза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990360" y="16002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Программа «Потенциал» (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apacities) – 7486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млн евро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Цель: поддержка научной инфраструктуры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исследования, проводимые в интересах средних и малых предприятий и научного потенциала европейских регионов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 (Regions of Knowledge)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, а также стимулирование реализации полного научного потенциала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(Convergence Regions)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расширяющегося ЕС  и построение эффективного и демократического европейского общества, основанного на знаниях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.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Структура 7-ой рамочной программы научно-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технического развития Европейского Союза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990360" y="144756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69360" indent="-36936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Здравоохранение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(8317 млн евро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9360" indent="-36936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Продукты питания, сельское хозяйство и биотехнологии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(2455 млн евро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9360" indent="-36936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Информационные и коммуникационные технологии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(12670 млн евро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9360" indent="-36936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Нанонауки, нанотехнологии, материалы и новые производственные технологии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(4832 млн евро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9360" indent="-36936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Энергетика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(2931 млн евро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9360" indent="-36936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Окружающая среда и изменения климата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(2535 млн евро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9360" indent="-36936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Транспорт и аэронавтика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(5940 млн евро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9360" indent="-36936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Социо-экономические и гуманитарные исследования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(792 млн евро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9360" indent="-36936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Космические исследования и исследования в области безопасности (3960 млн евро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Основные тематические направления 7РП в рамках программы «Сотрудничество»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Международное сотрудничество в 7РП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990360" y="137124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Сотрудничество с третьими странами будет направлено в особенности на следующие группы стран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: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Страны-кандидаты на вступление в ЕС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Страны, граничащие с ЕС, страны Средиземноморья, Западных Балкан и новые независимые государства (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the Newly Independent States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)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Развивающиеся страны с учетом их конкретных нуж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Страны с переходной экономикой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Международное сотрудничество в рамках тематических приоритетов будет поддержано по конкурсам программы «Сотрудничество». Международные акции в сфере кадрового научного потенциала будут поддержаны в рамках программы «Люди»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7:53:13Z</dcterms:created>
  <dc:creator>mvm</dc:creator>
  <dc:description/>
  <dc:language>en-US</dc:language>
  <cp:lastModifiedBy>LEGION</cp:lastModifiedBy>
  <cp:lastPrinted>1999-02-08T15:51:10Z</cp:lastPrinted>
  <dcterms:modified xsi:type="dcterms:W3CDTF">2015-07-01T12:07:50Z</dcterms:modified>
  <cp:revision>157</cp:revision>
  <dc:subject/>
  <dc:title>Презентация PowerPoint</dc:title>
</cp:coreProperties>
</file>