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5.gif" ContentType="image/gif"/>
  <Override PartName="/ppt/media/image1.wmf" ContentType="image/x-wmf"/>
  <Override PartName="/ppt/media/image2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media/image9.gif" ContentType="image/gif"/>
  <Override PartName="/ppt/media/image6.jpeg" ContentType="image/jpeg"/>
  <Override PartName="/ppt/media/image10.png" ContentType="image/png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8BF1-EE5D-494F-959D-1A058353D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3438-A48D-4FAE-ACE3-8B6BB98908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е передачи или обмене информацией существуют е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луч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ама информация передается п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налу связ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помощью сигналов: механических, электрических, тепловых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FF60-76AC-4C25-AB54-7C4D96ED16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ующее устройство необходимо для преобразования информации в форму, удобную для пере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ующее устройство преобразует информацию в форму, понятную получа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C745-3B63-4980-A058-133709AA6C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ческий разум является совершенным инструментом познания окружающего мира. А память человека – великолепным устройством для хранения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для долговременного хранения информации, ее накопления и передачи из поколения в поколение необходимо иметь возможность ее хранить не только в памяти  человека. Для этого используются носители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7CFD-7BC4-448B-820A-7C85C5026F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оситель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атериальный объект, предназначенный для хранения и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природа носителей информации может быть различной: молекулы ДНК, которые хранят генетическую информацию; бумага, на которой хранятся тексты и изображения; магнитная лента, на которой хранится звуковая информация; фото- и кинопленки, на которых хранится графическая информация; микросхемы памяти, магнитные и лазерные диски, на которых хранятся программы и данные в компьютере, и так да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8B2C-3D3D-461F-86B8-212353BC57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6384-8F56-44BD-A602-5C0EEB6335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 сохранить информацию недостаточно. Нужно уметь ею пользоваться. А для того чтобы воспользоваться нужной информацией в нужный момент необходимо уметь ее быстро най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9360-67E1-433F-AF82-0308499BF0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иск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это извлечение храним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учной и автоматизированный методы поиска информации в хранилищ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иска информ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е наблю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ние со специалистами по интересующему вас вопрос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ение соответствующей литератур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теле-, видеопрограм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лушивание радиопередач и аудиокассе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в библиотеках, архив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 к информационным системам, базам и банкам компьютерных данны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мет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жизни человека информация играет очень важную роль. От нее зависит принятие решений, влияющих на развитие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едотвращения потери информации разрабатываются различные механизмы ее защиты, которые используются на всех этапах работы с 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BD02-E3AE-4F4C-B891-C902AADCDE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защиты информации используют различные способ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граничение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блирование каналов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птографическое преобразование информации с помощью шиф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8A89-8AF6-47D4-9035-EAB8AB68C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Шиф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зывают секретный код преобразования информации с целью ее защиты от незаконный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и использованием шифров заним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иптогра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BA67-FC4D-4F9F-902F-6820EB3BDC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бор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ботка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дача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ранение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ск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та информ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3434-1696-4B24-9719-FE387E25AF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деятельность человека связана с различными действиями с информацией, и помогают ему в этом разнообразные технические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F309-CCCC-4676-B575-EE7DEE3793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могает людям получать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способ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ажно защищать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способы защиты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шифр и зашифруйте фразу «Я учу информати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C00C-838D-4A25-9C3B-AFBE2739CD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е научное знание начинается тогда, когда мы можем оценить полученную информацию, сравнить ее, а значит измерить. Поэтому для получения недоступной обычным органам чувств информации широко используются специальные технические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02A8-3BEC-4B8D-91D1-E3F60F38AF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D322-D558-4C86-8AE6-7F87A37C4E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из древних соору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х для получения астрономической информации, находится в Англии недалеко от города Солсбери. Э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оунхендж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«висячие камни». Он был построен примерно в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е до н.э. С помощью новейшим методов исследования было установлено, что каменные арки дают направления на крайние положения Солнца и Луны, а 56 белых лунок помогают предсказать время Солнечный и Лунных затм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9C3C-BF42-4B78-87D3-BAF1FB75C6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C73E-6FA8-4BC3-B32F-B680CF3F4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ходн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ормация, которую получает человек или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ыходн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ормация, которая получается после обработки человеком или устрой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C42F-D314-4405-9D2B-8C0C71518F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человека не было бы возможно без обмена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авних времен люди из поколения в поколение передавали свои знания, извещали об опасности или передавали важную и срочную информацию, обменивались свед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247A-7746-46A4-A991-13282D789C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BA7-1CD2-4C81-95B6-98AB89EA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D586-9ADD-443B-A384-B6331490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057-DC9F-49E8-9F7B-78E756A9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E99-3650-44AC-8E27-EDB88C01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3BDF-5400-4776-92DC-E7A67DC5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88FF-A108-442C-9001-2345E0FF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8149-4FF8-424F-9850-82A1E4A0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9A5F-8BAD-4D2D-89DF-2D9696F0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A231-2ACD-488D-9E20-596D6E1F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4BC4-C5CA-4903-872F-494ACCDF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88E1-A785-42BB-9B94-48477B05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F6AE-F493-4819-8633-1476E2CB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0D64-B716-41FF-AA4F-3E692180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3E99-B1A3-430F-BCBD-128D5F53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7D81-F02B-4078-AFBA-7B275909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C6DC-D4FF-45AE-A5E5-03B7FEAD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86F7-2500-4BE0-92C9-8D19E3BA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69D-1525-4074-BAC4-0EB55730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EEA-6F39-4C30-B3D8-DE5588A8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BC4-7F2C-41AE-B5A4-510B1AC1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3A9-9F48-4B5D-8796-182809C1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704-D6C3-49CB-B39A-AC704BA4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527-338C-40EF-B871-8DEF4E15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440-F949-4626-92DF-614DDE1B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D68B-2A70-486C-88A2-A43F71DAD5D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Text Box 13"/>
          <p:cNvSpPr/>
          <p:nvPr/>
        </p:nvSpPr>
        <p:spPr>
          <a:xfrm>
            <a:off x="450720" y="93600"/>
            <a:ext cx="8137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468360" y="404640"/>
            <a:ext cx="777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9F40-5347-4BFF-8EC8-CD676DC09D24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юбом процессе передачи или обмене информацией существуют е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сточ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лучат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сама информация передается п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налу связ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помощью сигналов: механических, электрических, тепловых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1403280" y="2205000"/>
            <a:ext cx="6480360" cy="1079640"/>
            <a:chOff x="1403280" y="2205000"/>
            <a:chExt cx="6480360" cy="1079640"/>
          </a:xfrm>
        </p:grpSpPr>
        <p:sp>
          <p:nvSpPr>
            <p:cNvPr id="151" name="AutoShape 4"/>
            <p:cNvSpPr/>
            <p:nvPr/>
          </p:nvSpPr>
          <p:spPr>
            <a:xfrm>
              <a:off x="1403280" y="2347920"/>
              <a:ext cx="1871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6012000" y="227664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3564000" y="2205000"/>
              <a:ext cx="2305080" cy="1079640"/>
            </a:xfrm>
            <a:prstGeom prst="rightArrow">
              <a:avLst>
                <a:gd name="adj1" fmla="val 50000"/>
                <a:gd name="adj2" fmla="val 53376"/>
              </a:avLst>
            </a:prstGeom>
            <a:solidFill>
              <a:srgbClr val="66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cc00"/>
                  </a:solidFill>
                  <a:latin typeface="Times New Roman"/>
                </a:rPr>
                <a:t>Канал связ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Text Box 9"/>
          <p:cNvSpPr/>
          <p:nvPr/>
        </p:nvSpPr>
        <p:spPr>
          <a:xfrm>
            <a:off x="1116000" y="1773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ача информации от источника к получате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ирующее устройство необходимо для преобразования информации в форму, удобную для передач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кодирующее устройство преобразует информацию в форму, понятную получател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2"/>
          <p:cNvGrpSpPr/>
          <p:nvPr/>
        </p:nvGrpSpPr>
        <p:grpSpPr>
          <a:xfrm>
            <a:off x="108000" y="2133720"/>
            <a:ext cx="8893080" cy="1077840"/>
            <a:chOff x="108000" y="2133720"/>
            <a:chExt cx="8893080" cy="1077840"/>
          </a:xfrm>
        </p:grpSpPr>
        <p:sp>
          <p:nvSpPr>
            <p:cNvPr id="159" name="AutoShape 5"/>
            <p:cNvSpPr/>
            <p:nvPr/>
          </p:nvSpPr>
          <p:spPr>
            <a:xfrm>
              <a:off x="108000" y="2278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6"/>
            <p:cNvSpPr/>
            <p:nvPr/>
          </p:nvSpPr>
          <p:spPr>
            <a:xfrm>
              <a:off x="7345440" y="2278080"/>
              <a:ext cx="1655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421080" y="2133720"/>
              <a:ext cx="1871640" cy="1077840"/>
            </a:xfrm>
            <a:prstGeom prst="rightArrow">
              <a:avLst>
                <a:gd name="adj1" fmla="val 50000"/>
                <a:gd name="adj2" fmla="val 43412"/>
              </a:avLst>
            </a:prstGeom>
            <a:solidFill>
              <a:srgbClr val="66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Канал свя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8"/>
            <p:cNvSpPr/>
            <p:nvPr/>
          </p:nvSpPr>
          <p:spPr>
            <a:xfrm>
              <a:off x="1908000" y="2278080"/>
              <a:ext cx="1441440" cy="792360"/>
            </a:xfrm>
            <a:prstGeom prst="rect">
              <a:avLst/>
            </a:prstGeom>
            <a:solidFill>
              <a:srgbClr val="ca9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одирующе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5365800" y="2278080"/>
              <a:ext cx="1655640" cy="792360"/>
            </a:xfrm>
            <a:prstGeom prst="rect">
              <a:avLst/>
            </a:prstGeom>
            <a:solidFill>
              <a:srgbClr val="ca9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екодирующе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0"/>
            <p:cNvSpPr/>
            <p:nvPr/>
          </p:nvSpPr>
          <p:spPr>
            <a:xfrm>
              <a:off x="1620720" y="2421000"/>
              <a:ext cx="216000" cy="50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7093080" y="2421000"/>
              <a:ext cx="215640" cy="50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13"/>
          <p:cNvSpPr/>
          <p:nvPr/>
        </p:nvSpPr>
        <p:spPr>
          <a:xfrm>
            <a:off x="1116000" y="1773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хема передачи 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анение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ческий разум является совершенным инструментом познания окружающего мира. А память человека – великолепным устройством для хран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ако для долговременного хранения информации, ее накопления и передачи из поколения в поколение необходимо иметь возможность ее хранить не только в памяти  человека. Для этого используются носители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j0196400"/>
          <p:cNvPicPr/>
          <p:nvPr/>
        </p:nvPicPr>
        <p:blipFill>
          <a:blip r:embed="rId1"/>
          <a:stretch/>
        </p:blipFill>
        <p:spPr>
          <a:xfrm>
            <a:off x="7448400" y="504504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анение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материальный объект, предназначенный для хранения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Материальная природа носителей информации может быть различной: молекулы ДНК, которые хранят генетическую информацию; бумага, на которой хранятся тексты и изображения; магнитная лента, на которой хранится звуковая информация; фото- и кинопленки, на которых хранится графическая информация; микросхемы памяти, магнитные и лазерные диски, на которых хранятся программы и данные в компьютере, и так далее.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оиск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 сохранить информацию недостаточно. Нужно уметь ею пользоваться. А для того чтобы воспользоваться нужной информацией в нужный момент необходимо уметь ее быстро най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лупа"/>
          <p:cNvPicPr/>
          <p:nvPr/>
        </p:nvPicPr>
        <p:blipFill>
          <a:blip r:embed="rId1"/>
          <a:stretch/>
        </p:blipFill>
        <p:spPr>
          <a:xfrm>
            <a:off x="6576840" y="4365720"/>
            <a:ext cx="2260800" cy="24922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лупа"/>
          <p:cNvPicPr/>
          <p:nvPr/>
        </p:nvPicPr>
        <p:blipFill>
          <a:blip r:embed="rId1"/>
          <a:stretch/>
        </p:blipFill>
        <p:spPr>
          <a:xfrm>
            <a:off x="6576840" y="4365720"/>
            <a:ext cx="2260800" cy="2492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оиск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иск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— это извлечение хранимой информа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уществуют ручной и автоматизированный методы поиска информации в хранилища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тоды поиска информаци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осредственное наблюден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щение со специалистами по интересующему вас вопросу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ение соответствующей литератур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смотр теле-, видеопрограм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слушивание радиопередач и аудиокассет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бота в библиотеках, архив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прос к информационным системам, базам и банкам компьютерных данны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метод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жизни человека информация играет очень важную роль. От нее зависит принятие решений, влияющих на развитие общ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редотвращения потери информации разрабатываются различные механизмы ее защиты, которые используются на всех этапах работы с 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замок"/>
          <p:cNvPicPr/>
          <p:nvPr/>
        </p:nvPicPr>
        <p:blipFill>
          <a:blip r:embed="rId1"/>
          <a:stretch/>
        </p:blipFill>
        <p:spPr>
          <a:xfrm>
            <a:off x="7032600" y="5013360"/>
            <a:ext cx="1560600" cy="184464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защиты информации используют различные способ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троль досту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граничение досту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лирование каналов связ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птографическое преобразование информации с помощью шиф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Шиф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 секретный код преобразования информации с целью ее защиты от незаконный пользова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ением и использованием шифров занимаетс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риптограф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8067600" y="5491080"/>
            <a:ext cx="1076400" cy="1366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бор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ботка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едача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ранение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иск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щита информац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я деятельность человека связана с различными действиями с информацией, и помогают ему в этом разнообразные технические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j0300840"/>
          <p:cNvPicPr/>
          <p:nvPr/>
        </p:nvPicPr>
        <p:blipFill>
          <a:blip r:embed="rId1"/>
          <a:stretch/>
        </p:blipFill>
        <p:spPr>
          <a:xfrm>
            <a:off x="3924360" y="4365720"/>
            <a:ext cx="1814400" cy="1528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j0305257"/>
          <p:cNvPicPr/>
          <p:nvPr/>
        </p:nvPicPr>
        <p:blipFill>
          <a:blip r:embed="rId2"/>
          <a:stretch/>
        </p:blipFill>
        <p:spPr>
          <a:xfrm>
            <a:off x="1403280" y="422100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термометр"/>
          <p:cNvPicPr/>
          <p:nvPr/>
        </p:nvPicPr>
        <p:blipFill>
          <a:blip r:embed="rId3"/>
          <a:stretch/>
        </p:blipFill>
        <p:spPr>
          <a:xfrm>
            <a:off x="7308720" y="3357720"/>
            <a:ext cx="109548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опросы и зада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помогает людям получать информац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думайте способ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ему важно защищать информац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способы защиты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думайте шифр и зашифруйте фразу «Я учу информатику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8101080" y="981000"/>
            <a:ext cx="6159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1681"/>
          <p:cNvPicPr/>
          <p:nvPr/>
        </p:nvPicPr>
        <p:blipFill>
          <a:blip r:embed="rId1"/>
          <a:stretch/>
        </p:blipFill>
        <p:spPr>
          <a:xfrm>
            <a:off x="468360" y="584280"/>
            <a:ext cx="8207280" cy="61578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научное знание начинается тогда, когда мы можем оценить полученную информацию, сравнить ее, а значит измерить. Поэтому для получения недоступной обычным органам чувств информации широко используются специальные технические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j0234687"/>
          <p:cNvPicPr/>
          <p:nvPr/>
        </p:nvPicPr>
        <p:blipFill>
          <a:blip r:embed="rId1"/>
          <a:stretch/>
        </p:blipFill>
        <p:spPr>
          <a:xfrm>
            <a:off x="6732720" y="5437080"/>
            <a:ext cx="2411280" cy="1420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3" name="Picture 4" descr="2466"/>
          <p:cNvPicPr/>
          <p:nvPr/>
        </p:nvPicPr>
        <p:blipFill>
          <a:blip r:embed="rId1"/>
          <a:stretch/>
        </p:blipFill>
        <p:spPr>
          <a:xfrm>
            <a:off x="179280" y="625320"/>
            <a:ext cx="8820360" cy="5683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91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 из древних сооружен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емых для получения астрономической информации, находится в Англии недалеко от города Солсбери. 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унхендж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«висячие камни». Он был построен примерно в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е до н.э. С помощью новейшим методов исследования было установлено, что каменные арки дают направления на крайние положения Солнца и Луны, а 56 белых лунок помогают предсказать время Солнечный и Лунных затм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2466"/>
          <p:cNvPicPr/>
          <p:nvPr/>
        </p:nvPicPr>
        <p:blipFill>
          <a:blip r:embed="rId1"/>
          <a:stretch/>
        </p:blipFill>
        <p:spPr>
          <a:xfrm>
            <a:off x="6156360" y="549360"/>
            <a:ext cx="2698560" cy="1739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j0299125"/>
          <p:cNvPicPr/>
          <p:nvPr/>
        </p:nvPicPr>
        <p:blipFill>
          <a:blip r:embed="rId1"/>
          <a:stretch/>
        </p:blipFill>
        <p:spPr>
          <a:xfrm>
            <a:off x="7812000" y="2637000"/>
            <a:ext cx="1100160" cy="1804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1041480" y="1773360"/>
            <a:ext cx="7130880" cy="1501560"/>
            <a:chOff x="1041480" y="1773360"/>
            <a:chExt cx="7130880" cy="1501560"/>
          </a:xfrm>
        </p:grpSpPr>
        <p:sp>
          <p:nvSpPr>
            <p:cNvPr id="136" name="Rectangle 4"/>
            <p:cNvSpPr/>
            <p:nvPr/>
          </p:nvSpPr>
          <p:spPr>
            <a:xfrm>
              <a:off x="104148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673092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ы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2770200" y="2205000"/>
              <a:ext cx="792000" cy="216000"/>
            </a:xfrm>
            <a:prstGeom prst="rightArrow">
              <a:avLst>
                <a:gd name="adj1" fmla="val 50000"/>
                <a:gd name="adj2" fmla="val 91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5649840" y="2205000"/>
              <a:ext cx="792360" cy="216000"/>
            </a:xfrm>
            <a:prstGeom prst="rightArrow">
              <a:avLst>
                <a:gd name="adj1" fmla="val 50000"/>
                <a:gd name="adj2" fmla="val 9170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Picture 8" descr="j0292020"/>
            <p:cNvPicPr/>
            <p:nvPr/>
          </p:nvPicPr>
          <p:blipFill>
            <a:blip r:embed="rId1"/>
            <a:stretch/>
          </p:blipFill>
          <p:spPr>
            <a:xfrm>
              <a:off x="3849840" y="1773360"/>
              <a:ext cx="1582560" cy="150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 Box 10"/>
          <p:cNvSpPr/>
          <p:nvPr/>
        </p:nvSpPr>
        <p:spPr>
          <a:xfrm>
            <a:off x="755640" y="3284640"/>
            <a:ext cx="7777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ход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нформация, которую получает человек или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ыход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нформация, которая получается после обработки человеком или устройств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человека не было бы возможно без обмена информац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авних времен люди из поколения в поколение передавали свои знания, извещали об опасности или передавали важную и срочную информацию, обменивались сведен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j0300520"/>
          <p:cNvPicPr/>
          <p:nvPr/>
        </p:nvPicPr>
        <p:blipFill>
          <a:blip r:embed="rId1"/>
          <a:stretch/>
        </p:blipFill>
        <p:spPr>
          <a:xfrm>
            <a:off x="7380360" y="5340240"/>
            <a:ext cx="1763640" cy="1517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5364000"/>
            <a:ext cx="1908000" cy="1494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2:52:04Z</dcterms:created>
  <dc:creator>bas</dc:creator>
  <dc:description/>
  <dc:language>en-US</dc:language>
  <cp:lastModifiedBy>LEGION</cp:lastModifiedBy>
  <dcterms:modified xsi:type="dcterms:W3CDTF">2015-07-01T12:08:28Z</dcterms:modified>
  <cp:revision>21</cp:revision>
  <dc:subject/>
  <dc:title>Информационная деятельность человека</dc:title>
</cp:coreProperties>
</file>