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9.gif" ContentType="image/gif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5D71-CA18-4583-8E6F-3242574E0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44D2-00F4-4F61-A0CD-9CE9940EF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е передачи или обмене информацией существуют е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луч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ама информация передается п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налу связ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омощью сигналов: механических, электрических, тепловых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22F4-78C4-417F-9F66-88EFDFF50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ующее устройство преобразует информацию в форму, понятную получа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C000-D083-46FF-B57D-39616137A0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8B38-3ABB-493B-A01C-F8E45C782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оситель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териальный объект, предназначенный для хранения 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2B45-3FD0-4E05-942A-D00674310A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2A21-3134-4EC1-BBC7-FD35546DBD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BACD-386C-4EA5-A175-FC31C6B5B9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иск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это извлечение храним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учной и автоматизированный методы поиска информации в хранилищ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иска информ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е наблю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 со специалистами по интересующему вас вопро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ение соответствующей литератур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теле-, видеопрограм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ушивание радиопередач и аудиокассе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в библиотеках, архив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 к информационным системам, базам и банкам компьютерных данны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мет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A6F9-4B79-4CB9-BB6D-BA7B33232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защиты информации используют различные способ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граничение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блирование каналов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птографическое преобразование информации с помощью шиф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65FC-267D-4D7A-9189-E582A11C9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Шиф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и использованием шифров заним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птогра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AA7A-C930-4713-B48B-B1A7A25D8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CFB8-64E7-4477-867E-25372C133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63B3-7275-4D97-9B11-3E267DDB0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могает людям получ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способ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ажно защищ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способы защиты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шифр и зашифруйте фразу «Я учу информати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5F85-EFEE-4E7A-BA6A-4B25061DC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8D1E-5F74-4C88-AB9E-F652941CCD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9922-5362-4F86-AE02-94B4E292B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из древних соору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унхенд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«висячие камни». Он был построен примерно 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2AE0-D544-495C-86C1-2081C3D9B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2DA5-5BD1-4128-A80F-DCB67DC7E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ую получает человек или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ы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ая получается после обработки человеком или 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83D2-77C5-4DE0-B7C3-843358101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человека не было бы возможно без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5A04-D454-47D7-9AAC-5CABA31E6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BC7-68B3-475A-A681-EFFBCFE3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5FA-036E-4E55-BE56-32E0CC1B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4D2-D2CB-46D0-B8BB-175B2252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61C-3A93-4237-BAC0-CC270BEB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0021-34A6-4F3B-84A4-7A48CEBD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F6CF-DD20-47E4-91D4-E7A3DA9C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B0DF-D4BA-421F-965B-BCE77CCE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CBE6-721C-4F7A-B608-6076DF1E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990A-24DD-4B04-9216-6F0937B8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5F28-F088-48CC-A651-80250ABE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6386-561D-4D9F-A941-08791D11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E17-8F59-4A10-8105-37CC75B0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E674-EE0F-43E4-9EE9-A1DEFEAD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820A-6175-4F8B-A76C-869BBD81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8F16-1389-431E-8C0D-3A3AD77B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374-8CF9-4EEB-8096-B60ACE92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4C28-C760-4D5A-A094-5DD0701A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5F3-5014-45EE-8B76-8775ACE0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7DA-FD55-4533-A04C-63739A92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075-A135-4D75-8BE3-47C1B403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90D-9AB1-4629-95C9-A26AB9BE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115-C036-4DF0-867C-ABC7865C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A8F-81D3-4BB9-B459-B37659B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563-172D-4741-9AAC-3E16BA66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79B4-653D-4A0F-8C0B-2807D1BAEF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EE54-D79C-4974-AEAA-0D84380627D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юбом процессе передачи или обмене информацией существуют е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учат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сама информация передается п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налу связ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помощью сигналов: механических, электрических, тепловых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1403280" y="2205000"/>
            <a:ext cx="6480360" cy="1079640"/>
            <a:chOff x="1403280" y="2205000"/>
            <a:chExt cx="6480360" cy="1079640"/>
          </a:xfrm>
        </p:grpSpPr>
        <p:sp>
          <p:nvSpPr>
            <p:cNvPr id="151" name="AutoShape 4"/>
            <p:cNvSpPr/>
            <p:nvPr/>
          </p:nvSpPr>
          <p:spPr>
            <a:xfrm>
              <a:off x="1403280" y="234792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6012000" y="2276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3564000" y="2205000"/>
              <a:ext cx="2305080" cy="1079640"/>
            </a:xfrm>
            <a:prstGeom prst="rightArrow">
              <a:avLst>
                <a:gd name="adj1" fmla="val 50000"/>
                <a:gd name="adj2" fmla="val 53376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Text Box 9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ача информации от источника к получате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кодирующее устройство преобразует информацию в форму, понятную получател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108000" y="2133720"/>
            <a:ext cx="8893080" cy="1077840"/>
            <a:chOff x="108000" y="2133720"/>
            <a:chExt cx="8893080" cy="1077840"/>
          </a:xfrm>
        </p:grpSpPr>
        <p:sp>
          <p:nvSpPr>
            <p:cNvPr id="159" name="AutoShape 5"/>
            <p:cNvSpPr/>
            <p:nvPr/>
          </p:nvSpPr>
          <p:spPr>
            <a:xfrm>
              <a:off x="108000" y="2278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7345440" y="2278080"/>
              <a:ext cx="1655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421080" y="2133720"/>
              <a:ext cx="1871640" cy="1077840"/>
            </a:xfrm>
            <a:prstGeom prst="rightArrow">
              <a:avLst>
                <a:gd name="adj1" fmla="val 50000"/>
                <a:gd name="adj2" fmla="val 43412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>
              <a:off x="1908000" y="2278080"/>
              <a:ext cx="14414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5365800" y="2278080"/>
              <a:ext cx="16556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е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>
              <a:off x="1620720" y="2421000"/>
              <a:ext cx="21600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7093080" y="2421000"/>
              <a:ext cx="21564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13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передачи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j0196400"/>
          <p:cNvPicPr/>
          <p:nvPr/>
        </p:nvPicPr>
        <p:blipFill>
          <a:blip r:embed="rId1"/>
          <a:stretch/>
        </p:blipFill>
        <p:spPr>
          <a:xfrm>
            <a:off x="7448400" y="504504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атериальный объект, предназначенный для хранения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иск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это извлечение хранимой информ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ществуют ручной и автоматизированный методы поиска информации в хранилищ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тоды поиска информаци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осредственное наблюден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ение со специалистами по интересующему вас вопросу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ение соответствующей литератур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мотр теле-, видеопрограм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лушивание радиопередач и аудиокассет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а в библиотеках, архив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прос к информационным системам, базам и банкам компьютерных данны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метод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замок"/>
          <p:cNvPicPr/>
          <p:nvPr/>
        </p:nvPicPr>
        <p:blipFill>
          <a:blip r:embed="rId1"/>
          <a:stretch/>
        </p:blipFill>
        <p:spPr>
          <a:xfrm>
            <a:off x="7032600" y="5013360"/>
            <a:ext cx="1560600" cy="184464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защиты информации используют различные способ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граничение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лирование каналов связ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птографическое преобразование информации с помощью шиф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Шиф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ением и использованием шифров занимаетс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067600" y="5491080"/>
            <a:ext cx="1076400" cy="1366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j0300840"/>
          <p:cNvPicPr/>
          <p:nvPr/>
        </p:nvPicPr>
        <p:blipFill>
          <a:blip r:embed="rId1"/>
          <a:stretch/>
        </p:blipFill>
        <p:spPr>
          <a:xfrm>
            <a:off x="3924360" y="4365720"/>
            <a:ext cx="1814400" cy="1528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j0305257"/>
          <p:cNvPicPr/>
          <p:nvPr/>
        </p:nvPicPr>
        <p:blipFill>
          <a:blip r:embed="rId2"/>
          <a:stretch/>
        </p:blipFill>
        <p:spPr>
          <a:xfrm>
            <a:off x="1403280" y="422100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термометр"/>
          <p:cNvPicPr/>
          <p:nvPr/>
        </p:nvPicPr>
        <p:blipFill>
          <a:blip r:embed="rId3"/>
          <a:stretch/>
        </p:blipFill>
        <p:spPr>
          <a:xfrm>
            <a:off x="7308720" y="3357720"/>
            <a:ext cx="109548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 и зад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могает людям получ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способ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важно защищ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пособы защиты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шифр и зашифруйте фразу «Я учу информатику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8101080" y="981000"/>
            <a:ext cx="6159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1681"/>
          <p:cNvPicPr/>
          <p:nvPr/>
        </p:nvPicPr>
        <p:blipFill>
          <a:blip r:embed="rId1"/>
          <a:stretch/>
        </p:blipFill>
        <p:spPr>
          <a:xfrm>
            <a:off x="468360" y="584280"/>
            <a:ext cx="8207280" cy="61578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j0234687"/>
          <p:cNvPicPr/>
          <p:nvPr/>
        </p:nvPicPr>
        <p:blipFill>
          <a:blip r:embed="rId1"/>
          <a:stretch/>
        </p:blipFill>
        <p:spPr>
          <a:xfrm>
            <a:off x="6732720" y="5437080"/>
            <a:ext cx="2411280" cy="142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Picture 4" descr="2466"/>
          <p:cNvPicPr/>
          <p:nvPr/>
        </p:nvPicPr>
        <p:blipFill>
          <a:blip r:embed="rId1"/>
          <a:stretch/>
        </p:blipFill>
        <p:spPr>
          <a:xfrm>
            <a:off x="179280" y="625320"/>
            <a:ext cx="8820360" cy="5683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91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 из древних сооружен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висячие камни». Он был построен примерно 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2466"/>
          <p:cNvPicPr/>
          <p:nvPr/>
        </p:nvPicPr>
        <p:blipFill>
          <a:blip r:embed="rId1"/>
          <a:stretch/>
        </p:blipFill>
        <p:spPr>
          <a:xfrm>
            <a:off x="6156360" y="549360"/>
            <a:ext cx="2698560" cy="1739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299125"/>
          <p:cNvPicPr/>
          <p:nvPr/>
        </p:nvPicPr>
        <p:blipFill>
          <a:blip r:embed="rId1"/>
          <a:stretch/>
        </p:blipFill>
        <p:spPr>
          <a:xfrm>
            <a:off x="7812000" y="2637000"/>
            <a:ext cx="1100160" cy="1804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1041480" y="1773360"/>
            <a:ext cx="7130880" cy="1501560"/>
            <a:chOff x="1041480" y="1773360"/>
            <a:chExt cx="7130880" cy="1501560"/>
          </a:xfrm>
        </p:grpSpPr>
        <p:sp>
          <p:nvSpPr>
            <p:cNvPr id="136" name="Rectangle 4"/>
            <p:cNvSpPr/>
            <p:nvPr/>
          </p:nvSpPr>
          <p:spPr>
            <a:xfrm>
              <a:off x="104148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673092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ы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2770200" y="2205000"/>
              <a:ext cx="792000" cy="216000"/>
            </a:xfrm>
            <a:prstGeom prst="rightArrow">
              <a:avLst>
                <a:gd name="adj1" fmla="val 50000"/>
                <a:gd name="adj2" fmla="val 91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5649840" y="2205000"/>
              <a:ext cx="792360" cy="216000"/>
            </a:xfrm>
            <a:prstGeom prst="rightArrow">
              <a:avLst>
                <a:gd name="adj1" fmla="val 50000"/>
                <a:gd name="adj2" fmla="val 917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8" descr="j0292020"/>
            <p:cNvPicPr/>
            <p:nvPr/>
          </p:nvPicPr>
          <p:blipFill>
            <a:blip r:embed="rId1"/>
            <a:stretch/>
          </p:blipFill>
          <p:spPr>
            <a:xfrm>
              <a:off x="3849840" y="1773360"/>
              <a:ext cx="1582560" cy="15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10"/>
          <p:cNvSpPr/>
          <p:nvPr/>
        </p:nvSpPr>
        <p:spPr>
          <a:xfrm>
            <a:off x="755640" y="3284640"/>
            <a:ext cx="777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ую получает человек или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ая получается после обработки человеком или устройст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человека не было бы возможно без обмена информац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j0300520"/>
          <p:cNvPicPr/>
          <p:nvPr/>
        </p:nvPicPr>
        <p:blipFill>
          <a:blip r:embed="rId1"/>
          <a:stretch/>
        </p:blipFill>
        <p:spPr>
          <a:xfrm>
            <a:off x="7380360" y="5340240"/>
            <a:ext cx="176364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5364000"/>
            <a:ext cx="1908000" cy="1494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52:04Z</dcterms:created>
  <dc:creator>bas</dc:creator>
  <dc:description/>
  <dc:language>en-US</dc:language>
  <cp:lastModifiedBy>LEGION</cp:lastModifiedBy>
  <dcterms:modified xsi:type="dcterms:W3CDTF">2015-07-01T12:08:28Z</dcterms:modified>
  <cp:revision>21</cp:revision>
  <dc:subject/>
  <dc:title>Информационная деятельность человека</dc:title>
</cp:coreProperties>
</file>