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1B1C-5D60-497F-B0AF-568E6D5876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8948-84F7-43ED-AD17-0B885BCB3A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BAA0-6B19-4FF1-AC1E-0AC678F986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ч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до н.э.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н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-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ысокая классика»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– 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линистическая философи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 – 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д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-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редневек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V-XIV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три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а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-X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илософия Возрожд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-X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II – 1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ьный период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Просвещен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ередин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– 1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времен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 40-х гг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5D71-3EC7-4E97-9088-7A27067B99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 лекционного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водный разд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дел 1. Античная и средневековая философ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2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нняя греческая натурфилософ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3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чный атомизм: обоснование матери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4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латон: обоснование иде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5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я Аристо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6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пикурейцы и сто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7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чный скептиц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8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евековая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я: патри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9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евековая философия: схола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дел 2. Философия Ново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0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экон: обоснование эмпир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1. Декарт и Спиноза: обоснование рацион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2. Локк и Лейбниц: онтологические предпосылки и природа по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3. Беркли и Юм: субъектив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4. Кант: трансценденталь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5. Гегель: абсолют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6. Фейербах и Маркс: конец классической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мецкой филосо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0873-E140-4ECC-B746-B3BCE79ABF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9D34-D42A-4816-AC7E-A7562DE41F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раздела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лан лекционн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86B3-C1FD-46F0-9698-2E20E09997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C9FB-BF89-4ABF-93D6-85E03D0F43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EB60-0C17-404A-9B49-B8ABD7BE15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DD35-8F55-456C-9C2E-95EF5F0E1B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13A1-ED62-482C-8009-E8F6B897E5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3828-2023-44EB-8FDE-FE966CF976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E942-85DB-4348-9CF2-0EC06E172B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B505-B91C-4AF9-92C5-A367E98B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4695-4ED5-4D46-925A-D4BE2359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8941-9D65-44A1-80CF-F050E912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9FB9-61D4-46E5-9E90-9FF6919F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9606-5029-46FC-B420-A40DEDDF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D570-AA97-42D3-9D93-9B3771BE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C0B6-334B-4B32-8C91-F6B8205E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090B-3668-4A9C-9239-D9654DE2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3C08-1707-4ED9-9FB5-6CB30CCE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1580-10D5-48EF-848F-61F8D52F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D4A1-624E-4B0A-B4F8-212F105A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8EDD-B02F-4A0C-89E5-A6E07095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C1E1-59CB-459D-9395-C845317C5F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85480" y="1999800"/>
            <a:ext cx="856116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58560" y="1438200"/>
            <a:ext cx="8589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ч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до н.э.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н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-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ысокая классика»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– 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линистическая философи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 – 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д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-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редневек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V-XIV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три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а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-X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илософия Возрожд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-X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II – 1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ьный период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Просвещен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ередин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– 1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времен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 40-х гг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31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21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22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32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331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33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34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 лекционного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760" y="1168560"/>
            <a:ext cx="8805960" cy="54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водный разд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дел 1. Античная и средневековая философ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2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нняя греческая натурфилософ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3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чный атомизм: обоснование матери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4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латон: обоснование иде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5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я Аристо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6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пикурейцы и сто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7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чный скептиц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8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евековая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я: патри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9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евековая философия: схола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дел 2. Философия Ново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0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экон: обоснование эмпир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1. Декарт и Спиноза: обоснование рацион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2. Локк и Лейбниц: онтологические предпосылки и природа по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3. Беркли и Юм: субъектив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4. Кант: трансценденталь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5. Гегель: абсолют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6. Фейербах и Маркс: конец классической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мецкой филосо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2139840"/>
            <a:ext cx="679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раздела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ан лекционного кур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5037120" y="2085840"/>
            <a:ext cx="3598920" cy="234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Φιλοσοφί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510520" y="3057480"/>
            <a:ext cx="2637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00"/>
                </a:solidFill>
                <a:latin typeface="Times New Roman"/>
              </a:rPr>
              <a:t>φιλειν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– люб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00"/>
                </a:solidFill>
                <a:latin typeface="Times New Roman"/>
              </a:rPr>
              <a:t>σοφία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– мудр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514520" y="5505480"/>
            <a:ext cx="1623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фагор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Raphael, Pythagoras (School of Athens - red)"/>
          <p:cNvPicPr/>
          <p:nvPr/>
        </p:nvPicPr>
        <p:blipFill>
          <a:blip r:embed="rId1"/>
          <a:stretch/>
        </p:blipFill>
        <p:spPr>
          <a:xfrm>
            <a:off x="719280" y="1798560"/>
            <a:ext cx="3771720" cy="32385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19980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466560" y="1438200"/>
            <a:ext cx="3598920" cy="172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ук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 наиболее общих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конах мироздания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о мире как цел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2770200" y="3094200"/>
            <a:ext cx="3598920" cy="172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знание,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вободное от догм,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о не достигшее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аучной 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5073480" y="4749840"/>
            <a:ext cx="3598920" cy="172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учение не мира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амого по себе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 отношен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еловека и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769120" y="6056280"/>
            <a:ext cx="168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038560" y="1522440"/>
            <a:ext cx="10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4" descr="hare, russell (cut, red)"/>
          <p:cNvPicPr/>
          <p:nvPr/>
        </p:nvPicPr>
        <p:blipFill>
          <a:blip r:embed="rId1"/>
          <a:stretch/>
        </p:blipFill>
        <p:spPr>
          <a:xfrm>
            <a:off x="6513480" y="1438200"/>
            <a:ext cx="215892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9" name="Picture 15" descr="hare_aristotle (cut, red)"/>
          <p:cNvPicPr/>
          <p:nvPr/>
        </p:nvPicPr>
        <p:blipFill>
          <a:blip r:embed="rId2"/>
          <a:stretch/>
        </p:blipFill>
        <p:spPr>
          <a:xfrm>
            <a:off x="466560" y="4317840"/>
            <a:ext cx="2159280" cy="21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>
            <a:off x="2986200" y="1798560"/>
            <a:ext cx="3238560" cy="1008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58920" y="3886200"/>
            <a:ext cx="2590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Онтология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(метафиз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3309840" y="3886200"/>
            <a:ext cx="259092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Гносеология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(эпистемолог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6261120" y="3886200"/>
            <a:ext cx="259092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Этика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(аксиолог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AutoShape 13"/>
          <p:cNvCxnSpPr/>
          <p:nvPr/>
        </p:nvCxnSpPr>
        <p:spPr>
          <a:xfrm>
            <a:off x="4605480" y="2806560"/>
            <a:ext cx="2160" cy="540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7" name="AutoShape 14"/>
          <p:cNvCxnSpPr/>
          <p:nvPr/>
        </p:nvCxnSpPr>
        <p:spPr>
          <a:xfrm>
            <a:off x="4605480" y="3346200"/>
            <a:ext cx="216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8" name="Line 15"/>
          <p:cNvSpPr/>
          <p:nvPr/>
        </p:nvSpPr>
        <p:spPr>
          <a:xfrm>
            <a:off x="1654200" y="334656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4605480" y="334656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17"/>
          <p:cNvCxnSpPr/>
          <p:nvPr/>
        </p:nvCxnSpPr>
        <p:spPr>
          <a:xfrm>
            <a:off x="1654200" y="3346200"/>
            <a:ext cx="216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1" name="AutoShape 18"/>
          <p:cNvCxnSpPr/>
          <p:nvPr/>
        </p:nvCxnSpPr>
        <p:spPr>
          <a:xfrm>
            <a:off x="7556040" y="3346200"/>
            <a:ext cx="252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2" name="Rectangle 19"/>
          <p:cNvSpPr/>
          <p:nvPr/>
        </p:nvSpPr>
        <p:spPr>
          <a:xfrm>
            <a:off x="358920" y="5037120"/>
            <a:ext cx="259056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чение о бы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0"/>
          <p:cNvSpPr/>
          <p:nvPr/>
        </p:nvSpPr>
        <p:spPr>
          <a:xfrm>
            <a:off x="3309840" y="5037120"/>
            <a:ext cx="25909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чение о зн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1"/>
          <p:cNvSpPr/>
          <p:nvPr/>
        </p:nvSpPr>
        <p:spPr>
          <a:xfrm>
            <a:off x="6261120" y="5037120"/>
            <a:ext cx="25909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чение о благ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ценнос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358920" y="1798560"/>
            <a:ext cx="395892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Онт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όν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од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όντ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у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 философии, изучающий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фундаментальные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инципы быт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иболее общие сущ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атегории сущего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огда отождествля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метафизико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чаще рассматривается ка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ё основополагающая ча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.е. как метафизика 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4786200" y="1798560"/>
            <a:ext cx="395928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Метафиз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μετά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τά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φυσικά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после физики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ое учение о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верхопытных началах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 законах бытия вообщ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какого-либо типа бытия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огда употреб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синоним слова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«философия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сближается с понятием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«онт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58920" y="1798560"/>
            <a:ext cx="395892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Гносе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γνώσι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нание, позна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теория позна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 философии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ющий природ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возможности зна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 предпосылки, средств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условия достовер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786200" y="1798560"/>
            <a:ext cx="395928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Эпистем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επιςτήμη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на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теория познания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ноним слова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«гносеология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потребляем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английск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французском язык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58920" y="1798560"/>
            <a:ext cx="395892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Эт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ηθικ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ά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ηθικό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носящийся к нраву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арактеру;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ethica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 философии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ющи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орал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сферу высших ценност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олженствов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равствен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ак сторону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едеятельности челове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форму обществен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786200" y="1798560"/>
            <a:ext cx="395928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Акси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αξι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ценно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учение о ценност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ая дисциплин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ющая характеристик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уктуру и иерарх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ностного мир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 онтологический стату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пособы позна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у и специфик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ностных суж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001compr"/>
          <p:cNvPicPr/>
          <p:nvPr/>
        </p:nvPicPr>
        <p:blipFill>
          <a:blip r:embed="rId1"/>
          <a:stretch/>
        </p:blipFill>
        <p:spPr>
          <a:xfrm>
            <a:off x="669960" y="2158920"/>
            <a:ext cx="7802640" cy="3902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4859280" y="299736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6877080" y="314172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6012000" y="335772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Aristotle_compr1"/>
          <p:cNvPicPr/>
          <p:nvPr/>
        </p:nvPicPr>
        <p:blipFill>
          <a:blip r:embed="rId2"/>
          <a:stretch/>
        </p:blipFill>
        <p:spPr>
          <a:xfrm>
            <a:off x="395280" y="1798560"/>
            <a:ext cx="1440000" cy="204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4" name="Picture 9" descr="Будда (01)"/>
          <p:cNvPicPr/>
          <p:nvPr/>
        </p:nvPicPr>
        <p:blipFill>
          <a:blip r:embed="rId3"/>
          <a:stretch/>
        </p:blipFill>
        <p:spPr>
          <a:xfrm>
            <a:off x="5721480" y="4497480"/>
            <a:ext cx="1619280" cy="1982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5" name="Picture 11" descr="s3_1 ed (0-red)"/>
          <p:cNvPicPr/>
          <p:nvPr/>
        </p:nvPicPr>
        <p:blipFill>
          <a:blip r:embed="rId4"/>
          <a:stretch/>
        </p:blipFill>
        <p:spPr>
          <a:xfrm>
            <a:off x="7448400" y="1438200"/>
            <a:ext cx="1384560" cy="2146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6" name="Text Box 12"/>
          <p:cNvSpPr/>
          <p:nvPr/>
        </p:nvSpPr>
        <p:spPr>
          <a:xfrm>
            <a:off x="2050920" y="151128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6224400" y="1511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4498200" y="622476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11:47:34Z</dcterms:created>
  <dc:creator>Николай Бирюков / Nikolai Biryukov</dc:creator>
  <dc:description>Редакция сентября 2009 г.</dc:description>
  <dc:language>en-US</dc:language>
  <cp:lastModifiedBy>LEGION</cp:lastModifiedBy>
  <dcterms:modified xsi:type="dcterms:W3CDTF">2014-11-11T10:05:35Z</dcterms:modified>
  <cp:revision>100</cp:revision>
  <dc:subject>Основы философии - Тема 1</dc:subject>
  <dc:title>Характер философского знания и задачи философии</dc:title>
</cp:coreProperties>
</file>