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gif" ContentType="image/gif"/>
  <Override PartName="/ppt/media/image9.gif" ContentType="image/gi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png" ContentType="image/png"/>
  <Override PartName="/ppt/media/image3.gif" ContentType="image/gif"/>
  <Override PartName="/ppt/media/image14.wmf" ContentType="image/x-wmf"/>
  <Override PartName="/ppt/media/image5.wmf" ContentType="image/x-wmf"/>
  <Override PartName="/ppt/media/image10.png" ContentType="image/png"/>
  <Override PartName="/ppt/media/image2.wmf" ContentType="image/x-wmf"/>
  <Override PartName="/ppt/media/image25.wmf" ContentType="image/x-wmf"/>
  <Override PartName="/ppt/media/image4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gif" ContentType="image/gif"/>
  <Override PartName="/ppt/media/image20.wmf" ContentType="image/x-wmf"/>
  <Override PartName="/ppt/media/image18.gif" ContentType="image/gif"/>
  <Override PartName="/ppt/media/image21.gif" ContentType="image/gif"/>
  <Override PartName="/ppt/media/image19.gif" ContentType="image/gif"/>
  <Override PartName="/ppt/media/image17.wmf" ContentType="image/x-wmf"/>
  <Override PartName="/ppt/media/image16.gif" ContentType="image/gif"/>
  <Override PartName="/ppt/media/image15.gif" ContentType="image/gif"/>
  <Override PartName="/ppt/media/image1.jpeg" ContentType="image/jpeg"/>
  <Override PartName="/ppt/media/image2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9220-7D61-4F5F-B5C1-2D4BB90197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067A-D758-4EC6-BF8A-65AA7AAF55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 классИнформационная деятельность челове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ы чувств человека – главный инструмент познания мира. Но чтобы проникнуть в тайны Природы и Космоса, необходимы специальны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ехнические устройства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скопы и телескопы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сы и термометры,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собирает информацию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7246-3B93-47FB-B8B6-7DE37A211F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щет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02E4-A249-4E9F-82B3-679C5F8F56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атывае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F51A-0051-4377-A244-71E62D709C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е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3B57-FB44-49D1-B979-494B9E3FD3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анит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DAD1-2577-48AF-B266-BB1E0B9FD8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щает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5027-7DF0-4E44-A967-760C9D1B9D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B2B9-D515-4C14-9B0E-04FB4D4AB4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. Домашня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ред. Макаровой, 7-9 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0340-DB6E-44F7-BFFE-3BC0FB71C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3324-2E1A-4CFC-89C5-E4694A4E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4F0A-5691-4CCE-A37E-D1CD0D196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951F-DB44-4253-9270-AF74DEEBA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9C6A-1302-4B0F-8EDB-CE2F45EB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BB0F-C218-4863-8C18-D810ACA7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5EE5-87BA-43A9-840E-CAD495A3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3ABD-C52C-40E7-8D7A-85C3E45B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5648-D7B6-47F2-9416-66CC2585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437A-EC8F-46F2-81CA-8CFF66A0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DFBD-7564-4BE3-9595-279042DC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9617-A14C-405D-90EC-EFEB6B90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5B74-2BA4-4BC3-AB85-768D38DCFF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gi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wm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j0305257"/>
          <p:cNvPicPr/>
          <p:nvPr/>
        </p:nvPicPr>
        <p:blipFill>
          <a:blip r:embed="rId1"/>
          <a:stretch/>
        </p:blipFill>
        <p:spPr>
          <a:xfrm>
            <a:off x="971640" y="3860640"/>
            <a:ext cx="2305080" cy="2997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онная деятельность челове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24000" y="1699920"/>
            <a:ext cx="882000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ы чувств человека – главный инструмент познания мира. Но чтобы проникнуть в тайны Природы и Космоса, необходимы специальны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ехнические устройства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кроскопы и телескопы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сы и термометры,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ловек собирает информацию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19523698214112a2699c95c4zc"/>
          <p:cNvPicPr/>
          <p:nvPr/>
        </p:nvPicPr>
        <p:blipFill>
          <a:blip r:embed="rId1"/>
          <a:stretch/>
        </p:blipFill>
        <p:spPr>
          <a:xfrm>
            <a:off x="3995640" y="2514600"/>
            <a:ext cx="5148360" cy="4343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j0149481"/>
          <p:cNvPicPr/>
          <p:nvPr/>
        </p:nvPicPr>
        <p:blipFill>
          <a:blip r:embed="rId2"/>
          <a:stretch/>
        </p:blipFill>
        <p:spPr>
          <a:xfrm>
            <a:off x="684360" y="1125360"/>
            <a:ext cx="3189240" cy="3240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j0299171"/>
          <p:cNvPicPr/>
          <p:nvPr/>
        </p:nvPicPr>
        <p:blipFill>
          <a:blip r:embed="rId3"/>
          <a:stretch/>
        </p:blipFill>
        <p:spPr>
          <a:xfrm>
            <a:off x="1116000" y="4653000"/>
            <a:ext cx="1535040" cy="1809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"/>
          <p:cNvPicPr/>
          <p:nvPr/>
        </p:nvPicPr>
        <p:blipFill>
          <a:blip r:embed="rId4"/>
          <a:stretch/>
        </p:blipFill>
        <p:spPr>
          <a:xfrm>
            <a:off x="9144000" y="105264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ntr" presetID="21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59259E-006 L -0.55903 -0.0051 E">
                                      <p:cBhvr>
                                        <p:cTn id="33" dur="5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щет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j0301076"/>
          <p:cNvPicPr/>
          <p:nvPr/>
        </p:nvPicPr>
        <p:blipFill>
          <a:blip r:embed="rId1"/>
          <a:stretch/>
        </p:blipFill>
        <p:spPr>
          <a:xfrm>
            <a:off x="179280" y="18900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j0215086"/>
          <p:cNvPicPr/>
          <p:nvPr/>
        </p:nvPicPr>
        <p:blipFill>
          <a:blip r:embed="rId2"/>
          <a:stretch/>
        </p:blipFill>
        <p:spPr>
          <a:xfrm>
            <a:off x="7483320" y="6858000"/>
            <a:ext cx="1660680" cy="2600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av66854qw"/>
          <p:cNvPicPr/>
          <p:nvPr/>
        </p:nvPicPr>
        <p:blipFill>
          <a:blip r:embed="rId3"/>
          <a:stretch/>
        </p:blipFill>
        <p:spPr>
          <a:xfrm>
            <a:off x="3564000" y="1557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"/>
          <p:cNvPicPr/>
          <p:nvPr/>
        </p:nvPicPr>
        <p:blipFill>
          <a:blip r:embed="rId4"/>
          <a:stretch/>
        </p:blipFill>
        <p:spPr>
          <a:xfrm>
            <a:off x="684360" y="4149720"/>
            <a:ext cx="2087280" cy="208764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88622E-006 L -0.00764 -0.98265 E">
                                      <p:cBhvr>
                                        <p:cTn id="54" dur="5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батывае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2l5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008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j0233018"/>
          <p:cNvPicPr/>
          <p:nvPr/>
        </p:nvPicPr>
        <p:blipFill>
          <a:blip r:embed="rId2"/>
          <a:stretch/>
        </p:blipFill>
        <p:spPr>
          <a:xfrm>
            <a:off x="179280" y="2492280"/>
            <a:ext cx="2575080" cy="2614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j0293844"/>
          <p:cNvPicPr/>
          <p:nvPr/>
        </p:nvPicPr>
        <p:blipFill>
          <a:blip r:embed="rId3"/>
          <a:stretch/>
        </p:blipFill>
        <p:spPr>
          <a:xfrm>
            <a:off x="7405560" y="692280"/>
            <a:ext cx="1738440" cy="1827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j0195384"/>
          <p:cNvPicPr/>
          <p:nvPr/>
        </p:nvPicPr>
        <p:blipFill>
          <a:blip r:embed="rId4"/>
          <a:stretch/>
        </p:blipFill>
        <p:spPr>
          <a:xfrm>
            <a:off x="2771640" y="2565360"/>
            <a:ext cx="2467080" cy="2519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av165049me"/>
          <p:cNvPicPr/>
          <p:nvPr/>
        </p:nvPicPr>
        <p:blipFill>
          <a:blip r:embed="rId5"/>
          <a:stretch/>
        </p:blipFill>
        <p:spPr>
          <a:xfrm>
            <a:off x="5940360" y="3573360"/>
            <a:ext cx="3192480" cy="328464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46432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едае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j0300520"/>
          <p:cNvPicPr/>
          <p:nvPr/>
        </p:nvPicPr>
        <p:blipFill>
          <a:blip r:embed="rId1"/>
          <a:stretch/>
        </p:blipFill>
        <p:spPr>
          <a:xfrm>
            <a:off x="324000" y="2133720"/>
            <a:ext cx="2808000" cy="2414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j0332268"/>
          <p:cNvPicPr/>
          <p:nvPr/>
        </p:nvPicPr>
        <p:blipFill>
          <a:blip r:embed="rId2"/>
          <a:stretch/>
        </p:blipFill>
        <p:spPr>
          <a:xfrm>
            <a:off x="6516720" y="1989000"/>
            <a:ext cx="2230560" cy="252108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8"/>
          <p:cNvGrpSpPr/>
          <p:nvPr/>
        </p:nvGrpSpPr>
        <p:grpSpPr>
          <a:xfrm>
            <a:off x="3419640" y="4149720"/>
            <a:ext cx="2761560" cy="2565000"/>
            <a:chOff x="3419640" y="4149720"/>
            <a:chExt cx="2761560" cy="2565000"/>
          </a:xfrm>
        </p:grpSpPr>
        <p:sp>
          <p:nvSpPr>
            <p:cNvPr id="75" name="Film"/>
            <p:cNvSpPr/>
            <p:nvPr/>
          </p:nvSpPr>
          <p:spPr>
            <a:xfrm>
              <a:off x="3419640" y="4803120"/>
              <a:ext cx="1152000" cy="1911600"/>
            </a:xfrm>
            <a:custGeom>
              <a:avLst/>
              <a:gdLst>
                <a:gd name="textAreaLeft" fmla="*/ 264960 w 1152000"/>
                <a:gd name="textAreaRight" fmla="*/ 910800 w 1152000"/>
                <a:gd name="textAreaTop" fmla="*/ 719640 h 1911600"/>
                <a:gd name="textAreaBottom" fmla="*/ 1188720 h 191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close/>
                </a:path>
                <a:path w="21600" h="21600">
                  <a:moveTo>
                    <a:pt x="3014" y="21600"/>
                  </a:moveTo>
                  <a:lnTo>
                    <a:pt x="3014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3014" y="21600"/>
                  </a:lnTo>
                  <a:close/>
                </a:path>
                <a:path w="21600" h="21600">
                  <a:moveTo>
                    <a:pt x="21600" y="21600"/>
                  </a:moveTo>
                  <a:lnTo>
                    <a:pt x="21600" y="0"/>
                  </a:lnTo>
                  <a:lnTo>
                    <a:pt x="18586" y="0"/>
                  </a:lnTo>
                  <a:lnTo>
                    <a:pt x="18586" y="21600"/>
                  </a:lnTo>
                  <a:lnTo>
                    <a:pt x="21600" y="21600"/>
                  </a:lnTo>
                  <a:close/>
                </a:path>
                <a:path w="21600" h="21600">
                  <a:moveTo>
                    <a:pt x="6028" y="6574"/>
                  </a:moveTo>
                  <a:lnTo>
                    <a:pt x="15572" y="6574"/>
                  </a:lnTo>
                  <a:lnTo>
                    <a:pt x="16074" y="6574"/>
                  </a:lnTo>
                  <a:lnTo>
                    <a:pt x="16326" y="6457"/>
                  </a:lnTo>
                  <a:lnTo>
                    <a:pt x="16577" y="6339"/>
                  </a:lnTo>
                  <a:lnTo>
                    <a:pt x="16828" y="6222"/>
                  </a:lnTo>
                  <a:lnTo>
                    <a:pt x="17079" y="6222"/>
                  </a:lnTo>
                  <a:lnTo>
                    <a:pt x="17330" y="5987"/>
                  </a:lnTo>
                  <a:lnTo>
                    <a:pt x="17330" y="5870"/>
                  </a:lnTo>
                  <a:lnTo>
                    <a:pt x="17581" y="5635"/>
                  </a:lnTo>
                  <a:lnTo>
                    <a:pt x="17581" y="1526"/>
                  </a:lnTo>
                  <a:lnTo>
                    <a:pt x="17330" y="1291"/>
                  </a:lnTo>
                  <a:lnTo>
                    <a:pt x="17330" y="1174"/>
                  </a:lnTo>
                  <a:lnTo>
                    <a:pt x="17079" y="1057"/>
                  </a:lnTo>
                  <a:lnTo>
                    <a:pt x="16828" y="939"/>
                  </a:lnTo>
                  <a:lnTo>
                    <a:pt x="16577" y="822"/>
                  </a:lnTo>
                  <a:lnTo>
                    <a:pt x="16326" y="704"/>
                  </a:lnTo>
                  <a:lnTo>
                    <a:pt x="16074" y="704"/>
                  </a:lnTo>
                  <a:lnTo>
                    <a:pt x="15572" y="587"/>
                  </a:lnTo>
                  <a:lnTo>
                    <a:pt x="6028" y="587"/>
                  </a:lnTo>
                  <a:lnTo>
                    <a:pt x="5526" y="704"/>
                  </a:lnTo>
                  <a:lnTo>
                    <a:pt x="5274" y="704"/>
                  </a:lnTo>
                  <a:lnTo>
                    <a:pt x="5023" y="822"/>
                  </a:lnTo>
                  <a:lnTo>
                    <a:pt x="4772" y="939"/>
                  </a:lnTo>
                  <a:lnTo>
                    <a:pt x="4521" y="1057"/>
                  </a:lnTo>
                  <a:lnTo>
                    <a:pt x="4270" y="1174"/>
                  </a:lnTo>
                  <a:lnTo>
                    <a:pt x="4270" y="1291"/>
                  </a:lnTo>
                  <a:lnTo>
                    <a:pt x="4019" y="1526"/>
                  </a:lnTo>
                  <a:lnTo>
                    <a:pt x="4019" y="5635"/>
                  </a:lnTo>
                  <a:lnTo>
                    <a:pt x="4270" y="5870"/>
                  </a:lnTo>
                  <a:lnTo>
                    <a:pt x="4270" y="5987"/>
                  </a:lnTo>
                  <a:lnTo>
                    <a:pt x="4521" y="6222"/>
                  </a:lnTo>
                  <a:lnTo>
                    <a:pt x="4772" y="6222"/>
                  </a:lnTo>
                  <a:lnTo>
                    <a:pt x="5023" y="6339"/>
                  </a:lnTo>
                  <a:lnTo>
                    <a:pt x="5274" y="6457"/>
                  </a:lnTo>
                  <a:lnTo>
                    <a:pt x="5526" y="6574"/>
                  </a:lnTo>
                  <a:lnTo>
                    <a:pt x="6028" y="6574"/>
                  </a:lnTo>
                  <a:close/>
                </a:path>
                <a:path w="21600" h="21600">
                  <a:moveTo>
                    <a:pt x="6028" y="13617"/>
                  </a:moveTo>
                  <a:lnTo>
                    <a:pt x="15572" y="13617"/>
                  </a:lnTo>
                  <a:lnTo>
                    <a:pt x="16074" y="13617"/>
                  </a:lnTo>
                  <a:lnTo>
                    <a:pt x="16326" y="13617"/>
                  </a:lnTo>
                  <a:lnTo>
                    <a:pt x="16577" y="13500"/>
                  </a:lnTo>
                  <a:lnTo>
                    <a:pt x="16828" y="13383"/>
                  </a:lnTo>
                  <a:lnTo>
                    <a:pt x="17079" y="13265"/>
                  </a:lnTo>
                  <a:lnTo>
                    <a:pt x="17330" y="13148"/>
                  </a:lnTo>
                  <a:lnTo>
                    <a:pt x="17330" y="12913"/>
                  </a:lnTo>
                  <a:lnTo>
                    <a:pt x="17581" y="12796"/>
                  </a:lnTo>
                  <a:lnTo>
                    <a:pt x="17581" y="8687"/>
                  </a:lnTo>
                  <a:lnTo>
                    <a:pt x="17330" y="8452"/>
                  </a:lnTo>
                  <a:lnTo>
                    <a:pt x="17330" y="8335"/>
                  </a:lnTo>
                  <a:lnTo>
                    <a:pt x="17079" y="8217"/>
                  </a:lnTo>
                  <a:lnTo>
                    <a:pt x="16828" y="7983"/>
                  </a:lnTo>
                  <a:lnTo>
                    <a:pt x="16577" y="7983"/>
                  </a:lnTo>
                  <a:lnTo>
                    <a:pt x="16326" y="7865"/>
                  </a:lnTo>
                  <a:lnTo>
                    <a:pt x="16074" y="7865"/>
                  </a:lnTo>
                  <a:lnTo>
                    <a:pt x="15572" y="7748"/>
                  </a:lnTo>
                  <a:lnTo>
                    <a:pt x="6028" y="7748"/>
                  </a:lnTo>
                  <a:lnTo>
                    <a:pt x="5526" y="7865"/>
                  </a:lnTo>
                  <a:lnTo>
                    <a:pt x="5274" y="7865"/>
                  </a:lnTo>
                  <a:lnTo>
                    <a:pt x="5023" y="7983"/>
                  </a:lnTo>
                  <a:lnTo>
                    <a:pt x="4772" y="7983"/>
                  </a:lnTo>
                  <a:lnTo>
                    <a:pt x="4521" y="8217"/>
                  </a:lnTo>
                  <a:lnTo>
                    <a:pt x="4270" y="8335"/>
                  </a:lnTo>
                  <a:lnTo>
                    <a:pt x="4270" y="8452"/>
                  </a:lnTo>
                  <a:lnTo>
                    <a:pt x="4019" y="8687"/>
                  </a:lnTo>
                  <a:lnTo>
                    <a:pt x="4019" y="12796"/>
                  </a:lnTo>
                  <a:lnTo>
                    <a:pt x="4270" y="12913"/>
                  </a:lnTo>
                  <a:lnTo>
                    <a:pt x="4270" y="13148"/>
                  </a:lnTo>
                  <a:lnTo>
                    <a:pt x="4521" y="13265"/>
                  </a:lnTo>
                  <a:lnTo>
                    <a:pt x="4772" y="13383"/>
                  </a:lnTo>
                  <a:lnTo>
                    <a:pt x="5023" y="13500"/>
                  </a:lnTo>
                  <a:lnTo>
                    <a:pt x="5274" y="13617"/>
                  </a:lnTo>
                  <a:lnTo>
                    <a:pt x="5526" y="13617"/>
                  </a:lnTo>
                  <a:lnTo>
                    <a:pt x="6028" y="13617"/>
                  </a:lnTo>
                  <a:close/>
                </a:path>
                <a:path w="21600" h="21600">
                  <a:moveTo>
                    <a:pt x="6028" y="20778"/>
                  </a:moveTo>
                  <a:lnTo>
                    <a:pt x="15572" y="20778"/>
                  </a:lnTo>
                  <a:lnTo>
                    <a:pt x="16074" y="20778"/>
                  </a:lnTo>
                  <a:lnTo>
                    <a:pt x="16326" y="20661"/>
                  </a:lnTo>
                  <a:lnTo>
                    <a:pt x="16577" y="20661"/>
                  </a:lnTo>
                  <a:lnTo>
                    <a:pt x="16828" y="20543"/>
                  </a:lnTo>
                  <a:lnTo>
                    <a:pt x="17079" y="20426"/>
                  </a:lnTo>
                  <a:lnTo>
                    <a:pt x="17330" y="20309"/>
                  </a:lnTo>
                  <a:lnTo>
                    <a:pt x="17330" y="20074"/>
                  </a:lnTo>
                  <a:lnTo>
                    <a:pt x="17581" y="19957"/>
                  </a:lnTo>
                  <a:lnTo>
                    <a:pt x="17581" y="15730"/>
                  </a:lnTo>
                  <a:lnTo>
                    <a:pt x="17330" y="15613"/>
                  </a:lnTo>
                  <a:lnTo>
                    <a:pt x="17330" y="15378"/>
                  </a:lnTo>
                  <a:lnTo>
                    <a:pt x="17079" y="15378"/>
                  </a:lnTo>
                  <a:lnTo>
                    <a:pt x="16828" y="15143"/>
                  </a:lnTo>
                  <a:lnTo>
                    <a:pt x="16577" y="15026"/>
                  </a:lnTo>
                  <a:lnTo>
                    <a:pt x="16326" y="15026"/>
                  </a:lnTo>
                  <a:lnTo>
                    <a:pt x="16074" y="15026"/>
                  </a:lnTo>
                  <a:lnTo>
                    <a:pt x="15572" y="14909"/>
                  </a:lnTo>
                  <a:lnTo>
                    <a:pt x="6028" y="14909"/>
                  </a:lnTo>
                  <a:lnTo>
                    <a:pt x="5526" y="15026"/>
                  </a:lnTo>
                  <a:lnTo>
                    <a:pt x="5274" y="15026"/>
                  </a:lnTo>
                  <a:lnTo>
                    <a:pt x="5023" y="15026"/>
                  </a:lnTo>
                  <a:lnTo>
                    <a:pt x="4772" y="15143"/>
                  </a:lnTo>
                  <a:lnTo>
                    <a:pt x="4521" y="15378"/>
                  </a:lnTo>
                  <a:lnTo>
                    <a:pt x="4270" y="15378"/>
                  </a:lnTo>
                  <a:lnTo>
                    <a:pt x="4270" y="15613"/>
                  </a:lnTo>
                  <a:lnTo>
                    <a:pt x="4019" y="15730"/>
                  </a:lnTo>
                  <a:lnTo>
                    <a:pt x="4019" y="19957"/>
                  </a:lnTo>
                  <a:lnTo>
                    <a:pt x="4270" y="20074"/>
                  </a:lnTo>
                  <a:lnTo>
                    <a:pt x="4270" y="20309"/>
                  </a:lnTo>
                  <a:lnTo>
                    <a:pt x="4521" y="20426"/>
                  </a:lnTo>
                  <a:lnTo>
                    <a:pt x="4772" y="20543"/>
                  </a:lnTo>
                  <a:lnTo>
                    <a:pt x="5023" y="20661"/>
                  </a:lnTo>
                  <a:lnTo>
                    <a:pt x="5274" y="20661"/>
                  </a:lnTo>
                  <a:lnTo>
                    <a:pt x="5526" y="20778"/>
                  </a:lnTo>
                  <a:lnTo>
                    <a:pt x="6028" y="20778"/>
                  </a:lnTo>
                  <a:close/>
                </a:path>
                <a:path w="21600" h="21600">
                  <a:moveTo>
                    <a:pt x="753" y="1291"/>
                  </a:moveTo>
                  <a:lnTo>
                    <a:pt x="2260" y="1291"/>
                  </a:lnTo>
                  <a:lnTo>
                    <a:pt x="2260" y="235"/>
                  </a:lnTo>
                  <a:lnTo>
                    <a:pt x="753" y="235"/>
                  </a:lnTo>
                  <a:lnTo>
                    <a:pt x="753" y="1291"/>
                  </a:lnTo>
                  <a:close/>
                </a:path>
                <a:path w="21600" h="21600">
                  <a:moveTo>
                    <a:pt x="753" y="2700"/>
                  </a:moveTo>
                  <a:lnTo>
                    <a:pt x="2260" y="2700"/>
                  </a:lnTo>
                  <a:lnTo>
                    <a:pt x="2260" y="1643"/>
                  </a:lnTo>
                  <a:lnTo>
                    <a:pt x="753" y="1643"/>
                  </a:lnTo>
                  <a:lnTo>
                    <a:pt x="753" y="2700"/>
                  </a:lnTo>
                  <a:close/>
                </a:path>
                <a:path w="21600" h="21600">
                  <a:moveTo>
                    <a:pt x="753" y="4109"/>
                  </a:moveTo>
                  <a:lnTo>
                    <a:pt x="2260" y="4109"/>
                  </a:lnTo>
                  <a:lnTo>
                    <a:pt x="2260" y="3052"/>
                  </a:lnTo>
                  <a:lnTo>
                    <a:pt x="753" y="3052"/>
                  </a:lnTo>
                  <a:lnTo>
                    <a:pt x="753" y="4109"/>
                  </a:lnTo>
                  <a:close/>
                </a:path>
                <a:path w="21600" h="21600">
                  <a:moveTo>
                    <a:pt x="753" y="5517"/>
                  </a:moveTo>
                  <a:lnTo>
                    <a:pt x="2260" y="5517"/>
                  </a:lnTo>
                  <a:lnTo>
                    <a:pt x="2260" y="4461"/>
                  </a:lnTo>
                  <a:lnTo>
                    <a:pt x="753" y="4461"/>
                  </a:lnTo>
                  <a:lnTo>
                    <a:pt x="753" y="5517"/>
                  </a:lnTo>
                  <a:close/>
                </a:path>
                <a:path w="21600" h="21600">
                  <a:moveTo>
                    <a:pt x="753" y="6926"/>
                  </a:moveTo>
                  <a:lnTo>
                    <a:pt x="2260" y="6926"/>
                  </a:lnTo>
                  <a:lnTo>
                    <a:pt x="2260" y="5870"/>
                  </a:lnTo>
                  <a:lnTo>
                    <a:pt x="753" y="5870"/>
                  </a:lnTo>
                  <a:lnTo>
                    <a:pt x="753" y="6926"/>
                  </a:lnTo>
                  <a:close/>
                </a:path>
                <a:path w="21600" h="21600">
                  <a:moveTo>
                    <a:pt x="753" y="8335"/>
                  </a:moveTo>
                  <a:lnTo>
                    <a:pt x="2260" y="8335"/>
                  </a:lnTo>
                  <a:lnTo>
                    <a:pt x="2260" y="7278"/>
                  </a:lnTo>
                  <a:lnTo>
                    <a:pt x="753" y="7278"/>
                  </a:lnTo>
                  <a:lnTo>
                    <a:pt x="753" y="8335"/>
                  </a:lnTo>
                  <a:close/>
                </a:path>
                <a:path w="21600" h="21600">
                  <a:moveTo>
                    <a:pt x="753" y="9743"/>
                  </a:moveTo>
                  <a:lnTo>
                    <a:pt x="2260" y="9743"/>
                  </a:lnTo>
                  <a:lnTo>
                    <a:pt x="2260" y="8687"/>
                  </a:lnTo>
                  <a:lnTo>
                    <a:pt x="753" y="8687"/>
                  </a:lnTo>
                  <a:lnTo>
                    <a:pt x="753" y="9743"/>
                  </a:lnTo>
                  <a:close/>
                </a:path>
                <a:path w="21600" h="21600">
                  <a:moveTo>
                    <a:pt x="753" y="11152"/>
                  </a:moveTo>
                  <a:lnTo>
                    <a:pt x="2260" y="11152"/>
                  </a:lnTo>
                  <a:lnTo>
                    <a:pt x="2260" y="10096"/>
                  </a:lnTo>
                  <a:lnTo>
                    <a:pt x="753" y="10096"/>
                  </a:lnTo>
                  <a:lnTo>
                    <a:pt x="753" y="11152"/>
                  </a:lnTo>
                  <a:close/>
                </a:path>
                <a:path w="21600" h="21600">
                  <a:moveTo>
                    <a:pt x="753" y="12561"/>
                  </a:moveTo>
                  <a:lnTo>
                    <a:pt x="2260" y="12561"/>
                  </a:lnTo>
                  <a:lnTo>
                    <a:pt x="2260" y="11504"/>
                  </a:lnTo>
                  <a:lnTo>
                    <a:pt x="753" y="11504"/>
                  </a:lnTo>
                  <a:lnTo>
                    <a:pt x="753" y="12561"/>
                  </a:lnTo>
                  <a:close/>
                </a:path>
                <a:path w="21600" h="21600">
                  <a:moveTo>
                    <a:pt x="753" y="13970"/>
                  </a:moveTo>
                  <a:lnTo>
                    <a:pt x="2260" y="13970"/>
                  </a:lnTo>
                  <a:lnTo>
                    <a:pt x="2260" y="12913"/>
                  </a:lnTo>
                  <a:lnTo>
                    <a:pt x="753" y="12913"/>
                  </a:lnTo>
                  <a:lnTo>
                    <a:pt x="753" y="13970"/>
                  </a:lnTo>
                  <a:close/>
                </a:path>
                <a:path w="21600" h="21600">
                  <a:moveTo>
                    <a:pt x="753" y="15378"/>
                  </a:moveTo>
                  <a:lnTo>
                    <a:pt x="2260" y="15378"/>
                  </a:lnTo>
                  <a:lnTo>
                    <a:pt x="2260" y="14322"/>
                  </a:lnTo>
                  <a:lnTo>
                    <a:pt x="753" y="14322"/>
                  </a:lnTo>
                  <a:lnTo>
                    <a:pt x="753" y="15378"/>
                  </a:lnTo>
                  <a:close/>
                </a:path>
                <a:path w="21600" h="21600">
                  <a:moveTo>
                    <a:pt x="753" y="16787"/>
                  </a:moveTo>
                  <a:lnTo>
                    <a:pt x="2260" y="16787"/>
                  </a:lnTo>
                  <a:lnTo>
                    <a:pt x="2260" y="15730"/>
                  </a:lnTo>
                  <a:lnTo>
                    <a:pt x="753" y="15730"/>
                  </a:lnTo>
                  <a:lnTo>
                    <a:pt x="753" y="16787"/>
                  </a:lnTo>
                  <a:close/>
                </a:path>
                <a:path w="21600" h="21600">
                  <a:moveTo>
                    <a:pt x="753" y="18196"/>
                  </a:moveTo>
                  <a:lnTo>
                    <a:pt x="2260" y="18196"/>
                  </a:lnTo>
                  <a:lnTo>
                    <a:pt x="2260" y="17139"/>
                  </a:lnTo>
                  <a:lnTo>
                    <a:pt x="753" y="17139"/>
                  </a:lnTo>
                  <a:lnTo>
                    <a:pt x="753" y="18196"/>
                  </a:lnTo>
                  <a:close/>
                </a:path>
                <a:path w="21600" h="21600">
                  <a:moveTo>
                    <a:pt x="753" y="19604"/>
                  </a:moveTo>
                  <a:lnTo>
                    <a:pt x="2260" y="19604"/>
                  </a:lnTo>
                  <a:lnTo>
                    <a:pt x="2260" y="18548"/>
                  </a:lnTo>
                  <a:lnTo>
                    <a:pt x="753" y="18548"/>
                  </a:lnTo>
                  <a:lnTo>
                    <a:pt x="753" y="19604"/>
                  </a:lnTo>
                  <a:close/>
                </a:path>
                <a:path w="21600" h="21600">
                  <a:moveTo>
                    <a:pt x="753" y="21013"/>
                  </a:moveTo>
                  <a:lnTo>
                    <a:pt x="2260" y="21013"/>
                  </a:lnTo>
                  <a:lnTo>
                    <a:pt x="2260" y="19957"/>
                  </a:lnTo>
                  <a:lnTo>
                    <a:pt x="753" y="19957"/>
                  </a:lnTo>
                  <a:lnTo>
                    <a:pt x="753" y="21013"/>
                  </a:lnTo>
                  <a:close/>
                </a:path>
                <a:path w="21600" h="21600">
                  <a:moveTo>
                    <a:pt x="19340" y="1409"/>
                  </a:moveTo>
                  <a:lnTo>
                    <a:pt x="20595" y="1409"/>
                  </a:lnTo>
                  <a:lnTo>
                    <a:pt x="20595" y="352"/>
                  </a:lnTo>
                  <a:lnTo>
                    <a:pt x="19340" y="352"/>
                  </a:lnTo>
                  <a:lnTo>
                    <a:pt x="19340" y="1409"/>
                  </a:lnTo>
                  <a:close/>
                </a:path>
                <a:path w="21600" h="21600">
                  <a:moveTo>
                    <a:pt x="19340" y="2700"/>
                  </a:moveTo>
                  <a:lnTo>
                    <a:pt x="20595" y="2700"/>
                  </a:lnTo>
                  <a:lnTo>
                    <a:pt x="20595" y="1643"/>
                  </a:lnTo>
                  <a:lnTo>
                    <a:pt x="19340" y="1643"/>
                  </a:lnTo>
                  <a:lnTo>
                    <a:pt x="19340" y="2700"/>
                  </a:lnTo>
                  <a:close/>
                </a:path>
                <a:path w="21600" h="21600">
                  <a:moveTo>
                    <a:pt x="19340" y="4109"/>
                  </a:moveTo>
                  <a:lnTo>
                    <a:pt x="20595" y="4109"/>
                  </a:lnTo>
                  <a:lnTo>
                    <a:pt x="20595" y="3052"/>
                  </a:lnTo>
                  <a:lnTo>
                    <a:pt x="19340" y="3052"/>
                  </a:lnTo>
                  <a:lnTo>
                    <a:pt x="19340" y="4109"/>
                  </a:lnTo>
                  <a:close/>
                </a:path>
                <a:path w="21600" h="21600">
                  <a:moveTo>
                    <a:pt x="19340" y="5517"/>
                  </a:moveTo>
                  <a:lnTo>
                    <a:pt x="20595" y="5517"/>
                  </a:lnTo>
                  <a:lnTo>
                    <a:pt x="20595" y="4461"/>
                  </a:lnTo>
                  <a:lnTo>
                    <a:pt x="19340" y="4461"/>
                  </a:lnTo>
                  <a:lnTo>
                    <a:pt x="19340" y="5517"/>
                  </a:lnTo>
                  <a:close/>
                </a:path>
                <a:path w="21600" h="21600">
                  <a:moveTo>
                    <a:pt x="19340" y="6926"/>
                  </a:moveTo>
                  <a:lnTo>
                    <a:pt x="20595" y="6926"/>
                  </a:lnTo>
                  <a:lnTo>
                    <a:pt x="20595" y="5870"/>
                  </a:lnTo>
                  <a:lnTo>
                    <a:pt x="19340" y="5870"/>
                  </a:lnTo>
                  <a:lnTo>
                    <a:pt x="19340" y="6926"/>
                  </a:lnTo>
                  <a:close/>
                </a:path>
                <a:path w="21600" h="21600">
                  <a:moveTo>
                    <a:pt x="19340" y="8335"/>
                  </a:moveTo>
                  <a:lnTo>
                    <a:pt x="20595" y="8335"/>
                  </a:lnTo>
                  <a:lnTo>
                    <a:pt x="20595" y="7278"/>
                  </a:lnTo>
                  <a:lnTo>
                    <a:pt x="19340" y="7278"/>
                  </a:lnTo>
                  <a:lnTo>
                    <a:pt x="19340" y="8335"/>
                  </a:lnTo>
                  <a:close/>
                </a:path>
                <a:path w="21600" h="21600">
                  <a:moveTo>
                    <a:pt x="19340" y="9743"/>
                  </a:moveTo>
                  <a:lnTo>
                    <a:pt x="20595" y="9743"/>
                  </a:lnTo>
                  <a:lnTo>
                    <a:pt x="20595" y="8687"/>
                  </a:lnTo>
                  <a:lnTo>
                    <a:pt x="19340" y="8687"/>
                  </a:lnTo>
                  <a:lnTo>
                    <a:pt x="19340" y="9743"/>
                  </a:lnTo>
                  <a:close/>
                </a:path>
                <a:path w="21600" h="21600">
                  <a:moveTo>
                    <a:pt x="19340" y="11152"/>
                  </a:moveTo>
                  <a:lnTo>
                    <a:pt x="20595" y="11152"/>
                  </a:lnTo>
                  <a:lnTo>
                    <a:pt x="20595" y="10096"/>
                  </a:lnTo>
                  <a:lnTo>
                    <a:pt x="19340" y="10096"/>
                  </a:lnTo>
                  <a:lnTo>
                    <a:pt x="19340" y="11152"/>
                  </a:lnTo>
                  <a:close/>
                </a:path>
                <a:path w="21600" h="21600">
                  <a:moveTo>
                    <a:pt x="19340" y="12561"/>
                  </a:moveTo>
                  <a:lnTo>
                    <a:pt x="20595" y="12561"/>
                  </a:lnTo>
                  <a:lnTo>
                    <a:pt x="20595" y="11504"/>
                  </a:lnTo>
                  <a:lnTo>
                    <a:pt x="19340" y="11504"/>
                  </a:lnTo>
                  <a:lnTo>
                    <a:pt x="19340" y="12561"/>
                  </a:lnTo>
                  <a:close/>
                </a:path>
                <a:path w="21600" h="21600">
                  <a:moveTo>
                    <a:pt x="19340" y="13970"/>
                  </a:moveTo>
                  <a:lnTo>
                    <a:pt x="20595" y="13970"/>
                  </a:lnTo>
                  <a:lnTo>
                    <a:pt x="20595" y="12913"/>
                  </a:lnTo>
                  <a:lnTo>
                    <a:pt x="19340" y="12913"/>
                  </a:lnTo>
                  <a:lnTo>
                    <a:pt x="19340" y="13970"/>
                  </a:lnTo>
                  <a:close/>
                </a:path>
                <a:path w="21600" h="21600">
                  <a:moveTo>
                    <a:pt x="19340" y="15378"/>
                  </a:moveTo>
                  <a:lnTo>
                    <a:pt x="20595" y="15378"/>
                  </a:lnTo>
                  <a:lnTo>
                    <a:pt x="20595" y="14322"/>
                  </a:lnTo>
                  <a:lnTo>
                    <a:pt x="19340" y="14322"/>
                  </a:lnTo>
                  <a:lnTo>
                    <a:pt x="19340" y="15378"/>
                  </a:lnTo>
                  <a:close/>
                </a:path>
                <a:path w="21600" h="21600">
                  <a:moveTo>
                    <a:pt x="19340" y="16787"/>
                  </a:moveTo>
                  <a:lnTo>
                    <a:pt x="20595" y="16787"/>
                  </a:lnTo>
                  <a:lnTo>
                    <a:pt x="20595" y="15730"/>
                  </a:lnTo>
                  <a:lnTo>
                    <a:pt x="19340" y="15730"/>
                  </a:lnTo>
                  <a:lnTo>
                    <a:pt x="19340" y="16787"/>
                  </a:lnTo>
                  <a:close/>
                </a:path>
                <a:path w="21600" h="21600">
                  <a:moveTo>
                    <a:pt x="19340" y="18196"/>
                  </a:moveTo>
                  <a:lnTo>
                    <a:pt x="20595" y="18196"/>
                  </a:lnTo>
                  <a:lnTo>
                    <a:pt x="20595" y="17139"/>
                  </a:lnTo>
                  <a:lnTo>
                    <a:pt x="19340" y="17139"/>
                  </a:lnTo>
                  <a:lnTo>
                    <a:pt x="19340" y="18196"/>
                  </a:lnTo>
                  <a:close/>
                </a:path>
                <a:path w="21600" h="21600">
                  <a:moveTo>
                    <a:pt x="19340" y="19604"/>
                  </a:moveTo>
                  <a:lnTo>
                    <a:pt x="20595" y="19604"/>
                  </a:lnTo>
                  <a:lnTo>
                    <a:pt x="20595" y="18548"/>
                  </a:lnTo>
                  <a:lnTo>
                    <a:pt x="19340" y="18548"/>
                  </a:lnTo>
                  <a:lnTo>
                    <a:pt x="19340" y="19604"/>
                  </a:lnTo>
                  <a:close/>
                </a:path>
                <a:path w="21600" h="21600">
                  <a:moveTo>
                    <a:pt x="19340" y="21013"/>
                  </a:moveTo>
                  <a:lnTo>
                    <a:pt x="20595" y="21013"/>
                  </a:lnTo>
                  <a:lnTo>
                    <a:pt x="20595" y="19957"/>
                  </a:lnTo>
                  <a:lnTo>
                    <a:pt x="19340" y="19957"/>
                  </a:lnTo>
                  <a:lnTo>
                    <a:pt x="19340" y="21013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Sound"/>
            <p:cNvSpPr/>
            <p:nvPr/>
          </p:nvSpPr>
          <p:spPr>
            <a:xfrm>
              <a:off x="4086000" y="4149720"/>
              <a:ext cx="1599840" cy="1267560"/>
            </a:xfrm>
            <a:custGeom>
              <a:avLst/>
              <a:gdLst>
                <a:gd name="textAreaLeft" fmla="*/ 17280 w 1599840"/>
                <a:gd name="textAreaRight" fmla="*/ 796680 w 1599840"/>
                <a:gd name="textAreaTop" fmla="*/ 445680 h 1267560"/>
                <a:gd name="textAreaBottom" fmla="*/ 795600 h 126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7273"/>
                  </a:moveTo>
                  <a:lnTo>
                    <a:pt x="5824" y="7273"/>
                  </a:lnTo>
                  <a:lnTo>
                    <a:pt x="11164" y="0"/>
                  </a:lnTo>
                  <a:lnTo>
                    <a:pt x="11164" y="21159"/>
                  </a:lnTo>
                  <a:lnTo>
                    <a:pt x="5824" y="13885"/>
                  </a:lnTo>
                  <a:lnTo>
                    <a:pt x="0" y="13885"/>
                  </a:lnTo>
                  <a:lnTo>
                    <a:pt x="0" y="7273"/>
                  </a:lnTo>
                  <a:close/>
                </a:path>
                <a:path w="21600" h="21600">
                  <a:moveTo>
                    <a:pt x="13024" y="7273"/>
                  </a:moveTo>
                  <a:lnTo>
                    <a:pt x="13591" y="6722"/>
                  </a:lnTo>
                  <a:lnTo>
                    <a:pt x="13833" y="7548"/>
                  </a:lnTo>
                  <a:lnTo>
                    <a:pt x="14076" y="8485"/>
                  </a:lnTo>
                  <a:lnTo>
                    <a:pt x="14157" y="9367"/>
                  </a:lnTo>
                  <a:lnTo>
                    <a:pt x="14197" y="10524"/>
                  </a:lnTo>
                  <a:lnTo>
                    <a:pt x="14197" y="11406"/>
                  </a:lnTo>
                  <a:lnTo>
                    <a:pt x="14116" y="12012"/>
                  </a:lnTo>
                  <a:lnTo>
                    <a:pt x="13995" y="12728"/>
                  </a:lnTo>
                  <a:lnTo>
                    <a:pt x="13833" y="13444"/>
                  </a:lnTo>
                  <a:lnTo>
                    <a:pt x="13712" y="14106"/>
                  </a:lnTo>
                  <a:lnTo>
                    <a:pt x="13591" y="14546"/>
                  </a:lnTo>
                  <a:lnTo>
                    <a:pt x="13065" y="13885"/>
                  </a:lnTo>
                  <a:lnTo>
                    <a:pt x="13307" y="12893"/>
                  </a:lnTo>
                  <a:lnTo>
                    <a:pt x="13469" y="11791"/>
                  </a:lnTo>
                  <a:lnTo>
                    <a:pt x="13550" y="10910"/>
                  </a:lnTo>
                  <a:lnTo>
                    <a:pt x="13591" y="10138"/>
                  </a:lnTo>
                  <a:lnTo>
                    <a:pt x="13469" y="9367"/>
                  </a:lnTo>
                  <a:lnTo>
                    <a:pt x="13388" y="8595"/>
                  </a:lnTo>
                  <a:lnTo>
                    <a:pt x="13267" y="7934"/>
                  </a:lnTo>
                  <a:lnTo>
                    <a:pt x="13024" y="7273"/>
                  </a:lnTo>
                  <a:close/>
                </a:path>
                <a:path w="21600" h="21600">
                  <a:moveTo>
                    <a:pt x="16382" y="3967"/>
                  </a:moveTo>
                  <a:lnTo>
                    <a:pt x="16786" y="5179"/>
                  </a:lnTo>
                  <a:lnTo>
                    <a:pt x="17150" y="6612"/>
                  </a:lnTo>
                  <a:lnTo>
                    <a:pt x="17474" y="8651"/>
                  </a:lnTo>
                  <a:lnTo>
                    <a:pt x="17595" y="9753"/>
                  </a:lnTo>
                  <a:lnTo>
                    <a:pt x="17635" y="12012"/>
                  </a:lnTo>
                  <a:lnTo>
                    <a:pt x="17393" y="13665"/>
                  </a:lnTo>
                  <a:lnTo>
                    <a:pt x="17150" y="15208"/>
                  </a:lnTo>
                  <a:lnTo>
                    <a:pt x="16786" y="16310"/>
                  </a:lnTo>
                  <a:lnTo>
                    <a:pt x="16341" y="17687"/>
                  </a:lnTo>
                  <a:lnTo>
                    <a:pt x="15815" y="17081"/>
                  </a:lnTo>
                  <a:lnTo>
                    <a:pt x="16503" y="14602"/>
                  </a:lnTo>
                  <a:lnTo>
                    <a:pt x="16786" y="13169"/>
                  </a:lnTo>
                  <a:lnTo>
                    <a:pt x="16867" y="12012"/>
                  </a:lnTo>
                  <a:lnTo>
                    <a:pt x="16867" y="9642"/>
                  </a:lnTo>
                  <a:lnTo>
                    <a:pt x="16705" y="7989"/>
                  </a:lnTo>
                  <a:lnTo>
                    <a:pt x="16422" y="6612"/>
                  </a:lnTo>
                  <a:lnTo>
                    <a:pt x="16220" y="5675"/>
                  </a:lnTo>
                  <a:lnTo>
                    <a:pt x="15856" y="4518"/>
                  </a:lnTo>
                  <a:lnTo>
                    <a:pt x="16382" y="3967"/>
                  </a:lnTo>
                  <a:close/>
                </a:path>
                <a:path w="21600" h="21600">
                  <a:moveTo>
                    <a:pt x="18889" y="1377"/>
                  </a:moveTo>
                  <a:lnTo>
                    <a:pt x="19415" y="826"/>
                  </a:lnTo>
                  <a:lnTo>
                    <a:pt x="20194" y="2576"/>
                  </a:lnTo>
                  <a:lnTo>
                    <a:pt x="20831" y="4683"/>
                  </a:lnTo>
                  <a:lnTo>
                    <a:pt x="21357" y="7204"/>
                  </a:lnTo>
                  <a:lnTo>
                    <a:pt x="21650" y="9450"/>
                  </a:lnTo>
                  <a:lnTo>
                    <a:pt x="21600" y="12301"/>
                  </a:lnTo>
                  <a:lnTo>
                    <a:pt x="21215" y="15938"/>
                  </a:lnTo>
                  <a:lnTo>
                    <a:pt x="20629" y="18348"/>
                  </a:lnTo>
                  <a:lnTo>
                    <a:pt x="19415" y="21655"/>
                  </a:lnTo>
                  <a:lnTo>
                    <a:pt x="18889" y="21159"/>
                  </a:lnTo>
                  <a:lnTo>
                    <a:pt x="19901" y="18404"/>
                  </a:lnTo>
                  <a:lnTo>
                    <a:pt x="20467" y="15593"/>
                  </a:lnTo>
                  <a:lnTo>
                    <a:pt x="20791" y="12342"/>
                  </a:lnTo>
                  <a:lnTo>
                    <a:pt x="20871" y="9532"/>
                  </a:lnTo>
                  <a:lnTo>
                    <a:pt x="20629" y="7411"/>
                  </a:lnTo>
                  <a:lnTo>
                    <a:pt x="20062" y="4628"/>
                  </a:lnTo>
                  <a:lnTo>
                    <a:pt x="19415" y="2810"/>
                  </a:lnTo>
                  <a:lnTo>
                    <a:pt x="18889" y="1377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Photo"/>
            <p:cNvSpPr/>
            <p:nvPr/>
          </p:nvSpPr>
          <p:spPr>
            <a:xfrm>
              <a:off x="4695480" y="4902480"/>
              <a:ext cx="1485720" cy="1148760"/>
            </a:xfrm>
            <a:custGeom>
              <a:avLst/>
              <a:gdLst>
                <a:gd name="textAreaLeft" fmla="*/ 534960 w 1485720"/>
                <a:gd name="textAreaRight" fmla="*/ 946080 w 1485720"/>
                <a:gd name="textAreaTop" fmla="*/ 437400 h 1148760"/>
                <a:gd name="textAreaBottom" fmla="*/ 897840 h 114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3085"/>
                  </a:lnTo>
                  <a:lnTo>
                    <a:pt x="1542" y="3085"/>
                  </a:lnTo>
                  <a:lnTo>
                    <a:pt x="1542" y="1028"/>
                  </a:lnTo>
                  <a:lnTo>
                    <a:pt x="3857" y="1028"/>
                  </a:lnTo>
                  <a:lnTo>
                    <a:pt x="3857" y="3085"/>
                  </a:lnTo>
                  <a:lnTo>
                    <a:pt x="5400" y="3085"/>
                  </a:lnTo>
                  <a:lnTo>
                    <a:pt x="6942" y="0"/>
                  </a:lnTo>
                  <a:lnTo>
                    <a:pt x="14657" y="0"/>
                  </a:lnTo>
                  <a:lnTo>
                    <a:pt x="16200" y="3085"/>
                  </a:lnTo>
                  <a:lnTo>
                    <a:pt x="21600" y="3085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0" y="3085"/>
                  </a:moveTo>
                  <a:lnTo>
                    <a:pt x="21600" y="3085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3085"/>
                  </a:lnTo>
                  <a:close/>
                </a:path>
                <a:path w="21600" h="21600">
                  <a:moveTo>
                    <a:pt x="10800" y="4800"/>
                  </a:moveTo>
                  <a:lnTo>
                    <a:pt x="11925" y="4971"/>
                  </a:lnTo>
                  <a:lnTo>
                    <a:pt x="13017" y="5442"/>
                  </a:lnTo>
                  <a:lnTo>
                    <a:pt x="14046" y="6128"/>
                  </a:lnTo>
                  <a:lnTo>
                    <a:pt x="14914" y="7071"/>
                  </a:lnTo>
                  <a:lnTo>
                    <a:pt x="15621" y="8271"/>
                  </a:lnTo>
                  <a:lnTo>
                    <a:pt x="16167" y="9514"/>
                  </a:lnTo>
                  <a:lnTo>
                    <a:pt x="16425" y="11014"/>
                  </a:lnTo>
                  <a:lnTo>
                    <a:pt x="16585" y="12471"/>
                  </a:lnTo>
                  <a:lnTo>
                    <a:pt x="16489" y="14014"/>
                  </a:lnTo>
                  <a:lnTo>
                    <a:pt x="16135" y="15471"/>
                  </a:lnTo>
                  <a:lnTo>
                    <a:pt x="15621" y="16800"/>
                  </a:lnTo>
                  <a:lnTo>
                    <a:pt x="14914" y="18000"/>
                  </a:lnTo>
                  <a:lnTo>
                    <a:pt x="14046" y="18942"/>
                  </a:lnTo>
                  <a:lnTo>
                    <a:pt x="13050" y="19671"/>
                  </a:lnTo>
                  <a:lnTo>
                    <a:pt x="11925" y="20057"/>
                  </a:lnTo>
                  <a:lnTo>
                    <a:pt x="10832" y="20185"/>
                  </a:lnTo>
                  <a:lnTo>
                    <a:pt x="9675" y="20142"/>
                  </a:lnTo>
                  <a:lnTo>
                    <a:pt x="8582" y="19628"/>
                  </a:lnTo>
                  <a:lnTo>
                    <a:pt x="7553" y="18942"/>
                  </a:lnTo>
                  <a:lnTo>
                    <a:pt x="6717" y="17957"/>
                  </a:lnTo>
                  <a:lnTo>
                    <a:pt x="5946" y="16842"/>
                  </a:lnTo>
                  <a:lnTo>
                    <a:pt x="5464" y="15514"/>
                  </a:lnTo>
                  <a:lnTo>
                    <a:pt x="5078" y="14014"/>
                  </a:lnTo>
                  <a:lnTo>
                    <a:pt x="5014" y="12514"/>
                  </a:lnTo>
                  <a:lnTo>
                    <a:pt x="5110" y="11014"/>
                  </a:lnTo>
                  <a:lnTo>
                    <a:pt x="5528" y="9557"/>
                  </a:lnTo>
                  <a:lnTo>
                    <a:pt x="6010" y="8228"/>
                  </a:lnTo>
                  <a:lnTo>
                    <a:pt x="6750" y="7114"/>
                  </a:lnTo>
                  <a:lnTo>
                    <a:pt x="7650" y="6085"/>
                  </a:lnTo>
                  <a:lnTo>
                    <a:pt x="8614" y="5400"/>
                  </a:lnTo>
                  <a:lnTo>
                    <a:pt x="9707" y="4971"/>
                  </a:lnTo>
                  <a:lnTo>
                    <a:pt x="10800" y="4800"/>
                  </a:lnTo>
                  <a:close/>
                </a:path>
                <a:path w="21600" h="21600">
                  <a:moveTo>
                    <a:pt x="8003" y="8057"/>
                  </a:moveTo>
                  <a:lnTo>
                    <a:pt x="8807" y="7371"/>
                  </a:lnTo>
                  <a:lnTo>
                    <a:pt x="9546" y="6985"/>
                  </a:lnTo>
                  <a:lnTo>
                    <a:pt x="10446" y="6771"/>
                  </a:lnTo>
                  <a:lnTo>
                    <a:pt x="11217" y="6771"/>
                  </a:lnTo>
                  <a:lnTo>
                    <a:pt x="12053" y="7028"/>
                  </a:lnTo>
                  <a:lnTo>
                    <a:pt x="12889" y="7457"/>
                  </a:lnTo>
                  <a:lnTo>
                    <a:pt x="13628" y="8100"/>
                  </a:lnTo>
                  <a:lnTo>
                    <a:pt x="14175" y="8871"/>
                  </a:lnTo>
                  <a:lnTo>
                    <a:pt x="14625" y="9814"/>
                  </a:lnTo>
                  <a:lnTo>
                    <a:pt x="14978" y="10885"/>
                  </a:lnTo>
                  <a:lnTo>
                    <a:pt x="15171" y="12042"/>
                  </a:lnTo>
                  <a:lnTo>
                    <a:pt x="15107" y="13114"/>
                  </a:lnTo>
                  <a:lnTo>
                    <a:pt x="15042" y="14228"/>
                  </a:lnTo>
                  <a:lnTo>
                    <a:pt x="14689" y="15257"/>
                  </a:lnTo>
                  <a:lnTo>
                    <a:pt x="14207" y="16285"/>
                  </a:lnTo>
                  <a:lnTo>
                    <a:pt x="13596" y="17057"/>
                  </a:lnTo>
                  <a:lnTo>
                    <a:pt x="12889" y="17657"/>
                  </a:lnTo>
                  <a:lnTo>
                    <a:pt x="12053" y="18085"/>
                  </a:lnTo>
                  <a:lnTo>
                    <a:pt x="11185" y="18257"/>
                  </a:lnTo>
                  <a:lnTo>
                    <a:pt x="10414" y="18214"/>
                  </a:lnTo>
                  <a:lnTo>
                    <a:pt x="9546" y="18042"/>
                  </a:lnTo>
                  <a:lnTo>
                    <a:pt x="8742" y="17614"/>
                  </a:lnTo>
                  <a:lnTo>
                    <a:pt x="8003" y="17014"/>
                  </a:lnTo>
                  <a:lnTo>
                    <a:pt x="7457" y="16242"/>
                  </a:lnTo>
                  <a:lnTo>
                    <a:pt x="6975" y="15257"/>
                  </a:lnTo>
                  <a:lnTo>
                    <a:pt x="6653" y="14142"/>
                  </a:lnTo>
                  <a:lnTo>
                    <a:pt x="6492" y="13114"/>
                  </a:lnTo>
                  <a:lnTo>
                    <a:pt x="6525" y="11914"/>
                  </a:lnTo>
                  <a:lnTo>
                    <a:pt x="6621" y="10842"/>
                  </a:lnTo>
                  <a:lnTo>
                    <a:pt x="6942" y="9771"/>
                  </a:lnTo>
                  <a:lnTo>
                    <a:pt x="7457" y="8785"/>
                  </a:lnTo>
                  <a:lnTo>
                    <a:pt x="8003" y="8057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Music"/>
            <p:cNvSpPr/>
            <p:nvPr/>
          </p:nvSpPr>
          <p:spPr>
            <a:xfrm>
              <a:off x="4867200" y="5575680"/>
              <a:ext cx="1218600" cy="1109160"/>
            </a:xfrm>
            <a:custGeom>
              <a:avLst/>
              <a:gdLst>
                <a:gd name="textAreaLeft" fmla="*/ 450720 w 1218600"/>
                <a:gd name="textAreaRight" fmla="*/ 1180800 w 1218600"/>
                <a:gd name="textAreaTop" fmla="*/ 47520 h 1109160"/>
                <a:gd name="textAreaBottom" fmla="*/ 275400 h 110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7352" y="46"/>
                  </a:moveTo>
                  <a:lnTo>
                    <a:pt x="7373" y="9900"/>
                  </a:lnTo>
                  <a:lnTo>
                    <a:pt x="7352" y="16107"/>
                  </a:lnTo>
                  <a:lnTo>
                    <a:pt x="7103" y="15969"/>
                  </a:lnTo>
                  <a:lnTo>
                    <a:pt x="6729" y="15692"/>
                  </a:lnTo>
                  <a:lnTo>
                    <a:pt x="6355" y="15553"/>
                  </a:lnTo>
                  <a:lnTo>
                    <a:pt x="5981" y="15415"/>
                  </a:lnTo>
                  <a:lnTo>
                    <a:pt x="5607" y="15276"/>
                  </a:lnTo>
                  <a:lnTo>
                    <a:pt x="5109" y="15138"/>
                  </a:lnTo>
                  <a:lnTo>
                    <a:pt x="4735" y="15138"/>
                  </a:lnTo>
                  <a:lnTo>
                    <a:pt x="4236" y="15138"/>
                  </a:lnTo>
                  <a:lnTo>
                    <a:pt x="3364" y="15138"/>
                  </a:lnTo>
                  <a:lnTo>
                    <a:pt x="2616" y="15276"/>
                  </a:lnTo>
                  <a:lnTo>
                    <a:pt x="1869" y="15692"/>
                  </a:lnTo>
                  <a:lnTo>
                    <a:pt x="1246" y="15969"/>
                  </a:lnTo>
                  <a:lnTo>
                    <a:pt x="747" y="16523"/>
                  </a:lnTo>
                  <a:lnTo>
                    <a:pt x="373" y="17076"/>
                  </a:lnTo>
                  <a:lnTo>
                    <a:pt x="124" y="17630"/>
                  </a:lnTo>
                  <a:lnTo>
                    <a:pt x="0" y="18323"/>
                  </a:lnTo>
                  <a:lnTo>
                    <a:pt x="124" y="19015"/>
                  </a:lnTo>
                  <a:lnTo>
                    <a:pt x="373" y="19569"/>
                  </a:lnTo>
                  <a:lnTo>
                    <a:pt x="747" y="20123"/>
                  </a:lnTo>
                  <a:lnTo>
                    <a:pt x="1246" y="20676"/>
                  </a:lnTo>
                  <a:lnTo>
                    <a:pt x="1869" y="21092"/>
                  </a:lnTo>
                  <a:lnTo>
                    <a:pt x="2616" y="21369"/>
                  </a:lnTo>
                  <a:lnTo>
                    <a:pt x="3364" y="21507"/>
                  </a:lnTo>
                  <a:lnTo>
                    <a:pt x="4236" y="21646"/>
                  </a:lnTo>
                  <a:lnTo>
                    <a:pt x="5109" y="21507"/>
                  </a:lnTo>
                  <a:lnTo>
                    <a:pt x="5856" y="21369"/>
                  </a:lnTo>
                  <a:lnTo>
                    <a:pt x="6604" y="21092"/>
                  </a:lnTo>
                  <a:lnTo>
                    <a:pt x="7227" y="20676"/>
                  </a:lnTo>
                  <a:lnTo>
                    <a:pt x="7726" y="20123"/>
                  </a:lnTo>
                  <a:lnTo>
                    <a:pt x="8100" y="19569"/>
                  </a:lnTo>
                  <a:lnTo>
                    <a:pt x="8349" y="19015"/>
                  </a:lnTo>
                  <a:lnTo>
                    <a:pt x="8473" y="18323"/>
                  </a:lnTo>
                  <a:lnTo>
                    <a:pt x="8473" y="6276"/>
                  </a:lnTo>
                  <a:lnTo>
                    <a:pt x="20561" y="6276"/>
                  </a:lnTo>
                  <a:lnTo>
                    <a:pt x="20561" y="16107"/>
                  </a:lnTo>
                  <a:lnTo>
                    <a:pt x="20187" y="15830"/>
                  </a:lnTo>
                  <a:lnTo>
                    <a:pt x="19938" y="15692"/>
                  </a:lnTo>
                  <a:lnTo>
                    <a:pt x="19564" y="15553"/>
                  </a:lnTo>
                  <a:lnTo>
                    <a:pt x="19190" y="15415"/>
                  </a:lnTo>
                  <a:lnTo>
                    <a:pt x="18692" y="15276"/>
                  </a:lnTo>
                  <a:lnTo>
                    <a:pt x="18318" y="15138"/>
                  </a:lnTo>
                  <a:lnTo>
                    <a:pt x="17944" y="15138"/>
                  </a:lnTo>
                  <a:lnTo>
                    <a:pt x="17446" y="15138"/>
                  </a:lnTo>
                  <a:lnTo>
                    <a:pt x="16573" y="15138"/>
                  </a:lnTo>
                  <a:lnTo>
                    <a:pt x="15826" y="15276"/>
                  </a:lnTo>
                  <a:lnTo>
                    <a:pt x="15078" y="15692"/>
                  </a:lnTo>
                  <a:lnTo>
                    <a:pt x="14455" y="15969"/>
                  </a:lnTo>
                  <a:lnTo>
                    <a:pt x="13956" y="16523"/>
                  </a:lnTo>
                  <a:lnTo>
                    <a:pt x="13583" y="17076"/>
                  </a:lnTo>
                  <a:lnTo>
                    <a:pt x="13333" y="17630"/>
                  </a:lnTo>
                  <a:lnTo>
                    <a:pt x="13209" y="18323"/>
                  </a:lnTo>
                  <a:lnTo>
                    <a:pt x="13333" y="19015"/>
                  </a:lnTo>
                  <a:lnTo>
                    <a:pt x="13583" y="19569"/>
                  </a:lnTo>
                  <a:lnTo>
                    <a:pt x="13956" y="20123"/>
                  </a:lnTo>
                  <a:lnTo>
                    <a:pt x="14455" y="20676"/>
                  </a:lnTo>
                  <a:lnTo>
                    <a:pt x="15078" y="21092"/>
                  </a:lnTo>
                  <a:lnTo>
                    <a:pt x="15826" y="21369"/>
                  </a:lnTo>
                  <a:lnTo>
                    <a:pt x="16573" y="21507"/>
                  </a:lnTo>
                  <a:lnTo>
                    <a:pt x="17446" y="21646"/>
                  </a:lnTo>
                  <a:lnTo>
                    <a:pt x="18318" y="21507"/>
                  </a:lnTo>
                  <a:lnTo>
                    <a:pt x="19066" y="21369"/>
                  </a:lnTo>
                  <a:lnTo>
                    <a:pt x="19813" y="21092"/>
                  </a:lnTo>
                  <a:lnTo>
                    <a:pt x="20436" y="20676"/>
                  </a:lnTo>
                  <a:lnTo>
                    <a:pt x="20935" y="20123"/>
                  </a:lnTo>
                  <a:lnTo>
                    <a:pt x="21309" y="19569"/>
                  </a:lnTo>
                  <a:lnTo>
                    <a:pt x="21558" y="19015"/>
                  </a:lnTo>
                  <a:lnTo>
                    <a:pt x="21683" y="18323"/>
                  </a:lnTo>
                  <a:lnTo>
                    <a:pt x="21683" y="10061"/>
                  </a:lnTo>
                  <a:lnTo>
                    <a:pt x="21683" y="46"/>
                  </a:lnTo>
                  <a:lnTo>
                    <a:pt x="7352" y="4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" name="Picture 13" descr="4l3"/>
          <p:cNvPicPr/>
          <p:nvPr/>
        </p:nvPicPr>
        <p:blipFill>
          <a:blip r:embed="rId3"/>
          <a:stretch/>
        </p:blipFill>
        <p:spPr>
          <a:xfrm>
            <a:off x="155520" y="0"/>
            <a:ext cx="8988480" cy="1038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0011928vj"/>
          <p:cNvPicPr/>
          <p:nvPr/>
        </p:nvPicPr>
        <p:blipFill>
          <a:blip r:embed="rId4"/>
          <a:stretch/>
        </p:blipFill>
        <p:spPr>
          <a:xfrm>
            <a:off x="3708360" y="1484280"/>
            <a:ext cx="2232000" cy="22320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55640" y="-360"/>
            <a:ext cx="3538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ранит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j0293236"/>
          <p:cNvPicPr/>
          <p:nvPr/>
        </p:nvPicPr>
        <p:blipFill>
          <a:blip r:embed="rId1"/>
          <a:stretch/>
        </p:blipFill>
        <p:spPr>
          <a:xfrm>
            <a:off x="-1800360" y="2492280"/>
            <a:ext cx="1800360" cy="1327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2l3"/>
          <p:cNvPicPr/>
          <p:nvPr/>
        </p:nvPicPr>
        <p:blipFill>
          <a:blip r:embed="rId2"/>
          <a:stretch/>
        </p:blipFill>
        <p:spPr>
          <a:xfrm>
            <a:off x="1403280" y="907920"/>
            <a:ext cx="6048360" cy="965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32"/>
          <p:cNvPicPr/>
          <p:nvPr/>
        </p:nvPicPr>
        <p:blipFill>
          <a:blip r:embed="rId3"/>
          <a:stretch/>
        </p:blipFill>
        <p:spPr>
          <a:xfrm>
            <a:off x="3851280" y="4365720"/>
            <a:ext cx="2233440" cy="2233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j0291984"/>
          <p:cNvPicPr/>
          <p:nvPr/>
        </p:nvPicPr>
        <p:blipFill>
          <a:blip r:embed="rId4"/>
          <a:stretch/>
        </p:blipFill>
        <p:spPr>
          <a:xfrm>
            <a:off x="324000" y="4508640"/>
            <a:ext cx="1807920" cy="1914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j0196400"/>
          <p:cNvPicPr/>
          <p:nvPr/>
        </p:nvPicPr>
        <p:blipFill>
          <a:blip r:embed="rId5"/>
          <a:stretch/>
        </p:blipFill>
        <p:spPr>
          <a:xfrm>
            <a:off x="6084720" y="1700280"/>
            <a:ext cx="2868840" cy="306684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81481E-006 L 0.93698 -0.06528 E">
                                      <p:cBhvr>
                                        <p:cTn id="99" dur="5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j0298653"/>
          <p:cNvPicPr/>
          <p:nvPr/>
        </p:nvPicPr>
        <p:blipFill>
          <a:blip r:embed="rId1"/>
          <a:stretch/>
        </p:blipFill>
        <p:spPr>
          <a:xfrm>
            <a:off x="971640" y="3500280"/>
            <a:ext cx="4105080" cy="2443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j0299125"/>
          <p:cNvPicPr/>
          <p:nvPr/>
        </p:nvPicPr>
        <p:blipFill>
          <a:blip r:embed="rId2"/>
          <a:stretch/>
        </p:blipFill>
        <p:spPr>
          <a:xfrm>
            <a:off x="826920" y="162864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91" name="Lock"/>
          <p:cNvSpPr/>
          <p:nvPr/>
        </p:nvSpPr>
        <p:spPr>
          <a:xfrm>
            <a:off x="3419640" y="-243000"/>
            <a:ext cx="2160360" cy="2082960"/>
          </a:xfrm>
          <a:custGeom>
            <a:avLst/>
            <a:gdLst>
              <a:gd name="textAreaLeft" fmla="*/ 74160 w 2160360"/>
              <a:gd name="textAreaRight" fmla="*/ 2113920 w 2160360"/>
              <a:gd name="textAreaTop" fmla="*/ 955080 h 2082960"/>
              <a:gd name="textAreaBottom" fmla="*/ 1478880 h 2082960"/>
            </a:gdLst>
            <a:ahLst/>
            <a:rect l="textAreaLeft" t="textAreaTop" r="textAreaRight" b="textAreaBottom"/>
            <a:pathLst>
              <a:path w="21600" h="21600">
                <a:moveTo>
                  <a:pt x="93" y="9606"/>
                </a:moveTo>
                <a:lnTo>
                  <a:pt x="2048" y="9606"/>
                </a:lnTo>
                <a:lnTo>
                  <a:pt x="2048" y="4713"/>
                </a:lnTo>
                <a:lnTo>
                  <a:pt x="2420" y="3818"/>
                </a:lnTo>
                <a:lnTo>
                  <a:pt x="2979" y="3028"/>
                </a:lnTo>
                <a:lnTo>
                  <a:pt x="3537" y="2446"/>
                </a:lnTo>
                <a:lnTo>
                  <a:pt x="3956" y="1998"/>
                </a:lnTo>
                <a:lnTo>
                  <a:pt x="4492" y="1581"/>
                </a:lnTo>
                <a:lnTo>
                  <a:pt x="5143" y="1238"/>
                </a:lnTo>
                <a:lnTo>
                  <a:pt x="5912" y="880"/>
                </a:lnTo>
                <a:lnTo>
                  <a:pt x="6587" y="641"/>
                </a:lnTo>
                <a:lnTo>
                  <a:pt x="7518" y="372"/>
                </a:lnTo>
                <a:lnTo>
                  <a:pt x="8425" y="208"/>
                </a:lnTo>
                <a:lnTo>
                  <a:pt x="9496" y="59"/>
                </a:lnTo>
                <a:lnTo>
                  <a:pt x="10637" y="14"/>
                </a:lnTo>
                <a:lnTo>
                  <a:pt x="11614" y="59"/>
                </a:lnTo>
                <a:lnTo>
                  <a:pt x="12382" y="119"/>
                </a:lnTo>
                <a:lnTo>
                  <a:pt x="13034" y="253"/>
                </a:lnTo>
                <a:lnTo>
                  <a:pt x="13779" y="417"/>
                </a:lnTo>
                <a:lnTo>
                  <a:pt x="14500" y="611"/>
                </a:lnTo>
                <a:lnTo>
                  <a:pt x="14733" y="686"/>
                </a:lnTo>
                <a:lnTo>
                  <a:pt x="14989" y="790"/>
                </a:lnTo>
                <a:lnTo>
                  <a:pt x="15175" y="865"/>
                </a:lnTo>
                <a:lnTo>
                  <a:pt x="15385" y="954"/>
                </a:lnTo>
                <a:lnTo>
                  <a:pt x="15431" y="969"/>
                </a:lnTo>
                <a:lnTo>
                  <a:pt x="15594" y="1059"/>
                </a:lnTo>
                <a:lnTo>
                  <a:pt x="15757" y="1148"/>
                </a:lnTo>
                <a:lnTo>
                  <a:pt x="15920" y="1267"/>
                </a:lnTo>
                <a:lnTo>
                  <a:pt x="16106" y="1372"/>
                </a:lnTo>
                <a:lnTo>
                  <a:pt x="16665" y="1730"/>
                </a:lnTo>
                <a:lnTo>
                  <a:pt x="17014" y="1998"/>
                </a:lnTo>
                <a:lnTo>
                  <a:pt x="17480" y="2356"/>
                </a:lnTo>
                <a:lnTo>
                  <a:pt x="17852" y="2804"/>
                </a:lnTo>
                <a:lnTo>
                  <a:pt x="18178" y="3192"/>
                </a:lnTo>
                <a:lnTo>
                  <a:pt x="18527" y="3639"/>
                </a:lnTo>
                <a:lnTo>
                  <a:pt x="18806" y="4132"/>
                </a:lnTo>
                <a:lnTo>
                  <a:pt x="19086" y="4713"/>
                </a:lnTo>
                <a:lnTo>
                  <a:pt x="19272" y="5191"/>
                </a:lnTo>
                <a:lnTo>
                  <a:pt x="19295" y="9606"/>
                </a:lnTo>
                <a:lnTo>
                  <a:pt x="21600" y="9606"/>
                </a:lnTo>
                <a:lnTo>
                  <a:pt x="21600" y="16289"/>
                </a:lnTo>
                <a:lnTo>
                  <a:pt x="21413" y="17184"/>
                </a:lnTo>
                <a:lnTo>
                  <a:pt x="21041" y="17900"/>
                </a:lnTo>
                <a:lnTo>
                  <a:pt x="20668" y="18377"/>
                </a:lnTo>
                <a:lnTo>
                  <a:pt x="20343" y="18855"/>
                </a:lnTo>
                <a:lnTo>
                  <a:pt x="19924" y="19332"/>
                </a:lnTo>
                <a:lnTo>
                  <a:pt x="19388" y="19809"/>
                </a:lnTo>
                <a:lnTo>
                  <a:pt x="18806" y="20242"/>
                </a:lnTo>
                <a:lnTo>
                  <a:pt x="18062" y="20585"/>
                </a:lnTo>
                <a:lnTo>
                  <a:pt x="17270" y="20883"/>
                </a:lnTo>
                <a:lnTo>
                  <a:pt x="16525" y="21182"/>
                </a:lnTo>
                <a:lnTo>
                  <a:pt x="15548" y="21420"/>
                </a:lnTo>
                <a:lnTo>
                  <a:pt x="14803" y="21540"/>
                </a:lnTo>
                <a:lnTo>
                  <a:pt x="13662" y="21674"/>
                </a:lnTo>
                <a:lnTo>
                  <a:pt x="8379" y="21659"/>
                </a:lnTo>
                <a:lnTo>
                  <a:pt x="7168" y="21540"/>
                </a:lnTo>
                <a:lnTo>
                  <a:pt x="6098" y="21331"/>
                </a:lnTo>
                <a:lnTo>
                  <a:pt x="5050" y="21092"/>
                </a:lnTo>
                <a:lnTo>
                  <a:pt x="4003" y="20764"/>
                </a:lnTo>
                <a:lnTo>
                  <a:pt x="3258" y="20391"/>
                </a:lnTo>
                <a:lnTo>
                  <a:pt x="2769" y="20123"/>
                </a:lnTo>
                <a:lnTo>
                  <a:pt x="2281" y="19720"/>
                </a:lnTo>
                <a:lnTo>
                  <a:pt x="1862" y="19407"/>
                </a:lnTo>
                <a:lnTo>
                  <a:pt x="1489" y="19079"/>
                </a:lnTo>
                <a:lnTo>
                  <a:pt x="1070" y="18676"/>
                </a:lnTo>
                <a:lnTo>
                  <a:pt x="744" y="18258"/>
                </a:lnTo>
                <a:lnTo>
                  <a:pt x="325" y="17661"/>
                </a:lnTo>
                <a:lnTo>
                  <a:pt x="162" y="17035"/>
                </a:lnTo>
                <a:lnTo>
                  <a:pt x="93" y="16468"/>
                </a:lnTo>
                <a:lnTo>
                  <a:pt x="93" y="9606"/>
                </a:lnTo>
                <a:close/>
                <a:moveTo>
                  <a:pt x="6098" y="9591"/>
                </a:moveTo>
                <a:lnTo>
                  <a:pt x="6098" y="5220"/>
                </a:lnTo>
                <a:lnTo>
                  <a:pt x="6191" y="4907"/>
                </a:lnTo>
                <a:lnTo>
                  <a:pt x="6307" y="4639"/>
                </a:lnTo>
                <a:lnTo>
                  <a:pt x="6517" y="4370"/>
                </a:lnTo>
                <a:lnTo>
                  <a:pt x="6680" y="4087"/>
                </a:lnTo>
                <a:lnTo>
                  <a:pt x="6889" y="3878"/>
                </a:lnTo>
                <a:lnTo>
                  <a:pt x="7308" y="3520"/>
                </a:lnTo>
                <a:lnTo>
                  <a:pt x="7843" y="3281"/>
                </a:lnTo>
                <a:lnTo>
                  <a:pt x="8402" y="3013"/>
                </a:lnTo>
                <a:lnTo>
                  <a:pt x="9031" y="2834"/>
                </a:lnTo>
                <a:lnTo>
                  <a:pt x="9659" y="2700"/>
                </a:lnTo>
                <a:lnTo>
                  <a:pt x="10497" y="2625"/>
                </a:lnTo>
                <a:lnTo>
                  <a:pt x="11125" y="2655"/>
                </a:lnTo>
                <a:lnTo>
                  <a:pt x="11987" y="2789"/>
                </a:lnTo>
                <a:lnTo>
                  <a:pt x="12522" y="2893"/>
                </a:lnTo>
                <a:lnTo>
                  <a:pt x="13011" y="3028"/>
                </a:lnTo>
                <a:lnTo>
                  <a:pt x="13290" y="3192"/>
                </a:lnTo>
                <a:lnTo>
                  <a:pt x="13709" y="3371"/>
                </a:lnTo>
                <a:lnTo>
                  <a:pt x="13872" y="3505"/>
                </a:lnTo>
                <a:lnTo>
                  <a:pt x="14058" y="3639"/>
                </a:lnTo>
                <a:lnTo>
                  <a:pt x="14291" y="3788"/>
                </a:lnTo>
                <a:lnTo>
                  <a:pt x="14431" y="3953"/>
                </a:lnTo>
                <a:lnTo>
                  <a:pt x="14617" y="4102"/>
                </a:lnTo>
                <a:lnTo>
                  <a:pt x="14826" y="4311"/>
                </a:lnTo>
                <a:lnTo>
                  <a:pt x="14919" y="4534"/>
                </a:lnTo>
                <a:lnTo>
                  <a:pt x="15036" y="4773"/>
                </a:lnTo>
                <a:lnTo>
                  <a:pt x="15175" y="5027"/>
                </a:lnTo>
                <a:lnTo>
                  <a:pt x="15245" y="5220"/>
                </a:lnTo>
                <a:lnTo>
                  <a:pt x="15245" y="9591"/>
                </a:lnTo>
                <a:lnTo>
                  <a:pt x="6098" y="9591"/>
                </a:lnTo>
                <a:close/>
              </a:path>
              <a:path w="21600" h="21600">
                <a:moveTo>
                  <a:pt x="93" y="9606"/>
                </a:moveTo>
                <a:lnTo>
                  <a:pt x="21600" y="9606"/>
                </a:lnTo>
                <a:lnTo>
                  <a:pt x="93" y="9606"/>
                </a:lnTo>
                <a:close/>
              </a:path>
              <a:path w="21600" h="21600">
                <a:moveTo>
                  <a:pt x="11684" y="17109"/>
                </a:moveTo>
                <a:lnTo>
                  <a:pt x="12266" y="19317"/>
                </a:lnTo>
                <a:lnTo>
                  <a:pt x="9659" y="19317"/>
                </a:lnTo>
                <a:lnTo>
                  <a:pt x="10287" y="17124"/>
                </a:lnTo>
                <a:lnTo>
                  <a:pt x="10008" y="16975"/>
                </a:lnTo>
                <a:lnTo>
                  <a:pt x="9799" y="16722"/>
                </a:lnTo>
                <a:lnTo>
                  <a:pt x="9752" y="16408"/>
                </a:lnTo>
                <a:lnTo>
                  <a:pt x="9822" y="16170"/>
                </a:lnTo>
                <a:lnTo>
                  <a:pt x="10008" y="16006"/>
                </a:lnTo>
                <a:lnTo>
                  <a:pt x="10148" y="15871"/>
                </a:lnTo>
                <a:lnTo>
                  <a:pt x="10381" y="15782"/>
                </a:lnTo>
                <a:lnTo>
                  <a:pt x="10660" y="15692"/>
                </a:lnTo>
                <a:lnTo>
                  <a:pt x="11009" y="15677"/>
                </a:lnTo>
                <a:lnTo>
                  <a:pt x="11288" y="15722"/>
                </a:lnTo>
                <a:lnTo>
                  <a:pt x="11614" y="15782"/>
                </a:lnTo>
                <a:lnTo>
                  <a:pt x="11893" y="15946"/>
                </a:lnTo>
                <a:lnTo>
                  <a:pt x="12033" y="16080"/>
                </a:lnTo>
                <a:lnTo>
                  <a:pt x="12173" y="16229"/>
                </a:lnTo>
                <a:lnTo>
                  <a:pt x="12196" y="16408"/>
                </a:lnTo>
                <a:lnTo>
                  <a:pt x="12103" y="16722"/>
                </a:lnTo>
                <a:lnTo>
                  <a:pt x="11987" y="16856"/>
                </a:lnTo>
                <a:lnTo>
                  <a:pt x="11847" y="16975"/>
                </a:lnTo>
                <a:lnTo>
                  <a:pt x="11684" y="17109"/>
                </a:lnTo>
              </a:path>
            </a:pathLst>
          </a:cu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anim_ftnv"/>
          <p:cNvPicPr/>
          <p:nvPr/>
        </p:nvPicPr>
        <p:blipFill>
          <a:blip r:embed="rId3"/>
          <a:stretch/>
        </p:blipFill>
        <p:spPr>
          <a:xfrm>
            <a:off x="5688000" y="340200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16000" y="404640"/>
            <a:ext cx="325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щищает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я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00000" y="2565360"/>
            <a:ext cx="7777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. 19 - 29.  (Информатика под ред. Н.В. Макаровой, 7-9 кл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просы 1, 2, 3, 4, 11,12, 15, 19 (письменн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5:14:56Z</dcterms:created>
  <dc:creator>Victor</dc:creator>
  <dc:description/>
  <dc:language>en-US</dc:language>
  <cp:lastModifiedBy>LEGION</cp:lastModifiedBy>
  <dcterms:modified xsi:type="dcterms:W3CDTF">2015-07-01T12:08:45Z</dcterms:modified>
  <cp:revision>17</cp:revision>
  <dc:subject/>
  <dc:title>Информационная деятельность человека </dc:title>
</cp:coreProperties>
</file>