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3292-FD70-4344-90E9-A1E6D35A6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AC8-404B-4B8B-8CDB-6BC2C0BD4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Информационная деятельность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0689-6204-4EB6-990A-64F13E8A1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5364-A575-4478-8361-A016D5147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E6CC-9A59-4C6A-A9B9-4EEFC4B94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CCBB-357C-43D1-8774-AF8EBF7C1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860-EF9D-41A7-8C5E-0AFFDCD679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E45-E841-4904-894F-E331BA6C3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B4D4-1BEB-42AE-95D4-3ECB89582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Домашня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3A3-05FF-4A1F-A38D-31F03636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0A0-350A-4618-BAA4-7B16892D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8D0-935F-4317-B5D3-F1D75E32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4EA-B264-407A-861B-9A0E9888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870-3CA9-447E-95C3-6A2322A6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313-C523-42BD-A031-516F9309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1F0-3065-4324-96AA-52A59D66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634-59B0-4366-B1E4-44AEDAB9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6CA-F42C-4CD0-B1DA-8391E016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255-EF83-4E72-9144-0E10014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4AB8-6AC4-45F3-9444-753F2610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5D9-0D5A-421A-BDE8-9C1FB1B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6ECC-B920-4D06-9637-CCA71C508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5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LEGION</cp:lastModifiedBy>
  <dcterms:modified xsi:type="dcterms:W3CDTF">2015-07-01T12:08:45Z</dcterms:modified>
  <cp:revision>17</cp:revision>
  <dc:subject/>
  <dc:title>Информационная деятельность человека </dc:title>
</cp:coreProperties>
</file>