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10.wmf" ContentType="image/x-wmf"/>
  <Override PartName="/ppt/media/image22.png" ContentType="image/png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4903-4D03-45A2-B25E-0772285EA8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ро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езяк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6C25-49E5-40A2-9C6E-9E4461788B7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С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B935-CF1D-47FA-9317-296ED5D8D1F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0777-F78C-4D49-95E0-460A2CE36A8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5FC5-1320-466C-A7B6-BC46AAB92E5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BEB-64D9-45A6-A148-12C280E654D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745E-424C-46FF-9797-4DBB2D2EA56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тех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E617-FCBE-4727-B661-0541DB94DF7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8230-4169-4923-BCD4-9A7E967C480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в Интернете осуществляется передача информации между компьют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97BF-F0CE-43FC-8E77-5A0BEF7C90E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DFB8-B8A1-451D-886B-11C1AB41E54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D1A3-E74C-45C0-91BA-7FB7FBCAD0C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ды информационных процессов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D0E8-7052-49E3-9CDA-847CB467C34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3835-3FC5-4BF6-A139-4A5CBCC8564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A1F5-41A6-44AD-AC1A-C392F6C0474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презента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E92A-D939-42AB-ACE1-BD432C5E5E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живой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6C30-B314-458E-A1B8-395EB0C1C6C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9921-8D63-4FAB-B5EC-8D0DEF6B825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C677-C257-4F74-8B29-1B2B6C0F716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4827-1FB3-4CDF-94B1-F278DC53C9F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CD05-3C10-4A37-A093-472BBA5BF50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D784-95D9-4DBA-B62B-DF80140FFB0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86DC-9C44-4286-9ECC-9536455E566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EDC-2046-4D82-83F1-D4A9095F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B7E-5924-49E5-8F21-69257132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9FC-A888-4D43-AD20-2C1FCF28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D0B-36FA-4BDD-AC6A-FFFB855E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FAF8-0D49-41DE-8B73-6C24E161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35CB-6DE0-4B40-A2D8-763D720A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5F84-76CD-4046-97FB-92F2BA8D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B6C5-0696-47E2-889F-256B1760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22A3-30EA-4CCB-B668-9C300934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00D4-638D-4E20-B607-CEC19337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DBA9-89B3-47FA-83DD-C893EEA9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7DD-E1EA-47FE-8EAC-3D27D27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8C49-8D72-47B3-9659-E2EC34B6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91AC-CA2C-432C-9FAC-F57CC3DB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B06F-8392-480A-9BDD-DD25EBC9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0C1C-748F-4FF0-B954-D53CB46D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9799-A73B-4A0E-AE1D-F825158B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1F4-71E8-4AE4-897E-999928F0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F1E-D361-4682-8594-00722218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654-6999-425B-A405-1FF88BD0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991-9C6F-4B70-B44E-B9E00BB4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B44-BFC6-40E7-8FDE-B1D63BFA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2D2-6D18-4004-92D6-3A98E733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DB1-C45D-4A2D-9A59-BAB8C044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66DF-8472-4612-B1D7-B9629C5ED31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A5BB-A5E6-403A-A6DF-488E3A9F2A0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78680" y="1508400"/>
            <a:ext cx="7437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ормационные проце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атурова Да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елезяк Ан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3068640"/>
          <a:ext cx="2819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068640"/>
                    <a:ext cx="2819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3881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4986360" y="2913120"/>
            <a:ext cx="3794040" cy="3095640"/>
            <a:chOff x="4986360" y="2913120"/>
            <a:chExt cx="3794040" cy="3095640"/>
          </a:xfrm>
        </p:grpSpPr>
        <p:pic>
          <p:nvPicPr>
            <p:cNvPr id="148" name="Object 4" descr=""/>
            <p:cNvPicPr/>
            <p:nvPr/>
          </p:nvPicPr>
          <p:blipFill>
            <a:blip r:embed="rId1"/>
            <a:stretch/>
          </p:blipFill>
          <p:spPr>
            <a:xfrm>
              <a:off x="4986360" y="2913120"/>
              <a:ext cx="31478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Object 5" descr=""/>
            <p:cNvPicPr/>
            <p:nvPr/>
          </p:nvPicPr>
          <p:blipFill>
            <a:blip r:embed="rId2"/>
            <a:stretch/>
          </p:blipFill>
          <p:spPr>
            <a:xfrm>
              <a:off x="7620120" y="4724280"/>
              <a:ext cx="1160280" cy="11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932000" y="2707920"/>
            <a:ext cx="38098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900000" y="3068640"/>
          <a:ext cx="395928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9592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708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4932360" y="2349360"/>
          <a:ext cx="1600200" cy="15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349360"/>
                    <a:ext cx="1600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7740720" y="3284640"/>
          <a:ext cx="6523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3284640"/>
                    <a:ext cx="65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6"/>
          <p:cNvGraphicFramePr/>
          <p:nvPr/>
        </p:nvGraphicFramePr>
        <p:xfrm>
          <a:off x="4356000" y="4724280"/>
          <a:ext cx="2425680" cy="184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724280"/>
                    <a:ext cx="24256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AutoShape 9"/>
          <p:cNvSpPr/>
          <p:nvPr/>
        </p:nvSpPr>
        <p:spPr>
          <a:xfrm rot="4395600">
            <a:off x="6966720" y="2763000"/>
            <a:ext cx="573120" cy="609840"/>
          </a:xfrm>
          <a:custGeom>
            <a:avLst/>
            <a:gdLst>
              <a:gd name="textAreaLeft" fmla="*/ 329760 w 573120"/>
              <a:gd name="textAreaRight" fmla="*/ 483840 w 573120"/>
              <a:gd name="textAreaTop" fmla="*/ 82080 h 609840"/>
              <a:gd name="textAreaBottom" fmla="*/ 261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0431600">
            <a:off x="7163640" y="5300280"/>
            <a:ext cx="522360" cy="555480"/>
          </a:xfrm>
          <a:custGeom>
            <a:avLst/>
            <a:gdLst>
              <a:gd name="textAreaLeft" fmla="*/ 300600 w 522360"/>
              <a:gd name="textAreaRight" fmla="*/ 441000 w 522360"/>
              <a:gd name="textAreaTop" fmla="*/ 74880 h 555480"/>
              <a:gd name="textAreaBottom" fmla="*/ 23760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280" y="2852640"/>
            <a:ext cx="40129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15" descr="j0299125"/>
          <p:cNvPicPr/>
          <p:nvPr/>
        </p:nvPicPr>
        <p:blipFill>
          <a:blip r:embed="rId1"/>
          <a:stretch/>
        </p:blipFill>
        <p:spPr>
          <a:xfrm>
            <a:off x="1332000" y="2708280"/>
            <a:ext cx="2019240" cy="3313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40132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7" descr="j0240695"/>
          <p:cNvPicPr/>
          <p:nvPr/>
        </p:nvPicPr>
        <p:blipFill>
          <a:blip r:embed="rId1"/>
          <a:stretch/>
        </p:blipFill>
        <p:spPr>
          <a:xfrm>
            <a:off x="5219640" y="3141720"/>
            <a:ext cx="2808360" cy="22492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техни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2362320" y="2514600"/>
          <a:ext cx="400032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00032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3640" y="90864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2852280"/>
            <a:ext cx="439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6" descr="j0195384"/>
          <p:cNvPicPr/>
          <p:nvPr/>
        </p:nvPicPr>
        <p:blipFill>
          <a:blip r:embed="rId1"/>
          <a:stretch/>
        </p:blipFill>
        <p:spPr>
          <a:xfrm>
            <a:off x="5114880" y="2646360"/>
            <a:ext cx="2919600" cy="2828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7260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 время работы в Интернете осуществляется передача информации между компьютер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5" descr="j0300520"/>
          <p:cNvPicPr/>
          <p:nvPr/>
        </p:nvPicPr>
        <p:blipFill>
          <a:blip r:embed="rId1"/>
          <a:stretch/>
        </p:blipFill>
        <p:spPr>
          <a:xfrm>
            <a:off x="1187280" y="2997360"/>
            <a:ext cx="2567160" cy="20937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248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9" name="Object 36"/>
          <p:cNvGraphicFramePr/>
          <p:nvPr/>
        </p:nvGraphicFramePr>
        <p:xfrm>
          <a:off x="5649840" y="2738520"/>
          <a:ext cx="1990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9840" y="2738520"/>
                    <a:ext cx="199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427640" y="2636640"/>
            <a:ext cx="43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1187280" y="3573360"/>
          <a:ext cx="26035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73360"/>
                    <a:ext cx="2603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информационных процессов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517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дач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ра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ран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j0299171"/>
          <p:cNvPicPr/>
          <p:nvPr/>
        </p:nvPicPr>
        <p:blipFill>
          <a:blip r:embed="rId1"/>
          <a:stretch/>
        </p:blipFill>
        <p:spPr>
          <a:xfrm>
            <a:off x="5508720" y="278136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j0149481"/>
          <p:cNvPicPr/>
          <p:nvPr/>
        </p:nvPicPr>
        <p:blipFill>
          <a:blip r:embed="rId1"/>
          <a:stretch/>
        </p:blipFill>
        <p:spPr>
          <a:xfrm>
            <a:off x="5219640" y="2781360"/>
            <a:ext cx="2975040" cy="3024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ша презентация оконче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835280" y="3428640"/>
            <a:ext cx="45972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ые процессы в живой природ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2124000" y="2349360"/>
          <a:ext cx="48038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349360"/>
                    <a:ext cx="48038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352908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4284720" y="2637000"/>
          <a:ext cx="4495680" cy="30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637000"/>
                    <a:ext cx="449568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83808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58920" y="274284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716360" y="2349360"/>
          <a:ext cx="4114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971640" y="2565360"/>
          <a:ext cx="358452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3584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716360" y="2491920"/>
            <a:ext cx="38102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3770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476100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обществ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666880" y="2590920"/>
          <a:ext cx="403884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03884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9:26:26Z</dcterms:created>
  <dc:creator>Белезяк</dc:creator>
  <dc:description/>
  <dc:language>en-US</dc:language>
  <cp:lastModifiedBy>LEGION</cp:lastModifiedBy>
  <dcterms:modified xsi:type="dcterms:W3CDTF">2015-07-01T12:09:19Z</dcterms:modified>
  <cp:revision>26</cp:revision>
  <dc:subject/>
  <dc:title>Информационные процессы</dc:title>
</cp:coreProperties>
</file>