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23.png" ContentType="image/png"/>
  <Override PartName="/ppt/media/image10.wmf" ContentType="image/x-wmf"/>
  <Override PartName="/ppt/media/image22.png" ContentType="image/png"/>
  <Override PartName="/ppt/media/image21.gif" ContentType="image/gif"/>
  <Override PartName="/ppt/media/image19.wmf" ContentType="image/x-wmf"/>
  <Override PartName="/ppt/media/image24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2.wmf" ContentType="image/x-wmf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CA78-DC1C-4F28-BD3E-B0C30EC0DCE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турова Дар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езяк Ан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2086-B35E-4D89-B9DA-F5D81F37BB2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нформации в обществе происходит посредством исследования объектов или использования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СМ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1A03-5E71-4B21-B324-FB219792303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и передают информацию из поколения в поколение различными способами. Одним из таких способов является процесс обучения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28E3-8CF3-4BDF-BA56-D6A18B313E3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преобразует зрительную и другую информацию в знания об изучаемом объекте. Преобразованием информации человеком обуславливается процесс мыш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BAD9-9EB1-44BE-9207-BCE71B7472F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 информации необходимо в обществе. Человек хранит накопленную в течении жизни информацию в своей памя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20B7-1591-4CDF-A288-9B62C1898FF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использует накопленную информацию во всех сферах жизнедеятельности. Например: мастер-столяр использует свои знания о металле и инструментах для успешного выполнения свое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5AE6-498E-4544-B541-1A4554FFB78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процессы в техн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0189-685B-4EA9-AD3B-8AFDF4401AC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бработки информации компьютером  необходимо ввести эту информацию через устройства ввода. Это является примером получения информации в техн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E938-47C5-40A2-BC22-AEA30965332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работы в Интернете осуществляется передача информации между компьюте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1373-22A9-4A24-B54E-8E9899B3A78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ом преобразования информации в технике является кодирование. Кодирование необходимо ЭВМ для того, чтобы переводить различную информацию в двоичный код, который способна обрабатывать маш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6275-F2E9-4102-95D0-BB146B5046F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ычислительной технике информация хранится в памяти. Память разделяют на внутреннюю (оперативную) и внешнюю (долговременную), представленную жестким диском и различными съемными носителям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9531-021A-4210-BA8C-89B9E1E293E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иды информационных процессов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C6CC-6234-44E3-8B2A-3386380A9DF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мпьютере использование информации происходит при работе программ. Программа использует заложенную программистом информацию для осуществления запрограммированных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D09E-C228-4E19-965F-86BFF326DDB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процессы происходят во всех областях жизни: в природе, в обществе и в технике. По-этому изучение и исследование этих процессов, а также создание на их основе более совершенных информационных технологий играет большую роль в прогрессе науки и тех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1E34-A580-4F1F-84F8-539A7B4FEA2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ша презентация оконч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174C-39D8-48F1-9C36-5F71480FD18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процессы в живой прир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51B2-EE89-4FB1-B942-6E89FD31345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живой природе получение информации идет самыми разнообразными способами. Например: китообразные получают информацию при помощи эхолок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E604-FC34-40D2-8D82-DF79AFA1345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информации играет важную роль в жизни общественных животных. Например: пчелы передают друг другу информацию путем «пчелиного танц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699D-6B42-4D73-AD94-0F1787E1E30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получение и передача информации не имеют смысла без ее преобразования. Например: собака улавливает запахи и преобразует эти данные в информацию о прошедшем здесь челове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FADB-F8BC-4582-8A9E-0F7FB3715C6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 информации так же имеет большое значение в мире живой природы. Так птицы хранят информацию о положении места рождения, куда они возвращаются вес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A58F-9F4F-40B9-A04B-99614D72E03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отные используют информацию в своей жизнедеятельности. Например знания о съедобности / несъедобности различных растений у травояд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39F2-0F6C-44A3-8C39-3007FFB8D73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процессы в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189A-3B2D-42C0-8569-0522B17D13A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6FBD-680C-44F7-940C-F6EC1A4BD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759A-8082-496D-A829-25EAC811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E2F6-BF8A-4346-8259-79EA0E27C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8BE1-5D56-4B64-9E88-3F413BB7C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5693-E677-426D-BFED-67BEFC782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9B76-EA61-4363-8778-DF79F943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BAAB-1CC8-4DD1-AA13-B969BF3C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7986-2713-40C1-AF9A-9E3F39D4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C294F-96DA-479A-85C9-79FC2469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2C93-3323-4510-88C4-481B09FD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97FF-170C-4CB9-A9C4-B7661DC9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4A8D-EAC1-469F-8A4F-513A3A73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D8C4-11A7-4926-B1A0-67A5B1C1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4681-5963-4ADB-B4A5-540BAAF8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703B-3F01-4FBF-B2A5-331C9BC9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5379-8113-4674-8450-3F6BD918F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7DBA-BE7E-402F-A956-56307BE82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B140-73B3-431B-BE4A-816C1734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AAF7-AE1E-4291-A185-F3931C22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9736-986E-493C-ADB0-FF4DEC37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B627-198B-4D77-82CA-52E33526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F6CC-E2E0-41B3-9530-A187D752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FDBD-A354-4562-8814-FDFE997D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CE51-4C57-42BA-86E7-83F32440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F07B-17E8-488F-A10D-AE291DB0A93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CC76-53B9-44C2-82AB-C075256394C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778680" y="1508400"/>
            <a:ext cx="7437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Информационные процесс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3200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Выполнили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Батурова Дарь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Белезяк Анн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4" name="Object 6"/>
          <p:cNvGraphicFramePr/>
          <p:nvPr/>
        </p:nvGraphicFramePr>
        <p:xfrm>
          <a:off x="4716360" y="3068640"/>
          <a:ext cx="28195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3068640"/>
                    <a:ext cx="28195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Picture 7" descr=""/>
          <p:cNvPicPr/>
          <p:nvPr/>
        </p:nvPicPr>
        <p:blipFill>
          <a:blip r:embed="rId3"/>
          <a:stretch/>
        </p:blipFill>
        <p:spPr>
          <a:xfrm>
            <a:off x="6443640" y="8366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луче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26920" y="2781000"/>
            <a:ext cx="38815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лучение информации в обществе происходит посредством исследования объектов или использования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СМ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7" name="Group 7"/>
          <p:cNvGrpSpPr/>
          <p:nvPr/>
        </p:nvGrpSpPr>
        <p:grpSpPr>
          <a:xfrm>
            <a:off x="4986360" y="2913120"/>
            <a:ext cx="3794040" cy="3095640"/>
            <a:chOff x="4986360" y="2913120"/>
            <a:chExt cx="3794040" cy="3095640"/>
          </a:xfrm>
        </p:grpSpPr>
        <p:pic>
          <p:nvPicPr>
            <p:cNvPr id="148" name="Object 4" descr=""/>
            <p:cNvPicPr/>
            <p:nvPr/>
          </p:nvPicPr>
          <p:blipFill>
            <a:blip r:embed="rId1"/>
            <a:stretch/>
          </p:blipFill>
          <p:spPr>
            <a:xfrm>
              <a:off x="4986360" y="2913120"/>
              <a:ext cx="3147840" cy="30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Object 5" descr=""/>
            <p:cNvPicPr/>
            <p:nvPr/>
          </p:nvPicPr>
          <p:blipFill>
            <a:blip r:embed="rId2"/>
            <a:stretch/>
          </p:blipFill>
          <p:spPr>
            <a:xfrm>
              <a:off x="7620120" y="4724280"/>
              <a:ext cx="1160280" cy="11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Місце для нижнього колонтитула 2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ередача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932000" y="2707920"/>
            <a:ext cx="380988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юди передают информацию из поколения в поколение различными способами. Одним из таких способов является процесс обучения дете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53" name="Object 5"/>
          <p:cNvGraphicFramePr/>
          <p:nvPr/>
        </p:nvGraphicFramePr>
        <p:xfrm>
          <a:off x="900000" y="3068640"/>
          <a:ext cx="3959280" cy="258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3068640"/>
                    <a:ext cx="395928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еобразова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26920" y="2708280"/>
            <a:ext cx="381024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еловек преобразует зрительную и другую информацию в знания об изучаемом объекте. Преобразованием информации человеком обуславливается процесс мышле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58" name="Object 4"/>
          <p:cNvGraphicFramePr/>
          <p:nvPr/>
        </p:nvGraphicFramePr>
        <p:xfrm>
          <a:off x="4932360" y="2349360"/>
          <a:ext cx="1600200" cy="157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349360"/>
                    <a:ext cx="16002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5"/>
          <p:cNvGraphicFramePr/>
          <p:nvPr/>
        </p:nvGraphicFramePr>
        <p:xfrm>
          <a:off x="7740720" y="3284640"/>
          <a:ext cx="65232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40720" y="3284640"/>
                    <a:ext cx="6523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6"/>
          <p:cNvGraphicFramePr/>
          <p:nvPr/>
        </p:nvGraphicFramePr>
        <p:xfrm>
          <a:off x="4356000" y="4724280"/>
          <a:ext cx="2425680" cy="184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6000" y="4724280"/>
                    <a:ext cx="2425680" cy="18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AutoShape 9"/>
          <p:cNvSpPr/>
          <p:nvPr/>
        </p:nvSpPr>
        <p:spPr>
          <a:xfrm rot="4395600">
            <a:off x="6966720" y="2763000"/>
            <a:ext cx="573120" cy="609840"/>
          </a:xfrm>
          <a:custGeom>
            <a:avLst/>
            <a:gdLst>
              <a:gd name="textAreaLeft" fmla="*/ 329760 w 573120"/>
              <a:gd name="textAreaRight" fmla="*/ 483840 w 573120"/>
              <a:gd name="textAreaTop" fmla="*/ 82080 h 609840"/>
              <a:gd name="textAreaBottom" fmla="*/ 261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66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AutoShape 10"/>
          <p:cNvSpPr/>
          <p:nvPr/>
        </p:nvSpPr>
        <p:spPr>
          <a:xfrm rot="10431600">
            <a:off x="7163640" y="5300280"/>
            <a:ext cx="522360" cy="555480"/>
          </a:xfrm>
          <a:custGeom>
            <a:avLst/>
            <a:gdLst>
              <a:gd name="textAreaLeft" fmla="*/ 300600 w 522360"/>
              <a:gd name="textAreaRight" fmla="*/ 441000 w 522360"/>
              <a:gd name="textAreaTop" fmla="*/ 74880 h 555480"/>
              <a:gd name="textAreaBottom" fmla="*/ 237600 h 5554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66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Хране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427280" y="2852640"/>
            <a:ext cx="401292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Хранение информации необходимо в обществе. Человек хранит накопленную в течении жизни информацию в своей памят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9" name="Picture 15" descr="j0299125"/>
          <p:cNvPicPr/>
          <p:nvPr/>
        </p:nvPicPr>
        <p:blipFill>
          <a:blip r:embed="rId1"/>
          <a:stretch/>
        </p:blipFill>
        <p:spPr>
          <a:xfrm>
            <a:off x="1332000" y="2708280"/>
            <a:ext cx="2019240" cy="331308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спользова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26920" y="2492280"/>
            <a:ext cx="401328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еловек использует накопленную информацию во всех сферах жизнедеятельности. Например: мастер-столяр использует свои знания о металле и инструментах для успешного выполнения своей работ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3" name="Picture 7" descr="j0240695"/>
          <p:cNvPicPr/>
          <p:nvPr/>
        </p:nvPicPr>
        <p:blipFill>
          <a:blip r:embed="rId1"/>
          <a:stretch/>
        </p:blipFill>
        <p:spPr>
          <a:xfrm>
            <a:off x="5219640" y="3141720"/>
            <a:ext cx="2808360" cy="224928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нформационные процессы в техник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6" name="Object 3"/>
          <p:cNvGraphicFramePr/>
          <p:nvPr/>
        </p:nvGraphicFramePr>
        <p:xfrm>
          <a:off x="2362320" y="2514600"/>
          <a:ext cx="4000320" cy="31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000320" cy="31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3640" y="908640"/>
            <a:ext cx="76276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луче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55640" y="2852280"/>
            <a:ext cx="4392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ля обработки информации компьютером  необходимо ввести эту информацию через устройства ввода. Это является примером получения информации в техник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1" name="Picture 6" descr="j0195384"/>
          <p:cNvPicPr/>
          <p:nvPr/>
        </p:nvPicPr>
        <p:blipFill>
          <a:blip r:embed="rId1"/>
          <a:stretch/>
        </p:blipFill>
        <p:spPr>
          <a:xfrm>
            <a:off x="5114880" y="2646360"/>
            <a:ext cx="2919600" cy="282888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ередача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716360" y="2781360"/>
            <a:ext cx="3726000" cy="28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о время работы в Интернете осуществляется передача информации между компьютера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5" name="Picture 5" descr="j0300520"/>
          <p:cNvPicPr/>
          <p:nvPr/>
        </p:nvPicPr>
        <p:blipFill>
          <a:blip r:embed="rId1"/>
          <a:stretch/>
        </p:blipFill>
        <p:spPr>
          <a:xfrm>
            <a:off x="1187280" y="2997360"/>
            <a:ext cx="2567160" cy="209376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еобразова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755640" y="2349360"/>
            <a:ext cx="42480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имером преобразования информации в технике является кодирование. Кодирование необходимо ЭВМ для того, чтобы переводить различную информацию в двоичный код, который способна обрабатывать машин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89" name="Object 36"/>
          <p:cNvGraphicFramePr/>
          <p:nvPr/>
        </p:nvGraphicFramePr>
        <p:xfrm>
          <a:off x="5649840" y="2738520"/>
          <a:ext cx="199080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49840" y="2738520"/>
                    <a:ext cx="1990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Хране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427640" y="2636640"/>
            <a:ext cx="43560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вычислительной технике информация хранится в памяти. Память разделяют на внутреннюю (оперативную) и внешнюю (долговременную), представленную жестким диском и различными съемными носителями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94" name="Object 13"/>
          <p:cNvGraphicFramePr/>
          <p:nvPr/>
        </p:nvGraphicFramePr>
        <p:xfrm>
          <a:off x="1187280" y="3573360"/>
          <a:ext cx="2603520" cy="14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573360"/>
                    <a:ext cx="260352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иды информационных процессов: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517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лучени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ередач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образовани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Хранени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спользовани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4" descr="j0299171"/>
          <p:cNvPicPr/>
          <p:nvPr/>
        </p:nvPicPr>
        <p:blipFill>
          <a:blip r:embed="rId1"/>
          <a:stretch/>
        </p:blipFill>
        <p:spPr>
          <a:xfrm>
            <a:off x="5508720" y="2781360"/>
            <a:ext cx="2382840" cy="28083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спользова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02120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компьютере использование информации происходит при работе программ. Программа использует заложенную программистом информацию для осуществления запрограммированных действи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9" name="Picture 8" descr="j0149481"/>
          <p:cNvPicPr/>
          <p:nvPr/>
        </p:nvPicPr>
        <p:blipFill>
          <a:blip r:embed="rId1"/>
          <a:stretch/>
        </p:blipFill>
        <p:spPr>
          <a:xfrm>
            <a:off x="5219640" y="2781360"/>
            <a:ext cx="2975040" cy="302400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ключ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нформационные процессы происходят во всех областях жизни: в природе, в обществе и в технике. По-этому изучение и исследование этих процессов, а также создание на их основе более совершенных информационных технологий играет большую роль в прогрессе науки и техни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аша презентация окончен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835280" y="3428640"/>
            <a:ext cx="4597200" cy="77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нформационные процессы в живой природ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3" name="Object 8"/>
          <p:cNvGraphicFramePr/>
          <p:nvPr/>
        </p:nvGraphicFramePr>
        <p:xfrm>
          <a:off x="2124000" y="2349360"/>
          <a:ext cx="480384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349360"/>
                    <a:ext cx="480384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луче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5280" y="2349360"/>
            <a:ext cx="352908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живой природе получение информации идет самыми разнообразными способами. Например: китообразные получают информацию при помощи эхолокаци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4284720" y="2637000"/>
          <a:ext cx="4495680" cy="30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637000"/>
                    <a:ext cx="4495680" cy="30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ередача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2" name="Object 3"/>
          <p:cNvGraphicFramePr/>
          <p:nvPr/>
        </p:nvGraphicFramePr>
        <p:xfrm>
          <a:off x="838080" y="2790720"/>
          <a:ext cx="377028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90720"/>
                    <a:ext cx="37702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858920" y="2742840"/>
            <a:ext cx="380988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ередача информации играет важную роль в жизни общественных животных. Например: пчелы передают друг другу информацию путем «пчелиного танца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еобразова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4000" y="2362320"/>
            <a:ext cx="3770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о получение и передача информации не имеют смысла без ее преобразования. Например: собака улавливает запахи и преобразует эти данные в информацию о прошедшем здесь человеке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8" name="Object 4"/>
          <p:cNvGraphicFramePr/>
          <p:nvPr/>
        </p:nvGraphicFramePr>
        <p:xfrm>
          <a:off x="4716360" y="2349360"/>
          <a:ext cx="411480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2349360"/>
                    <a:ext cx="41148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Хране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2" name="Object 3"/>
          <p:cNvGraphicFramePr/>
          <p:nvPr/>
        </p:nvGraphicFramePr>
        <p:xfrm>
          <a:off x="971640" y="2565360"/>
          <a:ext cx="3584520" cy="307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565360"/>
                    <a:ext cx="3584520" cy="30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716360" y="2491920"/>
            <a:ext cx="38102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Хранение информации так же имеет большое значение в мире живой природы. Так птицы хранят информацию о положении места рождения, куда они возвращаются весно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спользова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26920" y="2636640"/>
            <a:ext cx="37706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Животные используют информацию в своей жизнедеятельности. Например знания о съедобности / несъедобности различных растений у травоядны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8" name="Object 4"/>
          <p:cNvGraphicFramePr/>
          <p:nvPr/>
        </p:nvGraphicFramePr>
        <p:xfrm>
          <a:off x="4761000" y="2790720"/>
          <a:ext cx="377028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1000" y="2790720"/>
                    <a:ext cx="37702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нформационные процессы в обществ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2666880" y="2590920"/>
          <a:ext cx="4038840" cy="309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590920"/>
                    <a:ext cx="4038840" cy="30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2T09:26:26Z</dcterms:created>
  <dc:creator>Белезяк</dc:creator>
  <dc:description/>
  <dc:language>en-US</dc:language>
  <cp:lastModifiedBy>LEGION</cp:lastModifiedBy>
  <dcterms:modified xsi:type="dcterms:W3CDTF">2015-07-01T12:09:19Z</dcterms:modified>
  <cp:revision>26</cp:revision>
  <dc:subject/>
  <dc:title>Информационные процессы</dc:title>
</cp:coreProperties>
</file>