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0F5A-858C-4FAD-9D39-F175FB9560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7FB6-5B59-4783-BA06-C45C15C248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A932-5C59-4C95-A76D-9812517FC0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60D3-95D3-4678-A176-5839A350B2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A053-535B-4D64-9120-AD035EC048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E3B1-B9BF-432F-9376-FF36D72B67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106B-B2CE-4085-98A1-88BDD3C44D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554D-531F-4AB8-8F29-7DC28DE249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7299-6236-4030-8109-270F5FEB26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B47A-EB94-4738-96F0-7B6DE940AF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42C6-485A-4989-A09E-3939F074A4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B1F5-C025-40DE-907C-B0D7B076E0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6099-0560-470C-8991-C1EDD4F005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F3C3-8593-46F0-AAB5-FBA87F7986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19E2-B170-444C-A022-A8BDBE817D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09D6-90C7-48A4-939C-36AE32ABF7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03CB-6A1C-4C94-98F3-771D44A600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 тогдашнем поколении чувствуется имен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ое неодолимо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лечени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к философи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ая-то философска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траст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яга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точ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агическое притяжение к философским тема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вопросам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В предыдущем поколени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аким культурно-психологическим магни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ыл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зия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теперь уже перестаё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м быть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з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тического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фазис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культурно-творческое созн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ереходит в фазис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лософ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A5FB-E412-4014-9938-DD7588E716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именно «из нашей жизни», из господствующ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ов и интересов родной жизн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в те годы русская философия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 историософического изум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чти испуга, в болезненно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цесс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ционально-историческ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нахождения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разду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7483-1C0E-4313-9B52-CBF8B2F234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F33E-DFC0-4394-A3F1-80AB78F77F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1509-D346-4FC8-9F33-E42347A5F7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B189-6D1C-441C-8A69-B9CA381C12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оки русской филосо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чь Философ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6)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рещение Рус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Слово о законе и благодати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тр. Илларион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05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весть временных лет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нач.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XII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в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стяжатели и осифляне (кон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 –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ч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I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аксим Гре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470-155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еписка Ивана Грозного с А. Курбским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564-157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00C6-3F39-46B8-A549-113B72E40D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иево-Могилянская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ллегия (позднее – академия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3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литик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Ю. Крижанич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6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авяно-греко-латинская академ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адемия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2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В. Ломоносо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11-176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ий университет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М. Щербат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33-179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Н. Радище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49-18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5E9C-3BDD-4D89-8D62-85B29097B1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 русские «любомудры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М. Карамзин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66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 Б. Ша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8-183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 М. Велланск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74-184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Г. Павл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93-184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юбомудры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3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A9B1-CFFB-4E07-AD8C-95560D7532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. Я. Чаадаев (1794-1856)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илософические пись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9-1830, 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Calibri"/>
              </a:rPr>
              <a:t>опубл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. 1836-199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пология сумасшедшего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(183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6FC7-8A81-4A6B-8CC7-DC35F602F2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558E-2F0A-4E74-82DB-85986D1575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620E-790E-4F30-AD8D-80860F95D0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D08E-031B-4C3A-8B6E-941ED1B126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2AE-7F6B-439F-A0DB-8FAD0270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561-699B-4257-8E5B-503288C8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2EF-B45A-45EE-B651-F40F4D1E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03A-4DEA-4DB0-ABA7-61EA6883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65D-EF87-40B6-8012-912BB588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60F-55AF-42F8-93E8-E53492ED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6DA-7C6F-4A07-929A-E246D1F1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094-362A-4BCB-B5EE-B0E6A304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CE4-5FE6-46A0-9238-72EEDBEB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968-E788-4514-B9C8-00EBC619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957-3D94-414F-BBB8-D8474479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A5B-3B88-4640-80B6-A40C30F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C604-8FC9-4424-BF01-235364995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043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живём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амом ограниче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оящем без прошедшего и без буд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плоского застоя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оминания не идут далее вчерашн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ня; мы как бы чужие для себя сам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так удивительно шествуем во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мере движения вперёд, пережит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падает для нас безвозвратн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нутреннего разви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ественного прогресса; прежние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метаются новыми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е не происходят из перв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являются у нас неизвестно отку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Vasnetsov, Moving House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200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то естествен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ледствие культур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цело заимствованн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подра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baxt_cost_battista_les_femmes_bon"/>
          <p:cNvPicPr/>
          <p:nvPr/>
        </p:nvPicPr>
        <p:blipFill>
          <a:blip r:embed="rId1"/>
          <a:stretch/>
        </p:blipFill>
        <p:spPr>
          <a:xfrm>
            <a:off x="682560" y="1870200"/>
            <a:ext cx="1922400" cy="28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всех народов есть период бу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лнений, страстного беспокой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ятельности без обдуманных намерений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ра великих побуж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ких свершений, великих стра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родов. Они тогда неистов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ясного повода, но не без поль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ядущих покол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 увлекательная эпоха в истор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одов, это их юность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всего сильнее развиваютс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я, и память о нём 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ду и поучение их зрел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Gerome, The_Pyrrhic_Dance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19280" cy="17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не имели ничего подобн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дикое варварство, затем груб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еверие, далее иноземное владыч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окое и унизительное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ьная власть впоследств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аследовала, – в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чальная истор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й юност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поха нашей социа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, соответствующая этому возраст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наполнена тусклым и мрач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м без силы, без энерг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ушевляемом только злодея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мягчаемом только рабств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Глазунов, Иван Грозный (ум)"/>
          <p:cNvPicPr/>
          <p:nvPr/>
        </p:nvPicPr>
        <p:blipFill>
          <a:blip r:embed="rId1"/>
          <a:stretch/>
        </p:blipFill>
        <p:spPr>
          <a:xfrm>
            <a:off x="863640" y="1870200"/>
            <a:ext cx="141444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е наши год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шие в неподвижной дик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ставили никакого следа в нашей у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т в нас нич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 нам прис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что могла бы опереться наша мысл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енные по странной воле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сеобщего движения человеч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яли м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ди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между тем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их основана жизнь народов;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их идей вытекает их будуще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ит их нравственн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Delaroche, Hemicycle_of_the_Ecole_des_Beaux-Arts_right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21080" cy="160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чь идёт здесь не об учё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 чтении, не о чём-то литератур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м, а просто о соприкоснов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й, о мыслях, которые охват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ёнка в колыбели, окружают его сре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р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в форме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 проникают до мозга его к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воздухом, которым он дышит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 о долге, справедлив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е, порядк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и происходят из т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событий, которые создали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т она, атмосфе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а…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что вы видите у нас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Alma-Tadema, A_Birth_Chamber (red)"/>
          <p:cNvPicPr/>
          <p:nvPr/>
        </p:nvPicPr>
        <p:blipFill>
          <a:blip r:embed="rId1"/>
          <a:stretch/>
        </p:blipFill>
        <p:spPr>
          <a:xfrm>
            <a:off x="287280" y="2338560"/>
            <a:ext cx="2535120" cy="18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ы – существа нравств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, как и отдельные лич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воспитывают века, как лю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ывают г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сказать, что мы состав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бы исключение среди народов.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инадлежим к тем из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как бы не в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ной частью в род человеческ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уществуют лишь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великий урок мир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Gerome, Moses_on_Mount_Sinai_red1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45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16040" y="1869840"/>
            <a:ext cx="6478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теряться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находит способа связаться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ыло до него и что будет после н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тогда утрачивает всякую твёрд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ую уверенность; не руководим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ением непрерывной длительности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чувствует себя заблудившимся в 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е растерянные существа встре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ранах; у нас это общее свойство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ших головах нет реш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обще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там обособ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там шатко и непол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Gerome, Cave_Canem"/>
          <p:cNvPicPr/>
          <p:nvPr/>
        </p:nvPicPr>
        <p:blipFill>
          <a:blip r:embed="rId1"/>
          <a:stretch/>
        </p:blipFill>
        <p:spPr>
          <a:xfrm>
            <a:off x="324000" y="1870200"/>
            <a:ext cx="2431800" cy="287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орды варваров, потряс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, не прошли прежде нашеств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 по нашей стране, мы ед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бы главой всемирной истори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бы заставить себя заметит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м пришлось растянуть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Берингова пролива до Од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asnetsov, After Prince Igor's Battle with the Polovtsy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1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374920" y="1545480"/>
            <a:ext cx="665784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время, когда среди бор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сполненным силы варвар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ов Севера и возвыш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ью религии воздвига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дание современ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елали мы? По воле роковой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братились за нравственным уч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должно было нас воспит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тленной Визант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предмет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убокого презрения этих народов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всё тогда было одуше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вотворным началом единства. Всё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го происходило, всё к нему сходилось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ждые этому чудотворному нача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али жертвой завое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Waterhouse, The_Favourites_of_the_Emperor_Honorious_red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148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373480" y="1869480"/>
            <a:ext cx="66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 знаете, что ни один философ древ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ытался представить себе общества б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в, да и не находил никаких возраже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 рабств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 знаете также и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признанию самых даже упо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ов, уничтожением крепостнич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мы обязаны христианств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 христианство не имело таких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ствий у нас?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, наоборо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ий народ попал в рабство 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 того, как стал христианским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усть православ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снит это яв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urday"/>
          <p:cNvPicPr/>
          <p:nvPr/>
        </p:nvPicPr>
        <p:blipFill>
          <a:blip r:embed="rId1"/>
          <a:stretch/>
        </p:blipFill>
        <p:spPr>
          <a:xfrm>
            <a:off x="324000" y="1870200"/>
            <a:ext cx="2328840" cy="287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, но мне каж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 это могло бы застави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омниться в православ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 мы кичим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Православие (2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81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мы жили и сейч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живём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какой-то великий уро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алённым потом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поймут 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а, что бы там ни говор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оставляем проб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нтеллектуа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Gerome, Polyphemus_red0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57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не пройд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еда и то настав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м суждено д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кто знает день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новь обретём себ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челове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бед испытаем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свершения наших суде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гдашнем поколении чувствуется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неодолим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еч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ая-то философ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я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гическое притяжение к философским тем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просам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предыдущем поко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культурно-психологическим магни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з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теперь уже переста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быть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зис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культурно-творческ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ходит в фази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соф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менно «из нашей жизни», из господствующ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ов и интересов родной жиз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в те годы русская философ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сториософического изум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ти испуга, в болезне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ционально-ист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нахожд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разду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55720" y="1725480"/>
            <a:ext cx="566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ки русской философ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чь Философ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ещение Рус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лово о законе и благодати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. Илларио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0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весть временных лет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тяжатели и осифляне (кон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ксим Гр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470-15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Ивана Грозного с А. Курбск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4-15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snetsov, The Chronicler Nestor"/>
          <p:cNvPicPr/>
          <p:nvPr/>
        </p:nvPicPr>
        <p:blipFill>
          <a:blip r:embed="rId1"/>
          <a:stretch/>
        </p:blipFill>
        <p:spPr>
          <a:xfrm>
            <a:off x="358920" y="1619280"/>
            <a:ext cx="11905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Нил Сорский (1)"/>
          <p:cNvPicPr/>
          <p:nvPr/>
        </p:nvPicPr>
        <p:blipFill>
          <a:blip r:embed="rId2"/>
          <a:stretch/>
        </p:blipFill>
        <p:spPr>
          <a:xfrm>
            <a:off x="1798560" y="1798560"/>
            <a:ext cx="18496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Vasnetsov, Tsar Ivan IV the Terrible"/>
          <p:cNvPicPr/>
          <p:nvPr/>
        </p:nvPicPr>
        <p:blipFill>
          <a:blip r:embed="rId3"/>
          <a:stretch/>
        </p:blipFill>
        <p:spPr>
          <a:xfrm>
            <a:off x="2484360" y="4317840"/>
            <a:ext cx="1150920" cy="2156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10" descr="Максим Грек (2)"/>
          <p:cNvPicPr/>
          <p:nvPr/>
        </p:nvPicPr>
        <p:blipFill>
          <a:blip r:embed="rId4"/>
          <a:stretch/>
        </p:blipFill>
        <p:spPr>
          <a:xfrm>
            <a:off x="324000" y="4138560"/>
            <a:ext cx="185400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ево-Могилянск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гия (позднее – академ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литик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 Крижанич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авяно-греко-латинская академ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адемия на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В. Ломонос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университ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М. Щерб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Н. Радище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9-18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Фасад Московского университета 1784 год"/>
          <p:cNvPicPr/>
          <p:nvPr/>
        </p:nvPicPr>
        <p:blipFill>
          <a:blip r:embed="rId1"/>
          <a:stretch/>
        </p:blipFill>
        <p:spPr>
          <a:xfrm>
            <a:off x="539640" y="3525840"/>
            <a:ext cx="2880000" cy="93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Радищев (2)"/>
          <p:cNvPicPr/>
          <p:nvPr/>
        </p:nvPicPr>
        <p:blipFill>
          <a:blip r:embed="rId2"/>
          <a:stretch/>
        </p:blipFill>
        <p:spPr>
          <a:xfrm>
            <a:off x="1979640" y="4678200"/>
            <a:ext cx="1460520" cy="179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7" descr="Могила (с тенью)"/>
          <p:cNvPicPr/>
          <p:nvPr/>
        </p:nvPicPr>
        <p:blipFill>
          <a:blip r:embed="rId3"/>
          <a:stretch/>
        </p:blipFill>
        <p:spPr>
          <a:xfrm>
            <a:off x="358920" y="1438200"/>
            <a:ext cx="1199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Щербатов (1)"/>
          <p:cNvPicPr/>
          <p:nvPr/>
        </p:nvPicPr>
        <p:blipFill>
          <a:blip r:embed="rId4"/>
          <a:stretch/>
        </p:blipFill>
        <p:spPr>
          <a:xfrm>
            <a:off x="539640" y="4678200"/>
            <a:ext cx="1295640" cy="17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Ломоносов (3-1)"/>
          <p:cNvPicPr/>
          <p:nvPr/>
        </p:nvPicPr>
        <p:blipFill>
          <a:blip r:embed="rId5"/>
          <a:stretch/>
        </p:blipFill>
        <p:spPr>
          <a:xfrm>
            <a:off x="2124000" y="1619280"/>
            <a:ext cx="1230480" cy="16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840" y="128520"/>
            <a:ext cx="85183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русские «любомуд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7840" y="1798200"/>
            <a:ext cx="431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Б. Ша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8-18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М. Велла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4-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Г. Пав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93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юбомудры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2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173480" y="6189840"/>
            <a:ext cx="245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 В. Веневитино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5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Карамз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19400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5" name="Picture 13" descr="Одоевский_red2"/>
          <p:cNvPicPr/>
          <p:nvPr/>
        </p:nvPicPr>
        <p:blipFill>
          <a:blip r:embed="rId2"/>
          <a:stretch/>
        </p:blipFill>
        <p:spPr>
          <a:xfrm>
            <a:off x="2698920" y="2878200"/>
            <a:ext cx="1612800" cy="216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14"/>
          <p:cNvSpPr/>
          <p:nvPr/>
        </p:nvSpPr>
        <p:spPr>
          <a:xfrm>
            <a:off x="2517840" y="5110200"/>
            <a:ext cx="197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Ф. Одоев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3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4030560"/>
            <a:ext cx="19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 В Веневитинов Портрет маслом А Лагрене 1826 г  (2)"/>
          <p:cNvPicPr/>
          <p:nvPr/>
        </p:nvPicPr>
        <p:blipFill>
          <a:blip r:embed="rId3"/>
          <a:stretch/>
        </p:blipFill>
        <p:spPr>
          <a:xfrm>
            <a:off x="4533840" y="3957480"/>
            <a:ext cx="173520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Я. Чаадаев (1794-1856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7840" y="3417480"/>
            <a:ext cx="40384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ческие пись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9-1830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уб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836-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логия сумасшедш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аадаев"/>
          <p:cNvPicPr/>
          <p:nvPr/>
        </p:nvPicPr>
        <p:blipFill>
          <a:blip r:embed="rId1"/>
          <a:stretch/>
        </p:blipFill>
        <p:spPr>
          <a:xfrm>
            <a:off x="611280" y="1978200"/>
            <a:ext cx="387972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5397480" y="1978200"/>
            <a:ext cx="28083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 rot="10800000">
            <a:off x="2625480" y="186948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вид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удто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нималось нашей судьб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азывая нам в своём благодете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и на человеческий разум,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ило нас всецело самим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желало ни в чём вмешив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 дела, не пожелало ничему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ить. Опыт времён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 Века и поко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ли для нас бесплод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я на нас, можно сказ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тношению к нам всеобщий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тва сведён на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огда не ш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другими народ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надлежим ни к од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звестных семей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 Западу, ни к Восто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ем традиц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того, ни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оим как 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е воспит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распростран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Vasnetsov, A Knight at the Crossroads (Serpukhov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4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ссы подчиняются известным сил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ящим у вершин общест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о они не размышляю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них имеется известное чис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елей, которые за них ду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дают толчок коллекти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ю нации и приводят её в движен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начительное меньшинство мысли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ьная часть чувствует, в ито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тся общее движени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перь, я вас спрошу, 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удрец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слители? Кто из нас когд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ма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то за нас дум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Raphael 054 The School of Athens (detail 1)_compr"/>
          <p:cNvPicPr/>
          <p:nvPr/>
        </p:nvPicPr>
        <p:blipFill>
          <a:blip r:embed="rId1"/>
          <a:stretch/>
        </p:blipFill>
        <p:spPr>
          <a:xfrm>
            <a:off x="431640" y="1870200"/>
            <a:ext cx="21988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4:33Z</dcterms:created>
  <dc:creator>Николай Бирюков / Nikolai Biryukov</dc:creator>
  <dc:description>Версия декабря 2006 г.</dc:description>
  <dc:language>en-US</dc:language>
  <cp:lastModifiedBy>LEGION</cp:lastModifiedBy>
  <dcterms:modified xsi:type="dcterms:W3CDTF">2014-11-11T10:06:51Z</dcterms:modified>
  <cp:revision>68</cp:revision>
  <dc:subject>История русской философии - Лекция 1</dc:subject>
  <dc:title>Истоки и начало русской философии</dc:title>
</cp:coreProperties>
</file>