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6BAA-2058-4DF0-90D1-C6DD4E159F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950-D7B7-4998-B563-9CCF19FD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62A-131C-41F4-840E-E732546D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130-7C22-47AE-BD0D-6890B661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3B7-9BE9-46CF-BE6D-06660B5C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F03-DCFD-4605-A6AB-4A1F6152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D49-8E86-4D11-B1A7-0125FECC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B81-1174-4E49-972A-A172F9E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956-93E4-455B-AF74-81BA2ED0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EF7-AB3E-47CE-B079-1C840397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BA2-EAC2-4646-AC9A-8302C76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826-83FF-4E50-AE23-7CC9479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8E9-AA24-45F1-8EF2-B0B26639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8D7F-18B8-48A9-AC7C-CD9F3CD2D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рок биологии в 10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00000" y="2060640"/>
            <a:ext cx="755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чивость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599292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итель биологии Петухова Т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фото"/>
          <p:cNvPicPr/>
          <p:nvPr/>
        </p:nvPicPr>
        <p:blipFill>
          <a:blip r:embed="rId1"/>
          <a:srcRect l="0" t="0" r="0" b="3791"/>
          <a:stretch/>
        </p:blipFill>
        <p:spPr>
          <a:xfrm>
            <a:off x="2916360" y="3860640"/>
            <a:ext cx="3187440" cy="2259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298764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Генны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(точеч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генная  мутация"/>
          <p:cNvPicPr/>
          <p:nvPr/>
        </p:nvPicPr>
        <p:blipFill>
          <a:blip r:embed="rId1"/>
          <a:srcRect l="17898" t="5901" r="17757" b="11481"/>
          <a:stretch/>
        </p:blipFill>
        <p:spPr>
          <a:xfrm>
            <a:off x="2843280" y="260280"/>
            <a:ext cx="6300720" cy="62708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виды хромасомных мутаций"/>
          <p:cNvPicPr/>
          <p:nvPr/>
        </p:nvPicPr>
        <p:blipFill>
          <a:blip r:embed="rId1"/>
          <a:srcRect l="6640" t="3927" r="4750" b="1141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иды хромосомных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цитоплазмотическая мутация"/>
          <p:cNvPicPr/>
          <p:nvPr/>
        </p:nvPicPr>
        <p:blipFill>
          <a:blip r:embed="rId1"/>
          <a:srcRect l="14683" t="10536" r="15203" b="15586"/>
          <a:stretch/>
        </p:blipFill>
        <p:spPr>
          <a:xfrm>
            <a:off x="1258920" y="1268280"/>
            <a:ext cx="6985080" cy="551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50920" y="33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итоплазматическая му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лизкородственные ви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сходством наследственной изменчив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95280" y="26028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 гомологических рядов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ой изменчивости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880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95280" y="620640"/>
            <a:ext cx="849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 изменчивость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23960"/>
          <a:ext cx="8507520" cy="5235480"/>
        </p:xfrm>
        <a:graphic>
          <a:graphicData uri="http://schemas.openxmlformats.org/drawingml/2006/table">
            <a:tbl>
              <a:tblPr/>
              <a:tblGrid>
                <a:gridCol w="3313080"/>
                <a:gridCol w="2735280"/>
                <a:gridCol w="24591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по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следов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аблица сравнение модификаций"/>
          <p:cNvPicPr/>
          <p:nvPr/>
        </p:nvPicPr>
        <p:blipFill>
          <a:blip r:embed="rId1">
            <a:lum bright="-6000"/>
          </a:blip>
          <a:srcRect l="4998" t="7879" r="35810" b="8484"/>
          <a:stretch/>
        </p:blipFill>
        <p:spPr>
          <a:xfrm>
            <a:off x="1332000" y="981000"/>
            <a:ext cx="6553080" cy="587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бинативная изменч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Биол"/>
          <p:cNvPicPr/>
          <p:nvPr/>
        </p:nvPicPr>
        <p:blipFill>
          <a:blip r:embed="rId1"/>
          <a:srcRect l="15333" t="5464" r="15409" b="19581"/>
          <a:stretch/>
        </p:blipFill>
        <p:spPr>
          <a:xfrm>
            <a:off x="1908000" y="1557360"/>
            <a:ext cx="5546880" cy="5052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аблица источники изменчивости"/>
          <p:cNvPicPr/>
          <p:nvPr/>
        </p:nvPicPr>
        <p:blipFill>
          <a:blip r:embed="rId1"/>
          <a:srcRect l="2215" t="14390" r="2181" b="18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ример мутации"/>
          <p:cNvPicPr/>
          <p:nvPr/>
        </p:nvPicPr>
        <p:blipFill>
          <a:blip r:embed="rId1"/>
          <a:stretch/>
        </p:blipFill>
        <p:spPr>
          <a:xfrm>
            <a:off x="1476360" y="971640"/>
            <a:ext cx="6408720" cy="5886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340000" y="620640"/>
            <a:ext cx="4753080" cy="1079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84360" y="2349360"/>
            <a:ext cx="2808000" cy="936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84360" y="3789360"/>
            <a:ext cx="2808000" cy="1512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80000" y="2276640"/>
            <a:ext cx="2808360" cy="93636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580000" y="3860640"/>
            <a:ext cx="2808360" cy="144000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123640" y="1700280"/>
            <a:ext cx="187164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3492000" y="1700280"/>
            <a:ext cx="86364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356000" y="1773360"/>
            <a:ext cx="1224000" cy="29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859280" y="1700280"/>
            <a:ext cx="2233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Примеры хромосомных мутац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лезнь Дауна"/>
          <p:cNvPicPr/>
          <p:nvPr/>
        </p:nvPicPr>
        <p:blipFill>
          <a:blip r:embed="rId1"/>
          <a:srcRect l="4318" t="3829" r="5902" b="10571"/>
          <a:stretch/>
        </p:blipFill>
        <p:spPr>
          <a:xfrm>
            <a:off x="1403280" y="1760400"/>
            <a:ext cx="7128000" cy="50976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6:44Z</dcterms:created>
  <dc:creator>User</dc:creator>
  <dc:description/>
  <dc:language>en-US</dc:language>
  <cp:lastModifiedBy>LEGION</cp:lastModifiedBy>
  <dcterms:modified xsi:type="dcterms:W3CDTF">2015-11-27T10:45:04Z</dcterms:modified>
  <cp:revision>16</cp:revision>
  <dc:subject/>
  <dc:title>Наследственная изменчивость. Цели: Узнать о видах наследственной изменчивости, их материальной основе, определить значение её для эволюции и селекции. </dc:title>
</cp:coreProperties>
</file>