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189F-9D76-4B56-B16B-9EEED591EC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редняя общеобразовательная школа с.Прималкинско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Петухова Т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с.Прималкинско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биологии Петухова Т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енные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(точеч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нные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(точеч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Цитоплазматическая му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итоплазматическая му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ородственные в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оды благодаря сходству генотипов обла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ходством 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гомологических ря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ородственные ви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оды благодаря сходству генотипов обла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ходством 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гомологических р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30, 31, ответить на вопро-сы №1, 2, 5 на странице 119-12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задание №3 страница 12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езентация на тему «Наследст-венная изменчивость человек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граф 30, 31, ответить на вопро-сы №1, 2, 5 на странице 119-12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задание №3 страница 12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езентация на тему «Наследст-венная изменчивость челове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 видах наследственной изменчивости, их материальной осно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значение её для эволюции, селекции 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нать о видах наследственной изменчивости, их материальной осно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значение её для эволюции, селекции и медиц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ая изменчив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е модификационной и мут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модификационной и мут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им сво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верим свои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тивная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чайная комбинация генов в геноти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ативная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чайная комбинация генов в геноти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ом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ят к из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а хромо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изме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клеотидов молек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осом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 измен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ы хромос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топлазма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К клет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ои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д, митохонд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ом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одят к из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а хромо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ы с изме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клеотидов молек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мосом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ы с  измен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хромос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НК клеточ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оидов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стид, митохонд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р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166-F2AB-4AC0-A27D-714353DA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807-215A-418A-8306-2735C3E1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460-FD45-4AD3-A18C-710FFBF2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A04-85FC-42DA-B1F5-7E6FE3DA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384-3FA7-48FC-A147-EB9B3464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A04-F722-42DA-B522-3776F6B5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487-D80C-4460-B7A4-82D19B13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08E-E80C-4C24-ABF6-26891447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911-2743-4096-8649-548FAA8D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45A-2F05-40ED-9B5A-16EE1477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E6D-CFB5-421E-8252-43609E4F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C2F-A04C-4A4C-BDD2-954C2B37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66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0C03-B215-4BD9-850F-A9BF51828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с.Прималкинск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рок биологии в 10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00000" y="2060640"/>
            <a:ext cx="75596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ая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нчивость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68360" y="5992920"/>
            <a:ext cx="835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читель биологии Петухова Т.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фото"/>
          <p:cNvPicPr/>
          <p:nvPr/>
        </p:nvPicPr>
        <p:blipFill>
          <a:blip r:embed="rId1"/>
          <a:srcRect l="0" t="0" r="0" b="3791"/>
          <a:stretch/>
        </p:blipFill>
        <p:spPr>
          <a:xfrm>
            <a:off x="2916360" y="3860640"/>
            <a:ext cx="3187440" cy="2259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989000"/>
            <a:ext cx="298764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Генные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 (точечны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генная  мутация"/>
          <p:cNvPicPr/>
          <p:nvPr/>
        </p:nvPicPr>
        <p:blipFill>
          <a:blip r:embed="rId1"/>
          <a:srcRect l="17898" t="5901" r="17757" b="11481"/>
          <a:stretch/>
        </p:blipFill>
        <p:spPr>
          <a:xfrm>
            <a:off x="2843280" y="260280"/>
            <a:ext cx="6300720" cy="62708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виды хромасомных мутаций"/>
          <p:cNvPicPr/>
          <p:nvPr/>
        </p:nvPicPr>
        <p:blipFill>
          <a:blip r:embed="rId1"/>
          <a:srcRect l="6640" t="3927" r="4750" b="11417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иды хромосомных му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цитоплазмотическая мутация"/>
          <p:cNvPicPr/>
          <p:nvPr/>
        </p:nvPicPr>
        <p:blipFill>
          <a:blip r:embed="rId1"/>
          <a:srcRect l="14683" t="10536" r="15203" b="15586"/>
          <a:stretch/>
        </p:blipFill>
        <p:spPr>
          <a:xfrm>
            <a:off x="1258920" y="1268280"/>
            <a:ext cx="6985080" cy="5519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250920" y="33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Цитоплазматическая му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Близкородственные ви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роды благодаря сходству генотипов обладаю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сходством наследственной изменчив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395280" y="260280"/>
            <a:ext cx="842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 гомологических рядов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ой изменчивости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граф 30, 31, ответить на вопро-сы №1, 2, 5 на странице 119-12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задание №3 страница 12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 презентация на тему «Наследст-венная изменчивость человека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000" y="2349000"/>
            <a:ext cx="708804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 о видах наследственной изменчивости, их материальной осно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значение её для эволюции, селекции и медиц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395280" y="620640"/>
            <a:ext cx="849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ая изменчивость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равнение модификационной и мутационной изменчив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1623960"/>
          <a:ext cx="8507520" cy="5235480"/>
        </p:xfrm>
        <a:graphic>
          <a:graphicData uri="http://schemas.openxmlformats.org/drawingml/2006/table">
            <a:tbl>
              <a:tblPr/>
              <a:tblGrid>
                <a:gridCol w="3313080"/>
                <a:gridCol w="2735280"/>
                <a:gridCol w="245916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ая 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я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поя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следов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им свои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таблица сравнение модификаций"/>
          <p:cNvPicPr/>
          <p:nvPr/>
        </p:nvPicPr>
        <p:blipFill>
          <a:blip r:embed="rId1">
            <a:lum bright="-6000"/>
          </a:blip>
          <a:srcRect l="4998" t="7879" r="35810" b="8484"/>
          <a:stretch/>
        </p:blipFill>
        <p:spPr>
          <a:xfrm>
            <a:off x="1332000" y="981000"/>
            <a:ext cx="6553080" cy="5877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бинативная изменчив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чайная комбинация генов в геноти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Биол"/>
          <p:cNvPicPr/>
          <p:nvPr/>
        </p:nvPicPr>
        <p:blipFill>
          <a:blip r:embed="rId1"/>
          <a:srcRect l="15333" t="5464" r="15409" b="19581"/>
          <a:stretch/>
        </p:blipFill>
        <p:spPr>
          <a:xfrm>
            <a:off x="1908000" y="1557360"/>
            <a:ext cx="5546880" cy="5052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таблица источники изменчивости"/>
          <p:cNvPicPr/>
          <p:nvPr/>
        </p:nvPicPr>
        <p:blipFill>
          <a:blip r:embed="rId1"/>
          <a:srcRect l="2215" t="14390" r="2181" b="18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пример мутации"/>
          <p:cNvPicPr/>
          <p:nvPr/>
        </p:nvPicPr>
        <p:blipFill>
          <a:blip r:embed="rId1"/>
          <a:stretch/>
        </p:blipFill>
        <p:spPr>
          <a:xfrm>
            <a:off x="1476360" y="971640"/>
            <a:ext cx="6408720" cy="58863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2340000" y="620640"/>
            <a:ext cx="4753080" cy="107964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ханизм му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84360" y="2349360"/>
            <a:ext cx="2808000" cy="93672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одят к измен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хромо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684360" y="3789360"/>
            <a:ext cx="2808000" cy="151272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ы с изме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клеотидов моле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5580000" y="2276640"/>
            <a:ext cx="2808360" cy="93636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мос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ы с  измен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ы хромос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5580000" y="3860640"/>
            <a:ext cx="2808360" cy="144000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топлаз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изме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 клето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оидов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стид, митохонд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2123640" y="1700280"/>
            <a:ext cx="187164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3492000" y="1700280"/>
            <a:ext cx="863640" cy="30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4356000" y="1773360"/>
            <a:ext cx="1224000" cy="29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4859280" y="1700280"/>
            <a:ext cx="22338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Bookman Old Style"/>
              </a:rPr>
              <a:t>Примеры хромосомных мутац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болезнь Дауна"/>
          <p:cNvPicPr/>
          <p:nvPr/>
        </p:nvPicPr>
        <p:blipFill>
          <a:blip r:embed="rId1"/>
          <a:srcRect l="4318" t="3829" r="5902" b="10571"/>
          <a:stretch/>
        </p:blipFill>
        <p:spPr>
          <a:xfrm>
            <a:off x="1403280" y="1760400"/>
            <a:ext cx="7128000" cy="50976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26:44Z</dcterms:created>
  <dc:creator>User</dc:creator>
  <dc:description/>
  <dc:language>en-US</dc:language>
  <cp:lastModifiedBy>LEGION</cp:lastModifiedBy>
  <dcterms:modified xsi:type="dcterms:W3CDTF">2015-11-27T10:45:04Z</dcterms:modified>
  <cp:revision>16</cp:revision>
  <dc:subject/>
  <dc:title>Наследственная изменчивость. Цели: Узнать о видах наследственной изменчивости, их материальной основе, определить значение её для эволюции и селекции. </dc:title>
</cp:coreProperties>
</file>