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57D7-6E6A-44B5-844F-BFD9C2EB88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ниципальное общеобразовательное учрежд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редняя общеобразовательная школа с.Прималкинског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биологии в 10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ч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биологии Петухова Т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с.Прималкинско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 биологии в 10 клас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чив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биологии Петухова Т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енные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(точеч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енные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(точечны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ы хромосомных мут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иды хромосомных мут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Цитоплазматическая му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Цитоплазматическая му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кородственные в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роды благодаря сходству генотипов облад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ходством наследственной изменчив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гомологических ряд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ой изменчив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зкородственные ви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оды благодаря сходству генотипов облад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ходством наследственной изменчив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гомологических ря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ой изменчив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30, 31, ответить на вопро-сы №1, 2, 5 на странице 119-123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задание №3 страница 12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презентация на тему «Наследст-венная изменчивость человек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аграф 30, 31, ответить на вопро-сы №1, 2, 5 на странице 119-12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задание №3 страница 12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презентация на тему «Наследст-венная изменчивость челове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ть о видах наследственной изменчивости, их материальной осно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значение её для эволюции, селекции и медиц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ая изменчив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знать о видах наследственной изменчивости, их материальной осно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значение её для эволюции, селекции и медиц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ая изменчив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ение модификационной и мутационной изменчив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ение модификационной и мутационной измен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верим свои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верим свои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ативная изменч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чайная комбинация генов в генотип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бинативная изменчив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чайная комбинация генов в генотип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тации – внезапно возникающие стойкие изменения генов и хромосом, передающиеся по наслед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тации – внезапно возникающие стойкие изменения генов и хромосом, передающиеся по наследст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мут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ом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одят к измен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а хромос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ы с измен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ова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клеотидов молеку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омосом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ы с  измене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ы хромос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топлазмат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 изме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К клеточ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оидов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стид, митохондр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 мут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ом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одят к изменен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а хромос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ы с измен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ова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клеотидов молеку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Н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мосом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ы с  изменени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ы хромос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топлаз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 измен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НК клеточ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оидов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стид, митохондр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меры хромосомных мут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меры хромосомных мут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74C1-A132-4237-B743-6EE0DE05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2B1D-E41B-4674-BCC5-B80F13AE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A93F-9FFB-4E6C-9AB7-E3C705425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89CE-C737-4217-92A1-FFC9E1469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5DEA-1E2B-48A7-BEFF-84585E93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CD68-9EB7-45AA-A258-27058D15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59BC-9029-4674-A42D-99A14DB6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5FDB-D393-4747-B20F-B0CFBF03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65EB-9B36-48F2-9D06-17AD2EF1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BBA0-FD94-43D4-B67A-9E8E60D1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3E54-1E51-407E-B301-ABAE8AA0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EE15-C83E-4E3E-86AF-845F6D1D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66ff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DE02-3919-4C53-98C7-DAF2294C7E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с.Прималкинског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008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Урок биологии в 10 клас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00000" y="2060640"/>
            <a:ext cx="75596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следственная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менчивость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68360" y="5992920"/>
            <a:ext cx="835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Учитель биологии Петухова Т.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фото"/>
          <p:cNvPicPr/>
          <p:nvPr/>
        </p:nvPicPr>
        <p:blipFill>
          <a:blip r:embed="rId1"/>
          <a:srcRect l="0" t="0" r="0" b="3791"/>
          <a:stretch/>
        </p:blipFill>
        <p:spPr>
          <a:xfrm>
            <a:off x="2916360" y="3860640"/>
            <a:ext cx="3187440" cy="225900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989000"/>
            <a:ext cx="2987640" cy="24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Генные</a:t>
            </a:r>
            <a:br>
              <a:rPr sz="4000"/>
            </a:b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 (точечны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генная  мутация"/>
          <p:cNvPicPr/>
          <p:nvPr/>
        </p:nvPicPr>
        <p:blipFill>
          <a:blip r:embed="rId1"/>
          <a:srcRect l="17898" t="5901" r="17757" b="11481"/>
          <a:stretch/>
        </p:blipFill>
        <p:spPr>
          <a:xfrm>
            <a:off x="2843280" y="260280"/>
            <a:ext cx="6300720" cy="62708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виды хромасомных мутаций"/>
          <p:cNvPicPr/>
          <p:nvPr/>
        </p:nvPicPr>
        <p:blipFill>
          <a:blip r:embed="rId1"/>
          <a:srcRect l="6640" t="3927" r="4750" b="11417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Виды хромосомных мута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цитоплазмотическая мутация"/>
          <p:cNvPicPr/>
          <p:nvPr/>
        </p:nvPicPr>
        <p:blipFill>
          <a:blip r:embed="rId1"/>
          <a:srcRect l="14683" t="10536" r="15203" b="15586"/>
          <a:stretch/>
        </p:blipFill>
        <p:spPr>
          <a:xfrm>
            <a:off x="1258920" y="1268280"/>
            <a:ext cx="6985080" cy="55198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250920" y="333360"/>
            <a:ext cx="8569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Цитоплазматическая му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Близкородственные вид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и роды благодаря сходству генотипов обладаю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и сходством наследственной изменчивос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395280" y="260280"/>
            <a:ext cx="8424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кон гомологических рядов 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следственной изменчивости.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араграф 30, 31, ответить на вопро-сы №1, 2, 5 на странице 119-123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*задание №3 страница 122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* презентация на тему «Наследст-венная изменчивость человека»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4000" y="2349000"/>
            <a:ext cx="708804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533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знать о видах наследственной изменчивости, их материальной основ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ь значение её для эволюции, селекции и медиц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395280" y="620640"/>
            <a:ext cx="849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следственная изменчивость.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Сравнение модификационной и мутационной изменчив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95280" y="1623960"/>
          <a:ext cx="8507520" cy="5235480"/>
        </p:xfrm>
        <a:graphic>
          <a:graphicData uri="http://schemas.openxmlformats.org/drawingml/2006/table">
            <a:tbl>
              <a:tblPr/>
              <a:tblGrid>
                <a:gridCol w="3313080"/>
                <a:gridCol w="2735280"/>
                <a:gridCol w="2459160"/>
              </a:tblGrid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ификационная изменчив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ледственная изменчив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ть я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та поя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ут ли наследоват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рим свои 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таблица сравнение модификаций"/>
          <p:cNvPicPr/>
          <p:nvPr/>
        </p:nvPicPr>
        <p:blipFill>
          <a:blip r:embed="rId1">
            <a:lum bright="-6000"/>
          </a:blip>
          <a:srcRect l="4998" t="7879" r="35810" b="8484"/>
          <a:stretch/>
        </p:blipFill>
        <p:spPr>
          <a:xfrm>
            <a:off x="1332000" y="981000"/>
            <a:ext cx="6553080" cy="58770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омбинативная изменчив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учайная комбинация генов в генотип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Биол"/>
          <p:cNvPicPr/>
          <p:nvPr/>
        </p:nvPicPr>
        <p:blipFill>
          <a:blip r:embed="rId1"/>
          <a:srcRect l="15333" t="5464" r="15409" b="19581"/>
          <a:stretch/>
        </p:blipFill>
        <p:spPr>
          <a:xfrm>
            <a:off x="1908000" y="1557360"/>
            <a:ext cx="5546880" cy="50529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таблица источники изменчивости"/>
          <p:cNvPicPr/>
          <p:nvPr/>
        </p:nvPicPr>
        <p:blipFill>
          <a:blip r:embed="rId1"/>
          <a:srcRect l="2215" t="14390" r="2181" b="186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тации – внезапно возникающие стойкие изменения генов и хромосом, передающиеся по наслед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пример мутации"/>
          <p:cNvPicPr/>
          <p:nvPr/>
        </p:nvPicPr>
        <p:blipFill>
          <a:blip r:embed="rId1"/>
          <a:stretch/>
        </p:blipFill>
        <p:spPr>
          <a:xfrm>
            <a:off x="1476360" y="971640"/>
            <a:ext cx="6408720" cy="58863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2340000" y="620640"/>
            <a:ext cx="4753080" cy="1079640"/>
          </a:xfrm>
          <a:prstGeom prst="rect">
            <a:avLst/>
          </a:prstGeom>
          <a:solidFill>
            <a:srgbClr val="ff99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ханизм мута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684360" y="2349360"/>
            <a:ext cx="2808000" cy="936720"/>
          </a:xfrm>
          <a:prstGeom prst="rect">
            <a:avLst/>
          </a:prstGeom>
          <a:solidFill>
            <a:srgbClr val="ff99cc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ом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одят к измен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а хромос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684360" y="3789360"/>
            <a:ext cx="2808000" cy="1512720"/>
          </a:xfrm>
          <a:prstGeom prst="rect">
            <a:avLst/>
          </a:prstGeom>
          <a:solidFill>
            <a:srgbClr val="ff99cc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аны с измен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клеотидов молеку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5580000" y="2276640"/>
            <a:ext cx="2808360" cy="936360"/>
          </a:xfrm>
          <a:prstGeom prst="rect">
            <a:avLst/>
          </a:prstGeom>
          <a:solidFill>
            <a:srgbClr val="ff99cc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омосом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аны с  измен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ы хромос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5580000" y="3860640"/>
            <a:ext cx="2808360" cy="1440000"/>
          </a:xfrm>
          <a:prstGeom prst="rect">
            <a:avLst/>
          </a:prstGeom>
          <a:solidFill>
            <a:srgbClr val="ff99cc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топлазма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 изме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НК клеточ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оидов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стид, митохондр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 flipH="1">
            <a:off x="2123640" y="1700280"/>
            <a:ext cx="1871640" cy="64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 flipH="1">
            <a:off x="3492000" y="1700280"/>
            <a:ext cx="863640" cy="30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4356000" y="1773360"/>
            <a:ext cx="1224000" cy="29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3"/>
          <p:cNvSpPr/>
          <p:nvPr/>
        </p:nvSpPr>
        <p:spPr>
          <a:xfrm>
            <a:off x="4859280" y="1700280"/>
            <a:ext cx="223380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Bookman Old Style"/>
              </a:rPr>
              <a:t>Примеры хромосомных мутац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болезнь Дауна"/>
          <p:cNvPicPr/>
          <p:nvPr/>
        </p:nvPicPr>
        <p:blipFill>
          <a:blip r:embed="rId1"/>
          <a:srcRect l="4318" t="3829" r="5902" b="10571"/>
          <a:stretch/>
        </p:blipFill>
        <p:spPr>
          <a:xfrm>
            <a:off x="1403280" y="1760400"/>
            <a:ext cx="7128000" cy="50976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2:26:44Z</dcterms:created>
  <dc:creator>User</dc:creator>
  <dc:description/>
  <dc:language>en-US</dc:language>
  <cp:lastModifiedBy>LEGION</cp:lastModifiedBy>
  <dcterms:modified xsi:type="dcterms:W3CDTF">2015-11-27T10:45:04Z</dcterms:modified>
  <cp:revision>16</cp:revision>
  <dc:subject/>
  <dc:title>Наследственная изменчивость. Цели: Узнать о видах наследственной изменчивости, их материальной основе, определить значение её для эволюции и селекции. </dc:title>
</cp:coreProperties>
</file>