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9.jpeg" ContentType="image/jpeg"/>
  <Override PartName="/ppt/media/image11.jpeg" ContentType="image/jpeg"/>
  <Override PartName="/ppt/media/image7.png" ContentType="image/png"/>
  <Override PartName="/ppt/media/image1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4.png" ContentType="image/png"/>
  <Override PartName="/ppt/media/image2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7.jpeg" ContentType="image/jpeg"/>
  <Override PartName="/ppt/media/image1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D1290-1DD9-43FB-8E56-8B543F6B4C61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крытосеменные или цветковые раст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к в 6 класс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БУ СОШ №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. Пойков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итель химии и биоло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нийчук Ирина Иванов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крытосеменные или цветковые раст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к в 6 класс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БУ СОШ №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. Пойков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итель химии и биоло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нийчук Ирина Иванов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мена лотоса орехоносного, обнаруженные в 1951 г. в Японии, в торфяном болоте на глубине 5,5 м, находились в лодке, принадлежащей человеку каменного века. После извлечения их из торфа они проросли, причем лотосы нормально развивались и цвели. Захоронение этих семян в торфе без доступа кислорода способ­ствовало сохранению их жизнеспособности. Радиоуглеродный анализ показал, что им было не менее 10400 л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мена лотоса орехоносного, обнаруженные в 1951 г. в Японии, в торфяном болоте на глубине 5,5 м, находились в лодке, принадлежащей человеку каменного века. После извлечения их из торфа они проросли, причем лотосы нормально развивались и цвели. Захоронение этих семян в торфе без доступа кислорода способ­ствовало сохранению их жизнеспособности. Радиоуглеродный анализ показал, что им было не менее 10400 л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ые крупные клубни (видоизмененные подземные побеги) - у растения азиатский ямс. Клубни окультуренного ямса достигают 50 кг. Они употребляются в пищу и напоминают по вкусу картофел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ые крупные клубни (видоизмененные подземные побеги) - у растения азиатский ямс. Клубни окультуренного ямса достигают 50 кг. Они употребляются в пищу и напоминают по вкусу картофел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ым высоким цветковым растением является эвкалипт царственный (известны два самых высоких экземпляра: 99,4 м и 98,1 м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ым высоким цветковым растением является эвкалипт царственный (известны два самых высоких экземпляра: 99,4 м и 98,1 м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ым «жароустойчивым» сухопутным растением является верблюжья колючка. Она выносит температуру до +70 °С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ым «жароустойчивым» сухопутным растением является верблюжья колючка. Она выносит температуру до +70 °С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беги березы и тополя, напротив, отличаются большой холодостойкостью. Они способны выдерживать охлаждение до -196 °С. Черенки черной смородины выдерживают охлаждение до -253 °С, не теряя мосле оттаивания способности к укоренению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беги березы и тополя, напротив, отличаются большой холодостойкостью. Они способны выдерживать охлаждение до -196 °С. Черенки черной смородины выдерживают охлаждение до -253 °С, не теряя мосле оттаивания способности к укоренению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ой большой скоростью роста обладает один из родственников бамбука - злак листоколосник съедобный, в диком виде встречающийся на юге Китая. Ежесуточный прирост побегов этого растения достигает 40 см, то есть оно вырастает на 1,7 см в час. Всего за несколько месяцев злак вырастает на 30-метровую высоту; достигая 50 см в диаметр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ой большой скоростью роста обладает один из родственников бамбука - злак листоколосник съедобный, в диком виде встречающийся на юге Китая. Ежесуточный прирост побегов этого растения достигает 40 см, то есть оно вырастает на 1,7 см в час. Всего за несколько месяцев злак вырастает на 30-метровую высоту; достигая 50 см в диаметр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дивительные деревья. Тюльпанное дерево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го цветки напоминают степные тюльпаны, только они зеленоватой окраски с крупным оранжевым пятном у основания. Его родина - восточные штаты Северной Америки, где деревья могут достигать 70 м высоты и до 3,5 м в диаметре. Из древесины изготавливают музыкальные инструменты, используют ее для отделки салонов автомобилей. Кора обладает лекарственными свойств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дивительные деревья. Тюльпанное дерево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го цветки напоминают степные тюльпаны, только они зеленоватой окраски с крупным оранжевым пятном у основания. Его родина - восточные штаты Северной Америки, где деревья могут достигать 70 м высоты и до 3,5 м в диаметре. Из древесины изготавливают музыкальные инструменты, используют ее для отделки салонов автомобилей. Кора обладает лекарственными свойств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фетное дерев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его ветках растут «конфетки» - веточки-плодоножки коричневого цвета, причудливо изогнутые, чуть тоньше карандаша. Они содержат до 40 % фруктозы, очень сладкие и по вкусу близки к изюму. Настоящие же плоды конфетного дерева мелкие и жестк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фетное дерев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его ветках растут «конфетки» - веточки-плодоножки коричневого цвета, причудливо изогнутые, чуть тоньше карандаша. Они содержат до 40 % фруктозы, очень сладкие и по вкусу близки к изюму. Настоящие же плоды конфетного дерева мелкие и жестк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емляничное дере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го плоды внешне действительно напоминают плоды земляники - они ярко- красные, с мелкобугорчатой поверхностью. Плоды земляничного дерева съедобны, они сочные и сладкие. Из них готовят варенье, вино, ликер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емляничное дере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го плоды внешне действительно напоминают плоды земляники - они ярко- красные, с мелкобугорчатой поверхностью. Плоды земляничного дерева съедобны, они сочные и сладкие. Из них готовят варенье, вино, ликер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гуречное дерев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йствительно является родственником настоящего огурца, тыквы и т. д. Это единственное древесное растение в семействе. Произрастает огуречное дерево на затерянном в Индийском океане острове Сокотра у восточного побережья Афри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гуречное дерев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йствительно является родственником настоящего огурца, тыквы и т. д. Это единственное древесное растение в семействе. Произрастает огуречное дерево на затерянном в Индийском океане острове Сокотра у восточного побережья Афри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покрытосеменных характерно наличие следующих органо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рень, побег, цветок, плод с семен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и органы разнообразны по строению и выполняемым функция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способительные признаки покрытосеменных вырабатывались многие тысячелетия под влиянием различных условий сред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покрытосеменных характерно наличие следующих органо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рень, побег, цветок, плод с семен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и органы разнообразны по строению и выполняемым функция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способительные признаки покрытосеменных вырабатывались многие тысячелетия под влиянием различных условий сред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лочные деревь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тут в Южной Америке, они выделяют млечный сок. Сок содержит воду, растительный воск, сахар, немного смол. Он более густой и вязкий, чем настоящее молоко, обладает бальзамическим ароматом. «Молоко» не портится в течение педели даже в тропиках, хорошо смешивается с водой, не сворачивается. Местное население использует его в качестве заменителя коровьего молока, называя растение деревом-коров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лочные деревь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тут в Южной Америке, они выделяют млечный сок. Сок содержит воду, растительный воск, сахар, немного смол. Он более густой и вязкий, чем настоящее молоко, обладает бальзамическим ароматом. «Молоко» не портится в течение педели даже в тропиках, хорошо смешивается с водой, не сворачивается. Местное население использует его в качестве заменителя коровьего молока, называя растение деревом-коров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репление изученног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ие растения называют покрытосеменным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чему их называют цветковым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чему они занимают господствующее положение на Земл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покрытосеменные приспособлены к условиям обитани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ую роль в жизни человека играют эти растени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репление изученног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ие растения называют покрытосеменным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чему их называют цветковым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чему они занимают господствующее положение на Земл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покрытосеменные приспособлены к условиям обитани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ую роль в жизни человека играют эти растени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ашнее задание: § 17; вопросы в конце параграф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ашнее задание: § 17; вопросы в конце параграф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чни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ебник для 6 класса "Биология: Бактерии. Грибы. Растения" , М.: Дрофа, 20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.Е. Буяло, Т.М. Васютина «Уроки биологии» пособие для учителя «Учебная книга» – Богдан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pedsovet.su/ шаблон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ндекс - картин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чни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ебник для 6 класса "Биология: Бактерии. Грибы. Растения" , М.: Дрофа, 20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.Е. Буяло, Т.М. Васютина «Уроки биологии» пособие для учителя «Учебная книга» – Богдан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pedsovet.su/ шаблон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ндекс - картин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воды: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лько покрытосеменные имеют цветок, из которого образуется плод с семенами. Плод покрывает семена, защищая их от неблагоприятных условий, поэтому растения и назвали покрытосеменны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покрытосеменных характерно наличие хорошо развитых органов: корня и побега (стебля, листьев); наблюдается большое разнообразие этих органов по строению и выполняемым функция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покрытосеменных характерна хорошо развитая проводящая система, обеспечивающая быстрое передвижение веществ в растен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покрытосеменных характерно не только семенное, но и вегетативное размножение, что обеспечивает их быстрое распростран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воды: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лько покрытосеменные имеют цветок, из которого образуется плод с семенами. Плод покрывает семена, защищая их от неблагоприятных условий, поэтому растения и назвали покрытосеменны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покрытосеменных характерно наличие хорошо развитых органов: корня и побега (стебля, листьев); наблюдается большое разнообразие этих органов по строению и выполняемым функция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покрытосеменных характерна хорошо развитая проводящая система, обеспечивающая быстрое передвижение веществ в растен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покрытосеменных характерно не только семенное, но и вегетативное размножение, что обеспечивает их быстрое распростран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изненные формы растений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рмин «жизненная форма» в отношении растений был предложен в 80-х гг. прошлого века датским ботаником Варминг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рминг подразумевал под понятием жизненная форма «...форму, в которой вегетативное тело растения находится в гармонии с внешней средой в течение всей его жизни, от семени до отмирания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изненные формы растений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рмин «жизненная форма» в отношении растений был предложен в 80-х гг. прошлого века датским ботаником Варминг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рминг подразумевал под понятием жизненная форма «...форму, в которой вегетативное тело растения находится в гармонии с внешней средой в течение всей его жизни, от семени до отмирания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сификация жизненных форм растений по Серебряков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ревесные расте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ревья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устарник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устарнич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земные трав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ноголетние травы, цветут много раз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нолетние трав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живут один год или несколько лет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ветут один раз и отмирают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сификация жизненных форм растений по Серебряков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ревесные расте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ревья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устарник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устарнич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земные трав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ноголетние травы, цветут много раз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нолетние трав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живут один год или несколько лет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ветут один раз и отмирают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корды растительного ми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ым «толстым» деревом считается африканский баобаб - до 49 м в диаметре. Однако диаметр у обычного съедобного европейского каштана, растущего на горе Этна в Сицилии, в 1845 г. был 20,4 м, то есть 64 м в обхвате! Возраст его оценивался в 3600-4000 ле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корды растительного ми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ым «толстым» деревом считается африканский баобаб - до 49 м в диаметре. Однако диаметр у обычного съедобного европейского каштана, растущего на горе Этна в Сицилии, в 1845 г. был 20,4 м, то есть 64 м в обхвате! Возраст его оценивался в 3600-4000 ле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ое маленькое цветковое растение на Земл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льфия бескорневая (семейство Рясковые), встречающаяся в пресных водоемах Австралии и тропиках Старого Света. Крошечный листочек вольфии имеет диаметр 0,5-2 м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ое маленькое цветковое растение на Земл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льфия бескорневая (семейство Рясковые), встречающаяся в пресных водоемах Австралии и тропиках Старого Света. Крошечный листочек вольфии имеет диаметр 0,5-2 м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ые крупные соцвет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ыми крупными соцветиями обладает пальма корифа зонтичная, растущая в Юго-Восточной Азии и на острове Шри-Ланка. Высота её соцветия достигает 6 м, а число цветков в соцветии - полумиллио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ые крупные соцвет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ыми крупными соцветиями обладает пальма корифа зонтичная, растущая в Юго-Восточной Азии и на острове Шри-Ланка. Высота её соцветия достигает 6 м, а число цветков в соцветии - полумиллио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ые мелкие среди цветковых растений семена имеет парази- тическое растение заразиха. Масса одного семени составляет всего одну стомиллионную долю грамм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ые мелкие среди цветковых растений семена имеет парази- тическое растение заразиха. Масса одного семени составляет всего одну стомиллионную долю грамм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8BC5C-4DB7-4C15-84A4-DF42F2B5F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2B597-B7E2-4DCA-A625-221D281AF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C30E8-F0F9-4405-A3C9-E2055D39D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0B1B4-E1E9-41D5-A67A-99EB358C9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E6864-61F2-4636-9231-D3F9FA2D8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DB9E2-8F6E-4EAB-BC10-30F8A89FD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26573-1240-43D8-A953-5493D500E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A2171-A0A3-45B2-9A7F-4F33B5B8D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410C8-7D84-4A67-8757-F35722A33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4BDF4-2363-41A5-AF7D-606873D02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83A67-43E7-461D-8ED9-0D921A186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8F7B6-5C9A-480E-91E6-F4E92C3AD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322F3-353F-4E30-AF09-458B461AB19D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D46B2-036E-43DB-9BEB-A2C1C9E9133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pedsovet.su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66880" y="1958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окрытосеменные или цветковые растения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771640" y="5589360"/>
            <a:ext cx="3921120" cy="5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Урок в 6 класс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4" descr="C:\Users\Пользователь\Desktop\63833722_Orhideya01.jpg"/>
          <p:cNvPicPr/>
          <p:nvPr/>
        </p:nvPicPr>
        <p:blipFill>
          <a:blip r:embed="rId1"/>
          <a:stretch/>
        </p:blipFill>
        <p:spPr>
          <a:xfrm>
            <a:off x="3492360" y="3429000"/>
            <a:ext cx="2522520" cy="2054160"/>
          </a:xfrm>
          <a:prstGeom prst="rect">
            <a:avLst/>
          </a:prstGeom>
          <a:ln w="0">
            <a:noFill/>
          </a:ln>
        </p:spPr>
      </p:pic>
      <p:sp>
        <p:nvSpPr>
          <p:cNvPr id="51" name="TextBox 1"/>
          <p:cNvSpPr/>
          <p:nvPr/>
        </p:nvSpPr>
        <p:spPr>
          <a:xfrm>
            <a:off x="1908000" y="608040"/>
            <a:ext cx="5977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МОБУ СОШ № 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п. Пойковски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Учитель химии и биологи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Линийчук Ирина Ивановн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ut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539280" y="69228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емена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 лотоса орехоносного,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обнаруженные в 1951 г. в Японии, в торфяном болоте на глубине 5,5 м, находились в лодке, принадлежащей человеку каменного века. После извлечения их из торфа они проросли, причем лотосы нормально развивались и цвели. Захоронение этих семян в торфе без доступа кислорода способ­ствовало сохранению их жизнеспособности. Радиоуглеродный анализ показал, что им было не менее 10400 лет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5" descr="C:\Users\Пользователь\Desktop\2.jpg"/>
          <p:cNvPicPr/>
          <p:nvPr/>
        </p:nvPicPr>
        <p:blipFill>
          <a:blip r:embed="rId1"/>
          <a:stretch/>
        </p:blipFill>
        <p:spPr>
          <a:xfrm>
            <a:off x="4419720" y="765000"/>
            <a:ext cx="3903480" cy="25927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6" descr="C:\Users\Пользователь\Desktop\lotos-1_large.jpg"/>
          <p:cNvPicPr/>
          <p:nvPr/>
        </p:nvPicPr>
        <p:blipFill>
          <a:blip r:embed="rId2"/>
          <a:stretch/>
        </p:blipFill>
        <p:spPr>
          <a:xfrm>
            <a:off x="5292720" y="3500280"/>
            <a:ext cx="2857680" cy="3086280"/>
          </a:xfrm>
          <a:prstGeom prst="rect">
            <a:avLst/>
          </a:prstGeom>
          <a:ln w="0">
            <a:noFill/>
          </a:ln>
        </p:spPr>
      </p:pic>
      <p:sp>
        <p:nvSpPr>
          <p:cNvPr id="8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ut thruBlk="true"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0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1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03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7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826920" y="764640"/>
            <a:ext cx="316872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амые крупные клубни (видоизмененные подземные побеги) - у растения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азиатский ямс.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Клубни окультуренного ямса достигают 50 кг. Они употребляются в пищу и напоминают по вкусу картофел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4" descr="C:\Users\Пользователь\Desktop\Dioscorea-alata-L..jpg"/>
          <p:cNvPicPr/>
          <p:nvPr/>
        </p:nvPicPr>
        <p:blipFill>
          <a:blip r:embed="rId1"/>
          <a:stretch/>
        </p:blipFill>
        <p:spPr>
          <a:xfrm>
            <a:off x="4716360" y="692280"/>
            <a:ext cx="3570480" cy="5545080"/>
          </a:xfrm>
          <a:prstGeom prst="rect">
            <a:avLst/>
          </a:prstGeom>
          <a:ln w="0">
            <a:noFill/>
          </a:ln>
        </p:spPr>
      </p:pic>
      <p:sp>
        <p:nvSpPr>
          <p:cNvPr id="9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0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611280" y="981000"/>
            <a:ext cx="3456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амым высоким цветковым растением является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 эвкалипт царственный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(известны два самых высоких экземпляра: 99,4 м и 98,1 м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4" descr="C:\Users\Пользователь\Desktop\0_62beb_90072faa_XL.jpg"/>
          <p:cNvPicPr/>
          <p:nvPr/>
        </p:nvPicPr>
        <p:blipFill>
          <a:blip r:embed="rId1"/>
          <a:stretch/>
        </p:blipFill>
        <p:spPr>
          <a:xfrm>
            <a:off x="4356000" y="981000"/>
            <a:ext cx="3940200" cy="4830840"/>
          </a:xfrm>
          <a:prstGeom prst="rect">
            <a:avLst/>
          </a:prstGeom>
          <a:ln w="0">
            <a:noFill/>
          </a:ln>
        </p:spPr>
      </p:pic>
      <p:sp>
        <p:nvSpPr>
          <p:cNvPr id="9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ut thruBlk="true"/>
  </p:transition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nodeType="clickEffect" fill="hold">
                      <p:stCondLst>
                        <p:cond delay="0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468360" y="620640"/>
            <a:ext cx="8229600" cy="17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амым «жароустойчивым» сухопутным растением является 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верблюжья колючка.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Она выносит температуру до +70 °С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4" descr="C:\Users\Пользователь\Desktop\111.jpg"/>
          <p:cNvPicPr/>
          <p:nvPr/>
        </p:nvPicPr>
        <p:blipFill>
          <a:blip r:embed="rId1"/>
          <a:stretch/>
        </p:blipFill>
        <p:spPr>
          <a:xfrm>
            <a:off x="1692360" y="2205000"/>
            <a:ext cx="5832360" cy="3875040"/>
          </a:xfrm>
          <a:prstGeom prst="rect">
            <a:avLst/>
          </a:prstGeom>
          <a:ln w="0">
            <a:noFill/>
          </a:ln>
        </p:spPr>
      </p:pic>
      <p:sp>
        <p:nvSpPr>
          <p:cNvPr id="9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0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1" dur="1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611280" y="549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беги березы и тополя, напротив, отличаются большой холодостойкостью. Они способны выдерживать охлаждение до -196 °С. Черенки черной смородины выдерживают охлаждение до -253 °С, не теряя мосле оттаивания способности к укоренению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4" descr="C:\Users\Пользователь\Desktop\0_970a9_ed952eaf_orig.jpg"/>
          <p:cNvPicPr/>
          <p:nvPr/>
        </p:nvPicPr>
        <p:blipFill>
          <a:blip r:embed="rId1"/>
          <a:stretch/>
        </p:blipFill>
        <p:spPr>
          <a:xfrm>
            <a:off x="1042920" y="2565360"/>
            <a:ext cx="2649600" cy="35276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7" descr=""/>
          <p:cNvPicPr/>
          <p:nvPr/>
        </p:nvPicPr>
        <p:blipFill>
          <a:blip r:embed="rId2"/>
          <a:stretch/>
        </p:blipFill>
        <p:spPr>
          <a:xfrm>
            <a:off x="4356000" y="2852640"/>
            <a:ext cx="3705480" cy="2718000"/>
          </a:xfrm>
          <a:prstGeom prst="rect">
            <a:avLst/>
          </a:prstGeom>
          <a:ln w="0">
            <a:noFill/>
          </a:ln>
        </p:spPr>
      </p:pic>
      <p:sp>
        <p:nvSpPr>
          <p:cNvPr id="10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0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7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59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62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684000" y="4221000"/>
            <a:ext cx="7724520" cy="23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амой большой скоростью роста обладает один из родственников бамбука - злак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 листоколосник съедобный,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в диком виде встречающийся на юге Китая. Ежесуточный прирост побегов этого растения достигает 40 см, то есть оно вырастает на 1,7 см в час. Всего за несколько месяцев злак вырастает на 30-метровую высоту; достигая 50 см в диаметр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4" descr="C:\Users\Пользователь\Desktop\Bamboo.jpg"/>
          <p:cNvPicPr/>
          <p:nvPr/>
        </p:nvPicPr>
        <p:blipFill>
          <a:blip r:embed="rId1"/>
          <a:stretch/>
        </p:blipFill>
        <p:spPr>
          <a:xfrm>
            <a:off x="1908000" y="765000"/>
            <a:ext cx="5034240" cy="3335400"/>
          </a:xfrm>
          <a:prstGeom prst="rect">
            <a:avLst/>
          </a:prstGeom>
          <a:ln w="0">
            <a:noFill/>
          </a:ln>
        </p:spPr>
      </p:pic>
      <p:sp>
        <p:nvSpPr>
          <p:cNvPr id="10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0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69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24000" y="1052640"/>
            <a:ext cx="8229600" cy="63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"/>
              </a:rPr>
              <a:t>Удивительные деревья. Тюльпанное дерево.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39280" y="1700280"/>
            <a:ext cx="3754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Его цветки напоминают степные тюльпаны, только они зеленоватой окраски с крупным оранжевым пятном у основания. Его родина - восточные штаты Северной Америки, где деревья могут достигать 70 м высоты и до 3,5 м в диаметре. Из древесины изготавливают музыкальные инструменты, используют ее для отделки салонов автомобилей. Кора обладает лекарственными свойствам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4" descr="C:\Users\Пользователь\Desktop\020.jpg"/>
          <p:cNvPicPr/>
          <p:nvPr/>
        </p:nvPicPr>
        <p:blipFill>
          <a:blip r:embed="rId1"/>
          <a:stretch/>
        </p:blipFill>
        <p:spPr>
          <a:xfrm>
            <a:off x="4284720" y="1989000"/>
            <a:ext cx="3909960" cy="3818160"/>
          </a:xfrm>
          <a:prstGeom prst="rect">
            <a:avLst/>
          </a:prstGeom>
          <a:ln w="0">
            <a:noFill/>
          </a:ln>
        </p:spPr>
      </p:pic>
      <p:sp>
        <p:nvSpPr>
          <p:cNvPr id="10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nodeType="clickEffect" fill="hold">
                      <p:stCondLst>
                        <p:cond delay="0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82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6" dur="1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0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"/>
              </a:rPr>
              <a:t>Конфетное дерево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 его ветках растут «конфетки» - веточки-плодоножки коричневого цвета, причудливо изогнутые, чуть тоньше карандаша. Они содержат до 40 % фруктозы, очень сладкие и по вкусу близки к изюму. Настоящие же плоды конфетного дерева мелкие и жестки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Picture 4" descr="C:\Users\Пользователь\Desktop\ghtojgwywb.png"/>
          <p:cNvPicPr/>
          <p:nvPr/>
        </p:nvPicPr>
        <p:blipFill>
          <a:blip r:embed="rId1"/>
          <a:stretch/>
        </p:blipFill>
        <p:spPr>
          <a:xfrm>
            <a:off x="1979640" y="2924280"/>
            <a:ext cx="5067360" cy="3184560"/>
          </a:xfrm>
          <a:prstGeom prst="rect">
            <a:avLst/>
          </a:prstGeom>
          <a:ln w="0">
            <a:noFill/>
          </a:ln>
        </p:spPr>
      </p:pic>
      <p:sp>
        <p:nvSpPr>
          <p:cNvPr id="11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nodeType="clickEffect" fill="hold">
                      <p:stCondLst>
                        <p:cond delay="0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1" dur="1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03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05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"/>
              </a:rPr>
              <a:t>Земляничное дерев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599840"/>
            <a:ext cx="8229600" cy="13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Его плоды внешне действительно напоминают плоды земляники - они ярко- красные, с мелкобугорчатой поверхностью. Плоды земляничного дерева съедобны, они сочные и сладкие. Из них готовят варенье, вино, ликеры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Picture 5" descr="C:\Users\Пользователь\Desktop\878f78b0e235337ddc97ecbb99547438.jpg"/>
          <p:cNvPicPr/>
          <p:nvPr/>
        </p:nvPicPr>
        <p:blipFill>
          <a:blip r:embed="rId1"/>
          <a:stretch/>
        </p:blipFill>
        <p:spPr>
          <a:xfrm>
            <a:off x="2556000" y="3068640"/>
            <a:ext cx="3925800" cy="2946240"/>
          </a:xfrm>
          <a:prstGeom prst="rect">
            <a:avLst/>
          </a:prstGeom>
          <a:ln w="0">
            <a:noFill/>
          </a:ln>
        </p:spPr>
      </p:pic>
      <p:sp>
        <p:nvSpPr>
          <p:cNvPr id="11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ut thruBlk="true"/>
  </p:transition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nodeType="clickEffect" fill="hold">
                      <p:stCondLst>
                        <p:cond delay="0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22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"/>
              </a:rPr>
              <a:t>Огуречное дерево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68360" y="1197000"/>
            <a:ext cx="8229600" cy="161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ействительно является родственником настоящего огурца, тыквы и т. д. Это единственное древесное растение в семействе. Произрастает огуречное дерево на затерянном в Индийском океане острове Сокотра у восточного побережья Африки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4" descr="C:\Users\Пользователь\Desktop\Bilimbi.jpg"/>
          <p:cNvPicPr/>
          <p:nvPr/>
        </p:nvPicPr>
        <p:blipFill>
          <a:blip r:embed="rId1"/>
          <a:stretch/>
        </p:blipFill>
        <p:spPr>
          <a:xfrm>
            <a:off x="2124000" y="2708280"/>
            <a:ext cx="4470480" cy="3405240"/>
          </a:xfrm>
          <a:prstGeom prst="rect">
            <a:avLst/>
          </a:prstGeom>
          <a:ln w="0">
            <a:noFill/>
          </a:ln>
        </p:spPr>
      </p:pic>
      <p:sp>
        <p:nvSpPr>
          <p:cNvPr id="12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nodeType="clickEffect" fill="hold">
                      <p:stCondLst>
                        <p:cond delay="0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29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1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3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Для покрытосеменных характерно наличие следующих органов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6840" y="1600200"/>
            <a:ext cx="4259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орень, побег, цветок, плод с семенам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Эти органы разнообразны по строению и выполняемым функция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испособительные признаки покрытосеменных вырабатывались многие тысячелетия под влиянием различных условий среды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5" descr="C:\Users\Пользователь\Desktop\670.jpg"/>
          <p:cNvPicPr/>
          <p:nvPr/>
        </p:nvPicPr>
        <p:blipFill>
          <a:blip r:embed="rId1"/>
          <a:stretch/>
        </p:blipFill>
        <p:spPr>
          <a:xfrm>
            <a:off x="4572000" y="1773360"/>
            <a:ext cx="3816360" cy="3468600"/>
          </a:xfrm>
          <a:prstGeom prst="rect">
            <a:avLst/>
          </a:prstGeom>
          <a:ln w="0">
            <a:noFill/>
          </a:ln>
        </p:spPr>
      </p:pic>
      <p:sp>
        <p:nvSpPr>
          <p:cNvPr id="5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0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1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" dur="10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10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"/>
              </a:rPr>
              <a:t>Молочные деревья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39640" y="98100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астут в Южной Америке, они выделяют млечный сок. Сок содержит воду, растительный воск, сахар, немного смол. Он более густой и вязкий, чем настоящее молоко, обладает бальзамическим ароматом. «Молоко» не портится в течение педели даже в тропиках, хорошо смешивается с водой, не сворачивается. Местное население использует его в качестве заменителя коровьего молока, называя растение деревом-корово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Picture 4" descr="C:\Users\Пользователь\Desktop\6.jpg"/>
          <p:cNvPicPr/>
          <p:nvPr/>
        </p:nvPicPr>
        <p:blipFill>
          <a:blip r:embed="rId1"/>
          <a:stretch/>
        </p:blipFill>
        <p:spPr>
          <a:xfrm>
            <a:off x="1258920" y="3141720"/>
            <a:ext cx="6469200" cy="2990880"/>
          </a:xfrm>
          <a:prstGeom prst="rect">
            <a:avLst/>
          </a:prstGeom>
          <a:ln w="0">
            <a:noFill/>
          </a:ln>
        </p:spPr>
      </p:pic>
      <p:sp>
        <p:nvSpPr>
          <p:cNvPr id="12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nodeType="clickEffect" fill="hold">
                      <p:stCondLst>
                        <p:cond delay="0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48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52" dur="1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55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Закрепление изученного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53964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кие растения называют покрытосеменными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чему их называют цветковыми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чему они занимают господствующее положение на Земле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к покрытосеменные приспособлены к условиям обитания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кую роль в жизни человека играют эти растения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0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7" dur="1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6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10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7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5" dur="10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9" dur="10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8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3" dur="10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Домашнее задание: § 17; вопросы в конце параграф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nodeType="clickEffect" fill="hold">
                      <p:stCondLst>
                        <p:cond delay="0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0" dur="1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Источники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чебник для 6 класса "Биология: Бактерии. Грибы. Растения" , М.: Дрофа, 201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.Е. Буяло, Т.М. Васютина «Уроки биологии» пособие для учителя «Учебная книга» – Богдан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pedsovet.su/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шаблон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Яндекс - картинк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2400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ыводы: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олько покрытосеменные имеют цветок, из которого образуется плод с семенами. Плод покрывает семена, защищая их от неблагоприятных условий, поэтому растения и назвали покрытосеменным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ля покрытосеменных характерно наличие хорошо развитых органов: корня и побега (стебля, листьев); наблюдается большое разнообразие этих органов по строению и выполняемым функциям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ля покрытосеменных характерна хорошо развитая проводящая система, обеспечивающая быстрое передвижение веществ в растени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ля покрытосеменных характерно не только семенное, но и вегетативное размножение, что обеспечивает их быстрое распространени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ut thruBlk="true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0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1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10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10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10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95280" y="765000"/>
            <a:ext cx="8229600" cy="70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"/>
              </a:rPr>
              <a:t>Жизненные формы растений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3240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ермин «жизненная форма» в отношении растений был предложен в 80-х гг. прошлого века датским ботаником Варминго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арминг подразумевал под понятием жизненная форма «...форму, в которой вегетативное тело растения находится в гармонии с внешней средой в течение всей его жизни, от семени до отмирания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ut thruBlk="true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0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1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10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лассификация жизненных форм растений по Серебрякову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ревесные растения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еревья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устарники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устарничк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земные травы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ноголетние травы, цветут много раз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днолетние травы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(живут один год или несколько лет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цветут один раз и отмирают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5" descr="C:\Users\Пользователь\Desktop\tree2.gif"/>
          <p:cNvPicPr/>
          <p:nvPr/>
        </p:nvPicPr>
        <p:blipFill>
          <a:blip r:embed="rId1"/>
          <a:stretch/>
        </p:blipFill>
        <p:spPr>
          <a:xfrm>
            <a:off x="4067280" y="1413000"/>
            <a:ext cx="1189080" cy="13428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C:\Users\Пользователь\Desktop\gard4-1-1.jpg"/>
          <p:cNvPicPr/>
          <p:nvPr/>
        </p:nvPicPr>
        <p:blipFill>
          <a:blip r:embed="rId2"/>
          <a:stretch/>
        </p:blipFill>
        <p:spPr>
          <a:xfrm>
            <a:off x="5580000" y="1484280"/>
            <a:ext cx="1536840" cy="11527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9" descr="C:\Users\Пользователь\Desktop\medherb038.jpg"/>
          <p:cNvPicPr/>
          <p:nvPr/>
        </p:nvPicPr>
        <p:blipFill>
          <a:blip r:embed="rId3"/>
          <a:stretch/>
        </p:blipFill>
        <p:spPr>
          <a:xfrm>
            <a:off x="7236000" y="1052640"/>
            <a:ext cx="1161720" cy="16621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0" descr="C:\Users\Пользователь\Desktop\trava1465.png"/>
          <p:cNvPicPr/>
          <p:nvPr/>
        </p:nvPicPr>
        <p:blipFill>
          <a:blip r:embed="rId4"/>
          <a:stretch/>
        </p:blipFill>
        <p:spPr>
          <a:xfrm>
            <a:off x="6156360" y="2997360"/>
            <a:ext cx="2104920" cy="15872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1" descr="C:\Users\Пользователь\Desktop\i (1).jpg"/>
          <p:cNvPicPr/>
          <p:nvPr/>
        </p:nvPicPr>
        <p:blipFill>
          <a:blip r:embed="rId5"/>
          <a:stretch/>
        </p:blipFill>
        <p:spPr>
          <a:xfrm>
            <a:off x="5796000" y="4508640"/>
            <a:ext cx="1952640" cy="1428480"/>
          </a:xfrm>
          <a:prstGeom prst="rect">
            <a:avLst/>
          </a:prstGeom>
          <a:ln w="0">
            <a:noFill/>
          </a:ln>
        </p:spPr>
      </p:pic>
      <p:sp>
        <p:nvSpPr>
          <p:cNvPr id="7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0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2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1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10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10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10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" dur="1000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" dur="1000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" dur="1000"/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1000"/>
                                        <p:tgtEl>
                                          <p:spTgt spid="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" dur="1000"/>
                                        <p:tgtEl>
                                          <p:spTgt spid="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5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9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2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"/>
              </a:rPr>
              <a:t>Рекорды растительного мира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539280" y="4724280"/>
            <a:ext cx="7859880" cy="11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амым «толстым» деревом считается африканский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 баобаб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- до 49 м в диаметре. Однако диаметр у обычного съедобного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 европейского каштана,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растущего на горе Этна в Сицилии, в 1845 г. был 20,4 м, то есть 64 м в обхвате! Возраст его оценивался в 3600-4000 лет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4" descr="C:\Users\Пользователь\Desktop\9.jpg"/>
          <p:cNvPicPr/>
          <p:nvPr/>
        </p:nvPicPr>
        <p:blipFill>
          <a:blip r:embed="rId1"/>
          <a:stretch/>
        </p:blipFill>
        <p:spPr>
          <a:xfrm>
            <a:off x="1547640" y="836640"/>
            <a:ext cx="5962680" cy="3968640"/>
          </a:xfrm>
          <a:prstGeom prst="rect">
            <a:avLst/>
          </a:prstGeom>
          <a:ln w="0">
            <a:noFill/>
          </a:ln>
        </p:spPr>
      </p:pic>
      <p:sp>
        <p:nvSpPr>
          <p:cNvPr id="7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ut thruBlk="true"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0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9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3" dur="1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6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амое маленькое цветковое растение на Земле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Вольфия бескорневая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(семейство Рясковые), встречающаяся в пресных водоемах Австралии и тропиках Старого Света. Крошечный листочек вольфии имеет диаметр 0,5-2 мм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5" descr="C:\Users\Пользователь\Desktop\volfiya-beskornevaya1.jpg"/>
          <p:cNvPicPr/>
          <p:nvPr/>
        </p:nvPicPr>
        <p:blipFill>
          <a:blip r:embed="rId1"/>
          <a:stretch/>
        </p:blipFill>
        <p:spPr>
          <a:xfrm>
            <a:off x="2050920" y="3141720"/>
            <a:ext cx="4762800" cy="3019320"/>
          </a:xfrm>
          <a:prstGeom prst="rect">
            <a:avLst/>
          </a:prstGeom>
          <a:ln w="0">
            <a:noFill/>
          </a:ln>
        </p:spPr>
      </p:pic>
      <p:sp>
        <p:nvSpPr>
          <p:cNvPr id="7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0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3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1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63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амые крупные соцветия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84000" y="1628640"/>
            <a:ext cx="3825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амыми крупными соцветиями обладает пальма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корифа зонтичная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, растущая в Юго-Восточной Азии и на острове Шри-Ланка. Высота её соцветия достигает 6 м, а число цветков в соцветии - полумиллион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4" descr="C:\Users\Пользователь\Desktop\Corypha umbraculifera.JPG"/>
          <p:cNvPicPr/>
          <p:nvPr/>
        </p:nvPicPr>
        <p:blipFill>
          <a:blip r:embed="rId1"/>
          <a:stretch/>
        </p:blipFill>
        <p:spPr>
          <a:xfrm>
            <a:off x="4788000" y="1557360"/>
            <a:ext cx="3492360" cy="4572000"/>
          </a:xfrm>
          <a:prstGeom prst="rect">
            <a:avLst/>
          </a:prstGeom>
          <a:ln w="0">
            <a:noFill/>
          </a:ln>
        </p:spPr>
      </p:pic>
      <p:sp>
        <p:nvSpPr>
          <p:cNvPr id="8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ut thruBlk="true"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0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0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4" dur="10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9280" y="83664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амые мелкие среди цветковых растений семена имеет парази- тическое растение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 заразиха.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Масса одного семени составляет всего одну стомиллионную долю грамм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5" descr="C:\Users\Пользователь\Desktop\Zarazixa4.JPG"/>
          <p:cNvPicPr/>
          <p:nvPr/>
        </p:nvPicPr>
        <p:blipFill>
          <a:blip r:embed="rId1"/>
          <a:stretch/>
        </p:blipFill>
        <p:spPr>
          <a:xfrm>
            <a:off x="4716360" y="836640"/>
            <a:ext cx="3506760" cy="4924440"/>
          </a:xfrm>
          <a:prstGeom prst="rect">
            <a:avLst/>
          </a:prstGeom>
          <a:ln w="0">
            <a:noFill/>
          </a:ln>
        </p:spPr>
      </p:pic>
      <p:sp>
        <p:nvSpPr>
          <p:cNvPr id="8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0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6" dur="1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0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9T15:29:49Z</dcterms:created>
  <dc:creator>Катенок</dc:creator>
  <dc:description/>
  <dc:language>en-US</dc:language>
  <cp:lastModifiedBy>LEGION</cp:lastModifiedBy>
  <dcterms:modified xsi:type="dcterms:W3CDTF">2015-11-27T10:44:52Z</dcterms:modified>
  <cp:revision>26</cp:revision>
  <dc:subject/>
  <dc:title>Презентация PowerPoint</dc:title>
</cp:coreProperties>
</file>