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2.wmf" ContentType="image/x-wmf"/>
  <Override PartName="/ppt/media/image20.jpeg" ContentType="image/jpe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5.wmf" ContentType="image/x-wmf"/>
  <Override PartName="/ppt/media/image14.jpeg" ContentType="image/jpeg"/>
  <Override PartName="/ppt/media/image4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18.wmf" ContentType="image/x-wmf"/>
  <Override PartName="/ppt/media/image36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27.jpeg" ContentType="image/jpeg"/>
  <Override PartName="/ppt/media/image13.wmf" ContentType="image/x-wmf"/>
  <Override PartName="/ppt/media/image5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DE4AA0-DB5F-49C7-AF3C-09252E387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ешествие  по  страницам Красной кни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5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утешествие  по  страницам Красной кни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гибающи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6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расн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огибающи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иний  к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6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ий  к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епа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7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Гепар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енерин  башмач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7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Венерин  башмач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от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Num" idx="7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Лот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т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дки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7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Желт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едки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мурский  т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7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Амурский  тиг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7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Мор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л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жур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7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л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журав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оизвестны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7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ер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Малоизвестны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ая  Красная  книга  издана  в  1963 году  и хранится в швейцарском городе Морх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6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Международная  Красная  книга  издана  в  1963 году  и хранится в швейцарском городе Морх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лоновая  черепа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7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лоновая  черепа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Жук-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7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Жук-ол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езающи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Num" idx="8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Быстро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исчезающи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Бел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лый 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Num" idx="8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лый  медвед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нежный  бар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8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нежный  ба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ламин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8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Фламин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тановленны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лён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Num" idx="8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осстановленны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елён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рый 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8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урый  медвед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8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Ол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уб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Num" idx="8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Зуб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ая  книга  СССР  была  издана  в  1978  году, а Красная  книга  РФ вышла  в  свет  в 2001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6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расная  книга  СССР  была  издана  в  1978  году, а Красная  книга  РФ вышла  в  свет  в 2001 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97 году издана Красная книга Республики Марий Э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8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1997 году издана Красная книга Республики Марий Э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БОРОДНИК  БЕЗЛИС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ЫЛЬЦЕГОЛОВ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НЕРИН БАШМАЧ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ТРЫШНИК ШЛЕМОВИ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sldNum" idx="8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ДБОРОДНИК  БЕЗЛИСТ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ЫЛЬЦЕГОЛОВН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ЕНЕРИН БАШМАЧ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ЯТРЫШНИК ШЛЕМОВИД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ОВИК КОРАЛЛОВИ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ЯНОЙ ОРЕ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Num" idx="9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ЕЖОВИК КОРАЛЛОВИД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ОДЯНОЙ ОРЕ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животных в Красную книгу занесена  выхухоль – небольшой водный зверек с красивым ценным мехом. Редким  стал и земляной заяц- мелкий зверек с укороченными  передними и длинными задними конеч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ХУХ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ЛЯНОЙ ЗА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Num" idx="9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Из животных в Красную книгу занесена  выхухоль – небольшой водный зверек с красивым ценным мехом. Редким  стал и земляной заяц- мелкий зверек с укороченными  передними и длинными задними конечност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ЫХУХО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ЕМЛЯНОЙ ЗАЯ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РУНД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ЫД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ЛКА-ЛЕТЯ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9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НОР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УРУНДУ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ВЫД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ЛКА-ЛЕТЯ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Л - БЕРК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МЕЕ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ЫЙ  А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ПС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9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РЕЛ - БЕРК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МЕЕЯ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РНЫЙ  АИС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АПС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АСИБО 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НИМАНИЕ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9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ПАСИБО 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ВНИМАНИЕ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6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ранствующий голу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6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транствующий голуб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еллерова ко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Num" idx="6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теллерова кор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ольшерогий 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6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ольшерогий  ол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аблезубый  т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6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аблезубый  тиг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скрылые  гага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6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скрылые  гагар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6FA4-93A9-42BB-A104-9A3313CA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34E-C866-4314-B207-EAC3FD34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E44-871B-4067-B03A-1F8D511A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E47C-E1DA-4588-9918-AA2E92F7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9FE3-5B81-4B04-8E8B-2850BAA4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7871-829E-4E90-8F64-6539DB4B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7F69-1D04-41DF-B454-F2AB94B4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424F-05B0-407E-9B26-E4567D28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E65A-FA5C-4E49-A35B-0C0707E4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C145-4CDD-40F9-9CF5-58539EA5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904E-BC62-4EA3-8C1F-320092E1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314-3D42-4440-8238-EADBD038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3EE6-8458-4D41-A61B-8AA8F74E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9E00-2F41-471C-A983-16836754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487A-EFA3-4DF7-9CED-97154022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9D24-A9D5-4F75-A30E-48AE64CF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B536-DC23-40F8-B141-6D4437C0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06697-7AA2-46A5-9CF9-E874FB80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3591D-B1A8-4254-AE03-F107E9D4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0FDAA-F661-49D4-9980-7AC2A809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BDC0D-D5DB-4FEE-80AB-2AF07489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1C9FD-5BDB-41D9-93CC-7E657AFA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DD3-497B-4331-B673-AAEC8CDD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F7380-0AC2-4C2E-B2F5-5DEA9638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05D75-8847-4780-A27C-3228AB3B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A56B9-FA0E-446A-958F-58EE97E1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5EDDF-BB00-47D0-B088-C5AB9727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B870B-7845-48BC-9F50-27E0BBF8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ED41D-B5B4-4C77-A1EE-1D61B520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0F002-D2AE-4D68-A40A-9543BE37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21490-2C19-4483-8A36-CF8B52CD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12E7E-092C-45C7-AC52-4D2845FC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D7A91-1B8F-4902-A634-7F284DDD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3CED-24CC-4140-8FB3-1AAFCBFA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41EFA-8659-43CD-AD59-1D6456AA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C0056-E735-400B-A956-68AE2372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DEA2C-7ED2-4F8B-97E4-B68BC872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CACA5-6FBA-4963-8FEA-6B313606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42709-54CF-4D7E-BC73-E1738328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D3665-EB72-41C7-B084-2C4B5684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EF555-D953-468E-902C-DFD2BA5D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1905D-7E8B-488F-9421-60C0C53A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94B2D-38E1-4140-8BFB-C9E1C17F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8B664-3A18-478A-B075-4D16783A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2E24-B0FE-4ABE-9F96-9B1545A4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36E74-DE82-4162-A7DB-791B954A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BDF0F-C809-4B40-9A8A-C9862486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551E2-7338-4130-B4C4-9E75A50E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0E093-8AD1-4780-9E3E-77978387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7D3F1-B5DB-4644-98A5-05C1B509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E08DD-0F0D-42BA-A20A-0383CA51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4ACFF-D273-414E-B17E-BF39FF34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EE4B3-739B-4846-9F46-47C76446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E3F3C-D592-4789-BBD2-4C8C5A7D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AE899-FF7B-41AF-B5B5-552DBF94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9039-48AD-4D87-BB55-B71C4B92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1BC34-CAD7-4165-AC52-B7CB9F53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31FAF-8942-4D24-9D5B-9BB7A213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5B237-C483-4AD7-8B0B-AB21D7D2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9F59E-9CAF-4D58-A883-46978E5E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9F315-AA7B-4094-9F8F-BA82270D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E5EA1-70A6-4CC1-A83D-6CEAC150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CB408-A6AB-4E65-BBE2-746AB903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20195-DCCC-4E6A-A83E-2A8500FD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117EC-1D85-4C82-A077-F04CA220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6238F-47B4-4B0A-A6EC-28CE20D5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5E1-8AB1-4521-B14A-69F0C156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0E06C-F1AA-4967-931E-A02D5304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52691-B323-4808-849B-8375EC9E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BAD8D-EF21-4800-9A6E-7B62B7C4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D08-2D5D-4B43-9AB1-FCDFE56D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88FC-9EEA-447A-B3CE-218B01EA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BDDC58-28D0-4BAA-9FF6-05C484F79D8F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47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392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917960" y="1905120"/>
            <a:ext cx="392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3A3995-BFE4-4A40-804D-9B7D4357511C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94E96D-FBC4-48A4-8B26-02E52512A195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975208-591D-4D8B-88BB-E3764DB7611D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3505320" y="616680"/>
            <a:ext cx="5028840" cy="3657240"/>
          </a:xfrm>
          <a:prstGeom prst="rect">
            <a:avLst/>
          </a:prstGeom>
          <a:solidFill>
            <a:srgbClr val="ffffff"/>
          </a:solidFill>
          <a:ln w="6480">
            <a:solidFill>
              <a:srgbClr val="f0a22e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авка рисунк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5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EBF3B5-78AA-4555-B0E1-1AC6DBD4814B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title"/>
          </p:nvPr>
        </p:nvSpPr>
        <p:spPr>
          <a:xfrm>
            <a:off x="380880" y="4993920"/>
            <a:ext cx="586692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body"/>
          </p:nvPr>
        </p:nvSpPr>
        <p:spPr>
          <a:xfrm>
            <a:off x="380880" y="5533200"/>
            <a:ext cx="5866920" cy="76788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500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34304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dt" idx="16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18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5885A8-3B97-42A4-9FC0-57EB9E4FE7A0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50;&#1088;&#1072;&#1089;&#1085;&#1072;&#1103;%20&#1082;&#1085;&#1080;&#1075;&#1072;%20&#1056;&#1077;&#1089;&#1087;&#1091;&#1073;&#1083;&#1080;&#1082;&#1080;%20&#1052;&#1072;&#1088;&#1080;&#1081;%20&#1069;&#1083;&amp;pos=10&amp;uinfo=sw-1226-sh-612-fw-1001-fh-448-pd-1&amp;rpt=simage&amp;img_url=http://www.mirknig.com/uploads/posts/2012-09/1347870737_krasnaya-kniga.jpg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82;&#1072;&#1088;&#1090;&#1080;&#1085;&#1082;&#1072;%20&#1085;&#1072;&#1076;&#1073;&#1086;&#1088;&#1086;&#1076;&#1085;&#1080;&#1082;%20&#1073;&#1077;&#1079;&#1083;&#1080;&#1089;&#1090;&#1085;&#1099;&#1081;&amp;noreask=1&amp;pos=6&amp;rpt=simage&amp;lr=41&amp;uinfo=sw-1226-sh-612-fw-1001-fh-448-pd-1&amp;img_url=http://serpregion.ru/im1/smena/nov/2011/january/redbookmo78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s.yandex.ru/yandsearch?text=&#1082;&#1072;&#1088;&#1090;&#1080;&#1085;&#1082;&#1072;%20&#1087;&#1099;&#1083;&#1100;&#1094;&#1077;&#1075;&#1086;&#1083;&#1086;&#1074;&#1085;&#1080;&#1082;&amp;pos=1&amp;uinfo=sw-1226-sh-612-fw-1001-fh-448-pd-1&amp;rpt=simage&amp;img_url=http://www.vashsad.ua/i/encyclopedia/218_159/9af2L6gE.jpg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images.yandex.ru/yandsearch?p=6&amp;text=&#1082;&#1072;&#1088;&#1090;&#1080;&#1085;&#1082;&#1072;%20&#1050;&#1088;&#1072;&#1089;&#1085;&#1072;&#1103;%20&#1082;&#1085;&#1080;&#1075;&#1072;%20&#1056;&#1077;&#1089;&#1087;&#1091;&#1073;&#1083;&#1080;&#1082;&#1080;%20&#1052;&#1072;&#1088;&#1080;&#1081;%20&#1069;&#1083;&amp;pos=200&amp;uinfo=sw-1226-sh-612-fw-1001-fh-448-pd-1&amp;rpt=simage&amp;img_url=http://img-fotki.yandex.ru/get/5210/pplatner.7b/0_52254_ffeefd18_XL" TargetMode="External"/><Relationship Id="rId6" Type="http://schemas.openxmlformats.org/officeDocument/2006/relationships/image" Target="../media/image36.jpeg"/><Relationship Id="rId7" Type="http://schemas.openxmlformats.org/officeDocument/2006/relationships/hyperlink" Target="http://images.yandex.ru/yandsearch?source=wiz&amp;text=&#1103;&#1090;&#1088;&#1099;&#1096;&#1085;&#1080;&#1082;%20&#1096;&#1083;&#1077;&#1084;&#1086;&#1074;&#1080;&#1076;&#1085;&#1099;&#1081;%20&#1092;&#1086;&#1090;&#1086;&amp;noreask=1&amp;pos=4&amp;rpt=simage&amp;lr=41&amp;uinfo=sw-1226-sh-612-fw-1001-fh-448-pd-1&amp;img_url=http://online-media.uni-marburg.de/biologie/nutzpflanzen/christian_gropp/Bilder/Orchis_militaris.jpg" TargetMode="External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8;&#1090;&#1080;&#1085;&#1082;&#1072;%20&#1077;&#1078;&#1086;&#1074;&#1080;&#1082;%20&#1082;&#1086;&#1088;&#1072;&#1083;&#1083;&#1086;&#1074;&#1080;&#1076;&#1085;&#1099;&#1081;&amp;pos=55&amp;uinfo=sw-1226-sh-612-fw-1001-fh-448-pd-1&amp;rpt=simage&amp;img_url=http://les-altai.narod.ru/images/4344.jpg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s.yandex.ru/yandsearch?text=&#1082;&#1072;&#1088;&#1090;&#1080;&#1085;&#1082;&#1072;%20&#1074;&#1086;&#1076;&#1103;&#1085;&#1086;&#1081;%20&#1086;&#1088;&#1077;&#1093;&amp;pos=4&amp;uinfo=sw-1226-sh-612-fw-1001-fh-448-pd-1&amp;rpt=simage&amp;img_url=http://www.stihi.ru/pics/2013/07/18/7708.jpg" TargetMode="External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74;&#1099;&#1093;&#1091;&#1093;&#1086;&#1083;&#1100;&amp;pos=5&amp;uinfo=sw-1226-sh-612-fw-1001-fh-448-pd-1&amp;rpt=simage&amp;img_url=http://pit.dirty.ru/d3/1/2006/06/08/9849-112008-e944f004ebb647a08fbe050b74b8a391.jpg" TargetMode="External"/><Relationship Id="rId2" Type="http://schemas.openxmlformats.org/officeDocument/2006/relationships/image" Target="../media/image40.jpeg"/><Relationship Id="rId3" Type="http://schemas.openxmlformats.org/officeDocument/2006/relationships/hyperlink" Target="http://images.yandex.ru/yandsearch?text=&#1082;&#1072;&#1088;&#1090;&#1080;&#1085;&#1082;&#1072;%20&#1079;&#1077;&#1084;&#1083;&#1103;&#1085;&#1086;&#1081;%20&#1079;&#1072;&#1103;&#1094;&amp;pos=0&amp;uinfo=sw-1226-sh-612-fw-1001-fh-448-pd-1&amp;rpt=simage&amp;img_url=http://club.foto.ru/gallery/images/photo/2010/08/07/1612930.jpg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64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77;&#1074;&#1088;&#1086;&#1087;&#1077;&#1081;&#1089;&#1082;&#1072;&#1103;%20&#1085;&#1086;&#1088;&#1082;&#1072;&amp;pos=3&amp;uinfo=sw-1226-sh-612-fw-1001-fh-448-pd-1&amp;rpt=simage&amp;img_url=http://www.zooclub.ru/attach/wild/461.jpg" TargetMode="External"/><Relationship Id="rId2" Type="http://schemas.openxmlformats.org/officeDocument/2006/relationships/image" Target="../media/image42.jpeg"/><Relationship Id="rId3" Type="http://schemas.openxmlformats.org/officeDocument/2006/relationships/hyperlink" Target="http://images.yandex.ru/yandsearch?text=&#1082;&#1072;&#1088;&#1090;&#1080;&#1085;&#1082;&#1072;%20&#1074;&#1099;&#1076;&#1088;&#1072;&amp;pos=7&amp;uinfo=sw-1226-sh-612-fw-1001-fh-448-pd-1&amp;rpt=simage&amp;img_url=http://www.floranimal.ru/pages/animal/v/92.jpg" TargetMode="External"/><Relationship Id="rId4" Type="http://schemas.openxmlformats.org/officeDocument/2006/relationships/image" Target="../media/image43.jpeg"/><Relationship Id="rId5" Type="http://schemas.openxmlformats.org/officeDocument/2006/relationships/hyperlink" Target="http://images.yandex.ru/yandsearch?text=&#1082;&#1072;&#1088;&#1090;&#1080;&#1085;&#1082;&#1072;%20&#1073;&#1091;&#1088;&#1091;&#1085;&#1076;&#1091;&#1082;&amp;pos=1&amp;uinfo=sw-1226-sh-612-fw-1001-fh-448-pd-1&amp;rpt=simage&amp;img_url=http://userserve-ak.last.fm/serve/34s/23891857.jpg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images.yandex.ru/yandsearch?text=&#1082;&#1072;&#1088;&#1090;&#1080;&#1085;&#1082;&#1072;%20&#1073;&#1077;&#1083;&#1082;&#1072;-&#1083;&#1077;&#1090;&#1103;&#1075;&#1072;&amp;pos=1&amp;uinfo=sw-1226-sh-612-fw-1001-fh-448-pd-1&amp;rpt=simage&amp;img_url=http://www.rpnrb.ru/sopt/archiv/animals/333.jpg" TargetMode="External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86;&#1088;&#1077;&#1083;-&#1073;&#1077;&#1088;&#1082;&#1091;&#1090;&amp;pos=8&amp;uinfo=sw-1226-sh-612-fw-1001-fh-448-pd-1&amp;rpt=simage&amp;img_url=http://maxpark.com/static/u/photo/2589010399/s.jpg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images.yandex.ru/yandsearch?text=&#1082;&#1072;&#1088;&#1090;&#1080;&#1085;&#1082;&#1072;%20&#1079;&#1084;&#1077;&#1077;&#1103;&#1076;&amp;pos=8&amp;uinfo=sw-1226-sh-612-fw-1001-fh-448-pd-1&amp;rpt=simage&amp;img_url=http://i52.tinypic.com/s27h1l.jpg" TargetMode="External"/><Relationship Id="rId4" Type="http://schemas.openxmlformats.org/officeDocument/2006/relationships/image" Target="../media/image47.jpeg"/><Relationship Id="rId5" Type="http://schemas.openxmlformats.org/officeDocument/2006/relationships/hyperlink" Target="http://images.yandex.ru/yandsearch?text=&#1082;&#1072;&#1088;&#1090;&#1080;&#1085;&#1082;&#1072;%20&#1095;&#1077;&#1088;&#1085;&#1099;&#1081;%20&#1072;&#1080;&#1089;&#1090;&amp;pos=5&amp;uinfo=sw-1226-sh-612-fw-1001-fh-448-pd-1&amp;rpt=simage&amp;img_url=http://img1.liveinternet.ru/images/attach/c/2/73/475/73475485_3858368_fekete_golya_1.jpg" TargetMode="External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6&amp;text=&#1082;&#1072;&#1088;&#1090;&#1080;&#1085;&#1082;&#1080;%20&#1078;&#1080;&#1074;&#1086;&#1090;&#1085;&#1099;&#1093;%20&#1080;&#1079;%20%20&#1050;&#1088;&#1072;&#1089;&#1085;&#1086;&#1081;%20&#1082;&#1085;&#1080;&#1075;&#1080;%20&#1084;&#1080;&#1088;&#1088;&#1072;&amp;pos=191&amp;uinfo=sw-1206-sh-605-fw-981-fh-448-pd-1&amp;rpt=simage&amp;img_url=http://900igr.net/datas/okruzhajuschij-mir/ZHivotnye-Krasnoj-knigi/0018-018-Zapomni.jpg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46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 cap="all">
                <a:solidFill>
                  <a:srgbClr val="ff0000"/>
                </a:solidFill>
                <a:latin typeface="Book Antiqua"/>
              </a:rPr>
              <a:t>Путешествие  по  страницам Красной книги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971640" y="4292640"/>
            <a:ext cx="7632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endParaRPr b="1" lang="ru-RU" sz="2800" spc="-1" strike="noStrike">
              <a:solidFill>
                <a:srgbClr val="f65116"/>
              </a:solidFill>
              <a:latin typeface="Arial"/>
            </a:endParaRPr>
          </a:p>
        </p:txBody>
      </p:sp>
      <p:pic>
        <p:nvPicPr>
          <p:cNvPr id="276" name="Рисунок 2" descr=""/>
          <p:cNvPicPr/>
          <p:nvPr/>
        </p:nvPicPr>
        <p:blipFill>
          <a:blip r:embed="rId1"/>
          <a:stretch/>
        </p:blipFill>
        <p:spPr>
          <a:xfrm>
            <a:off x="2643120" y="2652840"/>
            <a:ext cx="4705920" cy="42048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2"/>
          <p:cNvSpPr>
            <a:spLocks noGrp="1"/>
          </p:cNvSpPr>
          <p:nvPr>
            <p:ph type="ftr" idx="2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Box 2"/>
          <p:cNvSpPr/>
          <p:nvPr/>
        </p:nvSpPr>
        <p:spPr>
          <a:xfrm>
            <a:off x="2340000" y="2133720"/>
            <a:ext cx="2015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сн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4932360" y="2133720"/>
            <a:ext cx="2376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гибающи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ftr" idx="3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Рисунок 1" descr=""/>
          <p:cNvPicPr/>
          <p:nvPr/>
        </p:nvPicPr>
        <p:blipFill>
          <a:blip r:embed="rId1"/>
          <a:stretch/>
        </p:blipFill>
        <p:spPr>
          <a:xfrm>
            <a:off x="900000" y="333720"/>
            <a:ext cx="7343280" cy="550764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1060560" y="5950080"/>
            <a:ext cx="7200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ний  к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Рисунок 1" descr=""/>
          <p:cNvPicPr/>
          <p:nvPr/>
        </p:nvPicPr>
        <p:blipFill>
          <a:blip r:embed="rId1"/>
          <a:stretch/>
        </p:blipFill>
        <p:spPr>
          <a:xfrm>
            <a:off x="827640" y="263160"/>
            <a:ext cx="7515000" cy="571248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"/>
          <p:cNvSpPr/>
          <p:nvPr/>
        </p:nvSpPr>
        <p:spPr>
          <a:xfrm>
            <a:off x="989280" y="5976000"/>
            <a:ext cx="7079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па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ftr" idx="3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1" descr=""/>
          <p:cNvPicPr/>
          <p:nvPr/>
        </p:nvPicPr>
        <p:blipFill>
          <a:blip r:embed="rId1"/>
          <a:stretch/>
        </p:blipFill>
        <p:spPr>
          <a:xfrm>
            <a:off x="827640" y="335160"/>
            <a:ext cx="7344360" cy="5508360"/>
          </a:xfrm>
          <a:prstGeom prst="rect">
            <a:avLst/>
          </a:prstGeom>
          <a:ln w="0">
            <a:noFill/>
          </a:ln>
        </p:spPr>
      </p:pic>
      <p:sp>
        <p:nvSpPr>
          <p:cNvPr id="315" name="TextBox 2"/>
          <p:cNvSpPr/>
          <p:nvPr/>
        </p:nvSpPr>
        <p:spPr>
          <a:xfrm>
            <a:off x="1152000" y="5886720"/>
            <a:ext cx="6695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нерин  башмач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ftr" idx="3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Рисунок 1" descr=""/>
          <p:cNvPicPr/>
          <p:nvPr/>
        </p:nvPicPr>
        <p:blipFill>
          <a:blip r:embed="rId1"/>
          <a:stretch/>
        </p:blipFill>
        <p:spPr>
          <a:xfrm>
            <a:off x="611280" y="428760"/>
            <a:ext cx="7949880" cy="4968360"/>
          </a:xfrm>
          <a:prstGeom prst="rect">
            <a:avLst/>
          </a:prstGeom>
          <a:ln w="0">
            <a:noFill/>
          </a:ln>
        </p:spPr>
      </p:pic>
      <p:sp>
        <p:nvSpPr>
          <p:cNvPr id="318" name="TextBox 2"/>
          <p:cNvSpPr/>
          <p:nvPr/>
        </p:nvSpPr>
        <p:spPr>
          <a:xfrm>
            <a:off x="1116000" y="5732640"/>
            <a:ext cx="6624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от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Объект 1"/>
          <p:cNvGraphicFramePr/>
          <p:nvPr/>
        </p:nvGraphicFramePr>
        <p:xfrm>
          <a:off x="539640" y="692280"/>
          <a:ext cx="8152920" cy="52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92280"/>
                    <a:ext cx="8152920" cy="52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Box 2"/>
          <p:cNvSpPr/>
          <p:nvPr/>
        </p:nvSpPr>
        <p:spPr>
          <a:xfrm>
            <a:off x="2411280" y="2246400"/>
            <a:ext cx="18712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Желт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"/>
          <p:cNvSpPr/>
          <p:nvPr/>
        </p:nvSpPr>
        <p:spPr>
          <a:xfrm>
            <a:off x="5292720" y="2297160"/>
            <a:ext cx="2015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Редки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ftr" idx="3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1" descr=""/>
          <p:cNvPicPr/>
          <p:nvPr/>
        </p:nvPicPr>
        <p:blipFill>
          <a:blip r:embed="rId1"/>
          <a:stretch/>
        </p:blipFill>
        <p:spPr>
          <a:xfrm>
            <a:off x="902520" y="204480"/>
            <a:ext cx="7338600" cy="5788080"/>
          </a:xfrm>
          <a:prstGeom prst="rect">
            <a:avLst/>
          </a:prstGeom>
          <a:ln w="0">
            <a:noFill/>
          </a:ln>
        </p:spPr>
      </p:pic>
      <p:sp>
        <p:nvSpPr>
          <p:cNvPr id="326" name="TextBox 2"/>
          <p:cNvSpPr/>
          <p:nvPr/>
        </p:nvSpPr>
        <p:spPr>
          <a:xfrm>
            <a:off x="1332000" y="5918760"/>
            <a:ext cx="6479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мурский  тиг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ftr" idx="3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1" descr=""/>
          <p:cNvPicPr/>
          <p:nvPr/>
        </p:nvPicPr>
        <p:blipFill>
          <a:blip r:embed="rId1"/>
          <a:stretch/>
        </p:blipFill>
        <p:spPr>
          <a:xfrm>
            <a:off x="539640" y="478800"/>
            <a:ext cx="8064360" cy="5022360"/>
          </a:xfrm>
          <a:prstGeom prst="rect">
            <a:avLst/>
          </a:prstGeom>
          <a:ln w="0">
            <a:noFill/>
          </a:ln>
        </p:spPr>
      </p:pic>
      <p:sp>
        <p:nvSpPr>
          <p:cNvPr id="329" name="TextBox 2"/>
          <p:cNvSpPr/>
          <p:nvPr/>
        </p:nvSpPr>
        <p:spPr>
          <a:xfrm>
            <a:off x="2124000" y="5589720"/>
            <a:ext cx="5111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р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Рисунок 1" descr=""/>
          <p:cNvPicPr/>
          <p:nvPr/>
        </p:nvPicPr>
        <p:blipFill>
          <a:blip r:embed="rId1"/>
          <a:stretch/>
        </p:blipFill>
        <p:spPr>
          <a:xfrm>
            <a:off x="895320" y="260280"/>
            <a:ext cx="4624200" cy="6165360"/>
          </a:xfrm>
          <a:prstGeom prst="rect">
            <a:avLst/>
          </a:prstGeom>
          <a:ln w="0">
            <a:noFill/>
          </a:ln>
        </p:spPr>
      </p:pic>
      <p:sp>
        <p:nvSpPr>
          <p:cNvPr id="332" name="TextBox 2"/>
          <p:cNvSpPr/>
          <p:nvPr/>
        </p:nvSpPr>
        <p:spPr>
          <a:xfrm>
            <a:off x="6012000" y="4797360"/>
            <a:ext cx="2663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урав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ftr" idx="3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TextBox 2"/>
          <p:cNvSpPr/>
          <p:nvPr/>
        </p:nvSpPr>
        <p:spPr>
          <a:xfrm>
            <a:off x="2411640" y="2205000"/>
            <a:ext cx="208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р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4519080" y="2205000"/>
            <a:ext cx="3024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лоизвестны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ftr" idx="4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357120" y="4500720"/>
            <a:ext cx="857232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chemeClr val="accent4">
                    <a:lumMod val="50000"/>
                  </a:schemeClr>
                </a:solidFill>
                <a:latin typeface="Franklin Gothic Book"/>
              </a:rPr>
              <a:t>Международная  Красная  книга  издана  в  1963 году  и хранится в швейцарском городе Морхе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9" name="Picture 10" descr=""/>
          <p:cNvPicPr/>
          <p:nvPr/>
        </p:nvPicPr>
        <p:blipFill>
          <a:blip r:embed="rId1"/>
          <a:stretch/>
        </p:blipFill>
        <p:spPr>
          <a:xfrm>
            <a:off x="5619600" y="620640"/>
            <a:ext cx="2916000" cy="3436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"/>
          <p:cNvPicPr/>
          <p:nvPr/>
        </p:nvPicPr>
        <p:blipFill>
          <a:blip r:embed="rId2"/>
          <a:stretch/>
        </p:blipFill>
        <p:spPr>
          <a:xfrm>
            <a:off x="683640" y="773640"/>
            <a:ext cx="4174920" cy="31309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2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Рисунок 1" descr=""/>
          <p:cNvPicPr/>
          <p:nvPr/>
        </p:nvPicPr>
        <p:blipFill>
          <a:blip r:embed="rId1"/>
          <a:stretch/>
        </p:blipFill>
        <p:spPr>
          <a:xfrm>
            <a:off x="899640" y="333360"/>
            <a:ext cx="7271640" cy="541728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"/>
          <p:cNvSpPr/>
          <p:nvPr/>
        </p:nvSpPr>
        <p:spPr>
          <a:xfrm>
            <a:off x="1787400" y="5732640"/>
            <a:ext cx="6119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новая  черепа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Рисунок 1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03640" cy="494964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1800360" y="5732640"/>
            <a:ext cx="5616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ук-ол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ftr" idx="4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Box 2"/>
          <p:cNvSpPr/>
          <p:nvPr/>
        </p:nvSpPr>
        <p:spPr>
          <a:xfrm>
            <a:off x="5148000" y="2421000"/>
            <a:ext cx="2880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Быстр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исчезающи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3"/>
          <p:cNvSpPr/>
          <p:nvPr/>
        </p:nvSpPr>
        <p:spPr>
          <a:xfrm>
            <a:off x="2411280" y="2421000"/>
            <a:ext cx="1944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Бел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ftr" idx="4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1" descr=""/>
          <p:cNvPicPr/>
          <p:nvPr/>
        </p:nvPicPr>
        <p:blipFill>
          <a:blip r:embed="rId1"/>
          <a:stretch/>
        </p:blipFill>
        <p:spPr>
          <a:xfrm>
            <a:off x="611640" y="189000"/>
            <a:ext cx="7810920" cy="56314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2"/>
          <p:cNvSpPr/>
          <p:nvPr/>
        </p:nvSpPr>
        <p:spPr>
          <a:xfrm>
            <a:off x="1332000" y="5877000"/>
            <a:ext cx="6768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лый  ме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Рисунок 1" descr=""/>
          <p:cNvPicPr/>
          <p:nvPr/>
        </p:nvPicPr>
        <p:blipFill>
          <a:blip r:embed="rId1"/>
          <a:stretch/>
        </p:blipFill>
        <p:spPr>
          <a:xfrm>
            <a:off x="750240" y="405000"/>
            <a:ext cx="7787880" cy="5006520"/>
          </a:xfrm>
          <a:prstGeom prst="rect">
            <a:avLst/>
          </a:prstGeom>
          <a:ln w="0">
            <a:noFill/>
          </a:ln>
        </p:spPr>
      </p:pic>
      <p:sp>
        <p:nvSpPr>
          <p:cNvPr id="354" name="TextBox 2"/>
          <p:cNvSpPr/>
          <p:nvPr/>
        </p:nvSpPr>
        <p:spPr>
          <a:xfrm>
            <a:off x="1403280" y="5732640"/>
            <a:ext cx="6481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нежный  ба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ftr" idx="4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1" descr=""/>
          <p:cNvPicPr/>
          <p:nvPr/>
        </p:nvPicPr>
        <p:blipFill>
          <a:blip r:embed="rId1"/>
          <a:stretch/>
        </p:blipFill>
        <p:spPr>
          <a:xfrm>
            <a:off x="844200" y="404640"/>
            <a:ext cx="7485120" cy="5346360"/>
          </a:xfrm>
          <a:prstGeom prst="rect">
            <a:avLst/>
          </a:prstGeom>
          <a:ln w="0">
            <a:noFill/>
          </a:ln>
        </p:spPr>
      </p:pic>
      <p:sp>
        <p:nvSpPr>
          <p:cNvPr id="357" name="TextBox 2"/>
          <p:cNvSpPr/>
          <p:nvPr/>
        </p:nvSpPr>
        <p:spPr>
          <a:xfrm>
            <a:off x="1382400" y="5877360"/>
            <a:ext cx="6408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ламин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ftr" idx="4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Box 2"/>
          <p:cNvSpPr/>
          <p:nvPr/>
        </p:nvSpPr>
        <p:spPr>
          <a:xfrm>
            <a:off x="4428000" y="2423880"/>
            <a:ext cx="32414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Восстановленны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2411280" y="2349360"/>
            <a:ext cx="1942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Зелён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"/>
          <p:cNvPicPr/>
          <p:nvPr/>
        </p:nvPicPr>
        <p:blipFill>
          <a:blip r:embed="rId1"/>
          <a:stretch/>
        </p:blipFill>
        <p:spPr>
          <a:xfrm>
            <a:off x="683640" y="411120"/>
            <a:ext cx="7774920" cy="54320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2"/>
          <p:cNvSpPr/>
          <p:nvPr/>
        </p:nvSpPr>
        <p:spPr>
          <a:xfrm>
            <a:off x="1862280" y="5877000"/>
            <a:ext cx="619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урый  ме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ftr" idx="4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1" descr=""/>
          <p:cNvPicPr/>
          <p:nvPr/>
        </p:nvPicPr>
        <p:blipFill>
          <a:blip r:embed="rId1"/>
          <a:stretch/>
        </p:blipFill>
        <p:spPr>
          <a:xfrm>
            <a:off x="827640" y="2667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368" name="TextBox 2"/>
          <p:cNvSpPr/>
          <p:nvPr/>
        </p:nvSpPr>
        <p:spPr>
          <a:xfrm>
            <a:off x="1620000" y="5991480"/>
            <a:ext cx="604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л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ftr" idx="4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1" descr=""/>
          <p:cNvPicPr/>
          <p:nvPr/>
        </p:nvPicPr>
        <p:blipFill>
          <a:blip r:embed="rId1"/>
          <a:stretch/>
        </p:blipFill>
        <p:spPr>
          <a:xfrm>
            <a:off x="587520" y="260640"/>
            <a:ext cx="8112240" cy="5544360"/>
          </a:xfrm>
          <a:prstGeom prst="rect">
            <a:avLst/>
          </a:prstGeom>
          <a:ln w="0">
            <a:noFill/>
          </a:ln>
        </p:spPr>
      </p:pic>
      <p:sp>
        <p:nvSpPr>
          <p:cNvPr id="371" name="TextBox 2"/>
          <p:cNvSpPr/>
          <p:nvPr/>
        </p:nvSpPr>
        <p:spPr>
          <a:xfrm>
            <a:off x="1619640" y="5949360"/>
            <a:ext cx="604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уб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1" descr=""/>
          <p:cNvPicPr/>
          <p:nvPr/>
        </p:nvPicPr>
        <p:blipFill>
          <a:blip r:embed="rId1"/>
          <a:stretch/>
        </p:blipFill>
        <p:spPr>
          <a:xfrm>
            <a:off x="683640" y="188640"/>
            <a:ext cx="3601800" cy="45111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2"/>
          <p:cNvSpPr/>
          <p:nvPr/>
        </p:nvSpPr>
        <p:spPr>
          <a:xfrm>
            <a:off x="167760" y="4663080"/>
            <a:ext cx="89758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Красная  книга  СССР  была  издана  в  1978  году, а Красная  книга  РФ вышла  в  свет  в 2001 г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1" descr=""/>
          <p:cNvPicPr/>
          <p:nvPr/>
        </p:nvPicPr>
        <p:blipFill>
          <a:blip r:embed="rId2"/>
          <a:stretch/>
        </p:blipFill>
        <p:spPr>
          <a:xfrm>
            <a:off x="5292000" y="166680"/>
            <a:ext cx="3166560" cy="44334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ftr" idx="2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57120" y="457200"/>
            <a:ext cx="8634240" cy="16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800" spc="-1" strike="noStrike" cap="all">
                <a:solidFill>
                  <a:srgbClr val="4e3b30"/>
                </a:solidFill>
                <a:latin typeface="Franklin Gothic Medium"/>
              </a:rPr>
              <a:t>В 1997 году издана Красная книга Республики Марий Эл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Содержимое 3" descr="http://presidentusa.ru/images/referat_vosstanie_emelyana_pugacheva_1363_1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4840" y="2357280"/>
            <a:ext cx="3499920" cy="3928680"/>
          </a:xfrm>
          <a:prstGeom prst="rect">
            <a:avLst/>
          </a:prstGeom>
          <a:ln w="9525">
            <a:noFill/>
          </a:ln>
        </p:spPr>
      </p:pic>
      <p:sp>
        <p:nvSpPr>
          <p:cNvPr id="375" name="PlaceHolder 2"/>
          <p:cNvSpPr>
            <a:spLocks noGrp="1"/>
          </p:cNvSpPr>
          <p:nvPr>
            <p:ph type="ftr" idx="51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1" descr="http://serpregion.ru/im1/smena/nov/2011/january/redbookmo7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14200"/>
            <a:ext cx="3857400" cy="2999880"/>
          </a:xfrm>
          <a:prstGeom prst="rect">
            <a:avLst/>
          </a:prstGeom>
          <a:ln w="9525">
            <a:noFill/>
          </a:ln>
        </p:spPr>
      </p:pic>
      <p:pic>
        <p:nvPicPr>
          <p:cNvPr id="377" name="Рисунок 2" descr="http://www.vashsad.ua/i/encyclopedia/218_159/9af2L6g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6200" y="214200"/>
            <a:ext cx="4071600" cy="2999880"/>
          </a:xfrm>
          <a:prstGeom prst="rect">
            <a:avLst/>
          </a:prstGeom>
          <a:ln w="9525">
            <a:noFill/>
          </a:ln>
        </p:spPr>
      </p:pic>
      <p:sp>
        <p:nvSpPr>
          <p:cNvPr id="378" name="TextBox 4"/>
          <p:cNvSpPr/>
          <p:nvPr/>
        </p:nvSpPr>
        <p:spPr>
          <a:xfrm>
            <a:off x="785880" y="2500200"/>
            <a:ext cx="3285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НАДБОРОДНИК  БЕЗЛИС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5"/>
          <p:cNvSpPr/>
          <p:nvPr/>
        </p:nvSpPr>
        <p:spPr>
          <a:xfrm>
            <a:off x="5072040" y="2428920"/>
            <a:ext cx="4071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ПЫЛЬЦЕГОЛО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Рисунок 7" descr="http://stat16.privet.ru/lr/0b072e5bc2328e05fbb37ad051304dd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20" y="3429000"/>
            <a:ext cx="3714480" cy="3428640"/>
          </a:xfrm>
          <a:prstGeom prst="rect">
            <a:avLst/>
          </a:prstGeom>
          <a:ln w="9525">
            <a:noFill/>
          </a:ln>
        </p:spPr>
      </p:pic>
      <p:sp>
        <p:nvSpPr>
          <p:cNvPr id="381" name="TextBox 8"/>
          <p:cNvSpPr/>
          <p:nvPr/>
        </p:nvSpPr>
        <p:spPr>
          <a:xfrm>
            <a:off x="357120" y="6072120"/>
            <a:ext cx="4285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ЕНЕРИН БАШМА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Рисунок 9" descr="http://online-media.uni-marburg.de/biologie/nutzpflanzen/christian_gropp/Bilder/Orchis_militaris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86200" y="3357720"/>
            <a:ext cx="4000320" cy="3499920"/>
          </a:xfrm>
          <a:prstGeom prst="rect">
            <a:avLst/>
          </a:prstGeom>
          <a:ln w="9525">
            <a:noFill/>
          </a:ln>
        </p:spPr>
      </p:pic>
      <p:sp>
        <p:nvSpPr>
          <p:cNvPr id="383" name="TextBox 10"/>
          <p:cNvSpPr/>
          <p:nvPr/>
        </p:nvSpPr>
        <p:spPr>
          <a:xfrm>
            <a:off x="4572000" y="6143760"/>
            <a:ext cx="457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ЯТРЫШНИК ШЛЕМОВИ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ftr" idx="5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8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Місце для зображення 4" descr="http://les-altai.narod.ru/images/434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0"/>
            <a:ext cx="4428720" cy="3928680"/>
          </a:xfrm>
          <a:prstGeom prst="rect">
            <a:avLst/>
          </a:prstGeom>
          <a:ln w="9525">
            <a:noFill/>
          </a:ln>
          <a:effectLst>
            <a:reflection algn="bl" blurRad="1000" dir="5400000" dist="900" endA="500" endPos="10000" rotWithShape="0" stA="49000" sy="-90000"/>
          </a:effectLst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4286160"/>
            <a:ext cx="6786360" cy="7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c00000"/>
                </a:solidFill>
                <a:latin typeface="Bookman Old Style"/>
              </a:rPr>
              <a:t>ЕЖОВИК КОРАЛЛОВИДНЫЙ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714840" y="4857840"/>
            <a:ext cx="5428800" cy="99972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5000"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ВОДЯНОЙ ОРЕХ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88" name="Рисунок 6" descr="http://www.stihi.ru/pics/2013/07/18/770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0"/>
            <a:ext cx="4142880" cy="4142880"/>
          </a:xfrm>
          <a:prstGeom prst="rect">
            <a:avLst/>
          </a:prstGeom>
          <a:ln w="9525">
            <a:noFill/>
          </a:ln>
        </p:spPr>
      </p:pic>
      <p:sp>
        <p:nvSpPr>
          <p:cNvPr id="389" name="PlaceHolder 3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47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c00000"/>
                </a:solidFill>
                <a:latin typeface="Franklin Gothic Medium"/>
              </a:rPr>
              <a:t>Из животных в Красную книгу занесена  выхухоль – небольшой водный зверек с красивым ценным мехом. Редким  стал и земляной заяц- мелкий зверек с укороченными  передними и длинными задними конечностями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Содержимое 4" descr="http://pit.dirty.ru/dirty/1/2010/03/30/1300-155057-41341d5ee8769d9cc4b0239b683a822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76240" y="2438280"/>
            <a:ext cx="3047760" cy="3047760"/>
          </a:xfrm>
          <a:prstGeom prst="rect">
            <a:avLst/>
          </a:prstGeom>
          <a:ln w="9525">
            <a:noFill/>
          </a:ln>
        </p:spPr>
      </p:pic>
      <p:pic>
        <p:nvPicPr>
          <p:cNvPr id="392" name="Содержимое 5" descr="http://club.foto.ru/gallery/images/photo/2010/08/07/161293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2230920"/>
            <a:ext cx="4343040" cy="3462480"/>
          </a:xfrm>
          <a:prstGeom prst="rect">
            <a:avLst/>
          </a:prstGeom>
          <a:ln w="9525">
            <a:noFill/>
          </a:ln>
        </p:spPr>
      </p:pic>
      <p:sp>
        <p:nvSpPr>
          <p:cNvPr id="393" name="TextBox 6"/>
          <p:cNvSpPr/>
          <p:nvPr/>
        </p:nvSpPr>
        <p:spPr>
          <a:xfrm>
            <a:off x="428760" y="5643720"/>
            <a:ext cx="3785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ЫХУХ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8"/>
          <p:cNvSpPr/>
          <p:nvPr/>
        </p:nvSpPr>
        <p:spPr>
          <a:xfrm>
            <a:off x="4786200" y="5857920"/>
            <a:ext cx="4000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ЕМЛЯНОЙ ЗАЯ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5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Місце для зображення 4" descr="http://www.zooclub.ru/attach/wild/461.jpg">
            <a:hlinkClick r:id="rId1"/>
          </p:cNvPr>
          <p:cNvPicPr/>
          <p:nvPr/>
        </p:nvPicPr>
        <p:blipFill>
          <a:blip r:embed="rId2"/>
          <a:srcRect l="0" t="11639" r="0" b="11639"/>
          <a:stretch/>
        </p:blipFill>
        <p:spPr>
          <a:xfrm>
            <a:off x="285840" y="285840"/>
            <a:ext cx="4208040" cy="3357360"/>
          </a:xfrm>
          <a:prstGeom prst="rect">
            <a:avLst/>
          </a:prstGeom>
          <a:ln w="9525">
            <a:noFill/>
          </a:ln>
          <a:effectLst>
            <a:reflection algn="bl" blurRad="1000" dir="5400000" dist="900" endA="500" endPos="10000" rotWithShape="0" stA="49000" sy="-90000"/>
          </a:effectLst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4993920"/>
            <a:ext cx="586692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20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80880" y="5533200"/>
            <a:ext cx="5866920" cy="76788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99" name="Рисунок 5" descr="http://biber.nm.ru/animal/mammalia/predator/kuniza/kuniza/lutr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2040" y="285840"/>
            <a:ext cx="3711960" cy="3214440"/>
          </a:xfrm>
          <a:prstGeom prst="rect">
            <a:avLst/>
          </a:prstGeom>
          <a:ln w="9525">
            <a:noFill/>
          </a:ln>
        </p:spPr>
      </p:pic>
      <p:pic>
        <p:nvPicPr>
          <p:cNvPr id="400" name="Рисунок 6" descr="http://gif-and-jpeg.ru/d/41357-2/jivotniy_mir2697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840" y="3714840"/>
            <a:ext cx="3928680" cy="3142800"/>
          </a:xfrm>
          <a:prstGeom prst="rect">
            <a:avLst/>
          </a:prstGeom>
          <a:ln w="9525">
            <a:noFill/>
          </a:ln>
        </p:spPr>
      </p:pic>
      <p:sp>
        <p:nvSpPr>
          <p:cNvPr id="401" name="TextBox 7"/>
          <p:cNvSpPr/>
          <p:nvPr/>
        </p:nvSpPr>
        <p:spPr>
          <a:xfrm>
            <a:off x="357120" y="2786040"/>
            <a:ext cx="2999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О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714240" y="6072120"/>
            <a:ext cx="3285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БУРУНД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9"/>
          <p:cNvSpPr/>
          <p:nvPr/>
        </p:nvSpPr>
        <p:spPr>
          <a:xfrm>
            <a:off x="6357960" y="2786040"/>
            <a:ext cx="27856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Д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Рисунок 10" descr="http://www.rpnrb.ru/sopt/archiv/animals/333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4920" y="3714840"/>
            <a:ext cx="4214520" cy="2857320"/>
          </a:xfrm>
          <a:prstGeom prst="rect">
            <a:avLst/>
          </a:prstGeom>
          <a:ln w="9525">
            <a:noFill/>
          </a:ln>
        </p:spPr>
      </p:pic>
      <p:sp>
        <p:nvSpPr>
          <p:cNvPr id="405" name="TextBox 11"/>
          <p:cNvSpPr/>
          <p:nvPr/>
        </p:nvSpPr>
        <p:spPr>
          <a:xfrm>
            <a:off x="6286680" y="5929200"/>
            <a:ext cx="264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ЕЛКА-ЛЕТЯ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5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1" descr="http://img01.chitalnya.ru/upload2/476/21563404193148016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14200"/>
            <a:ext cx="3857400" cy="3071520"/>
          </a:xfrm>
          <a:prstGeom prst="rect">
            <a:avLst/>
          </a:prstGeom>
          <a:ln w="9525">
            <a:noFill/>
          </a:ln>
        </p:spPr>
      </p:pic>
      <p:pic>
        <p:nvPicPr>
          <p:cNvPr id="408" name="Рисунок 3" descr="http://kireas.org/images/Circaetus%20gallicu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14200"/>
            <a:ext cx="4214520" cy="3142800"/>
          </a:xfrm>
          <a:prstGeom prst="rect">
            <a:avLst/>
          </a:prstGeom>
          <a:ln w="9525">
            <a:noFill/>
          </a:ln>
        </p:spPr>
      </p:pic>
      <p:pic>
        <p:nvPicPr>
          <p:cNvPr id="409" name="Рисунок 4" descr="http://girnyk.at.ua/chornij_lelek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320" y="3500280"/>
            <a:ext cx="3428640" cy="3071520"/>
          </a:xfrm>
          <a:prstGeom prst="rect">
            <a:avLst/>
          </a:prstGeom>
          <a:ln w="9525">
            <a:noFill/>
          </a:ln>
        </p:spPr>
      </p:pic>
      <p:sp>
        <p:nvSpPr>
          <p:cNvPr id="410" name="TextBox 6"/>
          <p:cNvSpPr/>
          <p:nvPr/>
        </p:nvSpPr>
        <p:spPr>
          <a:xfrm>
            <a:off x="357120" y="642960"/>
            <a:ext cx="20714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ОРЕЛ - БЕРК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4714920" y="571320"/>
            <a:ext cx="2071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МЕЕ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8"/>
          <p:cNvSpPr/>
          <p:nvPr/>
        </p:nvSpPr>
        <p:spPr>
          <a:xfrm>
            <a:off x="571320" y="3571920"/>
            <a:ext cx="1928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ЕРНЫЙ  А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Рисунок 9" descr="http://cdn.bolshoyvopros.ru/files/users/images/34/cb/34cb48310a3c74f918a8bdb84f8388e1.jpg"/>
          <p:cNvPicPr/>
          <p:nvPr/>
        </p:nvPicPr>
        <p:blipFill>
          <a:blip r:embed="rId7"/>
          <a:stretch/>
        </p:blipFill>
        <p:spPr>
          <a:xfrm>
            <a:off x="4572000" y="3500280"/>
            <a:ext cx="4214520" cy="3071520"/>
          </a:xfrm>
          <a:prstGeom prst="rect">
            <a:avLst/>
          </a:prstGeom>
          <a:ln w="9525">
            <a:noFill/>
          </a:ln>
        </p:spPr>
      </p:pic>
      <p:sp>
        <p:nvSpPr>
          <p:cNvPr id="414" name="TextBox 10"/>
          <p:cNvSpPr/>
          <p:nvPr/>
        </p:nvSpPr>
        <p:spPr>
          <a:xfrm>
            <a:off x="6786720" y="5786280"/>
            <a:ext cx="2356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САПС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ftr" idx="5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900igr.net/datas/okruzhajuschij-mir/ZHivotnye-Krasnoj-knigi/0018-018-Zapomn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14240"/>
            <a:ext cx="7043400" cy="52858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ftr" idx="5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1"/>
          <p:cNvSpPr/>
          <p:nvPr/>
        </p:nvSpPr>
        <p:spPr>
          <a:xfrm>
            <a:off x="0" y="857160"/>
            <a:ext cx="8857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СПАСИБО 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ВНИМАНИЕ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ftr" idx="5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Рисунок 1" descr=""/>
          <p:cNvPicPr/>
          <p:nvPr/>
        </p:nvPicPr>
        <p:blipFill>
          <a:blip r:embed="rId1"/>
          <a:stretch/>
        </p:blipFill>
        <p:spPr>
          <a:xfrm>
            <a:off x="233280" y="571320"/>
            <a:ext cx="8624880" cy="50716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ftr" idx="2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Рисунок 1" descr=""/>
          <p:cNvPicPr/>
          <p:nvPr/>
        </p:nvPicPr>
        <p:blipFill>
          <a:blip r:embed="rId1"/>
          <a:stretch/>
        </p:blipFill>
        <p:spPr>
          <a:xfrm>
            <a:off x="941040" y="260280"/>
            <a:ext cx="7297200" cy="5128200"/>
          </a:xfrm>
          <a:prstGeom prst="rect">
            <a:avLst/>
          </a:prstGeom>
          <a:ln w="0">
            <a:noFill/>
          </a:ln>
        </p:spPr>
      </p:pic>
      <p:sp>
        <p:nvSpPr>
          <p:cNvPr id="289" name="TextBox 2"/>
          <p:cNvSpPr/>
          <p:nvPr/>
        </p:nvSpPr>
        <p:spPr>
          <a:xfrm>
            <a:off x="785880" y="5643720"/>
            <a:ext cx="7714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анствующий голуб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Рисунок 1" descr=""/>
          <p:cNvPicPr/>
          <p:nvPr/>
        </p:nvPicPr>
        <p:blipFill>
          <a:blip r:embed="rId1"/>
          <a:stretch/>
        </p:blipFill>
        <p:spPr>
          <a:xfrm>
            <a:off x="820800" y="479880"/>
            <a:ext cx="7597440" cy="420552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"/>
          <p:cNvSpPr/>
          <p:nvPr/>
        </p:nvSpPr>
        <p:spPr>
          <a:xfrm>
            <a:off x="1428840" y="5072040"/>
            <a:ext cx="6143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еллерова ко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ftr" idx="2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1" descr=""/>
          <p:cNvPicPr/>
          <p:nvPr/>
        </p:nvPicPr>
        <p:blipFill>
          <a:blip r:embed="rId1"/>
          <a:stretch/>
        </p:blipFill>
        <p:spPr>
          <a:xfrm>
            <a:off x="1187640" y="358200"/>
            <a:ext cx="6657480" cy="55094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4"/>
          <p:cNvSpPr/>
          <p:nvPr/>
        </p:nvSpPr>
        <p:spPr>
          <a:xfrm>
            <a:off x="1452600" y="5880240"/>
            <a:ext cx="619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льшерогий  ол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ftr" idx="2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Рисунок 1" descr=""/>
          <p:cNvPicPr/>
          <p:nvPr/>
        </p:nvPicPr>
        <p:blipFill>
          <a:blip r:embed="rId1"/>
          <a:stretch/>
        </p:blipFill>
        <p:spPr>
          <a:xfrm>
            <a:off x="611640" y="1052640"/>
            <a:ext cx="7954560" cy="4509720"/>
          </a:xfrm>
          <a:prstGeom prst="rect">
            <a:avLst/>
          </a:prstGeom>
          <a:ln w="0">
            <a:noFill/>
          </a:ln>
        </p:spPr>
      </p:pic>
      <p:sp>
        <p:nvSpPr>
          <p:cNvPr id="298" name="TextBox 2"/>
          <p:cNvSpPr/>
          <p:nvPr/>
        </p:nvSpPr>
        <p:spPr>
          <a:xfrm>
            <a:off x="1015560" y="5833080"/>
            <a:ext cx="6913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блезубый  тиг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1" descr=""/>
          <p:cNvPicPr/>
          <p:nvPr/>
        </p:nvPicPr>
        <p:blipFill>
          <a:blip r:embed="rId1"/>
          <a:stretch/>
        </p:blipFill>
        <p:spPr>
          <a:xfrm>
            <a:off x="611280" y="343800"/>
            <a:ext cx="7848360" cy="4922640"/>
          </a:xfrm>
          <a:prstGeom prst="rect">
            <a:avLst/>
          </a:prstGeom>
          <a:ln w="0">
            <a:noFill/>
          </a:ln>
        </p:spPr>
      </p:pic>
      <p:sp>
        <p:nvSpPr>
          <p:cNvPr id="301" name="TextBox 2"/>
          <p:cNvSpPr/>
          <p:nvPr/>
        </p:nvSpPr>
        <p:spPr>
          <a:xfrm>
            <a:off x="826920" y="5516640"/>
            <a:ext cx="7416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скрылые  гага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ftr" idx="3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1103</TotalTime>
  <Application>LibreOffice/7.4.7.2$Linux_X86_64 LibreOffice_project/40$Build-2</Application>
  <AppVersion>15.0000</AppVersion>
  <Words>600</Words>
  <Paragraphs>276</Paragraphs>
  <Company>IPP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0:16:35Z</dcterms:created>
  <dc:creator>---</dc:creator>
  <dc:description/>
  <dc:language>en-US</dc:language>
  <cp:lastModifiedBy>LEGION</cp:lastModifiedBy>
  <dcterms:modified xsi:type="dcterms:W3CDTF">2015-11-27T10:46:36Z</dcterms:modified>
  <cp:revision>95</cp:revision>
  <dc:subject/>
  <dc:title>Красная книга Краснодарского кра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7</vt:r8>
  </property>
  <property fmtid="{D5CDD505-2E9C-101B-9397-08002B2CF9AE}" pid="3" name="PresentationFormat">
    <vt:lpwstr>Екран (4:3)</vt:lpwstr>
  </property>
  <property fmtid="{D5CDD505-2E9C-101B-9397-08002B2CF9AE}" pid="4" name="Slides">
    <vt:r8>37</vt:r8>
  </property>
</Properties>
</file>