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18.wmf" ContentType="image/x-wmf"/>
  <Override PartName="/ppt/media/image36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F9045-5262-497B-977B-885021548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ие  по  страницам Красной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утешествие  по  страницам Красной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6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гиб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6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ий  к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7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Гепар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7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7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Лот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т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7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Желт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едк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7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Амурски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7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Мор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7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рав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7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ер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алоизвест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ая  Красная  книга  издана  в  1963 году  и хранится в швейцарском городе Мор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еждународная  Красная  книга  издана  в  1963 году  и хранится в швейцарском городе Морх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7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лоновая  черепа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7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8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ыстр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счез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8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8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нежный  б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8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Фламин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лё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8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сстановлен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лё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8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8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8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Зуб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97 году издана Красная книга Республики 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8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1997 году издана Красная книга Республики Марий Э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ЫЛЬЦЕГОЛ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ЕРИН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РЫШНИК ШЛЕМ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8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ДБОРОДНИК  БЕЗЛИ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ЫЛЬЦЕГОЛОВН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ЯТРЫШНИК ШЛЕМ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ОВИК КОРАЛЛ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ЯНОЙ ОР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9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ЕЖОВИК КОРАЛЛ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ДЯНОЙ ОРЕ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НОЙ 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9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ЫХУХ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МЛЯНОЙ ЗА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УНД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КА-ЛЕТ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9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НОР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УНД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ЫД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КА-ЛЕТЯ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- БЕРК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ЫЙ  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П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9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РЕЛ - БЕРК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МЕЕЯ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РНЫЙ  А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ПС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9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ранствующий голуб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6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6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ольшерогий  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6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аблезубы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скрылые  гагар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383-570E-4790-A77F-BFBE58F4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23F-B278-4D07-9638-DEFF4878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BE7-54A2-454F-B4CB-D3F244C2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811-9F14-475E-9CF8-469491FB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82DB-A472-4CEA-AA56-F8058626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D238-E1DA-4746-A1F6-9ECC93F0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E357-8B63-43FF-A22C-683E1F98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3DC5-A463-4D8B-8EAD-C1E12AE4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28D3-5F65-4C53-AD55-33E60B0D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175B-2493-4A19-8BF5-8F171055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B8DE-F990-479C-B6B6-CD9CB7D8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60D-4901-43D1-8B61-3DBB8274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B011-731A-4E9E-815B-130ABF7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5340-8423-49E5-A049-5B5C9DF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57B9-8D7B-4A53-AEB8-225D5F74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650B-8D49-4817-9503-722FFF42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3E50-F037-415B-A8CC-831BB02E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046C-5FB1-4B91-8BE4-69466CDF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0F1E-6425-44A6-B828-110358D8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FB83-4F2C-49C7-BBD0-DFF7E8A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26B3-8B38-4A0C-954F-EF05C1C1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D68C-4C70-424E-A71A-80BCABC2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6FC-5962-4D43-9151-530848F9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A594-47CD-4502-8662-58042646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1C7E-48D9-40E8-9C5A-C331BD3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38D6-5C4C-4325-942C-1983BF9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6DE0-C115-49CA-8957-7F06B72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E990-7F7A-4C16-A5FA-E72E2742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CE25-955C-4727-BED3-166F67EB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75B55-0EA8-435D-9140-E2E84B2D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F6224-7873-487F-B8A7-FCBBCE7D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F44E-8E48-4923-8D07-AB2D0F57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3EEB-007E-47EC-A26D-FD9B5BB7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212-B316-43D4-B6E8-DE0C0422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A15D-A1FE-4FB3-8402-BA399548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85461-54E8-4A29-B0D8-73BBC0AB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8858-E242-4D4E-BA34-1F3539E7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A01E-A9EF-4541-A1A1-49050E6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6526-003F-4AEC-80B3-87D07AAB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5B7CE-371C-4BF5-8923-6002449A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37B6-EA7F-41F5-B2BC-C515CE19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2957-90EA-445D-B212-A73CD326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0FD9-3BCD-409C-A6E7-1F1BE8DF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2BD77-65EF-4D1E-8AAD-E06A446B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C9C-B758-4D92-98DF-243EACCF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58D1D-FECB-4CAB-8CEC-BC2B90FE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D1E52-DA63-447A-B4C4-5C85BEE5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2535D-F8A5-4D84-A4B5-48B75926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1E66-1D48-4CF3-ABE3-A31D8673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4D52-B8B1-42FC-AF80-4D2D6013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88968-3141-4BA0-ACC9-DE8909AC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F8DCF-2E37-4699-B0E4-9ADCED2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7B8B-B28E-49BA-A721-D8C3BBD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591CF-E260-4BB0-8EA1-2EC1EE86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BFE7-A4C8-4F77-8D70-09785401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9D8-F366-47A9-A519-D00C3B1D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BFF1C-C32F-493A-A0B2-41EE7872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8EE00-384C-437F-80C8-6CC1BD24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A895E-7218-498A-829D-228E4362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EC99D-856B-4EA9-97A3-64ED969C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BC0DF-468E-490C-B1AE-4416C23E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95C7-C8AC-4457-95BC-59D47847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E8F5A-9579-4F13-8FDC-6A22BD5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FF2D-7DCB-4D46-9C08-4968E2EF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4DCFE-D7DA-40DF-9D09-E704AF5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A7F7E-8CBE-489E-87B3-D4DED62B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88A-4B51-490C-853A-6B5D3EFD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7982E-C57E-47A3-8518-967F831B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DEF1C-5D63-4175-BE02-F0AC3317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127D7-D9D3-4F38-BB75-1FAE23CA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EB9-7CC0-4227-B167-EF8524C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9F1-3F86-4DD2-95D2-7D3B843F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415D51-87EF-45AD-9F0A-9683C29A18A0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91796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71C76-746B-490D-A714-CC7E378CED29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9048B4-9505-478D-B632-38B71ACD334B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454240-20CA-41A3-8D08-035AAC878EE2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505320" y="616680"/>
            <a:ext cx="5028840" cy="3657240"/>
          </a:xfrm>
          <a:prstGeom prst="rect">
            <a:avLst/>
          </a:prstGeom>
          <a:solidFill>
            <a:srgbClr val="ffffff"/>
          </a:solidFill>
          <a:ln w="6480">
            <a:solidFill>
              <a:srgbClr val="f0a22e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C8D98D-CCF1-4552-B781-CD37F5DFDDAC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body"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6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E4F130-7EFE-4FD1-9CEC-722F0CF447E2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10&amp;uinfo=sw-1226-sh-612-fw-1001-fh-448-pd-1&amp;rpt=simage&amp;img_url=http://www.mirknig.com/uploads/posts/2012-09/1347870737_krasnaya-kniga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72;%20&#1085;&#1072;&#1076;&#1073;&#1086;&#1088;&#1086;&#1076;&#1085;&#1080;&#1082;%20&#1073;&#1077;&#1079;&#1083;&#1080;&#1089;&#1090;&#1085;&#1099;&#1081;&amp;noreask=1&amp;pos=6&amp;rpt=simage&amp;lr=41&amp;uinfo=sw-1226-sh-612-fw-1001-fh-448-pd-1&amp;img_url=http://serpregion.ru/im1/smena/nov/2011/january/redbookmo7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search?text=&#1082;&#1072;&#1088;&#1090;&#1080;&#1085;&#1082;&#1072;%20&#1087;&#1099;&#1083;&#1100;&#1094;&#1077;&#1075;&#1086;&#1083;&#1086;&#1074;&#1085;&#1080;&#1082;&amp;pos=1&amp;uinfo=sw-1226-sh-612-fw-1001-fh-448-pd-1&amp;rpt=simage&amp;img_url=http://www.vashsad.ua/i/encyclopedia/218_159/9af2L6gE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yandex.ru/yandsearch?p=6&amp;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200&amp;uinfo=sw-1226-sh-612-fw-1001-fh-448-pd-1&amp;rpt=simage&amp;img_url=http://img-fotki.yandex.ru/get/5210/pplatner.7b/0_52254_ffeefd18_XL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yandex.ru/yandsearch?source=wiz&amp;text=&#1103;&#1090;&#1088;&#1099;&#1096;&#1085;&#1080;&#1082;%20&#1096;&#1083;&#1077;&#1084;&#1086;&#1074;&#1080;&#1076;&#1085;&#1099;&#1081;%20&#1092;&#1086;&#1090;&#1086;&amp;noreask=1&amp;pos=4&amp;rpt=simage&amp;lr=41&amp;uinfo=sw-1226-sh-612-fw-1001-fh-448-pd-1&amp;img_url=http://online-media.uni-marburg.de/biologie/nutzpflanzen/christian_gropp/Bilder/Orchis_militaris.jpg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8;&#1090;&#1080;&#1085;&#1082;&#1072;%20&#1077;&#1078;&#1086;&#1074;&#1080;&#1082;%20&#1082;&#1086;&#1088;&#1072;&#1083;&#1083;&#1086;&#1074;&#1080;&#1076;&#1085;&#1099;&#1081;&amp;pos=55&amp;uinfo=sw-1226-sh-612-fw-1001-fh-448-pd-1&amp;rpt=simage&amp;img_url=http://les-altai.narod.ru/images/4344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text=&#1082;&#1072;&#1088;&#1090;&#1080;&#1085;&#1082;&#1072;%20&#1074;&#1086;&#1076;&#1103;&#1085;&#1086;&#1081;%20&#1086;&#1088;&#1077;&#1093;&amp;pos=4&amp;uinfo=sw-1226-sh-612-fw-1001-fh-448-pd-1&amp;rpt=simage&amp;img_url=http://www.stihi.ru/pics/2013/07/18/7708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4;&#1099;&#1093;&#1091;&#1093;&#1086;&#1083;&#1100;&amp;pos=5&amp;uinfo=sw-1226-sh-612-fw-1001-fh-448-pd-1&amp;rpt=simage&amp;img_url=http://pit.dirty.ru/d3/1/2006/06/08/9849-112008-e944f004ebb647a08fbe050b74b8a391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yandex.ru/yandsearch?text=&#1082;&#1072;&#1088;&#1090;&#1080;&#1085;&#1082;&#1072;%20&#1079;&#1077;&#1084;&#1083;&#1103;&#1085;&#1086;&#1081;%20&#1079;&#1072;&#1103;&#1094;&amp;pos=0&amp;uinfo=sw-1226-sh-612-fw-1001-fh-448-pd-1&amp;rpt=simage&amp;img_url=http://club.foto.ru/gallery/images/photo/2010/08/07/1612930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64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7;&#1074;&#1088;&#1086;&#1087;&#1077;&#1081;&#1089;&#1082;&#1072;&#1103;%20&#1085;&#1086;&#1088;&#1082;&#1072;&amp;pos=3&amp;uinfo=sw-1226-sh-612-fw-1001-fh-448-pd-1&amp;rpt=simage&amp;img_url=http://www.zooclub.ru/attach/wild/461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yandex.ru/yandsearch?text=&#1082;&#1072;&#1088;&#1090;&#1080;&#1085;&#1082;&#1072;%20&#1074;&#1099;&#1076;&#1088;&#1072;&amp;pos=7&amp;uinfo=sw-1226-sh-612-fw-1001-fh-448-pd-1&amp;rpt=simage&amp;img_url=http://www.floranimal.ru/pages/animal/v/92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yandex.ru/yandsearch?text=&#1082;&#1072;&#1088;&#1090;&#1080;&#1085;&#1082;&#1072;%20&#1073;&#1091;&#1088;&#1091;&#1085;&#1076;&#1091;&#1082;&amp;pos=1&amp;uinfo=sw-1226-sh-612-fw-1001-fh-448-pd-1&amp;rpt=simage&amp;img_url=http://userserve-ak.last.fm/serve/34s/23891857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yandex.ru/yandsearch?text=&#1082;&#1072;&#1088;&#1090;&#1080;&#1085;&#1082;&#1072;%20&#1073;&#1077;&#1083;&#1082;&#1072;-&#1083;&#1077;&#1090;&#1103;&#1075;&#1072;&amp;pos=1&amp;uinfo=sw-1226-sh-612-fw-1001-fh-448-pd-1&amp;rpt=simage&amp;img_url=http://www.rpnrb.ru/sopt/archiv/animals/333.jp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86;&#1088;&#1077;&#1083;-&#1073;&#1077;&#1088;&#1082;&#1091;&#1090;&amp;pos=8&amp;uinfo=sw-1226-sh-612-fw-1001-fh-448-pd-1&amp;rpt=simage&amp;img_url=http://maxpark.com/static/u/photo/2589010399/s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yandex.ru/yandsearch?text=&#1082;&#1072;&#1088;&#1090;&#1080;&#1085;&#1082;&#1072;%20&#1079;&#1084;&#1077;&#1077;&#1103;&#1076;&amp;pos=8&amp;uinfo=sw-1226-sh-612-fw-1001-fh-448-pd-1&amp;rpt=simage&amp;img_url=http://i52.tinypic.com/s27h1l.jpg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yandex.ru/yandsearch?text=&#1082;&#1072;&#1088;&#1090;&#1080;&#1085;&#1082;&#1072;%20&#1095;&#1077;&#1088;&#1085;&#1099;&#1081;%20&#1072;&#1080;&#1089;&#1090;&amp;pos=5&amp;uinfo=sw-1226-sh-612-fw-1001-fh-448-pd-1&amp;rpt=simage&amp;img_url=http://img1.liveinternet.ru/images/attach/c/2/73/475/73475485_3858368_fekete_golya_1.jpg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&amp;text=&#1082;&#1072;&#1088;&#1090;&#1080;&#1085;&#1082;&#1080;%20&#1078;&#1080;&#1074;&#1086;&#1090;&#1085;&#1099;&#1093;%20&#1080;&#1079;%20%20&#1050;&#1088;&#1072;&#1089;&#1085;&#1086;&#1081;%20&#1082;&#1085;&#1080;&#1075;&#1080;%20&#1084;&#1080;&#1088;&#1088;&#1072;&amp;pos=191&amp;uinfo=sw-1206-sh-605-fw-981-fh-448-pd-1&amp;rpt=simage&amp;img_url=http://900igr.net/datas/okruzhajuschij-mir/ZHivotnye-Krasnoj-knigi/0018-018-Zapomni.jp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46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ff0000"/>
                </a:solidFill>
                <a:latin typeface="Book Antiqua"/>
              </a:rPr>
              <a:t>Путешествие  по  страницам Красной книги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71640" y="4292640"/>
            <a:ext cx="7632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endParaRPr b="1" lang="ru-RU" sz="2800" spc="-1" strike="noStrike">
              <a:solidFill>
                <a:srgbClr val="f65116"/>
              </a:solidFill>
              <a:latin typeface="Arial"/>
            </a:endParaRPr>
          </a:p>
        </p:txBody>
      </p:sp>
      <p:pic>
        <p:nvPicPr>
          <p:cNvPr id="276" name="Рисунок 2" descr=""/>
          <p:cNvPicPr/>
          <p:nvPr/>
        </p:nvPicPr>
        <p:blipFill>
          <a:blip r:embed="rId1"/>
          <a:stretch/>
        </p:blipFill>
        <p:spPr>
          <a:xfrm>
            <a:off x="2643120" y="2652840"/>
            <a:ext cx="4705920" cy="4204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Box 2"/>
          <p:cNvSpPr/>
          <p:nvPr/>
        </p:nvSpPr>
        <p:spPr>
          <a:xfrm>
            <a:off x="2340000" y="213372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4932360" y="2133720"/>
            <a:ext cx="237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ftr" idx="3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900000" y="333720"/>
            <a:ext cx="7343280" cy="55076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1060560" y="5950080"/>
            <a:ext cx="7200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827640" y="263160"/>
            <a:ext cx="7515000" cy="57124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989280" y="5976000"/>
            <a:ext cx="7079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ftr" idx="3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827640" y="335160"/>
            <a:ext cx="7344360" cy="5508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"/>
          <p:cNvSpPr/>
          <p:nvPr/>
        </p:nvSpPr>
        <p:spPr>
          <a:xfrm>
            <a:off x="1152000" y="5886720"/>
            <a:ext cx="669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ftr" idx="3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611280" y="428760"/>
            <a:ext cx="7949880" cy="4968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2"/>
          <p:cNvSpPr/>
          <p:nvPr/>
        </p:nvSpPr>
        <p:spPr>
          <a:xfrm>
            <a:off x="1116000" y="5732640"/>
            <a:ext cx="662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Объект 1"/>
          <p:cNvGraphicFramePr/>
          <p:nvPr/>
        </p:nvGraphicFramePr>
        <p:xfrm>
          <a:off x="539640" y="692280"/>
          <a:ext cx="8152920" cy="52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8152920" cy="52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2"/>
          <p:cNvSpPr/>
          <p:nvPr/>
        </p:nvSpPr>
        <p:spPr>
          <a:xfrm>
            <a:off x="2411280" y="2246400"/>
            <a:ext cx="1871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Желт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5292720" y="229716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Редк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ftr" idx="3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902520" y="204480"/>
            <a:ext cx="7338600" cy="57880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32000" y="5918760"/>
            <a:ext cx="6479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ftr" idx="3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539640" y="478800"/>
            <a:ext cx="8064360" cy="50223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2124000" y="5589720"/>
            <a:ext cx="5111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" descr=""/>
          <p:cNvPicPr/>
          <p:nvPr/>
        </p:nvPicPr>
        <p:blipFill>
          <a:blip r:embed="rId1"/>
          <a:stretch/>
        </p:blipFill>
        <p:spPr>
          <a:xfrm>
            <a:off x="895320" y="260280"/>
            <a:ext cx="4624200" cy="61653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6012000" y="4797360"/>
            <a:ext cx="266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ftr" idx="3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Box 2"/>
          <p:cNvSpPr/>
          <p:nvPr/>
        </p:nvSpPr>
        <p:spPr>
          <a:xfrm>
            <a:off x="2411640" y="2205000"/>
            <a:ext cx="20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4519080" y="2205000"/>
            <a:ext cx="302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ftr" idx="4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57120" y="450072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accent4">
                    <a:lumMod val="50000"/>
                  </a:schemeClr>
                </a:solidFill>
                <a:latin typeface="Franklin Gothic Book"/>
              </a:rPr>
              <a:t>Международная  Красная  книга  издана  в  1963 году  и хранится в швейцарском городе Морхе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1"/>
          <a:stretch/>
        </p:blipFill>
        <p:spPr>
          <a:xfrm>
            <a:off x="5619600" y="620640"/>
            <a:ext cx="2916000" cy="343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2"/>
          <a:stretch/>
        </p:blipFill>
        <p:spPr>
          <a:xfrm>
            <a:off x="683640" y="773640"/>
            <a:ext cx="4174920" cy="3130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1" descr=""/>
          <p:cNvPicPr/>
          <p:nvPr/>
        </p:nvPicPr>
        <p:blipFill>
          <a:blip r:embed="rId1"/>
          <a:stretch/>
        </p:blipFill>
        <p:spPr>
          <a:xfrm>
            <a:off x="899640" y="333360"/>
            <a:ext cx="7271640" cy="54172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1787400" y="5732640"/>
            <a:ext cx="6119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3640" cy="4949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1800360" y="5732640"/>
            <a:ext cx="56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ftr" idx="4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Box 2"/>
          <p:cNvSpPr/>
          <p:nvPr/>
        </p:nvSpPr>
        <p:spPr>
          <a:xfrm>
            <a:off x="5148000" y="2421000"/>
            <a:ext cx="288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ыст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исчез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2411280" y="2421000"/>
            <a:ext cx="194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ел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ftr" idx="4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"/>
          <p:cNvPicPr/>
          <p:nvPr/>
        </p:nvPicPr>
        <p:blipFill>
          <a:blip r:embed="rId1"/>
          <a:stretch/>
        </p:blipFill>
        <p:spPr>
          <a:xfrm>
            <a:off x="611640" y="189000"/>
            <a:ext cx="7810920" cy="56314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1332000" y="5877000"/>
            <a:ext cx="67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750240" y="405000"/>
            <a:ext cx="7787880" cy="50065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403280" y="5732640"/>
            <a:ext cx="6481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ftr" idx="4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844200" y="404640"/>
            <a:ext cx="7485120" cy="53463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382400" y="5877360"/>
            <a:ext cx="6408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ftr" idx="4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2"/>
          <p:cNvSpPr/>
          <p:nvPr/>
        </p:nvSpPr>
        <p:spPr>
          <a:xfrm>
            <a:off x="4428000" y="2423880"/>
            <a:ext cx="3241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Восстановлен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2411280" y="2349360"/>
            <a:ext cx="194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Зелё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683640" y="411120"/>
            <a:ext cx="7774920" cy="5432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862280" y="587700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ftr" idx="4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27640" y="2667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1620000" y="599148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ftr" idx="4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587520" y="260640"/>
            <a:ext cx="8112240" cy="55443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1619640" y="594936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683640" y="188640"/>
            <a:ext cx="3601800" cy="45111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"/>
          <p:cNvSpPr/>
          <p:nvPr/>
        </p:nvSpPr>
        <p:spPr>
          <a:xfrm>
            <a:off x="167760" y="4663080"/>
            <a:ext cx="8975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2"/>
          <a:stretch/>
        </p:blipFill>
        <p:spPr>
          <a:xfrm>
            <a:off x="5292000" y="166680"/>
            <a:ext cx="3166560" cy="443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634240" cy="16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4e3b30"/>
                </a:solidFill>
                <a:latin typeface="Franklin Gothic Medium"/>
              </a:rPr>
              <a:t>В 1997 году издана Красная книга Республики Марий Э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Содержимое 3" descr="http://presidentusa.ru/images/referat_vosstanie_emelyana_pugacheva_1363_1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2357280"/>
            <a:ext cx="3499920" cy="3928680"/>
          </a:xfrm>
          <a:prstGeom prst="rect">
            <a:avLst/>
          </a:prstGeom>
          <a:ln w="9525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ftr" idx="5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" descr="http://serpregion.ru/im1/smena/nov/2011/january/redbookmo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57400" cy="2999880"/>
          </a:xfrm>
          <a:prstGeom prst="rect">
            <a:avLst/>
          </a:prstGeom>
          <a:ln w="9525">
            <a:noFill/>
          </a:ln>
        </p:spPr>
      </p:pic>
      <p:pic>
        <p:nvPicPr>
          <p:cNvPr id="377" name="Рисунок 2" descr="http://www.vashsad.ua/i/encyclopedia/218_159/9af2L6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214200"/>
            <a:ext cx="4071600" cy="2999880"/>
          </a:xfrm>
          <a:prstGeom prst="rect">
            <a:avLst/>
          </a:prstGeom>
          <a:ln w="9525">
            <a:noFill/>
          </a:ln>
        </p:spPr>
      </p:pic>
      <p:sp>
        <p:nvSpPr>
          <p:cNvPr id="378" name="TextBox 4"/>
          <p:cNvSpPr/>
          <p:nvPr/>
        </p:nvSpPr>
        <p:spPr>
          <a:xfrm>
            <a:off x="785880" y="2500200"/>
            <a:ext cx="3285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072040" y="2428920"/>
            <a:ext cx="407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ЫЛЬЦЕГОЛ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7" descr="http://stat16.privet.ru/lr/0b072e5bc2328e05fbb37ad051304dd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3429000"/>
            <a:ext cx="3714480" cy="3428640"/>
          </a:xfrm>
          <a:prstGeom prst="rect">
            <a:avLst/>
          </a:prstGeom>
          <a:ln w="9525">
            <a:noFill/>
          </a:ln>
        </p:spPr>
      </p:pic>
      <p:sp>
        <p:nvSpPr>
          <p:cNvPr id="381" name="TextBox 8"/>
          <p:cNvSpPr/>
          <p:nvPr/>
        </p:nvSpPr>
        <p:spPr>
          <a:xfrm>
            <a:off x="357120" y="6072120"/>
            <a:ext cx="4285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НЕРИН 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9" descr="http://online-media.uni-marburg.de/biologie/nutzpflanzen/christian_gropp/Bilder/Orchis_militar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86200" y="3357720"/>
            <a:ext cx="4000320" cy="3499920"/>
          </a:xfrm>
          <a:prstGeom prst="rect">
            <a:avLst/>
          </a:prstGeom>
          <a:ln w="9525">
            <a:noFill/>
          </a:ln>
        </p:spPr>
      </p:pic>
      <p:sp>
        <p:nvSpPr>
          <p:cNvPr id="383" name="TextBox 10"/>
          <p:cNvSpPr/>
          <p:nvPr/>
        </p:nvSpPr>
        <p:spPr>
          <a:xfrm>
            <a:off x="4572000" y="6143760"/>
            <a:ext cx="45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ЯТРЫШНИК ШЛЕМОВИ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ftr" idx="5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Місце для зображення 4" descr="http://les-altai.narod.ru/images/43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0"/>
            <a:ext cx="4428720" cy="392868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286160"/>
            <a:ext cx="678636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c00000"/>
                </a:solidFill>
                <a:latin typeface="Bookman Old Style"/>
              </a:rPr>
              <a:t>ЕЖОВИК КОРАЛЛОВИДНЫ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714840" y="4857840"/>
            <a:ext cx="5428800" cy="9997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ВОДЯНОЙ ОРЕХ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8" name="Рисунок 6" descr="http://www.stihi.ru/pics/2013/07/18/77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0"/>
            <a:ext cx="4142880" cy="4142880"/>
          </a:xfrm>
          <a:prstGeom prst="rect">
            <a:avLst/>
          </a:prstGeom>
          <a:ln w="9525">
            <a:noFill/>
          </a:ln>
        </p:spPr>
      </p:pic>
      <p:sp>
        <p:nvSpPr>
          <p:cNvPr id="389" name="PlaceHolder 3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c00000"/>
                </a:solidFill>
                <a:latin typeface="Franklin Gothic Medium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Содержимое 4" descr="http://pit.dirty.ru/dirty/1/2010/03/30/1300-155057-41341d5ee8769d9cc4b0239b683a82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6240" y="2438280"/>
            <a:ext cx="3047760" cy="3047760"/>
          </a:xfrm>
          <a:prstGeom prst="rect">
            <a:avLst/>
          </a:prstGeom>
          <a:ln w="9525">
            <a:noFill/>
          </a:ln>
        </p:spPr>
      </p:pic>
      <p:pic>
        <p:nvPicPr>
          <p:cNvPr id="392" name="Содержимое 5" descr="http://club.foto.ru/gallery/images/photo/2010/08/07/161293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230920"/>
            <a:ext cx="4343040" cy="3462480"/>
          </a:xfrm>
          <a:prstGeom prst="rect">
            <a:avLst/>
          </a:prstGeom>
          <a:ln w="9525">
            <a:noFill/>
          </a:ln>
        </p:spPr>
      </p:pic>
      <p:sp>
        <p:nvSpPr>
          <p:cNvPr id="393" name="TextBox 6"/>
          <p:cNvSpPr/>
          <p:nvPr/>
        </p:nvSpPr>
        <p:spPr>
          <a:xfrm>
            <a:off x="428760" y="5643720"/>
            <a:ext cx="3785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ХУХ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4786200" y="5857920"/>
            <a:ext cx="400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ЕМЛЯНОЙ 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5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Місце для зображення 4" descr="http://www.zooclub.ru/attach/wild/461.jpg">
            <a:hlinkClick r:id="rId1"/>
          </p:cNvPr>
          <p:cNvPicPr/>
          <p:nvPr/>
        </p:nvPicPr>
        <p:blipFill>
          <a:blip r:embed="rId2"/>
          <a:srcRect l="0" t="11639" r="0" b="11639"/>
          <a:stretch/>
        </p:blipFill>
        <p:spPr>
          <a:xfrm>
            <a:off x="285840" y="285840"/>
            <a:ext cx="4208040" cy="335736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20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9" name="Рисунок 5" descr="http://biber.nm.ru/animal/mammalia/predator/kuniza/kuniza/lutr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2040" y="285840"/>
            <a:ext cx="3711960" cy="3214440"/>
          </a:xfrm>
          <a:prstGeom prst="rect">
            <a:avLst/>
          </a:prstGeom>
          <a:ln w="9525">
            <a:noFill/>
          </a:ln>
        </p:spPr>
      </p:pic>
      <p:pic>
        <p:nvPicPr>
          <p:cNvPr id="400" name="Рисунок 6" descr="http://gif-and-jpeg.ru/d/41357-2/jivotniy_mir269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714840"/>
            <a:ext cx="3928680" cy="3142800"/>
          </a:xfrm>
          <a:prstGeom prst="rect">
            <a:avLst/>
          </a:prstGeom>
          <a:ln w="9525">
            <a:noFill/>
          </a:ln>
        </p:spPr>
      </p:pic>
      <p:sp>
        <p:nvSpPr>
          <p:cNvPr id="401" name="TextBox 7"/>
          <p:cNvSpPr/>
          <p:nvPr/>
        </p:nvSpPr>
        <p:spPr>
          <a:xfrm>
            <a:off x="357120" y="2786040"/>
            <a:ext cx="2999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714240" y="6072120"/>
            <a:ext cx="328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УРУНД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357960" y="2786040"/>
            <a:ext cx="2785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0" descr="http://www.rpnrb.ru/sopt/archiv/animals/33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3714840"/>
            <a:ext cx="4214520" cy="2857320"/>
          </a:xfrm>
          <a:prstGeom prst="rect">
            <a:avLst/>
          </a:prstGeom>
          <a:ln w="9525">
            <a:noFill/>
          </a:ln>
        </p:spPr>
      </p:pic>
      <p:sp>
        <p:nvSpPr>
          <p:cNvPr id="405" name="TextBox 11"/>
          <p:cNvSpPr/>
          <p:nvPr/>
        </p:nvSpPr>
        <p:spPr>
          <a:xfrm>
            <a:off x="6286680" y="5929200"/>
            <a:ext cx="264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ЛКА-ЛЕТЯ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5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http://img01.chitalnya.ru/upload2/476/2156340419314801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3857400" cy="3071520"/>
          </a:xfrm>
          <a:prstGeom prst="rect">
            <a:avLst/>
          </a:prstGeom>
          <a:ln w="9525">
            <a:noFill/>
          </a:ln>
        </p:spPr>
      </p:pic>
      <p:pic>
        <p:nvPicPr>
          <p:cNvPr id="408" name="Рисунок 3" descr="http://kireas.org/images/Circaetus%20gallic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4200"/>
            <a:ext cx="4214520" cy="3142800"/>
          </a:xfrm>
          <a:prstGeom prst="rect">
            <a:avLst/>
          </a:prstGeom>
          <a:ln w="9525">
            <a:noFill/>
          </a:ln>
        </p:spPr>
      </p:pic>
      <p:pic>
        <p:nvPicPr>
          <p:cNvPr id="409" name="Рисунок 4" descr="http://girnyk.at.ua/chornij_lelek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320" y="3500280"/>
            <a:ext cx="3428640" cy="3071520"/>
          </a:xfrm>
          <a:prstGeom prst="rect">
            <a:avLst/>
          </a:prstGeom>
          <a:ln w="9525">
            <a:noFill/>
          </a:ln>
        </p:spPr>
      </p:pic>
      <p:sp>
        <p:nvSpPr>
          <p:cNvPr id="410" name="TextBox 6"/>
          <p:cNvSpPr/>
          <p:nvPr/>
        </p:nvSpPr>
        <p:spPr>
          <a:xfrm>
            <a:off x="357120" y="642960"/>
            <a:ext cx="2071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ОРЕЛ - БЕРК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4714920" y="571320"/>
            <a:ext cx="207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МЕЕ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571320" y="3571920"/>
            <a:ext cx="1928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РНЫЙ  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9" descr="http://cdn.bolshoyvopros.ru/files/users/images/34/cb/34cb48310a3c74f918a8bdb84f8388e1.jpg"/>
          <p:cNvPicPr/>
          <p:nvPr/>
        </p:nvPicPr>
        <p:blipFill>
          <a:blip r:embed="rId7"/>
          <a:stretch/>
        </p:blipFill>
        <p:spPr>
          <a:xfrm>
            <a:off x="4572000" y="3500280"/>
            <a:ext cx="4214520" cy="3071520"/>
          </a:xfrm>
          <a:prstGeom prst="rect">
            <a:avLst/>
          </a:prstGeom>
          <a:ln w="9525">
            <a:noFill/>
          </a:ln>
        </p:spPr>
      </p:pic>
      <p:sp>
        <p:nvSpPr>
          <p:cNvPr id="414" name="TextBox 10"/>
          <p:cNvSpPr/>
          <p:nvPr/>
        </p:nvSpPr>
        <p:spPr>
          <a:xfrm>
            <a:off x="6786720" y="5786280"/>
            <a:ext cx="235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АП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900igr.net/datas/okruzhajuschij-mir/ZHivotnye-Krasnoj-knigi/0018-018-Zapomn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14240"/>
            <a:ext cx="7043400" cy="52858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ftr" idx="5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0" y="857160"/>
            <a:ext cx="885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СПАСИБО 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ftr" idx="5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"/>
          <p:cNvPicPr/>
          <p:nvPr/>
        </p:nvPicPr>
        <p:blipFill>
          <a:blip r:embed="rId1"/>
          <a:stretch/>
        </p:blipFill>
        <p:spPr>
          <a:xfrm>
            <a:off x="233280" y="571320"/>
            <a:ext cx="8624880" cy="5071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941040" y="260280"/>
            <a:ext cx="7297200" cy="51282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785880" y="5643720"/>
            <a:ext cx="77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820800" y="479880"/>
            <a:ext cx="7597440" cy="42055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428840" y="5072040"/>
            <a:ext cx="6143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1187640" y="358200"/>
            <a:ext cx="6657480" cy="5509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1452600" y="588024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ftr" idx="2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Рисунок 1" descr=""/>
          <p:cNvPicPr/>
          <p:nvPr/>
        </p:nvPicPr>
        <p:blipFill>
          <a:blip r:embed="rId1"/>
          <a:stretch/>
        </p:blipFill>
        <p:spPr>
          <a:xfrm>
            <a:off x="611640" y="1052640"/>
            <a:ext cx="7954560" cy="45097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"/>
          <p:cNvSpPr/>
          <p:nvPr/>
        </p:nvSpPr>
        <p:spPr>
          <a:xfrm>
            <a:off x="1015560" y="5833080"/>
            <a:ext cx="691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611280" y="343800"/>
            <a:ext cx="7848360" cy="4922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"/>
          <p:cNvSpPr/>
          <p:nvPr/>
        </p:nvSpPr>
        <p:spPr>
          <a:xfrm>
            <a:off x="826920" y="5516640"/>
            <a:ext cx="74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ftr" idx="3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103</TotalTime>
  <Application>LibreOffice/7.4.7.2$Linux_X86_64 LibreOffice_project/40$Build-2</Application>
  <AppVersion>15.0000</AppVersion>
  <Words>600</Words>
  <Paragraphs>276</Paragraphs>
  <Company>IPP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0:16:35Z</dcterms:created>
  <dc:creator>---</dc:creator>
  <dc:description/>
  <dc:language>en-US</dc:language>
  <cp:lastModifiedBy>LEGION</cp:lastModifiedBy>
  <dcterms:modified xsi:type="dcterms:W3CDTF">2015-11-27T10:46:36Z</dcterms:modified>
  <cp:revision>95</cp:revision>
  <dc:subject/>
  <dc:title>Красная книга Краснода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7</vt:r8>
  </property>
  <property fmtid="{D5CDD505-2E9C-101B-9397-08002B2CF9AE}" pid="3" name="PresentationFormat">
    <vt:lpwstr>Екран (4:3)</vt:lpwstr>
  </property>
  <property fmtid="{D5CDD505-2E9C-101B-9397-08002B2CF9AE}" pid="4" name="Slides">
    <vt:r8>37</vt:r8>
  </property>
</Properties>
</file>