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AD7A16-B196-41EB-A7C8-CDD6EF06F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ие  по  страницам Красной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утешествие  по  страницам Красной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гиб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6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ий  к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7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Гепар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7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7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Лот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7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Желт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едк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7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Амурски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7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Мор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7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рав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7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ер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алоизвест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ая  Красная  книга  издана  в  1963 году  и хранится в швейцарском городе Мор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еждународная  Красная  книга  издана  в  1963 году  и хранится в швейцарском городе Морх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7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лоновая  черепа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7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8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ыстр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счез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8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8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нежный  б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8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Фламин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ё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8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сстановлен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лё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8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8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8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Зуб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97 году издана Красная книга Республики 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8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1997 году издана Красная книга Республики Марий Э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ЫЛЬЦЕГОЛ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ЕРИН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РЫШНИК ШЛЕМ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8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ДБОРОДНИК  БЕЗЛИ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ЫЛЬЦЕГОЛОВН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ЯТРЫШНИК ШЛЕМ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ОВИК КОРАЛЛ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ЯНОЙ 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9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ЕЖОВИК КОРАЛЛ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ДЯНОЙ ОРЕ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НОЙ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9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ЫХУХ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МЛЯНОЙ ЗА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УНД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КА-ЛЕТ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9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НОР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УНД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ЫД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КА-ЛЕТЯ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- БЕРК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ЫЙ  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П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9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РЕЛ - БЕРК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МЕЕЯ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РНЫЙ  А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ПС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9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ранствующий голуб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6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6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ольшерогий  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6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аблезубы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скрылые  гагар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84C-38C5-4268-AE93-5097DF70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0AF-6A5B-43F7-B088-2B11C191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FCC-1A80-4009-B037-878D237D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7E4-C016-4B3B-A8AF-21E55FC9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DDC6-5729-4837-B279-3C9775B4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B97A-8ED4-4B9D-8A59-414C8D85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2AD0-7277-4181-8352-FC1C7DAF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6A32-73B9-49F0-B82D-042EDD98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1EA6-DBF8-4D98-9110-B46629FB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4EEA-91E8-4C2B-821F-F5740710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6AD-8AB2-4DC8-BEFB-F95315C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3BB-BD60-40FF-AEDA-80D88354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0106-84AE-44BA-B877-6732B36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9921-BA3E-4ADE-9B62-359D2571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3E41-5D93-4DE3-83B7-14E8819A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C361-0DEF-45F2-8C21-C0A9DA97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CDDF-9558-4857-B6F0-166667DE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8A5E-965E-4FC9-B82B-D8146928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1DA0D-4CC6-49FB-9A94-1FBF0802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7FAC3-0D11-4D3E-A8DC-61F6420B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0DE4-4799-49FF-ACCE-3029876C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59AC-BB38-464C-8581-522686D5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20A-C9C8-40A3-9B65-B844457C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7DBE-43DC-4AFE-B190-D63ACE6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4E39-25B4-4F5B-A344-8079CFA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02C6-0467-467D-BBAA-E2123C4F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415A-EC21-4821-874C-2D58B2E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7CB9-583C-4493-A521-423D1B60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B4AC-C618-4512-BF75-28EC1E71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8FEA-2404-4E19-8064-068A08DE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7A1F3-F822-4D74-8EEA-AC178343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DE97-275D-4A8F-9681-49316114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C35D0-A9FF-4859-A08E-092E9E07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D03-BC79-4D76-B1ED-50524B0C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8831-A9F2-4B97-B6D2-D3029B1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F336-CA9E-4806-A686-87CE53FF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079B-52E2-423C-ADDA-31CF4790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A0F4-3796-46B2-9873-CF9ED18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522D-DA02-44A8-B186-249FB901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1C8E-BC5A-4F54-9BA1-FE34CBB7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85D8-BCFE-4BBB-9C7E-9AD27821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8E914-72B3-4B23-80B9-D71E7BCD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F82A-219B-48D0-8D9F-1CE51E23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C91E2-8270-4D8B-BDBB-41C8BFE4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E25-5235-4E9C-8E7B-727AF90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40125-C4DE-4A6E-B97F-3A6477F7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F72C-27A7-47DE-807B-7429CA21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F9B6-8772-48D9-A76F-BE1B1399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2949-FD27-4B44-9988-5F4C8A9C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F01A0-26E6-4156-975B-9B4FE7A4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144E4-C290-476B-9917-528E5BA6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7A47-E4F5-4B19-A446-20F5353F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1025-191F-48F6-97A1-D7C87D9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63473-D644-4AE1-AF7F-9EA5D6B5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3668-6D14-4C21-894D-9A7B146D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F2F-8B41-405E-A2D3-2BCA434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3E17A-B19B-44B8-BCCE-BC985982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BEA91-69A0-417D-A1F9-4E644B1B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F9BE7-FD48-4522-B6FC-DD78BAB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F36A-A15D-4A3A-BF54-9A6CFF34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BB63-BCA3-49B5-9B97-225188A8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C3909-9F17-414B-A358-77D8C8C5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AC21A-7DA1-4607-980F-6B8C798D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CD43A-6364-4A7C-87B6-09D8BC4C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BA199-587C-4118-9191-2E5C4A32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64B36-BC0B-4867-A702-35C5A0F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254-29DC-4F32-A6FB-1AD73A2A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134F8-34D4-4B92-B00B-CD6D9601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849C-38BB-490F-9DF8-52311323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F9AD7-29D7-49CA-A724-DBD6FEED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7A5-B9EB-429F-B1B1-F95B859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771-211A-4B64-891E-28C42F52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B9B92E-3BC6-48DD-8F4F-A78692ED8BA8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91796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12499D-37DD-4F65-9C77-102E311E9542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742EB1-EE0F-44CE-85AC-E28EE82CF61C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17443F-9A06-4B4D-A8EE-394D156CC56D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505320" y="616680"/>
            <a:ext cx="5028840" cy="3657240"/>
          </a:xfrm>
          <a:prstGeom prst="rect">
            <a:avLst/>
          </a:prstGeom>
          <a:solidFill>
            <a:srgbClr val="ffffff"/>
          </a:solidFill>
          <a:ln w="6480">
            <a:solidFill>
              <a:srgbClr val="f0a22e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214AD0-9F12-4DB2-956E-B07386CE46B5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body"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1DF29F-678A-4AFA-A0C8-3AC832393F17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10&amp;uinfo=sw-1226-sh-612-fw-1001-fh-448-pd-1&amp;rpt=simage&amp;img_url=http://www.mirknig.com/uploads/posts/2012-09/1347870737_krasnaya-kniga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72;%20&#1085;&#1072;&#1076;&#1073;&#1086;&#1088;&#1086;&#1076;&#1085;&#1080;&#1082;%20&#1073;&#1077;&#1079;&#1083;&#1080;&#1089;&#1090;&#1085;&#1099;&#1081;&amp;noreask=1&amp;pos=6&amp;rpt=simage&amp;lr=41&amp;uinfo=sw-1226-sh-612-fw-1001-fh-448-pd-1&amp;img_url=http://serpregion.ru/im1/smena/nov/2011/january/redbookmo7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search?text=&#1082;&#1072;&#1088;&#1090;&#1080;&#1085;&#1082;&#1072;%20&#1087;&#1099;&#1083;&#1100;&#1094;&#1077;&#1075;&#1086;&#1083;&#1086;&#1074;&#1085;&#1080;&#1082;&amp;pos=1&amp;uinfo=sw-1226-sh-612-fw-1001-fh-448-pd-1&amp;rpt=simage&amp;img_url=http://www.vashsad.ua/i/encyclopedia/218_159/9af2L6gE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yandex.ru/yandsearch?p=6&amp;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200&amp;uinfo=sw-1226-sh-612-fw-1001-fh-448-pd-1&amp;rpt=simage&amp;img_url=http://img-fotki.yandex.ru/get/5210/pplatner.7b/0_52254_ffeefd18_XL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yandex.ru/yandsearch?source=wiz&amp;text=&#1103;&#1090;&#1088;&#1099;&#1096;&#1085;&#1080;&#1082;%20&#1096;&#1083;&#1077;&#1084;&#1086;&#1074;&#1080;&#1076;&#1085;&#1099;&#1081;%20&#1092;&#1086;&#1090;&#1086;&amp;noreask=1&amp;pos=4&amp;rpt=simage&amp;lr=41&amp;uinfo=sw-1226-sh-612-fw-1001-fh-448-pd-1&amp;img_url=http://online-media.uni-marburg.de/biologie/nutzpflanzen/christian_gropp/Bilder/Orchis_militaris.jpg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8;&#1090;&#1080;&#1085;&#1082;&#1072;%20&#1077;&#1078;&#1086;&#1074;&#1080;&#1082;%20&#1082;&#1086;&#1088;&#1072;&#1083;&#1083;&#1086;&#1074;&#1080;&#1076;&#1085;&#1099;&#1081;&amp;pos=55&amp;uinfo=sw-1226-sh-612-fw-1001-fh-448-pd-1&amp;rpt=simage&amp;img_url=http://les-altai.narod.ru/images/4344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text=&#1082;&#1072;&#1088;&#1090;&#1080;&#1085;&#1082;&#1072;%20&#1074;&#1086;&#1076;&#1103;&#1085;&#1086;&#1081;%20&#1086;&#1088;&#1077;&#1093;&amp;pos=4&amp;uinfo=sw-1226-sh-612-fw-1001-fh-448-pd-1&amp;rpt=simage&amp;img_url=http://www.stihi.ru/pics/2013/07/18/7708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4;&#1099;&#1093;&#1091;&#1093;&#1086;&#1083;&#1100;&amp;pos=5&amp;uinfo=sw-1226-sh-612-fw-1001-fh-448-pd-1&amp;rpt=simage&amp;img_url=http://pit.dirty.ru/d3/1/2006/06/08/9849-112008-e944f004ebb647a08fbe050b74b8a391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yandex.ru/yandsearch?text=&#1082;&#1072;&#1088;&#1090;&#1080;&#1085;&#1082;&#1072;%20&#1079;&#1077;&#1084;&#1083;&#1103;&#1085;&#1086;&#1081;%20&#1079;&#1072;&#1103;&#1094;&amp;pos=0&amp;uinfo=sw-1226-sh-612-fw-1001-fh-448-pd-1&amp;rpt=simage&amp;img_url=http://club.foto.ru/gallery/images/photo/2010/08/07/1612930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64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7;&#1074;&#1088;&#1086;&#1087;&#1077;&#1081;&#1089;&#1082;&#1072;&#1103;%20&#1085;&#1086;&#1088;&#1082;&#1072;&amp;pos=3&amp;uinfo=sw-1226-sh-612-fw-1001-fh-448-pd-1&amp;rpt=simage&amp;img_url=http://www.zooclub.ru/attach/wild/461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yandex.ru/yandsearch?text=&#1082;&#1072;&#1088;&#1090;&#1080;&#1085;&#1082;&#1072;%20&#1074;&#1099;&#1076;&#1088;&#1072;&amp;pos=7&amp;uinfo=sw-1226-sh-612-fw-1001-fh-448-pd-1&amp;rpt=simage&amp;img_url=http://www.floranimal.ru/pages/animal/v/92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yandex.ru/yandsearch?text=&#1082;&#1072;&#1088;&#1090;&#1080;&#1085;&#1082;&#1072;%20&#1073;&#1091;&#1088;&#1091;&#1085;&#1076;&#1091;&#1082;&amp;pos=1&amp;uinfo=sw-1226-sh-612-fw-1001-fh-448-pd-1&amp;rpt=simage&amp;img_url=http://userserve-ak.last.fm/serve/34s/23891857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yandex.ru/yandsearch?text=&#1082;&#1072;&#1088;&#1090;&#1080;&#1085;&#1082;&#1072;%20&#1073;&#1077;&#1083;&#1082;&#1072;-&#1083;&#1077;&#1090;&#1103;&#1075;&#1072;&amp;pos=1&amp;uinfo=sw-1226-sh-612-fw-1001-fh-448-pd-1&amp;rpt=simage&amp;img_url=http://www.rpnrb.ru/sopt/archiv/animals/333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86;&#1088;&#1077;&#1083;-&#1073;&#1077;&#1088;&#1082;&#1091;&#1090;&amp;pos=8&amp;uinfo=sw-1226-sh-612-fw-1001-fh-448-pd-1&amp;rpt=simage&amp;img_url=http://maxpark.com/static/u/photo/2589010399/s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yandex.ru/yandsearch?text=&#1082;&#1072;&#1088;&#1090;&#1080;&#1085;&#1082;&#1072;%20&#1079;&#1084;&#1077;&#1077;&#1103;&#1076;&amp;pos=8&amp;uinfo=sw-1226-sh-612-fw-1001-fh-448-pd-1&amp;rpt=simage&amp;img_url=http://i52.tinypic.com/s27h1l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yandex.ru/yandsearch?text=&#1082;&#1072;&#1088;&#1090;&#1080;&#1085;&#1082;&#1072;%20&#1095;&#1077;&#1088;&#1085;&#1099;&#1081;%20&#1072;&#1080;&#1089;&#1090;&amp;pos=5&amp;uinfo=sw-1226-sh-612-fw-1001-fh-448-pd-1&amp;rpt=simage&amp;img_url=http://img1.liveinternet.ru/images/attach/c/2/73/475/73475485_3858368_fekete_golya_1.jpg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&amp;text=&#1082;&#1072;&#1088;&#1090;&#1080;&#1085;&#1082;&#1080;%20&#1078;&#1080;&#1074;&#1086;&#1090;&#1085;&#1099;&#1093;%20&#1080;&#1079;%20%20&#1050;&#1088;&#1072;&#1089;&#1085;&#1086;&#1081;%20&#1082;&#1085;&#1080;&#1075;&#1080;%20&#1084;&#1080;&#1088;&#1088;&#1072;&amp;pos=191&amp;uinfo=sw-1206-sh-605-fw-981-fh-448-pd-1&amp;rpt=simage&amp;img_url=http://900igr.net/datas/okruzhajuschij-mir/ZHivotnye-Krasnoj-knigi/0018-018-Zapomni.jp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46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ff0000"/>
                </a:solidFill>
                <a:latin typeface="Book Antiqua"/>
              </a:rPr>
              <a:t>Путешествие  по  страницам Красной книги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71640" y="4292640"/>
            <a:ext cx="7632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endParaRPr b="1" lang="ru-RU" sz="2800" spc="-1" strike="noStrike">
              <a:solidFill>
                <a:srgbClr val="f65116"/>
              </a:solidFill>
              <a:latin typeface="Arial"/>
            </a:endParaRPr>
          </a:p>
        </p:txBody>
      </p:sp>
      <p:pic>
        <p:nvPicPr>
          <p:cNvPr id="276" name="Рисунок 2" descr=""/>
          <p:cNvPicPr/>
          <p:nvPr/>
        </p:nvPicPr>
        <p:blipFill>
          <a:blip r:embed="rId1"/>
          <a:stretch/>
        </p:blipFill>
        <p:spPr>
          <a:xfrm>
            <a:off x="2643120" y="2652840"/>
            <a:ext cx="4705920" cy="4204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Box 2"/>
          <p:cNvSpPr/>
          <p:nvPr/>
        </p:nvSpPr>
        <p:spPr>
          <a:xfrm>
            <a:off x="2340000" y="213372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932360" y="213372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ftr" idx="3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900000" y="333720"/>
            <a:ext cx="7343280" cy="55076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1060560" y="5950080"/>
            <a:ext cx="7200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827640" y="263160"/>
            <a:ext cx="7515000" cy="57124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989280" y="5976000"/>
            <a:ext cx="707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ftr" idx="3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827640" y="335160"/>
            <a:ext cx="7344360" cy="5508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"/>
          <p:cNvSpPr/>
          <p:nvPr/>
        </p:nvSpPr>
        <p:spPr>
          <a:xfrm>
            <a:off x="1152000" y="5886720"/>
            <a:ext cx="669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ftr" idx="3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611280" y="428760"/>
            <a:ext cx="7949880" cy="4968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"/>
          <p:cNvSpPr/>
          <p:nvPr/>
        </p:nvSpPr>
        <p:spPr>
          <a:xfrm>
            <a:off x="1116000" y="5732640"/>
            <a:ext cx="662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Объект 1"/>
          <p:cNvGraphicFramePr/>
          <p:nvPr/>
        </p:nvGraphicFramePr>
        <p:xfrm>
          <a:off x="539640" y="692280"/>
          <a:ext cx="8152920" cy="52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8152920" cy="52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2"/>
          <p:cNvSpPr/>
          <p:nvPr/>
        </p:nvSpPr>
        <p:spPr>
          <a:xfrm>
            <a:off x="2411280" y="2246400"/>
            <a:ext cx="1871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Желт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5292720" y="229716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Редк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ftr" idx="3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902520" y="204480"/>
            <a:ext cx="7338600" cy="57880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32000" y="5918760"/>
            <a:ext cx="6479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ftr" idx="3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539640" y="478800"/>
            <a:ext cx="8064360" cy="50223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2124000" y="5589720"/>
            <a:ext cx="511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"/>
          <p:cNvPicPr/>
          <p:nvPr/>
        </p:nvPicPr>
        <p:blipFill>
          <a:blip r:embed="rId1"/>
          <a:stretch/>
        </p:blipFill>
        <p:spPr>
          <a:xfrm>
            <a:off x="895320" y="260280"/>
            <a:ext cx="4624200" cy="61653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6012000" y="4797360"/>
            <a:ext cx="266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ftr" idx="3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Box 2"/>
          <p:cNvSpPr/>
          <p:nvPr/>
        </p:nvSpPr>
        <p:spPr>
          <a:xfrm>
            <a:off x="2411640" y="2205000"/>
            <a:ext cx="20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4519080" y="2205000"/>
            <a:ext cx="302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ftr" idx="4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4">
                    <a:lumMod val="50000"/>
                  </a:schemeClr>
                </a:solidFill>
                <a:latin typeface="Franklin Gothic Book"/>
              </a:rPr>
              <a:t>Международная  Красная  книга  издана  в  1963 году  и хранится в швейцарском городе Морхе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5619600" y="620640"/>
            <a:ext cx="2916000" cy="343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"/>
          <a:stretch/>
        </p:blipFill>
        <p:spPr>
          <a:xfrm>
            <a:off x="683640" y="773640"/>
            <a:ext cx="4174920" cy="3130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899640" y="333360"/>
            <a:ext cx="7271640" cy="54172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1787400" y="5732640"/>
            <a:ext cx="611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3640" cy="4949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1800360" y="5732640"/>
            <a:ext cx="56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ftr" idx="4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Box 2"/>
          <p:cNvSpPr/>
          <p:nvPr/>
        </p:nvSpPr>
        <p:spPr>
          <a:xfrm>
            <a:off x="5148000" y="2421000"/>
            <a:ext cx="288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ыст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исчез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2411280" y="2421000"/>
            <a:ext cx="194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ел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ftr" idx="4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611640" y="189000"/>
            <a:ext cx="7810920" cy="56314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1332000" y="5877000"/>
            <a:ext cx="67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750240" y="405000"/>
            <a:ext cx="7787880" cy="50065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403280" y="5732640"/>
            <a:ext cx="6481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ftr" idx="4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844200" y="404640"/>
            <a:ext cx="7485120" cy="53463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382400" y="5877360"/>
            <a:ext cx="640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ftr" idx="4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2"/>
          <p:cNvSpPr/>
          <p:nvPr/>
        </p:nvSpPr>
        <p:spPr>
          <a:xfrm>
            <a:off x="4428000" y="2423880"/>
            <a:ext cx="3241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Восстановлен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2411280" y="2349360"/>
            <a:ext cx="194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Зелё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683640" y="411120"/>
            <a:ext cx="7774920" cy="5432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862280" y="587700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ftr" idx="4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27640" y="2667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1620000" y="599148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ftr" idx="4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587520" y="260640"/>
            <a:ext cx="8112240" cy="55443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1619640" y="594936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683640" y="188640"/>
            <a:ext cx="3601800" cy="45111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167760" y="4663080"/>
            <a:ext cx="8975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2"/>
          <a:stretch/>
        </p:blipFill>
        <p:spPr>
          <a:xfrm>
            <a:off x="5292000" y="166680"/>
            <a:ext cx="3166560" cy="443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634240" cy="16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4e3b30"/>
                </a:solidFill>
                <a:latin typeface="Franklin Gothic Medium"/>
              </a:rPr>
              <a:t>В 1997 году издана Красная книга Республики Марий Э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Содержимое 3" descr="http://presidentusa.ru/images/referat_vosstanie_emelyana_pugacheva_1363_1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2357280"/>
            <a:ext cx="3499920" cy="3928680"/>
          </a:xfrm>
          <a:prstGeom prst="rect">
            <a:avLst/>
          </a:prstGeom>
          <a:ln w="9525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ftr" idx="5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" descr="http://serpregion.ru/im1/smena/nov/2011/january/redbookmo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57400" cy="2999880"/>
          </a:xfrm>
          <a:prstGeom prst="rect">
            <a:avLst/>
          </a:prstGeom>
          <a:ln w="9525">
            <a:noFill/>
          </a:ln>
        </p:spPr>
      </p:pic>
      <p:pic>
        <p:nvPicPr>
          <p:cNvPr id="377" name="Рисунок 2" descr="http://www.vashsad.ua/i/encyclopedia/218_159/9af2L6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14200"/>
            <a:ext cx="4071600" cy="2999880"/>
          </a:xfrm>
          <a:prstGeom prst="rect">
            <a:avLst/>
          </a:prstGeom>
          <a:ln w="9525">
            <a:noFill/>
          </a:ln>
        </p:spPr>
      </p:pic>
      <p:sp>
        <p:nvSpPr>
          <p:cNvPr id="378" name="TextBox 4"/>
          <p:cNvSpPr/>
          <p:nvPr/>
        </p:nvSpPr>
        <p:spPr>
          <a:xfrm>
            <a:off x="785880" y="2500200"/>
            <a:ext cx="3285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072040" y="2428920"/>
            <a:ext cx="407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ЫЛЬЦЕГОЛ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7" descr="http://stat16.privet.ru/lr/0b072e5bc2328e05fbb37ad051304dd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3429000"/>
            <a:ext cx="3714480" cy="3428640"/>
          </a:xfrm>
          <a:prstGeom prst="rect">
            <a:avLst/>
          </a:prstGeom>
          <a:ln w="9525">
            <a:noFill/>
          </a:ln>
        </p:spPr>
      </p:pic>
      <p:sp>
        <p:nvSpPr>
          <p:cNvPr id="381" name="TextBox 8"/>
          <p:cNvSpPr/>
          <p:nvPr/>
        </p:nvSpPr>
        <p:spPr>
          <a:xfrm>
            <a:off x="357120" y="6072120"/>
            <a:ext cx="428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НЕРИН 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9" descr="http://online-media.uni-marburg.de/biologie/nutzpflanzen/christian_gropp/Bilder/Orchis_militar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86200" y="3357720"/>
            <a:ext cx="4000320" cy="3499920"/>
          </a:xfrm>
          <a:prstGeom prst="rect">
            <a:avLst/>
          </a:prstGeom>
          <a:ln w="9525">
            <a:noFill/>
          </a:ln>
        </p:spPr>
      </p:pic>
      <p:sp>
        <p:nvSpPr>
          <p:cNvPr id="383" name="TextBox 10"/>
          <p:cNvSpPr/>
          <p:nvPr/>
        </p:nvSpPr>
        <p:spPr>
          <a:xfrm>
            <a:off x="4572000" y="6143760"/>
            <a:ext cx="45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ЯТРЫШНИК ШЛЕМО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ftr" idx="5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Місце для зображення 4" descr="http://les-altai.narod.ru/images/43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0"/>
            <a:ext cx="4428720" cy="392868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286160"/>
            <a:ext cx="678636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c00000"/>
                </a:solidFill>
                <a:latin typeface="Bookman Old Style"/>
              </a:rPr>
              <a:t>ЕЖОВИК КОРАЛЛОВИДНЫ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14840" y="4857840"/>
            <a:ext cx="5428800" cy="9997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ВОДЯНОЙ ОРЕХ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8" name="Рисунок 6" descr="http://www.stihi.ru/pics/2013/07/18/77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0"/>
            <a:ext cx="4142880" cy="4142880"/>
          </a:xfrm>
          <a:prstGeom prst="rect">
            <a:avLst/>
          </a:prstGeom>
          <a:ln w="9525">
            <a:noFill/>
          </a:ln>
        </p:spPr>
      </p:pic>
      <p:sp>
        <p:nvSpPr>
          <p:cNvPr id="389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c00000"/>
                </a:solidFill>
                <a:latin typeface="Franklin Gothic Medium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Содержимое 4" descr="http://pit.dirty.ru/dirty/1/2010/03/30/1300-155057-41341d5ee8769d9cc4b0239b683a82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6240" y="2438280"/>
            <a:ext cx="3047760" cy="3047760"/>
          </a:xfrm>
          <a:prstGeom prst="rect">
            <a:avLst/>
          </a:prstGeom>
          <a:ln w="9525">
            <a:noFill/>
          </a:ln>
        </p:spPr>
      </p:pic>
      <p:pic>
        <p:nvPicPr>
          <p:cNvPr id="392" name="Содержимое 5" descr="http://club.foto.ru/gallery/images/photo/2010/08/07/161293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230920"/>
            <a:ext cx="4343040" cy="3462480"/>
          </a:xfrm>
          <a:prstGeom prst="rect">
            <a:avLst/>
          </a:prstGeom>
          <a:ln w="9525">
            <a:noFill/>
          </a:ln>
        </p:spPr>
      </p:pic>
      <p:sp>
        <p:nvSpPr>
          <p:cNvPr id="393" name="TextBox 6"/>
          <p:cNvSpPr/>
          <p:nvPr/>
        </p:nvSpPr>
        <p:spPr>
          <a:xfrm>
            <a:off x="428760" y="5643720"/>
            <a:ext cx="378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4786200" y="5857920"/>
            <a:ext cx="400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ЕМЛЯНОЙ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5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Місце для зображення 4" descr="http://www.zooclub.ru/attach/wild/461.jpg">
            <a:hlinkClick r:id="rId1"/>
          </p:cNvPr>
          <p:cNvPicPr/>
          <p:nvPr/>
        </p:nvPicPr>
        <p:blipFill>
          <a:blip r:embed="rId2"/>
          <a:srcRect l="0" t="11639" r="0" b="11639"/>
          <a:stretch/>
        </p:blipFill>
        <p:spPr>
          <a:xfrm>
            <a:off x="285840" y="285840"/>
            <a:ext cx="4208040" cy="335736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20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9" name="Рисунок 5" descr="http://biber.nm.ru/animal/mammalia/predator/kuniza/kuniza/lutr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2040" y="285840"/>
            <a:ext cx="3711960" cy="3214440"/>
          </a:xfrm>
          <a:prstGeom prst="rect">
            <a:avLst/>
          </a:prstGeom>
          <a:ln w="9525">
            <a:noFill/>
          </a:ln>
        </p:spPr>
      </p:pic>
      <p:pic>
        <p:nvPicPr>
          <p:cNvPr id="400" name="Рисунок 6" descr="http://gif-and-jpeg.ru/d/41357-2/jivotniy_mir269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714840"/>
            <a:ext cx="3928680" cy="3142800"/>
          </a:xfrm>
          <a:prstGeom prst="rect">
            <a:avLst/>
          </a:prstGeom>
          <a:ln w="9525">
            <a:noFill/>
          </a:ln>
        </p:spPr>
      </p:pic>
      <p:sp>
        <p:nvSpPr>
          <p:cNvPr id="401" name="TextBox 7"/>
          <p:cNvSpPr/>
          <p:nvPr/>
        </p:nvSpPr>
        <p:spPr>
          <a:xfrm>
            <a:off x="357120" y="2786040"/>
            <a:ext cx="2999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714240" y="6072120"/>
            <a:ext cx="328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УРУНД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357960" y="2786040"/>
            <a:ext cx="2785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0" descr="http://www.rpnrb.ru/sopt/archiv/animals/33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3714840"/>
            <a:ext cx="4214520" cy="2857320"/>
          </a:xfrm>
          <a:prstGeom prst="rect">
            <a:avLst/>
          </a:prstGeom>
          <a:ln w="9525">
            <a:noFill/>
          </a:ln>
        </p:spPr>
      </p:pic>
      <p:sp>
        <p:nvSpPr>
          <p:cNvPr id="405" name="TextBox 11"/>
          <p:cNvSpPr/>
          <p:nvPr/>
        </p:nvSpPr>
        <p:spPr>
          <a:xfrm>
            <a:off x="6286680" y="5929200"/>
            <a:ext cx="264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ЛКА-ЛЕТ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5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http://img01.chitalnya.ru/upload2/476/2156340419314801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3857400" cy="3071520"/>
          </a:xfrm>
          <a:prstGeom prst="rect">
            <a:avLst/>
          </a:prstGeom>
          <a:ln w="9525">
            <a:noFill/>
          </a:ln>
        </p:spPr>
      </p:pic>
      <p:pic>
        <p:nvPicPr>
          <p:cNvPr id="408" name="Рисунок 3" descr="http://kireas.org/images/Circaetus%20gallic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4200"/>
            <a:ext cx="4214520" cy="3142800"/>
          </a:xfrm>
          <a:prstGeom prst="rect">
            <a:avLst/>
          </a:prstGeom>
          <a:ln w="9525">
            <a:noFill/>
          </a:ln>
        </p:spPr>
      </p:pic>
      <p:pic>
        <p:nvPicPr>
          <p:cNvPr id="409" name="Рисунок 4" descr="http://girnyk.at.ua/chornij_lelek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320" y="3500280"/>
            <a:ext cx="3428640" cy="3071520"/>
          </a:xfrm>
          <a:prstGeom prst="rect">
            <a:avLst/>
          </a:prstGeom>
          <a:ln w="9525">
            <a:noFill/>
          </a:ln>
        </p:spPr>
      </p:pic>
      <p:sp>
        <p:nvSpPr>
          <p:cNvPr id="410" name="TextBox 6"/>
          <p:cNvSpPr/>
          <p:nvPr/>
        </p:nvSpPr>
        <p:spPr>
          <a:xfrm>
            <a:off x="357120" y="642960"/>
            <a:ext cx="2071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ОРЕЛ - БЕРК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4714920" y="571320"/>
            <a:ext cx="20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МЕЕ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571320" y="3571920"/>
            <a:ext cx="1928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РНЫЙ  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9" descr="http://cdn.bolshoyvopros.ru/files/users/images/34/cb/34cb48310a3c74f918a8bdb84f8388e1.jpg"/>
          <p:cNvPicPr/>
          <p:nvPr/>
        </p:nvPicPr>
        <p:blipFill>
          <a:blip r:embed="rId7"/>
          <a:stretch/>
        </p:blipFill>
        <p:spPr>
          <a:xfrm>
            <a:off x="4572000" y="3500280"/>
            <a:ext cx="4214520" cy="3071520"/>
          </a:xfrm>
          <a:prstGeom prst="rect">
            <a:avLst/>
          </a:prstGeom>
          <a:ln w="9525">
            <a:noFill/>
          </a:ln>
        </p:spPr>
      </p:pic>
      <p:sp>
        <p:nvSpPr>
          <p:cNvPr id="414" name="TextBox 10"/>
          <p:cNvSpPr/>
          <p:nvPr/>
        </p:nvSpPr>
        <p:spPr>
          <a:xfrm>
            <a:off x="6786720" y="5786280"/>
            <a:ext cx="235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АП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900igr.net/datas/okruzhajuschij-mir/ZHivotnye-Krasnoj-knigi/0018-018-Zapomn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14240"/>
            <a:ext cx="7043400" cy="52858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ftr" idx="5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0" y="857160"/>
            <a:ext cx="885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СПАСИБО 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ftr" idx="5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1"/>
          <a:stretch/>
        </p:blipFill>
        <p:spPr>
          <a:xfrm>
            <a:off x="233280" y="571320"/>
            <a:ext cx="8624880" cy="5071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941040" y="260280"/>
            <a:ext cx="7297200" cy="5128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785880" y="5643720"/>
            <a:ext cx="77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820800" y="479880"/>
            <a:ext cx="7597440" cy="42055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428840" y="5072040"/>
            <a:ext cx="6143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1187640" y="358200"/>
            <a:ext cx="6657480" cy="5509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1452600" y="588024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ftr" idx="2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1" descr=""/>
          <p:cNvPicPr/>
          <p:nvPr/>
        </p:nvPicPr>
        <p:blipFill>
          <a:blip r:embed="rId1"/>
          <a:stretch/>
        </p:blipFill>
        <p:spPr>
          <a:xfrm>
            <a:off x="611640" y="1052640"/>
            <a:ext cx="7954560" cy="45097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1015560" y="5833080"/>
            <a:ext cx="691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611280" y="343800"/>
            <a:ext cx="7848360" cy="4922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826920" y="5516640"/>
            <a:ext cx="74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ftr" idx="3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103</TotalTime>
  <Application>LibreOffice/7.4.7.2$Linux_X86_64 LibreOffice_project/40$Build-2</Application>
  <AppVersion>15.0000</AppVersion>
  <Words>600</Words>
  <Paragraphs>276</Paragraphs>
  <Company>IPP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0:16:35Z</dcterms:created>
  <dc:creator>---</dc:creator>
  <dc:description/>
  <dc:language>en-US</dc:language>
  <cp:lastModifiedBy>LEGION</cp:lastModifiedBy>
  <dcterms:modified xsi:type="dcterms:W3CDTF">2015-11-27T10:46:36Z</dcterms:modified>
  <cp:revision>95</cp:revision>
  <dc:subject/>
  <dc:title>Красная книга Краснода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7</vt:r8>
  </property>
  <property fmtid="{D5CDD505-2E9C-101B-9397-08002B2CF9AE}" pid="3" name="PresentationFormat">
    <vt:lpwstr>Екран (4:3)</vt:lpwstr>
  </property>
  <property fmtid="{D5CDD505-2E9C-101B-9397-08002B2CF9AE}" pid="4" name="Slides">
    <vt:r8>37</vt:r8>
  </property>
</Properties>
</file>