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254D-B5ED-4E14-8588-A0DAD38B1B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Волобуева Юлия 7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на тему:разнообразие па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зентация на тему:разнообразие паук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ядовиты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ная вд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о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ahoma"/>
              </a:rPr>
              <a:t>спосибо за внимани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27C-B176-45F9-B35C-6145C15D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26E-C8CE-431A-B182-0ADCB755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987-4D7C-420A-A282-BBFE2BE1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586-556E-4C41-88A3-F79C1338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E34F5-BD90-4686-8782-3501E072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62506-F040-418F-BB17-E254E07D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7CF95-0961-4301-924E-2E68EBBB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5E5B7-64E3-4565-B1D0-01647D7E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96F21-CCBA-4C66-BDAA-68969B49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DABCE-4AED-4B14-AF43-8A1A4511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84CA8-858A-4BCE-B6D2-4512C598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143-571A-4C83-863E-FFBB8550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873B4-13DB-4CB8-B781-4F608618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11569-4134-432C-AA94-0E4557AA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36C6B-5DD4-4D00-84AA-A9F4A767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E6EA2-5998-43B5-B2B5-C9B10C1B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E7FF1-B76E-48F5-870C-309AC20E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297-0C2A-42CA-9868-09D667E8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27F-8AE7-480A-9CBA-9ED20FD7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71C-8B89-43E6-BAFE-8D806A6D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468-587B-4BE3-9B32-AE83B826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029-03BA-4697-A43D-21C4408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8A0-414C-47CD-A2C5-E0E0D06F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B05-E994-4152-A791-65411C1C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80A1-70FD-4B7B-A941-62D40156EA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3E7C-6C5C-48B5-8180-3E71292228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24000" y="1484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на тему:разнообразие пау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888000" cy="40338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989000"/>
            <a:ext cx="54705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о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9:44Z</dcterms:created>
  <dc:creator>Admin</dc:creator>
  <dc:description/>
  <dc:language>en-US</dc:language>
  <cp:lastModifiedBy>LEGION</cp:lastModifiedBy>
  <dcterms:modified xsi:type="dcterms:W3CDTF">2015-11-27T10:45:39Z</dcterms:modified>
  <cp:revision>5</cp:revision>
  <dc:subject/>
  <dc:title>Презентация на тему разнообразие пауков</dc:title>
</cp:coreProperties>
</file>