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ABEE-8C8F-415A-ADE2-9B49E416DD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Волобуева Юлия 7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на тему:разнообразие па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зентация на тему:разнообразие паук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ядовиты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ная вд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о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ahoma"/>
              </a:rPr>
              <a:t>спосибо за внимани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1C9-74B5-4671-ADD7-A9104DB0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C02-19CA-4ADB-AEE5-8F0AC22A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56C-E86F-48FB-977A-2CB2CA34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25E-A6F4-4F5C-81AA-682EA212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C0B4E-9CEE-4E88-81C1-C237BD4E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34DAB-279A-4948-A07D-88D29C0A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F8969-DE6A-445B-822F-84ACAE44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BFAA4-7492-47F0-B48E-BC7486F3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73B39-E2EE-45A2-B19C-4C99E4F2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C9F5D-10A2-473A-871A-EE42B25A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D0E56-0215-4B5D-9302-58544F9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0C4-3942-46BA-845E-67D56B7F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867B1-62E7-414A-898D-073FEB6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27232-C2C3-4B3D-920C-1DC49D9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01C0B-07E8-45F3-916C-84BF3F2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3CC4C-DD3D-42F0-B5E4-6349FDBB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E5DB0-7623-4109-BF65-B0E3E8CD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CB0-D09C-4E46-9C7A-30D2BAC1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895-9E6D-4E20-BB3C-8F7FDDAD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83C-A3CB-457C-835F-949B5BB0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FB1-1F9A-439D-B3EB-AA988A9C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3F6-1050-40D0-8E85-ACF04A2B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0FD-5DFC-4F76-A74A-ADDEB36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9B3-AFE3-49B7-943F-B52C2D8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E618-8521-40B4-9562-268C5708E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5DED-7DA8-41D6-B5A6-9ECEA631B7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24000" y="1484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на тему:разнообразие пау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888000" cy="40338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989000"/>
            <a:ext cx="54705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о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9:44Z</dcterms:created>
  <dc:creator>Admin</dc:creator>
  <dc:description/>
  <dc:language>en-US</dc:language>
  <cp:lastModifiedBy>LEGION</cp:lastModifiedBy>
  <dcterms:modified xsi:type="dcterms:W3CDTF">2015-11-27T10:45:39Z</dcterms:modified>
  <cp:revision>5</cp:revision>
  <dc:subject/>
  <dc:title>Презентация на тему разнообразие пауков</dc:title>
</cp:coreProperties>
</file>