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D0B3-0372-479F-AD06-E48166073C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Волобуева Юлия 7 «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на тему:разнообразие пау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зентация на тему:разнообразие паук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ядовиты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ная вд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о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Tahoma"/>
              </a:rPr>
              <a:t>спосибо за внимани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322-5B26-40FC-99B1-F591A747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936-9EED-4F98-BFE8-31633BC3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30C-60C7-4496-971E-23BC8FF8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5BBB-F85F-4BE9-8BE0-EE69B1EA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5CAD6-1B58-4A92-9570-BE71F5B5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F6F7B-4ADC-441D-A3E8-9BA48DFF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B1841-7320-478A-9AE8-CD8EAD6A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A0CD1-7B96-4CCA-A9C4-89509B45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64E59-94D2-4966-B193-8C0994C5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0B24E-B168-4FCF-955B-F07A8162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3AC3B-2099-465D-9759-121D5BD6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F42-0A56-4204-A85B-AF296915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EFB27-9D6D-4067-AD27-2DAD2674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FC626-9D51-4E52-A64B-9AE9D198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BF62B-F88D-4DA5-B672-E88EA9D3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29CA8-DE48-4B11-AFCB-96A70D35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222C3-5324-4493-A0CE-59EBD6A4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F6F-ECB0-4B18-A91E-722BC792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25D-CB37-49E1-8FC2-901D7434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F97-9629-4D07-B24A-0F5BE242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386-157D-4628-9BCB-CC4A60C3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3BF-9F51-4247-AEFF-28D9DE5F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E7D-1559-4D22-824D-98ABC652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A2F-902D-416D-B5F1-C8AFEBC3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8E92-B9A3-43E7-AB9D-5788EE330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E4BC-8097-4731-A6D7-F9E13B4703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324000" y="1484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я на тему:разнообразие паук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3888000" cy="40338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835280" y="1989000"/>
            <a:ext cx="54705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осибо 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49:44Z</dcterms:created>
  <dc:creator>Admin</dc:creator>
  <dc:description/>
  <dc:language>en-US</dc:language>
  <cp:lastModifiedBy>LEGION</cp:lastModifiedBy>
  <dcterms:modified xsi:type="dcterms:W3CDTF">2015-11-27T10:45:39Z</dcterms:modified>
  <cp:revision>5</cp:revision>
  <dc:subject/>
  <dc:title>Презентация на тему разнообразие пауков</dc:title>
</cp:coreProperties>
</file>