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41B-FFF9-4A8A-B596-9099FFD91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BCC0-E6E7-42E8-82F5-8A2197FF8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8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79E1-F924-4125-9CDA-18CBE3BB0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171A-37BD-4F08-BA02-2F1BDD2A5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FB08-929A-4C9C-A79E-50ED7AF29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5699-6093-4325-89A5-0E81C6689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D6A5-BC48-4903-9169-A11F4754D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D32F-3574-49A7-A536-DC79F2D27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7AF9-CBC2-4F4E-BC5B-066DA8118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3FC-7FD0-4CE0-A2D3-F8B52CC927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EBE-4741-40B6-8348-FB8249336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BA25-6D3A-45ED-A4AD-9387E9A30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0287-597B-496E-BA12-F7AB52589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97AC-5B0E-470D-8547-8D6345D9F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BE27-AD3A-4583-8441-EADB9C1F92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3EEC-63EB-43F2-877C-56797FC43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A278-8380-40FB-949A-3B859D3E4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8C4D-24BA-4201-B1D5-9D11EDEF3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4304-1E2C-4FD3-A533-368FBE3C9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CF44-88FB-496A-9588-AC0473A3E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9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07B9-DC8A-46ED-88B9-32378E6B2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0B80-E551-4BEA-AF26-129E19F6F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3682-69A3-4E70-A95D-81C9373A74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AD29-34FE-4B83-904A-F78DC92C2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7CAF-9D19-4D2A-B13E-B28A4C915A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8C18-7FC8-4312-A7F4-6B2BCA213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CDB0-479B-4413-878D-D0492AE77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6150-20B5-46A1-85A3-C71FDA2CD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340D-72E2-4F81-8AAB-82467A910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F942-98A2-4964-B7EA-C79D00AB9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639C-0D05-4B7A-B33B-0BAAD53F4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E985-F371-43B4-BFF3-801AB7798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DB08-74F8-456A-BFD2-01823D228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C8AF-DAE7-443A-B114-E4470B048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B0BB-A020-4DAF-B75E-66D585F75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4F2E-022B-4DFD-BED0-7F9EF858D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E81-2823-47A6-BCE1-B61D6E84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825-209C-4FD7-86C1-4A08D716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714-4B62-4DF3-81EF-023AA7B6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00F-3E90-41EE-9366-CDB1882F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7C4-8F27-4114-9F4B-AA85F2C5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FBE-1954-484D-B6EB-7C06166D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1ED-B3DB-4274-B557-E6B4E378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465-1B4A-4E01-AFF8-2E6CE4C6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BC0-82DC-497E-BD5A-F21203D5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AF5-DD27-458E-AF51-7EBAF31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5B1-F6AF-4E21-B6E3-4F7FB7F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A9B-A350-4140-AE22-EFFCA696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5469-943B-47D7-BF61-8A315580A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0:08:18Z</dcterms:modified>
  <cp:revision>67</cp:revision>
  <dc:subject>История русской философии - Лекция 3</dc:subject>
  <dc:title>Западники</dc:title>
</cp:coreProperties>
</file>