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6D76-6875-4675-A5A9-2E0C29BB09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8EEF-E627-4D62-8DAC-8408835E6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8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C6FE-91B1-4571-9A16-97F0E9691C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2FC5-5472-48A9-9C14-2E139F8AC5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213A-838D-4619-B202-B3492CFA53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64B3-3745-4BCD-B21C-767CED1E4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7BC7-A211-419B-90D1-E0C6D7A6C7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2BA6-779D-4F7B-9C72-5FAB50A961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9907-6D91-4A46-A322-CA7E162567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0AA2-6843-4DB7-95B2-39492A36DD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B2B2-F3F8-4BCB-83B0-34D4353D7D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08EE-E3FD-4AA1-BB65-6526D34520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F233-EE61-44D9-8AFC-26D8CA405E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A815-08C4-42A8-81FB-1AA966DDF3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5872-0B42-4EE2-A33C-1A4B2C12E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FE68-0B65-492C-8373-F3C904FFA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C7BD-0082-4B32-99A5-5FAF791E5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158A-2A10-4D90-A1D6-16766A4C55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126D-1B34-4D71-88C7-D54591B2A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65C8-16A2-43EE-A32D-C944978EC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9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BF6B-1960-49A6-81CA-886E9920F4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F5D9-0E6C-411E-B798-D67F674362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3F62-FF86-457C-88E8-933B6DD0D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54DD-9D64-4566-971F-8487BBECD2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4193-F882-48F7-B983-D89D0208A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85A1-CF43-490D-835B-42EC939B71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2239-189D-49BF-8DF7-D471CBED2D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DA55-71BB-49C9-BF78-8F4E9B8AE6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53DB-92EE-4346-917A-B75991FB0F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EFE1-C484-4CF9-88A1-3F30A19DD6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EC60-E8D0-4357-9535-F7FCE751AF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DE69-FE8F-4EE1-99AA-F9D5CDF06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7DF5-8ACD-447F-AD88-6519EDF545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965D-10A0-48EE-9C02-9E938BD526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F734-2E41-4F6C-9BEB-B7FB6D4D9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6A07-6792-426F-8774-1813F385A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B327-BB28-4B6D-A34F-E6638DC6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673-D052-4F55-8C74-CDE16D66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E36-B7CF-470A-BC83-B0CC9C47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4E9-BADC-45A5-A9C9-72BCDD10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EAB-13B0-4373-9423-DEB26C18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68D-EA05-467C-A09C-44EBA6BC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B954-4EAB-428F-8BC6-E1E65CD4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D64E-474D-4D2B-83E8-37EDBA4A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F484-B82F-4122-A778-6D05CDBA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622-590C-43C8-B351-1922CCA2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1895-015D-400A-9E33-085426B4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81A-934D-45FA-966B-A446EF5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2634-6467-454F-8561-190E3DCA02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тория русской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3642840"/>
            <a:ext cx="64008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10800000">
            <a:off x="286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ория не возвращ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ь богата тканя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икогда не б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ужны старые плать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восстанов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 рестав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всегда маскарад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697080" y="49291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й 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лонники исторического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славянофилы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оя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бывали, что всё, происшед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 Петра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же истор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то никакая живая сил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говоря уже о выходцах с того све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ла ни вычеркну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ившиеся факт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устранить их последств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, сверх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к чему возвращаться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ударственная жизн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петровской Росс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ла уродлива, бедна, дика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к ней-то и хотели славя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вратиться, хотя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признаются в этом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городский вечевой колок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только перелит в пуш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тром, а снят с колоколь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оанном Васильевич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епостное состояни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реплено ревизией при Пет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введено Годуновым;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 и кнут, батоги, пле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ются гораздо преж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пицрутенов и фух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9010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форма и дух Запа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дходили Росс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что же было общ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нею и устрой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точной Римской империи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эта Византия, как не Рим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времён упад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им без славных воспомина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угрызений совести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893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352260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видно благотвор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лияние восточной церкви?</a:t>
            </a:r>
            <a:br>
              <a:rPr sz="1800"/>
            </a:b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сточ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никла в Россию в цвету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етлую киевскую эпох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еликом князе Влади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привела Россию к печаль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гнусным временам, описан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[то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шихиным, она утверд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лагословила все мер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ятые против свободы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4120" y="1798560"/>
            <a:ext cx="3292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петровская Россия была ничем не лучше петровс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византийском наследии нет ничего цен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лияние восточной церкви было чисто негати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74920" y="4965840"/>
            <a:ext cx="270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развит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волю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ых основ быт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чно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щная мысль Запа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й примы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 длинная история 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стоян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лодотвори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родыши, дремл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триарха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у славянск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имчивый характер славя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нствен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 самодеяте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ольша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воения и пластициз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их по преимуществу народо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ающимся в других народ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не вполне довлеют себ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знаю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воззрение на Европ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третит у нас дурной приё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для утешения себ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отим другой Европ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рим в неё так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 христиане верят в ра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падничество как утоп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живши год, другой в Европ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 удивлением видим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ые люд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оответству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му понятию о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раздо ниже е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400" y="1798560"/>
            <a:ext cx="323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. Белинский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1‑1848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2‑187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 Н. Гранов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 В. Станкевич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. А. Бакун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Белинский (2)"/>
          <p:cNvPicPr/>
          <p:nvPr/>
        </p:nvPicPr>
        <p:blipFill>
          <a:blip r:embed="rId1"/>
          <a:stretch/>
        </p:blipFill>
        <p:spPr>
          <a:xfrm>
            <a:off x="3741840" y="1906560"/>
            <a:ext cx="17096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7" name="Picture 5" descr="герцен"/>
          <p:cNvPicPr/>
          <p:nvPr/>
        </p:nvPicPr>
        <p:blipFill>
          <a:blip r:embed="rId2"/>
          <a:stretch/>
        </p:blipFill>
        <p:spPr>
          <a:xfrm>
            <a:off x="5380200" y="226692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8" name="Picture 6" descr="Грановский"/>
          <p:cNvPicPr/>
          <p:nvPr/>
        </p:nvPicPr>
        <p:blipFill>
          <a:blip r:embed="rId3"/>
          <a:stretch/>
        </p:blipFill>
        <p:spPr>
          <a:xfrm>
            <a:off x="6923160" y="2625840"/>
            <a:ext cx="1800000" cy="180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станкевич"/>
          <p:cNvPicPr/>
          <p:nvPr/>
        </p:nvPicPr>
        <p:blipFill>
          <a:blip r:embed="rId4"/>
          <a:stretch/>
        </p:blipFill>
        <p:spPr>
          <a:xfrm>
            <a:off x="4030560" y="3670200"/>
            <a:ext cx="1616040" cy="179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8" descr="Бакунин (2)"/>
          <p:cNvPicPr/>
          <p:nvPr/>
        </p:nvPicPr>
        <p:blipFill>
          <a:blip r:embed="rId5"/>
          <a:stretch/>
        </p:blipFill>
        <p:spPr>
          <a:xfrm>
            <a:off x="5576760" y="4030560"/>
            <a:ext cx="1328760" cy="179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9" descr="Кавелин (2)"/>
          <p:cNvPicPr/>
          <p:nvPr/>
        </p:nvPicPr>
        <p:blipFill>
          <a:blip r:embed="rId6"/>
          <a:stretch/>
        </p:blipFill>
        <p:spPr>
          <a:xfrm>
            <a:off x="6837480" y="4389480"/>
            <a:ext cx="1587240" cy="18003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12760" y="1690200"/>
            <a:ext cx="6478560" cy="467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деал, составленный н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ходят элементы верные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уществующие бол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совершенно изменившие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ыцарская добле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ящество аристократических нрав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рогая чинность протестан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ая независимость англичан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кошная жизнь итальянских художник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рящийся ум энциклопедист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рачная энергия террористов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 это переплавилось и перероди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лую совокупность друг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подствующих нравов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щанских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49120" y="1797840"/>
            <a:ext cx="6297840" cy="449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ое поколение име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го Бога – капита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имеет богов кроме ег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а прийти к покой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иренному сознанию, что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ещанств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кончательная фор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овершеннолетие – état adulte;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мыкается длинный ря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ё снови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канчивается эпопея рост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ман юности – всё, вносивш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ко поэзии и бед в жизнь народов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полусвободный Запа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до смотрел на Россию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давленную императорским трон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азованная Россия, вздых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отрела на счастие старших брат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ремя прошло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венство рабства водвор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е бессилие Зап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вропа показ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дивительну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оциальному перевороту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умаем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ссия не так неспособна к н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этом сходимся со славянам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этом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а вера в её будущност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рестьянский соци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историческая миссия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 rot="10800000">
            <a:off x="250560" y="1797840"/>
            <a:ext cx="62974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х пор, как туман, покрывавш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вральскую революцию, рассеял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кая простота заменила путаницу,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ось только два интересных вопрос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 социальный и вопрос русск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ущности эти два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один и тот 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умное и свободное разви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ого народного быт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падает с стремле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адного социализм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Герцен2"/>
          <p:cNvPicPr/>
          <p:nvPr/>
        </p:nvPicPr>
        <p:blipFill>
          <a:blip r:embed="rId1"/>
          <a:stretch/>
        </p:blipFill>
        <p:spPr>
          <a:xfrm>
            <a:off x="6837480" y="1906560"/>
            <a:ext cx="1976400" cy="251928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655680" y="5397480"/>
            <a:ext cx="21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И. Герце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Былое и дум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. Н. Гранов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5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2200" y="3057120"/>
            <a:ext cx="3965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екции по истории средневековь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9/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современном состоянии и значении всеобщей исто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Грановский"/>
          <p:cNvPicPr/>
          <p:nvPr/>
        </p:nvPicPr>
        <p:blipFill>
          <a:blip r:embed="rId1"/>
          <a:stretch/>
        </p:blipFill>
        <p:spPr>
          <a:xfrm>
            <a:off x="466560" y="1798560"/>
            <a:ext cx="431820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3" name="Text Box 7"/>
          <p:cNvSpPr/>
          <p:nvPr/>
        </p:nvSpPr>
        <p:spPr>
          <a:xfrm>
            <a:off x="5218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 В. Станкевич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3-18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1520" y="3238200"/>
            <a:ext cx="389412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публ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5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станкевич"/>
          <p:cNvPicPr/>
          <p:nvPr/>
        </p:nvPicPr>
        <p:blipFill>
          <a:blip r:embed="rId1"/>
          <a:stretch/>
        </p:blipFill>
        <p:spPr>
          <a:xfrm>
            <a:off x="4857840" y="1798560"/>
            <a:ext cx="387972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78" name="Text Box 8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4-18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Бакунин (2)"/>
          <p:cNvPicPr/>
          <p:nvPr/>
        </p:nvPicPr>
        <p:blipFill>
          <a:blip r:embed="rId1"/>
          <a:stretch/>
        </p:blipFill>
        <p:spPr>
          <a:xfrm>
            <a:off x="5397480" y="1798560"/>
            <a:ext cx="319248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2877840"/>
            <a:ext cx="407376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я в Герма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2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дерализм, социализм и антитеолог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е рассуждения о божественном призраке, о действительном мире 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человек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0-187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осударственность и анарх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79056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тика револю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нергия всеобъемл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и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тивореч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раз состоит в неуста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сожжении положитель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чистом огне отрицат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049800" y="539748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еакция в Герман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 rot="10800000">
            <a:off x="17892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Бога обяза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полагает отреч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человеческого разум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й справедливости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является отрицанием человече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ы и неизбежно прив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к теоретическ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и к практическому рабству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ли Бог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чит, человек – раб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к разумен, справедли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ен, – значит, Бога нет.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73480" y="5218200"/>
            <a:ext cx="31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Федерализм, социал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антитеологиз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апад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. 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уманистический персон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религии и социальной роли церк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. Герце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очарование в Запа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. А. 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тика револю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тит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культурного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. А. Бакун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арх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 rot="10800000">
            <a:off x="431640" y="1797840"/>
            <a:ext cx="539928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спотизм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только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ли вла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в сам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сударства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итической власт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617080" y="5218200"/>
            <a:ext cx="339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. А. Бакун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нуто-германска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пер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циальная револю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Бакунин (2)"/>
          <p:cNvPicPr/>
          <p:nvPr/>
        </p:nvPicPr>
        <p:blipFill>
          <a:blip r:embed="rId1"/>
          <a:stretch/>
        </p:blipFill>
        <p:spPr>
          <a:xfrm>
            <a:off x="6440400" y="1906560"/>
            <a:ext cx="1936800" cy="216072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. Д. Кавели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8-18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317840" y="3057120"/>
            <a:ext cx="4289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юридический быт древней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психоло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 этик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466560" y="1798560"/>
            <a:ext cx="31593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03" name="Text Box 8"/>
          <p:cNvSpPr/>
          <p:nvPr/>
        </p:nvSpPr>
        <p:spPr>
          <a:xfrm>
            <a:off x="4713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чностное начало как предпосылка прогр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6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Когда мы говорим, что нар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ет, мыслит, чувствует,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жаемся отвлечённо: соб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уют, чувствуют, мысл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ицы, лица, его составляющ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личность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ю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а по себе своё бесконеч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условное достоинство, –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е условие всяк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развития наро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. Д. Кавели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развитость личностного начал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 rot="10800000">
            <a:off x="2806200" y="1797840"/>
            <a:ext cx="61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по себе он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общинное начало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имело зачатков жизни и развит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клонилось всё более и бол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упадку, потому что не бы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о на личном начал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вом необходимом услов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й гражданственност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Кавелин, Константин Дмитриевич (sm10)"/>
          <p:cNvPicPr/>
          <p:nvPr/>
        </p:nvPicPr>
        <p:blipFill>
          <a:blip r:embed="rId1"/>
          <a:stretch/>
        </p:blipFill>
        <p:spPr>
          <a:xfrm>
            <a:off x="324000" y="1727280"/>
            <a:ext cx="2504880" cy="3105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61800" y="500220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Д. Кавели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згляд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юридический бы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евней Росс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падники и славяноф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4"/>
          <p:cNvSpPr/>
          <p:nvPr/>
        </p:nvSpPr>
        <p:spPr>
          <a:xfrm>
            <a:off x="59436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Самобытность (национал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32004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Универсализм (космополитизм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2"/>
          <p:cNvSpPr/>
          <p:nvPr/>
        </p:nvSpPr>
        <p:spPr>
          <a:xfrm>
            <a:off x="457200" y="5275440"/>
            <a:ext cx="27432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окультур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1"/>
          <p:cNvSpPr/>
          <p:nvPr/>
        </p:nvSpPr>
        <p:spPr>
          <a:xfrm>
            <a:off x="59436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Вера и религ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0"/>
          <p:cNvSpPr/>
          <p:nvPr/>
        </p:nvSpPr>
        <p:spPr>
          <a:xfrm>
            <a:off x="32004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Разум и нау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9"/>
          <p:cNvSpPr/>
          <p:nvPr/>
        </p:nvSpPr>
        <p:spPr>
          <a:xfrm>
            <a:off x="457200" y="43704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ховная ори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8"/>
          <p:cNvSpPr/>
          <p:nvPr/>
        </p:nvSpPr>
        <p:spPr>
          <a:xfrm>
            <a:off x="59436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рганическое развит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7"/>
          <p:cNvSpPr/>
          <p:nvPr/>
        </p:nvSpPr>
        <p:spPr>
          <a:xfrm>
            <a:off x="32004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Общественный догов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6"/>
          <p:cNvSpPr/>
          <p:nvPr/>
        </p:nvSpPr>
        <p:spPr>
          <a:xfrm>
            <a:off x="457200" y="3463920"/>
            <a:ext cx="2743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литическ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5"/>
          <p:cNvSpPr/>
          <p:nvPr/>
        </p:nvSpPr>
        <p:spPr>
          <a:xfrm>
            <a:off x="59436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продукт стихийного развит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32004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"/>
              </a:rPr>
              <a:t>Культура как сознательное творчеств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>
            <a:off x="457200" y="2505240"/>
            <a:ext cx="274320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ая онт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9436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32004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Arial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457200" y="1600200"/>
            <a:ext cx="27432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457200" y="2505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7"/>
          <p:cNvSpPr/>
          <p:nvPr/>
        </p:nvSpPr>
        <p:spPr>
          <a:xfrm>
            <a:off x="457200" y="34639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8"/>
          <p:cNvSpPr/>
          <p:nvPr/>
        </p:nvSpPr>
        <p:spPr>
          <a:xfrm>
            <a:off x="457200" y="4370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9"/>
          <p:cNvSpPr/>
          <p:nvPr/>
        </p:nvSpPr>
        <p:spPr>
          <a:xfrm>
            <a:off x="457200" y="5275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0"/>
          <p:cNvSpPr/>
          <p:nvPr/>
        </p:nvSpPr>
        <p:spPr>
          <a:xfrm>
            <a:off x="457200" y="6180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1"/>
          <p:cNvSpPr/>
          <p:nvPr/>
        </p:nvSpPr>
        <p:spPr>
          <a:xfrm>
            <a:off x="4572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2"/>
          <p:cNvSpPr/>
          <p:nvPr/>
        </p:nvSpPr>
        <p:spPr>
          <a:xfrm>
            <a:off x="32004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3"/>
          <p:cNvSpPr/>
          <p:nvPr/>
        </p:nvSpPr>
        <p:spPr>
          <a:xfrm>
            <a:off x="5943600" y="1600200"/>
            <a:ext cx="0" cy="457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>
            <a:off x="8686800" y="1600200"/>
            <a:ext cx="0" cy="4579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8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0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. Белинский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1‑18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7840" y="3057480"/>
            <a:ext cx="41464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гляд на русскую литературу 1846 го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вет «Москвитянину»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о к Гоголю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Белинский (2)"/>
          <p:cNvPicPr/>
          <p:nvPr/>
        </p:nvPicPr>
        <p:blipFill>
          <a:blip r:embed="rId1"/>
          <a:stretch/>
        </p:blipFill>
        <p:spPr>
          <a:xfrm>
            <a:off x="466560" y="1798560"/>
            <a:ext cx="4102200" cy="431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7"/>
          <p:cNvSpPr/>
          <p:nvPr/>
        </p:nvSpPr>
        <p:spPr>
          <a:xfrm>
            <a:off x="50734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уманистический перс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 rot="10800000">
            <a:off x="2122560" y="1726920"/>
            <a:ext cx="6837120" cy="493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дьба субъекта, индивидуума, лич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жнее судеб всего мир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 и удалось взлезть на верхнюю ступ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стницы развития – я и там бы попроси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ас отдать мне отчёт во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ртв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ловий жизни и истории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аче я 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хней ступени бросаюсь вниз голов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хочу счастья и даром, если не бу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коен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чёт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ажд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моих братье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крови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ят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гармония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ловие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ожет быть, это очен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годно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сладительно для меломан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ж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для тех, кому сужд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зить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ей участью идею дисгармонии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8232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В. П. Ботк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религии и церк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ссия видит своё спасение не в мистициз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аскетизме, не в пиетизме, а в успех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ивилизации, просвещения и гуманност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й нужн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пове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слыша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!)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литв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довольно она твердила их!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буждение в народе чувства челове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стоинств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только веков потеря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грязи и навоз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а и законы, сообраз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с учением церкви, а с здравым смысл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раведливостью, и строгое, по возм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выполнение. А вместо этого она пред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ой ужасное зрелище страны,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где н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никаких гарантий для личности, че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ственности, но нет даже и полицейског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а, а есть только огромные корпора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х служебных воров и грабител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3840" y="503712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пись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. В. Гого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. Белински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славяноф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 rot="10800000">
            <a:off x="1869840" y="1510560"/>
            <a:ext cx="7126200" cy="52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 и важность этой литератур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ери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исто отрицательные…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ложите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рона их доктрин заключается в каких-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уманных, мистических предчувствия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беды Востока над Западом, котор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состоятельность обнаруживается факт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сти, всеми вместе и кажд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ознь. Но отрицательная сторона их уч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аздо более заслуживает вним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 том, что она говори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гниющ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дто бы Запа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Запада славянофил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шительно не понимают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рят его на восточный аршин), но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говоря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 русского европеизм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об этом они говорят много дельног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6960" y="5037120"/>
            <a:ext cx="232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Г. Бел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гляд на русску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ератур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846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Белинский (2)"/>
          <p:cNvPicPr/>
          <p:nvPr/>
        </p:nvPicPr>
        <p:blipFill>
          <a:blip r:embed="rId1"/>
          <a:stretch/>
        </p:blipFill>
        <p:spPr>
          <a:xfrm>
            <a:off x="431640" y="1906560"/>
            <a:ext cx="1781280" cy="21574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4240" y="2877840"/>
            <a:ext cx="43974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сьма об изучении природ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45‑18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того берег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развитии революционных идей в Росс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ий народ и социализ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ое и думы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52‑18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герцен"/>
          <p:cNvPicPr/>
          <p:nvPr/>
        </p:nvPicPr>
        <p:blipFill>
          <a:blip r:embed="rId1"/>
          <a:stretch/>
        </p:blipFill>
        <p:spPr>
          <a:xfrm>
            <a:off x="4857840" y="1798560"/>
            <a:ext cx="388296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9" name="Text Box 7"/>
          <p:cNvSpPr/>
          <p:nvPr/>
        </p:nvSpPr>
        <p:spPr>
          <a:xfrm>
            <a:off x="771984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1128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. Герцен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812‑18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итика славянофиль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обратимость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ционность славянофильского иде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ед национального обособ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очарование в Запа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адничество как утоп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щанский характер западного 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пособность Запада осуществить собственный социальный иде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рестьянский социализм и историческая миссия Росс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8:04Z</dcterms:created>
  <dc:creator>Николай Бирюков / Nikolai Biryukov</dc:creator>
  <dc:description>Версия марта 2006 г.</dc:description>
  <dc:language>en-US</dc:language>
  <cp:lastModifiedBy>LEGION</cp:lastModifiedBy>
  <dcterms:modified xsi:type="dcterms:W3CDTF">2014-11-11T10:08:18Z</dcterms:modified>
  <cp:revision>67</cp:revision>
  <dc:subject>История русской философии - Лекция 3</dc:subject>
  <dc:title>Западники</dc:title>
</cp:coreProperties>
</file>