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16A6-6003-4A18-8BC0-1E3ADFC2CB2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A1C-2102-462D-ADE1-2F5826FB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DE8-C21E-4F1C-ABE5-79A5B62A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3CB-9F2E-4AA2-9E9D-F35912C7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106-1186-42DF-9752-89D83956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F058-4E6E-469B-B4F9-D51BA98C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3BC3-D49C-4EC1-88F5-190C20A0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835E-EEAD-4564-BBCB-0F94FFE5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6609-FCD6-4BD2-AAFA-2539B517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D1F4-F895-4482-AFCA-0C19FA4A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0E22-D974-46F3-ADAD-9DE26B4B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4C1E-D627-4923-A0B2-89172AD2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835-D7F0-4A31-B98C-FC58A495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24DA-B1BE-4662-83EB-AD505144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15A4-8B14-4AD5-A3B9-53F8CEB5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D3B1-47E6-4A4F-9908-7C4E4866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5221-849A-46FD-B556-DB5BF197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724E-7664-4BB1-8DFB-36995E94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125-8FB8-4A87-AFCB-D8FDF81F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205-E979-4433-8748-D9692117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A60-4275-49E3-9E5B-F379B249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6F2-04A3-4916-8AB4-B66C45A3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959-A84D-49F6-A76E-3A864832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8D3-25A4-4BAE-A4C0-426DADDE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931-5F36-4632-9422-7164B08F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63E3-214C-42DA-979E-1D0BB784E29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BA8B-C820-46AD-B381-EA121B37B95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55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этап - 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403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1844640"/>
          <a:ext cx="8062920" cy="40798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536840"/>
                <a:gridCol w="1368360"/>
                <a:gridCol w="942840"/>
                <a:gridCol w="164952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л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п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43862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j0285444"/>
          <p:cNvPicPr/>
          <p:nvPr/>
        </p:nvPicPr>
        <p:blipFill>
          <a:blip r:embed="rId1"/>
          <a:stretch/>
        </p:blipFill>
        <p:spPr>
          <a:xfrm>
            <a:off x="5148360" y="2349360"/>
            <a:ext cx="3533760" cy="388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4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j0281904"/>
          <p:cNvPicPr/>
          <p:nvPr/>
        </p:nvPicPr>
        <p:blipFill>
          <a:blip r:embed="rId1"/>
          <a:stretch/>
        </p:blipFill>
        <p:spPr>
          <a:xfrm>
            <a:off x="493236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6964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ть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что такое  всхожесть семян б) благоприятные (оптимальные) услов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м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 определять всхожесть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ющ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налитическое мышление, способность выдвигать собственные гипотезы, аргументированно обосновывать 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спитательны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огласованная работа в коллективе, экономическое просвещ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j0233018"/>
          <p:cNvPicPr/>
          <p:nvPr/>
        </p:nvPicPr>
        <p:blipFill>
          <a:blip r:embed="rId1"/>
          <a:stretch/>
        </p:blipFill>
        <p:spPr>
          <a:xfrm>
            <a:off x="4788000" y="1916280"/>
            <a:ext cx="3600360" cy="38890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Организационный момент. Проверка готовности к рабо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Мотивация и целеполаг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 – работа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общения о результатах домашнего опыт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j0088542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8:12Z</dcterms:created>
  <dc:creator>КАТЯ</dc:creator>
  <dc:description/>
  <dc:language>en-US</dc:language>
  <cp:lastModifiedBy>LEGION</cp:lastModifiedBy>
  <dcterms:modified xsi:type="dcterms:W3CDTF">2015-11-27T10:45:30Z</dcterms:modified>
  <cp:revision>11</cp:revision>
  <dc:subject/>
  <dc:title>Педагогическая мастерская. Проект  урока «Спросим мнение самого растения». Биология, 6 класс</dc:title>
</cp:coreProperties>
</file>