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4014-0CC8-4045-B91C-D336D48BD12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384-827F-443D-A336-9F9F1CD1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BAC-1B4D-4C73-A478-9F5141B7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4E9-39E4-4A0E-8B99-808F2CCB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858-F8EC-4ABC-86A3-116A2C82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8471-6BA5-43EE-BE8E-B42E44B0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325B-13A1-4040-98DE-66770884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E5D4-58EC-4661-A7AE-B6FA39E4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884A-2B18-4457-AC7D-6826F2C6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5740-C132-4740-B707-CC3F615E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1D39-28FD-455C-9901-3323C0BC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98B7-8FBA-4CD9-8142-831BB931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EAD-17A5-45DC-9DF5-1AB55135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4202-E91C-4CD8-8267-2A88840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46C3-738F-47F9-BC67-F7E619A5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8B98-7C43-4F9F-BC22-61B65F23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B49F-D722-4A70-89AE-80A6ECC9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3516-2CFB-43F5-B3CA-47FC0284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F09-C8C6-484E-8801-434DBB1B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E74-5CC2-494B-A39C-B5766BC5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A2E-7DD5-465F-80BF-7921BE29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57D-F20A-4106-A7E9-0A0C9FA5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37E-B3E3-4036-B2A8-46EE9CD3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94E-3B54-4165-AF43-93CC94A5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EF4-2A41-46F8-81E6-3927157D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7A7D-F7D8-4B0B-B268-302CE4B12B5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B65A-94E4-4027-8498-FDCC0EAB815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55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этап - 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403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1844640"/>
          <a:ext cx="8062920" cy="40798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536840"/>
                <a:gridCol w="1368360"/>
                <a:gridCol w="942840"/>
                <a:gridCol w="164952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л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п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43862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j0285444"/>
          <p:cNvPicPr/>
          <p:nvPr/>
        </p:nvPicPr>
        <p:blipFill>
          <a:blip r:embed="rId1"/>
          <a:stretch/>
        </p:blipFill>
        <p:spPr>
          <a:xfrm>
            <a:off x="5148360" y="2349360"/>
            <a:ext cx="3533760" cy="388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4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j0281904"/>
          <p:cNvPicPr/>
          <p:nvPr/>
        </p:nvPicPr>
        <p:blipFill>
          <a:blip r:embed="rId1"/>
          <a:stretch/>
        </p:blipFill>
        <p:spPr>
          <a:xfrm>
            <a:off x="493236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6964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ть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что такое  всхожесть семян б) благоприятные (оптимальные) услов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м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 определять всхожесть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ющ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налитическое мышление, способность выдвигать собственные гипотезы, аргументированно обосновывать 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спитательны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огласованная работа в коллективе, экономическое просвещ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j0233018"/>
          <p:cNvPicPr/>
          <p:nvPr/>
        </p:nvPicPr>
        <p:blipFill>
          <a:blip r:embed="rId1"/>
          <a:stretch/>
        </p:blipFill>
        <p:spPr>
          <a:xfrm>
            <a:off x="4788000" y="1916280"/>
            <a:ext cx="3600360" cy="38890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Организационный момент. Проверка готовности к рабо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Мотивация и целеполаг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 – работа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общения о результатах домашнего опыт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j0088542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8:12Z</dcterms:created>
  <dc:creator>КАТЯ</dc:creator>
  <dc:description/>
  <dc:language>en-US</dc:language>
  <cp:lastModifiedBy>LEGION</cp:lastModifiedBy>
  <dcterms:modified xsi:type="dcterms:W3CDTF">2015-11-27T10:45:30Z</dcterms:modified>
  <cp:revision>11</cp:revision>
  <dc:subject/>
  <dc:title>Педагогическая мастерская. Проект  урока «Спросим мнение самого растения». Биология, 6 класс</dc:title>
</cp:coreProperties>
</file>