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2B7A3-C8BF-41C8-A8E4-DC36F19EFF72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к биологии, 6 класс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: Рост и развитие растений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итель биологии Мартыненко Екатерина Васильевн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У «Тихвинская СО школ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Урок биологии, 6 класс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Тема: Рост и развитие растений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Учитель биологии Мартыненко Екатерина Васильевн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МОУ «Тихвинская СО школа»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IV этап - рефлекс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щита своих проек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полняют таблицу – образе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водят итоги, делают выводы о практическом применении полученных зна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IV этап - рефлексия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Защита своих проектов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Заполняют таблицу – образец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Подводят итоги, делают выводы о практическом применении полученных знаний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рточка коррек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ветьте на вопрос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Для чего замачивают семена многих овощных растений перед посевом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Почему огурцы и томаты выращивают рассадным способом, а не сразу в грядк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Нужен ли свет для прорастания семян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Почему иногда не появляются всходы, хотя мы часто и обильно поливаем грядку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Мелкие сухие семена гороха посеяли на глубину 1см. Всходы не появились. Почему?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Карточка коррекции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Ответьте на вопросы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1. Для чего замачивают семена многих овощных растений перед посевом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2.Почему огурцы и томаты выращивают рассадным способом, а не сразу в грядки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3. Нужен ли свет для прорастания семян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4.Почему иногда не появляются всходы, хотя мы часто и обильно поливаем грядку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5.Мелкие сухие семена гороха посеяли на глубину 1см. Всходы не появились. Почему?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ложение №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чет по опыту «Условия прорастания семян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Цель опы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Как заложить опы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Описание или рисун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Наблюд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Результа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Приложение № 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Отчет по опыту «Условия прорастания семян»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1.Цель опыта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2.Как заложить опыт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3.Описание или рисунок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4.Наблюдение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5.Результат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ложение №2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каждая группа заполняет свою строчку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Приложение №2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(каждая группа заполняет свою строчку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еническая мастерская. Проект  урока «Спросим мнение самого растения». Урок биологии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 клас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 урока «Рост и развитие растений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ип урока по Д.Ц – проблемно-проектн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ип урока по форме – лабораторный практику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Ученическая мастерская. Проект  урока «Спросим мнение самого растения». Урок биологии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6 класс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Тема урока «Рост и развитие растений»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Тип урока по Д.Ц – проблемно-проектный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Тип урока по форме – лабораторный практикум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туальность ур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шла весна,  пора рабо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ка еще на солнечном окн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 семена проверены на всхоже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в ящички посеяны в тепл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ы ждем чудес – и вот они, пожалуйста, вот появился маленький росток.         Расти огурчик, мне так сильно хочется  отправить тебя     поскорей в роток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Актуальность урока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Пришла весна,  пора работы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пока еще на солнечном окне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Все семена проверены на всхожесть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И в ящички посеяны в тепле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Мы ждем чудес – и вот они, пожалуйста, вот появился маленький росток.         Расти огурчик, мне так сильно хочется  отправить тебя     поскорей в роток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и уро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 Образовательны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нать: а)что такое  всхожесть семян б) благоприятные (оптимальные) услов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меть: а) определять всхожесть семя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ставить опыт по определению необходимых условий для прорастания семя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Развивающие: аналитическое мышление, способность выдвигать собственные гипотезы, аргументированно обосновывать и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Воспитательные: согласованная работа в коллективе, экономическое просвещ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Цели урока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1 Образовательные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знать: а)что такое  всхожесть семян б) благоприятные (оптимальные) условия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уметь: а) определять всхожесть семян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б) ставить опыт по определению необходимых условий для прорастания семян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2. Развивающие: аналитическое мышление, способность выдвигать собственные гипотезы, аргументированно обосновывать их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3. Воспитательные: согласованная работа в коллективе, экономическое просвещение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ебная цел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яснить, какие условия необходимы для прорастания семян, где это знание может пригодиться в жизни, а также для чего определяют всхожесть семя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Учебная цель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Выяснить, какие условия необходимы для прорастания семян, где это знание может пригодиться в жизни, а также для чего определяют всхожесть семян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апы урока - мастерск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I этап. Организационный момент. Проверка готовности к работ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II этап. Мотивация и целеполага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БЛЕ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Из года в год тополя, березы, ивы, одуванчики образуют сотни тысяч семян. Зачем их так много? Почему прорастают только единицы семян?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Этапы урока - мастерской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I этап. Организационный момент. Проверка готовности к работе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II этап. Мотивация и целеполагание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ПРОБЛЕМА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«Из года в год тополя, березы, ивы, одуванчики образуют сотни тысяч семян. Зачем их так много? Почему прорастают только единицы семян?»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абораторный опыт (домашнее задани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ести эксперимент по прорастанию семян. Составить отчет по форм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Цель опы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Семена каких растений посея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Условия посева, время посе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Время появления первых пророст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трольных и опытн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 Выводы, оформление рабо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Лабораторный опыт (домашнее задание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Провести эксперимент по прорастанию семян. Составить отчет по форме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1.Цель опыта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2. Семена каких растений посеяны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3.Условия посева, время посева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4. Время появления первых проростков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контрольных и опытных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5 Выводы, оформление работы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ние группа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Подумайте, зарисуйте  или запишите:» Что нужно семени для появления на свет проростка?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жно нарисовать те условия, которые вы считаете необходимыми для прорастания семени. (проект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Обсуждение предлож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Выберите одно из условий прорастания семян для выполнения проекта (по жребию) – вода, тепло, воздух, зародыш с запасом питательных вещест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Задание группам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1. Подумайте, зарисуйте  или запишите:» Что нужно семени для появления на свет проростка?»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Можно нарисовать те условия, которые вы считаете необходимыми для прорастания семени. (проект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2. Обсуждение предложений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3. Выберите одно из условий прорастания семян для выполнения проекта (по жребию) – вода, тепло, воздух, зародыш с запасом питательных веществ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III этап – работа над проект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поставить опыт, чтобы доказать необходимость тех или иных условий для прорастания семян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увидеть происходящие изменени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отразить результаты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представить классу свои выводы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судите в группе вопросы и подготовьтесь к защите своего проекта. (сообщения о результатах домашнего опыта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III этап – работа над проектом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Как поставить опыт, чтобы доказать необходимость тех или иных условий для прорастания семян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Как увидеть происходящие изменения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Как отразить результаты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Как представить классу свои выводы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Обсудите в группе вопросы и подготовьтесь к защите своего проекта. (сообщения о результатах домашнего опыта)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3E241-B25C-4918-89F7-0BB393E0D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2D470-F176-400F-9E6D-387EB77E2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C3C51-4491-437F-A58F-9DB800B19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A067D-D567-4037-840A-E1E057A55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DF617-FA95-4F72-9A74-F9A987A7F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190E0-DC0D-4DC1-A25C-04A949A1B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C4797-8DF9-4E61-ADDB-AAF9196BA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86FD3-4919-4203-96E4-319839AF2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AB220-6315-4CFC-B1AF-182598BBD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1EAA5-325C-498E-BB5B-F791CBC81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B9F2E-D33E-43F5-9C35-D5D5A7A04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62246-A4D0-44B7-B509-91FAE174C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2C322-1B38-4E55-A916-C97E4847E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40420-9622-4729-BAAB-010F35C94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55D59-E5F5-4D60-8C5A-CAB3A2F43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72301-06C7-4E5C-AE65-E1F791C6F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E670B-3519-4F17-A7B6-F33A208ED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AE041-A62A-4119-AF5A-1EEA5E157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3F7B5-B88B-4CFF-A721-345B79B2E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C911C-0DDA-4603-BA8E-AC6B9E3BF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3778E-FEC4-4815-81C0-982021D3E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CEDE4-BE99-4CF4-BD55-CD5393F0E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B5423-D758-411B-A142-0DB2208D8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6F896-1D58-4204-AA1B-768063C69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9F68B-2A94-4C53-9F67-88F0C9FA61BC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F74BC-6D0D-4515-B7AA-34FBACBBC4F1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199280" cy="550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Урок биологии, 6 класс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Тема: Рост и развитие растений.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Учитель биологии Мартыненко Екатерина Васильевна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МОУ «Тихвинская СО школа»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V</a:t>
            </a: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 этап - рефлексия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Защита своих проектов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Заполняют таблицу – образец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Подводят итоги, делают выводы о практическом применении полученных знаний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Карточка коррекции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Ответьте на вопросы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1. Для чего замачивают семена многих овощных растений перед посевом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2.Почему огурцы и томаты выращивают рассадным способом, а не сразу в грядки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3. Нужен ли свет для прорастания семян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4.Почему иногда не появляются всходы, хотя мы часто и обильно поливаем грядку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5.Мелкие сухие семена гороха посеяли на глубину 1см. Всходы не появились. Почему?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Приложение № 1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Отчет по опыту «Условия прорастания семян»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1.Цель опыт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2.Как заложить опы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3.Описание или рисунок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4.Наблюдение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5.Результа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4000" y="188640"/>
            <a:ext cx="6840360" cy="143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Приложение №2</a:t>
            </a:r>
            <a:br>
              <a:rPr sz="4000"/>
            </a:b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(каждая группа заполняет свою строчку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685800" y="1844640"/>
          <a:ext cx="8062920" cy="4079880"/>
        </p:xfrm>
        <a:graphic>
          <a:graphicData uri="http://schemas.openxmlformats.org/drawingml/2006/table">
            <a:tbl>
              <a:tblPr/>
              <a:tblGrid>
                <a:gridCol w="1282680"/>
                <a:gridCol w="1282680"/>
                <a:gridCol w="1536840"/>
                <a:gridCol w="1368360"/>
                <a:gridCol w="942840"/>
                <a:gridCol w="1649520"/>
              </a:tblGrid>
              <a:tr h="1058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№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п/п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Влаг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Возду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Тепл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Све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Результа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4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4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4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4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4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4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9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91520" cy="2146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Ученическая мастерская. Проект  урока «Спросим мнение самого растения». Урок биологии,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6 класс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2492280"/>
            <a:ext cx="4386240" cy="38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Тема урока «Рост и развитие растений»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Тип урока по Д.Ц – проблемно-проектный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Тип урока по форме – лабораторный практикум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2" name="Picture 6" descr="j0285444"/>
          <p:cNvPicPr/>
          <p:nvPr/>
        </p:nvPicPr>
        <p:blipFill>
          <a:blip r:embed="rId1"/>
          <a:stretch/>
        </p:blipFill>
        <p:spPr>
          <a:xfrm>
            <a:off x="5148360" y="2349360"/>
            <a:ext cx="3533760" cy="3888000"/>
          </a:xfrm>
          <a:prstGeom prst="rect">
            <a:avLst/>
          </a:prstGeom>
          <a:ln w="0">
            <a:noFill/>
          </a:ln>
        </p:spPr>
      </p:pic>
      <p:sp>
        <p:nvSpPr>
          <p:cNvPr id="163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4000" y="-31644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Актуальность урок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424656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Пришла весна,  пора работы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пока еще на солнечном окне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Все семена проверены на всхожесть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И в ящички посеяны в тепле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Мы ждем чудес – и вот они, пожалуйста, вот появился маленький росток.         Расти огурчик, мне так сильно хочется  отправить тебя     поскорей в роток!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6" name="Picture 8" descr="j0281904"/>
          <p:cNvPicPr/>
          <p:nvPr/>
        </p:nvPicPr>
        <p:blipFill>
          <a:blip r:embed="rId1"/>
          <a:stretch/>
        </p:blipFill>
        <p:spPr>
          <a:xfrm>
            <a:off x="4932360" y="1989000"/>
            <a:ext cx="3456000" cy="3456000"/>
          </a:xfrm>
          <a:prstGeom prst="rect">
            <a:avLst/>
          </a:prstGeom>
          <a:ln w="0">
            <a:noFill/>
          </a:ln>
        </p:spPr>
      </p:pic>
      <p:sp>
        <p:nvSpPr>
          <p:cNvPr id="167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55280" y="-31644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Цели урока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39280" y="1557360"/>
            <a:ext cx="7696440" cy="466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Образовательные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знать: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Comic Sans MS"/>
              </a:rPr>
              <a:t>а)что такое  всхожесть семян б) благоприятные (оптимальные) условия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уметь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: </a:t>
            </a:r>
            <a:r>
              <a:rPr b="1" i="1" lang="ru-RU" sz="2400" spc="-1" strike="noStrike">
                <a:solidFill>
                  <a:srgbClr val="000000"/>
                </a:solidFill>
                <a:latin typeface="Comic Sans MS"/>
              </a:rPr>
              <a:t>а) определять всхожесть семян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mic Sans MS"/>
              </a:rPr>
              <a:t>б) ставить опыт по определению необходимых условий для прорастания семян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2.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Развивающие: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Comic Sans MS"/>
              </a:rPr>
              <a:t>аналитическое мышление, способность выдвигать собственные гипотезы, аргументированно обосновывать их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3.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Воспитательные: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Comic Sans MS"/>
              </a:rPr>
              <a:t>согласованная работа в коллективе, экономическое просвещение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Учебная цель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77676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ыяснить, какие условия необходимы для прорастания семян, где это знание может пригодиться в жизни, а также для чего определяют всхожесть семян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3" name="Picture 6" descr="j0233018"/>
          <p:cNvPicPr/>
          <p:nvPr/>
        </p:nvPicPr>
        <p:blipFill>
          <a:blip r:embed="rId1"/>
          <a:stretch/>
        </p:blipFill>
        <p:spPr>
          <a:xfrm>
            <a:off x="4788000" y="1916280"/>
            <a:ext cx="3600360" cy="3889080"/>
          </a:xfrm>
          <a:prstGeom prst="rect">
            <a:avLst/>
          </a:prstGeom>
          <a:ln w="0">
            <a:noFill/>
          </a:ln>
        </p:spPr>
      </p:pic>
      <p:sp>
        <p:nvSpPr>
          <p:cNvPr id="174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Этапы урока - мастерской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этап. Организационный момент. Проверка готовности к работе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I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этап. Мотивация и целеполагание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ПРОБЛЕМ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«Из года в год тополя, березы, ивы, одуванчики образуют сотни тысяч семян. Зачем их так много? Почему прорастают только единицы семян?»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Лабораторный опыт (домашнее задание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Провести эксперимент по прорастанию семян. Составить отчет по форме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1.Цель опыт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2. Семена каких растений посеяны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3.Условия посева, время посев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4. Время появления первых проростков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контрольных и опытных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5 Выводы, оформление работы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Задание группам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1. Подумайте, зарисуйте  или запишите:» Что нужно семени для появления на свет проростка?»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Можно нарисовать те условия, которые вы считаете необходимыми для прорастания семени. (проект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2. Обсуждение предложений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3. Выберите одно из условий прорастания семян для выполнения проекта (по жребию) – вода, тепло, воздух, зародыш с запасом питательных веществ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II </a:t>
            </a: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этап – работа над проектом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299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Как поставить опыт, чтобы доказать необходимость тех или иных условий для прорастания семян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Как увидеть происходящие изменения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Как отразить результаты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Как представить классу свои выводы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Обсудите в группе вопросы и подготовьтесь к защите своего проекта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(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сообщения о результатах домашнего опыта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6" name="Picture 7" descr="j0088542"/>
          <p:cNvPicPr/>
          <p:nvPr/>
        </p:nvPicPr>
        <p:blipFill>
          <a:blip r:embed="rId1"/>
          <a:stretch/>
        </p:blipFill>
        <p:spPr>
          <a:xfrm>
            <a:off x="0" y="5589720"/>
            <a:ext cx="9144000" cy="1268280"/>
          </a:xfrm>
          <a:prstGeom prst="rect">
            <a:avLst/>
          </a:prstGeom>
          <a:ln w="0">
            <a:noFill/>
          </a:ln>
        </p:spPr>
      </p:pic>
      <p:sp>
        <p:nvSpPr>
          <p:cNvPr id="187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2T14:28:12Z</dcterms:created>
  <dc:creator>КАТЯ</dc:creator>
  <dc:description/>
  <dc:language>en-US</dc:language>
  <cp:lastModifiedBy>LEGION</cp:lastModifiedBy>
  <dcterms:modified xsi:type="dcterms:W3CDTF">2015-11-27T10:45:30Z</dcterms:modified>
  <cp:revision>11</cp:revision>
  <dc:subject/>
  <dc:title>Педагогическая мастерская. Проект  урока «Спросим мнение самого растения». Биология, 6 класс</dc:title>
</cp:coreProperties>
</file>