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B6EE-5787-4640-AD96-216C26CA0A4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троение клетк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10 клас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: «Общая биология 10-11 клас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А. Каменский, Е.А. Криксунов, В.В. Пасечни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рофа», 2010г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ающий урок по тем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Строение клетки»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10 класс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бник: «Общая биология 10-11 класс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.А. Каменский, Е.А. Криксунов, В.В. Пасечник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Дрофа», 2010г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общающий урок по тем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: «Радуга чувств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моции- это чёткий показатель на правильном ли мы пути …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флексия: «Радуга чувств»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Эмоции- это чёткий показатель на правильном ли мы пути …»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«Радуга чувств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 Мысли создают эмоци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«Радуга чувств»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 Мысли создают эмоции…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интеграция учебного материала по теме «Строение клетки»,как способ синхронизированного обучения, направленный на развитие познавательного интер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ль: интеграция учебного материала по теме «Строение клетки»,как способ синхронизированного обучения, направленный на развитие познавательного интере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аспекты изучения строения клет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аспекты изучения строения клетк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«класте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цитологии:                                                                Клеточная те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вая микроскопия                                                                                                                   Т. Шванн и М. Шлейд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ая микроскопия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нирующая электронная микроско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ьтрацентрифуг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образие клеток:                                                             Органоиды клет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ариотические                                                                                                    Ядро и ядрышко. Митохондрии. ЭПС. Комплек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и                                                                                                                                    Гольджи. Лизосомы. Клеточный центр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укариотические                                                Цитоплазматическая мембра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, грибы, животные                      Белковые молекулы. Молекулы липи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кле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«кластера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цитологии:                                                                Клеточная теор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ветовая микроскопия                                                                                                                   Т. Шванн и М. Шлейде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лектронная микроскопия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канирующая электронная микроскоп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льтрацентрифугир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ногообразие клеток:                                                             Органоиды клетк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кариотические                                                                                                    Ядро и ядрышко. Митохондрии. ЭПС. Комплекс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актерии                                                                                                                                    Гольджи. Лизосомы. Клеточный центр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укариотические                                                Цитоплазматическая мембран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тения, грибы, животные                      Белковые молекулы. Молекулы липид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оение клет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теграция учебных зн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Интеграция учебных знаний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группа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сякое обучение по своей сути есть создание условий для развития личности…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И.С. Якиман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таж учите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я в группах учащиеся готовят ответ на 5  вопр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ается регламент выступления-3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твете соблюда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. Лог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. Ответ развёрнут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. Нагляд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и оценки учащих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5»- все требования соблюд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4»-нет чёткой логики  в излож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3»-не все вопросы раскры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а в группах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Всякое обучение по своей сути есть создание условий для развития личности…»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И.С. Якиманск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руктаж учител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ая в группах учащиеся готовят ответ на 5  вопрос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блюдается регламент выступления-3 ми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ответе соблюдаетс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). Лог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). Ответ развёрнут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). Нагляд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терии оценки учащихс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5»- все требования соблюде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4»-нет чёткой логики  в изложен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3»-не все вопросы раскры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Какие молекулы органических веществ присутствуют в мембране клет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ак свойства липидов влияют на функции, выполняемые цитоплазматической мембра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акое имеет значение для клетки гидрофильность молекул липид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олекулы белка располагаются на внешней, внутренней стороне мембраны либо пронизывают её насквозь,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*. Какова роль углеводов, расположенных на поверхности белковых молекул в мемб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обс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 Физ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  Хи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Какой принцип лежит в основе строения школьного микроскоп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В чём отличие светового микроскопа от электронно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очему возникла идея использования в микроскопе вместо луча света поток электрон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ие возможности для изучения клетки раскрывает сканирующий микроскоп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*. Для выделения и изучения отдельных органоидов клетки используют метод  ультрацентрифугирования. На какие знания из области физики опирается этот метод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Какие молекулы органических веществ присутствуют в мембране клеток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Как свойства липидов влияют на функции, выполняемые цитоплазматической мембраной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Какое имеет значение для клетки гидрофильность молекул липидов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Молекулы белка располагаются на внешней, внутренней стороне мембраны либо пронизывают её насквозь, почему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*. Какова роль углеводов, расположенных на поверхности белковых молекул в мемб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н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ы для обсужд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  Физ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   Хи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Какой принцип лежит в основе строения школьного микроскопа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В чём отличие светового микроскопа от электронного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Почему возникла идея использования в микроскопе вместо луча света поток электронов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Какие возможности для изучения клетки раскрывает сканирующий микроскоп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*. Для выделения и изучения отдельных органоидов клетки используют метод  ультрацентрифугирования. На какие знания из области физики опирается этот метод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.Вопросы для обсуж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«Цитоплазма и цитоскелет»                                                             II «Ядро- как важнейшая структура клет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Чем представлена цитоплазма клетки?                                                                             эукарио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ак называется основное вещество цитоплазмы?                1. Каково строение яд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Что относится к опорной системе цитоплазмы?                      2. Почему ядро называют  «хранилище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ово строение микротрубочек?                                                            наследственной информ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акую функцию выполняет цитоплазма?                                   3. Что такое хромосомный набор,  как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разновидн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ие хромосомы называют гомологич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Отличается ли набор хромосом соматических и              III     «Мембранные органоиды»                                                                                                                половых клет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структура располагается вблизи яд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о  строение и функции рибос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 комплекса Гольдж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митохондрии называют « силовыми станциями» клет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а роль хлоропластов и клеточных включен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.Вопросы для обсужде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иолог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 «Цитоплазма и цитоскелет»                                                             II «Ядро- как важнейшая структура клеток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Чем представлена цитоплазма клетки?                                                                             эукариот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Как называется основное вещество цитоплазмы?                1. Каково строение ядра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Что относится к опорной системе цитоплазмы?                      2. Почему ядро называют  «хранилищем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Каково строение микротрубочек?                                                            наследственной информаци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Какую функцию выполняет цитоплазма?                                   3. Что такое хромосомный набор,  каков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го разновидност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Какие хромосомы называют гомологичным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Отличается ли набор хромосом соматических и              III     «Мембранные органоиды»                                                                                                                половых клеток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ая структура располагается вблизи ядра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ово  строение и функции рибосом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начение  комплекса Гольдж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чему митохондрии называют « силовыми станциями» клетк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ова роль хлоропластов и клеточных включений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нк подведения ит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    Физ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   Хи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   Биологи-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V   Биологи-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V    Биологи-I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бал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            1  2   3  4 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анк подведения итог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уп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     Физ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    Хи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I   Биологи-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V   Биологи-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V    Биологи-I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ий балл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ы:            1  2   3  4 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A2AF-BD31-4DC0-8058-C2CAEFF32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F720-0D0B-4F00-ABBD-CE9843DA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C219-098B-4E03-9CBC-E56705804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880E-49DC-48B2-87E6-92D8641F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CBE9-548D-4BEF-9ABD-E5CFDFB0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DF24-3E63-4752-A082-AEECD059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7737-6FA5-41B5-9AB5-F65EAE3F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E875-BBD0-4871-B955-47EE9C4B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DD1A-F534-40A1-A75F-6753721A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5EAF-CCC1-4535-87D9-B56FF7B4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F088-059D-4986-84A3-C58DD4A4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5713-F0A7-49E8-878C-2D680CE9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FB47-5485-4732-82CA-6022E7BC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8233-F7CE-40F5-BD22-AF20EB1E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B2BE-C2CB-4504-833A-C9DB1DC9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45F6-871D-4965-B2AE-1E3E2250B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6614-45EB-4424-90EB-3B22DA6AF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BEA5E-4E8A-4BFB-9422-DA43A004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688D7-D43A-49FD-A419-B2834F3C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E7157-7E28-470E-8E56-E407F93F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1163C-CBCE-4D6E-BFC3-F3E41F51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710EF-5D93-4ECD-992C-F92F0BBE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75D8-8B65-4B5B-95BD-D02FCB09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46159-90A7-42DF-9DF8-312B387A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5D969-9558-4948-AB37-2D5409CA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A187A-752D-411E-B14B-9DFF7E0C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54CD6-8B2D-4437-8A9D-FA5C1558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334D4-90AE-492C-A409-A2BC2431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319FA-5555-4BC5-81B3-F8416113B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55870-DC72-4781-A9EE-DE15CC0D8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D7771-D5BE-4C07-A941-C89C14EA0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3E0B9-97D7-43ED-91EA-1677BA8F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BEE17-BCC3-4EE7-9875-E7E771B3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ECF2-E4FB-49BB-A53F-CDDD6345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36CA6-37D6-4AE0-ABAE-5111A7B0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EA45D-1264-4E52-BD3B-26672A5A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C13E6-22C7-4BC3-AD66-29BD8239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6BC2B-B021-4B7E-BD2D-3C471BE1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1613D-5091-42D8-B1AE-D4D37CB7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93ADF-6733-48CA-B854-5B5796B1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446E8-FD2C-4128-BB05-DBFF1B43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44A46-74BF-4832-976B-8F641A97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5A7BD-07AC-451A-8B34-7E69F5FAD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C5CFB-26C4-4F1E-9276-A82102CE3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52BB-6D7C-45F0-8F0C-C807DF96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C08F2-00C6-4917-BDA7-FD8C9A50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CB60D-E869-4F14-BAB8-EDB126ED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09152-7423-43EB-A4B2-3847A7A4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51E9E-F431-4205-92D6-CD2E8A98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4A32D-FAA5-4149-BD5E-AE2CCDE9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B244B-24CD-45E6-AAE8-B17B5644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803E7-4A0B-4812-9599-0B4E058A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3A802-C0BB-478F-8EDE-24A28B0F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566E5-494A-4A36-9C20-6036C145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D94E8-43D4-464B-9911-1287E951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96E2-B6B5-46CA-9C5E-1EDB608A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49042-A497-4773-886F-56B235C9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421D7-B885-42FD-923C-57C6CE61D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84854-11E1-43BC-81D8-78D43AD9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D2866-3E4B-429E-BB67-C80425F3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7C1F0-D27C-474B-90A6-1BA7605F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9BB83-AF1C-4A07-B1D9-99B1F59A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36E82-DD8F-4617-A062-9167F335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8E3AC-9C7C-4B72-8F08-6FB152B4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CE5DD-EA9E-4546-B6B8-AF52D6E2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301B7-BA04-4D9A-91DA-D0152BD6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83F0-4BAA-4A44-BE1C-006F6D03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FB036-B4DB-460B-9879-C6F452E7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B8349-02BC-43AC-8B8D-5416BE53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1FB68-1888-4D5E-B3A9-1B8EBCAF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9DAD6-871A-424C-B827-0B1087C7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40BA9-11DA-4A11-8480-03316993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89421-9374-4623-AFF2-2563AF98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E0716-D351-4092-ADAA-BC0BE711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4BD2A-8B9B-49B2-9D40-240C97E0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B810E-9936-45E9-AE36-0D2817FE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2B827-A6BB-4C2C-B27F-B8173B38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B5A5-F415-4AFB-AB42-4571AD7A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0716B-402E-48CE-8705-06B53279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8BA78-57E3-460F-9659-C220A658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D39FB-4073-40EA-9062-C9A91364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86FD5-F224-4D07-A2EA-89E06DA45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7D4F3-DB8C-495F-9722-35FC147CF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A5B1-B4D4-4373-962D-71129021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9014-DE8F-49F5-9034-41AB1ABA5BB2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4AB4-AE98-4F69-A3A0-8F683F1A2692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94CE-94DE-47DB-84E0-02D8E68022EC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39A7-732C-411E-8B5D-1288B620ABD4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1AF6-51F5-45B7-A954-F86E1555D5E9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DD91-2DE0-4CB8-8EE5-88ED5422089A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1159-0C0D-40D3-8524-26C9FD6B55C6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360C-E1FA-4F59-887C-37E75B5EBF52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F75C-408E-4320-A519-567A8E094B60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0AA5-1262-48D0-B55B-C4526B2DCB01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08A4-3F1B-482A-A2DF-9C009C3EE654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8A5D-0DE5-4B12-A297-60762939B969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242E-BA43-40DB-A448-F1A956E3E150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37A5-EE2F-48EC-93D6-15258BF3AF29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725400" y="4254480"/>
            <a:ext cx="7961400" cy="22129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Обобщающий урок по теме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1624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ru-RU" sz="4000" spc="-1" strike="noStrike">
                <a:solidFill>
                  <a:srgbClr val="835e01"/>
                </a:solidFill>
                <a:latin typeface="Consolas"/>
              </a:rPr>
              <a:t>Рефлексия: «Радуга чувств»</a:t>
            </a:r>
            <a:br>
              <a:rPr sz="4000"/>
            </a:br>
            <a:r>
              <a:rPr b="0" lang="ru-RU" sz="2000" spc="-1" strike="noStrike">
                <a:solidFill>
                  <a:srgbClr val="835e01"/>
                </a:solidFill>
                <a:latin typeface="Consolas"/>
              </a:rPr>
              <a:t>«Эмоции- это чёткий показатель на правильном ли мы пути …».</a:t>
            </a:r>
            <a:br>
              <a:rPr sz="2000"/>
            </a:b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5" name="Схема 3" descr=""/>
          <p:cNvPicPr/>
          <p:nvPr/>
        </p:nvPicPr>
        <p:blipFill>
          <a:blip r:embed="rId1"/>
          <a:stretch/>
        </p:blipFill>
        <p:spPr>
          <a:xfrm>
            <a:off x="1523880" y="1712880"/>
            <a:ext cx="6096240" cy="4784760"/>
          </a:xfrm>
          <a:prstGeom prst="rect">
            <a:avLst/>
          </a:prstGeom>
          <a:ln w="0">
            <a:noFill/>
          </a:ln>
        </p:spPr>
      </p:pic>
      <p:pic>
        <p:nvPicPr>
          <p:cNvPr id="416" name="Схема 4" descr=""/>
          <p:cNvPicPr/>
          <p:nvPr/>
        </p:nvPicPr>
        <p:blipFill>
          <a:blip r:embed="rId2"/>
          <a:stretch/>
        </p:blipFill>
        <p:spPr>
          <a:xfrm>
            <a:off x="1566720" y="2567160"/>
            <a:ext cx="6113520" cy="2863800"/>
          </a:xfrm>
          <a:prstGeom prst="rect">
            <a:avLst/>
          </a:prstGeom>
          <a:ln w="0">
            <a:noFill/>
          </a:ln>
        </p:spPr>
      </p:pic>
      <p:sp>
        <p:nvSpPr>
          <p:cNvPr id="417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20204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en-US" sz="4000" spc="-1" strike="noStrike">
                <a:solidFill>
                  <a:srgbClr val="c58d01"/>
                </a:solidFill>
                <a:latin typeface="Consolas"/>
              </a:rPr>
              <a:t>II</a:t>
            </a:r>
            <a:r>
              <a:rPr b="0" lang="ru-RU" sz="4000" spc="-1" strike="noStrike">
                <a:solidFill>
                  <a:srgbClr val="c58d01"/>
                </a:solidFill>
                <a:latin typeface="Consolas"/>
              </a:rPr>
              <a:t>«Радуга чувств»</a:t>
            </a:r>
            <a:br>
              <a:rPr sz="4000"/>
            </a:br>
            <a:r>
              <a:rPr b="0" lang="ru-RU" sz="2800" spc="-1" strike="noStrike">
                <a:solidFill>
                  <a:srgbClr val="c58d01"/>
                </a:solidFill>
                <a:latin typeface="Consolas"/>
              </a:rPr>
              <a:t>« Мысли создают эмоции…»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9" name="Содержимое 4" descr=""/>
          <p:cNvPicPr/>
          <p:nvPr/>
        </p:nvPicPr>
        <p:blipFill>
          <a:blip r:embed="rId1"/>
          <a:stretch/>
        </p:blipFill>
        <p:spPr>
          <a:xfrm>
            <a:off x="914400" y="1779480"/>
            <a:ext cx="7772400" cy="459108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eeff"/>
                </a:solidFill>
                <a:latin typeface="Consolas"/>
              </a:rPr>
              <a:t>Цель:</a:t>
            </a: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ru-RU" sz="1800" spc="-1" strike="noStrike">
                <a:solidFill>
                  <a:srgbClr val="c1eeff"/>
                </a:solidFill>
                <a:latin typeface="Consolas"/>
              </a:rPr>
              <a:t>интеграция учебного материала по теме «Строение клетки»,как способ синхронизированного обучения, направленный на развитие познавательного интереса.</a:t>
            </a:r>
            <a:endParaRPr b="0" lang="en-US" sz="1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9" name="Содержимое 5" descr=""/>
          <p:cNvPicPr/>
          <p:nvPr/>
        </p:nvPicPr>
        <p:blipFill>
          <a:blip r:embed="rId1"/>
          <a:stretch/>
        </p:blipFill>
        <p:spPr>
          <a:xfrm>
            <a:off x="792000" y="1712880"/>
            <a:ext cx="7986960" cy="458460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eea"/>
                </a:solidFill>
                <a:latin typeface="Consolas"/>
              </a:rPr>
              <a:t> </a:t>
            </a:r>
            <a:r>
              <a:rPr b="0" lang="ru-RU" sz="3600" spc="-1" strike="noStrike">
                <a:solidFill>
                  <a:srgbClr val="007eea"/>
                </a:solidFill>
                <a:latin typeface="Consolas"/>
              </a:rPr>
              <a:t>Основные аспекты изучения строения клетки: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2" name="Содержимое 3" descr=""/>
          <p:cNvPicPr/>
          <p:nvPr/>
        </p:nvPicPr>
        <p:blipFill>
          <a:blip r:embed="rId1"/>
          <a:stretch/>
        </p:blipFill>
        <p:spPr>
          <a:xfrm>
            <a:off x="914400" y="1785960"/>
            <a:ext cx="7772400" cy="4572000"/>
          </a:xfrm>
          <a:prstGeom prst="rect">
            <a:avLst/>
          </a:prstGeom>
          <a:ln w="0">
            <a:noFill/>
          </a:ln>
        </p:spPr>
      </p:pic>
      <p:sp>
        <p:nvSpPr>
          <p:cNvPr id="383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5fe8d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f75"/>
                </a:solidFill>
                <a:latin typeface="Consolas"/>
              </a:rPr>
              <a:t>   </a:t>
            </a:r>
            <a:r>
              <a:rPr b="0" lang="ru-RU" sz="4000" spc="-1" strike="noStrike">
                <a:solidFill>
                  <a:srgbClr val="003f75"/>
                </a:solidFill>
                <a:latin typeface="Consolas"/>
              </a:rPr>
              <a:t>Создание «кластера»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5a50"/>
                </a:solidFill>
                <a:latin typeface="Corbel"/>
              </a:rPr>
              <a:t>Методы цитологии:                                                                Клеточная теория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Световая микроскопия                                                                                                                   Т. Шванн и М. Шлейден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Электронная микроскопия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Сканирующая электронная микроскопия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Ультрацентрифугирования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5a50"/>
                </a:solidFill>
                <a:latin typeface="Corbel"/>
              </a:rPr>
              <a:t>Многообразие клеток:                                                             Органоиды клетки: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Прокариотические                                                                                                    Ядро и ядрышко. Митохондрии. ЭПС. Комплекс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бактерии                                                                                                                                    Гольджи. Лизосомы. Клеточный центр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Эукариотические                                                </a:t>
            </a:r>
            <a:r>
              <a:rPr b="0" lang="ru-RU" sz="2000" spc="-1" strike="noStrike">
                <a:solidFill>
                  <a:srgbClr val="0d5a50"/>
                </a:solidFill>
                <a:latin typeface="Corbel"/>
              </a:rPr>
              <a:t>Цитоплазматическая мембрана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5a50"/>
                </a:solidFill>
                <a:latin typeface="Corbe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растения, грибы, животные</a:t>
            </a:r>
            <a:r>
              <a:rPr b="0" lang="ru-RU" sz="2000" spc="-1" strike="noStrike">
                <a:solidFill>
                  <a:srgbClr val="0d5a50"/>
                </a:solidFill>
                <a:latin typeface="Corbel"/>
              </a:rPr>
              <a:t>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Белковые молекулы. Молекулы липидов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Овал 3"/>
          <p:cNvSpPr/>
          <p:nvPr/>
        </p:nvSpPr>
        <p:spPr>
          <a:xfrm>
            <a:off x="3286080" y="3857760"/>
            <a:ext cx="3357720" cy="914400"/>
          </a:xfrm>
          <a:prstGeom prst="ellipse">
            <a:avLst/>
          </a:prstGeom>
          <a:solidFill>
            <a:srgbClr val="138677"/>
          </a:solidFill>
          <a:ln w="19080">
            <a:solidFill>
              <a:srgbClr val="0d5a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5a50"/>
                </a:solidFill>
                <a:latin typeface="Corbel"/>
              </a:rPr>
              <a:t>Строение клет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7" name="Прямая со стрелкой 5"/>
          <p:cNvCxnSpPr/>
          <p:nvPr/>
        </p:nvCxnSpPr>
        <p:spPr>
          <a:xfrm>
            <a:off x="5928840" y="4643280"/>
            <a:ext cx="715320" cy="64332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88" name="Прямая со стрелкой 7"/>
          <p:cNvCxnSpPr>
            <a:stCxn id="386" idx="3"/>
          </p:cNvCxnSpPr>
          <p:nvPr/>
        </p:nvCxnSpPr>
        <p:spPr>
          <a:xfrm flipH="1">
            <a:off x="3071520" y="4638240"/>
            <a:ext cx="707040" cy="64836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89" name="Прямая со стрелкой 10"/>
          <p:cNvCxnSpPr>
            <a:stCxn id="386" idx="4"/>
          </p:cNvCxnSpPr>
          <p:nvPr/>
        </p:nvCxnSpPr>
        <p:spPr>
          <a:xfrm>
            <a:off x="4964760" y="4772160"/>
            <a:ext cx="35640" cy="72936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90" name="Прямая со стрелкой 14"/>
          <p:cNvCxnSpPr/>
          <p:nvPr/>
        </p:nvCxnSpPr>
        <p:spPr>
          <a:xfrm flipV="1">
            <a:off x="5571000" y="3214440"/>
            <a:ext cx="715320" cy="71496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91" name="Прямая со стрелкой 19"/>
          <p:cNvCxnSpPr/>
          <p:nvPr/>
        </p:nvCxnSpPr>
        <p:spPr>
          <a:xfrm flipH="1" flipV="1">
            <a:off x="3142800" y="3357360"/>
            <a:ext cx="1000800" cy="78624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sp>
        <p:nvSpPr>
          <p:cNvPr id="392" name="Місце для нижнього колонтитула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28800" y="500040"/>
            <a:ext cx="7772400" cy="914400"/>
          </a:xfrm>
          <a:prstGeom prst="rect">
            <a:avLst/>
          </a:prstGeom>
          <a:solidFill>
            <a:srgbClr val="13867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5a50"/>
                </a:solidFill>
                <a:latin typeface="Consolas"/>
              </a:rPr>
              <a:t>Интеграция учебных знаний: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4" name="Содержимое 3" descr=""/>
          <p:cNvPicPr/>
          <p:nvPr/>
        </p:nvPicPr>
        <p:blipFill>
          <a:blip r:embed="rId1"/>
          <a:stretch/>
        </p:blipFill>
        <p:spPr>
          <a:xfrm>
            <a:off x="907920" y="1706400"/>
            <a:ext cx="7785360" cy="5516640"/>
          </a:xfrm>
          <a:prstGeom prst="rect">
            <a:avLst/>
          </a:prstGeom>
          <a:ln w="0">
            <a:noFill/>
          </a:ln>
        </p:spPr>
      </p:pic>
      <p:sp>
        <p:nvSpPr>
          <p:cNvPr id="39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8229600" cy="1162080"/>
          </a:xfrm>
          <a:prstGeom prst="rect">
            <a:avLst/>
          </a:prstGeom>
          <a:solidFill>
            <a:srgbClr val="00192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a1ca"/>
                </a:solidFill>
                <a:latin typeface="Consolas"/>
              </a:rPr>
              <a:t>Работа в группах.</a:t>
            </a:r>
            <a:br>
              <a:rPr sz="3600"/>
            </a:br>
            <a:r>
              <a:rPr b="0" lang="ru-RU" sz="1400" spc="-1" strike="noStrike">
                <a:solidFill>
                  <a:srgbClr val="f7a1ca"/>
                </a:solidFill>
                <a:latin typeface="Consolas"/>
              </a:rPr>
              <a:t>«Всякое обучение по своей сути есть создание условий для развития личности…»</a:t>
            </a:r>
            <a:br>
              <a:rPr sz="1400"/>
            </a:br>
            <a:r>
              <a:rPr b="0" lang="ru-RU" sz="1400" spc="-1" strike="noStrike">
                <a:solidFill>
                  <a:srgbClr val="f7a1ca"/>
                </a:solidFill>
                <a:latin typeface="Consolas"/>
              </a:rPr>
              <a:t>                                                                  И.С. Якиманская</a:t>
            </a:r>
            <a:endParaRPr b="0" lang="en-US" sz="1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434960"/>
            <a:ext cx="3171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0b3d"/>
                </a:solidFill>
                <a:latin typeface="Corbel"/>
              </a:rPr>
              <a:t>Инструктаж учител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Работая в группах учащиеся готовят ответ на 5  вопросов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Соблюдается регламент выступления-3 мин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При ответе соблюдается: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А). Логика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Б). Ответ развёрнутый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В). Наглядность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285800" y="1434960"/>
            <a:ext cx="4071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0b3d"/>
                </a:solidFill>
                <a:latin typeface="Corbel"/>
              </a:rPr>
              <a:t>   </a:t>
            </a:r>
            <a:r>
              <a:rPr b="0" lang="ru-RU" sz="2800" spc="-1" strike="noStrike">
                <a:solidFill>
                  <a:srgbClr val="750b3d"/>
                </a:solidFill>
                <a:latin typeface="Corbel"/>
              </a:rPr>
              <a:t>Критерии оценки учащихс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a1ca"/>
                </a:solidFill>
                <a:latin typeface="Corbel"/>
              </a:rPr>
              <a:t>«5»- все требования соблюдены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a1ca"/>
                </a:solidFill>
                <a:latin typeface="Corbel"/>
              </a:rPr>
              <a:t>«4»-нет чёткой логики  в изложени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a1ca"/>
                </a:solidFill>
                <a:latin typeface="Corbel"/>
              </a:rPr>
              <a:t>«3»-не все вопросы раскрыты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644720" y="2999880"/>
            <a:ext cx="4041720" cy="34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1. Какие молекулы органических веществ присутствуют в мембране клеток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2. Как свойства липидов влияют на функции, выполняемые цитоплазматической мембраной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3. Какое имеет значение для клетки гидрофильность молекул липидов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4. Молекулы белка располагаются на внешней, внутренней стороне мембраны либо пронизывают её насквозь, почему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5*. Какова роль углеводов, расположенных на поверхности белковых молекул в мемб</a:t>
            </a: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-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           </a:t>
            </a: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ране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4720" y="512640"/>
            <a:ext cx="7772400" cy="914400"/>
          </a:xfrm>
          <a:prstGeom prst="rect">
            <a:avLst/>
          </a:prstGeom>
          <a:solidFill>
            <a:srgbClr val="f7a1ca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50b3d"/>
                </a:solidFill>
                <a:latin typeface="Consolas"/>
              </a:rPr>
              <a:t>Вопросы для обсужден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809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65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157a"/>
                </a:solidFill>
                <a:latin typeface="Corbel"/>
              </a:rPr>
              <a:t>I</a:t>
            </a:r>
            <a:r>
              <a:rPr b="1" lang="ru-RU" sz="4000" spc="-1" strike="noStrike">
                <a:solidFill>
                  <a:srgbClr val="ea157a"/>
                </a:solidFill>
                <a:latin typeface="Corbel"/>
              </a:rPr>
              <a:t>  Физики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44720" y="1809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65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157a"/>
                </a:solidFill>
                <a:latin typeface="Corbel"/>
              </a:rPr>
              <a:t>II</a:t>
            </a:r>
            <a:r>
              <a:rPr b="1" lang="ru-RU" sz="4000" spc="-1" strike="noStrike">
                <a:solidFill>
                  <a:srgbClr val="ea157a"/>
                </a:solidFill>
                <a:latin typeface="Corbel"/>
              </a:rPr>
              <a:t>   Химики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2999880"/>
            <a:ext cx="4040280" cy="34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1. Какой принцип лежит в основе строения школьного микроскопа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2.В чём отличие светового микроскопа от электронного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3. Почему возникла идея использования в микроскопе вместо луча света поток электронов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4. Какие возможности для изучения клетки раскрывает сканирующий микроскоп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5*. Для выделения и изучения отдельных органоидов клетки используют метод  ультрацентрифугирования. На какие знания из области физики опирается этот метод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f7a1ca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 </a:t>
            </a:r>
            <a:r>
              <a:rPr b="0" lang="en-US" sz="4000" spc="-1" strike="noStrike">
                <a:solidFill>
                  <a:srgbClr val="b0105c"/>
                </a:solidFill>
                <a:latin typeface="Consolas"/>
              </a:rPr>
              <a:t>II</a:t>
            </a:r>
            <a:r>
              <a:rPr b="0" lang="ru-RU" sz="4000" spc="-1" strike="noStrike">
                <a:solidFill>
                  <a:srgbClr val="b0105c"/>
                </a:solidFill>
                <a:latin typeface="Consolas"/>
              </a:rPr>
              <a:t>.Вопросы для обсуждения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928800" y="1714680"/>
            <a:ext cx="7772400" cy="4572000"/>
          </a:xfrm>
          <a:prstGeom prst="rect">
            <a:avLst/>
          </a:prstGeom>
          <a:solidFill>
            <a:srgbClr val="750b3d"/>
          </a:solidFill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7d6ff"/>
                </a:solidFill>
                <a:latin typeface="Corbel"/>
              </a:rPr>
              <a:t>Биологи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73af"/>
                </a:solidFill>
                <a:latin typeface="Corbel"/>
              </a:rPr>
              <a:t>I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 «Цитоплазма и цитоскелет»                                                             </a:t>
            </a:r>
            <a:r>
              <a:rPr b="0" lang="en-US" sz="1200" spc="-1" strike="noStrike">
                <a:solidFill>
                  <a:srgbClr val="f273af"/>
                </a:solidFill>
                <a:latin typeface="Corbel"/>
              </a:rPr>
              <a:t>II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 «Ядро- как важнейшая структура клеток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1. Чем представлена цитоплазма клетки?                                                                             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эукариот»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2. Как называется основное вещество цитоплазмы?                1. Каково строение ядра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3.Что относится к опорной системе цитоплазмы?                      2. Почему ядро называют  «хранилищем»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4. Каково строение микротрубочек?                                                            наследственной информаци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5. Какую функцию выполняет цитоплазма?                                   3. Что такое хромосомный набор,  каковы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его разновидност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4. Какие хромосомы называют гомологичным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5. Отличается ли набор хромосом соматических и              </a:t>
            </a:r>
            <a:r>
              <a:rPr b="0" lang="en-US" sz="1200" spc="-1" strike="noStrike">
                <a:solidFill>
                  <a:srgbClr val="f273af"/>
                </a:solidFill>
                <a:latin typeface="Corbel"/>
              </a:rPr>
              <a:t>III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     «Мембранные органоиды»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половых клеток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Какая структура располагается вблизи ядра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Каково  строение и функции рибосом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Значение  комплекса Гольдж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Почему митохондрии называют « силовыми станциями» клетк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Какова роль хлоропластов и клеточных включений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13867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fe8d6"/>
                </a:solidFill>
                <a:latin typeface="Consolas"/>
              </a:rPr>
              <a:t>Бланк подведения итогов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-360" y="1809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Групп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56760" y="2286000"/>
            <a:ext cx="4040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     Физик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I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    Химик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II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   Биологи-</a:t>
            </a: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V   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Биологи</a:t>
            </a: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-I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V    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Биологи</a:t>
            </a: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-II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Общий балл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457440" y="1809360"/>
            <a:ext cx="568656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  </a:t>
            </a: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Вопросы:            1  2   3  4  5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7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2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15:36:13Z</dcterms:created>
  <dc:creator>Admin</dc:creator>
  <dc:description/>
  <dc:language>en-US</dc:language>
  <cp:lastModifiedBy>LEGION</cp:lastModifiedBy>
  <dcterms:modified xsi:type="dcterms:W3CDTF">2015-11-27T10:45:19Z</dcterms:modified>
  <cp:revision>44</cp:revision>
  <dc:subject/>
  <dc:title>«Строение клетки»     10 класс учебник: «Общая биология 10-11 класс А.А. Каменский, Е.А. Криксунов, В.В. Пасечник «Дрофа», 2010г.   </dc:title>
</cp:coreProperties>
</file>