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8335-4EB5-40C9-9485-1AD0E4DC49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ые реакции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 по те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лан урока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 световой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сновные выводы световой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, ОПАСНОС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НИМАНИЕ, ОПАСНОСТЬ!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ветовая и темнов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молекулы АТФ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гранах хлоропласт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по циклу Кальвин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лиз вод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(световая и темновая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E59-1556-4ECC-BE7F-E6B43968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7EE-64C6-42AD-84FE-61E73C55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CB6-64DF-40AF-BF0F-5C2652E5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9C1-D735-4FCF-9826-BD0CEB51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282C-0AA1-499E-9027-CCBB761C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77B2-AA71-45AE-956B-9DE1B33D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D558-0CA1-4175-9651-D758DD3A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4C39-990C-48B1-9CA3-2FB7BFA4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B9D7-B159-48C4-80F5-5C402B9F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9794-92CC-48D9-BB82-5E28B624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E57D-BF64-4A87-AF8A-EB802D50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5D2-60D3-4A7E-8DC9-9EE79521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F575-599E-42E7-8311-5B57DB98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1357-D35C-4747-9F15-CB06D29A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C8EF-2726-4219-A4B2-A60805D4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5D64-31DC-4CD9-85E8-5356D9CB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753E-1059-4DC1-9D4D-391C4737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9F8-F0B5-40DB-A033-7807E0C4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EE9-7C9F-4470-9DA2-174D47AB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676-0129-4227-91FA-6649F8E4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D0C-CE9B-409E-920D-DB2AB55C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C4B-C46B-4C3E-AB99-9003AE30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15C-4761-42FB-BA0D-982030E5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100-F606-4F55-BAFB-FCD7614C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2134-3A97-436C-AACE-46C94C4782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6E6D-92F7-4201-AD2A-EFC893A2CC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а урока:</a:t>
            </a: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 «Темновая фаза фотосинтез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7161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9efee"/>
                </a:solidFill>
                <a:latin typeface="Arial"/>
              </a:rPr>
              <a:t>План урока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Основные выводы световой фаз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·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Синтез глюкозы происходит в ходе циклического процесс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</a:t>
            </a: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2 ,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18 молекул АТФ, 12 НАДФ•Н и 24 прот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образование углерода в темновую фазу фотосинтез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484280"/>
          <a:ext cx="8207640" cy="5079960"/>
        </p:xfrm>
        <a:graphic>
          <a:graphicData uri="http://schemas.openxmlformats.org/drawingml/2006/table">
            <a:tbl>
              <a:tblPr/>
              <a:tblGrid>
                <a:gridCol w="3384720"/>
                <a:gridCol w="4822920"/>
              </a:tblGrid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нестойко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екулы пятиуглеродного соединения фиксируют углекислый газ, образуя нестойкое соеди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ФГ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стиуглеродное соединение под действием ферментов распадается на 2 трехуглеродные молекулы фосфоглицериновые кислоты (ФГ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3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помощью энергии АТФ и НАДФ•Н из трехуглеродной молекулы образуется молекула глюкозы и молекулы пятиуглеродного сахара (опять включается в цик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6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ммарное уравнение фотосинт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Значение фотосинтез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ВНИМАНИЕ, ОПАСНОСТЬ!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Групповая работа</a:t>
            </a:r>
            <a:br>
              <a:rPr sz="2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 (световая и темновая)</a:t>
            </a: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3:51:48Z</dcterms:created>
  <dc:creator>Admin</dc:creator>
  <dc:description/>
  <dc:language>en-US</dc:language>
  <cp:lastModifiedBy>LEGION</cp:lastModifiedBy>
  <dcterms:modified xsi:type="dcterms:W3CDTF">2015-11-27T10:46:16Z</dcterms:modified>
  <cp:revision>8</cp:revision>
  <dc:subject/>
  <dc:title>Тема урока: Темновая фаза фотосинтеза</dc:title>
</cp:coreProperties>
</file>