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F6EC-A615-4ECB-98BF-DCF0FC0677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 «Темновая фаза фотосинтез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новые реакции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 по тес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а урока: «Темновая фаза фотосинтеза»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лан урока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новые реакции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амостоятельная работа по тестам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Рефлексия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10 класс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ыводы световой ф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етках автотрофов происходит 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интез включает два типа реакций: световая и темновая ф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ые реакции идут на свету, в них участвуют пигменты – хлорофиллы и каротино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ые реакции протекают в гранах хлоропл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Основные выводы световой фаз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клетках автотрофов происходит фотосинтез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синтез включает два типа реакций: световая и темновая фаз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ветовые реакции идут на свету, в них участвуют пигменты – хлорофиллы и каротиноид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ветовые реакции протекают в гранах хлоропласт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новая фаза фотосинтеза осуществ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·Н. Синтез глюкозы происходит в ходе циклического проце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цикл Кальвина). Для синтеза одной молекулы глюкозы необходимо 6 оборотов цикла, 6 молекул СО2 ,  18 молекул АТФ, 12 НАДФ•Н и 24 прот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новая фаза фотосинтеза осуществляется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·Н. Синтез глюкозы происходит в ходе циклического процесса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(цикл Кальвина). Для синтеза одной молекулы глюкозы необходимо 6 оборотов цикла, 6 молекул СО2 ,  18 молекул АТФ, 12 НАДФ•Н и 24 протон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углерода в темновую фазу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еобразование углерода в темновую фазу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год на земле образуется 150 млрд. т органики и выделяется 200 млрд. т кисло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интез способствует образованию защитного озонового экрана вокруг план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а год на земле образуется 150 млрд. т органики и выделяется 200 млрд. т кислорода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синтез способствует образованию защитного озонового экрана вокруг планеты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, ОПАСНОС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НИМАНИЕ, ОПАСНОСТЬ!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перечисленные утверждения к фазам фотосинтез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ветовая и темнов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молекулярного кислород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молекулы АТФ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углеводов из углекислого газа и вод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ение хлорофилла фотоном свет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в гранах хлоропластов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по циклу Кальвин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лиз вод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электрона на более высокий энергетический уровен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углекислого газа до глюкоз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нергии молекулы АТФ на синтез углеводов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молекулы крахмала из глюкоз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образование протонов водород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оотнесите перечисленные утверждения к фазам фотосинтез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(световая и темновая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ыделение молекулярного кислород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интез молекулы АТФ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интез углеводов из углекислого газа и воды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озбуждение хлорофилла фотоном свет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текает в гранах хлоропластов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текает по циклу Кальвин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лиз вод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ереход электрона на более высокий энергетический уровень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осстановление углекислого газа до глюкоз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Использование энергии молекулы АТФ на синтез углеводов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Образование молекулы крахмала из глюкоз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исходит образование протонов водорода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480-AD86-4DC0-B39E-F640FD8E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2EE8-352F-4F80-8F7F-6CE092B8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38A-B10B-4E0B-9303-9A2CAEAC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AF33-6772-4C29-97BE-71DB8A9E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C3B4-BE91-44EF-9606-C35A3202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0F21-9DD0-499E-9399-2094F62D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25D9-C3BA-4BC4-8C99-3DB73F18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3264-9CC5-48A0-88FA-57BC011C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4EE4-C400-4E61-8E11-C8199F51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2880-7261-4818-BAB7-AB28CA1D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9B64-E921-4F6B-9E0F-B1108757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AB5-374A-48DD-A0CF-A8C7D932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50EF-7C02-4362-8B7A-624C3229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D516-402B-44F4-8FA7-509027D7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9FEF-CDF4-4DE5-B32B-373CD31D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8148-A108-44AC-B516-CADF9481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EF23-25AB-4179-ACCD-65F65012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CDC9-7B0A-4A1E-9C15-B66943F2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E21-B098-4312-A2B1-12DD0F24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3C9-26F7-40C2-813A-F06C7EFB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581-5586-4791-93C7-56ADE537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7F25-5CE3-4E8D-A935-37501DBA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341-36B2-40A5-9A85-4A65D7BB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99BB-4D57-43CA-9CE8-092D499E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1CA7-22FA-42EA-8AF7-B8F6585F05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E067-3D8D-4AEE-9D89-4A123B24B5B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Тема урока:</a:t>
            </a:r>
            <a:r>
              <a:rPr b="1" lang="ru-RU" sz="4000" spc="-1" strike="noStrike">
                <a:solidFill>
                  <a:srgbClr val="b9efee"/>
                </a:solidFill>
                <a:latin typeface="Arial"/>
              </a:rPr>
              <a:t> «Темновая фаза фотосинтеза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258920" y="3141360"/>
            <a:ext cx="7161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9efee"/>
                </a:solidFill>
                <a:latin typeface="Arial"/>
              </a:rPr>
              <a:t>План урока</a:t>
            </a:r>
            <a:r>
              <a:rPr b="1" i="1" lang="ru-RU" sz="2000" spc="-1" strike="noStrike">
                <a:solidFill>
                  <a:srgbClr val="b9efee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мновые реакции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амостоятельная работа по теста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флекс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 клас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Основные выводы световой фазы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клетках автотрофов происходит фотосинте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тосинтез включает два типа реакций: световая и темновая фаз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идут на свету, в них участвуют пигменты – хлорофиллы и каротинои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протекают в гранах хлоропла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мновая фаза фотосинтеза осуществляетс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·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. Синтез глюкозы происходит в ходе циклического процесс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цикл Кальвина). Для синтеза одной молекулы глюкозы необходимо 6 оборотов цикла, 6 молекул СО</a:t>
            </a:r>
            <a:r>
              <a:rPr b="0" lang="ru-RU" sz="900" spc="-1" strike="noStrike">
                <a:solidFill>
                  <a:srgbClr val="ffffff"/>
                </a:solidFill>
                <a:latin typeface="Garamond"/>
              </a:rPr>
              <a:t>2 ,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18 молекул АТФ, 12 НАДФ•Н и 24 прото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образование углерода в темновую фазу фотосинтез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1484280"/>
          <a:ext cx="8207640" cy="5079960"/>
        </p:xfrm>
        <a:graphic>
          <a:graphicData uri="http://schemas.openxmlformats.org/drawingml/2006/table">
            <a:tbl>
              <a:tblPr/>
              <a:tblGrid>
                <a:gridCol w="3384720"/>
                <a:gridCol w="4822920"/>
              </a:tblGrid>
              <a:tr h="148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нестойко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екулы пятиуглеродного соединения фиксируют углекислый газ, образуя нестойкое соедин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2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ФГ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естиуглеродное соединение под действием ферментов распадается на 2 трехуглеродные молекулы фосфоглицериновые кислоты (ФГК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3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 помощью энергии АТФ и НАДФ•Н из трехуглеродной молекулы образуется молекула глюкозы и молекулы пятиуглеродного сахара (опять включается в цик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С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6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уммарное уравнение фотосинт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Значение фотосинтез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год на земле образуется 150 млрд. т органики и выделяется 200 млрд. т кислород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тосинтез способствует образованию защитного озонового экрана вокруг планет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ВНИМАНИЕ, ОПАСНОСТЬ!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Групповая работа</a:t>
            </a:r>
            <a:br>
              <a:rPr sz="2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соотнесите перечисленные утверждения к фазам фотосинтеза</a:t>
            </a:r>
            <a:br>
              <a:rPr sz="1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 (световая и темновая)</a:t>
            </a:r>
            <a:endParaRPr b="1" lang="en-US" sz="1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деление молекулярного кислород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нтез молекулы АТФ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нтез углеводов из углекислого газа и воды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збуждение хлорофилла фотоном свет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текает в гранах хлоропластов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текает по циклу Кальвин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отолиз вод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еход электрона на более высокий энергетический уровень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сстановление углекислого газа до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пользование энергии молекулы АТФ на синтез углеводов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бразование молекулы крахмала из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исходит образование протонов водорода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3:51:48Z</dcterms:created>
  <dc:creator>Admin</dc:creator>
  <dc:description/>
  <dc:language>en-US</dc:language>
  <cp:lastModifiedBy>LEGION</cp:lastModifiedBy>
  <dcterms:modified xsi:type="dcterms:W3CDTF">2015-11-27T10:46:16Z</dcterms:modified>
  <cp:revision>8</cp:revision>
  <dc:subject/>
  <dc:title>Тема урока: Темновая фаза фотосинтеза</dc:title>
</cp:coreProperties>
</file>