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C32C-3E75-4C86-9B4F-C799C71922A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ые реакции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 по тес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лан урока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 световой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сновные выводы световой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, ОПАСНОС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НИМАНИЕ, ОПАСНОСТЬ!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ветовая и темнов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молекулы АТФ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в гранах хлоропласт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по циклу Кальвин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лиз вод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(световая и темновая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E5F-BABE-49C1-8EA6-81CADB66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CA9-1307-41AD-A16C-8A680E54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C2F-7D8F-4453-A27C-FB20423E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B1C-3945-44C4-8253-BAD6A590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A16B-A057-4B6C-82F7-35F7C8DF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04A5-E110-45D9-8E1E-380E5A3B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7D3D-2054-4E5D-AA56-3CE7B8A7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6914-130B-4853-A2BC-64E50434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7F79-DD6E-4E73-900B-530F31FA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1613-9B58-486D-96A5-42C306FB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FFB9-2D14-41E0-876F-BDE4C94F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9F5-2209-4074-A27A-5CE9B3A1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BA49-8826-4455-96EA-C525F952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76ED-0A2A-4B42-A3CB-C06E5D7F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DE5A-0659-438D-9D2B-A3B14D4C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8F9E-8B86-43F0-AC30-0B9F7298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78A0-234F-4780-A7F3-63E2ECF5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E54-FBEC-47A6-9DF6-2BBD9312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07F-66C4-435B-867A-FA49A29E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FDC-718A-4DD1-876F-E0BBC1A2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C13-2E25-4A73-B56B-77AE94A2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B5E-BF4F-4A1B-8229-C0FFEECA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724-0922-44C5-82BC-0D7B99E7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1A4-78C5-4357-9C60-F35C0FEA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54C1-47A0-492E-99AD-46D9C6CEFB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D2CD-0268-477A-B0F6-DE2BAFA091B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ема урока:</a:t>
            </a: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 «Темновая фаза фотосинтеза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7161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9efee"/>
                </a:solidFill>
                <a:latin typeface="Arial"/>
              </a:rPr>
              <a:t>План урока</a:t>
            </a:r>
            <a:r>
              <a:rPr b="1" i="1" lang="ru-RU" sz="2000" spc="-1" strike="noStrike">
                <a:solidFill>
                  <a:srgbClr val="b9efee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Основные выводы световой фазы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·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 Синтез глюкозы происходит в ходе циклического процесс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</a:t>
            </a:r>
            <a:r>
              <a:rPr b="0" lang="ru-RU" sz="900" spc="-1" strike="noStrike">
                <a:solidFill>
                  <a:srgbClr val="ffffff"/>
                </a:solidFill>
                <a:latin typeface="Garamond"/>
              </a:rPr>
              <a:t>2 ,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18 молекул АТФ, 12 НАДФ•Н и 24 прот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образование углерода в темновую фазу фотосинтез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484280"/>
          <a:ext cx="8207640" cy="5079960"/>
        </p:xfrm>
        <a:graphic>
          <a:graphicData uri="http://schemas.openxmlformats.org/drawingml/2006/table">
            <a:tbl>
              <a:tblPr/>
              <a:tblGrid>
                <a:gridCol w="3384720"/>
                <a:gridCol w="4822920"/>
              </a:tblGrid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нестойко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екулы пятиуглеродного соединения фиксируют углекислый газ, образуя нестойкое соеди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ФГ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естиуглеродное соединение под действием ферментов распадается на 2 трехуглеродные молекулы фосфоглицериновые кислоты (ФГ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3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помощью энергии АТФ и НАДФ•Н из трехуглеродной молекулы образуется молекула глюкозы и молекулы пятиуглеродного сахара (опять включается в цик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6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уммарное уравнение фотосинт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Значение фотосинтез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ВНИМАНИЕ, ОПАСНОСТЬ!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Групповая работа</a:t>
            </a:r>
            <a:br>
              <a:rPr sz="2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 (световая и темновая)</a:t>
            </a:r>
            <a:endParaRPr b="1" lang="en-US" sz="1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3:51:48Z</dcterms:created>
  <dc:creator>Admin</dc:creator>
  <dc:description/>
  <dc:language>en-US</dc:language>
  <cp:lastModifiedBy>LEGION</cp:lastModifiedBy>
  <dcterms:modified xsi:type="dcterms:W3CDTF">2015-11-27T10:46:16Z</dcterms:modified>
  <cp:revision>8</cp:revision>
  <dc:subject/>
  <dc:title>Тема урока: Темновая фаза фотосинтеза</dc:title>
</cp:coreProperties>
</file>