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86DB-AC27-44D4-9FB4-5D6F940254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дискусс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Теории и гипотезы происхожден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к-дискусси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: Теории и гипотезы происхождения челове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скелета человека и человекообразных обезьян (горилла, орангутанг, гибб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одство скелета человека и человекообразных обезьян (горилла, орангутанг, гиббон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головного мозга человека, шимпанзе и орангута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одство головного мозга человека, шимпанзе и орангута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стадий эмбрионального развития позвоночных (рыба, амфибия, рептилия, млекопитающие и челове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ходство стадий эмбрионального развития позвоночных (рыба, амфибия, рептилия, млекопитающие и человек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книги о происхождении человека и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тересные книги о происхождении человека и ми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 за у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пасибо за уро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№1 Задания для повто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айд №1 Задания для повтор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кого же, мы всё же произош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 кого же, мы всё же произошл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ная форма между обезьяной и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ходная форма между обезьяной и человек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тапы антропоген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Этапы антропогене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унок корана и библ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исунок корана и библ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рльз Дарвин, основоположник эволюционн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рльз Дарвин, основоположник эволюционной тео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келеты людей раско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келеты людей раскоп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авизмы руд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тавизмы рудимен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579B-2C05-4788-AA89-B2BF3F50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FFA3-809F-41FA-9FD1-0D35FC95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2FC8-4102-48E4-A6DE-449DE400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FBA5-8AAB-4977-9151-087BD81C9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66E1-444B-454F-9F5A-2941942F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8981-1D37-4128-A618-10D3DC8A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15D4-7FF5-47A6-B362-895A7C82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9786-7B02-42CF-87A4-3B9E0C8A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F9F1-3BE8-4B7B-9736-9006F4F3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50EC-E4F1-446A-A34B-67712512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9FF0-0837-4CE0-BCC4-F7BDBC4E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B5FC-C037-4DAE-82DB-258205F4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14CF-3EE2-4068-9414-8DA8796213F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Franklin Gothic Heavy"/>
              </a:rPr>
              <a:t>Урок-дискуссия</a:t>
            </a:r>
            <a:br>
              <a:rPr sz="4000"/>
            </a:br>
            <a:r>
              <a:rPr b="0" lang="ru-RU" sz="4000" spc="-1" strike="noStrike">
                <a:solidFill>
                  <a:srgbClr val="ff6600"/>
                </a:solidFill>
                <a:latin typeface="Franklin Gothic Heavy"/>
              </a:rPr>
              <a:t>тема: Теории и гипотезы происхождения человек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ходство скелета человека и человекообразных обезьян (горилла, орангутанг, гиббон)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>
            <a:lum bright="18000"/>
          </a:blip>
          <a:srcRect l="0" t="19092" r="4147" b="4576"/>
          <a:stretch/>
        </p:blipFill>
        <p:spPr>
          <a:xfrm>
            <a:off x="762120" y="1676520"/>
            <a:ext cx="7848360" cy="492444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ходство головного мозга человека, шимпанзе и орангутанг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124440" cy="214776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3124080" y="3657600"/>
            <a:ext cx="2757600" cy="199548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5715000" y="1752480"/>
            <a:ext cx="3200400" cy="236088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ходство стадий эмбрионального развития позвоночных (рыба, амфибия, рептилия, млекопитающие и человек)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80880" y="1587600"/>
            <a:ext cx="8458200" cy="495756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нтересные книги о происхождении человека и мира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3697200" y="1857240"/>
            <a:ext cx="2057400" cy="313560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 rot="20671200">
            <a:off x="1326960" y="2147400"/>
            <a:ext cx="2251080" cy="350532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92" name="Picture 6" descr="12"/>
          <p:cNvPicPr/>
          <p:nvPr/>
        </p:nvPicPr>
        <p:blipFill>
          <a:blip r:embed="rId3"/>
          <a:stretch/>
        </p:blipFill>
        <p:spPr>
          <a:xfrm rot="1188600">
            <a:off x="5714640" y="2286000"/>
            <a:ext cx="2065320" cy="320040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 rot="21174600">
            <a:off x="1294920" y="2209680"/>
            <a:ext cx="632484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546000"/>
                </a:gradFill>
                <a:latin typeface="Impact"/>
              </a:rPr>
              <a:t>Спасибо за уро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3546000"/>
              </a:gradFill>
              <a:latin typeface="Impact"/>
              <a:ea typeface="Impact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Слайд №1 Задания для повторения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Line 14"/>
          <p:cNvSpPr/>
          <p:nvPr/>
        </p:nvSpPr>
        <p:spPr>
          <a:xfrm flipV="1">
            <a:off x="1600200" y="1600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1680" y="1219320"/>
          <a:ext cx="8537400" cy="4468680"/>
        </p:xfrm>
        <a:graphic>
          <a:graphicData uri="http://schemas.openxmlformats.org/drawingml/2006/table">
            <a:tbl>
              <a:tblPr/>
              <a:tblGrid>
                <a:gridCol w="4268880"/>
                <a:gridCol w="4268520"/>
              </a:tblGrid>
              <a:tr h="533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йте определения термин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нтогене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диме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тационная изменчив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логене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тавизм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ffcc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дификационная изменчив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хематично зарисуйте строение животной клет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пишите основные понятия клеточной теор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3360600" cy="426744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55" name="Picture 6" descr="5"/>
          <p:cNvPicPr/>
          <p:nvPr/>
        </p:nvPicPr>
        <p:blipFill>
          <a:blip r:embed="rId2"/>
          <a:stretch/>
        </p:blipFill>
        <p:spPr>
          <a:xfrm>
            <a:off x="3809880" y="2743200"/>
            <a:ext cx="4724640" cy="352728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56" name="Text Box 7"/>
          <p:cNvSpPr/>
          <p:nvPr/>
        </p:nvSpPr>
        <p:spPr>
          <a:xfrm>
            <a:off x="4724280" y="11430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т кого же, мы всё же произош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ереходная форма между обезьяной и человеком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3617640" cy="411480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Этапы антропогенез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rcRect l="0" t="16756" r="0" b="4494"/>
          <a:stretch/>
        </p:blipFill>
        <p:spPr>
          <a:xfrm>
            <a:off x="228600" y="1905120"/>
            <a:ext cx="8686800" cy="4343400"/>
          </a:xfrm>
          <a:prstGeom prst="rect">
            <a:avLst/>
          </a:prstGeom>
          <a:ln w="57240">
            <a:solidFill>
              <a:srgbClr val="ee941c"/>
            </a:solidFill>
            <a:miter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Рисунок корана и библи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 rot="20746200">
            <a:off x="1295280" y="1676520"/>
            <a:ext cx="3143520" cy="4324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6" name="Picture 5" descr="i"/>
          <p:cNvPicPr/>
          <p:nvPr/>
        </p:nvPicPr>
        <p:blipFill>
          <a:blip r:embed="rId2"/>
          <a:stretch/>
        </p:blipFill>
        <p:spPr>
          <a:xfrm>
            <a:off x="5715000" y="1600200"/>
            <a:ext cx="2833560" cy="4495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Чарльз Дарвин, основоположник эволюционной теори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rcRect l="0" t="0" r="0" b="2946"/>
          <a:stretch/>
        </p:blipFill>
        <p:spPr>
          <a:xfrm>
            <a:off x="2819520" y="1676520"/>
            <a:ext cx="3174840" cy="419076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келеты людей раскоп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496040" cy="449604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Атавизмы рудимент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14299" t="0" r="10394" b="0"/>
          <a:stretch/>
        </p:blipFill>
        <p:spPr>
          <a:xfrm>
            <a:off x="457200" y="1295280"/>
            <a:ext cx="3276720" cy="326232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3200400" y="4038480"/>
            <a:ext cx="5562720" cy="2590920"/>
          </a:xfrm>
          <a:prstGeom prst="rect">
            <a:avLst/>
          </a:prstGeom>
          <a:ln w="38160">
            <a:solidFill>
              <a:srgbClr val="ee941c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0:46:2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