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8268-F456-4CF1-AD80-DBE09D96A4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64A2-C931-4292-B288-A1CDCAB2A4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92CC-BEC8-4805-9737-6293164CE2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972C-BE20-4515-B2C2-286E705A74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D95E-EC5D-4F7F-9F5B-91230CC80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3E79-3F13-4E99-AC30-3D3D531677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Кин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66D0-4A54-48D1-B469-537C366A22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ин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2BF3-2BF4-4076-89A6-0B4D54D3CB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0E1D-4524-4FB7-A9E6-30736597BC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0FC1-3496-4336-BBC8-2C9E1F5DC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A455-1E23-4ED7-B549-EC3B6601F3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FCC7-BC29-49DC-9A31-61C59A38F0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29F0-2956-4750-AFD8-F0051495B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кратические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гед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: обоснование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одор: аморал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гесий: пессим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никерид: гедонистический 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н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аске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сфен: обоснование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: практика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: критика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линис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эвдем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о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автаркия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5AC9-57DE-4DB8-89FA-05B238B844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A630-0284-4734-BDD7-45805CDA7A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0EDA-4A48-4A33-9A01-427B6CD87D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3F5C-913D-4F98-AE48-E4A29CD2B7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О природе </a:t>
            </a: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(не сохр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Письмо к Герод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Письмо к Менеке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Главные мысли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ит Лукреций Кар. О природе ве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D9DB-6ED6-4DD1-A178-557205F4A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F442-9167-4EA4-8403-0C9C37720E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77AF-0AD9-438B-AE47-C4D499C3F1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8D02-79CA-4ED4-ABBF-F74B00C097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01C7-7F69-4682-9D80-E91B581285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8AD4-464F-4FF6-B2B3-F72B5DB058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Нравственные письма к Луцил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благодея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Рассуждения о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блаженной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скоротечности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провиден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тет. Беседы 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записаны Ф. Аррианом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рк Аврелий. К самому се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F416-A41D-4C6F-933C-282123966A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кратические школы и их преем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BDE5-0BBD-4D67-85A0-64D9FB3000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18AA-F99B-405D-ACD8-3B39F1942A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65F2-6A41-4B6F-BBB7-93152D053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1B16-F0BF-4FFA-8998-76EEF8175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1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047B-2C42-4AC0-B293-9410284E12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DFF6-8830-4BB7-A9BF-53727B8E1F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фины – центр греческой философ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4749-30F5-47ED-9097-E566604F06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1CA7-97D7-4174-8035-05F84BB6A5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ирена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CC14-2D7E-4BAC-A919-2C50BE6FB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ристипп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82DE-E847-44FE-BD57-DF2A1836A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одо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морал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CEF0-BE4C-431E-BFEB-BBDBF9673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B92-8C67-427F-A603-46710E6C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405-F5A5-4ABE-A01A-CEF68BB6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80F-C09F-4EB1-9BC2-42E48972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4FCF-32A2-44FE-AE07-0A29610A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6B6-54CB-456A-9BE7-DEF9732C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F06-1601-444C-BA92-397BCA11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4B1-8714-4CFF-B44C-0BD12DB3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241-B8A2-465B-9BF6-C311FE62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F89-90F4-4399-ACC3-A9AF18C3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1F9-D768-4A76-AAA7-0E29FCB4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E621-D38B-4847-BD35-538BAD93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09C-A539-4C77-8A05-A8F344AB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B4F1-033E-48B0-A605-10ED92FDF7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00" y="27144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flipH="1" flipV="1">
            <a:off x="178920" y="1797840"/>
            <a:ext cx="8637840" cy="37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какую избрать нам дорогу? В общественном мес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Тяжбы, да спор о делах, дома – своя сует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льская жизнь многотрудна; тревоги полно мореходств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трашно в чужих нам краях, если имеем мы ч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нет ничего – много горя; женатым забот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Не миновать, холостым – дни одиноко влачит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и – обуза, бездетная жизнь неполна; в молодёж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Благоразумия нет, старость седая сла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о, одно лишь из двух остаётся нам, смертным, на выбор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Иль не родиться совсем, или скорей умере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760360" y="5937120"/>
            <a:ext cx="2696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идипп, «О жизни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3994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29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183528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755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250920" y="136692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, полная удовольств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полне возможна, ес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водить удовольств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телесным наслажд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1330200" y="2446200"/>
            <a:ext cx="431820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Признание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слажден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ширяет самы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уг возможных удоволь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2409840" y="352584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Удовлетворение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 не связано 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чтожением того, что нуж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их удовлетв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3489480" y="46054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, удовлетвор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и духовные потребности, 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лишаем други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редств д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4570560" y="568476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В отличие от телесн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ые наслажд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коротеч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 flipH="1" flipV="1">
            <a:off x="178920" y="1797840"/>
            <a:ext cx="8637840" cy="37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любая годится дорога. В общественном мес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лава и мудрость в делах, дома – покой от трудов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ёлах – природы благие дары, в мореплаванье – прибыл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В крае чужом нам почёт, если имеем мы ч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нет ничего, мы одни это знаем; женитьб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Красит очаг, холостым – более лёгкая жизн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и – отрада, бездетная жизнь без забот. Молодёж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ила дана, старики благочестивы душ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все не нужно одно нам из двух выбирать – не род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Или скорей умереть; всякая доля благ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759640" y="5937120"/>
            <a:ext cx="2696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родор, «О жизни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ин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046880" y="3814920"/>
            <a:ext cx="1657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35- ок. 3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307320" y="3814920"/>
            <a:ext cx="2535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оген Синопский</a:t>
            </a:r>
            <a:br>
              <a:rPr sz="20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04 - 3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185880" y="3814920"/>
            <a:ext cx="2576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тет Фиванский </a:t>
            </a:r>
            <a:br>
              <a:rPr sz="20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9640" y="5073480"/>
            <a:ext cx="2519640" cy="118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ни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κύων</a:t>
            </a:r>
            <a:r>
              <a:rPr b="1" lang="ru-RU" sz="1800" spc="-1" strike="noStrike">
                <a:solidFill>
                  <a:srgbClr val="66ff33"/>
                </a:solidFill>
                <a:latin typeface="Arial Unicode MS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ёс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κυ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ν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ό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598920" y="4678200"/>
            <a:ext cx="496548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скет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άσκητής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пражняющийс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поведующее самоотречение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авление чувственных влечений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о достижения высшего 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Антисфен (red)"/>
          <p:cNvPicPr/>
          <p:nvPr/>
        </p:nvPicPr>
        <p:blipFill>
          <a:blip r:embed="rId1"/>
          <a:stretch/>
        </p:blipFill>
        <p:spPr>
          <a:xfrm>
            <a:off x="1079640" y="1511280"/>
            <a:ext cx="1562040" cy="2247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Диоген (Рим, Капитолийский музей - red)"/>
          <p:cNvPicPr/>
          <p:nvPr/>
        </p:nvPicPr>
        <p:blipFill>
          <a:blip r:embed="rId2"/>
          <a:stretch/>
        </p:blipFill>
        <p:spPr>
          <a:xfrm>
            <a:off x="3525840" y="1511280"/>
            <a:ext cx="2085840" cy="2247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Кратет (Джорджано - red)"/>
          <p:cNvPicPr/>
          <p:nvPr/>
        </p:nvPicPr>
        <p:blipFill>
          <a:blip r:embed="rId3"/>
          <a:stretch/>
        </p:blipFill>
        <p:spPr>
          <a:xfrm>
            <a:off x="6332400" y="1511280"/>
            <a:ext cx="2143440" cy="224784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н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580248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719280" y="1654200"/>
            <a:ext cx="4425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счастье зависит о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потреб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 достижимее, ч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ьше у нас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1798560" y="2914560"/>
            <a:ext cx="4426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Кратчайший и вернейший п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частью лежит поэтому чере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ение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878200" y="4173480"/>
            <a:ext cx="4425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таком ограничении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возможного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требности п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й части искусствен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3957480" y="5433840"/>
            <a:ext cx="4426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 меньше наши нужды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ьше наша зависимость от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 и внешних обстоятельст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 больше наша св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Антисфен (сидит)"/>
          <p:cNvPicPr/>
          <p:nvPr/>
        </p:nvPicPr>
        <p:blipFill>
          <a:blip r:embed="rId1"/>
          <a:stretch/>
        </p:blipFill>
        <p:spPr>
          <a:xfrm>
            <a:off x="179280" y="3670200"/>
            <a:ext cx="1629000" cy="30290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5668560" y="5757840"/>
            <a:ext cx="229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жон Уотерхаус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оген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waterhouse_diogenes [Athen]_red08"/>
          <p:cNvPicPr/>
          <p:nvPr/>
        </p:nvPicPr>
        <p:blipFill>
          <a:blip r:embed="rId1"/>
          <a:stretch/>
        </p:blipFill>
        <p:spPr>
          <a:xfrm>
            <a:off x="1079640" y="1546200"/>
            <a:ext cx="3276360" cy="504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999680" y="5757840"/>
            <a:ext cx="29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Пуссен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йзаж с Диоген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poussin_landscape_with_diogenes"/>
          <p:cNvPicPr/>
          <p:nvPr/>
        </p:nvPicPr>
        <p:blipFill>
          <a:blip r:embed="rId1"/>
          <a:stretch/>
        </p:blipFill>
        <p:spPr>
          <a:xfrm>
            <a:off x="1295280" y="1690560"/>
            <a:ext cx="6578640" cy="476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982200" y="5757840"/>
            <a:ext cx="17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оген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лександ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Диоген и Александр (блюдо из Урбино - red)"/>
          <p:cNvPicPr/>
          <p:nvPr/>
        </p:nvPicPr>
        <p:blipFill>
          <a:blip r:embed="rId1"/>
          <a:stretch/>
        </p:blipFill>
        <p:spPr>
          <a:xfrm>
            <a:off x="2085840" y="1619280"/>
            <a:ext cx="4972320" cy="496260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 flipH="1" flipV="1">
            <a:off x="2805480" y="1690560"/>
            <a:ext cx="611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я, что смертным родилс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тарайся питать свою душ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адостной негой пиров,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сле смерти ведь нет нам отрад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ах обратился и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Ниневии великий властител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с собой и унёс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что выпил и съел и что взя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й от любви; вся же роскош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моя и богатство осталис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ости это житей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моё поучение люд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81440" y="4857840"/>
            <a:ext cx="2937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ерил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а гроб Сарданапала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50920"/>
            <a:ext cx="822960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кратические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гед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: обоснование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одор: аморал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гесий: пессим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никерид: гедонистический 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н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аске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сфен: обоснование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: практика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: критика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линис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эвдем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о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автаркия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Кратет (Джорджано - red)"/>
          <p:cNvPicPr/>
          <p:nvPr/>
        </p:nvPicPr>
        <p:blipFill>
          <a:blip r:embed="rId1"/>
          <a:stretch/>
        </p:blipFill>
        <p:spPr>
          <a:xfrm>
            <a:off x="466560" y="1690560"/>
            <a:ext cx="2143440" cy="2248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 flipH="1" flipV="1">
            <a:off x="2805480" y="1690560"/>
            <a:ext cx="611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я, что смертным родилс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старайся питать свою душ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адостью мудрых речей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не в еде для души ведь отрад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алок я, евший так м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и так наслаждавшийся в жизни!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с собой и унёс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что ум мой познал и что му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ли прекрасного мне;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все же прочие блага остали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10520" y="4678200"/>
            <a:ext cx="2936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 Фиванский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одия на эпиграмму-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тафию Херила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2374920" y="5218200"/>
            <a:ext cx="4390920" cy="140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вдемон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εύδαιμονία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часть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 утвержда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цель жизни – счаст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827280" y="4317840"/>
            <a:ext cx="109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1-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2986200" y="4317840"/>
            <a:ext cx="1250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ма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4895280" y="4317840"/>
            <a:ext cx="1442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ро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30-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8"/>
          <p:cNvSpPr/>
          <p:nvPr/>
        </p:nvSpPr>
        <p:spPr>
          <a:xfrm>
            <a:off x="6689880" y="4317840"/>
            <a:ext cx="242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99-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9" descr="Rubens, The Four Philosophers - Bust of Seneca (auto)"/>
          <p:cNvPicPr/>
          <p:nvPr/>
        </p:nvPicPr>
        <p:blipFill>
          <a:blip r:embed="rId1"/>
          <a:stretch/>
        </p:blipFill>
        <p:spPr>
          <a:xfrm>
            <a:off x="7197840" y="1690560"/>
            <a:ext cx="1514520" cy="2411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3" descr="Эпикур (Рим - Капитолийский музей - red3)"/>
          <p:cNvPicPr/>
          <p:nvPr/>
        </p:nvPicPr>
        <p:blipFill>
          <a:blip r:embed="rId2"/>
          <a:stretch/>
        </p:blipFill>
        <p:spPr>
          <a:xfrm>
            <a:off x="358920" y="1690560"/>
            <a:ext cx="2022480" cy="2521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1" descr="Гермарх (Рим - Ватиканский музей - red)"/>
          <p:cNvPicPr/>
          <p:nvPr/>
        </p:nvPicPr>
        <p:blipFill>
          <a:blip r:embed="rId3"/>
          <a:stretch/>
        </p:blipFill>
        <p:spPr>
          <a:xfrm>
            <a:off x="2949480" y="1690560"/>
            <a:ext cx="1252800" cy="2414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3" descr="Метродор (Париж, Лувр - red)"/>
          <p:cNvPicPr/>
          <p:nvPr/>
        </p:nvPicPr>
        <p:blipFill>
          <a:blip r:embed="rId4"/>
          <a:stretch/>
        </p:blipFill>
        <p:spPr>
          <a:xfrm>
            <a:off x="4786200" y="1690560"/>
            <a:ext cx="1681200" cy="2411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0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5802480" y="255420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4"/>
          <p:cNvSpPr/>
          <p:nvPr/>
        </p:nvSpPr>
        <p:spPr>
          <a:xfrm>
            <a:off x="5076720" y="4076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4504680" y="4281480"/>
            <a:ext cx="907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6"/>
          <p:cNvSpPr/>
          <p:nvPr/>
        </p:nvSpPr>
        <p:spPr>
          <a:xfrm>
            <a:off x="511020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7"/>
          <p:cNvSpPr/>
          <p:nvPr/>
        </p:nvSpPr>
        <p:spPr>
          <a:xfrm>
            <a:off x="5225400" y="3022560"/>
            <a:ext cx="1142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мп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8"/>
          <p:cNvSpPr/>
          <p:nvPr/>
        </p:nvSpPr>
        <p:spPr>
          <a:xfrm>
            <a:off x="507672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5261400" y="3417840"/>
            <a:ext cx="12992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8920" y="3057480"/>
            <a:ext cx="431784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О природе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не сох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Письмо к Герод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Письмо к Менеке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Главные мысли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. О природе ве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71928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Эпикур (Рим - Капитолийский музей - red3)"/>
          <p:cNvPicPr/>
          <p:nvPr/>
        </p:nvPicPr>
        <p:blipFill>
          <a:blip r:embed="rId1"/>
          <a:stretch/>
        </p:blipFill>
        <p:spPr>
          <a:xfrm>
            <a:off x="4749840" y="1978200"/>
            <a:ext cx="2022480" cy="25207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5253120" y="4678200"/>
            <a:ext cx="109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1-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9" descr="Rubens, The Four Philosophers - Bust of Seneca (auto)"/>
          <p:cNvPicPr/>
          <p:nvPr/>
        </p:nvPicPr>
        <p:blipFill>
          <a:blip r:embed="rId2"/>
          <a:stretch/>
        </p:blipFill>
        <p:spPr>
          <a:xfrm>
            <a:off x="7124760" y="2770200"/>
            <a:ext cx="1514520" cy="24112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0"/>
          <p:cNvSpPr/>
          <p:nvPr/>
        </p:nvSpPr>
        <p:spPr>
          <a:xfrm>
            <a:off x="6618600" y="5433840"/>
            <a:ext cx="242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99-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8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5" descr="Pain-cont"/>
          <p:cNvPicPr/>
          <p:nvPr/>
        </p:nvPicPr>
        <p:blipFill>
          <a:blip r:embed="rId1"/>
          <a:stretch/>
        </p:blipFill>
        <p:spPr>
          <a:xfrm>
            <a:off x="6548400" y="4605480"/>
            <a:ext cx="1471680" cy="1619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12"/>
          <p:cNvSpPr/>
          <p:nvPr/>
        </p:nvSpPr>
        <p:spPr>
          <a:xfrm>
            <a:off x="6116760" y="4317840"/>
            <a:ext cx="251928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ерывная бо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лговременн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затяжные немо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авляют пло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слажд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23328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ахи –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ины несчас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39640" y="305748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 перед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179856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AutoShape 7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1" name="AutoShape 8"/>
          <p:cNvCxnSpPr/>
          <p:nvPr/>
        </p:nvCxnSpPr>
        <p:spPr>
          <a:xfrm>
            <a:off x="179820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2" name="AutoShape 9"/>
          <p:cNvCxnSpPr/>
          <p:nvPr/>
        </p:nvCxnSpPr>
        <p:spPr>
          <a:xfrm>
            <a:off x="737712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3" name="AutoShape 10"/>
          <p:cNvSpPr/>
          <p:nvPr/>
        </p:nvSpPr>
        <p:spPr>
          <a:xfrm>
            <a:off x="539640" y="4317840"/>
            <a:ext cx="251964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и – сущ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смертны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ж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ие ни с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от не име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друг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доставля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3327480" y="4317840"/>
            <a:ext cx="251928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 не име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м ник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: пок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есть, смер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нет, а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 наступ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нас уже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/>
          <p:cNvSpPr/>
          <p:nvPr/>
        </p:nvSpPr>
        <p:spPr>
          <a:xfrm>
            <a:off x="302256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4"/>
          <p:cNvSpPr/>
          <p:nvPr/>
        </p:nvSpPr>
        <p:spPr>
          <a:xfrm>
            <a:off x="332748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5"/>
          <p:cNvSpPr/>
          <p:nvPr/>
        </p:nvSpPr>
        <p:spPr>
          <a:xfrm>
            <a:off x="581184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611676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 перед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трад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AutoShape 19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20" name="Line 20"/>
          <p:cNvSpPr/>
          <p:nvPr/>
        </p:nvSpPr>
        <p:spPr>
          <a:xfrm>
            <a:off x="458784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1" descr="Zeus"/>
          <p:cNvPicPr/>
          <p:nvPr/>
        </p:nvPicPr>
        <p:blipFill>
          <a:blip r:embed="rId2"/>
          <a:stretch/>
        </p:blipFill>
        <p:spPr>
          <a:xfrm>
            <a:off x="539640" y="647640"/>
            <a:ext cx="1127160" cy="1619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Death (2)"/>
          <p:cNvPicPr/>
          <p:nvPr/>
        </p:nvPicPr>
        <p:blipFill>
          <a:blip r:embed="rId3"/>
          <a:stretch/>
        </p:blipFill>
        <p:spPr>
          <a:xfrm>
            <a:off x="7664400" y="647640"/>
            <a:ext cx="752400" cy="161928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4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6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8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5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7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9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"/>
          <p:cNvSpPr/>
          <p:nvPr/>
        </p:nvSpPr>
        <p:spPr>
          <a:xfrm>
            <a:off x="3687840" y="1619280"/>
            <a:ext cx="30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елания бы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1708200" y="287820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Ест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2968560" y="2698920"/>
            <a:ext cx="22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AutoShape 6"/>
          <p:cNvCxnSpPr/>
          <p:nvPr/>
        </p:nvCxnSpPr>
        <p:spPr>
          <a:xfrm>
            <a:off x="5218200" y="25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29" name="AutoShape 7"/>
          <p:cNvCxnSpPr/>
          <p:nvPr/>
        </p:nvCxnSpPr>
        <p:spPr>
          <a:xfrm>
            <a:off x="296820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0" name="AutoShape 8"/>
          <p:cNvCxnSpPr/>
          <p:nvPr/>
        </p:nvCxnSpPr>
        <p:spPr>
          <a:xfrm>
            <a:off x="746712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1" name="AutoShape 9"/>
          <p:cNvSpPr/>
          <p:nvPr/>
        </p:nvSpPr>
        <p:spPr>
          <a:xfrm>
            <a:off x="35892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збавляющи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т страд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тьё при жаж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305748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нообразящи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слажд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ысканная п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620712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 естественны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не необходим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 вен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чётные стату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358920" y="413856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обход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3"/>
          <p:cNvSpPr/>
          <p:nvPr/>
        </p:nvSpPr>
        <p:spPr>
          <a:xfrm>
            <a:off x="6207120" y="287820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зд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4"/>
          <p:cNvSpPr/>
          <p:nvPr/>
        </p:nvSpPr>
        <p:spPr>
          <a:xfrm>
            <a:off x="3057480" y="413856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 необход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1619280" y="395748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6"/>
          <p:cNvCxnSpPr/>
          <p:nvPr/>
        </p:nvCxnSpPr>
        <p:spPr>
          <a:xfrm>
            <a:off x="16192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9" name="AutoShape 17"/>
          <p:cNvCxnSpPr/>
          <p:nvPr/>
        </p:nvCxnSpPr>
        <p:spPr>
          <a:xfrm>
            <a:off x="4317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0" name="AutoShape 18"/>
          <p:cNvCxnSpPr/>
          <p:nvPr/>
        </p:nvCxnSpPr>
        <p:spPr>
          <a:xfrm>
            <a:off x="296820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1" name="AutoShape 20"/>
          <p:cNvCxnSpPr/>
          <p:nvPr/>
        </p:nvCxnSpPr>
        <p:spPr>
          <a:xfrm>
            <a:off x="1619280" y="503712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2" name="AutoShape 21"/>
          <p:cNvCxnSpPr/>
          <p:nvPr/>
        </p:nvCxnSpPr>
        <p:spPr>
          <a:xfrm>
            <a:off x="4317480" y="50371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3" name="AutoShape 22"/>
          <p:cNvCxnSpPr/>
          <p:nvPr/>
        </p:nvCxnSpPr>
        <p:spPr>
          <a:xfrm>
            <a:off x="7467120" y="3778200"/>
            <a:ext cx="2520" cy="14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4" name="Line 24"/>
          <p:cNvSpPr/>
          <p:nvPr/>
        </p:nvSpPr>
        <p:spPr>
          <a:xfrm>
            <a:off x="5218200" y="2698920"/>
            <a:ext cx="22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>
            <a:off x="2968560" y="395748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6" descr="Thirst"/>
          <p:cNvPicPr/>
          <p:nvPr/>
        </p:nvPicPr>
        <p:blipFill>
          <a:blip r:embed="rId1"/>
          <a:stretch/>
        </p:blipFill>
        <p:spPr>
          <a:xfrm>
            <a:off x="539640" y="647640"/>
            <a:ext cx="1036800" cy="1619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7" descr="Feast"/>
          <p:cNvPicPr/>
          <p:nvPr/>
        </p:nvPicPr>
        <p:blipFill>
          <a:blip r:embed="rId2"/>
          <a:stretch/>
        </p:blipFill>
        <p:spPr>
          <a:xfrm>
            <a:off x="7737480" y="647640"/>
            <a:ext cx="792000" cy="1622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8" descr="Laurel"/>
          <p:cNvPicPr/>
          <p:nvPr/>
        </p:nvPicPr>
        <p:blipFill>
          <a:blip r:embed="rId3"/>
          <a:stretch/>
        </p:blipFill>
        <p:spPr>
          <a:xfrm>
            <a:off x="7880400" y="4138560"/>
            <a:ext cx="676080" cy="108756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6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8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0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77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7" dur="770" fill="hold"/>
                                        <p:tgtEl>
                                          <p:spTgt spid="3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9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1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8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0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2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87280" y="233856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н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-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3165480" y="269892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ред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045120" y="305748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зд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-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358920" y="323856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но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Кития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36-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6116760" y="3957480"/>
            <a:ext cx="26985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ций Анней Сенека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-65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8"/>
          <p:cNvSpPr/>
          <p:nvPr/>
        </p:nvSpPr>
        <p:spPr>
          <a:xfrm>
            <a:off x="358920" y="413856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еанф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1/30 – ок. 2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358920" y="503712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рисипп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280/277 – ок. 208/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3238560" y="359892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эт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0 – после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3238560" y="449748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идон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35 – ок.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/>
          <p:cNvSpPr/>
          <p:nvPr/>
        </p:nvSpPr>
        <p:spPr>
          <a:xfrm>
            <a:off x="6116760" y="485784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ктет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0 – 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3"/>
          <p:cNvSpPr/>
          <p:nvPr/>
        </p:nvSpPr>
        <p:spPr>
          <a:xfrm>
            <a:off x="6116760" y="575784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арк Аврел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21-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6008760" y="1619280"/>
            <a:ext cx="2879640" cy="82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то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Σ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τ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ο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85480" y="3994200"/>
            <a:ext cx="2111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нон из Кит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36-2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1909080" y="4425840"/>
            <a:ext cx="2998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исипп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280/277 – ок. 208/2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206960" y="5073480"/>
            <a:ext cx="2794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ций Анней Сенек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4-65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6907320" y="5433840"/>
            <a:ext cx="200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21-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287280" y="5613480"/>
            <a:ext cx="4318200" cy="107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втарк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αύτάρκ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ние, самодостато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Зенон Стоик (red - красн)"/>
          <p:cNvPicPr/>
          <p:nvPr/>
        </p:nvPicPr>
        <p:blipFill>
          <a:blip r:embed="rId1"/>
          <a:stretch/>
        </p:blipFill>
        <p:spPr>
          <a:xfrm>
            <a:off x="431640" y="14382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Хрисипп (Лондон - Британский музей - red)"/>
          <p:cNvPicPr/>
          <p:nvPr/>
        </p:nvPicPr>
        <p:blipFill>
          <a:blip r:embed="rId2"/>
          <a:stretch/>
        </p:blipFill>
        <p:spPr>
          <a:xfrm>
            <a:off x="2554200" y="1798560"/>
            <a:ext cx="1924200" cy="2629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Рубенс, Смерть Сенеки (голова - red)"/>
          <p:cNvPicPr/>
          <p:nvPr/>
        </p:nvPicPr>
        <p:blipFill>
          <a:blip r:embed="rId3"/>
          <a:stretch/>
        </p:blipFill>
        <p:spPr>
          <a:xfrm>
            <a:off x="4570560" y="2158920"/>
            <a:ext cx="2295360" cy="2590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Марк Аврелий (Неаполь - голова 2 - red)"/>
          <p:cNvPicPr/>
          <p:nvPr/>
        </p:nvPicPr>
        <p:blipFill>
          <a:blip r:embed="rId4"/>
          <a:stretch/>
        </p:blipFill>
        <p:spPr>
          <a:xfrm>
            <a:off x="6872400" y="2517840"/>
            <a:ext cx="1990440" cy="262872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7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5802480" y="255420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24"/>
          <p:cNvSpPr/>
          <p:nvPr/>
        </p:nvSpPr>
        <p:spPr>
          <a:xfrm>
            <a:off x="5076720" y="4076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5"/>
          <p:cNvSpPr/>
          <p:nvPr/>
        </p:nvSpPr>
        <p:spPr>
          <a:xfrm>
            <a:off x="4504680" y="4281480"/>
            <a:ext cx="907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6"/>
          <p:cNvSpPr/>
          <p:nvPr/>
        </p:nvSpPr>
        <p:spPr>
          <a:xfrm>
            <a:off x="511020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5225400" y="3022560"/>
            <a:ext cx="1142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мп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8"/>
          <p:cNvSpPr/>
          <p:nvPr/>
        </p:nvSpPr>
        <p:spPr>
          <a:xfrm>
            <a:off x="507672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5261400" y="3417840"/>
            <a:ext cx="12992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0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1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32"/>
          <p:cNvSpPr/>
          <p:nvPr/>
        </p:nvSpPr>
        <p:spPr>
          <a:xfrm>
            <a:off x="5076720" y="3573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4433040" y="3454560"/>
            <a:ext cx="598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4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5"/>
          <p:cNvSpPr/>
          <p:nvPr/>
        </p:nvSpPr>
        <p:spPr>
          <a:xfrm>
            <a:off x="6770520" y="421020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6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7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38"/>
          <p:cNvSpPr/>
          <p:nvPr/>
        </p:nvSpPr>
        <p:spPr>
          <a:xfrm>
            <a:off x="6281640" y="3922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9"/>
          <p:cNvSpPr/>
          <p:nvPr/>
        </p:nvSpPr>
        <p:spPr>
          <a:xfrm>
            <a:off x="6412680" y="3814920"/>
            <a:ext cx="1407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ера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0"/>
          <p:cNvSpPr/>
          <p:nvPr/>
        </p:nvSpPr>
        <p:spPr>
          <a:xfrm>
            <a:off x="400680" y="3573360"/>
            <a:ext cx="14335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←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рд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560" y="3057120"/>
            <a:ext cx="4786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Нравственные письма к Луцил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благодея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Рассуждения о 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блажен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скоротечности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провиде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тет. Беседы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записаны Ф. Аррианом)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. К самому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790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9" descr="Рубенс, Смерть Сенеки (голова - red)"/>
          <p:cNvPicPr/>
          <p:nvPr/>
        </p:nvPicPr>
        <p:blipFill>
          <a:blip r:embed="rId1"/>
          <a:stretch/>
        </p:blipFill>
        <p:spPr>
          <a:xfrm>
            <a:off x="5326200" y="1798560"/>
            <a:ext cx="1957320" cy="22100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0"/>
          <p:cNvSpPr/>
          <p:nvPr/>
        </p:nvSpPr>
        <p:spPr>
          <a:xfrm>
            <a:off x="5358960" y="4138560"/>
            <a:ext cx="19029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ций Анне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4-65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Марк Аврелий (Неаполь - голова 2 - red)"/>
          <p:cNvPicPr/>
          <p:nvPr/>
        </p:nvPicPr>
        <p:blipFill>
          <a:blip r:embed="rId2"/>
          <a:stretch/>
        </p:blipFill>
        <p:spPr>
          <a:xfrm>
            <a:off x="7161120" y="3598920"/>
            <a:ext cx="1695600" cy="22366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2"/>
          <p:cNvSpPr/>
          <p:nvPr/>
        </p:nvSpPr>
        <p:spPr>
          <a:xfrm>
            <a:off x="7051680" y="5973840"/>
            <a:ext cx="200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21-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кратические школы и их преем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3778200" y="10796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69-3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5541840" y="3165480"/>
            <a:ext cx="169092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идо-эри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й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7928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истипп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5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978200" y="2266920"/>
            <a:ext cx="161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кли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0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77820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28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48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57676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7 – 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737712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тисф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14292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р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194328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га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374184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br>
              <a:rPr sz="18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(платони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34076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н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>
            <a:off x="17928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41-2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>
            <a:off x="737712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н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36-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142920" y="5541840"/>
            <a:ext cx="169056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пикурей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>
            <a:off x="7340760" y="5541840"/>
            <a:ext cx="169056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>
            <a:off x="471312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84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2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>
            <a:off x="2806560" y="4641840"/>
            <a:ext cx="1690920" cy="20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ев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>
            <a:off x="4678200" y="5541840"/>
            <a:ext cx="169092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кей</a:t>
            </a:r>
            <a:br>
              <a:rPr sz="18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(перипате-</a:t>
            </a:r>
            <a:br>
              <a:rPr sz="17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ти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3022560" y="568476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278748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3652920" y="4497480"/>
            <a:ext cx="93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24"/>
          <p:cNvCxnSpPr/>
          <p:nvPr/>
        </p:nvCxnSpPr>
        <p:spPr>
          <a:xfrm>
            <a:off x="98856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9" name="AutoShape 25"/>
          <p:cNvCxnSpPr/>
          <p:nvPr/>
        </p:nvCxnSpPr>
        <p:spPr>
          <a:xfrm>
            <a:off x="8186760" y="212220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0" name="AutoShape 26"/>
          <p:cNvCxnSpPr/>
          <p:nvPr/>
        </p:nvCxnSpPr>
        <p:spPr>
          <a:xfrm>
            <a:off x="988560" y="435456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27"/>
          <p:cNvCxnSpPr/>
          <p:nvPr/>
        </p:nvCxnSpPr>
        <p:spPr>
          <a:xfrm>
            <a:off x="638604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28"/>
          <p:cNvCxnSpPr/>
          <p:nvPr/>
        </p:nvCxnSpPr>
        <p:spPr>
          <a:xfrm>
            <a:off x="4587480" y="4354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3" name="AutoShape 29"/>
          <p:cNvCxnSpPr/>
          <p:nvPr/>
        </p:nvCxnSpPr>
        <p:spPr>
          <a:xfrm>
            <a:off x="5522400" y="449712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4" name="AutoShape 30"/>
          <p:cNvCxnSpPr/>
          <p:nvPr/>
        </p:nvCxnSpPr>
        <p:spPr>
          <a:xfrm>
            <a:off x="3652920" y="449712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5" name="AutoShape 31"/>
          <p:cNvCxnSpPr/>
          <p:nvPr/>
        </p:nvCxnSpPr>
        <p:spPr>
          <a:xfrm>
            <a:off x="278712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6" name="AutoShape 32"/>
          <p:cNvCxnSpPr/>
          <p:nvPr/>
        </p:nvCxnSpPr>
        <p:spPr>
          <a:xfrm>
            <a:off x="4587480" y="197820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7" name="AutoShape 33"/>
          <p:cNvCxnSpPr/>
          <p:nvPr/>
        </p:nvCxnSpPr>
        <p:spPr>
          <a:xfrm>
            <a:off x="8186760" y="435456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8" name="Line 35"/>
          <p:cNvSpPr/>
          <p:nvPr/>
        </p:nvSpPr>
        <p:spPr>
          <a:xfrm>
            <a:off x="458784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4587840" y="4497480"/>
            <a:ext cx="93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>
            <a:off x="98892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>
            <a:off x="638640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7"/>
          <p:cNvSpPr/>
          <p:nvPr/>
        </p:nvSpPr>
        <p:spPr>
          <a:xfrm flipH="1" flipV="1">
            <a:off x="106920" y="1619280"/>
            <a:ext cx="7450200" cy="50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смос представляет соб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ы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одушевлённый организ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ождествляемы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 Богом (пантеиз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ша мир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пневма)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ящая из смеси огн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 воздуха, есть манифестация божествен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азума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ос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й и правит мир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добно тому как душа управляет т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сущее, будучи лишь частью еди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космического организма, всецело определя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следним (отождествление логиче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необходимости с причинностью, отрицан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лучайности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ый детермин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роисходит с человеком, такж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редопределе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атализм)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7126920" y="4857840"/>
            <a:ext cx="1916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нон из Кит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336-26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5" descr="Зенон Стоик (red3 - красн)"/>
          <p:cNvPicPr/>
          <p:nvPr/>
        </p:nvPicPr>
        <p:blipFill>
          <a:blip r:embed="rId1"/>
          <a:stretch/>
        </p:blipFill>
        <p:spPr>
          <a:xfrm>
            <a:off x="7232760" y="259092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4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5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0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1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2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8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9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78200" y="1978200"/>
            <a:ext cx="521784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атал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fatum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дьба;</a:t>
            </a:r>
            <a:br>
              <a:rPr sz="1800"/>
            </a:b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fatalis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роковой, предопределённы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яющая необходим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допределённост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избеж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го происходяще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ироде и жизни челове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на этом основан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лючающе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лучай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об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 flipH="1" flipV="1">
            <a:off x="178200" y="179856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ститель неба, мой отец, веди мен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уда захочешь! Следую не мешк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сё готовый. А не захочу – тогд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 стонами идти придётся греш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пя всё то, что претерпел бы праведным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корных рок ведёт, влечёт строптив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6489360" y="5398920"/>
            <a:ext cx="252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ций Анней Сене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перевод из Клеанф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1" descr="Рубенс, Смерть Сенеки (голова - red1)"/>
          <p:cNvPicPr/>
          <p:nvPr/>
        </p:nvPicPr>
        <p:blipFill>
          <a:blip r:embed="rId1"/>
          <a:stretch/>
        </p:blipFill>
        <p:spPr>
          <a:xfrm>
            <a:off x="6800760" y="2517840"/>
            <a:ext cx="1990800" cy="224784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/>
          <p:cNvSpPr/>
          <p:nvPr/>
        </p:nvSpPr>
        <p:spPr>
          <a:xfrm>
            <a:off x="3525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2554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1582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611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216000" y="136692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им благ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признать лишь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и при каких обстоятельс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стать причиной несча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187280" y="2446200"/>
            <a:ext cx="4822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принадлежащее на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богатство, здоровье и т.п.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быть утрачено, утрата же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мы ценим, делает нас несчас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2158920" y="352584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ни богатство, ни здоровь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 высокое общественное полож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семейное благополуч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т считаться высшим бла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3130560" y="460548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достояние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е может быть у него отня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мудрость, следова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ость и есть высшее бла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4102200" y="568476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 тот, кто понимает, что та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шее благо, счастлив – тот, кто 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ет, а так как высшее благ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мудрость, 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ец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частл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2" descr="Рубенс, Смерть Сенеки (голова - red1)"/>
          <p:cNvPicPr/>
          <p:nvPr/>
        </p:nvPicPr>
        <p:blipFill>
          <a:blip r:embed="rId1"/>
          <a:stretch/>
        </p:blipFill>
        <p:spPr>
          <a:xfrm>
            <a:off x="6872400" y="1366920"/>
            <a:ext cx="1990440" cy="224784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nodeType="clickEffect" fill="hold">
                      <p:stCondLst>
                        <p:cond delay="0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5287680" y="5757840"/>
            <a:ext cx="268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фаэль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финская шко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nb_pinacoteca_raphael_the_school_of_athens"/>
          <p:cNvPicPr/>
          <p:nvPr/>
        </p:nvPicPr>
        <p:blipFill>
          <a:blip r:embed="rId1"/>
          <a:stretch/>
        </p:blipFill>
        <p:spPr>
          <a:xfrm>
            <a:off x="1258920" y="1546200"/>
            <a:ext cx="6618240" cy="49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фины – центр греческой философ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2268360" y="530064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ифаго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 rot="10800000">
            <a:off x="4066920" y="53607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Геракли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986200" y="503712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арменид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059280" y="438948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Сокра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3886200" y="43545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ато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 rot="10800000">
            <a:off x="4678200" y="4354200"/>
            <a:ext cx="565200" cy="244440"/>
          </a:xfrm>
          <a:prstGeom prst="rightArrow">
            <a:avLst>
              <a:gd name="adj1" fmla="val 50000"/>
              <a:gd name="adj2" fmla="val 578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ристотел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2590920" y="42465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нтисфе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 rot="10800000">
            <a:off x="5003640" y="510984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Диоге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727280" y="482112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Эпику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366920" y="4713120"/>
            <a:ext cx="493560" cy="244800"/>
          </a:xfrm>
          <a:prstGeom prst="rightArrow">
            <a:avLst>
              <a:gd name="adj1" fmla="val 50000"/>
              <a:gd name="adj2" fmla="val 504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Зено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 rot="10800000">
            <a:off x="6692760" y="4317840"/>
            <a:ext cx="493920" cy="244800"/>
          </a:xfrm>
          <a:prstGeom prst="rightArrow">
            <a:avLst>
              <a:gd name="adj1" fmla="val 50000"/>
              <a:gd name="adj2" fmla="val 50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оти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2158920" y="503712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верроэс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 rot="5400000">
            <a:off x="3742200" y="3740760"/>
            <a:ext cx="636480" cy="244440"/>
          </a:xfrm>
          <a:prstGeom prst="rightArrow">
            <a:avLst>
              <a:gd name="adj1" fmla="val 50000"/>
              <a:gd name="adj2" fmla="val 65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атоник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 rot="5400000">
            <a:off x="4786560" y="3740760"/>
            <a:ext cx="636480" cy="244440"/>
          </a:xfrm>
          <a:prstGeom prst="rightArrow">
            <a:avLst>
              <a:gd name="adj1" fmla="val 50000"/>
              <a:gd name="adj2" fmla="val 65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ерипатетик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3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388680" y="3633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рена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417840" y="161928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ристи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к. 43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 ок.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417840" y="26989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17840" y="37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ристипп </a:t>
            </a:r>
            <a:br>
              <a:rPr sz="20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(Младш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341784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ге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89856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ео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593712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нике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9"/>
          <p:cNvCxnSpPr/>
          <p:nvPr/>
        </p:nvCxnSpPr>
        <p:spPr>
          <a:xfrm>
            <a:off x="4587480" y="251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6" name="AutoShape 10"/>
          <p:cNvCxnSpPr/>
          <p:nvPr/>
        </p:nvCxnSpPr>
        <p:spPr>
          <a:xfrm>
            <a:off x="4587480" y="35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7" name="AutoShape 11"/>
          <p:cNvCxnSpPr/>
          <p:nvPr/>
        </p:nvCxnSpPr>
        <p:spPr>
          <a:xfrm>
            <a:off x="4587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8" name="AutoShape 12"/>
          <p:cNvCxnSpPr/>
          <p:nvPr/>
        </p:nvCxnSpPr>
        <p:spPr>
          <a:xfrm>
            <a:off x="206856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9" name="AutoShape 13"/>
          <p:cNvCxnSpPr/>
          <p:nvPr/>
        </p:nvCxnSpPr>
        <p:spPr>
          <a:xfrm>
            <a:off x="710676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0" name="Line 14"/>
          <p:cNvSpPr/>
          <p:nvPr/>
        </p:nvSpPr>
        <p:spPr>
          <a:xfrm>
            <a:off x="2068560" y="4857840"/>
            <a:ext cx="251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93492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мор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345456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сс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597384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едонист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344520" y="1665360"/>
            <a:ext cx="2698560" cy="223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дон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ήδονή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овольстви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яю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ла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удовольств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22"/>
          <p:cNvCxnSpPr/>
          <p:nvPr/>
        </p:nvCxnSpPr>
        <p:spPr>
          <a:xfrm>
            <a:off x="4587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6" name="Line 23"/>
          <p:cNvSpPr/>
          <p:nvPr/>
        </p:nvSpPr>
        <p:spPr>
          <a:xfrm>
            <a:off x="4587840" y="4857840"/>
            <a:ext cx="251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6" descr="Аристипп (red2)"/>
          <p:cNvPicPr/>
          <p:nvPr/>
        </p:nvPicPr>
        <p:blipFill>
          <a:blip r:embed="rId1"/>
          <a:stretch/>
        </p:blipFill>
        <p:spPr>
          <a:xfrm>
            <a:off x="6837480" y="719280"/>
            <a:ext cx="1733400" cy="37526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истипп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 flipH="1" flipV="1">
            <a:off x="178920" y="1690560"/>
            <a:ext cx="7197840" cy="478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подлинное благо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ес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е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з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телес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и несчастны потому, что принимают з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благо то, что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 средством дл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его получ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апример, богатств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 тот, кто знает, что есть истинное бла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 что есть действительное зло, и  знает, как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спользовать это знание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ость – эт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ум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искусство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ь счастл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стремлении к удовольствиям мудрец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уководствуется принцип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ы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 –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аб, а господин своих удовольств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150680" y="5541840"/>
            <a:ext cx="1759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35 – ок.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Аристипп (red3)"/>
          <p:cNvPicPr/>
          <p:nvPr/>
        </p:nvPicPr>
        <p:blipFill>
          <a:blip r:embed="rId1"/>
          <a:stretch/>
        </p:blipFill>
        <p:spPr>
          <a:xfrm>
            <a:off x="7305840" y="2266920"/>
            <a:ext cx="1390320" cy="30002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13"/>
          <p:cNvSpPr/>
          <p:nvPr/>
        </p:nvSpPr>
        <p:spPr>
          <a:xfrm>
            <a:off x="3525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2554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1582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611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16000" y="136692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наслажде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бла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традани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187280" y="2446200"/>
            <a:ext cx="4822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всё прочее (что н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наслаждение, ни страдани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различ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2158920" y="352584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мудрец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читает зл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ражу, ни святотатство, 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ятвопреступление, ни изм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130560" y="460548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бега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х, но не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ет их чем-то дурным сам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ебе, а потому что не жел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ь наказан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стра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одо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морал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4102200" y="568476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й 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антию безнаказан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колеблясь пошёл бы на эти т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мые «преступления»,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 э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лило ему насла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3994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9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83528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55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50920" y="136692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ть стоит только ра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ольствий, но такая жиз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возможна, 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тделимы от стр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1330200" y="2446200"/>
            <a:ext cx="431820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Удовольствие мы получа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яя наши потреб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начала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даем от т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они не удовлетвор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409840" y="352584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При этом пребывать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и неудовлетворё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долго, тогда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летворения скороте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489480" y="46054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Средства удовлетвор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 ограничены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аются с труд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доступны лишь немног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570560" y="568476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) Но и эти немногие не буд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-настоящему счастливы, так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достаётся легко, больш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я не доставля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2:45:51Z</dcterms:created>
  <dc:creator>Николай Бирюков / Nikolai Biryukov</dc:creator>
  <dc:description>Редакция ноября 2007 г.</dc:description>
  <dc:language>en-US</dc:language>
  <cp:lastModifiedBy>LEGION</cp:lastModifiedBy>
  <dcterms:modified xsi:type="dcterms:W3CDTF">2014-11-11T10:09:47Z</dcterms:modified>
  <cp:revision>142</cp:revision>
  <dc:subject>Основы философии - Тема 6</dc:subject>
  <dc:title>Эпикурейцы и стоики</dc:title>
</cp:coreProperties>
</file>