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8020-18BF-4813-92FC-E717DA5F00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1F66-B4F9-4F46-8683-4B6B5848CD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9E82-9C5A-483F-967D-1464924573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BBCA-5D1E-4618-9F53-3FD7DC2381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770C-F3AA-40EC-8D80-6A95FD69AF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DDCB-C158-4FC7-B167-22914131A2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Кин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3672-CB81-4132-B052-8C6A32B8F1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ин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6AC7-FCEC-474E-8EB0-B4C5249774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исф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8E71-2794-4BE3-9D67-E53F543423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008E-D4BA-49DB-A097-DEC4A333C0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FEC6-B9C9-44E3-91E8-4B5390A7B7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EAB1-3674-443F-A235-48AE03668D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4542-2A35-472A-ACBE-F84A32E42E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кратические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гед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ипп: обоснование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одор: аморал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гесий: пессим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никерид: гедонистический опт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н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аске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сфен: обоснование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оген: практика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тет: критика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линис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эвдем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то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автаркия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746E-DAC5-453E-A132-1DB7B53503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65C2-B809-4770-93E2-8361BBD739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5471-9D3E-428D-B8A2-C3240D281A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8487-7E76-4379-9611-BFA0D70A26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О природе </a:t>
            </a: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(не сохр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Письмо к Герод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Письмо к Менеке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ур. Главные мысли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ит Лукреций Кар. О природе вещ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3F0E-8239-4E88-A8D8-9AF375FB1E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C23C-4552-4A78-B49F-F209FA1003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8C0B-1D35-42FC-9C3D-4E902B225C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C46A-6AC1-4ED6-8A86-C08E363F2C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2C48-523E-438F-8726-2148A90D4E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1F11-6B85-4D98-8400-D38394AF44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Нравственные письма к Луцил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благодея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Рассуждения о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блаженной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скоротечности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енека. О провиден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пиктет. Беседы </a:t>
            </a:r>
            <a:br>
              <a:rPr sz="1200"/>
            </a:b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записаны Ф. Аррианом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рк Аврелий. К самому себ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2E89-1FA7-494E-9B8C-512600D66C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ократические школы и их преем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AEAA-EB55-4C24-B94D-3459531903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63ED-9E17-4928-B0BD-6F2217B706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5B92-BAB3-4B74-8098-9F5DA0EF97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4456-6B2E-41C7-95CE-048AFB55A0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11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CCDA-B12E-4BC9-8C3C-1E33763FEC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2236-8C09-4CA7-B6F9-5A55F9F25E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фины – центр греческой философ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6EF9-BB30-4521-A622-EB3FDB7700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A51F-5BA5-4A3C-A9F2-218FC5CCD4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иренаик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D1BE-1AB6-49FE-B171-7326C9F31A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ристипп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9DCA-A464-49B3-A859-AF3BB73CF9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еодор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моралистическая интерпретация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9D68-05FF-4572-8081-166335C505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679E-788E-4695-A2B5-851AF3F5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85F-658F-4604-94DA-F0E9E777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BC19-49FA-494E-AB6C-FF48F5B0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8F99-6E89-470C-898C-0719110F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F0A4-09F0-4A22-85B4-232CBF32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F720-3759-4C66-A70D-E678B5B1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B6D-6DF3-4BB9-8E97-6C0E720D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FAA-B8A8-4446-A223-8A3B3008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E30-6CCC-42FD-B713-A783CFDB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6EC-D0F0-477E-B47B-76E8415A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637-4E27-4E4B-BBC9-FDB44EF5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07A-6A97-498A-9DD5-10D61349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605A-A4A1-415A-9647-FB62F6D7F3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28400" y="2714400"/>
            <a:ext cx="85611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flipH="1" flipV="1">
            <a:off x="178920" y="1797840"/>
            <a:ext cx="8637840" cy="37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какую избрать нам дорогу? В общественном мест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Тяжбы, да спор о делах, дома – своя сует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льская жизнь многотрудна; тревоги полно мореходств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Страшно в чужих нам краях, если имеем мы ч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 нет ничего – много горя; женатым забот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Не миновать, холостым – дни одиноко влачит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и – обуза, бездетная жизнь неполна; в молодёж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Благоразумия нет, старость седая сла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о, одно лишь из двух остаётся нам, смертным, на выбор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Иль не родиться совсем, или скорей умере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760360" y="5937120"/>
            <a:ext cx="2696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идипп, «О жизни»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3994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29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183528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755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250920" y="136692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ь, полная удовольств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полне возможна, ес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водить удовольств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телесным наслажд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1330200" y="2446200"/>
            <a:ext cx="431820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Признание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слажден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ширяет самы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уг возможных удоволь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2409840" y="352584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Удовлетворение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ностей не связано 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чтожением того, что нуж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их удовлетво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3489480" y="46054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, удовлетвор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и духовные потребности, 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лишаем други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редств д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и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1"/>
          <p:cNvSpPr/>
          <p:nvPr/>
        </p:nvSpPr>
        <p:spPr>
          <a:xfrm>
            <a:off x="4570560" y="568476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) В отличие от телесны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ые наслажд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коротеч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никерид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донистический опт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 flipH="1" flipV="1">
            <a:off x="178920" y="1797840"/>
            <a:ext cx="8637840" cy="37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любая годится дорога. В общественном мест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Слава и мудрость в делах, дома – покой от трудов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ёлах – природы благие дары, в мореплаванье – прибыл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В крае чужом нам почёт, если имеем мы ч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 нет ничего, мы одни это знаем; женитьб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Красит очаг, холостым – более лёгкая жизн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и – отрада, бездетная жизнь без забот. Молодёж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Сила дана, старики благочестивы душ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все не нужно одно нам из двух выбирать – не роди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Или скорей умереть; всякая доля благ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759640" y="5937120"/>
            <a:ext cx="2696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родор, «О жизни»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Кин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046880" y="3814920"/>
            <a:ext cx="1657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сф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. 435- ок. 3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307320" y="3814920"/>
            <a:ext cx="25354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оген Синопский</a:t>
            </a:r>
            <a:br>
              <a:rPr sz="20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. 404 - 3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6185880" y="3814920"/>
            <a:ext cx="2576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тет Фиванский </a:t>
            </a:r>
            <a:br>
              <a:rPr sz="20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539640" y="5073480"/>
            <a:ext cx="2519640" cy="1187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низ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κύων</a:t>
            </a:r>
            <a:r>
              <a:rPr b="1" lang="ru-RU" sz="1800" spc="-1" strike="noStrike">
                <a:solidFill>
                  <a:srgbClr val="66ff33"/>
                </a:solidFill>
                <a:latin typeface="Arial Unicode MS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ёс,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</a:rPr>
              <a:t>κυ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ν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</a:rPr>
              <a:t>ό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3598920" y="4678200"/>
            <a:ext cx="4965480" cy="19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скет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άσκητής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пражняющийс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ческое уч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поведующее самоотречение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авление чувственных влечений к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ство достижения высшего бл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Антисфен (red)"/>
          <p:cNvPicPr/>
          <p:nvPr/>
        </p:nvPicPr>
        <p:blipFill>
          <a:blip r:embed="rId1"/>
          <a:stretch/>
        </p:blipFill>
        <p:spPr>
          <a:xfrm>
            <a:off x="1079640" y="1511280"/>
            <a:ext cx="1562040" cy="2247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Диоген (Рим, Капитолийский музей - red)"/>
          <p:cNvPicPr/>
          <p:nvPr/>
        </p:nvPicPr>
        <p:blipFill>
          <a:blip r:embed="rId2"/>
          <a:stretch/>
        </p:blipFill>
        <p:spPr>
          <a:xfrm>
            <a:off x="3525840" y="1511280"/>
            <a:ext cx="2085840" cy="2247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Кратет (Джорджано - red)"/>
          <p:cNvPicPr/>
          <p:nvPr/>
        </p:nvPicPr>
        <p:blipFill>
          <a:blip r:embed="rId3"/>
          <a:stretch/>
        </p:blipFill>
        <p:spPr>
          <a:xfrm>
            <a:off x="6332400" y="1511280"/>
            <a:ext cx="2143440" cy="224784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н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аскет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7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3425040" y="406548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5802480" y="251784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0"/>
          <p:cNvSpPr/>
          <p:nvPr/>
        </p:nvSpPr>
        <p:spPr>
          <a:xfrm>
            <a:off x="4427640" y="390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3499920" y="3633840"/>
            <a:ext cx="8514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2"/>
          <p:cNvSpPr/>
          <p:nvPr/>
        </p:nvSpPr>
        <p:spPr>
          <a:xfrm>
            <a:off x="3224160" y="5073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2144880" y="3814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1065240" y="255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719280" y="1654200"/>
            <a:ext cx="442584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счастье зависит о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потреб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 достижимее, че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ьше у нас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1798560" y="2914560"/>
            <a:ext cx="4426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Кратчайший и вернейший п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частью лежит поэтому чере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ение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2878200" y="4173480"/>
            <a:ext cx="4425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 таком ограничении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возможного, 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требности п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й части искусствен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3957480" y="5433840"/>
            <a:ext cx="4426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м меньше наши нужды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ньше наша зависимость от друг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 и внешних обстоятельст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 больше наша своб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сф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3" descr="Антисфен (сидит)"/>
          <p:cNvPicPr/>
          <p:nvPr/>
        </p:nvPicPr>
        <p:blipFill>
          <a:blip r:embed="rId1"/>
          <a:stretch/>
        </p:blipFill>
        <p:spPr>
          <a:xfrm>
            <a:off x="179280" y="3670200"/>
            <a:ext cx="1629000" cy="30290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5668560" y="5757840"/>
            <a:ext cx="229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жон Уотерхаус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оген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8" descr="waterhouse_diogenes [Athen]_red08"/>
          <p:cNvPicPr/>
          <p:nvPr/>
        </p:nvPicPr>
        <p:blipFill>
          <a:blip r:embed="rId1"/>
          <a:stretch/>
        </p:blipFill>
        <p:spPr>
          <a:xfrm>
            <a:off x="1079640" y="1546200"/>
            <a:ext cx="3276360" cy="5041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999680" y="5757840"/>
            <a:ext cx="29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Пуссен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йзаж с Диогено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poussin_landscape_with_diogenes"/>
          <p:cNvPicPr/>
          <p:nvPr/>
        </p:nvPicPr>
        <p:blipFill>
          <a:blip r:embed="rId1"/>
          <a:stretch/>
        </p:blipFill>
        <p:spPr>
          <a:xfrm>
            <a:off x="1295280" y="1690560"/>
            <a:ext cx="6578640" cy="476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6982200" y="5757840"/>
            <a:ext cx="17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оген 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лександр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оге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ктика к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Диоген и Александр (блюдо из Урбино - red)"/>
          <p:cNvPicPr/>
          <p:nvPr/>
        </p:nvPicPr>
        <p:blipFill>
          <a:blip r:embed="rId1"/>
          <a:stretch/>
        </p:blipFill>
        <p:spPr>
          <a:xfrm>
            <a:off x="2085840" y="1619280"/>
            <a:ext cx="4972320" cy="496260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 flipH="1" flipV="1">
            <a:off x="2805480" y="1690560"/>
            <a:ext cx="611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я, что смертным родилс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старайся питать свою душ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адостной негой пиров,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осле смерти ведь нет нам отрад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ах обратился и 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Ниневии великий властител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с собой и унёс 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что выпил и съел и что взя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ой от любви; вся же роскош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моя и богатство осталис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ости это житей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моё поучение людя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81440" y="4857840"/>
            <a:ext cx="2937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ерил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а гроб Сарданапала»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 и сто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50920"/>
            <a:ext cx="8229600" cy="55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кратические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гед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ипп: обоснование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одор: аморал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гесий: пессимистическая интерпретация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никерид: гедонистический опт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ин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аске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сфен: обоснование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оген: практика ки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тет: критика гедо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линис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этика эвдемо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то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автаркия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Кратет (Джорджано - red)"/>
          <p:cNvPicPr/>
          <p:nvPr/>
        </p:nvPicPr>
        <p:blipFill>
          <a:blip r:embed="rId1"/>
          <a:stretch/>
        </p:blipFill>
        <p:spPr>
          <a:xfrm>
            <a:off x="466560" y="1690560"/>
            <a:ext cx="2143440" cy="22482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ате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 flipH="1" flipV="1">
            <a:off x="2805480" y="1690560"/>
            <a:ext cx="611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я, что смертным родилс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старайся питать свою душ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адостью мудрых речей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не в еде для души ведь отрад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алок я, евший так м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и так наслаждавшийся в жизни!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с собой и унёс 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что ум мой познал и что муз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ли прекрасного мне;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все же прочие блага остали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10520" y="4678200"/>
            <a:ext cx="2936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тет Фиванский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одия на эпиграмму-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тафию Херила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Эпикурей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2374920" y="5218200"/>
            <a:ext cx="4390920" cy="1403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вдемон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εύδαιμονία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часть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ческое учение, утверждаю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цель жизни – счаст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827280" y="4317840"/>
            <a:ext cx="109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41-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2986200" y="4317840"/>
            <a:ext cx="1250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ма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1"/>
          <p:cNvSpPr/>
          <p:nvPr/>
        </p:nvSpPr>
        <p:spPr>
          <a:xfrm>
            <a:off x="4895280" y="4317840"/>
            <a:ext cx="1442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род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30-2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8"/>
          <p:cNvSpPr/>
          <p:nvPr/>
        </p:nvSpPr>
        <p:spPr>
          <a:xfrm>
            <a:off x="6689880" y="4317840"/>
            <a:ext cx="242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т Лукреций Ка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99-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9" descr="Rubens, The Four Philosophers - Bust of Seneca (auto)"/>
          <p:cNvPicPr/>
          <p:nvPr/>
        </p:nvPicPr>
        <p:blipFill>
          <a:blip r:embed="rId1"/>
          <a:stretch/>
        </p:blipFill>
        <p:spPr>
          <a:xfrm>
            <a:off x="7197840" y="1690560"/>
            <a:ext cx="1514520" cy="2411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3" descr="Эпикур (Рим - Капитолийский музей - red3)"/>
          <p:cNvPicPr/>
          <p:nvPr/>
        </p:nvPicPr>
        <p:blipFill>
          <a:blip r:embed="rId2"/>
          <a:stretch/>
        </p:blipFill>
        <p:spPr>
          <a:xfrm>
            <a:off x="358920" y="1690560"/>
            <a:ext cx="2022480" cy="2521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1" descr="Гермарх (Рим - Ватиканский музей - red)"/>
          <p:cNvPicPr/>
          <p:nvPr/>
        </p:nvPicPr>
        <p:blipFill>
          <a:blip r:embed="rId3"/>
          <a:stretch/>
        </p:blipFill>
        <p:spPr>
          <a:xfrm>
            <a:off x="2949480" y="1690560"/>
            <a:ext cx="1252800" cy="2414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3" descr="Метродор (Париж, Лувр - red)"/>
          <p:cNvPicPr/>
          <p:nvPr/>
        </p:nvPicPr>
        <p:blipFill>
          <a:blip r:embed="rId4"/>
          <a:stretch/>
        </p:blipFill>
        <p:spPr>
          <a:xfrm>
            <a:off x="4786200" y="1690560"/>
            <a:ext cx="1681200" cy="24116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0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3425040" y="406548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9"/>
          <p:cNvSpPr/>
          <p:nvPr/>
        </p:nvSpPr>
        <p:spPr>
          <a:xfrm>
            <a:off x="5802480" y="255420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0"/>
          <p:cNvSpPr/>
          <p:nvPr/>
        </p:nvSpPr>
        <p:spPr>
          <a:xfrm>
            <a:off x="4427640" y="390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1"/>
          <p:cNvSpPr/>
          <p:nvPr/>
        </p:nvSpPr>
        <p:spPr>
          <a:xfrm>
            <a:off x="3499920" y="3633840"/>
            <a:ext cx="8514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4"/>
          <p:cNvSpPr/>
          <p:nvPr/>
        </p:nvSpPr>
        <p:spPr>
          <a:xfrm>
            <a:off x="5076720" y="4076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4504680" y="4281480"/>
            <a:ext cx="907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6"/>
          <p:cNvSpPr/>
          <p:nvPr/>
        </p:nvSpPr>
        <p:spPr>
          <a:xfrm>
            <a:off x="511020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7"/>
          <p:cNvSpPr/>
          <p:nvPr/>
        </p:nvSpPr>
        <p:spPr>
          <a:xfrm>
            <a:off x="5225400" y="3022560"/>
            <a:ext cx="1142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мп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8"/>
          <p:cNvSpPr/>
          <p:nvPr/>
        </p:nvSpPr>
        <p:spPr>
          <a:xfrm>
            <a:off x="5076720" y="3716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9"/>
          <p:cNvSpPr/>
          <p:nvPr/>
        </p:nvSpPr>
        <p:spPr>
          <a:xfrm>
            <a:off x="5261400" y="3417840"/>
            <a:ext cx="12992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ти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пикурей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эвдем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58920" y="3057480"/>
            <a:ext cx="431784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О природе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не сох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Письмо к Герод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Письмо к Менеке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. Главные мысли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т Лукреций Кар. О природе ве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719280" y="197820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Эпикур (Рим - Капитолийский музей - red3)"/>
          <p:cNvPicPr/>
          <p:nvPr/>
        </p:nvPicPr>
        <p:blipFill>
          <a:blip r:embed="rId1"/>
          <a:stretch/>
        </p:blipFill>
        <p:spPr>
          <a:xfrm>
            <a:off x="4749840" y="1978200"/>
            <a:ext cx="2022480" cy="25207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8"/>
          <p:cNvSpPr/>
          <p:nvPr/>
        </p:nvSpPr>
        <p:spPr>
          <a:xfrm>
            <a:off x="5253120" y="4678200"/>
            <a:ext cx="109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41-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9" descr="Rubens, The Four Philosophers - Bust of Seneca (auto)"/>
          <p:cNvPicPr/>
          <p:nvPr/>
        </p:nvPicPr>
        <p:blipFill>
          <a:blip r:embed="rId2"/>
          <a:stretch/>
        </p:blipFill>
        <p:spPr>
          <a:xfrm>
            <a:off x="7124760" y="2770200"/>
            <a:ext cx="1514520" cy="241128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0"/>
          <p:cNvSpPr/>
          <p:nvPr/>
        </p:nvSpPr>
        <p:spPr>
          <a:xfrm>
            <a:off x="6618600" y="5433840"/>
            <a:ext cx="2427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т Лукреций Ка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99-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83" dur="1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5" descr="Pain-cont"/>
          <p:cNvPicPr/>
          <p:nvPr/>
        </p:nvPicPr>
        <p:blipFill>
          <a:blip r:embed="rId1"/>
          <a:stretch/>
        </p:blipFill>
        <p:spPr>
          <a:xfrm>
            <a:off x="6548400" y="4605480"/>
            <a:ext cx="1471680" cy="1619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12"/>
          <p:cNvSpPr/>
          <p:nvPr/>
        </p:nvSpPr>
        <p:spPr>
          <a:xfrm>
            <a:off x="6116760" y="4317840"/>
            <a:ext cx="2519280" cy="21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ерывная бо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лговременн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затяжные немо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авляют пло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слажд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б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233280" y="3994200"/>
            <a:ext cx="324000" cy="716040"/>
          </a:xfrm>
          <a:custGeom>
            <a:avLst/>
            <a:gdLst>
              <a:gd name="textAreaLeft" fmla="*/ 43200 w 324000"/>
              <a:gd name="textAreaRight" fmla="*/ 280800 w 324000"/>
              <a:gd name="textAreaTop" fmla="*/ 125280 h 716040"/>
              <a:gd name="textAreaBottom" fmla="*/ 51912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ахи и их преодо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3057480" y="1619280"/>
            <a:ext cx="305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ахи –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чины несчас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39640" y="3057480"/>
            <a:ext cx="251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ах перед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б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179856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AutoShape 7"/>
          <p:cNvCxnSpPr/>
          <p:nvPr/>
        </p:nvCxnSpPr>
        <p:spPr>
          <a:xfrm>
            <a:off x="458748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1" name="AutoShape 8"/>
          <p:cNvCxnSpPr/>
          <p:nvPr/>
        </p:nvCxnSpPr>
        <p:spPr>
          <a:xfrm>
            <a:off x="179820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12" name="AutoShape 9"/>
          <p:cNvCxnSpPr/>
          <p:nvPr/>
        </p:nvCxnSpPr>
        <p:spPr>
          <a:xfrm>
            <a:off x="737712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13" name="AutoShape 10"/>
          <p:cNvSpPr/>
          <p:nvPr/>
        </p:nvSpPr>
        <p:spPr>
          <a:xfrm>
            <a:off x="539640" y="4317840"/>
            <a:ext cx="2519640" cy="21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и – сущ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смертны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же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акие ни с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бот не име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друг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доставля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1"/>
          <p:cNvSpPr/>
          <p:nvPr/>
        </p:nvSpPr>
        <p:spPr>
          <a:xfrm>
            <a:off x="3327480" y="4317840"/>
            <a:ext cx="2519280" cy="215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 не име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ам ника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: пок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есть, смер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щё нет, а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 наступ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нас уже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3"/>
          <p:cNvSpPr/>
          <p:nvPr/>
        </p:nvSpPr>
        <p:spPr>
          <a:xfrm>
            <a:off x="3022560" y="3994200"/>
            <a:ext cx="324000" cy="716040"/>
          </a:xfrm>
          <a:custGeom>
            <a:avLst/>
            <a:gdLst>
              <a:gd name="textAreaLeft" fmla="*/ 43200 w 324000"/>
              <a:gd name="textAreaRight" fmla="*/ 280800 w 324000"/>
              <a:gd name="textAreaTop" fmla="*/ 125280 h 716040"/>
              <a:gd name="textAreaBottom" fmla="*/ 51912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4"/>
          <p:cNvSpPr/>
          <p:nvPr/>
        </p:nvSpPr>
        <p:spPr>
          <a:xfrm>
            <a:off x="332748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ах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5"/>
          <p:cNvSpPr/>
          <p:nvPr/>
        </p:nvSpPr>
        <p:spPr>
          <a:xfrm>
            <a:off x="5811840" y="3994200"/>
            <a:ext cx="324000" cy="716040"/>
          </a:xfrm>
          <a:custGeom>
            <a:avLst/>
            <a:gdLst>
              <a:gd name="textAreaLeft" fmla="*/ 43200 w 324000"/>
              <a:gd name="textAreaRight" fmla="*/ 280800 w 324000"/>
              <a:gd name="textAreaTop" fmla="*/ 125280 h 716040"/>
              <a:gd name="textAreaBottom" fmla="*/ 519120 h 71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6"/>
          <p:cNvSpPr/>
          <p:nvPr/>
        </p:nvSpPr>
        <p:spPr>
          <a:xfrm>
            <a:off x="611676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ах перед</a:t>
            </a:r>
            <a:br>
              <a:rPr sz="2000"/>
            </a:b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трад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AutoShape 19"/>
          <p:cNvCxnSpPr/>
          <p:nvPr/>
        </p:nvCxnSpPr>
        <p:spPr>
          <a:xfrm>
            <a:off x="458748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20" name="Line 20"/>
          <p:cNvSpPr/>
          <p:nvPr/>
        </p:nvSpPr>
        <p:spPr>
          <a:xfrm>
            <a:off x="458784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1" descr="Zeus"/>
          <p:cNvPicPr/>
          <p:nvPr/>
        </p:nvPicPr>
        <p:blipFill>
          <a:blip r:embed="rId2"/>
          <a:stretch/>
        </p:blipFill>
        <p:spPr>
          <a:xfrm>
            <a:off x="539640" y="647640"/>
            <a:ext cx="1127160" cy="1619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3" descr="Death (2)"/>
          <p:cNvPicPr/>
          <p:nvPr/>
        </p:nvPicPr>
        <p:blipFill>
          <a:blip r:embed="rId3"/>
          <a:stretch/>
        </p:blipFill>
        <p:spPr>
          <a:xfrm>
            <a:off x="7664400" y="647640"/>
            <a:ext cx="752400" cy="161928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77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4" dur="770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6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8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77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5" dur="770" fill="hold"/>
                                        <p:tgtEl>
                                          <p:spTgt spid="3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7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9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 эпикурейц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лассификация жел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3"/>
          <p:cNvSpPr/>
          <p:nvPr/>
        </p:nvSpPr>
        <p:spPr>
          <a:xfrm>
            <a:off x="3687840" y="1619280"/>
            <a:ext cx="30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Желания бы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1708200" y="287820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Ест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"/>
          <p:cNvSpPr/>
          <p:nvPr/>
        </p:nvSpPr>
        <p:spPr>
          <a:xfrm>
            <a:off x="2968560" y="2698920"/>
            <a:ext cx="22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AutoShape 6"/>
          <p:cNvCxnSpPr/>
          <p:nvPr/>
        </p:nvCxnSpPr>
        <p:spPr>
          <a:xfrm>
            <a:off x="5218200" y="251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29" name="AutoShape 7"/>
          <p:cNvCxnSpPr/>
          <p:nvPr/>
        </p:nvCxnSpPr>
        <p:spPr>
          <a:xfrm>
            <a:off x="296820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0" name="AutoShape 8"/>
          <p:cNvCxnSpPr/>
          <p:nvPr/>
        </p:nvCxnSpPr>
        <p:spPr>
          <a:xfrm>
            <a:off x="746712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31" name="AutoShape 9"/>
          <p:cNvSpPr/>
          <p:nvPr/>
        </p:nvSpPr>
        <p:spPr>
          <a:xfrm>
            <a:off x="358920" y="521820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збавляющи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т страда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име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итьё при жаж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3057480" y="521820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азнообразящи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аслажд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име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ысканная п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6207120" y="521820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 естественны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 не необходим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имер, вен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чётные стату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358920" y="413856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обходи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3"/>
          <p:cNvSpPr/>
          <p:nvPr/>
        </p:nvSpPr>
        <p:spPr>
          <a:xfrm>
            <a:off x="6207120" y="287820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здо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4"/>
          <p:cNvSpPr/>
          <p:nvPr/>
        </p:nvSpPr>
        <p:spPr>
          <a:xfrm>
            <a:off x="3057480" y="413856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 необходи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5"/>
          <p:cNvSpPr/>
          <p:nvPr/>
        </p:nvSpPr>
        <p:spPr>
          <a:xfrm>
            <a:off x="1619280" y="395748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AutoShape 16"/>
          <p:cNvCxnSpPr/>
          <p:nvPr/>
        </p:nvCxnSpPr>
        <p:spPr>
          <a:xfrm>
            <a:off x="1619280" y="3957120"/>
            <a:ext cx="216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9" name="AutoShape 17"/>
          <p:cNvCxnSpPr/>
          <p:nvPr/>
        </p:nvCxnSpPr>
        <p:spPr>
          <a:xfrm>
            <a:off x="4317480" y="395712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0" name="AutoShape 18"/>
          <p:cNvCxnSpPr/>
          <p:nvPr/>
        </p:nvCxnSpPr>
        <p:spPr>
          <a:xfrm>
            <a:off x="2968200" y="37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1" name="AutoShape 20"/>
          <p:cNvCxnSpPr/>
          <p:nvPr/>
        </p:nvCxnSpPr>
        <p:spPr>
          <a:xfrm>
            <a:off x="1619280" y="503712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2" name="AutoShape 21"/>
          <p:cNvCxnSpPr/>
          <p:nvPr/>
        </p:nvCxnSpPr>
        <p:spPr>
          <a:xfrm>
            <a:off x="4317480" y="50371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3" name="AutoShape 22"/>
          <p:cNvCxnSpPr/>
          <p:nvPr/>
        </p:nvCxnSpPr>
        <p:spPr>
          <a:xfrm>
            <a:off x="7467120" y="3778200"/>
            <a:ext cx="2520" cy="14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4" name="Line 24"/>
          <p:cNvSpPr/>
          <p:nvPr/>
        </p:nvSpPr>
        <p:spPr>
          <a:xfrm>
            <a:off x="5218200" y="2698920"/>
            <a:ext cx="22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>
            <a:off x="2968560" y="395748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6" descr="Thirst"/>
          <p:cNvPicPr/>
          <p:nvPr/>
        </p:nvPicPr>
        <p:blipFill>
          <a:blip r:embed="rId1"/>
          <a:stretch/>
        </p:blipFill>
        <p:spPr>
          <a:xfrm>
            <a:off x="539640" y="647640"/>
            <a:ext cx="1036800" cy="1619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7" descr="Feast"/>
          <p:cNvPicPr/>
          <p:nvPr/>
        </p:nvPicPr>
        <p:blipFill>
          <a:blip r:embed="rId2"/>
          <a:stretch/>
        </p:blipFill>
        <p:spPr>
          <a:xfrm>
            <a:off x="7737480" y="647640"/>
            <a:ext cx="792000" cy="16225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8" descr="Laurel"/>
          <p:cNvPicPr/>
          <p:nvPr/>
        </p:nvPicPr>
        <p:blipFill>
          <a:blip r:embed="rId3"/>
          <a:stretch/>
        </p:blipFill>
        <p:spPr>
          <a:xfrm>
            <a:off x="7880400" y="4138560"/>
            <a:ext cx="676080" cy="108756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3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6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8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0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4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77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7" dur="770" fill="hold"/>
                                        <p:tgtEl>
                                          <p:spTgt spid="3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9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1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8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0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2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Сто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>
            <a:off x="287280" y="2338560"/>
            <a:ext cx="2843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анняя Стоя</a:t>
            </a:r>
            <a:br>
              <a:rPr sz="2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-I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в. до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3165480" y="2698920"/>
            <a:ext cx="2843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редняя Стоя</a:t>
            </a:r>
            <a:br>
              <a:rPr sz="2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в. до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6045120" y="3057480"/>
            <a:ext cx="2843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оздняя Стоя</a:t>
            </a:r>
            <a:br>
              <a:rPr sz="2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-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в. н.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358920" y="323856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но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Кития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36-2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6116760" y="3957480"/>
            <a:ext cx="26985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уций Анней Сенека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-65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8"/>
          <p:cNvSpPr/>
          <p:nvPr/>
        </p:nvSpPr>
        <p:spPr>
          <a:xfrm>
            <a:off x="358920" y="413856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еанф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1/30 – ок. 2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9"/>
          <p:cNvSpPr/>
          <p:nvPr/>
        </p:nvSpPr>
        <p:spPr>
          <a:xfrm>
            <a:off x="358920" y="503712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рисипп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280/277 – ок. 208/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3238560" y="359892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нэт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80 – после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3238560" y="449748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идон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35 – ок.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2"/>
          <p:cNvSpPr/>
          <p:nvPr/>
        </p:nvSpPr>
        <p:spPr>
          <a:xfrm>
            <a:off x="6116760" y="485784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пиктет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50 – 1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3"/>
          <p:cNvSpPr/>
          <p:nvPr/>
        </p:nvSpPr>
        <p:spPr>
          <a:xfrm>
            <a:off x="6116760" y="5757840"/>
            <a:ext cx="2698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арк Аврел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21-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6008760" y="1619280"/>
            <a:ext cx="2879640" cy="82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то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Σ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τ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ο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ά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285480" y="3994200"/>
            <a:ext cx="2111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енон из Кит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36-2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1909080" y="4425840"/>
            <a:ext cx="2998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рисипп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280/277 – ок. 208/2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4206960" y="5073480"/>
            <a:ext cx="2794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уций Анней Сенек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4-65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6907320" y="5433840"/>
            <a:ext cx="2001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рк Аврел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21-1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287280" y="5613480"/>
            <a:ext cx="4318200" cy="107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втарк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</a:rPr>
              <a:t>αύτάρκι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ние, самодостато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8" descr="Зенон Стоик (red - красн)"/>
          <p:cNvPicPr/>
          <p:nvPr/>
        </p:nvPicPr>
        <p:blipFill>
          <a:blip r:embed="rId1"/>
          <a:stretch/>
        </p:blipFill>
        <p:spPr>
          <a:xfrm>
            <a:off x="431640" y="14382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Хрисипп (Лондон - Британский музей - red)"/>
          <p:cNvPicPr/>
          <p:nvPr/>
        </p:nvPicPr>
        <p:blipFill>
          <a:blip r:embed="rId2"/>
          <a:stretch/>
        </p:blipFill>
        <p:spPr>
          <a:xfrm>
            <a:off x="2554200" y="1798560"/>
            <a:ext cx="1924200" cy="2629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Рубенс, Смерть Сенеки (голова - red)"/>
          <p:cNvPicPr/>
          <p:nvPr/>
        </p:nvPicPr>
        <p:blipFill>
          <a:blip r:embed="rId3"/>
          <a:stretch/>
        </p:blipFill>
        <p:spPr>
          <a:xfrm>
            <a:off x="4570560" y="2158920"/>
            <a:ext cx="2295360" cy="25909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Марк Аврелий (Неаполь - голова 2 - red)"/>
          <p:cNvPicPr/>
          <p:nvPr/>
        </p:nvPicPr>
        <p:blipFill>
          <a:blip r:embed="rId4"/>
          <a:stretch/>
        </p:blipFill>
        <p:spPr>
          <a:xfrm>
            <a:off x="6872400" y="2517840"/>
            <a:ext cx="1990440" cy="262872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77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5442120" y="381492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3425040" y="406548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8"/>
          <p:cNvSpPr/>
          <p:nvPr/>
        </p:nvSpPr>
        <p:spPr>
          <a:xfrm>
            <a:off x="680076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9"/>
          <p:cNvSpPr/>
          <p:nvPr/>
        </p:nvSpPr>
        <p:spPr>
          <a:xfrm>
            <a:off x="5802480" y="2554200"/>
            <a:ext cx="1029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н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20"/>
          <p:cNvSpPr/>
          <p:nvPr/>
        </p:nvSpPr>
        <p:spPr>
          <a:xfrm>
            <a:off x="4427640" y="390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1"/>
          <p:cNvSpPr/>
          <p:nvPr/>
        </p:nvSpPr>
        <p:spPr>
          <a:xfrm>
            <a:off x="3499920" y="3633840"/>
            <a:ext cx="8514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24"/>
          <p:cNvSpPr/>
          <p:nvPr/>
        </p:nvSpPr>
        <p:spPr>
          <a:xfrm>
            <a:off x="5076720" y="4076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5"/>
          <p:cNvSpPr/>
          <p:nvPr/>
        </p:nvSpPr>
        <p:spPr>
          <a:xfrm>
            <a:off x="4504680" y="4281480"/>
            <a:ext cx="907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26"/>
          <p:cNvSpPr/>
          <p:nvPr/>
        </p:nvSpPr>
        <p:spPr>
          <a:xfrm>
            <a:off x="511020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5225400" y="3022560"/>
            <a:ext cx="1142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мп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8"/>
          <p:cNvSpPr/>
          <p:nvPr/>
        </p:nvSpPr>
        <p:spPr>
          <a:xfrm>
            <a:off x="5076720" y="3716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5261400" y="3417840"/>
            <a:ext cx="12992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ти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30"/>
          <p:cNvSpPr/>
          <p:nvPr/>
        </p:nvSpPr>
        <p:spPr>
          <a:xfrm>
            <a:off x="6516720" y="4724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1"/>
          <p:cNvSpPr/>
          <p:nvPr/>
        </p:nvSpPr>
        <p:spPr>
          <a:xfrm>
            <a:off x="6701400" y="4749840"/>
            <a:ext cx="8528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32"/>
          <p:cNvSpPr/>
          <p:nvPr/>
        </p:nvSpPr>
        <p:spPr>
          <a:xfrm>
            <a:off x="5076720" y="3573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4433040" y="3454560"/>
            <a:ext cx="598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34"/>
          <p:cNvSpPr/>
          <p:nvPr/>
        </p:nvSpPr>
        <p:spPr>
          <a:xfrm>
            <a:off x="66214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5"/>
          <p:cNvSpPr/>
          <p:nvPr/>
        </p:nvSpPr>
        <p:spPr>
          <a:xfrm>
            <a:off x="6770520" y="4210200"/>
            <a:ext cx="8254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6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7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38"/>
          <p:cNvSpPr/>
          <p:nvPr/>
        </p:nvSpPr>
        <p:spPr>
          <a:xfrm>
            <a:off x="6281640" y="3922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9"/>
          <p:cNvSpPr/>
          <p:nvPr/>
        </p:nvSpPr>
        <p:spPr>
          <a:xfrm>
            <a:off x="6412680" y="3814920"/>
            <a:ext cx="1407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ера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0"/>
          <p:cNvSpPr/>
          <p:nvPr/>
        </p:nvSpPr>
        <p:spPr>
          <a:xfrm>
            <a:off x="400680" y="3573360"/>
            <a:ext cx="14335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←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рд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аркия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0560" y="3057120"/>
            <a:ext cx="47862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Нравственные письма к Луцил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благодея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Рассуждения о при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блаженной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скоротечности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. О провиден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пиктет. Беседы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записаны Ф. Аррианом)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рк Аврелий. К самому с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790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9" descr="Рубенс, Смерть Сенеки (голова - red)"/>
          <p:cNvPicPr/>
          <p:nvPr/>
        </p:nvPicPr>
        <p:blipFill>
          <a:blip r:embed="rId1"/>
          <a:stretch/>
        </p:blipFill>
        <p:spPr>
          <a:xfrm>
            <a:off x="5326200" y="1798560"/>
            <a:ext cx="1957320" cy="22100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0"/>
          <p:cNvSpPr/>
          <p:nvPr/>
        </p:nvSpPr>
        <p:spPr>
          <a:xfrm>
            <a:off x="5358960" y="4138560"/>
            <a:ext cx="19029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уций Анней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ек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4-65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1" descr="Марк Аврелий (Неаполь - голова 2 - red)"/>
          <p:cNvPicPr/>
          <p:nvPr/>
        </p:nvPicPr>
        <p:blipFill>
          <a:blip r:embed="rId2"/>
          <a:stretch/>
        </p:blipFill>
        <p:spPr>
          <a:xfrm>
            <a:off x="7161120" y="3598920"/>
            <a:ext cx="1695600" cy="223668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2"/>
          <p:cNvSpPr/>
          <p:nvPr/>
        </p:nvSpPr>
        <p:spPr>
          <a:xfrm>
            <a:off x="7051680" y="5973840"/>
            <a:ext cx="2001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рк Аврел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21-1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648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кратические школы и их преем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3778200" y="10796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69-3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5541840" y="3165480"/>
            <a:ext cx="169092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идо-эри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ей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17928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истипп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35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978200" y="2266920"/>
            <a:ext cx="161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вклид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30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377820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ато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28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48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557676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до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17 – 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7377120" y="226692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тисфе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</a:t>
            </a: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3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14292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ре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194328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га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374184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br>
              <a:rPr sz="1800"/>
            </a:b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(платоник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7340760" y="3165480"/>
            <a:ext cx="1690560" cy="1187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н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"/>
          <p:cNvSpPr/>
          <p:nvPr/>
        </p:nvSpPr>
        <p:spPr>
          <a:xfrm>
            <a:off x="179280" y="46418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пик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41-2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5"/>
          <p:cNvSpPr/>
          <p:nvPr/>
        </p:nvSpPr>
        <p:spPr>
          <a:xfrm>
            <a:off x="7377120" y="46418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но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36-2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6"/>
          <p:cNvSpPr/>
          <p:nvPr/>
        </p:nvSpPr>
        <p:spPr>
          <a:xfrm>
            <a:off x="142920" y="5541840"/>
            <a:ext cx="1690560" cy="11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пикурей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7"/>
          <p:cNvSpPr/>
          <p:nvPr/>
        </p:nvSpPr>
        <p:spPr>
          <a:xfrm>
            <a:off x="7340760" y="5541840"/>
            <a:ext cx="1690560" cy="11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8"/>
          <p:cNvSpPr/>
          <p:nvPr/>
        </p:nvSpPr>
        <p:spPr>
          <a:xfrm>
            <a:off x="4713120" y="4641840"/>
            <a:ext cx="16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истотель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84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322/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9"/>
          <p:cNvSpPr/>
          <p:nvPr/>
        </p:nvSpPr>
        <p:spPr>
          <a:xfrm>
            <a:off x="2806560" y="4641840"/>
            <a:ext cx="1690920" cy="20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евн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аде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0"/>
          <p:cNvSpPr/>
          <p:nvPr/>
        </p:nvSpPr>
        <p:spPr>
          <a:xfrm>
            <a:off x="4678200" y="5541840"/>
            <a:ext cx="1690920" cy="118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кей</a:t>
            </a:r>
            <a:br>
              <a:rPr sz="1800"/>
            </a:b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(перипате-</a:t>
            </a:r>
            <a:br>
              <a:rPr sz="1700"/>
            </a:b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тик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>
            <a:off x="3022560" y="5684760"/>
            <a:ext cx="12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278748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3652920" y="4497480"/>
            <a:ext cx="93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24"/>
          <p:cNvCxnSpPr/>
          <p:nvPr/>
        </p:nvCxnSpPr>
        <p:spPr>
          <a:xfrm>
            <a:off x="988560" y="2122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9" name="AutoShape 25"/>
          <p:cNvCxnSpPr/>
          <p:nvPr/>
        </p:nvCxnSpPr>
        <p:spPr>
          <a:xfrm>
            <a:off x="8186760" y="212220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0" name="AutoShape 26"/>
          <p:cNvCxnSpPr/>
          <p:nvPr/>
        </p:nvCxnSpPr>
        <p:spPr>
          <a:xfrm>
            <a:off x="988560" y="435456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" name="AutoShape 27"/>
          <p:cNvCxnSpPr/>
          <p:nvPr/>
        </p:nvCxnSpPr>
        <p:spPr>
          <a:xfrm>
            <a:off x="6386040" y="2122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2" name="AutoShape 28"/>
          <p:cNvCxnSpPr/>
          <p:nvPr/>
        </p:nvCxnSpPr>
        <p:spPr>
          <a:xfrm>
            <a:off x="4587480" y="4354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3" name="AutoShape 29"/>
          <p:cNvCxnSpPr/>
          <p:nvPr/>
        </p:nvCxnSpPr>
        <p:spPr>
          <a:xfrm>
            <a:off x="5522400" y="449712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4" name="AutoShape 30"/>
          <p:cNvCxnSpPr/>
          <p:nvPr/>
        </p:nvCxnSpPr>
        <p:spPr>
          <a:xfrm>
            <a:off x="3652920" y="449712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5" name="AutoShape 31"/>
          <p:cNvCxnSpPr/>
          <p:nvPr/>
        </p:nvCxnSpPr>
        <p:spPr>
          <a:xfrm>
            <a:off x="2787120" y="212220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6" name="AutoShape 32"/>
          <p:cNvCxnSpPr/>
          <p:nvPr/>
        </p:nvCxnSpPr>
        <p:spPr>
          <a:xfrm>
            <a:off x="4587480" y="197820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7" name="AutoShape 33"/>
          <p:cNvCxnSpPr/>
          <p:nvPr/>
        </p:nvCxnSpPr>
        <p:spPr>
          <a:xfrm>
            <a:off x="8186760" y="435456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8" name="Line 35"/>
          <p:cNvSpPr/>
          <p:nvPr/>
        </p:nvSpPr>
        <p:spPr>
          <a:xfrm>
            <a:off x="458784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4587840" y="4497480"/>
            <a:ext cx="934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8"/>
          <p:cNvSpPr/>
          <p:nvPr/>
        </p:nvSpPr>
        <p:spPr>
          <a:xfrm>
            <a:off x="98892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9"/>
          <p:cNvSpPr/>
          <p:nvPr/>
        </p:nvSpPr>
        <p:spPr>
          <a:xfrm>
            <a:off x="6386400" y="212256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(«физика») Ранне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7"/>
          <p:cNvSpPr/>
          <p:nvPr/>
        </p:nvSpPr>
        <p:spPr>
          <a:xfrm flipH="1" flipV="1">
            <a:off x="106920" y="1619280"/>
            <a:ext cx="7450200" cy="50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смос представляет собо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ы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одушевлённый организ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ождествляемы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с Богом (пантеиз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ша мир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пневма)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остоящая из смеси огн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и воздуха, есть манифестация божествен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разума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ос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й и правит мир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одобно тому как душа управляет т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сущее, будучи лишь частью еди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космического организма, всецело определя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оследним (отождествление логиче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необходимости с причинностью, отрицан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случайности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ый детерминиз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роисходит с человеком, такж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предопределе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фатализм)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7126920" y="4857840"/>
            <a:ext cx="1916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нон из Кития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336-26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5" descr="Зенон Стоик (red3 - красн)"/>
          <p:cNvPicPr/>
          <p:nvPr/>
        </p:nvPicPr>
        <p:blipFill>
          <a:blip r:embed="rId1"/>
          <a:stretch/>
        </p:blipFill>
        <p:spPr>
          <a:xfrm>
            <a:off x="7232760" y="2590920"/>
            <a:ext cx="1619280" cy="205740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3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4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5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0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1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2" dur="8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7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8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9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nodeType="clickEffect" fill="hold">
                      <p:stCondLst>
                        <p:cond delay="indefinite"/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4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5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6" dur="8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78200" y="1978200"/>
            <a:ext cx="521784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атал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fatum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удьба;</a:t>
            </a:r>
            <a:br>
              <a:rPr sz="1800"/>
            </a:b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fatalis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роковой, предопределённы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ое уч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яющая необходим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едопределённостью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избежн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го происходяще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ироде и жизни челове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на этом основан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ключающе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лучай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об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тализм Ранне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4"/>
          <p:cNvSpPr/>
          <p:nvPr/>
        </p:nvSpPr>
        <p:spPr>
          <a:xfrm flipH="1" flipV="1">
            <a:off x="178200" y="179856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ститель неба, мой отец, веди мен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уда захочешь! Следую не мешк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сё готовый. А не захочу – тогд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 стонами идти придётся грешн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пя всё то, что претерпел бы праведным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корных рок ведёт, влечёт строптив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6489360" y="5398920"/>
            <a:ext cx="252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уций Анней Сенек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(перевод из Клеанф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1" descr="Рубенс, Смерть Сенеки (голова - red1)"/>
          <p:cNvPicPr/>
          <p:nvPr/>
        </p:nvPicPr>
        <p:blipFill>
          <a:blip r:embed="rId1"/>
          <a:stretch/>
        </p:blipFill>
        <p:spPr>
          <a:xfrm>
            <a:off x="6800760" y="2517840"/>
            <a:ext cx="1990800" cy="224784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/>
          <p:cNvSpPr/>
          <p:nvPr/>
        </p:nvSpPr>
        <p:spPr>
          <a:xfrm>
            <a:off x="3525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"/>
          <p:cNvSpPr/>
          <p:nvPr/>
        </p:nvSpPr>
        <p:spPr>
          <a:xfrm>
            <a:off x="2554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1582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611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216000" y="136692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им благ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признать лишь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и при каких обстоятельств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стать причиной несча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1187280" y="2446200"/>
            <a:ext cx="4822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принадлежащее на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богатство, здоровье и т.п.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т быть утрачено, утрата же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мы ценим, делает нас несчас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8"/>
          <p:cNvSpPr/>
          <p:nvPr/>
        </p:nvSpPr>
        <p:spPr>
          <a:xfrm>
            <a:off x="2158920" y="352584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ни богатство, ни здоровь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 высокое общественное полож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семейное благополуч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ут считаться высшим бла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3130560" y="460548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е достояние челове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е может быть у него отня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мудрость, следова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дрость и есть высшее бла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оики</a:t>
            </a:r>
            <a:br>
              <a:rPr sz="24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Римской Ст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1"/>
          <p:cNvSpPr/>
          <p:nvPr/>
        </p:nvSpPr>
        <p:spPr>
          <a:xfrm>
            <a:off x="4102200" y="568476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 тот, кто понимает, что та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сшее благо, счастлив – тот, кто 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ет, а так как высшее благ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мудрость, 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дрец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частл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2" descr="Рубенс, Смерть Сенеки (голова - red1)"/>
          <p:cNvPicPr/>
          <p:nvPr/>
        </p:nvPicPr>
        <p:blipFill>
          <a:blip r:embed="rId1"/>
          <a:stretch/>
        </p:blipFill>
        <p:spPr>
          <a:xfrm>
            <a:off x="6872400" y="1366920"/>
            <a:ext cx="1990440" cy="224784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2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2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nodeType="clickEffect" fill="hold">
                      <p:stCondLst>
                        <p:cond delay="0"/>
                      </p:stCondLst>
                      <p:childTnLst>
                        <p:par>
                          <p:cTn id="1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5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1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5287680" y="5757840"/>
            <a:ext cx="268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фаэль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финская шко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nb_pinacoteca_raphael_the_school_of_athens"/>
          <p:cNvPicPr/>
          <p:nvPr/>
        </p:nvPicPr>
        <p:blipFill>
          <a:blip r:embed="rId1"/>
          <a:stretch/>
        </p:blipFill>
        <p:spPr>
          <a:xfrm>
            <a:off x="1258920" y="1546200"/>
            <a:ext cx="6618240" cy="493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фины – центр греческой философ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2268360" y="5300640"/>
            <a:ext cx="493920" cy="244440"/>
          </a:xfrm>
          <a:prstGeom prst="rightArrow">
            <a:avLst>
              <a:gd name="adj1" fmla="val 50000"/>
              <a:gd name="adj2" fmla="val 50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ифаго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 rot="10800000">
            <a:off x="4066920" y="536076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Геракли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2986200" y="503712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арменид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059280" y="438948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Сокра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3886200" y="435456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лато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 rot="10800000">
            <a:off x="4678200" y="4354200"/>
            <a:ext cx="565200" cy="244440"/>
          </a:xfrm>
          <a:prstGeom prst="rightArrow">
            <a:avLst>
              <a:gd name="adj1" fmla="val 50000"/>
              <a:gd name="adj2" fmla="val 578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Аристотел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2590920" y="424656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Антисфе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 rot="10800000">
            <a:off x="5003640" y="5109840"/>
            <a:ext cx="493920" cy="244440"/>
          </a:xfrm>
          <a:prstGeom prst="rightArrow">
            <a:avLst>
              <a:gd name="adj1" fmla="val 50000"/>
              <a:gd name="adj2" fmla="val 50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Диоге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1727280" y="4821120"/>
            <a:ext cx="493560" cy="244440"/>
          </a:xfrm>
          <a:prstGeom prst="rightArrow">
            <a:avLst>
              <a:gd name="adj1" fmla="val 50000"/>
              <a:gd name="adj2" fmla="val 50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Эпику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1366920" y="4713120"/>
            <a:ext cx="493560" cy="244800"/>
          </a:xfrm>
          <a:prstGeom prst="rightArrow">
            <a:avLst>
              <a:gd name="adj1" fmla="val 50000"/>
              <a:gd name="adj2" fmla="val 504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Зено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 rot="10800000">
            <a:off x="6692760" y="4317840"/>
            <a:ext cx="493920" cy="244800"/>
          </a:xfrm>
          <a:prstGeom prst="rightArrow">
            <a:avLst>
              <a:gd name="adj1" fmla="val 50000"/>
              <a:gd name="adj2" fmla="val 50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лотин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2158920" y="5037120"/>
            <a:ext cx="493920" cy="244440"/>
          </a:xfrm>
          <a:prstGeom prst="rightArrow">
            <a:avLst>
              <a:gd name="adj1" fmla="val 50000"/>
              <a:gd name="adj2" fmla="val 505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Аверроэс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7"/>
          <p:cNvSpPr/>
          <p:nvPr/>
        </p:nvSpPr>
        <p:spPr>
          <a:xfrm rot="5400000">
            <a:off x="3742200" y="3740760"/>
            <a:ext cx="636480" cy="244440"/>
          </a:xfrm>
          <a:prstGeom prst="rightArrow">
            <a:avLst>
              <a:gd name="adj1" fmla="val 50000"/>
              <a:gd name="adj2" fmla="val 650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латоник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 rot="5400000">
            <a:off x="4786560" y="3740760"/>
            <a:ext cx="636480" cy="244440"/>
          </a:xfrm>
          <a:prstGeom prst="rightArrow">
            <a:avLst>
              <a:gd name="adj1" fmla="val 50000"/>
              <a:gd name="adj2" fmla="val 650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ff"/>
                </a:solidFill>
                <a:latin typeface="Arial"/>
              </a:rPr>
              <a:t>Перипатетик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Кирена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3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4821120" y="3201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4073400" y="2770200"/>
            <a:ext cx="109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д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3388680" y="363384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4497480" y="3309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355200" y="3201840"/>
            <a:ext cx="108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6"/>
          <p:cNvSpPr/>
          <p:nvPr/>
        </p:nvSpPr>
        <p:spPr>
          <a:xfrm>
            <a:off x="4067280" y="5300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3065760" y="4869000"/>
            <a:ext cx="992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ир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ренаик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417840" y="161928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ристи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к. 435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 ок. 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3417840" y="26989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А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417840" y="377820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Аристипп </a:t>
            </a:r>
            <a:br>
              <a:rPr sz="2000"/>
            </a:b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(Младш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3417840" y="50371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гес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898560" y="50371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еод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5937120" y="5037120"/>
            <a:ext cx="234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нникер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V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II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AutoShape 9"/>
          <p:cNvCxnSpPr/>
          <p:nvPr/>
        </p:nvCxnSpPr>
        <p:spPr>
          <a:xfrm>
            <a:off x="4587480" y="251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6" name="AutoShape 10"/>
          <p:cNvCxnSpPr/>
          <p:nvPr/>
        </p:nvCxnSpPr>
        <p:spPr>
          <a:xfrm>
            <a:off x="4587480" y="35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7" name="AutoShape 11"/>
          <p:cNvCxnSpPr/>
          <p:nvPr/>
        </p:nvCxnSpPr>
        <p:spPr>
          <a:xfrm>
            <a:off x="4587480" y="4677840"/>
            <a:ext cx="2520" cy="18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8" name="AutoShape 12"/>
          <p:cNvCxnSpPr/>
          <p:nvPr/>
        </p:nvCxnSpPr>
        <p:spPr>
          <a:xfrm>
            <a:off x="2068560" y="485784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39" name="AutoShape 13"/>
          <p:cNvCxnSpPr/>
          <p:nvPr/>
        </p:nvCxnSpPr>
        <p:spPr>
          <a:xfrm>
            <a:off x="710676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40" name="Line 14"/>
          <p:cNvSpPr/>
          <p:nvPr/>
        </p:nvSpPr>
        <p:spPr>
          <a:xfrm>
            <a:off x="2068560" y="4857840"/>
            <a:ext cx="251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934920" y="5937120"/>
            <a:ext cx="22669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мор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3454560" y="5937120"/>
            <a:ext cx="22669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сс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5973840" y="5937120"/>
            <a:ext cx="226692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едонистическ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тим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344520" y="1665360"/>
            <a:ext cx="2698560" cy="223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едон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</a:rPr>
              <a:t>ήδονή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довольстви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ческое уч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яющ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ла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удовольств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22"/>
          <p:cNvCxnSpPr/>
          <p:nvPr/>
        </p:nvCxnSpPr>
        <p:spPr>
          <a:xfrm>
            <a:off x="4587480" y="485784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46" name="Line 23"/>
          <p:cNvSpPr/>
          <p:nvPr/>
        </p:nvSpPr>
        <p:spPr>
          <a:xfrm>
            <a:off x="4587840" y="4857840"/>
            <a:ext cx="251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6" descr="Аристипп (red2)"/>
          <p:cNvPicPr/>
          <p:nvPr/>
        </p:nvPicPr>
        <p:blipFill>
          <a:blip r:embed="rId1"/>
          <a:stretch/>
        </p:blipFill>
        <p:spPr>
          <a:xfrm>
            <a:off x="6837480" y="719280"/>
            <a:ext cx="1733400" cy="37526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ристипп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 flipH="1" flipV="1">
            <a:off x="178920" y="1690560"/>
            <a:ext cx="7197840" cy="478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е подлинное благо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ес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ольствие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е з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телесн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д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и несчастны потому, что принимают з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благо то, что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 средством дл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его получ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например, богатств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удр тот, кто знает, что есть истинное бла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и что есть действительное зло, и  знает, как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использовать это знание;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дрость – эт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ум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искусство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ь счастли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стремлении к удовольствиям мудрец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руководствуется принцип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ры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 – н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раб, а господин своих удовольств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150680" y="5541840"/>
            <a:ext cx="1759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и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. 435 – ок. 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Аристипп (red3)"/>
          <p:cNvPicPr/>
          <p:nvPr/>
        </p:nvPicPr>
        <p:blipFill>
          <a:blip r:embed="rId1"/>
          <a:stretch/>
        </p:blipFill>
        <p:spPr>
          <a:xfrm>
            <a:off x="7305840" y="2266920"/>
            <a:ext cx="1390320" cy="30002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13"/>
          <p:cNvSpPr/>
          <p:nvPr/>
        </p:nvSpPr>
        <p:spPr>
          <a:xfrm>
            <a:off x="3525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2554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1582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611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216000" y="136692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наслажде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бла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традание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187280" y="2446200"/>
            <a:ext cx="4822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всё прочее (что н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наслаждение, ни страдани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призн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различ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2158920" y="352584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мудрец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читает зл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кражу, ни святотатство, 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ятвопреступление, ни изме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3130560" y="4605480"/>
            <a:ext cx="4822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бегае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х, но не потому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ет их чем-то дурным сам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ебе, а потому что не жел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ь наказанны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стра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одор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моралистическая интерпретация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4102200" y="5684760"/>
            <a:ext cx="4822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й 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антию безнаказан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колеблясь пошёл бы на эти т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зываемые «преступления»,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 э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лило ему насла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3994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29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183528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755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50920" y="136692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ть стоит только рад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ольствий, но такая жиз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возможна, 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ольств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тделимы от стр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1330200" y="2446200"/>
            <a:ext cx="431820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Удовольствие мы получа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яя наши потреб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начала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даем от то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они не удовлетвор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409840" y="352584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При этом пребывать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янии неудовлетворё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долго, тогда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летворения скороте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489480" y="46054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) Средства удовлетвор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ностей ограничены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аются с труд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доступны лишь немног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гес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ссимистическая интерпретация гедо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4570560" y="568476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) Но и эти немногие не буд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-настоящему счастливы, так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достаётся легко, больш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овольствия не доставля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22:45:51Z</dcterms:created>
  <dc:creator>Николай Бирюков / Nikolai Biryukov</dc:creator>
  <dc:description>Редакция ноября 2007 г.</dc:description>
  <dc:language>en-US</dc:language>
  <cp:lastModifiedBy>LEGION</cp:lastModifiedBy>
  <dcterms:modified xsi:type="dcterms:W3CDTF">2014-11-11T10:09:47Z</dcterms:modified>
  <cp:revision>142</cp:revision>
  <dc:subject>Основы философии - Тема 6</dc:subject>
  <dc:title>Эпикурейцы и стоики</dc:title>
</cp:coreProperties>
</file>