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7.gif" ContentType="image/gif"/>
  <Override PartName="/ppt/media/image28.png" ContentType="image/png"/>
  <Override PartName="/ppt/media/image5.gif" ContentType="image/gif"/>
  <Override PartName="/ppt/media/image38.jpeg" ContentType="image/jpeg"/>
  <Override PartName="/ppt/media/image23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6.gif" ContentType="image/gif"/>
  <Override PartName="/ppt/media/image27.png" ContentType="image/png"/>
  <Override PartName="/ppt/media/image12.wmf" ContentType="image/x-wmf"/>
  <Override PartName="/ppt/media/image10.gif" ContentType="image/gif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9.gif" ContentType="image/gif"/>
  <Override PartName="/ppt/media/image31.jpeg" ContentType="image/jpeg"/>
  <Override PartName="/ppt/media/image33.png" ContentType="image/png"/>
  <Override PartName="/ppt/media/image34.png" ContentType="image/png"/>
  <Override PartName="/ppt/media/image35.png" ContentType="image/png"/>
  <Override PartName="/ppt/media/image26.jpeg" ContentType="image/jpeg"/>
  <Override PartName="/ppt/media/image36.png" ContentType="image/png"/>
  <Override PartName="/ppt/media/image40.png" ContentType="image/png"/>
  <Override PartName="/ppt/media/image11.gif" ContentType="image/gif"/>
  <Override PartName="/ppt/media/image14.png" ContentType="image/png"/>
  <Override PartName="/ppt/media/image8.gif" ContentType="image/gif"/>
  <Override PartName="/ppt/media/image4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media/image19.gif" ContentType="image/gif"/>
  <Override PartName="/ppt/media/image16.png" ContentType="image/png"/>
  <Override PartName="/ppt/media/image17.png" ContentType="image/png"/>
  <Override PartName="/ppt/media/image18.png" ContentType="image/png"/>
  <Override PartName="/ppt/media/image2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1E8A-F76C-4116-AB42-45E4D9546D0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работы: Черникова  Екатерина, 8 «В»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:социальный педагог Афанасьева И.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работы: Черникова  Екатерина, 8 «В»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 :социальный педагог Афанасьева И.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свой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ет возбудитель туберкулез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ми св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дает возбудитель туберкулез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оисходит зараж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оисходит зараж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Аэрогенный: (при вдыхании воздух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шно-капельный (при чихании и кашле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шно-пылевой (в запыленных помещениях, где находился больно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ый (через предметы быт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евой (при употреблении в пищу зараженных продуктов пита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заражения микобактериями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Аэрогенный: (при вдыхании воздух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шно-капельный (при чихании и кашле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шно-пылевой (в запыленных помещениях, где находился больно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актный (через предметы быт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евой (при употреблении в пищу зараженных продуктов пита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заражения микобактериями 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носителями туберкулезной инфе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носителями туберкулезной инфек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рротиче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лег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иарный туберкуле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рротиче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лег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иарный туберкуле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ая утомляемость и появление слаб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или отсутствие аппетита, потеря в весе до 5-10 к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ая потливость, особенно по ноч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одышки при небольших физических нагруз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чительное повышение температуры до 37-37,5 граду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ель или покашливание с выделением мокроты, возможно с кров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спозн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ая утомляемость и появление слаб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или отсутствие аппетита, потеря в весе до 5-10 к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ная потливость, особенно по ноч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ение одышки при небольших физических нагрузк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начительное повышение температуры до 37-37,5 граду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ель или покашливание с выделением мокроты, возможно с кров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распозн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ть при появ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ов заболев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рач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медицинской помо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елать при поя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ов заболеван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врач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медицинской помо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зараженный человек не заболевает сразу, то он становится носителем инфекции. Это можно выявить только с помощью пробы Ман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ция на пробу Манту считается положительной при формировании инфильтрата (папулы) диаметром 5мм и бол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зараженный человек не заболевает сразу, то он становится носителем инфекции. Это можно выявить только с помощью пробы Ман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кция на пробу Манту считается положительной при формировании инфильтрата (папулы) диаметром 5мм и боле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ыявления заболевания кроме пробы Манту проводят флюорографическое обследование (ФЛГ)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явления заболевания кроме пробы Манту проводят флюорографическое обследование (ФЛГ)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а для всей планеты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а для всей планеты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врачу-фтизиат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дозрить и выявить туберкулезный процесс можно следующими основными метод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и проведении проб Мант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ФЛГ обследован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и исследовании мокроты на наличие бакте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врачу-фтизиатр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дозрить и выявить туберкулезный процесс можно следующими основными методам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ри проведении проб Мант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ФЛГ обследован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 исследовании мокроты на наличие бактер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дневно в течение 6 месяце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 разному воздействует на пал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ха, и только совместное их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может достичь цели — окончательно ее уничтожи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в течение 6 месяце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 разному воздействует на палоч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ха, и только совместное их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может достичь цели — окончательно ее уничтожи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чественного излечения одних противотуберкулезных лекарств недостаточно. Больным также прописывают физиотерапию, дыхательную гимнастику и препараты, поднимающие иммунитет.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качественного излечения одних противотуберкулезных лекарств недостаточно. Больным также прописывают физиотерапию, дыхательную гимнастику и препараты, поднимающие иммунитет.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рывать рот платком или рукой и отворачиваться при каш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жигать бумажные носовые платки немедленно после употреб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ться отдельной посудой и не позволять пользоваться ей друг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рывать рот платком или рукой и отворачиваться при кашл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жигать бумажные носовые платки немедленно после употреб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ьзоваться отдельной посудой и не позволять пользоваться ей други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защитить себ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заражения туберкулезо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защитить себ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заражения туберкулезо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на 3-7 день, первая ревакцинация в 7 л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торая в 14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на 3-7 день, первая ревакцинация в 7 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торая в 14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елать, если туберкулез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н Ваш друг или родственник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дл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ветуйте е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ься к врач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елать, если туберкуле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н Ваш друг или родственник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дл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оветуйте е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ься к врач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те о сохранении своего здоровья и окружающих Вас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те о сохранении своего здоровья и окружающих Вас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распространенное, инфекционное заболевание, возбудителем которого является микобактерия туберкулеза (МБ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одна из самых распространенных инфекций в ми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распространенное, инфекционное заболевание, возбудителем которого является микобактерия туберкулеза (МБ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одна из самых распространенных инфекций в ми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 март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рный день борьбы с туберкулез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вол борьбы с туберкулезом – ромаш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 март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мирный день борьбы с туберкулез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борьбы с туберкулезом – ромаш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нникова Екатерина Льво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БОУ СОШ № 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зержин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а Новосибир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ю подготов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никова Екатерина Львов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БОУ СОШ № 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зержи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а Новосибир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9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з - важнейшая социальная и медицин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беркулез - важнейшая социальная и медицинск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туберкулез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то болеет туберкулез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то болеет туберкулез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стало изве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этом заболеван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пок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460 - 377 г. до нашей эр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у Али Хус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бн Абдаллах ибн Сина (Авицен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980 — 10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линические проявления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тельный каш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кр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щение, снижение в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охаркан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ливость в ночн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в гру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стало извес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 этом заболевани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пок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60 - 377 г. до нашей эры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у Али Хус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бн Абдаллах ибн Сина (Авицен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980 — 103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клинические проявления туберку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ый каш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б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кр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щение, снижение ве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охаркан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ливость в ночно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в гру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способствующие заболеванию туберкуле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лагоприятные социальные и экологические условия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ценное пит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зм, курение, наркомания; — снижение иммуните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сс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пособствующие заболеванию туберкуле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лагоприятные социальные и экологические условия жиз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лноценное пита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изм, курение, наркомания; — снижение иммуните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с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Ко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43–19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бактериолог, удостоенный в 1905го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белевской пре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физиологии и медицине за открытие и выделение возбудителя туберкуле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открыл возбудителя туберкулеза и доказал, что это не наследственное, а инфекционное заболевани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назва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ой Коха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о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43–19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бактериолог, удостоенный в 1905год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белевской пре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физиологии и медицине за открытие и выделение возбудителя туберкуле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открыл возбудителя туберкулеза и доказал, что это не наследственное, а инфекционное заболевание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е назва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очкой Коха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322-6D08-4496-9D39-D1D3F422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022D-09DB-4CB7-AF6D-F390D414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71F-A58D-49E9-8C63-C7678255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1000-3C3C-48F7-BC6D-AD22BC1D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483D-777B-4F0C-A108-B4D49BDB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5151-4BE4-4331-A7CC-8D076AFC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4BE3-ABBF-4062-A84F-DD39BB9C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B917-2487-4AA2-A3FC-F259DB4E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FD5D-4F4D-4FE2-BE46-A0CB01FB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E3A6-48C2-483A-A839-9BA5C793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FF92-67A7-4FE1-B19E-ED047E1C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8C4B-1CBF-49B0-BBF8-437508D9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4B7C-E30B-4C31-9A58-8C1224B6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602F-0219-461C-BAB1-1E2A4480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6D5F-4D9B-47B4-A99E-D37E9090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86FB-FCD2-4E40-A27B-42F5A0B3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4551-0549-4BDC-B396-45D4AD70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99E3-B2E2-4859-A417-100D39F4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E8C-705C-4E7F-84DC-864F725C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6738-A26C-40BE-9FED-65C78FF4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A18-4F12-4F28-8134-29EF78B7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A7ED-32F3-4DA5-A1BB-141145F5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CBAC-AD11-4EFF-A3DE-5D9D9BFE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8C7E-EED1-4D8F-A8CD-BD25720C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e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2BA4-E6FE-4A17-B001-88782A2342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3e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CE80-FF08-46B4-8E4E-296FFC58F7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wmf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120" y="3284640"/>
            <a:ext cx="54118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Автор работы: Черникова  Екатерина, 8 «В»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Руководитель :социальный педагог Афанасьева И.И.</a:t>
            </a:r>
            <a:r>
              <a:rPr b="0" lang="ru-RU" sz="1800" spc="-1" strike="noStrike">
                <a:solidFill>
                  <a:srgbClr val="000000"/>
                </a:solidFill>
                <a:latin typeface="Royal 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2627280" y="620640"/>
            <a:ext cx="35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Профилактика,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97" name="WordArt 9"/>
          <p:cNvSpPr txBox="1"/>
          <p:nvPr/>
        </p:nvSpPr>
        <p:spPr>
          <a:xfrm>
            <a:off x="2050920" y="2637000"/>
            <a:ext cx="511344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ТУБЕРКУЛЕЗА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98" name="WordArt 10"/>
          <p:cNvSpPr txBox="1"/>
          <p:nvPr/>
        </p:nvSpPr>
        <p:spPr>
          <a:xfrm>
            <a:off x="2771640" y="198900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99" name="WordArt 11"/>
          <p:cNvSpPr txBox="1"/>
          <p:nvPr/>
        </p:nvSpPr>
        <p:spPr>
          <a:xfrm>
            <a:off x="2700360" y="1341360"/>
            <a:ext cx="3457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диагностика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00" name="WordArt 12"/>
          <p:cNvSpPr txBox="1"/>
          <p:nvPr/>
        </p:nvSpPr>
        <p:spPr>
          <a:xfrm>
            <a:off x="3564000" y="1989000"/>
            <a:ext cx="24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лечение</a:t>
            </a:r>
            <a:endParaRPr b="0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518472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 отличие от других микробов, микобактерия туберкулеза чрезвычайно живуча: отлично себя чувствует и в земле, и в снегу, устойчива к воздействию спирта, кислоты и щелочи. Погибнуть она может лишь под длительным воздействием прямых солнечных лучей, высоких температур и хлорсодержащ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Палочки Коха"/>
          <p:cNvPicPr/>
          <p:nvPr/>
        </p:nvPicPr>
        <p:blipFill>
          <a:blip r:embed="rId1"/>
          <a:stretch/>
        </p:blipFill>
        <p:spPr>
          <a:xfrm>
            <a:off x="5479920" y="1844640"/>
            <a:ext cx="3340080" cy="4032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2"/>
          <p:cNvSpPr/>
          <p:nvPr/>
        </p:nvSpPr>
        <p:spPr>
          <a:xfrm>
            <a:off x="332640" y="403920"/>
            <a:ext cx="821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Какими свой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обладает возбудитель туберкулеза?</a:t>
            </a: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179280" y="2272320"/>
            <a:ext cx="5184720" cy="3506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При температуре +23 градуса бактерии остаются жизнеспособными до 7 лет, в высохшей мокроте - до 1 года, на страницах книг- до 6 месяцев, на одежде и белье больного - до 4 месяц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1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3797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Как происходит заражение</a:t>
            </a:r>
            <a:br>
              <a:rPr sz="3600"/>
            </a:b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5327640" cy="38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0033cc"/>
                </a:solidFill>
                <a:latin typeface="Arial Black"/>
              </a:rPr>
              <a:t>Основной источник инфекции — больной открытой формой, у которого в капле мокроты содержится до 2-3 миллионов микобактер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Реже заражение наступает при употреблении в пищу молочных продуктов от больных туберкулезом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Заражение возможно через предметы обихода больного, при поцелуях, при докуривании чужих сигарет, отмечено также внутриутробное заражение плода у больных беременных женщ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колонии бактерий туберкулеза"/>
          <p:cNvPicPr/>
          <p:nvPr/>
        </p:nvPicPr>
        <p:blipFill>
          <a:blip r:embed="rId1"/>
          <a:stretch/>
        </p:blipFill>
        <p:spPr>
          <a:xfrm>
            <a:off x="5506920" y="1773360"/>
            <a:ext cx="3457800" cy="3335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3str3"/>
          <p:cNvPicPr/>
          <p:nvPr/>
        </p:nvPicPr>
        <p:blipFill>
          <a:blip r:embed="rId2"/>
          <a:stretch/>
        </p:blipFill>
        <p:spPr>
          <a:xfrm>
            <a:off x="250920" y="1989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3str3"/>
          <p:cNvPicPr/>
          <p:nvPr/>
        </p:nvPicPr>
        <p:blipFill>
          <a:blip r:embed="rId3"/>
          <a:stretch/>
        </p:blipFill>
        <p:spPr>
          <a:xfrm>
            <a:off x="250920" y="335772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3str3"/>
          <p:cNvPicPr/>
          <p:nvPr/>
        </p:nvPicPr>
        <p:blipFill>
          <a:blip r:embed="rId4"/>
          <a:stretch/>
        </p:blipFill>
        <p:spPr>
          <a:xfrm>
            <a:off x="250920" y="4653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80" name="1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704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000" y="1844640"/>
            <a:ext cx="61563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Аэрогенны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вдыхании воздух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шно-капельный (при чихании и кашл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душно-пылевой (в запыленных помещениях, где находился больно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Контакт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через предметы быт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Пище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 употреблении в пищу зараженных продуктов пита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туб1"/>
          <p:cNvPicPr/>
          <p:nvPr/>
        </p:nvPicPr>
        <p:blipFill>
          <a:blip r:embed="rId1"/>
          <a:stretch/>
        </p:blipFill>
        <p:spPr>
          <a:xfrm>
            <a:off x="6084720" y="1700280"/>
            <a:ext cx="2881440" cy="36734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395280" y="476280"/>
            <a:ext cx="83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пути заражения микобактериями туберкул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1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4248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1979640" y="69228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79280" y="163872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и внедрении в организм микобактерий туберкулеза происходит инфицирование (заражение), которое определяется у детей пробой Манту. Такие люди называются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осителями туберкулезной инфе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187280" y="4221000"/>
            <a:ext cx="82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80 % взрослых жителей нашей планеты являются постоянными носителями микобактерий туберкулеза, т.е. они инфициров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0" y="1538280"/>
            <a:ext cx="9144000" cy="3749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 Black"/>
              </a:rPr>
              <a:t>Живые возбудители длительное время могут оставаться в организме, и не всегда вызывают заболевание туберкулез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1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6000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4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0" y="1216080"/>
            <a:ext cx="9144000" cy="56397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знь развивается лишь у 15% процентов лиц, заразившихся микобактерией туберкулеза. Главной причиной этого является снижение иммунитета. К факторам, снижающим уровень иммунитета, относятся: простудные заболевания, грипп, инфекционные заболевания (ветряная оспа, корь, коклюш), хронический бронхит, бронхиальная астма, сахарный диабет, язвенная болезнь желудка и двенадцатиперстной кишки. СПИД, применение гормональных препаратов для лечения других заболеваний, неполноценное питание, злоупотребление алкоголем и наркотиками, курение, физическое перенапря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96" name="Picture 7" descr="tuberculosis_roentgen_300"/>
          <p:cNvPicPr/>
          <p:nvPr/>
        </p:nvPicPr>
        <p:blipFill>
          <a:blip r:embed="rId1"/>
          <a:stretch/>
        </p:blipFill>
        <p:spPr>
          <a:xfrm>
            <a:off x="5219640" y="1413000"/>
            <a:ext cx="3702240" cy="45370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9"/>
          <p:cNvSpPr txBox="1"/>
          <p:nvPr/>
        </p:nvSpPr>
        <p:spPr>
          <a:xfrm>
            <a:off x="1979640" y="33336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98" name="1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5076720" cy="453528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очка Коха попадает в человеческий организм и приводит к изменению состояния иммунн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активной форме туберкулеза палочка Коха быстро размножается в легких больного и питается человеческими тканями, разрушая легкие, отравляя организм человека продуктами своей жизнедеятельности. Вместе с кровью и лимфой она может распространяться по всему организ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8600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1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615636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беркулез может поражать различные органы и ткани человека: глаза, кости, кожу, мочеполовую систему, кишечник и т.д. Тогда туберкулез называется внелегочным, но чаще всего встречается туберкулез легких (83-88 %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tuber7"/>
          <p:cNvPicPr/>
          <p:nvPr/>
        </p:nvPicPr>
        <p:blipFill>
          <a:blip r:embed="rId1"/>
          <a:stretch/>
        </p:blipFill>
        <p:spPr>
          <a:xfrm>
            <a:off x="6877080" y="1557360"/>
            <a:ext cx="1582560" cy="17953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6446160" y="34999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ррот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беркуле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г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i?id=12635762&amp;tov=7"/>
          <p:cNvPicPr/>
          <p:nvPr/>
        </p:nvPicPr>
        <p:blipFill>
          <a:blip r:embed="rId2"/>
          <a:stretch/>
        </p:blipFill>
        <p:spPr>
          <a:xfrm>
            <a:off x="6300720" y="4149720"/>
            <a:ext cx="1582920" cy="18018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0"/>
          <p:cNvSpPr/>
          <p:nvPr/>
        </p:nvSpPr>
        <p:spPr>
          <a:xfrm>
            <a:off x="5363640" y="5805360"/>
            <a:ext cx="2673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" rIns="9360" tIns="-63360" bIns="23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лиарн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беркуле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12"/>
          <p:cNvSpPr txBox="1"/>
          <p:nvPr/>
        </p:nvSpPr>
        <p:spPr>
          <a:xfrm>
            <a:off x="1979640" y="33336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Что происходит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208" name="15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4677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055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ыстрая утомляемость и появление слабост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нижение или отсутствие аппетита, потеря в весе до 5-10 кг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вышенная потливость, особенно по ночам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явление одышки при небольших физических нагрузках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значительное повышение температуры до 37-37,5 градусов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ашель или покашливание с выделением мокроты, возможно с кровью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3str3"/>
          <p:cNvPicPr/>
          <p:nvPr/>
        </p:nvPicPr>
        <p:blipFill>
          <a:blip r:embed="rId1"/>
          <a:stretch/>
        </p:blipFill>
        <p:spPr>
          <a:xfrm>
            <a:off x="324000" y="191628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3str3"/>
          <p:cNvPicPr/>
          <p:nvPr/>
        </p:nvPicPr>
        <p:blipFill>
          <a:blip r:embed="rId2"/>
          <a:stretch/>
        </p:blipFill>
        <p:spPr>
          <a:xfrm>
            <a:off x="324000" y="234936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3str3"/>
          <p:cNvPicPr/>
          <p:nvPr/>
        </p:nvPicPr>
        <p:blipFill>
          <a:blip r:embed="rId3"/>
          <a:stretch/>
        </p:blipFill>
        <p:spPr>
          <a:xfrm>
            <a:off x="250920" y="2997360"/>
            <a:ext cx="342720" cy="239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3str3"/>
          <p:cNvPicPr/>
          <p:nvPr/>
        </p:nvPicPr>
        <p:blipFill>
          <a:blip r:embed="rId4"/>
          <a:stretch/>
        </p:blipFill>
        <p:spPr>
          <a:xfrm>
            <a:off x="250920" y="350028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3str3"/>
          <p:cNvPicPr/>
          <p:nvPr/>
        </p:nvPicPr>
        <p:blipFill>
          <a:blip r:embed="rId5"/>
          <a:stretch/>
        </p:blipFill>
        <p:spPr>
          <a:xfrm>
            <a:off x="250920" y="4221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3str3"/>
          <p:cNvPicPr/>
          <p:nvPr/>
        </p:nvPicPr>
        <p:blipFill>
          <a:blip r:embed="rId6"/>
          <a:stretch/>
        </p:blipFill>
        <p:spPr>
          <a:xfrm>
            <a:off x="324000" y="4941720"/>
            <a:ext cx="342720" cy="239760"/>
          </a:xfrm>
          <a:prstGeom prst="rect">
            <a:avLst/>
          </a:prstGeom>
          <a:ln w="0">
            <a:noFill/>
          </a:ln>
        </p:spPr>
      </p:pic>
      <p:sp>
        <p:nvSpPr>
          <p:cNvPr id="218" name="WordArt 11"/>
          <p:cNvSpPr txBox="1"/>
          <p:nvPr/>
        </p:nvSpPr>
        <p:spPr>
          <a:xfrm>
            <a:off x="1619280" y="476280"/>
            <a:ext cx="5329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ак распознать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pic>
        <p:nvPicPr>
          <p:cNvPr id="219" name="16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52172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7">
                                  <p:stCondLst>
                                    <p:cond delay="7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9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7">
                                  <p:stCondLst>
                                    <p:cond delay="1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>
            <a:off x="684360" y="549360"/>
            <a:ext cx="7769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Что делать при появлении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признаков заболевания?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468360" y="2148840"/>
            <a:ext cx="8207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При появлении первых признаков заболевания самолечением заниматься нельзя, следует как можно скорее обрат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327680" y="5013360"/>
            <a:ext cx="687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3300"/>
                </a:solidFill>
                <a:uFillTx/>
                <a:latin typeface="Arial Black"/>
              </a:rPr>
              <a:t>к врач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3300"/>
                </a:solidFill>
                <a:uFillTx/>
                <a:latin typeface="Arial Black"/>
              </a:rPr>
              <a:t>за медицинской помощ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17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0537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5" repeatCount="5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46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Если зараженный человек не заболевает сразу, то он становится носителем инфекции. Это можно выявить только с помощью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пробы Манту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1"/>
          <a:stretch/>
        </p:blipFill>
        <p:spPr>
          <a:xfrm>
            <a:off x="468360" y="3645000"/>
            <a:ext cx="3456000" cy="2263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2"/>
          <a:stretch/>
        </p:blipFill>
        <p:spPr>
          <a:xfrm>
            <a:off x="5508720" y="1052640"/>
            <a:ext cx="2692440" cy="3240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1"/>
          <p:cNvSpPr/>
          <p:nvPr/>
        </p:nvSpPr>
        <p:spPr>
          <a:xfrm>
            <a:off x="4572000" y="4512240"/>
            <a:ext cx="416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еакция на пробу Манту считается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положительной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ри формировании инфильтрата (папулы) диаметром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5мм и более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18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3061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46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2"/>
          <p:cNvPicPr/>
          <p:nvPr/>
        </p:nvPicPr>
        <p:blipFill>
          <a:blip r:embed="rId1"/>
          <a:stretch/>
        </p:blipFill>
        <p:spPr>
          <a:xfrm>
            <a:off x="5148360" y="1125360"/>
            <a:ext cx="3744720" cy="36007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7"/>
          <p:cNvSpPr/>
          <p:nvPr/>
        </p:nvSpPr>
        <p:spPr>
          <a:xfrm>
            <a:off x="250920" y="1768680"/>
            <a:ext cx="511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ыявления заболевания кроме пробы Манту проводят </a:t>
            </a: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флюорографическое обследование (ФЛ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рганов дыхания, которое позволяет обнаружить ранние стадии туберкулеза легких. Этот метод диагностики совершенно безвреден при одно - двукратном исследовании в течение года, доза рентгеновского облучения очень м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19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984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25210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ddf4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Туберкулез: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угроза для всей планеты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om"/>
          <p:cNvPicPr/>
          <p:nvPr/>
        </p:nvPicPr>
        <p:blipFill>
          <a:blip r:embed="rId1"/>
          <a:stretch/>
        </p:blipFill>
        <p:spPr>
          <a:xfrm>
            <a:off x="3132000" y="3284640"/>
            <a:ext cx="2735280" cy="2305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1187280" y="333360"/>
            <a:ext cx="76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иагностика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68360" y="1888200"/>
            <a:ext cx="7991280" cy="417816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При выявлении подозрения на заболевание туберкулезом все подозреваемые направляются на консульт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к врачу-фтизиатру</a:t>
            </a: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 Black"/>
              </a:rPr>
              <a:t>Чем меньше времени прошло с момента выявления заражения туберкулезом тем выше вероятность того, что заболевание будет выявлено своевременно. Поэтому фтизиатром должны быть осмотрены все направленные на консультацию лица в течение 10 - 14 дней с момента установления у них инфицирования туберкулез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24000" y="1760400"/>
            <a:ext cx="8569080" cy="448308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Заподозрить и выявить туберкулезный процесс можно следующими основными методам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1.при проведении проб Мант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2. ФЛГ обследован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3. при исследовании мокроты на наличие бактер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20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46335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чение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50292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Картинка 6 из 3246"/>
          <p:cNvPicPr/>
          <p:nvPr/>
        </p:nvPicPr>
        <p:blipFill>
          <a:blip r:embed="rId1"/>
          <a:stretch/>
        </p:blipFill>
        <p:spPr>
          <a:xfrm>
            <a:off x="5796000" y="2347920"/>
            <a:ext cx="3097080" cy="35290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1"/>
          <p:cNvSpPr/>
          <p:nvPr/>
        </p:nvSpPr>
        <p:spPr>
          <a:xfrm>
            <a:off x="179280" y="1557360"/>
            <a:ext cx="667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пациентов с выявленным туберкулезом можно вылечить, главное — делать это правильно.     Лечение должно быть непрерывным и обязательно должно проводиться одноврем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ими противотуберкулезными препаратами. Каждое из 4-5 лекарств, которые больной приним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дневно в течение 6 месяце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 разному воздействует на пал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ха, и только совместное их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может достичь цели — окончательно ее уничтож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21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27249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чение.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216000" y="1197000"/>
            <a:ext cx="8893080" cy="55803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качественного излечения одних противотуберкулезных лекарств недостаточно. Больным также прописывают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физиотерапию, дыхательную гимнастику и препараты, поднимающие иммунитет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еправильное лечение превращает легко излечимую форму болезни в трудно излечимый лекарственно-устойчивый туберкулез. Хирургическое лечение — удаление части легкого — применяется лишь в запущенных случаях туберкуле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отсутствии лечения смертность от активного туберкулеза доходит до 50% в течение одного-двух лет. В остальных случаях туберкулез переходит в хроническую форму. Хронический больной живет дольше, продолжая выделять микобактерии и заражать окружающ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22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4281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0" descr="туб1"/>
          <p:cNvPicPr/>
          <p:nvPr/>
        </p:nvPicPr>
        <p:blipFill>
          <a:blip r:embed="rId1"/>
          <a:stretch/>
        </p:blipFill>
        <p:spPr>
          <a:xfrm>
            <a:off x="6588000" y="2637000"/>
            <a:ext cx="2376720" cy="29541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тобы уменьшить вероятность заражения окружающих, человек, больной активным туберкулезом, должен придерживаться определенных правил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крывать рот платком или рукой и отворачиваться при кашле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жигать бумажные носовые платки немедленно после употребления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льзоваться отдельной посудой и не позволять пользоваться ей другим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ves1"/>
          <p:cNvPicPr/>
          <p:nvPr/>
        </p:nvPicPr>
        <p:blipFill>
          <a:blip r:embed="rId2"/>
          <a:stretch/>
        </p:blipFill>
        <p:spPr>
          <a:xfrm>
            <a:off x="6443640" y="333360"/>
            <a:ext cx="1379520" cy="1339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3str3"/>
          <p:cNvPicPr/>
          <p:nvPr/>
        </p:nvPicPr>
        <p:blipFill>
          <a:blip r:embed="rId3"/>
          <a:stretch/>
        </p:blipFill>
        <p:spPr>
          <a:xfrm>
            <a:off x="324000" y="357336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3str3"/>
          <p:cNvPicPr/>
          <p:nvPr/>
        </p:nvPicPr>
        <p:blipFill>
          <a:blip r:embed="rId4"/>
          <a:stretch/>
        </p:blipFill>
        <p:spPr>
          <a:xfrm>
            <a:off x="324000" y="443700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3str3"/>
          <p:cNvPicPr/>
          <p:nvPr/>
        </p:nvPicPr>
        <p:blipFill>
          <a:blip r:embed="rId5"/>
          <a:stretch/>
        </p:blipFill>
        <p:spPr>
          <a:xfrm>
            <a:off x="324000" y="5229360"/>
            <a:ext cx="342720" cy="239400"/>
          </a:xfrm>
          <a:prstGeom prst="rect">
            <a:avLst/>
          </a:prstGeom>
          <a:ln w="0">
            <a:noFill/>
          </a:ln>
        </p:spPr>
      </p:pic>
      <p:sp>
        <p:nvSpPr>
          <p:cNvPr id="261" name="WordArt 9"/>
          <p:cNvSpPr txBox="1"/>
          <p:nvPr/>
        </p:nvSpPr>
        <p:spPr>
          <a:xfrm>
            <a:off x="900000" y="620640"/>
            <a:ext cx="43196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Arial"/>
              </a:rPr>
              <a:t>Профилак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Arial"/>
              <a:ea typeface="Arial"/>
            </a:endParaRPr>
          </a:p>
        </p:txBody>
      </p:sp>
      <p:pic>
        <p:nvPicPr>
          <p:cNvPr id="262" name="23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20334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7">
                                  <p:stCondLst>
                                    <p:cond delay="2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32,-4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71280" y="1649160"/>
            <a:ext cx="8964720" cy="484884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Избегайте всего, что может ослабить защитные силы Вашего организма. Берегите свое здоровье. Соблюдайте режим труда, отдыха и питания. Регулярно занимайтесь спортом. Больше находитесь на свежем воздухе. Не курите, не позволяйте курить другим в Вашем окружении. Не злоупотребляйте алкоголем, наркотиками. Чаще проветривайте помещения, где находитесь (класс, квартира и др.). Систематически проводите влажную уборку помещений. Пользуйтесь индивидуальной посудой и средствами гигиены. Обязательно соблюдайте личную гигиену (мытье рук после возвращения с улицы, из транспорта, из туалета и перед едой). Держитесь подальше от кашляющих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1252080" y="332280"/>
            <a:ext cx="655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 Black"/>
              </a:rPr>
              <a:t>Как защитить себ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 Black"/>
              </a:rPr>
              <a:t>от заражения туберкулезом?</a:t>
            </a: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2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41526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250920" y="1088280"/>
            <a:ext cx="8424720" cy="155700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 Black"/>
              </a:rPr>
              <a:t>Согласно рекомендациям Всемирной Организации Здравоохранения (ВОЗ), иммунизацию вакциной БЦЖ считают одной из наиболее важных мер по предупреждению туберкул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4689360" cy="3125880"/>
          </a:xfrm>
          <a:prstGeom prst="rect">
            <a:avLst/>
          </a:prstGeom>
          <a:ln w="0">
            <a:noFill/>
          </a:ln>
        </p:spPr>
      </p:pic>
      <p:pic>
        <p:nvPicPr>
          <p:cNvPr id="270" name="25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41117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0" y="547560"/>
            <a:ext cx="9144000" cy="35067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В России приказом Минздрава РФ от 27.06.01 г . № 229 «О национальном календаре профилактических прививок и календаре профилактических прививок по эпидемическим показаниям» предусмотрена вакцинация против туберкулеза новорожденных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на 3-7 день</a:t>
            </a: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, первая ревакцинация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в 7 лет</a:t>
            </a: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и вторая </a:t>
            </a: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в 14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2232000" cy="2055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6804000" y="4221000"/>
            <a:ext cx="1873440" cy="2087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"/>
          <p:cNvPicPr/>
          <p:nvPr/>
        </p:nvPicPr>
        <p:blipFill>
          <a:blip r:embed="rId3"/>
          <a:stretch/>
        </p:blipFill>
        <p:spPr>
          <a:xfrm>
            <a:off x="3708360" y="42210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76" name="26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2081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5"/>
          <p:cNvSpPr txBox="1"/>
          <p:nvPr/>
        </p:nvSpPr>
        <p:spPr>
          <a:xfrm>
            <a:off x="826920" y="260280"/>
            <a:ext cx="750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Что делать, если туберкулезом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болен Ваш друг или родственник? 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1333440" y="2238480"/>
            <a:ext cx="6311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Немедл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посоветуйте ем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 Black"/>
              </a:rPr>
              <a:t>обратиться к врачу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27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2630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3" name="WordArt 9"/>
          <p:cNvSpPr txBox="1"/>
          <p:nvPr/>
        </p:nvSpPr>
        <p:spPr>
          <a:xfrm>
            <a:off x="3059280" y="836640"/>
            <a:ext cx="308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ОМН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395280" y="17002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Туберкулез сейчас представляет серьезную опасность для населения.  Ежегодно увеличивается количество людей заболевших туберкулезом и умерших от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Подумайте о сохранении своего здоровья и окружающих Вас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2" descr="&amp;usg=AFQjCNEIKSW-FOzZQEtsKAcbgKBFgvhwuw"/>
          <p:cNvPicPr/>
          <p:nvPr/>
        </p:nvPicPr>
        <p:blipFill>
          <a:blip r:embed="rId1"/>
          <a:stretch/>
        </p:blipFill>
        <p:spPr>
          <a:xfrm>
            <a:off x="5003640" y="1989000"/>
            <a:ext cx="3810240" cy="3241800"/>
          </a:xfrm>
          <a:prstGeom prst="rect">
            <a:avLst/>
          </a:prstGeom>
          <a:ln w="0">
            <a:noFill/>
          </a:ln>
        </p:spPr>
      </p:pic>
      <p:pic>
        <p:nvPicPr>
          <p:cNvPr id="286" name="28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13739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89" name="Picture 4" descr="0607241539340_m"/>
          <p:cNvPicPr/>
          <p:nvPr/>
        </p:nvPicPr>
        <p:blipFill>
          <a:blip r:embed="rId1"/>
          <a:stretch/>
        </p:blipFill>
        <p:spPr>
          <a:xfrm>
            <a:off x="6588000" y="260280"/>
            <a:ext cx="1749600" cy="1440000"/>
          </a:xfrm>
          <a:prstGeom prst="rect">
            <a:avLst/>
          </a:prstGeom>
          <a:ln w="0">
            <a:noFill/>
          </a:ln>
        </p:spPr>
      </p:pic>
      <p:sp>
        <p:nvSpPr>
          <p:cNvPr id="290" name="WordArt 5"/>
          <p:cNvSpPr txBox="1"/>
          <p:nvPr/>
        </p:nvSpPr>
        <p:spPr>
          <a:xfrm>
            <a:off x="2627280" y="765000"/>
            <a:ext cx="3087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ОМН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250920" y="191628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Посещайте флюорографический кабинет не реже 1 раза в год. Не препятствуйте проведению противотуберкулезных мероприятий и не отказывайтесь от противотуберкулезных привив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8" descr=""/>
          <p:cNvPicPr/>
          <p:nvPr/>
        </p:nvPicPr>
        <p:blipFill>
          <a:blip r:embed="rId2"/>
          <a:stretch/>
        </p:blipFill>
        <p:spPr>
          <a:xfrm>
            <a:off x="5508720" y="3789360"/>
            <a:ext cx="3311280" cy="2719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4032360" cy="2640240"/>
          </a:xfrm>
          <a:prstGeom prst="rect">
            <a:avLst/>
          </a:prstGeom>
          <a:ln w="0">
            <a:noFill/>
          </a:ln>
        </p:spPr>
      </p:pic>
      <p:pic>
        <p:nvPicPr>
          <p:cNvPr id="294" name="29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1654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60520"/>
            <a:ext cx="8353440" cy="987120"/>
          </a:xfrm>
          <a:prstGeom prst="rect">
            <a:avLst/>
          </a:prstGeom>
          <a:solidFill>
            <a:srgbClr val="a3e0ff"/>
          </a:solidFill>
          <a:ln w="9360">
            <a:solidFill>
              <a:srgbClr val="97cdc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Туберкулез 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распространенное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инфекционное заболевание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возбудителем которого является микобактерия туберкулеза 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i="1" lang="ru-RU" sz="3100" spc="-1" strike="noStrike">
                <a:solidFill>
                  <a:srgbClr val="cc3300"/>
                </a:solidFill>
                <a:latin typeface="Arial"/>
              </a:rPr>
              <a:t>МБТ</a:t>
            </a:r>
            <a:r>
              <a:rPr b="1" i="1" lang="en-US" sz="3100" spc="-1" strike="noStrike">
                <a:solidFill>
                  <a:srgbClr val="cc3300"/>
                </a:solidFill>
                <a:latin typeface="Arial"/>
              </a:rPr>
              <a:t>)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Туберкулез - одна из самых распространенных инфекций в мире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611280" y="620640"/>
            <a:ext cx="7921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то такое туберкулез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09" name="3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81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856800"/>
            <a:ext cx="8136000" cy="22669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ddf4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336666"/>
                </a:solidFill>
                <a:latin typeface="Arial Black"/>
              </a:rPr>
              <a:t>24 марта – </a:t>
            </a:r>
            <a:br>
              <a:rPr sz="4500"/>
            </a:br>
            <a:r>
              <a:rPr b="0" lang="ru-RU" sz="4500" spc="-1" strike="noStrike">
                <a:solidFill>
                  <a:srgbClr val="336666"/>
                </a:solidFill>
                <a:latin typeface="Arial Black"/>
              </a:rPr>
              <a:t>Всемирный день борьбы с туберкулезом</a:t>
            </a:r>
            <a:r>
              <a:rPr b="0" i="1" lang="ru-RU" sz="45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pom"/>
          <p:cNvPicPr/>
          <p:nvPr/>
        </p:nvPicPr>
        <p:blipFill>
          <a:blip r:embed="rId1"/>
          <a:stretch/>
        </p:blipFill>
        <p:spPr>
          <a:xfrm>
            <a:off x="3132000" y="3284640"/>
            <a:ext cx="2735280" cy="23050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775080" y="6068880"/>
            <a:ext cx="778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 Black"/>
              </a:rPr>
              <a:t>Символ борьбы с туберкулезом – ромаш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30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7813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Презентацию подготовил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99"/>
                </a:solidFill>
                <a:latin typeface="Arial"/>
              </a:rPr>
              <a:t>Бронникова Екатерина Львовна,</a:t>
            </a: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учитель МБОУ СОШ № 82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Дзержинского райо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города Новосибирс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Arial"/>
              </a:rPr>
              <a:t>2009 го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280360" cy="1143000"/>
          </a:xfrm>
          <a:prstGeom prst="rect">
            <a:avLst/>
          </a:prstGeom>
          <a:solidFill>
            <a:srgbClr val="a3e0ff"/>
          </a:solidFill>
          <a:ln w="9360">
            <a:solidFill>
              <a:srgbClr val="97cdcc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70960" cy="94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3300"/>
                </a:solidFill>
                <a:latin typeface="Arial"/>
              </a:rPr>
              <a:t>Туберкулез </a:t>
            </a:r>
            <a:r>
              <a:rPr b="1" i="1" lang="en-US" sz="27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i="1" lang="ru-RU" sz="2700" spc="-1" strike="noStrike">
                <a:solidFill>
                  <a:srgbClr val="cc3300"/>
                </a:solidFill>
                <a:latin typeface="Arial"/>
              </a:rPr>
              <a:t>важнейшая социальная и медицинская проблем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901800" y="3754440"/>
          <a:ext cx="475596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3754440"/>
                    <a:ext cx="475596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WordArt 5"/>
          <p:cNvSpPr txBox="1"/>
          <p:nvPr/>
        </p:nvSpPr>
        <p:spPr>
          <a:xfrm>
            <a:off x="611280" y="620640"/>
            <a:ext cx="7921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то такое туберкулез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72280" y="306864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аболевае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084720" y="3141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мер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3"/>
          <p:cNvGraphicFramePr/>
          <p:nvPr/>
        </p:nvGraphicFramePr>
        <p:xfrm>
          <a:off x="6083280" y="3608280"/>
          <a:ext cx="2206800" cy="22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3280" y="3608280"/>
                    <a:ext cx="220680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4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8879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j0219106"/>
          <p:cNvPicPr/>
          <p:nvPr/>
        </p:nvPicPr>
        <p:blipFill>
          <a:blip r:embed="rId1"/>
          <a:stretch/>
        </p:blipFill>
        <p:spPr>
          <a:xfrm>
            <a:off x="6443640" y="4292640"/>
            <a:ext cx="1944720" cy="175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j0213513"/>
          <p:cNvPicPr/>
          <p:nvPr/>
        </p:nvPicPr>
        <p:blipFill>
          <a:blip r:embed="rId2"/>
          <a:stretch/>
        </p:blipFill>
        <p:spPr>
          <a:xfrm>
            <a:off x="539640" y="4581360"/>
            <a:ext cx="2592360" cy="1879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j0205360"/>
          <p:cNvPicPr/>
          <p:nvPr/>
        </p:nvPicPr>
        <p:blipFill>
          <a:blip r:embed="rId3"/>
          <a:stretch/>
        </p:blipFill>
        <p:spPr>
          <a:xfrm>
            <a:off x="6877080" y="2060640"/>
            <a:ext cx="1811160" cy="155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j0205361"/>
          <p:cNvPicPr/>
          <p:nvPr/>
        </p:nvPicPr>
        <p:blipFill>
          <a:blip r:embed="rId4"/>
          <a:stretch/>
        </p:blipFill>
        <p:spPr>
          <a:xfrm>
            <a:off x="468360" y="2060640"/>
            <a:ext cx="1800000" cy="1631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j0236210"/>
          <p:cNvPicPr/>
          <p:nvPr/>
        </p:nvPicPr>
        <p:blipFill>
          <a:blip r:embed="rId5"/>
          <a:stretch/>
        </p:blipFill>
        <p:spPr>
          <a:xfrm>
            <a:off x="3348000" y="703440"/>
            <a:ext cx="2664000" cy="925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j0283229"/>
          <p:cNvPicPr/>
          <p:nvPr/>
        </p:nvPicPr>
        <p:blipFill>
          <a:blip r:embed="rId6"/>
          <a:stretch/>
        </p:blipFill>
        <p:spPr>
          <a:xfrm>
            <a:off x="2627280" y="1916280"/>
            <a:ext cx="3665520" cy="2614320"/>
          </a:xfrm>
          <a:prstGeom prst="rect">
            <a:avLst/>
          </a:prstGeom>
          <a:ln w="0">
            <a:noFill/>
          </a:ln>
        </p:spPr>
      </p:pic>
      <p:sp>
        <p:nvSpPr>
          <p:cNvPr id="128" name="WordArt 22"/>
          <p:cNvSpPr txBox="1"/>
          <p:nvPr/>
        </p:nvSpPr>
        <p:spPr>
          <a:xfrm>
            <a:off x="611280" y="189000"/>
            <a:ext cx="792144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то болеет туберкулезом?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29" name="Picture 20" descr="j0282831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j0186348"/>
          <p:cNvPicPr/>
          <p:nvPr/>
        </p:nvPicPr>
        <p:blipFill>
          <a:blip r:embed="rId8"/>
          <a:stretch/>
        </p:blipFill>
        <p:spPr>
          <a:xfrm>
            <a:off x="3276720" y="1484280"/>
            <a:ext cx="2668320" cy="3745080"/>
          </a:xfrm>
          <a:prstGeom prst="rect">
            <a:avLst/>
          </a:prstGeom>
          <a:ln w="0">
            <a:noFill/>
          </a:ln>
        </p:spPr>
      </p:pic>
      <p:pic>
        <p:nvPicPr>
          <p:cNvPr id="131" name="5.wav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014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2316240" cy="3241440"/>
          </a:xfrm>
          <a:prstGeom prst="rect">
            <a:avLst/>
          </a:prstGeom>
          <a:ln w="0">
            <a:noFill/>
          </a:ln>
        </p:spPr>
      </p:pic>
      <p:sp>
        <p:nvSpPr>
          <p:cNvPr id="134" name="WordArt 6"/>
          <p:cNvSpPr txBox="1"/>
          <p:nvPr/>
        </p:nvSpPr>
        <p:spPr>
          <a:xfrm>
            <a:off x="334800" y="476280"/>
            <a:ext cx="88092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огда стало известно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об этом заболевании? 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00960" y="5156640"/>
            <a:ext cx="361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Гиппок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6600cc"/>
                </a:solidFill>
                <a:latin typeface="Arial Black"/>
              </a:rPr>
              <a:t>(460 - 377 г. до нашей эр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2219040" cy="3168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4824360" y="4941720"/>
            <a:ext cx="431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Абу Али Хусай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ибн Абдаллах ибн Сина (Авицен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(980 — 10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0" y="-729720"/>
            <a:ext cx="9144000" cy="777276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3300"/>
                </a:solidFill>
                <a:latin typeface="Arial Black"/>
              </a:rPr>
              <a:t>основные клинические проявления туберкуле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длительный каш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слаб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мокр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истощение, снижение вес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кровохаркан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потливость в ночное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7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боль в гру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6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56692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1636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761040" y="620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ссарио́н Григо́р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и́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11 — 18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5219640" y="1916280"/>
            <a:ext cx="3065400" cy="3817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7"/>
          <p:cNvSpPr/>
          <p:nvPr/>
        </p:nvSpPr>
        <p:spPr>
          <a:xfrm>
            <a:off x="5439240" y="620640"/>
            <a:ext cx="24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ёдор Миха́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ое́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21 — 188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34527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9"/>
          <p:cNvSpPr/>
          <p:nvPr/>
        </p:nvSpPr>
        <p:spPr>
          <a:xfrm>
            <a:off x="755640" y="692280"/>
            <a:ext cx="3184560" cy="9169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о́н Па́влович Че́х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60 — 19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4"/>
          <a:stretch/>
        </p:blipFill>
        <p:spPr>
          <a:xfrm>
            <a:off x="5148360" y="1773360"/>
            <a:ext cx="3485880" cy="4464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1"/>
          <p:cNvSpPr/>
          <p:nvPr/>
        </p:nvSpPr>
        <p:spPr>
          <a:xfrm>
            <a:off x="5435640" y="620640"/>
            <a:ext cx="2735280" cy="9169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́м Го́рь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868 — 19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7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9972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Факторы, способствующие заболеванию туберкулезом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благоприятные социальные и экологические условия жизни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еполноценное питание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лкоголизм, курение, наркомания; — снижение иммунитета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трессы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личие сопутствующих заболеваний (диабета, язвенной болезни желудка или 12-перстной кишки, заболеваний легких 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3str3"/>
          <p:cNvPicPr/>
          <p:nvPr/>
        </p:nvPicPr>
        <p:blipFill>
          <a:blip r:embed="rId1"/>
          <a:stretch/>
        </p:blipFill>
        <p:spPr>
          <a:xfrm>
            <a:off x="468360" y="206064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3str3"/>
          <p:cNvPicPr/>
          <p:nvPr/>
        </p:nvPicPr>
        <p:blipFill>
          <a:blip r:embed="rId2"/>
          <a:stretch/>
        </p:blipFill>
        <p:spPr>
          <a:xfrm>
            <a:off x="395280" y="292428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str3"/>
          <p:cNvPicPr/>
          <p:nvPr/>
        </p:nvPicPr>
        <p:blipFill>
          <a:blip r:embed="rId3"/>
          <a:stretch/>
        </p:blipFill>
        <p:spPr>
          <a:xfrm>
            <a:off x="324000" y="3500280"/>
            <a:ext cx="342720" cy="239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str3"/>
          <p:cNvPicPr/>
          <p:nvPr/>
        </p:nvPicPr>
        <p:blipFill>
          <a:blip r:embed="rId4"/>
          <a:stretch/>
        </p:blipFill>
        <p:spPr>
          <a:xfrm>
            <a:off x="395280" y="436572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3str3"/>
          <p:cNvPicPr/>
          <p:nvPr/>
        </p:nvPicPr>
        <p:blipFill>
          <a:blip r:embed="rId5"/>
          <a:stretch/>
        </p:blipFill>
        <p:spPr>
          <a:xfrm>
            <a:off x="395280" y="4941720"/>
            <a:ext cx="343080" cy="239760"/>
          </a:xfrm>
          <a:prstGeom prst="rect">
            <a:avLst/>
          </a:prstGeom>
          <a:ln w="0">
            <a:noFill/>
          </a:ln>
        </p:spPr>
      </p:pic>
      <p:pic>
        <p:nvPicPr>
          <p:cNvPr id="158" name="8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51513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360" y="515736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Роберт Кох </a:t>
            </a:r>
            <a:br>
              <a:rPr sz="2900"/>
            </a:br>
            <a:r>
              <a:rPr b="0" lang="ru-RU" sz="2500" spc="-1" strike="noStrike">
                <a:solidFill>
                  <a:srgbClr val="336666"/>
                </a:solidFill>
                <a:latin typeface="Arial Black"/>
              </a:rPr>
              <a:t>(1843–1910)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5040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ецкий бактериолог, удостоенный в 1905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Нобелевской пре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изиологии и медицине за открытие и выделение возбудителя туберкуле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РОБЕРТ КОХ "/>
          <p:cNvPicPr/>
          <p:nvPr/>
        </p:nvPicPr>
        <p:blipFill>
          <a:blip r:embed="rId1"/>
          <a:stretch/>
        </p:blipFill>
        <p:spPr>
          <a:xfrm>
            <a:off x="5292720" y="1701720"/>
            <a:ext cx="3141720" cy="3672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395280" y="312480"/>
            <a:ext cx="84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Кто открыл возбудителя туберкулеза и доказал, что это не наследственное, а </a:t>
            </a: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инфекционное заболевание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324000" y="1989000"/>
            <a:ext cx="4895640" cy="383364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збудитель заболевания – микобактерия туберкулеза – была открыта Робертом Кохом в 1882 го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е назва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“</a:t>
            </a: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палочкой Коха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9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5764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0:04:17Z</dcterms:created>
  <dc:creator>User</dc:creator>
  <dc:description/>
  <dc:language>en-US</dc:language>
  <cp:lastModifiedBy>LEGION</cp:lastModifiedBy>
  <dcterms:modified xsi:type="dcterms:W3CDTF">2015-11-27T12:47:27Z</dcterms:modified>
  <cp:revision>1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