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8A40B6-46CC-423E-98A0-61CD68117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, его клинические симптомы и современная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, его клинические симптомы и современная классифи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линические  симптомы 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ее  начало 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 контакта  с  матер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ое  аутистическое 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 стереотип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вномерное  созревание  всех  функциональных  сф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 становления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линические  симптомы 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ее  начало  заболе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рушение  контакта  с  матер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ное  аутистическое  повед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личие  стереотип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вномерное  созревание  всех  функциональных  сф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сти  становления 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ко – психологическая  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Никольской (1985 – 1987) выделены  четыре  основные  группы  Р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ритерии  данной  классиф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нарушений  взаимодействия  с  внешней  сре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первичных 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инико – психологическая  класс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.С.Никольской (1985 – 1987) выделены  четыре  основные  группы  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ритерии  данной  классиф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нарушений  взаимодействия  с  внешней  сред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первичных  рас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аутиз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икольская О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– полная отрешенность от происходя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– активное отвер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– захваченность аутистическими интерес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– чрезвычайная трудность организации общ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аутиз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(Никольская О.С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– полная отрешенность от происходящег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– активное отверж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– захваченность аутистическими интереса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– чрезвычайная трудность организации общ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сутств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торой группы более акти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менее ранимы в контактах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уща избирательность в одежде, еде, вк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второй группы более активны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уть менее ранимы в контактах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суща избирательность в одежде, еде, вкус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учать проще действуя их же руками, задавая извне готовые инстр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ет экстремальную конфли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оявляет экстремальную конфликт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легкий вариант аут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витость самих форм общения, аграмматичность 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средоточения и организаци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нтизм, повышенное  пристрастие к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в ц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легкий вариант аут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звитость самих форм общения, аграмматичность 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удности сосредоточения и организации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дантизм, повышенное  пристрастие к поряд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держка психического развития в цел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се отношения с миром ребенок стремится строить через взросл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могут вызвать врожденные дефекты – ре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ие вещества, такие как тяжелые металлы, пестициды, вакцины - весьма спо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е развитие (сенсорные лишения, питание / диета) – лишь в некотор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Факторы, которые могут вызвать врожденные дефекты – ре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Химические вещества, такие как тяжелые металлы, пестициды, вакцины - весьма спо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граниченное развитие (сенсорные лишения, питание / диета) – лишь в некоторых случа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АННЕГО ДЕТСКОГО АУ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АННЕГО ДЕТСКОГО АУ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сты-зна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сты-зна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обычные реакции на раздражители (дискомфорт или поглощенность впечатлен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аннее проявление – до 30-го месяц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писан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. Необычные реакции на раздражители (дискомфорт или поглощенность впечатлен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5. Раннее проявление – до 30-го месяц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общих расстройств психологического развития по МКБ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общих расстройств психологического развития по МКБ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 аутизм (F 8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альчиков встречается в 3 – 4 раза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ый аутизм (F 8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ский  аутизм (F 8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У мальчиков встречается в 3 – 4 раза ча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типичный аутизм (F 84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етта (F 84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етта (F 84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дезинтегративные расстройства детского возраста (F 8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характеризуются названием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ругие дезинтегративные расстройства детского возраста (F 84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знаки характеризуются названием заболе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спергера (F 8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Аспергера (F 8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427-9608-4610-9923-56576D69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91C-1839-44E1-B204-80F12A3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08B-BAD5-4648-A4F9-53547B00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5DA-D2AE-4221-90D9-FB87E81F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5610-4F4B-4608-AB15-EEB0C7B2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FAA5-4DC5-417E-95DD-3E91CBF7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3D8C-580B-484E-BE82-C5AD7CB7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FA6E-38A1-4953-BA9E-E6DAA715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7BF8-026C-4468-A2A6-15FCCDCC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0D6C-48C7-4178-B096-EF87AEDB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AE0E-6C04-4401-9172-1648174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DB8-9CFA-46E5-98D0-29702C77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6947-68B3-4964-B338-BD82A8A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9CA9-5727-4468-BEDA-09DF595C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E4B7-F304-4C1C-B1C6-119D002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AE07-79BD-4AED-AC78-812FA012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ADB7-620A-4912-8AED-3810034A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26BC4-7224-4D78-B6F8-9C85AC31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3AE43-69CB-4642-B05E-4CF03ED0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2441-DBE9-4683-BC65-34D0CBE0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27BA-D9E8-47B7-849B-B37FE376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38D23-3B73-4C29-8E70-F0E55777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43B-7ECA-4297-A6DB-9800F7B5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69B9-BB5F-4876-9C5C-1CF9ACD1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59D9-3A85-43FD-BF31-66C52EB0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5AF7-3AE7-4F13-B733-00C03AA9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16006-5CE1-438B-93AB-037E067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B5EE-F6ED-4C77-8062-5B6A94C4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40D1-1205-4BF8-A499-BB2609EF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66ED-8176-43A0-A18D-2286331B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7709-C5CE-4167-8212-F7F1FA0C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E929-CA64-4F57-A7C3-969A5379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ABA8F-F868-48F6-A355-EC998DF4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B2E-BA0E-4CA4-920F-F4FC02A3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592F7-359B-4173-A887-FE009A02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8D487-6A36-462C-AEBE-7DA055E7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8AA6-F44D-4C37-A10B-3C0E6EE1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B1DD2-1A66-4117-A1D6-9FC276BC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A65D0-9C2C-4A5C-AD6D-48FAAE7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08261-5FDE-42AD-B56E-21B5DE2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A9D4-579B-4AD2-9CC8-55622C58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ED0C-BB22-4507-99DD-1CB43BF3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A2568-2E9A-45D0-AFF9-AEA23B14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326-B1F1-40F9-98BE-50AC8D34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BB6-0AE3-440F-B452-06C8280C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97A-9636-405D-B1BE-2A733828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A2E-0F9B-4BD4-9433-15BD463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071-2AAA-43F1-913E-F4F1EB0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712907-DCD1-41B5-A219-A83CF18BBE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EA2424-A0B5-46DA-882A-BC3E56C762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79DEFB-35C1-4C25-A1F6-AAFDC05E03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916183-7BBD-4E56-BE45-89D8FB993A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</a:t>
            </a: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его клинические симптомы и современная классификация.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large_140948"/>
          <p:cNvPicPr/>
          <p:nvPr/>
        </p:nvPicPr>
        <p:blipFill>
          <a:blip r:embed="rId1"/>
          <a:stretch/>
        </p:blipFill>
        <p:spPr>
          <a:xfrm>
            <a:off x="1981080" y="3581280"/>
            <a:ext cx="5681160" cy="2852280"/>
          </a:xfrm>
          <a:prstGeom prst="rect">
            <a:avLst/>
          </a:prstGeom>
          <a:ln w="9525">
            <a:noFill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0" y="6784920"/>
            <a:ext cx="69480" cy="7272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9074160" y="6742080"/>
            <a:ext cx="69480" cy="115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2" action="ppaction://hlinksldjump"/>
          </p:cNvPr>
          <p:cNvSpPr/>
          <p:nvPr/>
        </p:nvSpPr>
        <p:spPr>
          <a:xfrm>
            <a:off x="0" y="0"/>
            <a:ext cx="69480" cy="72720"/>
          </a:xfrm>
          <a:prstGeom prst="actionButtonHome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24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4" descr="DSC_0286"/>
          <p:cNvPicPr/>
          <p:nvPr/>
        </p:nvPicPr>
        <p:blipFill>
          <a:blip r:embed="rId1"/>
          <a:stretch/>
        </p:blipFill>
        <p:spPr>
          <a:xfrm>
            <a:off x="285840" y="357120"/>
            <a:ext cx="8679960" cy="578592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линические  симптомы  РД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ннее  начало  заболевания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рушение  контакта  с  матерью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ное  аутистическое  поведение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личие  стереотипи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равномерное  созревание  всех  функциональных  сфер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обенности  становления  реч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Клинико – психологическая  классификац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.С.Никольской (1985 – 1987) выделены  четыре  основные  группы  РДА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ритерии  данной  классификации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нарушений  взаимодействия  с  внешней  средо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первичных  расстройст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утизма 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(Никольская О.С.)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рв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полная отрешенность от происходящего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тор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активное отвержение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Треть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захваченность аутистическими интересами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Четверт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чрезвычайная трудность организации общения и взаимодействия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ерв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240" cy="53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сутствие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возможность организовать ребенка: поймать взгляд, добиться ответной улыбки,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лучить отклик на зов, обратить его внимание на инструкцию, добиться выполнения поручения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тор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и второй группы более активны 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уть менее ранимы в контактах со средо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исуща избирательность в одежде, еде, вкусах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ть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ей третьей группы легче всего отличить по внешним проявлениям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: лицо ребенка хранит выражение энтузиазма, блестящие глаза, застывшая улыбка, говорит быстро и без смысл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акие дети выглядят уже не отрешенными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 скорее сверхзахваченными своими собственными стойкими интересами, проявляющимися в стереотипной форме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оявляет экстремальную конфликтность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еобразие таких детей особенно проявляется в их речи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 многословие, большой словарный запас), не учитывая присутствие собеседни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тверт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иболее легкий вариант аутизма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развитость самих форм общения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аграмматичность 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удности сосредоточения и организации ребен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дантизм, повышенное  пристрастие к порядку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Задержка психического развития в целом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</a:t>
            </a: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кторы, которые могут вызвать врожденные дефекты – редк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Хими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ск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ие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вещества, такие как тяжелые металлы, пестициды, вакцины - весьма спорны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граниченное развитие (сенсорные лишения, питание / диета) – лишь в некоторых случаях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87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НДРОМ РАННЕГО ДЕТСКОГО АУТИЗМ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DSC_03444222"/>
          <p:cNvPicPr/>
          <p:nvPr/>
        </p:nvPicPr>
        <p:blipFill>
          <a:blip r:embed="rId1"/>
          <a:stretch/>
        </p:blipFill>
        <p:spPr>
          <a:xfrm>
            <a:off x="214200" y="214200"/>
            <a:ext cx="3552480" cy="3601800"/>
          </a:xfrm>
          <a:prstGeom prst="rect">
            <a:avLst/>
          </a:prstGeom>
          <a:ln w="9525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сты-знатоки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536364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Содержимое 5" descr="Человек дождя.jpg"/>
          <p:cNvPicPr/>
          <p:nvPr/>
        </p:nvPicPr>
        <p:blipFill>
          <a:blip r:embed="rId1"/>
          <a:stretch/>
        </p:blipFill>
        <p:spPr>
          <a:xfrm>
            <a:off x="5715000" y="1285920"/>
            <a:ext cx="3428640" cy="356040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пасибо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за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имание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писание заболеван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9150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. Стереотипность поведения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мление к постоянству, сверхпристрастие к различным объектам, сопротивление изменениям в окружающем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3. Необычные реакции на раздражители (дискомфорт или поглощенность впечатлениями)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5. Раннее проявление – до 30-го месяца жизни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80520" cy="30456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763120" y="6553080"/>
            <a:ext cx="380520" cy="304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3640" cy="1085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лассификация общих расстройств психологического развития по 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К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10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403280" y="1844640"/>
            <a:ext cx="6552720" cy="4248000"/>
            <a:chOff x="1403280" y="1844640"/>
            <a:chExt cx="6552720" cy="4248000"/>
          </a:xfrm>
        </p:grpSpPr>
        <p:sp>
          <p:nvSpPr>
            <p:cNvPr id="188" name="Rectangle 4"/>
            <p:cNvSpPr/>
            <p:nvPr/>
          </p:nvSpPr>
          <p:spPr>
            <a:xfrm>
              <a:off x="1403280" y="1844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0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Детский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403280" y="234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1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Атипичный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403280" y="285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2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Рет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1403280" y="335772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3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дезинтегративные расстройства детского возра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403280" y="3860640"/>
              <a:ext cx="6552720" cy="718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4. 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Г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иперактивные расстройства, сочетающиеся с ум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тсталостью и стереотипными движениями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403280" y="472428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5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Асперг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1403280" y="522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8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общие расстройства развит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403280" y="573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9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бщие расстройства развития, не уточн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8567640" y="6453360"/>
            <a:ext cx="39636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43680" y="3929040"/>
            <a:ext cx="192852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4" descr="DSC_0213"/>
          <p:cNvPicPr/>
          <p:nvPr/>
        </p:nvPicPr>
        <p:blipFill>
          <a:blip r:embed="rId1"/>
          <a:stretch/>
        </p:blipFill>
        <p:spPr>
          <a:xfrm>
            <a:off x="3784680" y="3286080"/>
            <a:ext cx="5358960" cy="3571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5" descr="DSC_0230"/>
          <p:cNvPicPr/>
          <p:nvPr/>
        </p:nvPicPr>
        <p:blipFill>
          <a:blip r:embed="rId2"/>
          <a:stretch/>
        </p:blipFill>
        <p:spPr>
          <a:xfrm>
            <a:off x="0" y="285840"/>
            <a:ext cx="5000400" cy="33332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197560" cy="595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ский 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0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 мальчиков встречается в 3 – 4 раза чаще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Атипичный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1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688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Рет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1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ругие дезинтегративные расстройства детского возрас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3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иперактивные расстройства, сочетающиеся с умственной отсталостью и стереотипными движениями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4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изнаки характеризуются названием заболева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Аспергер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5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  <Words>2902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7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Екран (4:3)</vt:lpwstr>
  </property>
  <property fmtid="{D5CDD505-2E9C-101B-9397-08002B2CF9AE}" pid="4" name="Slides">
    <vt:r8>21</vt:r8>
  </property>
</Properties>
</file>