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ABBCDD-B441-4F73-B675-E45082008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Й ДЕТСКИЙ АУТИЗМ, его клинические симптомы и современная классификац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ИЙ ДЕТСКИЙ АУТИЗМ, его клинические симптомы и современная классификац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 клинические  симптомы 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ее  начало  заболева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рушение  контакта  с  матерь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ное  аутистическое  поведени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личие  стереотип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авномерное  созревание  всех  функциональных  сфе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сти  становления 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новные  клинические  симптомы 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ее  начало  заболев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рушение  контакта  с  матерь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ное  аутистическое  повед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личие  стереотипи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равномерное  созревание  всех  функциональных  сф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обенности  становления  ре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инико – психологическая  классифик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.С.Никольской (1985 – 1987) выделены  четыре  основные  группы  РД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 критерии  данной  классификаци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  и  степень  нарушений  взаимодействия  с  внешней  средо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  и  степень  первичных  расстрой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инико – психологическая  классифик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.С.Никольской (1985 – 1987) выделены  четыре  основные  группы  РД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новные  критерии  данной  классифика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  и  степень  нарушений  взаимодействия  с  внешней  сред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Характер  и  степень  первичных  рас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аутизм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икольская О.С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форма – полная отрешенность от происходящего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форма – активное отвержени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я форма – захваченность аутистическими интереса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ая форма – чрезвычайная трудность организации общения и взаимодейст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ассификация аутизм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(Никольская О.С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рвая форма – полная отрешенность от происходящего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торая форма – активное отвержени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етья форма – захваченность аутистическими интересами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твертая форма – чрезвычайная трудность организации общения и взаимодейств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возможность организовать ребенка: поймать взгляд, добиться ответной улыбки, получить отклик на зов, обратить его внимание на инструкцию, добиться выполнения пор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рв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сутствие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возможность организовать ребенка: поймать взгляд, добиться ответной улыбки, получить отклик на зов, обратить его внимание на инструкцию, добиться выполнения пору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и второй группы более активн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уть менее ранимы в контактах со сре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суща избирательность в одежде, еде, вкус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ть проще действуя их же руками, задавая извне готовые инструк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тор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и второй группы более активны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уть менее ранимы в контактах со сред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суща избирательность в одежде, еде, вкус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бучать проще действуя их же руками, задавая извне готовые инструк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ь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ей третьей группы легче всего отличить по внешним проявлениям: лицо ребенка хранит выражение энтузиазма, блестящие глаза, застывшая улыбка, говорит быстро и без смыс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дети выглядят уже не отрешенными, а скорее сверхзахваченными своими собственными стойкими интересами, проявляющимися в стереотипной фор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являет экстремальную конфликтно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оеобразие таких детей особенно проявляется в их речи ( многословие, большой словарный запас), не учитывая присутствие собесе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еть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ей третьей группы легче всего отличить по внешним проявлениям: лицо ребенка хранит выражение энтузиазма, блестящие глаза, застывшая улыбка, говорит быстро и без смыс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акие дети выглядят уже не отрешенными, а скорее сверхзахваченными своими собственными стойкими интересами, проявляющимися в стереотипной фор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оявляет экстремальную конфликт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воеобразие таких детей особенно проявляется в их речи ( многословие, большой словарный запас), не учитывая присутствие собеседн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ая форма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легкий вариант аутиз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развитость самих форм общения, аграмматичность 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ности сосредоточения и организации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дантизм, повышенное  пристрастие к поря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ержка психического развития в цел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отношения с миром ребенок стремится строить через взрослого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Четвертая форма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иболее легкий вариант аутиз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еразвитость самих форм общения, аграмматичность  реч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Трудности сосредоточения и организации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едантизм, повышенное  пристрастие к поряд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адержка психического развития в цел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се отношения с миром ребенок стремится строить через взрослого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5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чины Р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ины Р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Факторы, которые могут вызвать врожденные дефекты – ред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Химические вещества, такие как тяжелые металлы, пестициды, вакцины - весьма спор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граниченное развитие (сенсорные лишения, питание / диета) – лишь в некоторых случа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чины Р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- Факторы, которые могут вызвать врожденные дефекты – ред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- Химические вещества, такие как тяжелые металлы, пестициды, вакцины - весьма спор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граниченное развитие (сенсорные лишения, питание / диета) – лишь в некоторых случа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АННЕГО ДЕТСКОГО АУТИЗ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РАННЕГО ДЕТСКОГО АУТИЗ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утисты-знат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5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утисты-знато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внимани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Num" idx="5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пасиб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з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заболе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Стереотипность поведения (стремление к постоянству, сверхпристрастие к различным объектам, сопротивление изменениям в окружающем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еобычные реакции на раздражители (дискомфорт или поглощенность впечатления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Раннее проявление – до 30-го месяца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писание заболе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2. Стереотипность поведения (стремление к постоянству, сверхпристрастие к различным объектам, сопротивление изменениям в окружающем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. Необычные реакции на раздражители (дискомфорт или поглощенность впечатлениям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5. Раннее проявление – до 30-го месяца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 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фикация общих расстройств психологического развития по МКБ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Классификация общих расстройств психологического развития по МКБ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 аутизм (F 84.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мальчиков встречается в 3 – 4 раза чащ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ипичный аутизм (F 84.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етский  аутизм (F 8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У мальчиков встречается в 3 – 4 раза чащ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Атипичный аутизм (F 84.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Ретта (F 84.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Ретта (F 84.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ие дезинтегративные расстройства детского возраста (F 84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перактивные расстройства, сочетающиеся с умственной отсталостью и стереотипными движениями (F 84.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знаки характеризуются названием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Другие дезинтегративные расстройства детского возраста (F 84.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Гиперактивные расстройства, сочетающиеся с умственной отсталостью и стереотипными движениями (F 84.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Признаки характеризуются названием заболе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дром Аспергера (F 84.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Синдром Аспергера (F 84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+mn-ea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69EF-7195-449C-ABDB-AC1C26D7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735-68AD-4031-9DC0-91ABC300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B98F-A1C1-4263-A033-C48B119E8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E219-C08F-4B44-85BD-45F8E881F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37FB-62DE-46D0-BC57-017C784D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C7ED-1AB7-4629-AF38-B622C80C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C8C6-CB7B-451E-9816-EFD0E5C2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93C4-FE6A-4573-806B-E39C837D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6A92-A5AA-49BE-99E5-7553B372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D6528-1640-48C1-9349-53A67012B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1B4F-3C16-416F-94EF-197ED649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E4E8-DDA3-46DB-9F19-E272AEA4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EF72-7226-4F41-A1FE-2CBA3BDC1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5D2A-9F5F-41E8-8B19-66C3FD90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5A43E-7EBD-4669-9792-54D9DB60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9CBD-8A4E-4BAB-AD7B-4C8DDBF7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06F0-6C61-4C57-B338-7C4BA3D0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8DCA0-BCAB-41BA-9141-F17F9716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44F4A-8BF6-4B98-8753-BFBA45B4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4E54D-DE79-413F-8766-26D7250E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1A21C-B3A3-4F75-B991-FC02CC17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7C46E-1CA9-4712-B9E9-F596D5D2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3A42-F2AA-4150-A5A4-BBF6BF5F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D36B7-BF4E-41E1-81A1-0696FDD4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486F7-E762-46DA-87F4-FD7FCFE0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94B72-DD29-4884-9845-7D39A85B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1676A-37BB-48BF-B92C-631C0252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960A4-6E2B-406C-8B14-A5BEF795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858E8-373A-47E8-92DA-03204E9E9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4E1CE-F942-4986-83EB-72139EFBD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9A6F1-698E-493F-884D-27EC4BA2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2A538-F10E-4518-9C7C-E5830EB2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D4CC5-63F6-4221-A0BB-0A816696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DD3D-A3DC-4C4B-AA1C-7901E57B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BC4CC-2D0E-4220-9771-DE554C40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C7B0A-E3B6-4CC4-B589-37ABF2C7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74D4F-7449-4AC0-9BBF-9C5E4205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E7BD9-DE45-4666-B17F-AA6175A17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305FC-D2E8-47DB-A717-A40B8828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6B191-0490-4555-8AB7-92DE4F77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B7873-4C0D-442C-B5E8-F21FC6CC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20FE7-B5FF-46B8-9958-54A598C9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2BE07-FB37-4AB0-B38F-899E3222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1F6-0EBF-492E-B670-CD2CF991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62B3-0B40-43ED-AFB3-49E0ABE8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1504-6A0C-4982-BDE0-743B5628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B84-A931-470F-A68F-D0339C53C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9AC6-20B3-4E04-A6ED-7825A81FD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7F1F61-EC48-44F4-866E-9E0CD5FC34D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C4937A-C3C9-44B4-8D65-0DE0244D5AB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5716FB-DA2E-44AF-A4CE-E090F79A2F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–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fffff"/>
              </a:buClr>
              <a:buFont typeface="Arial"/>
              <a:buChar char="»"/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645876-D029-470A-A901-0DF4008F2B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0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040" cy="1828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АННИЙ ДЕТСКИЙ АУТИЗМ</a:t>
            </a: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его клинические симптомы и современная классификация.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Picture 3" descr="large_140948"/>
          <p:cNvPicPr/>
          <p:nvPr/>
        </p:nvPicPr>
        <p:blipFill>
          <a:blip r:embed="rId1"/>
          <a:stretch/>
        </p:blipFill>
        <p:spPr>
          <a:xfrm>
            <a:off x="1981080" y="3581280"/>
            <a:ext cx="5681160" cy="2852280"/>
          </a:xfrm>
          <a:prstGeom prst="rect">
            <a:avLst/>
          </a:prstGeom>
          <a:ln w="9525">
            <a:noFill/>
          </a:ln>
        </p:spPr>
      </p:pic>
      <p:sp>
        <p:nvSpPr>
          <p:cNvPr id="173" name="AutoShape 4">
            <a:hlinkClick r:id="" action="ppaction://hlinkshowjump?jump=previousslide"/>
          </p:cNvPr>
          <p:cNvSpPr/>
          <p:nvPr/>
        </p:nvSpPr>
        <p:spPr>
          <a:xfrm>
            <a:off x="0" y="6784920"/>
            <a:ext cx="69480" cy="72720"/>
          </a:xfrm>
          <a:prstGeom prst="actionButtonBackPrevious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>
            <a:hlinkClick r:id="" action="ppaction://hlinkshowjump?jump=nextslide"/>
          </p:cNvPr>
          <p:cNvSpPr/>
          <p:nvPr/>
        </p:nvSpPr>
        <p:spPr>
          <a:xfrm>
            <a:off x="9074160" y="6742080"/>
            <a:ext cx="69480" cy="115560"/>
          </a:xfrm>
          <a:prstGeom prst="actionButtonForwardNext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6">
            <a:hlinkClick r:id="rId2" action="ppaction://hlinksldjump"/>
          </p:cNvPr>
          <p:cNvSpPr/>
          <p:nvPr/>
        </p:nvSpPr>
        <p:spPr>
          <a:xfrm>
            <a:off x="0" y="0"/>
            <a:ext cx="69480" cy="72720"/>
          </a:xfrm>
          <a:prstGeom prst="actionButtonHome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57200" y="571680"/>
            <a:ext cx="8229240" cy="555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" name="Picture 4" descr="DSC_0286"/>
          <p:cNvPicPr/>
          <p:nvPr/>
        </p:nvPicPr>
        <p:blipFill>
          <a:blip r:embed="rId1"/>
          <a:stretch/>
        </p:blipFill>
        <p:spPr>
          <a:xfrm>
            <a:off x="285840" y="357120"/>
            <a:ext cx="8679960" cy="5785920"/>
          </a:xfrm>
          <a:prstGeom prst="rect">
            <a:avLst/>
          </a:prstGeom>
          <a:ln w="9525">
            <a:noFill/>
          </a:ln>
        </p:spPr>
      </p:pic>
      <p:sp>
        <p:nvSpPr>
          <p:cNvPr id="212" name="PlaceHolder 2"/>
          <p:cNvSpPr>
            <a:spLocks noGrp="1"/>
          </p:cNvSpPr>
          <p:nvPr>
            <p:ph type="ftr" idx="2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новные  клинические  симптомы  РДА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Раннее  начало  заболевания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рушение  контакта  с  матерью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ное  аутистическое  поведение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личие  стереотипий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еравномерное  созревание  всех  функциональных  сфер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обенности  становления  речи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Клинико – психологическая  классификация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.С.Никольской (1985 – 1987) выделены  четыре  основные  группы  РДА.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новные  критерии  данной  классификации: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  и  степень  нарушений  взаимодействия  с  внешней  средой;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AutoNum type="arabicParenR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Характер  и  степень  первичных  расстройств.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Классификация аутизма </a:t>
            </a:r>
            <a:br>
              <a:rPr sz="4000"/>
            </a:b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(Никольская О.С.)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ерв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полная отрешенность от происходящего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тор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активное отвержение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Треть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захваченность аутистическими интересами;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Четвертая форма –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чрезвычайная трудность организации общения и взаимодействия.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2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836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ерв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240" cy="53607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тсутствие реч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евозможность организовать ребенка: поймать взгляд, добиться ответной улыбки,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лучить отклик на зов, обратить его внимание на инструкцию, добиться выполнения поручения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ети не откликаются на просьбы, ничего не просят сами, часто не реагируют даже на боль, голод и холод, не проявляют испуга в ситуациях, в которых испугался бы любой другой ребенок. При  попытке добиться  внимания, заставить что-то сделать, может возникнуть реакция – крик, самоагресс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утизм таких детей максимально глубок, он проявляется как полная отрешенность от происходящего вокруг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тор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ети второй группы более активны  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уть менее ранимы в контактах со средой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нешне – это наиболее  страдающие дети: лицо их обычно напряжено, искажено гримасой страха, характерна для них скованность в движениях, они пользуются эхолаличными ответами, их речь напряженно скандирована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рисуща избирательность в одежде, еде, вкусах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Движения напряженно скованны, механичны, действия рук и ног плохо скоординированы; пересекают пространство комнаты согнувшись, перебежками, как будто это опасное место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Обучать проще действуя их же руками, задавая извне готовые инструкции 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еть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Детей третьей группы легче всего отличить по внешним проявлениям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: лицо ребенка хранит выражение энтузиазма, блестящие глаза, застывшая улыбка, говорит быстро и без смысл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акие дети выглядят уже не отрешенными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 скорее сверхзахваченными своими собственными стойкими интересами, проявляющимися в стереотипной форме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роявляет экстремальную конфликтность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воеобразие таких детей особенно проявляется в их речи 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( многословие, большой словарный запас), не учитывая присутствие собеседни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3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етвертая форма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240" cy="5000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аиболее легкий вариант аутизма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а первый план здесь выступают уже не защита, а повышенная ранимость, тормозимость в контактах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Неразвитость самих форм общения</a:t>
            </a: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, аграмматичность  речи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удности сосредоточения и организации ребен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Педантизм, повышенное  пристрастие к порядку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Задержка психического развития в целом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се отношения с миром ребенок стремится строить через взрослого человека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чины 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5043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 начале 50-х годов возникла гипотеза о психогенном происхождении отклонения, но она не получила подтверждения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В настоящее время большинство авторов полагают, что РДА является следствием особой патологии, в основе которой лежит  недостаточность центральной нервной системы 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561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ДА может проявиться вследствие самых разных заболеваний, например врожденной краснухи или туберозного склероза</a:t>
            </a:r>
            <a:endParaRPr b="0" lang="ru-RU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ричины </a:t>
            </a: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РД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440" cy="464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Факторы, которые могут вызвать врожденные дефекты – редки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- Хими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ческ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ие</a:t>
            </a: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вещества, такие как тяжелые металлы, пестициды, вакцины - весьма спорны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83763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граниченное развитие (сенсорные лишения, питание / диета) – лишь в некоторых случаях 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00680" y="285840"/>
            <a:ext cx="4928760" cy="278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ИНДРОМ РАННЕГО ДЕТСКОГО АУТИЗМА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трыв от реальности, отгороженность от внешнего мира, отсутствие или парадоксальность реакций на внешние раздражители, нарушение адекватной эмоциональной связи со с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DSC_03444222"/>
          <p:cNvPicPr/>
          <p:nvPr/>
        </p:nvPicPr>
        <p:blipFill>
          <a:blip r:embed="rId1"/>
          <a:stretch/>
        </p:blipFill>
        <p:spPr>
          <a:xfrm>
            <a:off x="214200" y="214200"/>
            <a:ext cx="3552480" cy="3601800"/>
          </a:xfrm>
          <a:prstGeom prst="rect">
            <a:avLst/>
          </a:prstGeom>
          <a:ln w="9525">
            <a:noFill/>
          </a:ln>
        </p:spPr>
      </p:pic>
      <p:sp>
        <p:nvSpPr>
          <p:cNvPr id="180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999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Аутисты-знатоки</a:t>
            </a: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5363640" cy="5643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79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Самым известным аутистом-знатоком, благодаря Голливуду, стал «человек дождя» в исполнении Дастина Хоффмана. Прототип этого персонажа Ким Пик знает наизусть тысячи книг, его называют мегаученым, так как он гениален сразу в пятнадцати областях знаний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83763"/>
              </a:buClr>
              <a:buFont typeface="Arial"/>
              <a:buChar char="•"/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Почти четверть программистов Microsoft – люди с симптомами аутизма. У аутистов с сохраненными умственными способностями, а таких около трети, интеллект существенно выше среднего, но неумение общаться мешает им проявить себя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2" name="Содержимое 5" descr="Человек дождя.jpg"/>
          <p:cNvPicPr/>
          <p:nvPr/>
        </p:nvPicPr>
        <p:blipFill>
          <a:blip r:embed="rId1"/>
          <a:stretch/>
        </p:blipFill>
        <p:spPr>
          <a:xfrm>
            <a:off x="5715000" y="1285920"/>
            <a:ext cx="3428640" cy="3560400"/>
          </a:xfrm>
          <a:prstGeom prst="rect">
            <a:avLst/>
          </a:prstGeom>
          <a:ln w="9525">
            <a:noFill/>
          </a:ln>
        </p:spPr>
      </p:pic>
      <p:sp>
        <p:nvSpPr>
          <p:cNvPr id="243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28760" y="57168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Спасибо 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за 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919"/>
              </a:spcBef>
              <a:buNone/>
              <a:tabLst>
                <a:tab algn="l" pos="0"/>
              </a:tabLst>
            </a:pPr>
            <a:r>
              <a:rPr b="1" lang="ru-RU" sz="96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внимание!</a:t>
            </a:r>
            <a:endParaRPr b="0" lang="ru-RU" sz="9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ftr" idx="3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06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писание заболевания</a:t>
            </a: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915040" cy="5181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9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Ранний детский аутизм — клинический синдром, впервые описанный Л. Каннером в 1943 г. Его основными признаками являются: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1. Врожденная неспособность ребенка к установлению  контакта посредством взгляда, мимики, жеста, не обусловленная низким интеллектуальным уровнем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2. Стереотипность поведения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(с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тремление к постоянству, сверхпристрастие к различным объектам, сопротивление изменениям в окружающем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3. Необычные реакции на раздражители (дискомфорт или поглощенность впечатлениями)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4. Особая характерная задержка в развитии речи вне связи с уровнем интеллектуального развития;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5. Раннее проявление – до 30-го месяца жизни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      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Особенно ярко аутизм проявляется в возрасте 3–5 лет и сопровождается страхами, негативизмом, агрессией. В дальнейшем острый период сменяется нарушениями интеллектуального и личностного развития.</a:t>
            </a:r>
            <a:endParaRPr b="0" lang="ru-RU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AutoShape 4">
            <a:hlinkClick r:id="" action="ppaction://hlinkshowjump?jump=previousslide"/>
          </p:cNvPr>
          <p:cNvSpPr/>
          <p:nvPr/>
        </p:nvSpPr>
        <p:spPr>
          <a:xfrm>
            <a:off x="0" y="6553080"/>
            <a:ext cx="380520" cy="304560"/>
          </a:xfrm>
          <a:prstGeom prst="actionButtonBackPrevious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5">
            <a:hlinkClick r:id="" action="ppaction://hlinkshowjump?jump=nextslide"/>
          </p:cNvPr>
          <p:cNvSpPr/>
          <p:nvPr/>
        </p:nvSpPr>
        <p:spPr>
          <a:xfrm>
            <a:off x="8763120" y="6553080"/>
            <a:ext cx="380520" cy="304560"/>
          </a:xfrm>
          <a:prstGeom prst="actionButtonForwardNext">
            <a:avLst/>
          </a:prstGeom>
          <a:solidFill>
            <a:srgbClr val="99cc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43640" cy="10854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Классификация общих расстройств психологического развития по 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МК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Arial"/>
              </a:rPr>
              <a:t>Б</a:t>
            </a:r>
            <a:r>
              <a:rPr b="1" lang="ru-RU" sz="28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-10</a:t>
            </a: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Group 3"/>
          <p:cNvGrpSpPr/>
          <p:nvPr/>
        </p:nvGrpSpPr>
        <p:grpSpPr>
          <a:xfrm>
            <a:off x="1403280" y="1844640"/>
            <a:ext cx="6552720" cy="4248000"/>
            <a:chOff x="1403280" y="1844640"/>
            <a:chExt cx="6552720" cy="4248000"/>
          </a:xfrm>
        </p:grpSpPr>
        <p:sp>
          <p:nvSpPr>
            <p:cNvPr id="188" name="Rectangle 4"/>
            <p:cNvSpPr/>
            <p:nvPr/>
          </p:nvSpPr>
          <p:spPr>
            <a:xfrm>
              <a:off x="1403280" y="1844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0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Детский аутиз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5"/>
            <p:cNvSpPr/>
            <p:nvPr/>
          </p:nvSpPr>
          <p:spPr>
            <a:xfrm>
              <a:off x="1403280" y="234936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1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Атипичный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 аутиз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6"/>
            <p:cNvSpPr/>
            <p:nvPr/>
          </p:nvSpPr>
          <p:spPr>
            <a:xfrm>
              <a:off x="1403280" y="2852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2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Синдром Рет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7"/>
            <p:cNvSpPr/>
            <p:nvPr/>
          </p:nvSpPr>
          <p:spPr>
            <a:xfrm>
              <a:off x="1403280" y="335772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3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Другие дезинтегративные расстройства детского возрас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8"/>
            <p:cNvSpPr/>
            <p:nvPr/>
          </p:nvSpPr>
          <p:spPr>
            <a:xfrm>
              <a:off x="1403280" y="3860640"/>
              <a:ext cx="6552720" cy="71892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4. 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Г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иперактивные расстройства, сочетающиеся с умственн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отсталостью и стереотипными движениями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9"/>
            <p:cNvSpPr/>
            <p:nvPr/>
          </p:nvSpPr>
          <p:spPr>
            <a:xfrm>
              <a:off x="1403280" y="472428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84.5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Синдром Аспергер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10"/>
            <p:cNvSpPr/>
            <p:nvPr/>
          </p:nvSpPr>
          <p:spPr>
            <a:xfrm>
              <a:off x="1403280" y="522936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 84.8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Другие общие расстройства развития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11"/>
            <p:cNvSpPr/>
            <p:nvPr/>
          </p:nvSpPr>
          <p:spPr>
            <a:xfrm>
              <a:off x="1403280" y="5732640"/>
              <a:ext cx="6552720" cy="360000"/>
            </a:xfrm>
            <a:prstGeom prst="rect">
              <a:avLst/>
            </a:prstGeom>
            <a:solidFill>
              <a:schemeClr val="accent1"/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150800" prstMaterial="legacyMatte">
              <a:bevelT prst="angle" w="13500" h="13500"/>
              <a:bevelB prst="angle" w="13500" h="13500"/>
              <a:extrusionClr>
                <a:schemeClr val="accent1"/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F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. 84.9.</a:t>
              </a:r>
              <a:r>
                <a:rPr b="1" lang="uk-UA" sz="1200" spc="-1" strike="noStrike">
                  <a:solidFill>
                    <a:srgbClr val="ffffff"/>
                  </a:solidFill>
                  <a:latin typeface="Verdana"/>
                </a:rPr>
                <a:t>	</a:t>
              </a:r>
              <a:r>
                <a:rPr b="1" lang="ru-RU" sz="1200" spc="-1" strike="noStrike">
                  <a:solidFill>
                    <a:srgbClr val="ffffff"/>
                  </a:solidFill>
                  <a:latin typeface="Verdana"/>
                </a:rPr>
                <a:t>Общие расстройства развития, не уточнен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Rectangle 7"/>
          <p:cNvSpPr/>
          <p:nvPr/>
        </p:nvSpPr>
        <p:spPr>
          <a:xfrm>
            <a:off x="8567640" y="6453360"/>
            <a:ext cx="396360" cy="28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</a:pPr>
            <a:r>
              <a:rPr b="1" lang="uk-UA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143680" y="3929040"/>
            <a:ext cx="1928520" cy="499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9" name="Picture 4" descr="DSC_0213"/>
          <p:cNvPicPr/>
          <p:nvPr/>
        </p:nvPicPr>
        <p:blipFill>
          <a:blip r:embed="rId1"/>
          <a:stretch/>
        </p:blipFill>
        <p:spPr>
          <a:xfrm>
            <a:off x="3784680" y="3286080"/>
            <a:ext cx="5358960" cy="3571560"/>
          </a:xfrm>
          <a:prstGeom prst="rect">
            <a:avLst/>
          </a:prstGeom>
          <a:ln w="9525">
            <a:noFill/>
          </a:ln>
        </p:spPr>
      </p:pic>
      <p:pic>
        <p:nvPicPr>
          <p:cNvPr id="200" name="Picture 5" descr="DSC_0230"/>
          <p:cNvPicPr/>
          <p:nvPr/>
        </p:nvPicPr>
        <p:blipFill>
          <a:blip r:embed="rId2"/>
          <a:stretch/>
        </p:blipFill>
        <p:spPr>
          <a:xfrm>
            <a:off x="0" y="285840"/>
            <a:ext cx="5000400" cy="3333240"/>
          </a:xfrm>
          <a:prstGeom prst="rect">
            <a:avLst/>
          </a:prstGeom>
          <a:ln w="9525">
            <a:noFill/>
          </a:ln>
        </p:spPr>
      </p:pic>
      <p:sp>
        <p:nvSpPr>
          <p:cNvPr id="20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500040" y="428760"/>
            <a:ext cx="8197560" cy="5952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Детский  аутизм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0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бщее расстройство развития, определяется наличием аномального или нарушенного развития, которое проявляется в возрасте до 3 лет, и аномальным функционированием во всех трех сферах социального общения и ограниченного, повторяющегося поведе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У мальчиков встречается в 3 – 4 раза чаще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Атипичный аутизм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1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иболее часто возникает у детей с умственной отсталостью или тяжелым расстройством развития рецептивной речи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тличается от детского аутизма возрастом начала ( 3 – 5 лет) или отсутствием хотя бы одного из трех диагностических критериев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00040" y="357120"/>
            <a:ext cx="8268840" cy="5797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Синдром Ретт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2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следственное заболевания, встречается почти исключительно у девочек с частотой 1:15 000, являясь следующей по частоте после синдрома Дауна специфической причиной умственной отсталости у девочек. Развитие ребенка до 1 – 1,5 лет протекает нормально, но потом у девочек начинают распадаться только что приобретенные речевые, двигательные и предметно – ролевые навыки. Характерны стереотипные, однообразные движения рук, их потирание, заламывание. Речь затрудняется, временами совсем пропадает ( мутизм). Приступы насильственного смеха периодически сменяются приступами импульсивного поведе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ftr" idx="2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240" cy="61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Другие дезинтегративные расстройства детского возраст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3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Наблюдается постепенное прогрессирование заболевания с развитием деменции. Но нарушения социализации и общения типичны скорее для аутизма, чем для нарушения интеллекта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Гиперактивные расстройства, сочетающиеся с умственной отсталостью и стереотипными движениями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4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Признаки характеризуются названием заболевания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357120" y="357120"/>
            <a:ext cx="8329320" cy="5768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Синдром Аспергера (</a:t>
            </a:r>
            <a:r>
              <a:rPr b="1" lang="en-US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F</a:t>
            </a:r>
            <a:r>
              <a:rPr b="1" lang="ru-RU" sz="32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84.5)</a:t>
            </a: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Форма аутизма, при котором способность функционировать относительно сохранена. Аутистическим расстройствам этого синдрома свойственна стертость клинических проявлений. Дети обладают нормальным интеллектом, но нестандартными или слаборазвитыми социальными способностями. Отмечаются качественные нарушения в социальном взаимодействии и ограниченных, повторяющихся и стереотипных особенностях поведения, интересов и занятий.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В дальнейшем онтогенезе ребенка наблюдается формирование особой личности, близкой личностям шизоидного круга. </a:t>
            </a:r>
            <a:endParaRPr b="0" lang="ru-RU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pl-P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  <Words>2902</Words>
  <Paragraphs>28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1-27T12:47:36Z</dcterms:modified>
  <cp:revision>6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1</vt:r8>
  </property>
  <property fmtid="{D5CDD505-2E9C-101B-9397-08002B2CF9AE}" pid="3" name="PresentationFormat">
    <vt:lpwstr>Екран (4:3)</vt:lpwstr>
  </property>
  <property fmtid="{D5CDD505-2E9C-101B-9397-08002B2CF9AE}" pid="4" name="Slides">
    <vt:r8>21</vt:r8>
  </property>
</Properties>
</file>