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CF1E-4E97-4AFF-875A-8A26EFC54F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8D8-E197-4A0A-ABDC-90F17F4A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1E7-F598-4DA1-AF67-051CA760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BA0-C79C-42E3-98C5-EE579578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76E-D15C-41CC-A801-203865D9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6567-8664-4132-8843-365979A4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AFF8-C509-4703-ACE9-4B99E950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D3D5-2C88-404B-B553-AF2AEB4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5B01-03A5-4573-8172-2920F58A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1FA0-5DB7-44A6-8B43-C520C0CA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D32C-70C5-4306-ACCF-63E40A22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624-220F-478A-AF47-A20FE2A4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D5A-4F20-4276-B0B4-BA2E59E9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726C-D897-4FE0-8984-326C040F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9B90-C16D-4D8C-9EA8-BDB1E87D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6B84-5A06-49BE-B61C-A881A645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F244-4615-4327-92B7-EE25CDD7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12AC-092E-4902-B614-A317DAED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80D-C197-48CE-96B8-46BCDC65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8A6-07B7-4BBC-95D9-7524AD01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A25-FE05-477E-A9F3-4A224D0A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E54-CBA4-4623-B7AE-84055DE3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096-A39F-4CD9-B1FC-724C7D7B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54E-0B36-4172-9F0E-C91017AF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C2B-AB38-47D8-86EA-34B4343A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1FF2-1826-4D5C-A7E3-6ECFA0545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BA70-BEE7-4CB7-B71D-53C5CC031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КОКЛЮ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2.0; 1.0.3; 1.2.3 , 1.0.0…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0 и 1.0.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деляющиеся от привитых детей, имеющих легкие и атипичные формы заболевания. В то же врем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3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64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акторы патогенности В.рertus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компон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 ацеллюлярной вакц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аментозный гемагглюти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, иммуносупрессивная актив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такт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мб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тип 2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люшны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ирует АДФ-рибозилировани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ана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616800"/>
        </p:xfrm>
        <a:graphic>
          <a:graphicData uri="http://schemas.openxmlformats.org/drawingml/2006/table">
            <a:tbl>
              <a:tblPr/>
              <a:tblGrid>
                <a:gridCol w="3048120"/>
                <a:gridCol w="4910040"/>
                <a:gridCol w="118584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латцикл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 (синтез цАМФ нарушает функционирование клетки. Противовоспалительный эффект за счет действия на клетки иммунной систе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некротически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рует ГТФ-связывающий белок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ведет к нарушению цитоскекл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274680"/>
          <a:ext cx="9144000" cy="6354720"/>
        </p:xfrm>
        <a:graphic>
          <a:graphicData uri="http://schemas.openxmlformats.org/drawingml/2006/table">
            <a:tbl>
              <a:tblPr/>
              <a:tblGrid>
                <a:gridCol w="3021120"/>
                <a:gridCol w="4065480"/>
                <a:gridCol w="20574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фактор колон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цито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, участвует в повреждении респираторного эпит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ополисахарид (эндотокси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спалительная активность, обеспечивает устойчивость к защитным механизм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дгез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732600"/>
            <a:ext cx="5334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Tahoma"/>
              </a:rPr>
              <a:t>Филаментозный гемагглютин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рупный белок, образующий филаментозные структуры на поверхности бактериальной кл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u1fig26a"/>
          <p:cNvPicPr/>
          <p:nvPr/>
        </p:nvPicPr>
        <p:blipFill>
          <a:blip r:embed="rId1"/>
          <a:stretch/>
        </p:blipFill>
        <p:spPr>
          <a:xfrm>
            <a:off x="5638680" y="1295280"/>
            <a:ext cx="3505320" cy="4038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304920"/>
            <a:ext cx="9144000" cy="71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белками фимбр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ло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kA (Bordetell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ance to killing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ig31_4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олонизаци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5715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онизация эпителия трахе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летки без ресничек свободны от бактери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Bordetella pertussis bacteria in trachea"/>
          <p:cNvPicPr/>
          <p:nvPr/>
        </p:nvPicPr>
        <p:blipFill>
          <a:blip r:embed="rId1"/>
          <a:stretch/>
        </p:blipFill>
        <p:spPr>
          <a:xfrm>
            <a:off x="762120" y="0"/>
            <a:ext cx="70866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Токсины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денилатциклаз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единый полипептид , который может быть связан с клеткой и выделяться в окружающую сре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ac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Дерматонекротически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мологичен цитотоксин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.c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Трахеальный цито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Липополисахари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ается от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ПС энтеро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Коклюшны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В – 5 субъединиц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, отвечает за связывание с рецепторами клеток-мише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бладает ферментативной активностью – осуществляет АДФ-рибозилирова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белка, ингибирующего в норме аденилатцикла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современных штаммо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таммы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ertussis1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коклюша </a:t>
            </a:r>
            <a:br>
              <a:rPr sz="3200"/>
            </a:br>
            <a:r>
              <a:rPr b="0" lang="ru-RU" sz="1600" spc="-1" strike="noStrike">
                <a:solidFill>
                  <a:srgbClr val="c00000"/>
                </a:solidFill>
                <a:latin typeface="Arial Black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fig31_1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896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3840" y="61722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231811486"/>
          <p:cNvPicPr/>
          <p:nvPr/>
        </p:nvPicPr>
        <p:blipFill>
          <a:blip r:embed="rId1"/>
          <a:stretch/>
        </p:blipFill>
        <p:spPr>
          <a:xfrm>
            <a:off x="0" y="-228600"/>
            <a:ext cx="6667560" cy="567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6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вид ребенка, больно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клюш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о время спазматического при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Источник инфекци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– больной (заразен до 25-30дн)  или бактерионос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Путь передач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- воздушно-кап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иоды заболевания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кубационный(5-8дн, до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таральный (5-14дней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удорожны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ароксизмальный) (2-8 неде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риод разрешения (2-4 недел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пароксизмальн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иода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Лабораторная диагнос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C:\Documents and Settings\Kafarskaya_LI\Мои документы\Мои рисунки\Бактериолоогическая лаборт.jpg"/>
          <p:cNvPicPr/>
          <p:nvPr/>
        </p:nvPicPr>
        <p:blipFill>
          <a:blip r:embed="rId1"/>
          <a:stretch/>
        </p:blipFill>
        <p:spPr>
          <a:xfrm>
            <a:off x="571680" y="1600200"/>
            <a:ext cx="3857400" cy="46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Основные методы лабораторной диагностики коклюш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бактери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 сер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Клинический материал собира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хим тампоном с задней стенки глотки и делают    посев на питательные сре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 методом кашлевых пласти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атериал целесообразно получать до начала антимикробной 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обходимо соблюдение асептик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 следует допускать контаминации посторонней микрофлор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из способов взятия клиническ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Цель бактериологического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чистой культуры и идентификация возбудителя коклюш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ифференциальный анализ  культуральных свойств возбудителей  коклюша (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pertussis)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и паракоклюш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(B.parapertus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Посев на следующие питательные сред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ртофельно-глицериновый агар  Борд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зеиновый-угольный агар, кровяной аг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этап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лочки коклюша через 48-72ч роста образуют мелкие блестящие колонии серого ц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ракоклюшные палочки через 24-48ч роста образуют колонии  несколько круп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ерологиеская идентификация бордетел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пользуют образцы антигенов  - с 1 по 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7 определяет род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 определяет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 pertussi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4 –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.parapertus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акции агглютинации в пробирк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ерологический метод диагностики коклю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ФА используют для определения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sIgA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 носоглоточной слизи, начиная с 2-3 недели заболе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СК в парных сыворот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намика образования антител при коклюш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fig31_5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50403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лановая профилак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ahoma"/>
              </a:rPr>
              <a:t>Ацеллюлярные вакц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Компоненты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аментозный гемагглютинин, пертактин, фимбрии, ана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люшного токс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временная вакцина  АКаДС включает неклеточный  коклюшный компонен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Инфаринкс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ельг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user posted image"/>
          <p:cNvPicPr/>
          <p:nvPr/>
        </p:nvPicPr>
        <p:blipFill>
          <a:blip r:embed="rId1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Тетракси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ентакси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Морфолог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B"/>
          <p:cNvPicPr/>
          <p:nvPr/>
        </p:nvPicPr>
        <p:blipFill>
          <a:blip r:embed="rId1"/>
          <a:stretch/>
        </p:blipFill>
        <p:spPr>
          <a:xfrm>
            <a:off x="4876920" y="2438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485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9" descr="213_9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75438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льтуральные свойст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8" descr="mc04b01-fig-0001-1-full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952880" y="57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агаре Борде-Жан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Тип дыхания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Строгие аэро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8195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Биохимические свойства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-244080"/>
            <a:ext cx="8686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Резистентност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нь неустойчив 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й среде. Быстро разрушается под действием дезинфектантов, антисептиков , ч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ствительны к солнечному излучению. При 50-55°С погибают за 30 мин., при кипячении мгновенно.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17196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нтигенные свойства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9:46:48Z</dcterms:created>
  <dc:creator>User</dc:creator>
  <dc:description/>
  <dc:language>en-US</dc:language>
  <cp:lastModifiedBy>LEGION</cp:lastModifiedBy>
  <dcterms:modified xsi:type="dcterms:W3CDTF">2015-11-27T12:47:51Z</dcterms:modified>
  <cp:revision>27</cp:revision>
  <dc:subject/>
  <dc:title>MEASLES </dc:title>
</cp:coreProperties>
</file>