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7573-4460-4A7B-BDC6-9ACDC157A1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: современные представления об этиопатогенезе, диагностике,  леч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: современные представления об этиопатогенезе, диагностике,  лечен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ормирования гестоза эндотелиоз (иммунное воспаление эндотел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волна инвазии цитотрофобласта – 6-8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волна инвазии цитотрофобласта -16-18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снове формирования гестоза эндотелиоз (иммунное воспаление эндотелия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ая волна инвазии цитотрофобласта – 6-8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торая волна инвазии цитотрофобласта -16-18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патогенеза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лизованный спазм сосу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вол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реологических и коагуляционных свойст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дотокс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перфузия тка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и некротические изменения в тканях жизненно-важных органов с нарушением их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элементы патогенеза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нерализованный спазм сосуд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волем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реологических и коагуляционных свойств кров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дотоксем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перфузия ткан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шемические и некротические изменения в тканях жизненно-важных органов с нарушением их функ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гестоза МКБ-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998 г.), класс XV, II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 Существовавшая ранее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о: перечисленные состояния с предшествовавшей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о: состояния с нарастающей или присоединившейся протеинурией (O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лассификация гестоза МКБ-Х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1998 г.), класс XV, II блок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 Существовавшая ранее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ключено: перечисленные состояния с предшествовавшей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ключено: состояния с нарастающей или присоединившейся протеинурией (O1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1 Существовавшая ранее гипертензия с присоединившейся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 Вызванные беременностью отеки и протеинурия без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0 Вызванные беременностью оте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1 Вызванная беременностью протеину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2.2 Вызванные беременностью отеки с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3 Вызванная беременностью гипертензия без значительной протеину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 Вызванная беременностью гипертензия со значительной протеинур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о: присоединившаяся преэклампсия (O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0 Преэклампсия [нефропатия] средней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1 Тяжелая 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4.9 Преэклампсия [нефропатия]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 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е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роги, вызванные состояниями, классифицированными в рубриках O10-O14 и O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 с существовавшей ранее или вызванной беременностью гипертенз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0 Эклампсия во время берем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1 Эклампсия в р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2 Эклампсия в послеродовом пери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5.9 Эклампсия неуточнённая по сро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16 Гипертензия у матери неуточн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1 Существовавшая ранее гипертензия с присоединившейся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 Вызванные беременностью отеки и протеинурия без гипертенз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0 Вызванные беременностью отек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1 Вызванная беременностью протеину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2.2 Вызванные беременностью отеки с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3 Вызванная беременностью гипертензия без значительной протеинур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 Вызванная беременностью гипертензия со значительной протеинур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ключено: присоединившаяся преэклампсия (O11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0 Преэклампсия [нефропатия] средней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1 Тяжелая 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4.9 Преэклампсия [нефропатия]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 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ключено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дороги, вызванные состояниями, классифицированными в рубриках O10-O14 и O16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 с существовавшей ранее или вызванной беременностью гипертензие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0 Эклампсия во время беременно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1 Эклампсия в родах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2 Эклампсия в послеродовом период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5.9 Эклампсия неуточнённая по срокам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O16 Гипертензия у матери неуточнённа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ая классификация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легка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редня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тяжелая степ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линическая классификация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) легка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) средня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) тяжелая степен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.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.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ответствие классификаций гесто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ответствие классификаций гестоз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ответствие классификаций гесто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ответствие классификаций гестоз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степени тяжести гестоза: шкала Goeke R. в модификации Г.М. Савель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ая степень гестоза – до 7 б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яя степень гестоза – 8-11 б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елая степень гестоза  - 12 баллов и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ценка степени тяжести гестоза: шкала Goeke R. в модификации Г.М. Савельев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гкая степень гестоза – до 7 балл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няя степень гестоза – 8-11 балл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яжелая степень гестоза  - 12 баллов и боле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ассоциированная с беременностью па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ассоциированная с беременностью патолог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еки: скрытые (патологическая прибавка массы тела), выраж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тензия: повышение систолического АД на 30 мм рт. с.т., диастолического давления на 15 мм рт. 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инурия: белок в суточной моч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ка роста пл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еки: скрытые (патологическая прибавка массы тела), выраженны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ертензия: повышение систолического АД на 30 мм рт. с.т., диастолического давления на 15 мм рт. ст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теинурия: белок в суточной моч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ержка роста плод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ада Цангемейстера: отеки, протеинурия, гипертен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лампсия (от греч. eklampsis – 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гностика гестоза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иада Цангемейстера: отеки, протеинурия, гипертенз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лампсия (от греч. eklampsis – 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ушерская тактика при различных степенях тяжести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легкой степени тяжести – пролонгирование беременности на 2 и более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тяжелой степени тяжести – родоразрешение в течение 5-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ушерская тактика при различных степенях тяжести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легкой степени тяжести – пролонгирование беременности на 2 и более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тяжелой степени тяжести – родоразрешение в течение 5-6 часо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лечебно-охранительного режи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ление функции жизненно важных орга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и бережное родоразре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чение больных с гестозом различной степени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здание лечебно-охранительного режим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сстановление функции жизненно важных органов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строе и бережное родоразрешени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нзивная терапия (магния сульфат, клофелин, допег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узионая терапия (гидроксиэтилированные крахмалы, кристалло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дативн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изация коагуляционных свойст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рентные методы терап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екватное обезболивание при родоразрешении, продленная ИВЛ при тяжелых формах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ечение больных с гестозом различной степени тяже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отензивная терапия (магния сульфат, клофелин, допегит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узионая терапия (гидроксиэтилированные крахмалы, кристаллоиды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дативная терап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рмализация коагуляционных свойств кров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фферентные методы терап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декватное обезболивание при родоразрешении, продленная ИВЛ при тяжелых формах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здний токсикоз беременных (водянка, нефропатия, преэклампсия, эклампсия) - ССС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ксемия беременных (СШ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еэклампсия-эклампсия (США, 197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PH-gestosis (edema, proteinuria, hipertension) –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Европейский Сою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Г-гестоз (отеки, протеинурия, гипертензия) – СССР (198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естоз – Россия (199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рминолог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здний токсикоз беременных (водянка, нефропатия, преэклампсия, эклампсия) - СССР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ксемия беременных (США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эклампсия-эклампсия (США, 1972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PH-gestosis (edema, proteinuria, hipertension) 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вропейский Союз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Г-гестоз (отеки, протеинурия, гипертензия) – СССР (1985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Россия (1996 г.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ота гесто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данным мировой науч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ы составля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12-1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йской Федерации (2005 г.) 22,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ердловской области (2005 г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астота гестоза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данным мировой научной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итературы составляет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12-18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Российской Федерации (2005 г.) 22,3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Свердловской области (2005 г.)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4%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 проблемы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трех главных причин материнской смертности (2 – 3 место в структур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главных причин фетоинфантильных потер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стоз – это одна из главных причин материнской и детской заболе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туальность проблемы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трех главных причин материнской смертности (2 – 3 место в структуре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главных причин фетоинфантильных потерь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стоз – это одна из главных причин материнской и детской заболеваемост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патогенез гест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ксикацион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тико-висцеральн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докринная теория, теория стр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унолог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тическая те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центарная теория, нарушения процессов плац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опатогенез гестоз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екцион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токсикацион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ртико-висцеральн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докринная теория, теория стрес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мунологическ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нетическая теория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ацентарная теория, нарушения процессов плацента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состояния дистальных отделов спиральных артерий в обеспечении гест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сложненная беремен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просветов спиральных арте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мышечного спа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ромботичное состояние эндотел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 отсутст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коагу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лучшие условия для циркуляции крови  и газообмена в фето-плацентарной сис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оль состояния дистальных отделов спиральных артерий в обеспечении гестационного процесс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осложненная беременность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ширение просветов спиральных артерий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сутствие мышечного спазма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тромботичное состояние эндотелия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+ отсутствие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перкоагуляции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илучшие условия для циркуляции крови  и газообмена в фето-плацентарной системе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A1E-DF7B-4D61-A731-246E1B0A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70E-CAA1-49D5-A25D-F3C599F0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2437-72AC-4018-9258-3AFAECA4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45B-5662-493C-BD44-A9FA3F68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2DC-6C4E-4CBC-AC67-1BFCA268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D77-2BAB-4E7F-AE13-B6B56B8E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D73-7930-439E-AADF-906FCB1E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431-CE5C-455B-8132-A6D88A0A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E1F8-B820-4FBF-8383-6AF3816A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1B3-BE00-431A-805D-C1487A29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81A-012A-465F-AE0F-545E0B0C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766-3D27-4B92-9C24-9F77EDCD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 CY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3305-954E-4687-8ECA-2727D8D05F6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iolreprod.org/content/vol69/issue1/images/large/bire-69-01-25-f03.jpe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4"/>
          <p:cNvSpPr/>
          <p:nvPr/>
        </p:nvSpPr>
        <p:spPr>
          <a:xfrm>
            <a:off x="179280" y="189000"/>
            <a:ext cx="88567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ГЕСТОЗ: современные представления об этиопатогенезе, диагностике,  лечен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324000" y="189000"/>
            <a:ext cx="8569080" cy="1511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В основе формирования гестоза эндотелиоз (иммунное воспаление эндотелия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905120"/>
            <a:ext cx="4535280" cy="4763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076720" y="2060640"/>
            <a:ext cx="3810240" cy="4231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волна инвазии цитотрофобласта – 6-8 недел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волна инвазии цитотрофобласта -16-18 недель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снове патогенеза гестоза – недостаточность второй волны инвазии трофобласта (ключевые клетки макрофаги и Т-лимфоциты материнского организма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сновные элементы патогенеза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8760" y="1359000"/>
            <a:ext cx="8805960" cy="52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енерализованный спазм сосудо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волем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рушение реологических и коагуляционных свойств кров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ндотоксем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перфузия ткане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рушение структурно-функциональных свойств клеточных мембран с изменением жизнедеятельности клеток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Ишемические и некротические изменения в тканях жизненно-важных органов с нарушением их функц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79280" y="13032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лассификация гестоза МКБ-Х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(1998 г.), класс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XV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блок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08000" y="1557360"/>
            <a:ext cx="89280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ЕКИ, ПРОТЕИНУРИЯ И ГИПЕРТЕНЗИВНЫЕ РАССТРОЙСТВА ВО ВРЕМЯ БЕРЕМЕННОСТИ, РОДОВ И В ПОСЛЕРОДОВОМ ПЕРИОДЕ (O10-O1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 Существовавшая ранее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ключено: перечисленные состояния с предшествовавшей протеинури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Исключено: состояния с нарастающей или присоединившейся протеинурией (O11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0 Существовавшая ранее эссенциаль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1 Существовавшая ранее кардиоваскуляр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2 Существовавшая ранее поче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3 Существовавшая ранее кардиоваскулярная и поче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4 Существовавшая ранее вторичная гипертензия, осложняющая беременность, роды и послеродовой период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O10.9 Существовавшая ранее гипертензия, осложняющая беременность, роды и послеродовой период, неуточнённа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08000" y="404640"/>
            <a:ext cx="903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1 Существовавшая ранее гипертензия с присоединившейся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 Вызванные беременностью отеки и протеинурия без гипертенз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0 Вызванные беременностью оте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1 Вызванная беременностью протеинур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2.2 Вызванные беременностью отеки с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3 Вызванная беременностью гипертензия без значительной протеинури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 Вызванная беременностью гипертензия со значительной протеинур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ключено: присоединившаяся преэклампсия (O1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0 Преэклампсия [нефропатия] средней тяжест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1 Тяжелая преэклампс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4.9 Преэклампсия [нефропатия] неуточнённа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 Эклампси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ключено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дороги, вызванные состояниями, классифицированными в рубриках O10-O14 и O1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лампсия с существовавшей ранее или вызванной беременностью гипертензи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0 Эклампсия во время беременност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1 Эклампсия в рода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2 Эклампсия в послеродовом периоде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5.9 Эклампсия неуточнённая по срокам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O16 Гипертензия у матери неуточнённа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линическая классификация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775800" y="1469880"/>
            <a:ext cx="46299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а) легка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б) средня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в) тяжелая степен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2.Преэклампс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3.Эклампс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ответствие классификаций гестозов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916280"/>
          <a:ext cx="8785440" cy="4114800"/>
        </p:xfrm>
        <a:graphic>
          <a:graphicData uri="http://schemas.openxmlformats.org/drawingml/2006/table">
            <a:tbl>
              <a:tblPr/>
              <a:tblGrid>
                <a:gridCol w="2305080"/>
                <a:gridCol w="648036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легко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0 Вызванные беременностью отеки (?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3 Вызванная беременностью гипертензия без значительной протеинури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средне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1 Существовавшая ранее гипертензия с присоединившейся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1 Вызванная беременностью протеинур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2.2 Вызванные беременностью отеки с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0 Преэклампсия [нефропатия] средней тяжест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стоз тяжелой степен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1 Существовавшая ранее гипертензия с присоединившейся протеинурие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1 Тяжелая преэклампс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9 Преэклампсия [нефропатия] неуточнён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9280" y="1949400"/>
          <a:ext cx="8785440" cy="3979800"/>
        </p:xfrm>
        <a:graphic>
          <a:graphicData uri="http://schemas.openxmlformats.org/drawingml/2006/table">
            <a:tbl>
              <a:tblPr/>
              <a:tblGrid>
                <a:gridCol w="2592360"/>
                <a:gridCol w="6193080"/>
              </a:tblGrid>
              <a:tr h="93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эклампс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4.9 Преэклампсия [нефропатия] неуточнённа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лампси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 Эклампсия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ключено: судороги, вызванные состояниями, классифицированными в рубриках O10-O14 и O16 эклампсия с существовавшей ранее или вызванной беременностью гипертензией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0 Эклампсия во время беременности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1 Эклампсия в родах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2 Эклампсия в послеродовом период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15.9 Эклампсия неуточнённая по срокам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26"/>
          <p:cNvSpPr/>
          <p:nvPr/>
        </p:nvSpPr>
        <p:spPr>
          <a:xfrm>
            <a:off x="179280" y="11592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оответствие классификаций гестозов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268280"/>
          <a:ext cx="9144000" cy="5053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72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Балл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имптомы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ек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а голенях, патологи-ческая прибавка массы тел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а голенях, передней брюшной стенк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Генерализо-ваны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теин-урия (г/л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,033-0,13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0,132-1,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,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истоли-ческое АД мм рт. ст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иже 1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30-1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50-17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7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Диастоли-ческое АД мм рт. ст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иже 8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85-9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90-1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110 и боле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1649520"/>
          <a:ext cx="9180360" cy="4297320"/>
        </p:xfrm>
        <a:graphic>
          <a:graphicData uri="http://schemas.openxmlformats.org/drawingml/2006/table">
            <a:tbl>
              <a:tblPr/>
              <a:tblGrid>
                <a:gridCol w="1908000"/>
                <a:gridCol w="1705320"/>
                <a:gridCol w="1807920"/>
                <a:gridCol w="1808280"/>
                <a:gridCol w="195084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Срок появления гестоза, нед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6 - 4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30 - 3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4 - 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Задержка роста плод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ставание на 1-2 недел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Отставание на 3 и более недель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Фоновые заболевани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Не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-ния до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-ния во время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Проявление заболевания  до и во время беремен-нос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68436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ценка степени тяжести гестоза: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шкала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eke R.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модификации Г.М. Савельево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68360" y="2205000"/>
            <a:ext cx="84456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Легкая степень гестоза – до 7 балл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Средняя степень гестоза – 8-11 балл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яжелая степень гестоза  - 12 баллов и боле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692280"/>
            <a:ext cx="874872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ff"/>
                </a:solidFill>
                <a:latin typeface="Arial"/>
              </a:rPr>
              <a:t>Гестоз – это ассоциированная с беременностью патология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Диагностика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1840" y="1143000"/>
            <a:ext cx="8804160" cy="42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Отеки: скрытые (патологическая прибавка массы тела), выраженны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ертензия: повышение систолического АД на 30 мм рт. с.т., диастолического давления на 15 мм рт. ст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Протеинурия: белок в суточной моче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Задержка роста плод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иагностика гестоз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еэклампси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79280" y="2133720"/>
            <a:ext cx="88045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иагностика гестоза,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клампсия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79280" y="1341360"/>
            <a:ext cx="8804520" cy="52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Триада Цангемейстера: отеки, протеинурия, гипертенз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еврологические проявления: чувство тяжести в затылке или головные боли, боли в эпигастрии и правом подреберье, тошнота, рвота, нарушение зрен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клампсия (от греч.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eklampsis – </a:t>
            </a: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вспышка, возгорание): вводный этап – фибриллярные подергивания мышц, остановка взгляда; период тонических судорог – тетанус всех мышц тела; период клонических судорог – судороги сверху вниз; разрешение припадка – пена изо рта, ком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20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кушерская тактика при различных степенях тяжести гестоза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50920" y="1773360"/>
            <a:ext cx="8732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легкой степени тяжести – пролонгирование беременности на 2 и более недел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средней степени тяжести – прологирование беременности в зависимости от эффективности терапии от 5-6 дней до 2 недел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стоз тяжелой степени тяжести – родоразрешение в течение 5-6 час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чение больных с гестозом различной степени тяжести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79280" y="1989000"/>
            <a:ext cx="885672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Создание лечебно-охранительного режим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Восстановление функции жизненно важных органов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spcAft>
                <a:spcPts val="700"/>
              </a:spcAft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Быстрое и бережное родоразреше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Лечение больных с гестозом различной степени тяже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31840" y="1432080"/>
            <a:ext cx="880416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Гипотензивная терапия (магния сульфат, клофелин, допегит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Инфузионая терапия (гидроксиэтилированные крахмалы, кристаллоиды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Седативная терап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ормализация коагуляционных свойств кров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Эфферентные методы терапи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Адекватное обезболивание при родоразрешении, продленная ИВЛ при тяжелых формах гестоз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836640"/>
            <a:ext cx="885672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ГЕСТОЗ –</a:t>
            </a: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ЭТО ОСЛОЖНЕНИЕ БЕРЕМЕННОСТИ, ХАРАКТЕРИЗУЮЩЕЕСЯ ГЛУБОКИМ РАСТРОЙСТВОМ ФУНКЦИЙ ЖИЗНЕННО ВАЖНЫХ ОРГАНОВ И СИСТЕМ, ПОРАЖЕНИЕМ ФЕТОПЛАЦЕНТАРНОГО КОМПЛЕКС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79280" y="225360"/>
            <a:ext cx="8785440" cy="59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Гестоз –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00"/>
                </a:solidFill>
                <a:latin typeface="Arial"/>
              </a:rPr>
              <a:t>это синдром полиорганной функциональной недостаточности, патогенетически связанный с беременностью, характеризующийся генерализованным сосудистым спазмом и перфузионными нарушениями в жизненно важных органах  и плаценте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ерминология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58760" y="1287360"/>
            <a:ext cx="866124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оздний токсикоз беременных (водянка, нефропатия, преэклампсия, эклампсия) - СССР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Токсемия беременных (США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реэклампсия-эклампсия (США, 1972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EPH-gestosis (edema, proteinuria, hipertension) – </a:t>
            </a: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Европейский Сою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ОПГ-гестоз (отеки, протеинурия, гипертензия) – СССР (1985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ff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Россия (1996 г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4"/>
          <p:cNvSpPr/>
          <p:nvPr/>
        </p:nvSpPr>
        <p:spPr>
          <a:xfrm>
            <a:off x="179280" y="333360"/>
            <a:ext cx="878544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Частота гестоз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 данным мировой научно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литературы составляет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12-18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 Российской Федерации (2005 г.)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22,3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В Свердловской области (2005 г.)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34%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Актуальность проблемы гестоза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49320"/>
            <a:ext cx="828036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трех главных причин материнской смертности (2 – 3 место в структуре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главных причин фетоинфантильных потерь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стоз – это одна из главных причин материнской и детской заболеваем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979280" y="257040"/>
            <a:ext cx="648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иопатогенез гестоз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03120" y="1236600"/>
            <a:ext cx="86616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нфекцион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нтоксикацион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Кортико-висцеральн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Эндокринная теория, теория стресс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Иммунологическ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енетическая теори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Плацентарная теория, нарушения процессов плацентац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g4a100f1"/>
          <p:cNvPicPr/>
          <p:nvPr/>
        </p:nvPicPr>
        <p:blipFill>
          <a:blip r:embed="rId1"/>
          <a:stretch/>
        </p:blipFill>
        <p:spPr>
          <a:xfrm>
            <a:off x="47520" y="836640"/>
            <a:ext cx="5819760" cy="6021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08000" y="0"/>
            <a:ext cx="89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Роль состояния дистальных отделов спиральных артерий в обеспечении гестационного процесс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884920" y="968400"/>
            <a:ext cx="325908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f0f5"/>
                </a:solidFill>
                <a:latin typeface="Times New Roman CYR"/>
              </a:rPr>
              <a:t>Неосложненная беременность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Расширение просветов спиральных артерий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Отсутствие мышечного спазм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Атромботичное состояние эндотелия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    </a:t>
            </a: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+ отсутствие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   </a:t>
            </a: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гиперкоагуля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5f0f5"/>
                </a:solidFill>
                <a:latin typeface="Times New Roman CYR"/>
              </a:rPr>
              <a:t>Наилучшие условия для циркуляции крови  и газообмена в фето-плацентарной систем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b5f0f5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 flipH="1">
            <a:off x="4427640" y="3716280"/>
            <a:ext cx="1512720" cy="144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6553080" y="4648320"/>
            <a:ext cx="0" cy="533160"/>
          </a:xfrm>
          <a:prstGeom prst="line">
            <a:avLst/>
          </a:prstGeom>
          <a:ln w="7632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 CYR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04:39:48Z</dcterms:created>
  <dc:creator>Сизихин + Ковалев</dc:creator>
  <dc:description/>
  <cp:keywords>Родовспоможение</cp:keywords>
  <dc:language>en-US</dc:language>
  <cp:lastModifiedBy>LEGION</cp:lastModifiedBy>
  <dcterms:modified xsi:type="dcterms:W3CDTF">2015-11-27T12:47:58Z</dcterms:modified>
  <cp:revision>257</cp:revision>
  <dc:subject>Доклад</dc:subject>
  <dc:title>ИТОГИ РАБОТЫ УСПЕХИ И НЕУДАЧИ</dc:title>
</cp:coreProperties>
</file>