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6B1D-3F8E-47D2-8CBA-DA48A9020A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 современные представления об этиопатогенезе, диагностике,  лечен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ормирования гестоза эндотелиоз (иммунное воспаление эндотел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волна инвазии цитотрофобласта – 6-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олна инвазии цитотрофобласта -16-1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формирования гестоза эндотелиоз (иммунное воспаление эндотелия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волна инвазии цитотрофобласта – 6-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ая волна инвазии цитотрофобласта -16-1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патогенез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изованный спазм со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вол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реологических и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токс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перфузия тка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элементы патогенез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рализованный спазм сосуд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вол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реологических и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токс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перфузия ткан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гестоза МКБ-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98 г.), класс XV, II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ассификация гестоза МКБ-Х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1998 г.), класс XV, II бл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 перечисленные состояния с предшествовавше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состояния с нарастающей или присоединившейся протеинурией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0 Вызванные беременностью оте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1 Вызванная беременностью протеину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2 Вызванные беременностью отеки с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присоединившаяся преэклампсия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0 Преэклампсия [нефропатия] средней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1 Тяжелая 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9 Преэклампсия [нефропатия]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 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0 Эклампсия во время берем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1 Эклампсия в 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2 Эклампсия в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9 Эклампсия неуточнённая по сро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6 Гипертензия у матери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1 Существовавшая ранее гипертензия с присоединившейся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 Вызванные беременностью отеки и протеинурия без гипертенз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0 Вызванные беременностью отек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1 Вызванная беременностью протеину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2 Вызванные беременностью отеки с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3 Вызванная беременностью гипертензия без значительной протеинур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 Вызванная беременностью гипертензия со значительно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присоединившаяся преэклампсия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0 Преэклампсия [нефропатия] средней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1 Тяжелая 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9 Преэклампсия [нефропатия]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 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дороги, вызванные состояниями, классифицированными в рубриках O10-O14 и O1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с существовавшей ранее или вызванной беременностью гипертенз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0 Эклампсия во время беременн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1 Эклампсия в родах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2 Эклампсия в послеродовом период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9 Эклампсия неуточнённая по срокам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6 Гипертензия у матери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классификация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легк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редня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яжел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иническая классификация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) легк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) средня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) тяжел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ая степень гестоза – до 7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степень гестоза – 8-11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елая степень гестоза  - 12 баллов и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гкая степень гестоза – до 7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няя степень гестоза – 8-11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яжелая степень гестоза  - 12 баллов и боле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ассоциированная с беременностью па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ассоциированная с беременностью пат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урия: белок в суточной мо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ка роста п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: скрытые (патологическая прибавка массы тела), выраженны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теинурия: белок в суточной моч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ержка роста плод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ушерская тактика при различных степенях тяжести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легкой степени тяжести – пролонгирование беременности на 2 и более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тяжелой степени тяжести – родоразрешение в течение 5-6 час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лечебно-охранительного режи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функции жизненно важны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 бережное родораз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лечебно-охранительного режи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сстановление функции жизненно важных органов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ое и бережное родоразрешени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датив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изация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рентные методы терап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тензивная терапия (магния сульфат, клофелин, допегит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узионая терапия (гидроксиэтилированные крахмалы, кристаллоиды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дативная терап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лизация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рентные методы терап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ксемия беременных (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эклампсия-эклампсия (США, 197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H-gestosis (edema, proteinuria, hipertension)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вропейский Сою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стоз – Россия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мин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здний токсикоз беременных (водянка, нефропатия, преэклампсия, эклампсия) - СССР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ксемия беременных (СШ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-эклампсия (США, 1972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PH-gestosis (edema, proteinuria, hipertension) 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ропейский Союз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Г-гестоз (отеки, протеинурия, гипертензия) – СССР (1985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Россия (1996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та гесто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ировой нау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ы составля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12-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йской Федерации (2005 г.) 22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ота гестоза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данным мировой научн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тературы составляет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12-18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Российской Федерации (2005 г.) 22,3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 проблемы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уальность проблемы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фетоинфантильных потерь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материнской и детской заболеваем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патогенез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ксика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тико-висцераль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кринная теория, теория ст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центарная теория, нарушения процессов плац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опатогенез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ек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токсика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тико-висцераль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кринная теория, теория стр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мунолог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т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центарная теория, нарушения процессов плацента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сложненная берем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просветов спиральных ар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мышечного сп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мботичное состояние эндотел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коагу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лучшие условия для циркуляции крови  и газообмена в фето-плацентарной сис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сложненная беременность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ширение просветов спиральных артерий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мышечного спаз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ромботичное состояние эндотелия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+ отсутствие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коагуля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лучшие условия для циркуляции крови  и газообмена в фето-плацентарной систем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9C7-9142-417F-AAE1-66A604FD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B75-FF2C-4495-9E9C-990E398B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484-F0B5-4634-946C-999DECF7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53C-5455-4391-8847-76554716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926-D303-45C2-ADA2-C0209D9F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DB6-F825-43C1-9AE2-457F4CDC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062-A21F-475D-A070-41F61490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FED-395B-4938-AC80-A5BE8D2A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BA1-2183-49B6-9397-5187C716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4EC-1951-4602-9321-F67260CB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28D-894D-41AD-A9E7-F5D379E0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5FC-EA97-45BE-8C57-A18ADD24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 CY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6DE-D472-4752-8399-0120A432FD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lreprod.org/content/vol69/issue1/images/large/bire-69-01-25-f03.jpe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4"/>
          <p:cNvSpPr/>
          <p:nvPr/>
        </p:nvSpPr>
        <p:spPr>
          <a:xfrm>
            <a:off x="179280" y="18900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189000"/>
            <a:ext cx="8569080" cy="1511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 основе формирования гестоза эндотелиоз (иммунное воспаление эндотелия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05120"/>
            <a:ext cx="4535280" cy="47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076720" y="2060640"/>
            <a:ext cx="3810240" cy="423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волна инвазии цитотрофобласта – 6-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волна инвазии цитотрофобласта -16-1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ые элементы патогенез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359000"/>
            <a:ext cx="88059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енерализованный спазм сосу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вол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реологических и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ндотокс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перфузия ткане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303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гестоза МКБ-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998 г.), класс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V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бло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000" y="1557360"/>
            <a:ext cx="8928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40464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0 Вызванные беременностью оте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1 Вызванная беременностью протеинур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2 Вызванные беременностью отеки с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ключено: присоединившаяся преэклампсия (O1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0 Преэклампсия [нефропатия] средней тяже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1 Тяжелая пре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9 Преэклампсия [нефропатия]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 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ключено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0 Эклампсия во время беременно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1 Эклампсия в род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2 Эклампсия в послеродовом период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9 Эклампсия неуточнённая по срока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6 Гипертензия у матери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ническая классификация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5800" y="1469880"/>
            <a:ext cx="4629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а) легк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) средня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) тяжел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2.Пре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3.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91628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6480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легк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0 Вызванные беременностью отеки (?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3 Вызванная беременностью гипертензия без значительной протеинури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средне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1 Вызванная беременностью протеинур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2 Вызванные беременностью отеки с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0 Преэклампсия [нефропатия] средней тяже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тяжел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1 Тяжелая пре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949400"/>
          <a:ext cx="8785440" cy="3979800"/>
        </p:xfrm>
        <a:graphic>
          <a:graphicData uri="http://schemas.openxmlformats.org/drawingml/2006/table">
            <a:tbl>
              <a:tblPr/>
              <a:tblGrid>
                <a:gridCol w="2592360"/>
                <a:gridCol w="6193080"/>
              </a:tblGrid>
              <a:tr h="93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эклампс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лампс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 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ключено: судороги, вызванные состояниями, классифицированными в рубриках O10-O14 и O16 эклампсия с существовавшей ранее или вызванной беременностью гипертензией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0 Эклампсия во время беременно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1 Эклампсия в род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2 Эклампсия в послеродовом период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9 Эклампсия неуточнённая по срока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26"/>
          <p:cNvSpPr/>
          <p:nvPr/>
        </p:nvSpPr>
        <p:spPr>
          <a:xfrm>
            <a:off x="179280" y="1159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144000" cy="5053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2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мптом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е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атологи-ческая прибавка массы тел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ередней брюшной стенк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нерализо-ваны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теин-урия (г/л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033-0,1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132-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,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30-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50-1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7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Диа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8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85-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90-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1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649520"/>
          <a:ext cx="9180360" cy="4297320"/>
        </p:xfrm>
        <a:graphic>
          <a:graphicData uri="http://schemas.openxmlformats.org/drawingml/2006/table">
            <a:tbl>
              <a:tblPr/>
              <a:tblGrid>
                <a:gridCol w="1908000"/>
                <a:gridCol w="1705320"/>
                <a:gridCol w="1807920"/>
                <a:gridCol w="1808280"/>
                <a:gridCol w="195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ок появления гестоза, не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6 - 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0 - 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4 - 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держка роста плод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1-2 недел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3 и более недел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Фоновые заболе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до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ния  до и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2205000"/>
            <a:ext cx="8445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Легкая степень гестоза – до 7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редняя степень гестоза – 8-11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яжелая степень гестоза  - 12 баллов и боле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692280"/>
            <a:ext cx="87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ff"/>
                </a:solidFill>
                <a:latin typeface="Arial"/>
              </a:rPr>
              <a:t>Гестоз – это ассоциированная с беременностью патоло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агностик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1840" y="1143000"/>
            <a:ext cx="880416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Протеинурия: белок в суточной моч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Задержка роста плод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е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9280" y="2133720"/>
            <a:ext cx="8804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9280" y="1341360"/>
            <a:ext cx="880452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клампсия (от греч.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klampsis –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1773360"/>
            <a:ext cx="8732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1989000"/>
            <a:ext cx="88567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оздание лечебно-охранительного режим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осстановление функции жизненно важных орган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ыстрое и бережное родоразреш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1840" y="1432080"/>
            <a:ext cx="88041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едативная терап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ормализация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фферентные методы терап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836640"/>
            <a:ext cx="88567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ГЕСТОЗ –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225360"/>
            <a:ext cx="878544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Гестоз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8760" y="1287360"/>
            <a:ext cx="8661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оксемия беременных (СШ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реэклампсия-эклампсия (США, 1972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PH-gestosis (edema, proteinuria, hipertension) – 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Европейский Сою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Россия (1996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179280" y="333360"/>
            <a:ext cx="87854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астота гестоз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данным мировой научно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литературы составляет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12-18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Российской Федерации (2005 г.)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22,3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Свердловской области (2005 г.)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34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ктуальность проблемы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49320"/>
            <a:ext cx="828036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979280" y="257040"/>
            <a:ext cx="648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опатогенез гестоз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03120" y="1236600"/>
            <a:ext cx="8661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фек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токсика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Кортико-висцераль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Эндокринная теория, теория стресс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ммунолог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нет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лацентарная теория, нарушения процессов плацент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g4a100f1"/>
          <p:cNvPicPr/>
          <p:nvPr/>
        </p:nvPicPr>
        <p:blipFill>
          <a:blip r:embed="rId1"/>
          <a:stretch/>
        </p:blipFill>
        <p:spPr>
          <a:xfrm>
            <a:off x="47520" y="836640"/>
            <a:ext cx="5819760" cy="602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08000" y="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884920" y="968400"/>
            <a:ext cx="32590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f0f5"/>
                </a:solidFill>
                <a:latin typeface="Times New Roman CYR"/>
              </a:rPr>
              <a:t>Неосложненная беременность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Расширение просветов спиральных артерий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Отсутствие мышечного спаз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Атромботичное состояние эндотел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+ отсутств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гиперкоагуля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Наилучшие условия для циркуляции крови  и газообмена в фето-плацентарной систем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4427640" y="3716280"/>
            <a:ext cx="1512720" cy="144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4:39:48Z</dcterms:created>
  <dc:creator>Сизихин + Ковалев</dc:creator>
  <dc:description/>
  <cp:keywords>Родовспоможение</cp:keywords>
  <dc:language>en-US</dc:language>
  <cp:lastModifiedBy>LEGION</cp:lastModifiedBy>
  <dcterms:modified xsi:type="dcterms:W3CDTF">2015-11-27T12:47:58Z</dcterms:modified>
  <cp:revision>257</cp:revision>
  <dc:subject>Доклад</dc:subject>
  <dc:title>ИТОГИ РАБОТЫ УСПЕХИ И НЕУДАЧИ</dc:title>
</cp:coreProperties>
</file>