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63985D-36ED-486C-8D74-50D19F55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илпировиноград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лигоф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Фёллинг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нилпировиноград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олигофр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Фёллинг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Микробиологический метод определения концентрации фенилаланина в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следование дет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Микробиологический метод определения концентрации фенилаланин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Проба Фёллинга 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альнейшем определяют количественное содержание фенилаланина в крови и моче(хроматография аминокислот), , это  исследование с помощью специальных анализато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сть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сть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езнь наследуется по рецессивному типу (т.е. болеют сестры и братья из одной семьи, а родители здоровы, хотя и являются гетерозиготными носителями гена ФКУ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етотерап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ню для детей составляется 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етотерап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ключ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ню для детей составляется из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руктов, овощей, крахмальных изделий, жиров, со строгим учетом содержания в них фенилаланина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D мил ФКУ-0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MD мил ФКУ-0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1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1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2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2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детей в возрасте от 1 г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MD мил ФКУ-3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MD мил ФКУ-3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ечебное питание на основе аминокислот без фенилалина, предназначенное для питания больных фенилкетонурией - детей старше 1 года, взрослых и беременных женщ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2% случаев - умственная отста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73% случаев - микроцефа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% случаев - врождённые пороки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40% случаев - низкая масса тела при ро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92% случаев - умственная отстал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73% случаев - микроцефал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12% случаев - врождённые пороки сердц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40% случаев - низкая масса тела при рожден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фенилкетонури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енатальная диагностика в «семьях высокого рис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филактика фенилкетонури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. Большое значение имеет специальное наблюдение за «семьями риска».                                                               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. Пренатальная диагностика в «семьях высокого риск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и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кратова В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харев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онская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бан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ачева А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липалова И.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селева М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тохо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ькова Я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а Н.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боту выполнил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нкратова В.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ухарева М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ионская Н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убанова Н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гачева А.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Чилипалова И.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иселева М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хо И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лькова Я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трова Н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нилкетонур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енилкетонур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О.Бадалян «Невропатология» М. –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раткая медицинская энциклопедия» Гл. редактор Б.В. Петровский М. – 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А. Самсонов «Основы генетики в дефектологии» М. – 19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М. Мастюкова, А.Г. Московкина «Основы генетики» м. –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ame66.ru/zdorovya_baby/-fenilketonuriy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medactiv.ru/yguide/f/guide-f-0059.s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уем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.О.Бадалян «Невропатология» М. –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раткая медицинская энциклопедия» Гл. редактор Б.В. Петровский М. – 199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.А. Самсонов «Основы генетики в дефектологии» М. –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.М. Мастюкова, А.Г. Московкина «Основы генетики» м. –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mame66.ru/zdorovya_baby/-fenilketonuriy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http://www.medactiv.ru/yguide/f/guide-f-0059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положение гена в хромосоме (локус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q 22 – 24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р  15,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естоположение гена в хромосоме (локус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2 q 22 – 24,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 р  15,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Этиология и патогене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тиология и патогенез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ие 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ти белокурые со светлой кожей и голубыми гла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асто отмечаются экзема, дермат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оча и пот имеют « заплесневелый», «мышиный», «волчий» з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ыстрое и чрезмерное прибавление в весе, однако остаются рыхлыми, вя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Физические призна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ти белокурые со светлой кожей и голубыми глаз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часто отмечаются экзема, дермат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оча и пот имеют « заплесневелый», «мышиный», «волчий» за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быстрое и чрезмерное прибавление в весе, однако остаются рыхлыми, вялы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 у большинства рано зарастает большой родничок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патологически отме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ственная отсталость( 65% - глубокая, 31.8% - умеренная и 3.2% - лег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ниман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звукопроиз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сихопатологически отмеч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мственная отсталость( 65% - глубокая, 31.8% - умеренная и 3.2% - лег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пониман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звукопроизно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ческая симптома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пилептиформные прип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мышечного то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ая координация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еврологическая симптомат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пилептиформные припад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ушение мышечного тон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охая координация движ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тройства п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пассивны, вялы, плохо узнают близких, оживляются при упоминании о 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асстройства повед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ти пассивны, вялы, плохо узнают близких, оживляются при упоминании о е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логоанатомически обнаружи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лая масса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пигментация черной субста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атологоанатомически обнаружива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малая масса моз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депигментация черной субстан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FC7-234D-493A-98DC-30745142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E47-C31E-4D23-82AA-360A397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D94-CCF6-4B9D-B036-8E601D6F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D61-0CFF-4CF6-8CCC-12DD5783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2D0-68F6-4D3F-A446-2E465874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D0EE-A976-4E9A-9132-C37F6739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1416-8549-418C-83AD-EE45269C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A39-3031-4FFD-843E-07014A52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9ED6-F072-4BF1-A2F9-8AFE0D72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A74-E1D2-494A-8320-298F66A2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8B7C-5D72-4B3F-A641-87D526B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266-86C2-45DD-90E5-09FA75F8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4EED-0DF5-44ED-82E5-A6B70ED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ADE8-3531-4418-8ECD-1039F2A7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1885-20B6-48B5-A769-A89B34D6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7A60-A99B-4C1D-BD1B-1A174F7A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712E-A1A6-4816-BAE2-23737A02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5FF-C64B-4FD0-A2E8-00260E4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102-D970-4A6B-9410-B894182D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F12-D76C-428B-A4E5-ECC3A6F7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5D9-4A16-4AD8-AF74-B67119BC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1BB-84A7-4530-9C8C-0EBD6ED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B13-C130-44EA-BAC0-B4CE5EE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EF7-64B0-4C6C-ABC4-CBFA8D38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B2FA87-7179-46C0-8D18-059D911E4919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pl-PL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b5a989"/>
                </a:solidFill>
                <a:latin typeface="Gill Sans M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8F27E8D-52DC-484C-A50F-F0AF7ECA91B7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6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vatarko.ru/kartinka.php?id=770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vatarko.ru/kartinka.php?id=208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nfagroupp.ru/fku/index.php?option=com_content&amp;task=view&amp;id=19&amp;Itemid=11" TargetMode="External"/><Relationship Id="rId3" Type="http://schemas.openxmlformats.org/officeDocument/2006/relationships/hyperlink" Target="http://www.enfagroupp.ru/fku/index.php?option=com_content&amp;task=view&amp;id=19&amp;Itemid=11" TargetMode="External"/><Relationship Id="rId4" Type="http://schemas.openxmlformats.org/officeDocument/2006/relationships/hyperlink" Target="http://www.enfagroupp.ru/fku/index.php?option=com_content&amp;task=view&amp;id=19&amp;Itemid=11" TargetMode="External"/><Relationship Id="rId5" Type="http://schemas.openxmlformats.org/officeDocument/2006/relationships/hyperlink" Target="http://www.enfagroupp.ru/fku/index.php?option=com_content&amp;task=view&amp;id=19&amp;Itemid=11" TargetMode="External"/><Relationship Id="rId6" Type="http://schemas.openxmlformats.org/officeDocument/2006/relationships/hyperlink" Target="http://www.enfagroupp.ru/fku/index.php?option=com_content&amp;task=view&amp;id=19&amp;Itemid=11" TargetMode="External"/><Relationship Id="rId7" Type="http://schemas.openxmlformats.org/officeDocument/2006/relationships/hyperlink" Target="http://www.enfagroupp.ru/fku/index.php?option=com_content&amp;task=view&amp;id=19&amp;Itemid=11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0&amp;Itemid=11" TargetMode="External"/><Relationship Id="rId2" Type="http://schemas.openxmlformats.org/officeDocument/2006/relationships/hyperlink" Target="http://www.enfagroupp.ru/fku/index.php?option=com_content&amp;task=view&amp;id=20&amp;Itemid=11" TargetMode="External"/><Relationship Id="rId3" Type="http://schemas.openxmlformats.org/officeDocument/2006/relationships/hyperlink" Target="http://www.enfagroupp.ru/fku/index.php?option=com_content&amp;task=view&amp;id=20&amp;Itemid=11" TargetMode="External"/><Relationship Id="rId4" Type="http://schemas.openxmlformats.org/officeDocument/2006/relationships/hyperlink" Target="http://www.enfagroupp.ru/fku/index.php?option=com_content&amp;task=view&amp;id=20&amp;Itemid=11" TargetMode="External"/><Relationship Id="rId5" Type="http://schemas.openxmlformats.org/officeDocument/2006/relationships/hyperlink" Target="http://www.enfagroupp.ru/fku/index.php?option=com_content&amp;task=view&amp;id=20&amp;Itemid=11" TargetMode="External"/><Relationship Id="rId6" Type="http://schemas.openxmlformats.org/officeDocument/2006/relationships/hyperlink" Target="http://www.enfagroupp.ru/fku/index.php?option=com_content&amp;task=view&amp;id=20&amp;Itemid=11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nfagroupp.ru/fku/index.php?option=com_content&amp;task=view&amp;id=21&amp;Itemid=11" TargetMode="External"/><Relationship Id="rId2" Type="http://schemas.openxmlformats.org/officeDocument/2006/relationships/hyperlink" Target="http://www.enfagroupp.ru/fku/index.php?option=com_content&amp;task=view&amp;id=21&amp;Itemid=11" TargetMode="External"/><Relationship Id="rId3" Type="http://schemas.openxmlformats.org/officeDocument/2006/relationships/hyperlink" Target="http://www.enfagroupp.ru/fku/index.php?option=com_content&amp;task=view&amp;id=21&amp;Itemid=11" TargetMode="External"/><Relationship Id="rId4" Type="http://schemas.openxmlformats.org/officeDocument/2006/relationships/hyperlink" Target="http://www.enfagroupp.ru/fku/index.php?option=com_content&amp;task=view&amp;id=21&amp;Itemid=11" TargetMode="External"/><Relationship Id="rId5" Type="http://schemas.openxmlformats.org/officeDocument/2006/relationships/hyperlink" Target="http://www.enfagroupp.ru/fku/index.php?option=com_content&amp;task=view&amp;id=21&amp;Itemid=11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14320" y="428760"/>
            <a:ext cx="7004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66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6600"/>
            </a:br>
            <a:endParaRPr b="0" lang="ru-RU" sz="6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071720"/>
            <a:ext cx="7790400" cy="55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КУ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финилпировиноградная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 олигофрени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Gill Sans MT"/>
              </a:rPr>
              <a:t>болезнь Фёллинга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7" descr="C:\Documents and Settings\Администратор\Рабочий стол\фенилкет. фото\big_1180522713_.jpg"/>
          <p:cNvPicPr/>
          <p:nvPr/>
        </p:nvPicPr>
        <p:blipFill>
          <a:blip r:embed="rId1"/>
          <a:stretch/>
        </p:blipFill>
        <p:spPr>
          <a:xfrm>
            <a:off x="5429160" y="3571920"/>
            <a:ext cx="2714400" cy="299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Обследование детей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43000" y="1000080"/>
            <a:ext cx="800064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се новорожденные обследуются по специальным программам скрининга на повышение концентрации фенилаланина. Использу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1.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Микробиологический метод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определения концентрации фенилаланина в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2.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Проба Фёллинга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на фенилпировидноградную кислоту в моче (берется 5%  раствор треххлористого железа и уксусной кислоты и прибавляется несколько капель к моче, появление зеленой окраски говорит о положительной реакции на фенилалан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В дальнейшем определяют </a:t>
            </a:r>
            <a:r>
              <a:rPr b="1" i="1" lang="ru-RU" sz="2400" spc="-1" strike="noStrike">
                <a:solidFill>
                  <a:srgbClr val="361309"/>
                </a:solidFill>
                <a:latin typeface="Gill Sans MT"/>
              </a:rPr>
              <a:t>количественное содержание фенилаланина в крови и моче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(хроматография аминокислот),</a:t>
            </a:r>
            <a:r>
              <a:rPr b="1" lang="ru-RU" sz="24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361309"/>
                </a:solidFill>
                <a:latin typeface="Gill Sans MT"/>
              </a:rPr>
              <a:t>, это  исследование с помощью специальных ан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778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Наследственность: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786168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Болезнь наследуется по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рецессивному типу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(т.е. болеют сестры и братья из одной семьи, а родители здоровы, хотя и являются гетерозиготными носителями гена ФКУ)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1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3400" spc="-1" strike="noStrike">
                <a:solidFill>
                  <a:srgbClr val="000000"/>
                </a:solidFill>
                <a:latin typeface="Gill Sans MT"/>
              </a:rPr>
              <a:t>Ген фенилкетонурии встречается в среднем у 1-2 на 100 человек, но болезнь может возникнуть лишь в том случае, если и мать и отец ребенка являются носителями этого гена, и ребенок унаследует его в двойном наборе. Поэтому болезнь встречается значительно реже, чем распространен ген. Больные ФКУ (обладатели двух патологических генов) могут иметь детей с фенилкетонурией только при вступлении в брак с носителями таких же генов. При вступлении в брак с лицами свободными от гена ФКУ, дети не болеют этим заболеванием.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5680" y="1429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Gill Sans MT"/>
              </a:rPr>
              <a:t>Диетотерапия: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8571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5200" spc="-1" strike="noStrike" u="sng">
                <a:solidFill>
                  <a:srgbClr val="ff0000"/>
                </a:solidFill>
                <a:uFillTx/>
                <a:latin typeface="Gill Sans MT"/>
              </a:rPr>
              <a:t>Исключить:</a:t>
            </a:r>
            <a:endParaRPr b="0" lang="ru-RU" sz="52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мясо, колбасы, рыбу, бульоны, яйца, творог, сыр, мучные изделия, каши из естественных круп, фасоль, орехи, шоколад.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ill Sans MT"/>
              </a:rPr>
              <a:t>Меню для детей составляется из: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Gill Sans MT"/>
              </a:rPr>
              <a:t>фруктов, овощей, крахмальных изделий, жиров, со строгим учетом содержания в них фенилаланина. </a:t>
            </a: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  <a:p>
            <a:pPr marL="32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70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endParaRPr b="0" lang="ru-RU" sz="7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Картинка зелёное яблок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557208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Ананас авата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072040"/>
            <a:ext cx="952200" cy="95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9000"/>
          </a:bodyPr>
          <a:p>
            <a:pPr indent="0" algn="ctr">
              <a:lnSpc>
                <a:spcPct val="100000"/>
              </a:lnSpc>
              <a:buNone/>
            </a:pPr>
            <a:br>
              <a:rPr sz="4300"/>
            </a:br>
            <a:r>
              <a:rPr b="1" i="1" lang="ru-RU" sz="4900" spc="-1" strike="noStrike" u="sng">
                <a:solidFill>
                  <a:srgbClr val="ff0000"/>
                </a:solidFill>
                <a:uFillTx/>
                <a:latin typeface="Gill Sans MT"/>
              </a:rPr>
              <a:t>MD мил ФКУ-0»</a:t>
            </a:r>
            <a:br>
              <a:rPr sz="4900"/>
            </a:br>
            <a:endParaRPr b="0" lang="ru-RU" sz="4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0080" y="1447920"/>
            <a:ext cx="814356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chemeClr val="accent4"/>
                </a:solidFill>
                <a:uFillTx/>
                <a:latin typeface="Gill Sans MT"/>
              </a:rPr>
              <a:t>   </a:t>
            </a:r>
            <a:r>
              <a:rPr b="0" i="1" lang="ru-RU" sz="3200" spc="-1" strike="noStrike" u="sng">
                <a:solidFill>
                  <a:srgbClr val="92d050"/>
                </a:solidFill>
                <a:uFillTx/>
                <a:latin typeface="Gill Sans MT"/>
              </a:rPr>
              <a:t>Лечебное питание на основе аминокислот без фениланина, предназначенное для вскармливания детей, больных фенилкетонурией первого года жизн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Рисунок 3" descr="http://www.enfagroupp.ru/images/stories/products/banka_small_fku0.jpg"/>
          <p:cNvPicPr/>
          <p:nvPr/>
        </p:nvPicPr>
        <p:blipFill>
          <a:blip r:embed="rId1"/>
          <a:stretch/>
        </p:blipFill>
        <p:spPr>
          <a:xfrm>
            <a:off x="5357880" y="4143240"/>
            <a:ext cx="2571480" cy="271440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1»</a:t>
            </a:r>
            <a:br>
              <a:rPr sz="4300"/>
            </a:b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7" name="Содержимое 3" descr="http://www.enfagroupp.ru/images/stories/products/banka_small_fku1.jpg"/>
          <p:cNvPicPr/>
          <p:nvPr/>
        </p:nvPicPr>
        <p:blipFill>
          <a:blip r:embed="rId1"/>
          <a:stretch/>
        </p:blipFill>
        <p:spPr>
          <a:xfrm>
            <a:off x="5643720" y="3929040"/>
            <a:ext cx="2499840" cy="261720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1143000" y="928800"/>
            <a:ext cx="771480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6"/>
              </a:rPr>
              <a:t> детей </a:t>
            </a:r>
            <a:r>
              <a:rPr b="0" i="1" lang="ru-RU" sz="3200" spc="-1" strike="noStrike" u="sng">
                <a:solidFill>
                  <a:srgbClr val="93ca6d"/>
                </a:solidFill>
                <a:uFillTx/>
                <a:latin typeface="Gill Sans MT"/>
                <a:hlinkClick r:id="rId7"/>
              </a:rPr>
              <a:t>в возрасте от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5680" y="500040"/>
            <a:ext cx="749772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2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6"/>
              </a:rPr>
              <a:t> детей в возрасте от 1 год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1" name="Рисунок 3" descr="http://www.enfagroupp.ru/images/stories/products/banka_small_fku2.jpg"/>
          <p:cNvPicPr/>
          <p:nvPr/>
        </p:nvPicPr>
        <p:blipFill>
          <a:blip r:embed="rId7"/>
          <a:stretch/>
        </p:blipFill>
        <p:spPr>
          <a:xfrm>
            <a:off x="5572080" y="4286160"/>
            <a:ext cx="2285640" cy="2285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5680" y="357120"/>
            <a:ext cx="74977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«MD мил ФКУ-3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28800" y="1285920"/>
            <a:ext cx="8214840" cy="24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317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    Лечебное питание на основе аминокислот без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фенилалина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, предназначенное для питания больных 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фенилкетонурией</a:t>
            </a:r>
            <a:r>
              <a:rPr b="0" i="1" lang="ru-RU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 - детей старше 1 года, взрослых и беременных женщи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4" name="Рисунок 3" descr="http://www.enfagroupp.ru/images/stories/products/banka_small_fku3.jpg"/>
          <p:cNvPicPr/>
          <p:nvPr/>
        </p:nvPicPr>
        <p:blipFill>
          <a:blip r:embed="rId6"/>
          <a:stretch/>
        </p:blipFill>
        <p:spPr>
          <a:xfrm>
            <a:off x="5429160" y="4000680"/>
            <a:ext cx="2285640" cy="24285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22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и несоблюдении женщиной специфической диеты во время беременности у ребёнка возникают следующие пороки развития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3286080"/>
            <a:ext cx="8000640" cy="32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9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73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микроцефалия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12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врождённые пороки сердца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в 40% случаев -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изкая масса тела при рождении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360" y="142920"/>
            <a:ext cx="786168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Gill Sans MT"/>
              </a:rPr>
              <a:t>Профилактика фенилкетонурии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1360" y="714240"/>
            <a:ext cx="786168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1. Большое значение имеет специальное наблюдение за «семьями риска».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оворожденные из этих семей должны быть подвергнуты обязательному биохимическому исследованию и при показаниях к раннему лечению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2. Внедрение программ массового скрининга новорожденных для раннего выявления ФКУ и своевременного назначения диетотерапии.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1" i="1" lang="ru-RU" sz="2400" spc="-1" strike="noStrike">
                <a:solidFill>
                  <a:srgbClr val="000000"/>
                </a:solidFill>
                <a:latin typeface="Gill Sans MT"/>
              </a:rPr>
              <a:t>3. Пренатальная диагностика в «семьях высокого риска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9" name="Picture 7" descr="C:\Documents and Settings\Администратор\Рабочий стол\фенилкет. фото\66304.jpg"/>
          <p:cNvPicPr/>
          <p:nvPr/>
        </p:nvPicPr>
        <p:blipFill>
          <a:blip r:embed="rId1"/>
          <a:stretch/>
        </p:blipFill>
        <p:spPr>
          <a:xfrm>
            <a:off x="3929040" y="4286160"/>
            <a:ext cx="278568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5680" y="714240"/>
            <a:ext cx="74977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Gill Sans MT"/>
              </a:rPr>
              <a:t>Работу выполнили:</a:t>
            </a: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анкратова В.С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ухарева М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ионская Н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Зубанова Н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огачева А.Н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Чилипалова И.С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Киселева М.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Святохо И.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Белькова Я.В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Петрова Н.Л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2440" y="0"/>
            <a:ext cx="740628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Gill Sans MT"/>
              </a:rPr>
              <a:t>Фенилкетонур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32440" y="3500280"/>
            <a:ext cx="7406280" cy="31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99000"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следственное заболевание обмена одной из важных  аминокислот (фенилаланина), в связи с недостатком или полным отсутствием необходимого для обмена фермента. Это  приводит к накоплению в организме особо токсичных  веществ, поражающих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фенилкетонурия"/>
          <p:cNvPicPr/>
          <p:nvPr/>
        </p:nvPicPr>
        <p:blipFill>
          <a:blip r:embed="rId1"/>
          <a:stretch/>
        </p:blipFill>
        <p:spPr>
          <a:xfrm>
            <a:off x="2714760" y="714240"/>
            <a:ext cx="4785840" cy="278568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ff0000"/>
                </a:solidFill>
                <a:uFillTx/>
                <a:latin typeface="Gill Sans MT"/>
              </a:rPr>
              <a:t>Используемая литература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Л.О.Бадалян «Невропатология» М. – 2003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«Краткая медицинская энциклопедия» Гл. редактор Б.В. Петровский М. – 199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Ф.А. Самсонов «Основы генетики в дефектологии» М. – 1980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А.Ю. Асанов, Н.С.Демикова, С.А. Морозов «Основы генетики и наследственные нарушения у детей» М 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Е.М. Мастюкова, А.Г. Московкина «Основы генетики» м. – 200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mame66.ru/zdorovya_baby/-fenilketonuriya/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44160" indent="-2664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3200" spc="-1" strike="noStrike">
                <a:solidFill>
                  <a:srgbClr val="000000"/>
                </a:solidFill>
                <a:latin typeface="Gill Sans MT"/>
              </a:rPr>
              <a:t>http://www.medactiv.ru/yguide/f/guide-f-0059.shtml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6957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6000" spc="-1" strike="noStrike">
                <a:solidFill>
                  <a:srgbClr val="572314"/>
                </a:solidFill>
                <a:latin typeface="Gill Sans MT"/>
              </a:rPr>
              <a:t>Местоположение гена в хромосоме (локус)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32440" y="3286080"/>
            <a:ext cx="74062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12 q 22 – 24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,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en-US" sz="7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0" lang="ru-RU" sz="7200" spc="-1" strike="noStrike">
                <a:solidFill>
                  <a:srgbClr val="c00000"/>
                </a:solidFill>
                <a:latin typeface="Calibri"/>
              </a:rPr>
              <a:t>р  15,3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49772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Этиология и патогенез: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214280" y="1357200"/>
            <a:ext cx="7786440" cy="52146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Физические признаки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0080" y="928800"/>
            <a:ext cx="8143560" cy="5928840"/>
          </a:xfrm>
          <a:prstGeom prst="rect">
            <a:avLst/>
          </a:prstGeom>
          <a:noFill/>
          <a:ln w="0">
            <a:solidFill>
              <a:srgbClr val="3891a7"/>
            </a:solidFill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дети белокурые со светлой кожей и голубыми глаза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часто отмечаются экзема, дерматиты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моча и пот имеют « заплесневелый», «мышиный», «волчий» запах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быстрое и чрезмерное прибавление в весе, однако остаются рыхлыми, вялы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 у большинства рано зарастает большой родничок                                                                      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2" name="Picture 2" descr="C:\Documents and Settings\Администратор\Рабочий стол\фенилкет. фото\i.jpeg"/>
          <p:cNvPicPr/>
          <p:nvPr/>
        </p:nvPicPr>
        <p:blipFill>
          <a:blip r:embed="rId1"/>
          <a:stretch/>
        </p:blipFill>
        <p:spPr>
          <a:xfrm>
            <a:off x="5072040" y="4143240"/>
            <a:ext cx="2785680" cy="2356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Администратор\Рабочий стол\фенилкет. фото\images.jpeg"/>
          <p:cNvPicPr/>
          <p:nvPr/>
        </p:nvPicPr>
        <p:blipFill>
          <a:blip r:embed="rId2"/>
          <a:stretch/>
        </p:blipFill>
        <p:spPr>
          <a:xfrm>
            <a:off x="1643040" y="4214880"/>
            <a:ext cx="264276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5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сихопатологически отмеч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1360" y="1143000"/>
            <a:ext cx="7861680" cy="54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Умственная отсталость( 65% - глубокая, 31.8% - умеренная и 3.2% - легкая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Недоразвитие речи (ее или совсем нет, или есть отдельные слова, которые больные не соотносят с объектом), т.е. нарушено: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понимание реч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- звукопроизношение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6" name="Picture 4" descr="C:\Documents and Settings\Администратор\Рабочий стол\фенилкет. фото\12.jpg"/>
          <p:cNvPicPr/>
          <p:nvPr/>
        </p:nvPicPr>
        <p:blipFill>
          <a:blip r:embed="rId1"/>
          <a:stretch/>
        </p:blipFill>
        <p:spPr>
          <a:xfrm>
            <a:off x="4429080" y="3143160"/>
            <a:ext cx="4714560" cy="37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790400" cy="12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ill Sans MT"/>
              </a:rPr>
              <a:t>Неврологическая симптоматика: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1360" y="1285920"/>
            <a:ext cx="786168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Эпилептиформные припадк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Нарушение мышечного тону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Плохая координация движени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Много стереотипии, часты другие знаки экстрапирамидной недостаточности (атетоидные, хореиформные движ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9" name="Picture 2" descr="C:\Documents and Settings\Администратор\Рабочий стол\Изображение\Изображение 002.jpg"/>
          <p:cNvPicPr/>
          <p:nvPr/>
        </p:nvPicPr>
        <p:blipFill>
          <a:blip r:embed="rId1"/>
          <a:stretch/>
        </p:blipFill>
        <p:spPr>
          <a:xfrm>
            <a:off x="3429000" y="4214880"/>
            <a:ext cx="5444640" cy="23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5680" y="0"/>
            <a:ext cx="74977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Расстройства поведени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0080" y="785880"/>
            <a:ext cx="793332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вигательное беспокойство, целенаправленные, неуправляемые перемещения от объекта к объекту, бесцельные манипуляции с предметам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Gill Sans MT"/>
              </a:rPr>
              <a:t>ил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ill Sans MT"/>
              </a:rPr>
              <a:t>Дети пассивны, вялы, плохо узнают близких, оживляются при упоминании о еде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2" name="Picture 2" descr="C:\Documents and Settings\Администратор\Рабочий стол\Изображение\Изображение 001.jpg"/>
          <p:cNvPicPr/>
          <p:nvPr/>
        </p:nvPicPr>
        <p:blipFill>
          <a:blip r:embed="rId1"/>
          <a:stretch/>
        </p:blipFill>
        <p:spPr>
          <a:xfrm>
            <a:off x="3357720" y="3286080"/>
            <a:ext cx="271440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300" spc="-1" strike="noStrike" u="sng">
                <a:solidFill>
                  <a:srgbClr val="c00000"/>
                </a:solidFill>
                <a:uFillTx/>
                <a:latin typeface="Gill Sans MT"/>
              </a:rPr>
              <a:t>Патологоанатомически обнаруживается: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32440" y="2214720"/>
            <a:ext cx="740628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малая масс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фекты миелинезации в коре больших полушарии( особенно в лобных и височных долях), и других структурах (внутренняя капсула, зрительные проводящие пу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 </a:t>
            </a:r>
            <a:r>
              <a:rPr b="0" i="1" lang="ru-RU" sz="3200" spc="-1" strike="noStrike">
                <a:solidFill>
                  <a:srgbClr val="361309"/>
                </a:solidFill>
                <a:latin typeface="Gill Sans MT"/>
              </a:rPr>
              <a:t>- депигментация черной субст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83</TotalTime>
  <Application>LibreOffice/7.4.7.2$Linux_X86_64 LibreOffice_project/40$Build-2</Application>
  <AppVersion>15.0000</AppVersion>
  <Words>1764</Words>
  <Paragraphs>2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59:16Z</dcterms:created>
  <dc:creator>HP</dc:creator>
  <dc:description/>
  <dc:language>en-US</dc:language>
  <cp:lastModifiedBy>LEGION</cp:lastModifiedBy>
  <dcterms:modified xsi:type="dcterms:W3CDTF">2015-11-27T12:48:05Z</dcterms:modified>
  <cp:revision>47</cp:revision>
  <dc:subject/>
  <dc:title>Фенилкетонурия  - ФКУ   - финилпировиноградная олигофрения, болезнь Феллин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