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1800" y="1116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774960" y="1116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-1800" y="933444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B9E1AEF-BC0E-44B4-BEA8-9D54F804B3A9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Img"/>
          </p:nvPr>
        </p:nvSpPr>
        <p:spPr>
          <a:xfrm>
            <a:off x="883800" y="73800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897520" y="939852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C5E-7882-42ED-ADCE-B2C40D603C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ДЕТСКИЕ БОЛЕЗНИ»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 КУР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    ИЗУЧЕНИЕ ТИПИЧНОГО ТЕ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ПАТ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ОРЕТИЧЕСК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ЕТИЧЕСКОЕ ЗНАКОМСТВО С ОСНОВНЫМИ НОЗОЛОГ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АЯ ДИАГНОСТИКА И ЛЕЧЕНИЕ ЗАБОЛЕ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ЦИПЛИН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«ДЕТСКИЕ БОЛЕЗНИ»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4 КУР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ЦЕЛЬ:     ИЗУЧЕНИЕ ТИПИЧНОГО ТЕЧЕН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НОВНОЙ ПАТОЛОГ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ирусно-бактериальное воспаление вс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, бронхоспазмом, каш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бронхитов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просто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ирующ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обструктивны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вирусно-бактериальное воспаление вс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, бронхоспазмом, кашл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ассификация бронхитов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т в циф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асто устанавливаемый диагноз  врачами общей практики в 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ы по бронхиту в США составляют от 200 до 300 млн. долла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протекают в виде острого обструктивного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т в цифр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АЛЬ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ЗИТАРНАЯ 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 распространяются при чихании, кашле разгово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ножение виру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ель клетки, выход вирусов и заражение нов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 распространяются при чихании, кашле разговоре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никновение вируса в клетку слизистой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змножение вирус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бель клетки, выход вирусов и заражение нов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среды - поллю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функция реснитчат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рритативное действие на эпителиальную клет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русно-бактериальные ассоци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грануляция тучных кле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 БРОНХ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бной фл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вязкости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акторы среды - поллютан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сфункция реснитчат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рритативное действие на эпителиальную клетку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русно-бактериальные ассоци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грануляция тучных клеток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 БРОНХИ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л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икробной фл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ышение вязкости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йерная лента мерцательного эпите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глот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родное т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ь З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розн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изистая железист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мембр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нич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лизистая желе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етка Бех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альная кле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онвейерная лента мерцательного эпител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 глотк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ородное тел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ль Зо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розн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лизистая железист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мембра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снич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дслизистая желез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етка Бехе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азальная клет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мукоцилиарного транспорта при бронх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олщение гель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ньшение фазы з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медиаторов воспа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ь колонизации возбу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едление или остановка мукоцилиарного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мукоцилиарного транспорта при бронхит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толщение гель фаз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меньшение фазы зо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йствие медиаторов воспа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ость колонизации возбудител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медление или остановка мукоцилиарного транспор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3920" cy="36781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720" y="4659120"/>
            <a:ext cx="5329440" cy="44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висит от этиолог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з острый бронхит ставится клиническ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зависит от этиологии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агноз острый бронхит ставится клинически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ы интокс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ш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средней тяже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а обстру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альная симметрия: легочный (коробочный) звук, нестойкие разнообразные хри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мограмма – не характер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ЗОЛОГИЧЕСКАЯ  ДИАГНОСТ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не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ф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и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БОЛЕЗН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ОВ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 ПРЕДРАСПОЛОЖ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ОЗОЛОГИЧЕСКАЯ  ДИАГНОСТИК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гноз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ЕНЕЗИС БОЛЕЗНЕЙ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зорная рентгенограмма грудной клетки в прямой про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структивный бронхит –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ющий с синдромом об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ция (лат. obstructio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града, поме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обструктивный синдром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бронхиальной проход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-25% бронхитов у детей протекают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м синдром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у детей 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шумное дых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дистанционны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хрипы   преимущественно на выдох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структивный бронхит –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ющий с синдромом обстру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ция (лат. obstructio)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обструктивный синдром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рушение бронхиальной проходим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шумное дыха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ОЛИТ –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сквамация эпителия мелких брон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брин, слизь - образуют пробки - обту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выраженн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раздувание крыльев н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экспиратор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об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ОЛИТ –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ражение терминальных бронхов у  детей первых месяцев жизни  с выраженным синдромом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сквамация эпителия мелких бронхов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брин, слизь - образуют пробки - обтур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выраженн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ОБЛИТЕРИРУЮЩИЙ БРОНХИОЛИТ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терация  (лат. obliteratio – прекращение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щение полости или просвет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З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экссудата и гранулематозной тка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блитерацией прос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ДИАГНОСТИ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грессирующая Д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смешанная оды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аускультативно - асимметр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пуз. и крепитирующие хр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затягивание обструкции до 1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«ватное» легкое на рентгенограм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50% смерть в остром периоде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ОБЛИТЕРИРУЮЩИЙ БРОНХИОЛИТ</a:t>
            </a:r>
            <a:br>
              <a:rPr sz="1000"/>
            </a:b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литерация  (лат. obliteratio – прекращение)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1000"/>
            </a:b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З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рганизация экссудата и гранулематозной ткан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 облитерацией просвет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прогрессирующая Д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ИЙ БРОНХИТ -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й бронхит, повторяющий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3-х  раз  в  год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РАСПОЛАГАЮЩИ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ий о дошкольный возра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. очаги 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зогенные вли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ый РБ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рационный синдр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малии развития бронхолегоч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ИЙ БРОНХИТ - 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й бронхит, повторяющийся 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е 3-х  раз  в  году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ЛЕЧЕНИЯ БРОНХИТ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 домаш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ет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 – противовирусные препараты, антибио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птоматическая терапия  - сопутствующая терапия, жаропонижающ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амбулато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НЦИПЫ ЛЕЧЕНИЯ БРОНХИТА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к правило, амбулатор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отропн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НИЯ    К АНТИБАКТЕРИАЛЬНОЙ ТЕРАП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ый синдром интоксика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термия более 3 дне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труктивный синдром, бронхиол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раннего возрас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 те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Этиотропн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ирусные препараты в начале заболевания (Арбидол, Реаферон ЕС липинт, Амиксин, Циклоферон, Орвирем, Ремантадин, гомеопатические – оциллококцинум, анаферон, афлубин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биотики (защищенные пенициллины – Аомксиклав, Аугментин; макролиды – азитромицин, кларитромицин, рокстримицин)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КАЗАНИЯ    К АНТИБАКТЕРИАЛЬНОЙ ТЕРАПИИ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ый синдром интоксикации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ипертермия более 3 дней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структивный синдром, бронхиолит,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ети раннего возраста,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 течен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ОГЕНЕТИЧЕСКАЯ 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нгаляции через небулайзер будесонидом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(пульмикорт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низолон в/м в дозе 1-2 мг/кг/сут, возможно до 5-10 мг/кг из расчета 10-12 мг/кг/су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люкокортикоиды при выраженной дыхательной недостаточности – местно (в виде аэрозолей) и в виде инъекций с быстрой отменой по мере купирования обструкции бронхиол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нгаляции через небулайзер будесонидом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(пульмикорт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преднизолон в/м в дозе 1-2 мг/кг/сут, возможно до 5-10 мг/кг из расчета 10-12 мг/кг/сут.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центральн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УПРЕКС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Окселадин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УССИН ПЛЮС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Декстрометорфан в комбинации с гвайфенизино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ЛАУВЕНТ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Глауцин гидрохлор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ЛИБЕК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Преноксиндиазин гидрохлорид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ОПТУССИН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имират натрия в комбинации с гвайфенизи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ИНЕКОД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(Бутамират цитра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ОЛИТ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000"/>
            </a:b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запное начало, на фоне полного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женное (манифестное)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врем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ая этап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клинико-морфо-функциональное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ход к затяжному теч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ЯЖН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рожденные и наследственные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благоприят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орбидный ф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кологическая и социаль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обстановка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меющиеся хроническ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раст б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достаточное 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манифестное проя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сть превышает сроки обычного выздоро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выздоровление, хро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ТЯЖН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естно-анестезир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Увлажняющие слизист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раназально или эндобронхиально применение теплого физиологического рас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1. Местно-анестезирующи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(бензокаин, циклаин, тетракаин) –только в условиях стационара при проведении бронхоскопии или бронхограф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2. Увлажняющие слизист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волакивающи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. Обволакивающие –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Отхаркивающие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. Отхаркивающие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) рефлекторного действия (со слизистой оболочки желудка – трава термопсиса, тимьяна, корни примулы, плющ, солодка и др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кашлевые препараты периферического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Муколитик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рошо разжижают бронхиальный секрет за счет изменения структуры сли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е увеличивают её объ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ЦЕТИЛЦИСТЕИН (АЦЦ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БОЦИСТЕИН (Бронхокод, Флюдитек, Либексин Мук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МГЕКС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БРОКСОЛА ГИДРОХЛОРИД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(амброгексал, лазалван, амбробен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. Муколитики –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000"/>
            </a:b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000"/>
            </a:b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араты с опосредованным противокашлевым действ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гистаминные (II, III покол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дилятаторы (Сальбутамол, беродуал, эуфиллин и др.), атропин – нежел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отечные (деконгестанты – Ферфекс, Колдрекс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ые (фенспирина гидрохлорид – Эреспал, ИГК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параты с опосредованным противокашлевым действием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гистаминные (II, III поколения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атропин – нежелательно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ФИТОТЕРАПИИ В ЛЕЧЕНИИ КАШ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гармонизирующий с природой метод 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ительные вещества более естественно включаются в обменные процес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ая переносимость, редкое развитие побочных эфф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каждому, эффективность ее зависит от опыта вр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СТО ФИТОТЕРАПИИ В ЛЕЧЕНИИ КАШЛ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ипр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кретолитическ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воспал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вирус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микроб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холитическое 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ипр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казывает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екретолитическ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воспалитель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тивирус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ивомикробно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ронхолитическое действ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ОТЕРА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чебная физ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ционный дрен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броционный масса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ыхательные упраж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Ч – в остр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А ТЕЧЕНИЯ БОЛЕ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ИДИВИРУЮЩЕ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яющийся острый процесс за короткий промежуток, при определенных предпосыл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 и конститу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рецидивами морфологических изменений н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хрониз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здоро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НИЧЕСКО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острого или затяж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ающийся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-12 м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рфогенезе необратимый субстрат хро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екает с периодами обострения и ре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АРАКТЕРИСТИКА ТЕЧЕНИЯ БОЛЕЗН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РЕЦИДИВИРУЮЩЕ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ХРОНИЧЕСКОЕ: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ЗАБОЛЕВАНИЙ ДЫХАТЕЛЬНОЙ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ые и хронические инфекционно-воспал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лер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 дыхательной системы, развившиеся в периоде новорожд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ые заболе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ожденные пороки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стициальные заболевания легк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ГРУППЫ ЗАБОЛЕВАНИЙ ДЫХАТЕЛЬНОЙ СИСТЕМЫ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КБ Х. БОЛЕЗНИ ОРГАНОВ ДЫХ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РОНХИТЫ  У ДЕ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uk-UA" sz="1000" spc="-1" strike="noStrike">
                <a:solidFill>
                  <a:srgbClr val="000000"/>
                </a:solidFill>
                <a:latin typeface="Times New Roman"/>
              </a:rPr>
              <a:t>БРОНХИТЫ  У ДЕ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84160" y="73836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87040" y="4659120"/>
            <a:ext cx="4886280" cy="412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томия нижнего отдела дыхательных пу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774960" y="9334440"/>
            <a:ext cx="28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Анатомия нижнего отдела дыхательных путей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О дыхательных путей у дет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ннего возра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тливая грудная клет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ое число скелетных мышечных воло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сительно узкие дыхательные пу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нкая слизистая оболочка, рыхло соединена с подслизи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ерплазия слизистых желё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ий уровень Ig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ём гладкомышечной мускул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достаточная коллатеральная вентиляция в ацинус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ная эластичность лёгочной тк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B82E-0CE5-4004-B3B9-5AE3A076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241-B4A9-4419-8A89-46C95F04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0A2-3D96-4D0F-9AF7-01C2B581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921-70FB-47DE-92CA-7F8C2388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48FC-69BD-44E9-B004-A36195F1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26A4-4236-4D51-B19D-7B8E70AE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3CE6-FB9D-4BC3-96F5-B7DB3AD7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9D2A-4003-4C48-A90C-F2212190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8ECD-79BD-4779-B44A-827936B3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36A7-A177-4B37-8932-D6797253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583-FBAF-4504-8345-F72B513B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30F-3B6B-4CAD-B066-CDD856C6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0364-59E7-4C0B-9D04-CC41559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2F88-800E-42A1-ABD6-40BFCFA6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D165-CFFD-4FAF-AC17-69404175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368A-D506-4CB8-81CC-C63178AB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A14F-8A78-4B3D-96D9-A5108167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1E6-10E8-4E7D-93CD-CE8CFF03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D25-F912-4560-B398-FDB20351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F45-2537-4A08-9C6C-4E9FEED8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687-865A-46F0-AE69-A60DE930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BBD-C314-4176-82E4-1E0BD28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A99-6434-44BD-B483-25B87949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972-0F62-45B1-8BE7-8EE5A37F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067E-A886-4C5D-B7F0-7D3D026464B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C2AF-293A-4A32-A0FB-C7E3AC72B8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290F-4634-40B5-B4EC-A38E2A2B64E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9DBD-49BC-409A-887B-0E083885AA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ИСЦИПЛИНА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«ДЕТСКИЕ БОЛЕЗНИ»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(4 КУРС)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6920" y="2492280"/>
            <a:ext cx="763272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0" lang="ru-RU" sz="1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ИЗУЧЕНИЕ ТИПИЧНОГО ТЕ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СНОВНОЙ ПАТОЛОГ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26d18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ТЕГРАЦИЯ ТЕОРЕТИЧЕСКИХ ЗН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ОРЕТИЧЕСКОЕ ЗНАКОМСТВО С ОСНОВНЫМИ НОЗОЛОГИЯ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ДИАГНОСТИКА И ЛЕЧЕНИЕ ЗАБОЛЕВА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РОНХИТ –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вирусно-бактериальное воспаление вс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уктуры бронха, преимущественно слизистой оболочки, сопровождающееся гиперсекрецией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изи, бронхоспазмом, кашлем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95280" y="2924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лассификация бронхитов у дете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76000" y="3573360"/>
            <a:ext cx="6767640" cy="27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просто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ый 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ронхиол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ирующ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бронх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цидивирующий обструктивны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онический бронх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00000" y="552600"/>
            <a:ext cx="5985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ронхит в цифрах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002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иболее часто устанавливаемый диагноз  врачами общей практики в СШ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траты по бронхиту в США составляют от 200 до 300 млн. долла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болеваемость остр. бронхитом в России 100 на 1000 детей в год (у детей от 1 до 3 лет показатель – 200, у детей первого года жизни – 7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протекают в виде острого обструктивного бронх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ЭТИОЛОГИЯ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31160" cy="45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КТЕРИАЛЬ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НО-БАКТЕРИА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ССОЦИ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АРАЗИТАРНАЯ ИНФЕ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ИМИЧЕСКИЕ ФАКТО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04"/>
          <p:cNvPicPr/>
          <p:nvPr/>
        </p:nvPicPr>
        <p:blipFill>
          <a:blip r:embed="rId1"/>
          <a:stretch/>
        </p:blipFill>
        <p:spPr>
          <a:xfrm>
            <a:off x="1403280" y="1052640"/>
            <a:ext cx="6265800" cy="4430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304920" y="42670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 распространяются при чихании, кашле разговоре.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3429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вирусы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5257800" y="1143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Проникновение вируса в клетку слизистой дыхательных пут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7238880" y="23623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Размножение вирусов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248520" y="51055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ибель клетки, выход вирусов и заражение новых клеток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2819520" y="601992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60000"/>
                </a:solidFill>
                <a:latin typeface="Arial"/>
              </a:rPr>
              <a:t>От момента заражения до появления заболевания может пройти от нескольких часов до нескольких дней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539640" y="765000"/>
            <a:ext cx="27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Факторы среды - поллютант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835280" y="2349360"/>
            <a:ext cx="51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исфункция реснитчатого эпителия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116000" y="170028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Ирритативное действие на эпителиальную клетку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356000" y="76500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Вирусно-бактериальные ассоциаци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659640" y="3789360"/>
            <a:ext cx="24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Дегрануляция тучных клеток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200400" y="580536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" descr="07"/>
          <p:cNvPicPr/>
          <p:nvPr/>
        </p:nvPicPr>
        <p:blipFill>
          <a:blip r:embed="rId1"/>
          <a:stretch/>
        </p:blipFill>
        <p:spPr>
          <a:xfrm>
            <a:off x="2050920" y="3860640"/>
            <a:ext cx="5616720" cy="2619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395280" y="1929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ПАТОГЕНЕЗ БРОНХИТА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3564000" y="907920"/>
            <a:ext cx="1141200" cy="378000"/>
          </a:xfrm>
          <a:prstGeom prst="leftRightArrow">
            <a:avLst>
              <a:gd name="adj1" fmla="val 31935"/>
              <a:gd name="adj2" fmla="val 78942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250920" y="1341360"/>
            <a:ext cx="647640" cy="720720"/>
          </a:xfrm>
          <a:custGeom>
            <a:avLst/>
            <a:gdLst>
              <a:gd name="textAreaLeft" fmla="*/ 86760 w 647640"/>
              <a:gd name="textAreaRight" fmla="*/ 560880 w 64764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8172360" y="1197000"/>
            <a:ext cx="647640" cy="792000"/>
          </a:xfrm>
          <a:custGeom>
            <a:avLst/>
            <a:gdLst>
              <a:gd name="textAreaLeft" fmla="*/ 86760 w 647640"/>
              <a:gd name="textAreaRight" fmla="*/ 560880 w 64764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3"/>
          <p:cNvSpPr/>
          <p:nvPr/>
        </p:nvSpPr>
        <p:spPr>
          <a:xfrm rot="21391200">
            <a:off x="755640" y="2060280"/>
            <a:ext cx="576360" cy="647640"/>
          </a:xfrm>
          <a:custGeom>
            <a:avLst/>
            <a:gdLst>
              <a:gd name="textAreaLeft" fmla="*/ 77040 w 576360"/>
              <a:gd name="textAreaRight" fmla="*/ 499320 w 576360"/>
              <a:gd name="textAreaTop" fmla="*/ 115560 h 647640"/>
              <a:gd name="textAreaBottom" fmla="*/ 45792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16" stAng="-5400000" swAng="-5400000"/>
                <a:lnTo>
                  <a:pt x="0" y="11412"/>
                </a:lnTo>
                <a:arcTo wR="21600" hR="7716" stAng="10800000" swAng="-2717745"/>
                <a:lnTo>
                  <a:pt x="14400" y="21159"/>
                </a:lnTo>
                <a:lnTo>
                  <a:pt x="21600" y="17280"/>
                </a:lnTo>
                <a:lnTo>
                  <a:pt x="14400" y="12519"/>
                </a:lnTo>
                <a:lnTo>
                  <a:pt x="14400" y="14991"/>
                </a:lnTo>
                <a:arcTo wR="21600" hR="7716" stAng="8082255" swAng="2415590"/>
                <a:lnTo>
                  <a:pt x="629" y="9564"/>
                </a:lnTo>
                <a:arcTo wR="21600" hR="7716" stAng="-10497845" swAng="5097845"/>
                <a:close/>
              </a:path>
              <a:path fill="darkenLess" w="21600" h="21600">
                <a:moveTo>
                  <a:pt x="21600" y="0"/>
                </a:moveTo>
                <a:arcTo wR="21600" hR="7716" stAng="-5400000" swAng="-5400000"/>
                <a:lnTo>
                  <a:pt x="0" y="7716"/>
                </a:lnTo>
                <a:arcTo wR="21600" hR="7716" stAng="10800000" swAng="-302155"/>
                <a:lnTo>
                  <a:pt x="629" y="9564"/>
                </a:lnTo>
                <a:arcTo wR="21600" hR="7716" stAng="-10497845" swAng="5097845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4"/>
          <p:cNvSpPr/>
          <p:nvPr/>
        </p:nvSpPr>
        <p:spPr>
          <a:xfrm rot="661200">
            <a:off x="7602480" y="198864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8520 h 719280"/>
              <a:gd name="textAreaBottom" fmla="*/ 50688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2722083"/>
                <a:lnTo>
                  <a:pt x="7200" y="21158"/>
                </a:lnTo>
                <a:lnTo>
                  <a:pt x="0" y="17280"/>
                </a:lnTo>
                <a:lnTo>
                  <a:pt x="7200" y="12518"/>
                </a:lnTo>
                <a:lnTo>
                  <a:pt x="7200" y="15029"/>
                </a:lnTo>
                <a:arcTo wR="21600" hR="7736" stAng="2722083" swAng="-2426689"/>
                <a:lnTo>
                  <a:pt x="21001" y="9545"/>
                </a:lnTo>
                <a:arcTo wR="21600" hR="7736" stAng="-295393" swAng="-5104607"/>
                <a:close/>
              </a:path>
              <a:path fill="darkenLess" w="21600" h="21600">
                <a:moveTo>
                  <a:pt x="0" y="0"/>
                </a:moveTo>
                <a:arcTo wR="21600" hR="7736" stAng="-5400000" swAng="5400000"/>
                <a:lnTo>
                  <a:pt x="21600" y="11354"/>
                </a:lnTo>
                <a:arcTo wR="21600" hR="7736" stAng="0" swAng="-295393"/>
                <a:lnTo>
                  <a:pt x="21001" y="9545"/>
                </a:lnTo>
                <a:arcTo wR="21600" hR="7736" stAng="-295393" swAng="-5104607"/>
                <a:close/>
              </a:path>
            </a:pathLst>
          </a:cu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250920" y="41486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Колонизация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микробной флоры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2700360" y="3499560"/>
            <a:ext cx="37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135195"/>
                </a:solidFill>
                <a:latin typeface="Arial"/>
              </a:rPr>
              <a:t>Повышение вязкости слизи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7"/>
          <p:cNvSpPr/>
          <p:nvPr/>
        </p:nvSpPr>
        <p:spPr>
          <a:xfrm rot="2089800">
            <a:off x="1547640" y="2923920"/>
            <a:ext cx="486000" cy="1298520"/>
          </a:xfrm>
          <a:prstGeom prst="downArrow">
            <a:avLst>
              <a:gd name="adj1" fmla="val 20648"/>
              <a:gd name="adj2" fmla="val 90224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4427640" y="270828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9"/>
          <p:cNvSpPr/>
          <p:nvPr/>
        </p:nvSpPr>
        <p:spPr>
          <a:xfrm rot="18489600">
            <a:off x="7030800" y="2533320"/>
            <a:ext cx="485640" cy="1492200"/>
          </a:xfrm>
          <a:prstGeom prst="downArrow">
            <a:avLst>
              <a:gd name="adj1" fmla="val 21241"/>
              <a:gd name="adj2" fmla="val 79775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08"/>
          <p:cNvPicPr/>
          <p:nvPr/>
        </p:nvPicPr>
        <p:blipFill>
          <a:blip r:embed="rId1"/>
          <a:stretch/>
        </p:blipFill>
        <p:spPr>
          <a:xfrm>
            <a:off x="395280" y="685800"/>
            <a:ext cx="8202600" cy="5478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228600" y="68580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35195"/>
                </a:solidFill>
                <a:latin typeface="Arial"/>
              </a:rPr>
              <a:t>Слизистая дыхательных путей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28600" y="1219320"/>
            <a:ext cx="49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Конвейерная лента мерцательного эпителия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010280" y="1066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1a8"/>
                </a:solidFill>
                <a:latin typeface="Arial"/>
              </a:rPr>
              <a:t>К глотке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629400" y="19051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Инородное тело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8600" y="251460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Гель Золь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228600" y="457200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ерозн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228600" y="51814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Слизистая железист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228600" y="38098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мембран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5715000" y="38257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Реснич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5410080" y="47242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Подслизистая желез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7696080" y="3825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Клетка Бехер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7467480" y="4740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Базальная клетка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a10"/>
          <p:cNvPicPr/>
          <p:nvPr/>
        </p:nvPicPr>
        <p:blipFill>
          <a:blip r:embed="rId1"/>
          <a:stretch/>
        </p:blipFill>
        <p:spPr>
          <a:xfrm>
            <a:off x="2138400" y="1600200"/>
            <a:ext cx="6624720" cy="50468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395280" y="404640"/>
            <a:ext cx="793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35195"/>
                </a:solidFill>
                <a:latin typeface="Arial"/>
              </a:rPr>
              <a:t>Нарушение мукоцилиарного транспорта при бронхит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31240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толщение гель фазы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52280" y="3505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Уменьшение фазы золя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858000" y="51814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35195"/>
                </a:solidFill>
                <a:latin typeface="Arial"/>
              </a:rPr>
              <a:t>Действие медиаторов воспаления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553080" y="22096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35195"/>
                </a:solidFill>
                <a:latin typeface="Arial"/>
              </a:rPr>
              <a:t>Возможность колонизации возбудителей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066680" y="1752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35195"/>
                </a:solidFill>
                <a:latin typeface="Arial"/>
              </a:rPr>
              <a:t>Замедление или остановка мукоцилиарного транспорта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3-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Мерцательный эпителий (электронное микрофотографирование)- бокаловидные клетки случайным образом распределены между реснитчатыми клетками. В центре - бокаловидная клетка, готовая к выбросу секрета (выступает над поверхностью ресничек), другие бокаловидные клетки к выбросу не готовы и еще имеют микроволоски на поверхности.</a:t>
            </a:r>
            <a:endParaRPr b="1" lang="en-US" sz="1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ЛИНИКА</a:t>
            </a: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(зависит от этиологии)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Диагноз острый бронхит ставится клинически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и анамнез: острое начало на фоне (или после) ОРИ, субфебрильная температура, кашель (сухой или влажный) и/или одыш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ые данные (симметричная картина при обследовании легких): перкуторно – звук ясный легочный (с коробочным оттенком), аускультативно – дыхание жесткое (или ослабленное везикулярное), различные хрипы (зависят от стадии заболевания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7040" y="525240"/>
            <a:ext cx="7929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РИТЕРИИ ДИАГНОСТИКИ БРОНХИТА</a:t>
            </a:r>
            <a:br>
              <a:rPr sz="40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мптомы интоксик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ш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стояние средней тяже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можна обстру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зикальная симметрия: легочный (коробочный) звук, нестойкие разнообразные хр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емограмма – не характер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нтгенологически – симметричное, двустороннее  усиление рисунка, отсутствие инфильтративных т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ОЗОЛОГИЧЕСКАЯ  ДИАГНОСТИКА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30355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и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тогенене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фолог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6720" y="1628280"/>
            <a:ext cx="258768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и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но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187280" y="3933720"/>
            <a:ext cx="7056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1945080" y="3088440"/>
            <a:ext cx="605232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ГЕНЕЗИС БОЛЕЗНЕЙ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cc66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ОВ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СЛЕДСТВЕННО ПРЕДРАСПОЛОЖЕННЫЕ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533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РОЖДЕННЫ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зорная рентгенограмма грудной клетки в прямой прое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file 011"/>
          <p:cNvPicPr/>
          <p:nvPr/>
        </p:nvPicPr>
        <p:blipFill>
          <a:blip r:embed="rId1"/>
          <a:stretch/>
        </p:blipFill>
        <p:spPr>
          <a:xfrm>
            <a:off x="250920" y="1268280"/>
            <a:ext cx="8604000" cy="540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стрый обструктивный бронхит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текающий с синдромом обструкции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ц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structio)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града, поме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Бронхообструктивный синдром</a:t>
            </a:r>
            <a:r>
              <a:rPr b="1" lang="ru-RU" sz="3200" spc="-1" strike="noStrike">
                <a:solidFill>
                  <a:srgbClr val="d60093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рушение бронхиальной проходим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-25% бронхитов у детей протекают 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структивным синдромо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обенно у детей раннего возра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умное дых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дистанционны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хрипы   преимущественно на выдох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0000" indent="0" algn="ctr">
              <a:lnSpc>
                <a:spcPct val="7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РОНХИОЛИТ –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ражение терминальных бронхов у  детей первых месяцев жизни  с выраженным синдромом ДН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-85% респираторно-синтициальный вирус (РС-вирус), реже – парагрипп, цитомегаловирус, аденовир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десквамация эпителия мелких бронх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Times New Roman"/>
              </a:rPr>
              <a:t>фибрин, слизь - образуют пробки - обтур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ДИАГНОСТИК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раженн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раздувание крыльев но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экспиратор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обил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рип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СТРЫЙ ОБЛИТЕРИРУЮЩИЙ БРОНХИОЛИТ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итерац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bliterati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кращение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ащение полости или просвета 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ПАТОГЕНЕ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организация экссудата и гранулематозной тка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Times New Roman"/>
              </a:rPr>
              <a:t>с облитерацией про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ДИАГНОСТИК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грессирующая Д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смешанная оды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аускультативно - асимметрич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лкопуз. и крепитирующие хрип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затягивание обструкции до 1 м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«ватное» легкое на рентгенограм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50% смерть в остром периоде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79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ЦИДИВИРУЮЩИЙ БРОНХИ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-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острый бронхит, повторяющийся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более 3-х  раз  в  году </a:t>
            </a:r>
            <a:br>
              <a:rPr sz="28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715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РАСПОЛАГАЮЩИЕ ФАКТО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нний о дошкольный возра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конститу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онич. очаги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зогенные влия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ый Р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спирационный синдр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6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омалии развития бронхолегочн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НЦИПЫ ЛЕЧЕНИЯ БРОНХИТА</a:t>
            </a:r>
            <a:br>
              <a:rPr sz="3600"/>
            </a:b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жим домаш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етотерап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отропная терапия – противовирусные препараты, антибио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тогенетическая терапия – восстановление мукоцилиарного клиренса – муколитики, бронхолитики, противовоспалительн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мптоматическая терапия  - сопутствующая терапия, жаропонижаю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отерапия</a:t>
            </a:r>
            <a:r>
              <a:rPr b="0" lang="ru-RU" sz="2800" spc="-1" strike="noStrike">
                <a:solidFill>
                  <a:srgbClr val="135195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1975680" y="907920"/>
            <a:ext cx="516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Times New Roman"/>
              </a:rPr>
              <a:t>Как правило, амбулаторно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Этиотропная 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Противовирусные препараты в начале заболевания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(Арбидол, Реаферон ЕС липинт, Амиксин, Циклоферон, Орвирем, Ремантадин, гомеопатические – оциллококцинум, анаферон, афлубин)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Verdana"/>
              </a:rPr>
              <a:t>Антибиотик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защищенные пенициллины – Аомксиклав, Аугментин; макролиды – азитромицин, кларитромицин, рокстримицин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47640" y="4508640"/>
            <a:ext cx="612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0093"/>
                </a:solidFill>
                <a:latin typeface="Times New Roman"/>
              </a:rPr>
              <a:t>ПОКАЗАНИЯ    К АНТИБАКТЕРИАЛЬНОЙ ТЕРАПИИ</a:t>
            </a: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5280" y="494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раженный синдром интоксикации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гипертермия более 3 дней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обструктивный синдром, бронхиолит,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дети раннего возраста,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затяжное течение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АТОГЕНЕТИЧЕСКАЯ ТЕРАП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Противокашлевые препар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Глюкокортикоиды при выраженной дыхательной недостаточ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ест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в виде аэрозолей)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виде инъекц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быстрой отменой по мере купирования обструкции бронхио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нгаляции через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булайзер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будесонидом     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  (пульмикор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6 месяцев  0,25-0,5 мг/сутки х 1-2 р/день, назначать через 15-20 минут после ингаляции бронхоли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реднизол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/м в дозе 1-2 мг/кг/сут, возможно до 5-10 мг/кг из расчета 10-12 мг/кг/су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268280"/>
          <a:ext cx="8218440" cy="5300640"/>
        </p:xfrm>
        <a:graphic>
          <a:graphicData uri="http://schemas.openxmlformats.org/drawingml/2006/table">
            <a:tbl>
              <a:tblPr/>
              <a:tblGrid>
                <a:gridCol w="3743280"/>
                <a:gridCol w="4475160"/>
              </a:tblGrid>
              <a:tr h="6465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ПРОТИВОКАШЛЕВОГО ДЕЙСТВИЯ</a:t>
                      </a: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ЦЕНТРАЛЬНОГО ДЕЙСТВ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ПАРАТЫ ПЕРИФЕРИЧЕСКОГО ДЕЙСТВИЯ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котические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Ненаркотически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- анестезиру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влажняющи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Обволакивающие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тхаркивающи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Муколитики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ПРЕПАРАТЫ С ОПОСРЕДОВАННЫМ ДЕЙСТВИЕМ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тигистаминные, Бронходилятаторы, Противоотечные, Противовоспалительные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35195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КОМБИНИРОВАННЫЕ ПРЕПАРАТЫ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центральн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УПРЕКС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Окселадин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ССИН ПЛЮС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Декстрометорфан в комбинации с гвайфенизином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УВЕНТ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Глауцин гидрохлорид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ИБЕК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Преноксиндиазин гидрохлорид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8000" y="2284560"/>
            <a:ext cx="4038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ОПТУССИН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имират натрия в комбинации с гвайфенизино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НЕКОД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Бутамират цитра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НХОЛИТ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 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СТР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запное начало, на фоне полного здоровь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женное (манифестное) проя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атковремен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ткая этап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клинико-морфо-функциональное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ход к затяжному тече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н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97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ТЯЖНО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 острого проце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рожденные и наследственные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благоприятны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морбидный фо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экологическая и социально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ытовая обстановка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меющиеся хроническ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боле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озраст больног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недостаточное л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манифестное проявл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ительность превышает сроки обычного выздоро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: выздоровление, хрониз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1. Местно-анестезиру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ензокаин, циклаин, тетракаин) –только в условиях стационара при проведении бронхоскопии или бронхограф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2. Увлажняющие слизист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ильное питьё (лечебные чаи, мин.воды) и, в тяжелых случаях — внутривенные инфузии жидкостей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6d18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раназально или эндобронхиально применение теплого физиологического раств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. Обволакивающие</a:t>
            </a: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135195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раздражении слизистой верхних отделов респираторного тракта, уменьшают рефлекторную стимуляцию кашл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бой сборы, сиропы, чаи и таблетки для рассасывания, содержащие растительные экстракты (эвкалипта, белой акации, лакрицы, дикой вишни и др.), а также глицерин, мед и другие компоненты; каждые 3-4 часа, небольшими порциями, в теплом виде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4. Отхаркивающие</a:t>
            </a: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имулиряция удаления секрета из за счет снижения вязкости при увеличении объёма и степени гидрат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торного действия (со слизистой оболочки желудка – трава термопсиса, тимьяна, корни примулы, плющ, солодка и др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) прямого действия на слизистую оболочку дыхательных путей (калия йодид, натрия йодид, аммония хлорид, масло анисовое, трава чабреца, плюща, терпингидрат и др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тивокашлевые препараты периферического действи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. Муколитик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орошо разжижают бронхиальный секрет за счет изменения структуры слиз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26d1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ктически не увеличивают её объ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ЦЕТИЛЦИСТЕИН (АЦЦ)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РБОЦИСТЕИН (Бронхокод, Флюдитек, Либексин Муко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РОМГЕКС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МБРОКСОЛА ГИДРОХЛОРИД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(амброгексал, лазалван, амбробене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параты с опосредованным противокашлевым действием</a:t>
            </a: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гистаминные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, III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ол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ронходилятаторы (Сальбутамол, беродуал, эуфиллин и др.),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тропин – нежел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отечные (деконгестанты – Ферфекс, Колдрекс и т.п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воспалительные (фенспирина гидрохлорид – Эреспал, ИГКС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СТО ФИТОТЕРАПИИ В ЛЕЧЕНИИ КАШЛЯ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иболее гармонизирующий с природой метод л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ый выбор лекарственных растений и широком спектре содержащихся в них химических соедин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ительные вещества более естественно включаются в обменные проце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учшая переносимость, редкое развитие побочных эффе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ступность каждому, эффективность ее зависит от опыта врач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дмет осознанного выбора благодаря относительной безвредности, мягкости действия, доступности, эффектив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A07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229000"/>
          </a:xfrm>
          <a:prstGeom prst="rect">
            <a:avLst/>
          </a:prstGeom>
          <a:ln w="0">
            <a:noFill/>
          </a:ln>
        </p:spPr>
      </p:pic>
      <p:sp>
        <p:nvSpPr>
          <p:cNvPr id="277" name="Oval 3"/>
          <p:cNvSpPr/>
          <p:nvPr/>
        </p:nvSpPr>
        <p:spPr>
          <a:xfrm>
            <a:off x="3048120" y="2057400"/>
            <a:ext cx="3504960" cy="213372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3352680" y="2795760"/>
            <a:ext cx="881280" cy="2462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"/>
          <p:cNvPicPr/>
          <p:nvPr/>
        </p:nvPicPr>
        <p:blipFill>
          <a:blip r:embed="rId3"/>
          <a:stretch/>
        </p:blipFill>
        <p:spPr>
          <a:xfrm>
            <a:off x="4724280" y="3352680"/>
            <a:ext cx="1600200" cy="1357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"/>
          <p:cNvPicPr/>
          <p:nvPr/>
        </p:nvPicPr>
        <p:blipFill>
          <a:blip r:embed="rId4"/>
          <a:stretch/>
        </p:blipFill>
        <p:spPr>
          <a:xfrm>
            <a:off x="4191120" y="2743200"/>
            <a:ext cx="1585800" cy="1268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Академия Фитониринга"/>
          <p:cNvPicPr/>
          <p:nvPr/>
        </p:nvPicPr>
        <p:blipFill>
          <a:blip r:embed="rId5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3"/>
          <p:cNvSpPr/>
          <p:nvPr/>
        </p:nvSpPr>
        <p:spPr>
          <a:xfrm>
            <a:off x="3200400" y="1052640"/>
            <a:ext cx="6019920" cy="44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Бронхипрет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26d18"/>
                </a:solidFill>
                <a:latin typeface="Arial"/>
              </a:rPr>
              <a:t>Оказывает: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Секретолитическ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воспалитель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Антивирус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Противомикробно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spcBef>
                <a:spcPts val="700"/>
              </a:spcBef>
              <a:buClr>
                <a:srgbClr val="d60093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Бронхолитическое</a:t>
            </a:r>
            <a:r>
              <a:rPr b="0" lang="de-DE" sz="2800" spc="-1" strike="noStrike">
                <a:solidFill>
                  <a:srgbClr val="13519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135195"/>
                </a:solidFill>
                <a:latin typeface="Arial"/>
              </a:rPr>
              <a:t>действие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80920" cy="2462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476360" y="4292640"/>
            <a:ext cx="1600200" cy="1357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1585800" cy="1268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Академия Фитониринга"/>
          <p:cNvPicPr/>
          <p:nvPr/>
        </p:nvPicPr>
        <p:blipFill>
          <a:blip r:embed="rId4"/>
          <a:stretch/>
        </p:blipFill>
        <p:spPr>
          <a:xfrm>
            <a:off x="0" y="6280200"/>
            <a:ext cx="154764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ФИЗИОТЕРАПИЯ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чебная физ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иционный дрен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броционный масса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ыхательные упраж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ВЧ – в острый пери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гнитотерапия, электрофорез с эуфиллином, никотиновой кислотой – при стихании процес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1763640" y="76500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imes New Roman"/>
              </a:rPr>
              <a:t>Благодарю за внимание!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8"/>
          <p:cNvGraphicFramePr/>
          <p:nvPr/>
        </p:nvGraphicFramePr>
        <p:xfrm>
          <a:off x="2700360" y="2095560"/>
          <a:ext cx="360036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095560"/>
                    <a:ext cx="36003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ЧЕНИЯ БОЛЕЗНИ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РЕЦИДИВИРУЮЩЕ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яющийся острый процесс за короткий промежуток, при определенных предпосыл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ы  и конститу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 рецидивами морфологических изменений н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хрон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здоро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ХРОНИЧЕСКО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острого или затяжного процес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олжающийся боле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-12 ме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рфогенезе необратимый субстрат хр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екает с периодами обострения и реми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ход – прогрессирование функциональной недостаточности             -  инвалидизация, смер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ГРУППЫ ЗАБОЛЕВАНИЙ ДЫХАТЕЛЬНОЙ СИСТЕМЫ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трые и хронические инфекционно-воспалительны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лергическ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зни дыхательной системы, развившиеся в периоде новорожд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ледственные заболе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ожденные пороки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стициальные заболевания легк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4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КБ Х. БОЛЕЗНИ ОРГАНОВ ДЫХАНИЯ</a:t>
            </a:r>
            <a:br>
              <a:rPr sz="3600"/>
            </a:b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68360" y="1413000"/>
          <a:ext cx="8353440" cy="4827600"/>
        </p:xfrm>
        <a:graphic>
          <a:graphicData uri="http://schemas.openxmlformats.org/drawingml/2006/table">
            <a:tbl>
              <a:tblPr/>
              <a:tblGrid>
                <a:gridCol w="4238640"/>
                <a:gridCol w="4114800"/>
              </a:tblGrid>
              <a:tr h="380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ТРЫ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ХРОНИЧЕСКИЕ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44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назофаринг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синус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0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фаринг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нзил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ларингит и трахе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обструктивный 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рингит (круп) и эпиглот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12-J18 Пневмони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1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рый бронхиол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зомоторный и аллергический рин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и слизисто-гнойный хронический бронхит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.0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ой хронический бронхи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БЛ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иальная астма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хоэктатическая болезн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персенситивный пневмонит (аллергический альвеолит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Легочная эозинофилия</a:t>
                      </a:r>
                      <a:r>
                        <a:rPr b="0" lang="ru-RU" sz="1800" spc="-1" strike="noStrike">
                          <a:solidFill>
                            <a:srgbClr val="cc66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79884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БРОНХИТЫ  У ДЕТЕЙ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1" name="Picture 5" descr="Кашель 2"/>
          <p:cNvPicPr/>
          <p:nvPr/>
        </p:nvPicPr>
        <p:blipFill>
          <a:blip r:embed="rId1"/>
          <a:stretch/>
        </p:blipFill>
        <p:spPr>
          <a:xfrm>
            <a:off x="3132000" y="3716280"/>
            <a:ext cx="3240360" cy="2705040"/>
          </a:xfrm>
          <a:prstGeom prst="rect">
            <a:avLst/>
          </a:prstGeom>
          <a:ln w="9360">
            <a:solidFill>
              <a:srgbClr val="f9d793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88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ff0000"/>
                </a:solidFill>
                <a:latin typeface="Times New Roman"/>
              </a:rPr>
              <a:t>Анатомия нижнего отдела дыхательных путе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Picture 3" descr="Trachea"/>
          <p:cNvPicPr/>
          <p:nvPr/>
        </p:nvPicPr>
        <p:blipFill>
          <a:blip r:embed="rId1"/>
          <a:stretch/>
        </p:blipFill>
        <p:spPr>
          <a:xfrm>
            <a:off x="0" y="1052640"/>
            <a:ext cx="4464000" cy="5472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10"/>
          <p:cNvPicPr/>
          <p:nvPr/>
        </p:nvPicPr>
        <p:blipFill>
          <a:blip r:embed="rId2"/>
          <a:stretch/>
        </p:blipFill>
        <p:spPr>
          <a:xfrm>
            <a:off x="4462560" y="1773360"/>
            <a:ext cx="4681440" cy="37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64072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АФО дыхательных путей у детей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Georgia"/>
              </a:rPr>
              <a:t>раннего возраст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0920" y="1701720"/>
            <a:ext cx="8613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тливая грудная клетка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ое число скелетных мышечных волокон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о узкие дыхательные пут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нкая слизистая оболочка, рыхло соединена с подслизистой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перплазия слизистых желёз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ий уровен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-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ньший объём гладкомышечной мускула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очная коллатеральная вентиляция в ацинусах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5000"/>
              </a:lnSpc>
              <a:buClr>
                <a:srgbClr val="00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ная эластичность лёгочной ткан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8T09:22:52Z</dcterms:created>
  <dc:creator>Dr. Jukna</dc:creator>
  <dc:description/>
  <cp:keywords>bronchipret folien englisch</cp:keywords>
  <dc:language>en-US</dc:language>
  <cp:lastModifiedBy>LEGION</cp:lastModifiedBy>
  <cp:lastPrinted>2000-10-09T13:48:15Z</cp:lastPrinted>
  <dcterms:modified xsi:type="dcterms:W3CDTF">2015-11-27T12:48:33Z</dcterms:modified>
  <cp:revision>283</cp:revision>
  <dc:subject>Bionorica Arzneimittel</dc:subject>
  <dc:title>Schulung des PMD Außendienstes</dc:title>
</cp:coreProperties>
</file>