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1800" y="1116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774960" y="1116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-1800" y="933444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982E2CD-6051-4AA2-87E8-034EC19E785C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Img"/>
          </p:nvPr>
        </p:nvSpPr>
        <p:spPr>
          <a:xfrm>
            <a:off x="883800" y="738000"/>
            <a:ext cx="489420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897520" y="939852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678A-4554-4845-8694-56780FE249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ДЕТСКИЕ БОЛЕЗНИ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 КУР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    ИЗУЧЕНИЕ ТИПИЧНОГО ТЕ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А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ОРЕТИЧЕСК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ОЕ ЗНАКОМСТВО С ОСНОВНЫМИ НОЗОЛОГ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ДИАГНОСТИКА И ЛЕЧЕНИЕ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ЦИПЛИН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«ДЕТСКИЕ БОЛЕЗНИ»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4 КУР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ЦЕЛЬ:     ИЗУЧЕНИЕ ТИПИЧНОГО ТЕЧЕН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НОВНОЙ ПАТОЛОГ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ирусно-бактериальное воспаление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, бронхоспазмом, каш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бронхитов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просто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ирующ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вирусно-бактериальное воспаление вс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, бронхоспазмом, кашл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ассификация бронхитов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в цифр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асто устанавливаемый диагноз  врачами общей практики в 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ы по бронхиту в США составляют от 200 до 300 млн. долла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протекают в виде острого обструктивного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в цифр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АЛЬ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ЗИТАР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 распространяются при чихании, кашле разгово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ножение виру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клетки, выход вирусов и заражение нов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 распространяются при чихании, кашле разговоре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никновение вируса в клетку слизистой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змножение вирус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бель клетки, выход вирусов и заражение нов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среды - поллю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функция реснитчат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ритативное действие на эпителиальную клет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грануляция тучн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бной фл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вязкости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акторы среды - поллютан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функция реснитчат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рритативное действие на эпителиальную клетку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 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грануляция тучн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л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икробной фл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ышение вязкости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йерная лента мерцательн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гло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родное т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ь З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озн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мембр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нич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лизистая же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а Бех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нвейерная лента мерцательн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 глотк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ородное тел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ль Зо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розн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мембра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снич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дслизистая желез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етка Бехе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мукоцилиарного транспорта при бронх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олщение гель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ение фазы з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медиаторов воспа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колонизации возбу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дление или остановка мукоцилиарн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мукоцилиарного транспорта при бронхит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толщение гель фаз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меньшение фазы зо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йствие медиаторов воспа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ость колонизации возбудител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медление или остановка мукоцилиарного транспор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720" y="4659120"/>
            <a:ext cx="5329440" cy="44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висит от этиоло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з острый бронхит ставится клиничес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зависит от этиологии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агноз острый бронхит ставится клинически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ы интокс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средней тяже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 обстру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альная симметрия: легочный (коробочный) звук, нестойкие разнообразные хри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мограмма – не характер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ЗОЛОГИЧЕСКАЯ  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н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БОЛЕЗН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 ПРЕДРАСПОЛО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ОЗОЛОГИЧЕСКАЯ  ДИАГНОСТИК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гноз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НЕЗИС БОЛЕЗНЕЙ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ная рентгенограмма грудной клетки в прямой про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структивный 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ющий с синдромом об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ция (лат. obstructio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града, пом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обструктивный синдром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бронхиальной прох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у детей протекают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м синдром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у детей 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шумн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дистанционны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хрипы   преимущественно на выдох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структивный 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ющий с синдромом обстру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ция (лат. obstructio)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обструктивный синдром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бронхиальной проходим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шумное дыха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квамация эпителия мелких брон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брин, слизь - образуют пробки - обту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выраженн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раздувание крыльев н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об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 –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ражение терминальных бронхов у  детей первых месяцев жизни  с выраженным синдромом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сквамация эпителия мелких бронхов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брин, слизь - образуют пробки - обтур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выраженн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ЛИТЕРИРУЮЩИЙ БРОНХИОЛИТ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ация  (лат. obliteratio – прекращени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щение полости или просвет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экссудата и гранулематозной тка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блитерацией про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грессирующ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мешан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асимметр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затягивание обструкции до 1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«ватное» легкое на рентгенограм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50% смерть в остром периоде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ЛИТЕРИРУЮЩИЙ БРОНХИОЛИТ</a:t>
            </a: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ация  (лат. obliteratio – прекращение)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1000"/>
            </a:b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рганизация экссудата и гранулематозной ткан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 облитерацией просве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прогрессирующ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-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бронхит, повторя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3-х  раз  в  год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РАСПОЛАГАЮЩ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ий о дошкольный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. очаг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огенные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пирационный синд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развития бронхолегоч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-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бронхит, повторяющийся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е 3-х  раз  в  году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ЛЕЧЕНИЯ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ома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ет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 – противовирусные препараты, антибио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атическая терапия  - сопутствующая терапия, жаропониж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амбулато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НЦИПЫ ЛЕЧЕНИЯ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к правило, амбулатор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НИЯ    К АНТИБАКТЕРИАЛЬНОЙ ТЕРАП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ый синдром интоксик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рмия более 3 дн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й синдром, бронхиол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раннего возрас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 т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КАЗАНИЯ    К АНТИБАКТЕРИАЛЬНОЙ ТЕРАПИИ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ый синдром интоксикации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пертермия более 3 дней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й синдром, бронхиолит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ти раннего возраста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 течен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галяции через небулайзер будесонидом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пульмикор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низолон в/м в дозе 1-2 мг/кг/сут, возможно до 5-10 мг/кг из расчета 10-12 мг/кг/су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нгаляции через небулайзер будесонидом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(пульмикорт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преднизолон в/м в дозе 1-2 мг/кг/сут, возможно до 5-10 мг/кг из расчета 10-12 мг/кг/сут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центральн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УПРЕКС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Окселадин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СИН ПЛЮС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Декстрометорфан в комбинации с гвайфенизин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ЛАУВЕНТ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Глауцин гидрохлор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ИБЕК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Преноксиндиазин гидрохлорид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ОПТУС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имират натрия в комбинации с гвайфенизи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ИНЕКОД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амират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ОЛИ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запное начало, на фоне полного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ое (манифестное)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этап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клинико-морфо-функциональное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к затяжному те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рожденные и наследственные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лагоприя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орбидный ф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логическая и социаль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обстановка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меющиеся хроничес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раст б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достаточное 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манифестное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сть превышает сроки обычного выздоро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выздоровление, 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стно-анестезир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влажняющие слизист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азально или эндобронхиально применение теплого физиологического раст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. Местно-анестезирующ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. Увлажняющие слизист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волакивающие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. Обволакивающие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тхаркивающ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. Отхаркивающие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уколитик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разжижают бронхиальный секрет за счет изменения структуры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е увеличивают её объ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ЦЕТИЛЦИСТЕИН (АЦЦ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БОЦИСТЕИН (Бронхокод, Флюдитек, Либексин Мук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МГЕК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БРОКСОЛА ГИДРОХЛОРИ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(амброгексал, лазалван, амбробен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. Муколитики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с опосредованным противокашлевым действ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истаминные (II, III поко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дилятаторы (Сальбутамол, беродуал, эуфиллин и др.), атропин – нежел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отечные (деконгестанты – Ферфекс, Колдрекс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ые (фенспирина гидрохлорид – Эреспал, ИГК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параты с опосредованным противокашлевым действием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гистаминные (II, III поколения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атропин – нежелатель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ФИТОТЕРАПИИ В ЛЕЧЕНИИ КАШ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гармонизирующий с природой метод л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вещества более естественно включаются в обменные процес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ая переносимость, редкое развитие побочных эфф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каждому, эффективность ее зависит от опыта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СТО ФИТОТЕРАПИИ В ЛЕЧЕНИИ КАШ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пр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ретолит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микроб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литическ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пр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казывает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кретолитическ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вирус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микроб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литическое действ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физ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ный дрен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броционный масс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тельные упраж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Ч – в остр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лагодарю за внимание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Е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яющийся острый процесс за короткий промежуток, при определенных предпосыл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 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ецидивами морфологических изменений н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р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или затяж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ающийся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12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рфогенезе необратимый субстрат хро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ет с периодами обострения и ре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Е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ЗАБОЛЕВАНИЙ ДЫХАТЕЛЬ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е и хронические инфекционно-воспал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 дыхательной системы, развившиеся в периоде новорожд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порок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стициальные заболевания лег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РУППЫ ЗАБОЛЕВАНИЙ ДЫХАТЕЛЬ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Б Х. БОЛЕЗНИ ОРГАНОВ ДЫХ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ИТЫ 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ИТЫ 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томия нижнего отдела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атомия нижнего отдела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О дыхательных путей у дет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тливая грудная клет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ое число скелетных мышечных воло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сительно узкие дыхательные пу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нкая слизистая оболочка, рыхло соединена с подслизи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плазия слизистых желё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уровень Ig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ём гладкомышечной мускул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ая коллатеральная вентиляция в ацину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ая эластичность лёгочной тк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285-A26C-4199-ACE9-7F384567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139-16A8-49C9-BCE2-BBCF926E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B14-1EA8-44F2-863B-CD1D56AA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5DA-2990-4958-B9D6-D6187D48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02A6-9B1B-41EA-A28C-7E254C90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5F58-8012-437C-ADF4-5AF37C42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3182-47AA-41CC-9E36-131121CC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41BB-DC9C-4655-853B-6D3949F4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51D8-5C96-4FD3-93FF-6FFD4C07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4DB7-07B8-4D10-9DE6-12B88A52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9030-17DA-45D5-9AB1-35EF56FC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FF8-B43C-45AA-B622-F0863234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A29B-6FFA-440D-BA10-B8145C47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1423-49D3-4536-8A58-54CDC179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E6B5-5ED2-41FA-89D6-6CF2B27C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8A92-C5CE-4C20-BD0C-6FA3E5E7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6829-C9AC-4603-8EE5-B6FA95F9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D560-193D-4170-81DC-84F44BA8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031-62A0-4C47-B912-33C4FD03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9D6-48E2-436A-8771-1D8B53C1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C7E-B073-49F4-8601-B9221F52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09E-3767-4B41-8C09-92EA55CF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288-44DC-43D6-BBB5-91C04901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057-74EA-4616-800A-85670295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B2C0-DB5D-43A4-AF25-AC11EC326FE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2D2D-1046-42A4-A52B-44EEDEBEFE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268C-6450-4C84-BCDF-85CCEB8CD95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E272-85E0-4F62-852B-59EE6D6D0A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СЦИПЛИН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«ДЕТСКИЕ БОЛЕЗНИ» 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(4 КУРС)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6920" y="2492280"/>
            <a:ext cx="763272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ИЗУЧЕНИЕ ТИПИЧНОГО ТЕ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СНОВНОЙ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РОНХИТ –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вирусно-бактериальное воспаление вс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лизи, бронхоспазмом, кашлем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95280" y="2924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лассификация бронхитов у дете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6000" y="3573360"/>
            <a:ext cx="676764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0000" y="552600"/>
            <a:ext cx="5985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ронхит в цифрах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ЭТИОЛОГИЯ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93116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4"/>
          <p:cNvPicPr/>
          <p:nvPr/>
        </p:nvPicPr>
        <p:blipFill>
          <a:blip r:embed="rId1"/>
          <a:stretch/>
        </p:blipFill>
        <p:spPr>
          <a:xfrm>
            <a:off x="1403280" y="1052640"/>
            <a:ext cx="6265800" cy="4430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04920" y="42670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 распространяются при чихании, кашле разговоре.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5800" y="3429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257800" y="114300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238880" y="23623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Размножение вирусов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248520" y="510552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ибель клетки, выход вирусов и заражение новых клето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819520" y="60199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6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39640" y="765000"/>
            <a:ext cx="27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Факторы среды - поллютант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35280" y="2349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исфункция реснитчатого эпителия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116000" y="1700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Ирритативное действие на эпителиальную клетку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356000" y="76500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Вирусно-бактериальные ассоциаци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659640" y="378936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егрануляция тучных клеток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" descr="07"/>
          <p:cNvPicPr/>
          <p:nvPr/>
        </p:nvPicPr>
        <p:blipFill>
          <a:blip r:embed="rId1"/>
          <a:stretch/>
        </p:blipFill>
        <p:spPr>
          <a:xfrm>
            <a:off x="2050920" y="3860640"/>
            <a:ext cx="5616720" cy="2619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395280" y="1929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ПАТОГЕНЕЗ БРОНХИТ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3564000" y="907920"/>
            <a:ext cx="1141200" cy="378000"/>
          </a:xfrm>
          <a:prstGeom prst="leftRightArrow">
            <a:avLst>
              <a:gd name="adj1" fmla="val 31935"/>
              <a:gd name="adj2" fmla="val 7894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250920" y="1341360"/>
            <a:ext cx="647640" cy="720720"/>
          </a:xfrm>
          <a:custGeom>
            <a:avLst/>
            <a:gdLst>
              <a:gd name="textAreaLeft" fmla="*/ 86760 w 647640"/>
              <a:gd name="textAreaRight" fmla="*/ 560880 w 647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8172360" y="1197000"/>
            <a:ext cx="647640" cy="792000"/>
          </a:xfrm>
          <a:custGeom>
            <a:avLst/>
            <a:gdLst>
              <a:gd name="textAreaLeft" fmla="*/ 86760 w 647640"/>
              <a:gd name="textAreaRight" fmla="*/ 560880 w 647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3"/>
          <p:cNvSpPr/>
          <p:nvPr/>
        </p:nvSpPr>
        <p:spPr>
          <a:xfrm rot="21391200">
            <a:off x="755640" y="2060280"/>
            <a:ext cx="576360" cy="647640"/>
          </a:xfrm>
          <a:custGeom>
            <a:avLst/>
            <a:gdLst>
              <a:gd name="textAreaLeft" fmla="*/ 77040 w 576360"/>
              <a:gd name="textAreaRight" fmla="*/ 499320 w 576360"/>
              <a:gd name="textAreaTop" fmla="*/ 115560 h 647640"/>
              <a:gd name="textAreaBottom" fmla="*/ 45792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16" stAng="-5400000" swAng="-5400000"/>
                <a:lnTo>
                  <a:pt x="0" y="11412"/>
                </a:lnTo>
                <a:arcTo wR="21600" hR="7716" stAng="10800000" swAng="-2717745"/>
                <a:lnTo>
                  <a:pt x="14400" y="21159"/>
                </a:lnTo>
                <a:lnTo>
                  <a:pt x="21600" y="17280"/>
                </a:lnTo>
                <a:lnTo>
                  <a:pt x="14400" y="12519"/>
                </a:lnTo>
                <a:lnTo>
                  <a:pt x="14400" y="14991"/>
                </a:lnTo>
                <a:arcTo wR="21600" hR="7716" stAng="8082255" swAng="2415590"/>
                <a:lnTo>
                  <a:pt x="629" y="9564"/>
                </a:lnTo>
                <a:arcTo wR="21600" hR="7716" stAng="-10497845" swAng="5097845"/>
                <a:close/>
              </a:path>
              <a:path fill="darkenLess" w="21600" h="21600">
                <a:moveTo>
                  <a:pt x="21600" y="0"/>
                </a:moveTo>
                <a:arcTo wR="21600" hR="7716" stAng="-5400000" swAng="-5400000"/>
                <a:lnTo>
                  <a:pt x="0" y="7716"/>
                </a:lnTo>
                <a:arcTo wR="21600" hR="7716" stAng="10800000" swAng="-302155"/>
                <a:lnTo>
                  <a:pt x="629" y="9564"/>
                </a:lnTo>
                <a:arcTo wR="21600" hR="7716" stAng="-10497845" swAng="509784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4"/>
          <p:cNvSpPr/>
          <p:nvPr/>
        </p:nvSpPr>
        <p:spPr>
          <a:xfrm rot="661200">
            <a:off x="7602480" y="1988640"/>
            <a:ext cx="576360" cy="719280"/>
          </a:xfrm>
          <a:custGeom>
            <a:avLst/>
            <a:gdLst>
              <a:gd name="textAreaLeft" fmla="*/ 77040 w 576360"/>
              <a:gd name="textAreaRight" fmla="*/ 499320 w 576360"/>
              <a:gd name="textAreaTop" fmla="*/ 128520 h 719280"/>
              <a:gd name="textAreaBottom" fmla="*/ 50688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2722083"/>
                <a:lnTo>
                  <a:pt x="7200" y="21158"/>
                </a:lnTo>
                <a:lnTo>
                  <a:pt x="0" y="17280"/>
                </a:lnTo>
                <a:lnTo>
                  <a:pt x="7200" y="12518"/>
                </a:lnTo>
                <a:lnTo>
                  <a:pt x="7200" y="15029"/>
                </a:lnTo>
                <a:arcTo wR="21600" hR="7736" stAng="2722083" swAng="-2426689"/>
                <a:lnTo>
                  <a:pt x="21001" y="9545"/>
                </a:lnTo>
                <a:arcTo wR="21600" hR="7736" stAng="-295393" swAng="-5104607"/>
                <a:close/>
              </a:path>
              <a:path fill="darkenLess"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-295393"/>
                <a:lnTo>
                  <a:pt x="21001" y="9545"/>
                </a:lnTo>
                <a:arcTo wR="21600" hR="7736" stAng="-295393" swAng="-5104607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50920" y="414864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Колонизация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микробной флор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700360" y="34995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Повышение вязкости слиз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7"/>
          <p:cNvSpPr/>
          <p:nvPr/>
        </p:nvSpPr>
        <p:spPr>
          <a:xfrm rot="2089800">
            <a:off x="1547640" y="2923920"/>
            <a:ext cx="486000" cy="1298520"/>
          </a:xfrm>
          <a:prstGeom prst="downArrow">
            <a:avLst>
              <a:gd name="adj1" fmla="val 20648"/>
              <a:gd name="adj2" fmla="val 90224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4427640" y="2708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9"/>
          <p:cNvSpPr/>
          <p:nvPr/>
        </p:nvSpPr>
        <p:spPr>
          <a:xfrm rot="18489600">
            <a:off x="7030800" y="2533320"/>
            <a:ext cx="485640" cy="1492200"/>
          </a:xfrm>
          <a:prstGeom prst="downArrow">
            <a:avLst>
              <a:gd name="adj1" fmla="val 21241"/>
              <a:gd name="adj2" fmla="val 7977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08"/>
          <p:cNvPicPr/>
          <p:nvPr/>
        </p:nvPicPr>
        <p:blipFill>
          <a:blip r:embed="rId1"/>
          <a:stretch/>
        </p:blipFill>
        <p:spPr>
          <a:xfrm>
            <a:off x="395280" y="685800"/>
            <a:ext cx="8202600" cy="5478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22860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Слизистая дыхательных путе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28600" y="1219320"/>
            <a:ext cx="49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Конвейерная лента мерцательного эпителия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010280" y="1066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1a8"/>
                </a:solidFill>
                <a:latin typeface="Arial"/>
              </a:rPr>
              <a:t>К глотке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629400" y="1905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Инородное тело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8600" y="2514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ель Золь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228600" y="45720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ерозн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28600" y="51814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лизист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8098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мембран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715000" y="38257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Реснич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5410080" y="47242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Подслизистая желез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7696080" y="38257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Клетка Бехер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7467480" y="4740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10"/>
          <p:cNvPicPr/>
          <p:nvPr/>
        </p:nvPicPr>
        <p:blipFill>
          <a:blip r:embed="rId1"/>
          <a:stretch/>
        </p:blipFill>
        <p:spPr>
          <a:xfrm>
            <a:off x="2138400" y="1600200"/>
            <a:ext cx="6624720" cy="50468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395280" y="404640"/>
            <a:ext cx="793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5195"/>
                </a:solidFill>
                <a:latin typeface="Arial"/>
              </a:rPr>
              <a:t>Нарушение мукоцилиарного транспорта при бронхит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3124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толщение гель фазы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52280" y="3505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меньшение фазы золя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858000" y="51814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5195"/>
                </a:solidFill>
                <a:latin typeface="Arial"/>
              </a:rPr>
              <a:t>Действие медиаторов воспаления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553080" y="22096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Возможность колонизации возбудителей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066680" y="17524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Замедление или остановка мукоцилиарного транспорта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3-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1" lang="en-US" sz="1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ЛИНИКА</a:t>
            </a: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зависит от этиологии)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Диагноз острый бронхит ставится клиничес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7040" y="525240"/>
            <a:ext cx="7929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РИТЕРИИ ДИАГНОСТИКИ БРОНХИТА</a:t>
            </a:r>
            <a:br>
              <a:rPr sz="40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ОЗОЛОГИЧЕСКАЯ  ДИАГНОСТИКА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3035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6720" y="1628280"/>
            <a:ext cx="258768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187280" y="3933720"/>
            <a:ext cx="7056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945080" y="3088440"/>
            <a:ext cx="605232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ГЕНЕЗИС БОЛЕЗНЕЙ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cc66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ОЖДЕННЫ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file 011"/>
          <p:cNvPicPr/>
          <p:nvPr/>
        </p:nvPicPr>
        <p:blipFill>
          <a:blip r:embed="rId1"/>
          <a:stretch/>
        </p:blipFill>
        <p:spPr>
          <a:xfrm>
            <a:off x="250920" y="1268280"/>
            <a:ext cx="8604000" cy="540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стрый обструктивный бронхит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текающий с синдромом обстру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ц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structio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ронхообструктивный синдром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рушение бронхиальной проходим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умное дых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РОНХИОЛИТ –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десквамация эпителия мелких бронх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фибрин, слизь - образуют пробки - обтур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женн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ТРЫЙ ОБЛИТЕРИРУЮЩИЙ БРОНХИОЛИТ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ация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literati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кращение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организация экссудата и гранулематозной тка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с облитерацией про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ЕРИИ ДИАГНОСТИ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ессирующ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7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ЦИДИВИРУЮЩИЙ БРОНХИ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-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стрый бронхит, повторяющийся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ее 3-х  раз  в  году </a:t>
            </a:r>
            <a:br>
              <a:rPr sz="28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715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НЦИПЫ ЛЕЧЕНИЯ БРОНХИТА</a:t>
            </a:r>
            <a:br>
              <a:rPr sz="3600"/>
            </a:b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r>
              <a:rPr b="0" lang="ru-RU" sz="2800" spc="-1" strike="noStrike">
                <a:solidFill>
                  <a:srgbClr val="13519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975680" y="907920"/>
            <a:ext cx="51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Как правило, амбулаторн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Этиотропная 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Противовирусные препараты в начале заболеван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(Арбидол, Реаферон ЕС липинт, Амиксин, Циклоферон, Орвирем, Ремантадин, гомеопатические – оциллококцинум, анаферон, афлубин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Антибиотик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защищенные пенициллины – Аомксиклав, Аугментин; макролиды – азитромицин, кларитромицин, рокстримицин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47640" y="4508640"/>
            <a:ext cx="61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imes New Roman"/>
              </a:rPr>
              <a:t>ПОКАЗАНИЯ    К АНТИБАКТЕРИАЛЬНОЙ ТЕРАПИИ</a:t>
            </a:r>
            <a:br>
              <a:rPr sz="1800"/>
            </a:b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5280" y="494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раженный синдром интоксикации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гипертермия более 3 дней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обструктивный синдром, бронхиолит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дети раннего возраста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затяжное течение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АТОГЕНЕТИЧЕСКАЯ ТЕРАП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Противокашлев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Глюкокортикоиды при выраженной дыхательной недостато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ст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 виде аэрозолей)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виде инъек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быстрой отменой по мере купирования обструкции бронхи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галяции через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булайзер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будесонидом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(пульмикорт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реднизол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/м в дозе 1-2 мг/кг/сут, возможно до 5-10 мг/кг из расчета 10-12 мг/кг/су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268280"/>
          <a:ext cx="8218440" cy="5300640"/>
        </p:xfrm>
        <a:graphic>
          <a:graphicData uri="http://schemas.openxmlformats.org/drawingml/2006/table">
            <a:tbl>
              <a:tblPr/>
              <a:tblGrid>
                <a:gridCol w="3743280"/>
                <a:gridCol w="4475160"/>
              </a:tblGrid>
              <a:tr h="6465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ПРОТИВОКАШЛЕВОГО ДЕЙСТВИЯ</a:t>
                      </a: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ЦЕНТРАЛЬНОГО ДЕЙСТВ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ПЕРИФЕРИЧЕСКОГО ДЕЙСТВИЯ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котически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енаркотически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- анестезиру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влажня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бволакивающие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тхаркивающи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Муколитики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С ОПОСРЕДОВАННЫМ ДЕЙСТВИЕМ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7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гистаминные, Бронходилятаторы, Противоотечные, Противовоспалительны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1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КОМБИНИРОВАННЫЕ ПРЕПАРАТЫ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8000" y="22845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 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ТР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ТЯЖН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1. Местно-анестезиру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нзокаин, циклаин, тетракаин) –только в условиях стационара при проведении бронхоскопии или бронхограф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2. Увлажняющие слизист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3. Обволакивающие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35195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4. Отхаркива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. Муколитики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параты с опосредованным противокашлевым действием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гистаминные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, 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тропин – нежел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СТО ФИТОТЕРАПИИ В ЛЕЧЕНИИ КАШЛ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07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29000"/>
          </a:xfrm>
          <a:prstGeom prst="rect">
            <a:avLst/>
          </a:prstGeom>
          <a:ln w="0">
            <a:noFill/>
          </a:ln>
        </p:spPr>
      </p:pic>
      <p:sp>
        <p:nvSpPr>
          <p:cNvPr id="277" name="Oval 3"/>
          <p:cNvSpPr/>
          <p:nvPr/>
        </p:nvSpPr>
        <p:spPr>
          <a:xfrm>
            <a:off x="3048120" y="2057400"/>
            <a:ext cx="3504960" cy="21337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3352680" y="2795760"/>
            <a:ext cx="881280" cy="2462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1600200" cy="1357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4"/>
          <a:stretch/>
        </p:blipFill>
        <p:spPr>
          <a:xfrm>
            <a:off x="4191120" y="2743200"/>
            <a:ext cx="1585800" cy="126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Академия Фитониринга"/>
          <p:cNvPicPr/>
          <p:nvPr/>
        </p:nvPicPr>
        <p:blipFill>
          <a:blip r:embed="rId5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200400" y="1052640"/>
            <a:ext cx="601992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ронхипрет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Arial"/>
              </a:rPr>
              <a:t>Оказывает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Секретолитическ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воспалитель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Антивирус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микроб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Бронхолитическое</a:t>
            </a:r>
            <a:r>
              <a:rPr b="0" lang="de-DE" sz="2800" spc="-1" strike="noStrike">
                <a:solidFill>
                  <a:srgbClr val="13519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действ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80920" cy="2462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1600200" cy="13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1585800" cy="1268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Академия Фитониринга"/>
          <p:cNvPicPr/>
          <p:nvPr/>
        </p:nvPicPr>
        <p:blipFill>
          <a:blip r:embed="rId4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ИЗИО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1763640" y="765000"/>
            <a:ext cx="60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Благодарю за внимание!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8"/>
          <p:cNvGraphicFramePr/>
          <p:nvPr/>
        </p:nvGraphicFramePr>
        <p:xfrm>
          <a:off x="2700360" y="2095560"/>
          <a:ext cx="360036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095560"/>
                    <a:ext cx="36003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ЦИДИВИРУЮЩ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ХРОНИЧЕСКО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РУППЫ ЗАБОЛЕВАНИЙ ДЫХАТЕЛЬНОЙ СИСТЕМЫ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КБ Х. БОЛЕЗНИ ОРГАНОВ ДЫХАНИЯ</a:t>
            </a:r>
            <a:br>
              <a:rPr sz="36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413000"/>
          <a:ext cx="8353440" cy="4827600"/>
        </p:xfrm>
        <a:graphic>
          <a:graphicData uri="http://schemas.openxmlformats.org/drawingml/2006/table">
            <a:tbl>
              <a:tblPr/>
              <a:tblGrid>
                <a:gridCol w="4238640"/>
                <a:gridCol w="4114800"/>
              </a:tblGrid>
              <a:tr h="380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ТРЫ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РОНИЧЕСК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44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назофаринг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синус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фаринг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зил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ларингит и трахе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обструктивный 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гит (круп) и эпиглот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12-J18 Пневмон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21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о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зомоторный и аллергический рин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и слизисто-гнойный хронически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хронический бронх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БЛ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альная аст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ерсенситивный пневмонит (аллергический альвеолит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егочная эозинофилия</a:t>
                      </a:r>
                      <a:r>
                        <a:rPr b="0" lang="ru-RU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988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РОНХИТЫ  У ДЕТЕ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1" name="Picture 5" descr="Кашель 2"/>
          <p:cNvPicPr/>
          <p:nvPr/>
        </p:nvPicPr>
        <p:blipFill>
          <a:blip r:embed="rId1"/>
          <a:stretch/>
        </p:blipFill>
        <p:spPr>
          <a:xfrm>
            <a:off x="3132000" y="3716280"/>
            <a:ext cx="3240360" cy="2705040"/>
          </a:xfrm>
          <a:prstGeom prst="rect">
            <a:avLst/>
          </a:prstGeom>
          <a:ln w="9360">
            <a:solidFill>
              <a:srgbClr val="f9d793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88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00"/>
                </a:solidFill>
                <a:latin typeface="Times New Roman"/>
              </a:rPr>
              <a:t>Анатомия нижнего отдела дыхательных путе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3" name="Picture 3" descr="Trachea"/>
          <p:cNvPicPr/>
          <p:nvPr/>
        </p:nvPicPr>
        <p:blipFill>
          <a:blip r:embed="rId1"/>
          <a:stretch/>
        </p:blipFill>
        <p:spPr>
          <a:xfrm>
            <a:off x="0" y="1052640"/>
            <a:ext cx="4464000" cy="547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10"/>
          <p:cNvPicPr/>
          <p:nvPr/>
        </p:nvPicPr>
        <p:blipFill>
          <a:blip r:embed="rId2"/>
          <a:stretch/>
        </p:blipFill>
        <p:spPr>
          <a:xfrm>
            <a:off x="4462560" y="1773360"/>
            <a:ext cx="468144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6407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АФО дыхательных путей у детей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раннего возраст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1701720"/>
            <a:ext cx="8613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тливая грудная клетка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ое число скелетных мышечных волокон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о узкие дыхательные пут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нкая слизистая оболочка, рыхло соединена с подслизисто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перплазия слизистых желёз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ий уровен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-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ий объём гладкомышечной мускулатур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очная коллатеральная вентиляция в ацинусах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ая эластичность лёгочной ткан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8T09:22:52Z</dcterms:created>
  <dc:creator>Dr. Jukna</dc:creator>
  <dc:description/>
  <cp:keywords>bronchipret folien englisch</cp:keywords>
  <dc:language>en-US</dc:language>
  <cp:lastModifiedBy>LEGION</cp:lastModifiedBy>
  <cp:lastPrinted>2000-10-09T13:48:15Z</cp:lastPrinted>
  <dcterms:modified xsi:type="dcterms:W3CDTF">2015-11-27T12:48:33Z</dcterms:modified>
  <cp:revision>283</cp:revision>
  <dc:subject>Bionorica Arzneimittel</dc:subject>
  <dc:title>Schulung des PMD Außendienstes</dc:title>
</cp:coreProperties>
</file>