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F5D9-318B-49B0-B0C8-06418C690D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ихорадка Эбола</a:t>
            </a:r>
            <a:br>
              <a:rPr sz="1200"/>
            </a:br>
            <a:r>
              <a:rPr b="0" lang="uk-UA" sz="1200" spc="-1" strike="noStrike">
                <a:solidFill>
                  <a:srgbClr val="000000"/>
                </a:solidFill>
                <a:latin typeface="Calibri"/>
              </a:rPr>
              <a:t>и</a:t>
            </a:r>
            <a:br>
              <a:rPr sz="1200"/>
            </a:br>
            <a:r>
              <a:rPr b="0" lang="uk-UA" sz="1200" spc="-1" strike="noStrike">
                <a:solidFill>
                  <a:srgbClr val="000000"/>
                </a:solidFill>
                <a:latin typeface="Calibri"/>
              </a:rPr>
              <a:t>Марбур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хорадка Эбола</a:t>
            </a:r>
            <a:br>
              <a:rPr sz="1200"/>
            </a:br>
            <a:r>
              <a:rPr b="0" lang="uk-UA" sz="1200" spc="-1" strike="noStrike">
                <a:solidFill>
                  <a:srgbClr val="000000"/>
                </a:solidFill>
                <a:latin typeface="Arial"/>
              </a:rPr>
              <a:t>и</a:t>
            </a:r>
            <a:br>
              <a:rPr sz="1200"/>
            </a:br>
            <a:r>
              <a:rPr b="0" lang="uk-UA" sz="1200" spc="-1" strike="noStrike">
                <a:solidFill>
                  <a:srgbClr val="000000"/>
                </a:solidFill>
                <a:latin typeface="Arial"/>
              </a:rPr>
              <a:t>Марбург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т д’Ивуа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т д’Ивуа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ндибугио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резервуа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й резервуа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екс контагиозности достигает 9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 контагиозности достигает 9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от двух до 21 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рть наступает обычно на второй неделе болезни на фоне кровотечений и шо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 вакц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 и вакцинац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5  Йоханнесбург.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0  Кения. 50%, заболело 2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8  СССР (Кольцово).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8-2000 Демократической Республике Конго. 83%, заболело 154 (умерло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5  Йоханнесбург.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0  Кения. 50%, заболело 2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8  СССР (Кольцово).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8-2000 Демократической Республике Конго. 83%, заболело 154 (умерло 1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4-2005 Ангола. 90%, заболело 252 (умерло 2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Уганда.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8 Уганда. 100%, заболел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4-2005 Ангола. 90%, заболело 252 (умерло 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Уганда.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8 Уганда. 100%, заболел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вствитель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юль 1976 пос. Нзара на юге Судана. Смертность 53% заболело около 300 человек (умерло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нтябрь 1976, Заир. Смертность 88%, заболело 237 (умерло 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76 Англия.  Смертность 0%, заболело 1 (умерло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7 Заир. Смертность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9 Судан. Смертность 65%, 34 заболевших (22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4 Кот-д'Ивуар. Смертность 0%, заболе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 Заир, г. Киквит. Смертность 81%, 315 заболевших (250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1996 Габон, местечко Бове. Смертность 74%, 60 заболевших (умерло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ябрь 1996 ЮАР. Смертность 50%, 2 заболевших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юль 1976 пос. Нзара на юге Судана. Смертность 53% заболело около 300 человек (умерло 1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тябрь 1976, Заир. Смертность 88%, заболело 237 (умерло 2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1976 Англия.  Смертность 0%, заболело 1 (умерло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7 Заир. Смертность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9 Судан. Смертность 65%, 34 заболевших (22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4 Кот-д'Ивуар. Смертность 0%, заболе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 Заир, г. Киквит. Смертность 81%, 315 заболевших (250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1996 Габон, местечко Бове. Смертность 74%, 60 заболевших (умерло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1996 ЮАР. Смертность 50%, 2 заболевших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составляет в среднем 4-9 д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0-2001 Уганда. Смертность 53%, 425 заболевших (умерло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1-2002 Габон.  Смертность 82%, 65 заболевших (умерло 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2-2003 Конго. Смертность 89%, 143 заболевших (умерло 1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Конго. Смертность 71%, 264 заболевших (умерло 1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2008 Уганда. Смертность 32%, 131 заболевших (умерло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 2011 Уганда. 12-летняя девочка умерла от суданской разновид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0-2001 Уганда. Смертность 53%, 425 заболевших (умерло 2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1-2002 Габон.  Смертность 82%, 65 заболевших (умерло 5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2-2003 Конго. Смертность 89%, 143 заболевших (умерло 1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Конго. Смертность 71%, 264 заболевших (умерло 18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2008 Уганда. Смертность 32%, 131 заболевших (умерло 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й 2011 Уганда. 12-летняя девочка умерла от суданской разновид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данский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стон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он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C2348-A155-4E33-9192-6273A7ACF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EB7A6-88A4-4BA7-86FA-B07F56336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25DD5-153C-4C1E-8DD0-E54F7525E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24E40-8B22-46B4-80C2-790D0841A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9CF3A-2CBA-477E-8264-1FE555E15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B2425-AF8A-4EEE-AD04-520537BB3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A21F4-1582-42F5-B330-AD5A7453C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9E717-6AF6-469C-B598-689F5B10F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1E814-F869-4E2C-85F6-B101972E5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D3854-23AB-476D-8CDD-C07576CE6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6845D-B7FF-47E6-B965-049BB51F5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920F6-4A6A-4E5B-8DB6-17D30DF44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4F9B-8008-422E-9A77-AFC86E0067AC}"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AD19-D490-4A30-948C-06D96502E3D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br>
              <a:rPr sz="5400"/>
            </a:b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5-11-27T12:48:41Z</dcterms:modified>
  <cp:revision>36</cp:revision>
  <dc:subject/>
  <dc:title>Лихорадка Эбола и Марбурга</dc:title>
</cp:coreProperties>
</file>