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6A37-5C46-413C-8AF6-8B9428F178E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ология на службе здоровь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систематизации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мунология на службе здоровья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 систематизации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Луи Пастер (1822-189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уи Пастер (1822-189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дуард Дженнер (1749-182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дуард Дженнер (1749-182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кц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медицинский препарат, который изготавливается из ослабленных или убитых микроорганиз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ивка- это процедура введения вакц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воро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медицинский препарат, который содержит готовые антите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кц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медицинский препарат, который изготавливается из ослабленных или убитых микроорганизм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ивка- это процедура введения вакц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ыворо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медицинский препарат, который содержит готовые антите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лица 1. Сравнительная характеристика вакцины и сыворо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1. Сравнительная характеристика вакцины и сыворо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среди населения проводится вакцинация против гриппа. Для чего нам нужны привив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в одних случаях применяют вакцины, а в других – сыворот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иммунитет и каким он быва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зация знаний урок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среди населения проводится вакцинация против гриппа. Для чего нам нужны привив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в одних случаях применяют вакцины, а в других – сыворот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иммунитет и каким он быва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зация знаний урок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репкого  вам  иммунитет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репкого  вам  иммунитет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формировать понятие иммунология и определить значение данной науки для сохранения здоровья человек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формулировать понятия вакцина и сыворотк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Составить в виде таблицы сравнительную характеристику вакцины и сыворотк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Рассмотреть схему классификации иммунитета;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формировать понятие иммунология и определить значение данной науки для сохранения здоровья человек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Сформулировать понятия вакцина и сыворотк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Составить в виде таблицы сравнительную характеристику вакцины и сыворотк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Рассмотреть схему классификации иммунитета;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среди населения проводится вакцинация против гриппа. Для чего нам нужны привив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в одних случаях применяют вакцины, а в других – сыворот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иммунитет и каким он быва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среди населения проводится вакцинация против гриппа. Для чего нам нужны привив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в одних случаях применяют вакцины, а в других – сыворот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иммунитет и каким он быва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есите вопросы и отве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Лим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Кровяная пла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Межклеточная жидк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Тромб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 Лейк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. Эритроц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. гемоглоб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. кров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из перечисленного относится к внутренней среде организм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одержится в составе кров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станется , если из крови удалить клет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называется жидкая часть кров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называется белок, придающий крови красный цвет кров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ые безъ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ые 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ются с бактериями и инородными т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утся ложноножками, меняют фор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чтожают бакт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ируют кислород и углекислый г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домашнего зад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несите вопросы и отве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Лим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. Кровяная пла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Межклеточная жидк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 Тромбоци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 Лейкоци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. Эритроци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. гемоглоб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. кров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из перечисленного относится к внутренней среде организм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одержится в составе кров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останется , если из крови удалить клет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называется жидкая часть кров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называется белок, придающий крови красный цвет кров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ные безъ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ые 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рются с бактериями и инородными т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утся ложноножками, меняют фор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чтожают бакте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ируют кислород и углекислый г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1-а,в,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- б,г,д,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- 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- 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- 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- 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- -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- 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- 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- 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- 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: 1-а,в,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- б,г,д,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- б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- 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- 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- 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- -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- 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- 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- 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- 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иппократ –отец медиц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иппократ –отец медиц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, заболевший чу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ёнок, заболевший осп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, заболевший чу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ёнок, заболевший осп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ммунология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ммунология?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оло́гия — наука об иммунитете живых организмов, изучающая биологические механизмы самозащиты организма от любых чужеродных вещест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ология — это наука о строении и закономерностях функционирования иммунной системы, её заболеваниях и способах иммунотерап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муноло́гия — наука об иммунитете живых организмов, изучающая биологические механизмы самозащиты организма от любых чужеродных вещест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мунология — это наука о строении и закономерностях функционирования иммунной системы, её заболеваниях и способах иммунотерап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EA46-9A5A-4AAE-97FE-DB8CD4E48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3948-819E-4C2C-99F4-B13F488E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6B47-3B02-4D7D-9C77-D75EBC68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E422-ACF6-4F59-9A68-D6B465DF1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1F45-0F54-4F07-A55C-11DA7A749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A885-169D-4037-9E15-3D78ACA3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DD1C-40E3-4A96-8C8E-678E6FFB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0950-48AA-48D5-9CCD-3A8DA6AF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A357-A81B-40FC-A145-ABA196DA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1FD8-76DD-4CD2-89CC-A351D20C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4345-0431-492E-B6B2-956052FF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4B6A-04A1-4AB9-86F4-7D7F8EA1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DA87-9217-43B3-A241-4A5C941D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3422-5836-4E67-B42B-E39BF6F4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AA3B-804E-4CB1-88BE-23BC1918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AF18-7BC2-4289-B45E-6D1839BF9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DF49-5EAE-4483-94C7-41988BBB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C5149-7E8E-4840-9467-AEE4CE49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F7552-A6CA-49A5-874C-174631F4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AE697-321C-4AB3-9955-3CAB509E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45013-D23A-48BA-9992-BC662380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FE274-680A-44CC-974B-96EC3906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EFA5-6B10-425B-8D8F-2EFEE85D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64DE2-3DD1-4443-AD74-846AD235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294F3-0A74-4CC1-8DFB-917EF2DC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D8DDA-A90C-4338-A6E5-E2A1A7F4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738E5-9096-4519-B729-9698A160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C16D6-1332-4451-9137-2F77BBC4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96779-8BF5-412F-92D4-1A3FF8E5D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B57F5-6907-489A-89A8-BAC722C8C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5878F-A418-43D7-B913-8E04B672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68B22-74DD-4C9A-A2FA-A682D0D5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1CB5E-9BE3-470A-B028-FF1A27E3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D417-33DA-4E3B-879D-8DC116AD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2ACEE-3388-477F-921E-8BA122A3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F3329-C443-49E7-A4CA-E3D5BE63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A0369-28B7-40E4-B1C3-DE70516A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BBABD-D4D7-4EC7-BC05-61741744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FD0A2-79B2-47D4-83EE-145CB7A4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68655-7029-43A3-BF67-C154B72E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91975-A8D4-461D-BC9E-6FA7C36F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3A243-E35D-41EA-9643-902A37D21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C4DBD-534D-4F34-BB11-2D455E287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BEEB1-9AAA-4038-8044-80EDB955C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0B00-2065-489B-AB41-D00C0F7C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CE498-045C-46D7-B4EB-159FD7E2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3434B-64C6-4F54-8B69-56A533C6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D8077-BEED-41F5-8B40-C8484B19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0E219-888F-4D87-A1BA-A8836F7B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035C2-2537-4BF0-8E85-BAD83CDE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A6D8B-99A2-4956-9E7B-6F24A5D3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3AFA1-898F-41A4-AEAD-DFD057D8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BFADB-2D90-43A4-ADEB-C193EE7B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A4CB5-6D4B-4C58-9E8C-0F33A4F0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A6576-E54A-43AB-BD81-F8AE32407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2A25-D3F2-4117-841F-27C12DDB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843B5-FD16-4EBD-A7DF-6C08070A5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29B1-EA9B-4F40-8544-13954423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23D3-7166-4D85-B9EC-28285A70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4A28-1209-4A0D-B465-0B9B57E5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8358-DCA4-4E8A-8DD4-4DB7ABEBA4DA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A2DE-B30F-40C0-9043-31C43802864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5751-41FB-4EAB-88F1-CAFCEF63FF24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CB0F-B6BE-4704-920D-D522C1EB193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B343-E5A0-4CB0-AE5B-B0E906E17151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0584-B075-45B8-8C93-69BC881F779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1E17-1249-42B8-B0A9-44E3CAB56B65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28FF-BD73-4353-A0A5-7451F6B32BB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91EC-C235-4DD2-B99B-9BE4B0DC18A7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27FB-273E-4CEC-80F9-1F3C4A1DD37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ff8d3e"/>
                </a:solidFill>
                <a:latin typeface="Verdana"/>
              </a:rPr>
              <a:t>Иммунология на службе здоровья человека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рок систематизации зна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8 клас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1" descr=""/>
          <p:cNvPicPr/>
          <p:nvPr/>
        </p:nvPicPr>
        <p:blipFill>
          <a:blip r:embed="rId1"/>
          <a:stretch/>
        </p:blipFill>
        <p:spPr>
          <a:xfrm>
            <a:off x="2643120" y="785880"/>
            <a:ext cx="3810240" cy="15714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428760" y="2000160"/>
            <a:ext cx="8359560" cy="442908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2"/>
          <p:cNvSpPr/>
          <p:nvPr/>
        </p:nvSpPr>
        <p:spPr>
          <a:xfrm>
            <a:off x="857160" y="92880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уи Пастер (1822-189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1000080" y="1714680"/>
            <a:ext cx="6858000" cy="443844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2"/>
          <p:cNvSpPr/>
          <p:nvPr/>
        </p:nvSpPr>
        <p:spPr>
          <a:xfrm>
            <a:off x="428760" y="78588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дуард Дженнер (1749-182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1"/>
          <p:cNvSpPr/>
          <p:nvPr/>
        </p:nvSpPr>
        <p:spPr>
          <a:xfrm>
            <a:off x="938520" y="1143000"/>
            <a:ext cx="19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ц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2"/>
          <p:cNvSpPr/>
          <p:nvPr/>
        </p:nvSpPr>
        <p:spPr>
          <a:xfrm>
            <a:off x="3429000" y="1214280"/>
            <a:ext cx="47862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медицинский препарат, который изготавливается из ослабленных или убитых микроорганизм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вка- это процедура введения вакц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862920" y="3929040"/>
            <a:ext cx="250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воро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4"/>
          <p:cNvSpPr/>
          <p:nvPr/>
        </p:nvSpPr>
        <p:spPr>
          <a:xfrm>
            <a:off x="3857760" y="4071960"/>
            <a:ext cx="421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медицинский препарат, который содержит готовые антите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506520" y="2214720"/>
            <a:ext cx="2636640" cy="17049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714240" y="4500720"/>
            <a:ext cx="2786040" cy="185724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1"/>
          <p:cNvSpPr/>
          <p:nvPr/>
        </p:nvSpPr>
        <p:spPr>
          <a:xfrm>
            <a:off x="571680" y="571680"/>
            <a:ext cx="81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льная характеристика вакцины и сыворотки</a:t>
            </a:r>
            <a:r>
              <a:rPr b="1" lang="ru-RU" sz="1800" spc="-1" strike="noStrike">
                <a:solidFill>
                  <a:srgbClr val="e3ded1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714240" y="1214280"/>
          <a:ext cx="7358040" cy="5000760"/>
        </p:xfrm>
        <a:graphic>
          <a:graphicData uri="http://schemas.openxmlformats.org/drawingml/2006/table">
            <a:tbl>
              <a:tblPr/>
              <a:tblGrid>
                <a:gridCol w="2841840"/>
                <a:gridCol w="2317680"/>
                <a:gridCol w="2198520"/>
              </a:tblGrid>
              <a:tr h="907920"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срав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кц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ыворо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04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содержи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организм получает антител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32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быстро развивается иммунит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84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чего применяю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785880" y="1143000"/>
          <a:ext cx="7929360" cy="5419800"/>
        </p:xfrm>
        <a:graphic>
          <a:graphicData uri="http://schemas.openxmlformats.org/drawingml/2006/table">
            <a:tbl>
              <a:tblPr/>
              <a:tblGrid>
                <a:gridCol w="3062160"/>
                <a:gridCol w="2497320"/>
                <a:gridCol w="236988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срав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кц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ыворо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содержи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лабле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организ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ые  антите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организм получает антител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батыв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отовом ви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86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быстро развивается иммунит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тельного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и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короткого време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чего применяю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рофилакт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ле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1000080" y="642960"/>
            <a:ext cx="7238880" cy="542916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оугольник 1"/>
          <p:cNvSpPr/>
          <p:nvPr/>
        </p:nvSpPr>
        <p:spPr>
          <a:xfrm>
            <a:off x="2286000" y="199692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настоящее время среди населения проводится вакцинация против гриппа.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Для чего нам нужны привив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в одних случаях применяют вакцины, а в других – сыворот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то такое иммунитет и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каким он быв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2"/>
          <p:cNvSpPr/>
          <p:nvPr/>
        </p:nvSpPr>
        <p:spPr>
          <a:xfrm>
            <a:off x="1785960" y="1000080"/>
            <a:ext cx="60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стематизация знаний урок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5214960" y="4500720"/>
            <a:ext cx="2928960" cy="192852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1643040" y="1714680"/>
            <a:ext cx="6191280" cy="4643280"/>
          </a:xfrm>
          <a:prstGeom prst="rect">
            <a:avLst/>
          </a:prstGeom>
          <a:ln w="0">
            <a:noFill/>
          </a:ln>
        </p:spPr>
      </p:pic>
      <p:sp>
        <p:nvSpPr>
          <p:cNvPr id="281" name="Прямоугольник 3"/>
          <p:cNvSpPr/>
          <p:nvPr/>
        </p:nvSpPr>
        <p:spPr>
          <a:xfrm>
            <a:off x="2000160" y="928800"/>
            <a:ext cx="56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Verdana"/>
              </a:rPr>
              <a:t>Крепкого  вам  иммуните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Цели: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1. Сформировать понятие иммунология и определить значение данной науки для сохранения здоровья человека;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2.Сформулировать понятия вакцина и сыворотка;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3.Составить в виде таблицы сравнительную характеристику вакцины и сыворотки;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4.Рассмотреть схему классификации иммунитета;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85520" y="533520"/>
            <a:ext cx="3143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роблема: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3880" y="1447560"/>
            <a:ext cx="335772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настоящее время среди населения проводится вакцинация против гриппа.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Для чего нам нужны прививк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чему в одних случаях применяют вакцины, а в других – сыворотк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о такое иммунитет и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каким он бывает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4071960" y="1000080"/>
            <a:ext cx="4357800" cy="457200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Проверка домашнего задания: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2000"/>
          </a:bodyPr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отнесите вопросы и ответ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ТВЕТ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. Лимф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. Кровяная плазм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. Межклеточная жидк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. Тромбоци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. Лейкоци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. Эритроцит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ж. гемоглобин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. кров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из перечисленного относится к внутренней среде организма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содержится в составе кров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останется , если из крови удалить клетк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 называется жидкая часть кров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 называется белок, придающий крови красный цвет кров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асные безъ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елые 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орются с бактериями и инородными тел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вижутся ложноножками, меняют форм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ничтожают бактер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ранспортируют кислород и углекислый газ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Проверка: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вет: 1-а,в,з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- б,г,д,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- б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- б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- ж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6- 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- -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8- 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9- 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- 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1- ж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2857680" y="714240"/>
            <a:ext cx="3286080" cy="455148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"/>
          <p:cNvSpPr/>
          <p:nvPr/>
        </p:nvSpPr>
        <p:spPr>
          <a:xfrm>
            <a:off x="9000" y="5856480"/>
            <a:ext cx="65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иппократ –отец медиц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000080" y="857160"/>
            <a:ext cx="2857680" cy="2800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5214960" y="2571840"/>
            <a:ext cx="2276280" cy="285732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1"/>
          <p:cNvSpPr/>
          <p:nvPr/>
        </p:nvSpPr>
        <p:spPr>
          <a:xfrm>
            <a:off x="870840" y="3929400"/>
            <a:ext cx="293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Человек, заболевший чум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1228680" y="5958360"/>
            <a:ext cx="703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Ребёнок, заболевший осп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14680" y="1857240"/>
            <a:ext cx="563688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Иммунология?   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928880" y="500040"/>
            <a:ext cx="5214960" cy="245124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1"/>
          <p:cNvSpPr/>
          <p:nvPr/>
        </p:nvSpPr>
        <p:spPr>
          <a:xfrm>
            <a:off x="1571760" y="2928960"/>
            <a:ext cx="6000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ммуноло́гия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— наука об иммунитете живых организмов, изучающая биологические механизмы самозащиты организма от любых чужеродных веществ.</a:t>
            </a:r>
            <a:br>
              <a:rPr sz="2400"/>
            </a:b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ммунология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— это наука о строении и закономерностях функционирования иммунной системы, её заболеваниях и способах иммунотерап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3T05:05:25Z</dcterms:created>
  <dc:creator>Oksana</dc:creator>
  <dc:description/>
  <dc:language>en-US</dc:language>
  <cp:lastModifiedBy>LEGION</cp:lastModifiedBy>
  <dcterms:modified xsi:type="dcterms:W3CDTF">2015-11-27T12:49:59Z</dcterms:modified>
  <cp:revision>9</cp:revision>
  <dc:subject/>
  <dc:title>Иммунология на службе здоровья человека</dc:title>
</cp:coreProperties>
</file>