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101C-5747-4AB0-911F-BFF96951EA7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ология на службе здоровь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систематизации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мунология на службе здоровья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 систематизации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Луи Пастер (1822-189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уи Пастер (1822-189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дуард Дженнер (1749-182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Эдуард Дженнер (1749-182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кц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медицинский препарат, который изготавливается из ослабленных или убитых микроорганиз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ивка- это процедура введения вакц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воро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медицинский препарат, который содержит готовые антите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кц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медицинский препарат, который изготавливается из ослабленных или убитых микроорганизм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ивка- это процедура введения вакц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ыворо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медицинский препарат, который содержит готовые антите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лица 1. Сравнительная характеристика вакцины и сыворо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1. Сравнительная характеристика вакцины и сыворо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среди населения проводится вакцинация против гриппа. Для чего нам нужны привив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в одних случаях применяют вакцины, а в других – сыворот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иммунитет и каким он быва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зация знаний урок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среди населения проводится вакцинация против гриппа. Для чего нам нужны привив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в одних случаях применяют вакцины, а в других – сыворот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иммунитет и каким он быва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зация знаний урока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репкого  вам  иммунитет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репкого  вам  иммунитет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формировать понятие иммунология и определить значение данной науки для сохранения здоровья человек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формулировать понятия вакцина и сыворотк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Составить в виде таблицы сравнительную характеристику вакцины и сыворотк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Рассмотреть схему классификации иммунитета;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формировать понятие иммунология и определить значение данной науки для сохранения здоровья человек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Сформулировать понятия вакцина и сыворотк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Составить в виде таблицы сравнительную характеристику вакцины и сыворотк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Рассмотреть схему классификации иммунитета;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среди населения проводится вакцинация против гриппа. Для чего нам нужны привив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в одних случаях применяют вакцины, а в других – сыворот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иммунитет и каким он быва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среди населения проводится вакцинация против гриппа. Для чего нам нужны привив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в одних случаях применяют вакцины, а в других – сыворот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иммунитет и каким он быва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есите вопросы и отве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Лимф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Кровяная пла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Межклеточная жидк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Тромб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 Лейк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. Эритроц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. гемоглоб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. кров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из перечисленного относится к внутренней среде организм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одержится в составе кров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станется , если из крови удалить клет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называется жидкая часть кров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называется белок, придающий крови красный цвет кров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ные безъ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ые 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ются с бактериями и инородными те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утся ложноножками, меняют фор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чтожают бакт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ируют кислород и углекислый г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домашнего зад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несите вопросы и отве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Лим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. Кровяная пла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Межклеточная жидк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 Тромбоци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 Лейкоци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. Эритроци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. гемоглоб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. кров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из перечисленного относится к внутренней среде организм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содержится в составе кров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останется , если из крови удалить клет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называется жидкая часть кров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называется белок, придающий крови красный цвет кров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сные безъ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ые 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рются с бактериями и инородными т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утся ложноножками, меняют фор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чтожают бактер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ируют кислород и углекислый г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1-а,в,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- б,г,д,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- 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- 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- 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- 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- -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- 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- 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- 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- 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: 1-а,в,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- б,г,д,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- б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- 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- 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- 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- -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- 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- 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- 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- 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иппократ –отец медиц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иппократ –отец медиц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, заболевший чу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ёнок, заболевший осп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, заболевший чум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ёнок, заболевший осп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ммунология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ммунология?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оло́гия — наука об иммунитете живых организмов, изучающая биологические механизмы самозащиты организма от любых чужеродных вещест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ология — это наука о строении и закономерностях функционирования иммунной системы, её заболеваниях и способах иммунотерап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муноло́гия — наука об иммунитете живых организмов, изучающая биологические механизмы самозащиты организма от любых чужеродных вещест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мунология — это наука о строении и закономерностях функционирования иммунной системы, её заболеваниях и способах иммунотерап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F083-CFD4-4D15-B7C5-8CCDD1D2F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6260-BFDE-4509-A15B-518159D9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C74D-4C7C-4D55-AB37-A827E69E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FA4D-CED2-4754-AF25-459CE2C0A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6680-2B4F-4FAC-8A90-9CF6FB561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F99D-E108-4FFE-AC04-FCA5CB38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7D44-1356-488D-83C9-F7829335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B9C7-F9EC-4404-891B-7CAEAA40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231C-465F-436D-8E56-6C6452AD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CFF6-4B47-4A55-974D-6316515B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D6CC-CA7F-45D1-B9C4-94EF852C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7274-DF10-4641-BB09-1C3DBD63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7444-EBAF-4DD1-95CE-36BFFF7B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5A9B-E2C9-4653-AA9D-71ECA981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7935-FF4D-4A01-BE04-064E644D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53B7-5347-495B-933B-5E02729A2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5A7E-0575-4F59-8A7A-BC1318C8A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B59BC-5BC7-4903-9ED4-BA9D4198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C4C87-2BF3-4770-9870-7066AB10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07265-1E08-4E56-88E7-C76E6912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1147D-E0AC-46C6-B17B-02CE330A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6C10A-ACFC-4D8B-9D1C-E5E0F80C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FE1B-4468-4FEB-BF41-1D76C3E5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62D1F-7991-49C2-849A-B75DB57D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DBE4F-6F90-4638-89F0-9B10E417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0FCE2-A55B-40CF-891D-39BBC91B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6CF49-DF56-4DBD-92B5-E9099389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94F80-6DAC-4837-B906-9CB71EAA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EE156-9242-4D39-9A40-1BD1B2684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7867F-337B-4DF3-AA94-AD57CC103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A84C5-FECF-447E-BC70-334668CB1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58591-1752-42C4-AA17-48E270DE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D5BB6-A3DF-4D19-8CB7-1C3BBB3B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D7F8-9B99-4281-B8AB-1269AD19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19D4E-F3AD-4B8C-85D4-7EE1B9BA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1D16F-B273-4F44-BABD-E0D055F9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FF2A1-3909-4E64-AED8-5ED73143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0058B-DEAE-4D31-A3D7-47E3F884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4BF74-D3E2-4612-BDEA-36FBD8FE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7AE9A-79B4-4BE5-A480-6E8A1B56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6000A-66F7-4946-837E-FCD8BEB9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A876C-532B-4AAC-BCE0-341007356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F1158-2347-4EF5-B562-B326DEBA9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EB5B0-1C19-47A5-AECB-A4FB3B65E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3484-8CA1-4CAC-B52C-ADDCEDA3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61D92-4CF2-4BA9-889E-92A48324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A9536-7547-4D39-A7FF-FA1983FB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72E40-8BBB-4861-AD9A-5A48599F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E7053-4DB3-4446-BC06-06C33C28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30A61-B7EB-4DAC-A288-0F9C3943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A5BC9-0EBA-4BE9-9222-40BC20F5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8D0D6-A338-4CF6-9118-26AC578B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6D92F-C175-4EBC-B490-650CCDAA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ED618-E12A-4427-A55F-6E344D6F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714BC-65DF-4A20-BE49-72541A969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968F-5D9E-4EFD-944B-F3DA077E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FA42B-9476-4224-986A-747333B6A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0406-7D82-4743-B6D6-DBF5671F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E959-DCF5-4C07-B95E-4CBBD1D4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A006-EEFD-43B9-A93F-96643467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2DED-716C-4C08-A07F-97D7AF11B389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7863-48E7-448A-9A77-D19841489DF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C5CF-76ED-40F8-964D-472F83C110EE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5C9B-7C11-421A-B347-0113922E8EB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5CC9-B161-46A5-92BD-05603AD6896C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7C6D-F1B7-44BB-B54E-B7EDDE84E68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F898-AD0B-48EB-87E0-0B2EE568C686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72D5-9F48-4A9E-B888-72358D851D0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006E-CB79-440E-8BFC-41943DA5CA4D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5D85-54C4-4E83-996C-D419B78FE1C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ff8d3e"/>
                </a:solidFill>
                <a:latin typeface="Verdana"/>
              </a:rPr>
              <a:t>Иммунология на службе здоровья человека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рок систематизации зна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8 клас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1" descr=""/>
          <p:cNvPicPr/>
          <p:nvPr/>
        </p:nvPicPr>
        <p:blipFill>
          <a:blip r:embed="rId1"/>
          <a:stretch/>
        </p:blipFill>
        <p:spPr>
          <a:xfrm>
            <a:off x="2643120" y="785880"/>
            <a:ext cx="3810240" cy="15714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428760" y="2000160"/>
            <a:ext cx="8359560" cy="442908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2"/>
          <p:cNvSpPr/>
          <p:nvPr/>
        </p:nvSpPr>
        <p:spPr>
          <a:xfrm>
            <a:off x="857160" y="928800"/>
            <a:ext cx="77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уи Пастер (1822-189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1000080" y="1714680"/>
            <a:ext cx="6858000" cy="443844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2"/>
          <p:cNvSpPr/>
          <p:nvPr/>
        </p:nvSpPr>
        <p:spPr>
          <a:xfrm>
            <a:off x="428760" y="78588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дуард Дженнер (1749-182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1"/>
          <p:cNvSpPr/>
          <p:nvPr/>
        </p:nvSpPr>
        <p:spPr>
          <a:xfrm>
            <a:off x="938520" y="1143000"/>
            <a:ext cx="19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ц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2"/>
          <p:cNvSpPr/>
          <p:nvPr/>
        </p:nvSpPr>
        <p:spPr>
          <a:xfrm>
            <a:off x="3429000" y="1214280"/>
            <a:ext cx="47862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медицинский препарат, который изготавливается из ослабленных или убитых микроорганизм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вка- это процедура введения вакц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862920" y="3929040"/>
            <a:ext cx="250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воро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4"/>
          <p:cNvSpPr/>
          <p:nvPr/>
        </p:nvSpPr>
        <p:spPr>
          <a:xfrm>
            <a:off x="3857760" y="4071960"/>
            <a:ext cx="421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медицинский препарат, который содержит готовые антите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506520" y="2214720"/>
            <a:ext cx="2636640" cy="17049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"/>
          <p:cNvPicPr/>
          <p:nvPr/>
        </p:nvPicPr>
        <p:blipFill>
          <a:blip r:embed="rId2"/>
          <a:stretch/>
        </p:blipFill>
        <p:spPr>
          <a:xfrm>
            <a:off x="714240" y="4500720"/>
            <a:ext cx="2786040" cy="185724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1"/>
          <p:cNvSpPr/>
          <p:nvPr/>
        </p:nvSpPr>
        <p:spPr>
          <a:xfrm>
            <a:off x="571680" y="571680"/>
            <a:ext cx="81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льная характеристика вакцины и сыворотки</a:t>
            </a:r>
            <a:r>
              <a:rPr b="1" lang="ru-RU" sz="1800" spc="-1" strike="noStrike">
                <a:solidFill>
                  <a:srgbClr val="e3ded1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714240" y="1214280"/>
          <a:ext cx="7358040" cy="5000760"/>
        </p:xfrm>
        <a:graphic>
          <a:graphicData uri="http://schemas.openxmlformats.org/drawingml/2006/table">
            <a:tbl>
              <a:tblPr/>
              <a:tblGrid>
                <a:gridCol w="2841840"/>
                <a:gridCol w="2317680"/>
                <a:gridCol w="2198520"/>
              </a:tblGrid>
              <a:tr h="907920"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срав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кц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ыворот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04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содержи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организм получает антител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32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быстро развивается иммунит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84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чего применяю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785880" y="1143000"/>
          <a:ext cx="7929360" cy="5419800"/>
        </p:xfrm>
        <a:graphic>
          <a:graphicData uri="http://schemas.openxmlformats.org/drawingml/2006/table">
            <a:tbl>
              <a:tblPr/>
              <a:tblGrid>
                <a:gridCol w="3062160"/>
                <a:gridCol w="2497320"/>
                <a:gridCol w="236988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срав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кц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ыворот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содержи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лабле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организ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ые  антите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организм получает антител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абатыв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готовом ви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86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быстро развивается иммунит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тельного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и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короткого време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чего применяю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рофилакт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ле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1000080" y="642960"/>
            <a:ext cx="7238880" cy="542916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оугольник 1"/>
          <p:cNvSpPr/>
          <p:nvPr/>
        </p:nvSpPr>
        <p:spPr>
          <a:xfrm>
            <a:off x="2286000" y="199692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настоящее время среди населения проводится вакцинация против гриппа.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Для чего нам нужны привив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в одних случаях применяют вакцины, а в других – сыворот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то такое иммунитет и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каким он быв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2"/>
          <p:cNvSpPr/>
          <p:nvPr/>
        </p:nvSpPr>
        <p:spPr>
          <a:xfrm>
            <a:off x="1785960" y="1000080"/>
            <a:ext cx="60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стематизация знаний урок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5214960" y="4500720"/>
            <a:ext cx="2928960" cy="192852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1643040" y="1714680"/>
            <a:ext cx="6191280" cy="4643280"/>
          </a:xfrm>
          <a:prstGeom prst="rect">
            <a:avLst/>
          </a:prstGeom>
          <a:ln w="0">
            <a:noFill/>
          </a:ln>
        </p:spPr>
      </p:pic>
      <p:sp>
        <p:nvSpPr>
          <p:cNvPr id="281" name="Прямоугольник 3"/>
          <p:cNvSpPr/>
          <p:nvPr/>
        </p:nvSpPr>
        <p:spPr>
          <a:xfrm>
            <a:off x="2000160" y="928800"/>
            <a:ext cx="56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Verdana"/>
              </a:rPr>
              <a:t>Крепкого  вам  иммуните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Цели: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1. Сформировать понятие иммунология и определить значение данной науки для сохранения здоровья человека;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2.Сформулировать понятия вакцина и сыворотка;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3.Составить в виде таблицы сравнительную характеристику вакцины и сыворотки;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4.Рассмотреть схему классификации иммунитета;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85520" y="533520"/>
            <a:ext cx="3143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роблема: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3880" y="1447560"/>
            <a:ext cx="3357720" cy="4206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настоящее время среди населения проводится вакцинация против гриппа.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Для чего нам нужны прививк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чему в одних случаях применяют вакцины, а в других – сыворотк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то такое иммунитет и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каким он бывает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4071960" y="1000080"/>
            <a:ext cx="4357800" cy="457200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Проверка домашнего задания: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2000"/>
          </a:bodyPr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отнесите вопросы и ответ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ТВЕТ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. Лимф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. Кровяная плазм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. Межклеточная жидк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. Тромбоци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. Лейкоци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. Эритроцит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ж. гемоглобин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. кров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из перечисленного относится к внутренней среде организма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содержится в составе кров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останется , если из крови удалить клетк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 называется жидкая часть кров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 называется белок, придающий крови красный цвет кров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асные безъ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елые 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орются с бактериями и инородными тел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вижутся ложноножками, меняют форм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ничтожают бактер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ранспортируют кислород и углекислый газ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Проверка: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вет: 1-а,в,з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- б,г,д,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- б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- б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- ж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6- 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- -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8- 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9- 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- 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1- ж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2857680" y="714240"/>
            <a:ext cx="3286080" cy="455148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"/>
          <p:cNvSpPr/>
          <p:nvPr/>
        </p:nvSpPr>
        <p:spPr>
          <a:xfrm>
            <a:off x="9000" y="5856480"/>
            <a:ext cx="65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иппократ –отец медиц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1000080" y="857160"/>
            <a:ext cx="2857680" cy="2800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5214960" y="2571840"/>
            <a:ext cx="2276280" cy="285732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1"/>
          <p:cNvSpPr/>
          <p:nvPr/>
        </p:nvSpPr>
        <p:spPr>
          <a:xfrm>
            <a:off x="870840" y="3929400"/>
            <a:ext cx="293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Человек, заболевший чум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1228680" y="5958360"/>
            <a:ext cx="703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Ребёнок, заболевший осп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14680" y="1857240"/>
            <a:ext cx="563688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Иммунология?   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928880" y="500040"/>
            <a:ext cx="5214960" cy="245124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1"/>
          <p:cNvSpPr/>
          <p:nvPr/>
        </p:nvSpPr>
        <p:spPr>
          <a:xfrm>
            <a:off x="1571760" y="2928960"/>
            <a:ext cx="6000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ммуноло́гия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— наука об иммунитете живых организмов, изучающая биологические механизмы самозащиты организма от любых чужеродных веществ.</a:t>
            </a:r>
            <a:br>
              <a:rPr sz="2400"/>
            </a:b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ммунология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— это наука о строении и закономерностях функционирования иммунной системы, её заболеваниях и способах иммунотерап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3T05:05:25Z</dcterms:created>
  <dc:creator>Oksana</dc:creator>
  <dc:description/>
  <dc:language>en-US</dc:language>
  <cp:lastModifiedBy>LEGION</cp:lastModifiedBy>
  <dcterms:modified xsi:type="dcterms:W3CDTF">2015-11-27T12:49:59Z</dcterms:modified>
  <cp:revision>9</cp:revision>
  <dc:subject/>
  <dc:title>Иммунология на службе здоровья человека</dc:title>
</cp:coreProperties>
</file>