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3.jpeg" ContentType="image/jpeg"/>
  <Override PartName="/ppt/media/image27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gif" ContentType="image/gif"/>
  <Override PartName="/ppt/media/image17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423C-8967-4C49-A043-B76623653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40C7-458D-40C8-B8CA-DBF69808EC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895F-A612-4226-A574-0B724FA938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D9B7-4D2C-406F-9F45-33B5C87AA0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CB12-9A2F-4654-B420-93180D2BF0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ен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ух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BD23-899A-491E-9112-8828FD6524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B857-BC61-43AE-81F4-92BDF2A68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9E02-EDDF-4B48-84DF-351CA94E0E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A6D0-9DC7-49CA-A365-9C26457C72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начало по природе своей изменчиво: стихия мира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го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вечен, но не неизменен: в нём всё течёт, всё меняется, и даж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одну и ту же реку нельзя войти дваж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ё возникает через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орьбу противоположносте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эта борьба порождает не хаос, а упорядоченный космос, подчинённый разумному принципу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го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8317-7B3B-411E-802F-ABFF719A9F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7ECB-5F6B-4AD9-A47A-F9F4263111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65CB-A8F6-4C38-9B04-28658BA37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140D-7C8C-4DD5-9BEE-8F9DEA7018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единого перво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архе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лес: вода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андр: апейрон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ен: воздух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ейская школ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: мир как единое, вечное и 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ы Зенона: обоснование элейской онт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я места (немыслимость пуст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множества (немыслимость множ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движения (немыслимость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5143-3F47-457B-A60E-21EE1E2E7A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есть, небытия нет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едино и неделим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вечно и неизменн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бытие немысли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A080-6697-4809-B0F6-A9A70F2AC8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7B4B-584B-440F-8EFC-35A20BBFB6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я мес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пуст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множест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множ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движ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дви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2FAF-1117-4BCE-8DCA-41E4186FE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BADC-4157-43AD-AD6A-AA3AE37459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мес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EA7A-35A9-4D2C-B4BA-E546AC456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делим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1EFF-E382-4B82-B825-4F58BCB85A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слож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165D-E16A-4C5A-B65C-F19093DBD2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счис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256D-63CF-4752-B271-C2DDF8468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E481-D81C-4992-8ADA-C37C296B71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FE0C-F1E4-4F82-9189-0EBAF016DB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3952-05B5-4C4B-A787-06EC6DFFF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286B-38A6-4B57-8E04-F157CCDCAB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D0B1-40C5-4329-B15C-850A4E8F2B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0139-D6AB-44E0-960C-1C72B83C69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BCDB-3220-4060-BE39-0B77AD7F8C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и движ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62B7-7AEB-4118-A545-7864331842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5F86-5A74-4432-B570-CAEDC624D4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DB00-A827-4F3D-A2C5-18D1A4BE97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BB2F-6F7D-4F9F-B7C4-C336B29DDC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E6E0-026D-415C-8E3F-98F286404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792B-B850-41D4-B29D-47BE50D3E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0977-2C2D-4BE4-B2B3-2F1A889C49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76FC-7479-4045-BA0C-E798DC1A04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72AE-2783-44EE-BD3E-E949494A9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D4D5-28B6-413A-944A-2E8E5B570F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1F65-5284-4F99-A53B-8F3213533D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да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D6A6-3BB6-42A7-892A-337E7237F5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304-73D1-4637-A167-1B8F8E6B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A51-3E53-4374-AAD8-6FF6DCAD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A41-48B2-4B22-B5BB-4BDBEF6A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965-A7A9-4232-9495-D6AF4B2E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CF3-A5EA-4E96-8B6D-0FB79685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C808-3881-4AB3-9C95-65015403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668-3BD1-43B3-BD2B-249BA4C0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7D6-78A4-4682-BB6A-09783DDD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D11-67EA-49F9-B354-0830BFD8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E0E0-A13D-4D4A-B68B-6E39622A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FA9-6BD0-475F-9D31-AA5A7ADC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78B-A940-47A1-82A3-F83E176A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3293-8E3B-4DC1-BA43-DE68F1AAD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71680" y="285840"/>
            <a:ext cx="7922880" cy="18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463760" y="2338560"/>
            <a:ext cx="6215040" cy="23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йр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πειρο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рицательная приста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έρα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конец, преде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значающ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бесконеч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беспредель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/и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неопределён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122880" y="503712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 Лаэрт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жизни, учения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речениях знаменит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 rot="10800000">
            <a:off x="28692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наксимандр Милетский... учи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началом и основ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яется беспредель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определял его ни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ух, ни как воду, ни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-либо иное. Он учил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и изменяются, целое 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таётся неизме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Диоген Лаэртский (обложка книги-цв)"/>
          <p:cNvPicPr/>
          <p:nvPr/>
        </p:nvPicPr>
        <p:blipFill>
          <a:blip r:embed="rId1"/>
          <a:stretch/>
        </p:blipFill>
        <p:spPr>
          <a:xfrm>
            <a:off x="6764400" y="1978200"/>
            <a:ext cx="1636560" cy="215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ух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53080" y="5397480"/>
            <a:ext cx="200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пполи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овер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х ерес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 rot="10800000">
            <a:off x="251784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аксимен... полагал, что начало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ый возду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то, что есть, что было и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гущаясь и разрежаясь,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воздух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обретает видимые различ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, растекшись до более разреже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я, он становится огнё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 состоянии возвращ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ирод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здуха; по мере сгущ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оздуха путем «валяния» образу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ко, сгустившись ещё больше,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он становится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дой, ещё больш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млёй, а достигнув преде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лотности – камня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ippolytus-cl-red"/>
          <p:cNvPicPr/>
          <p:nvPr/>
        </p:nvPicPr>
        <p:blipFill>
          <a:blip r:embed="rId1"/>
          <a:stretch/>
        </p:blipFill>
        <p:spPr>
          <a:xfrm>
            <a:off x="395280" y="1727280"/>
            <a:ext cx="2019240" cy="3429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3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2"/>
          <p:cNvSpPr/>
          <p:nvPr/>
        </p:nvSpPr>
        <p:spPr>
          <a:xfrm>
            <a:off x="77004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1330200" y="1619280"/>
            <a:ext cx="6478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луч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е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измен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чив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187020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рак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934920" y="5253120"/>
            <a:ext cx="3454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ечное 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415560" y="5181480"/>
            <a:ext cx="1678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540 - 4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 rot="10800000">
            <a:off x="538200" y="1940040"/>
            <a:ext cx="4857840" cy="3814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космо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т же самый для всех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здал ник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из богов, ни из лю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гда был, есть и 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чно жив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нё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згорающим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гасающи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Гераклит Эфесский (red)"/>
          <p:cNvPicPr/>
          <p:nvPr/>
        </p:nvPicPr>
        <p:blipFill>
          <a:blip r:embed="rId1"/>
          <a:stretch/>
        </p:blipFill>
        <p:spPr>
          <a:xfrm>
            <a:off x="6081840" y="1978200"/>
            <a:ext cx="2247840" cy="289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98560" y="178128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начало по природе своей изменчиво: стихия мира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вечен, но не неизменен: в нём всё течёт, всё меняется, и даж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одну и ту же реку нельзя войти два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ё возникает через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орьбу противоположносте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эта борьба порождает не хаос, а упорядоченный космос, подчинённый разумному принципу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ог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Гераклит-река-огонь"/>
          <p:cNvPicPr/>
          <p:nvPr/>
        </p:nvPicPr>
        <p:blipFill>
          <a:blip r:embed="rId1"/>
          <a:stretch/>
        </p:blipFill>
        <p:spPr>
          <a:xfrm>
            <a:off x="898560" y="2924280"/>
            <a:ext cx="1957320" cy="28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2" name="Picture 5" descr="ddwfire"/>
          <p:cNvPicPr/>
          <p:nvPr/>
        </p:nvPicPr>
        <p:blipFill>
          <a:blip r:embed="rId2"/>
          <a:stretch/>
        </p:blipFill>
        <p:spPr>
          <a:xfrm>
            <a:off x="1619280" y="1690560"/>
            <a:ext cx="457200" cy="7430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6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56000" y="5397480"/>
            <a:ext cx="1709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 540/5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828040" y="5397480"/>
            <a:ext cx="1678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н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490 - 4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Zeno (Neapel, Nationalmuseum 1)_com3"/>
          <p:cNvPicPr/>
          <p:nvPr/>
        </p:nvPicPr>
        <p:blipFill>
          <a:blip r:embed="rId1"/>
          <a:stretch/>
        </p:blipFill>
        <p:spPr>
          <a:xfrm>
            <a:off x="5505480" y="2158920"/>
            <a:ext cx="22906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7" name="Picture 11" descr="Парменид (Элея)-c1-sized-08"/>
          <p:cNvPicPr/>
          <p:nvPr/>
        </p:nvPicPr>
        <p:blipFill>
          <a:blip r:embed="rId2"/>
          <a:stretch/>
        </p:blipFill>
        <p:spPr>
          <a:xfrm>
            <a:off x="1438200" y="2158920"/>
            <a:ext cx="2158920" cy="28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13"/>
          <p:cNvSpPr/>
          <p:nvPr/>
        </p:nvSpPr>
        <p:spPr>
          <a:xfrm flipH="1">
            <a:off x="708192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77004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330200" y="1619280"/>
            <a:ext cx="6478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луч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е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измен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чив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50548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е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934920" y="5253120"/>
            <a:ext cx="3454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ечное 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4570560" y="5253120"/>
            <a:ext cx="3454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 вечное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7020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рак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3760" y="358920"/>
            <a:ext cx="8373960" cy="64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единого перво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архе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лес: вода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андр: апейрон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ен: воздух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ейская школ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: мир как единое, вечное и 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ы Зенона: обоснование элейской онт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я места (немыслимость пуст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множества (немыслимость множ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движения (немыслимость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4120" y="1781280"/>
            <a:ext cx="23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есть, небытия нет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едино и неделимо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вечно и неизменно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бытие немысл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238560" y="169056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е не может быть несуществующи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-сущее же не может суще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3238560" y="282420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допущении множественности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дётся допустить бытие не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238560" y="395748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е не может ни возни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-сущего, ни сделаться не-су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3238560" y="509112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 и то же – мыс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редмет мы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408000" y="5145120"/>
            <a:ext cx="239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ел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История запад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 rot="10800000">
            <a:off x="178920" y="1977840"/>
            <a:ext cx="6118200" cy="41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асто говорят, что Парменид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зобрёл логику, но в действи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 изобрё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изик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ную на логике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философии это первый пример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широк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гументации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мысли и языка к миру в целом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у аргументацию нельзя, конеч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читать основатель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в то же время стоит посмотре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ой элемент истины она содержит.</a:t>
            </a:r>
            <a:br>
              <a:rPr sz="1800"/>
            </a:b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Рассел (Хеар - red)"/>
          <p:cNvPicPr/>
          <p:nvPr/>
        </p:nvPicPr>
        <p:blipFill>
          <a:blip r:embed="rId1"/>
          <a:stretch/>
        </p:blipFill>
        <p:spPr>
          <a:xfrm>
            <a:off x="6116760" y="1978200"/>
            <a:ext cx="2571480" cy="25239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78128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я мес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пуст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множест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множ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движ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дви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176480" y="2338560"/>
            <a:ext cx="6791040" cy="23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по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ú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πορί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труднение, безвыходное положение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рицательная приставка,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όρ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вых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значающе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рудноразрешим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1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м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719280" y="1654200"/>
            <a:ext cx="4317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условием 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нахо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мес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1798560" y="291456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и само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ь скоро оно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же должно наход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2878200" y="4173480"/>
            <a:ext cx="431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будет уже «второе»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оно должно существо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«третьем» мес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3957480" y="543384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устое место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что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ное от того, местом ч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мысл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6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7"/>
          <p:cNvSpPr/>
          <p:nvPr/>
        </p:nvSpPr>
        <p:spPr>
          <a:xfrm>
            <a:off x="5681520" y="5019840"/>
            <a:ext cx="733680" cy="117612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6"/>
          <p:cNvSpPr/>
          <p:nvPr/>
        </p:nvSpPr>
        <p:spPr>
          <a:xfrm>
            <a:off x="272412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492912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3"/>
          <p:cNvSpPr/>
          <p:nvPr/>
        </p:nvSpPr>
        <p:spPr>
          <a:xfrm>
            <a:off x="347508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дел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б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каждую частицу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дётся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в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ён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0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1"/>
          <p:cNvSpPr/>
          <p:nvPr/>
        </p:nvSpPr>
        <p:spPr>
          <a:xfrm>
            <a:off x="131616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делимую д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ст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566424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результ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ения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5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8"/>
          <p:cNvSpPr/>
          <p:nvPr/>
        </p:nvSpPr>
        <p:spPr>
          <a:xfrm>
            <a:off x="3454560" y="5505480"/>
            <a:ext cx="223200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разуме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6"/>
          <p:cNvSpPr/>
          <p:nvPr/>
        </p:nvSpPr>
        <p:spPr>
          <a:xfrm>
            <a:off x="6905520" y="5019840"/>
            <a:ext cx="733680" cy="117612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150012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"/>
          <p:cNvSpPr/>
          <p:nvPr/>
        </p:nvSpPr>
        <p:spPr>
          <a:xfrm>
            <a:off x="492912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347508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б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состоит из ча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го придётся приз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ён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131616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его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 какую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ин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566424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его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ют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3"/>
          <p:cNvSpPr/>
          <p:nvPr/>
        </p:nvSpPr>
        <p:spPr>
          <a:xfrm>
            <a:off x="2230560" y="5505480"/>
            <a:ext cx="2195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тогда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4713120" y="5505480"/>
            <a:ext cx="2195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тличим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не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4"/>
          <p:cNvSpPr/>
          <p:nvPr/>
        </p:nvSpPr>
        <p:spPr>
          <a:xfrm>
            <a:off x="564516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275904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464184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3763800" y="3957480"/>
            <a:ext cx="733680" cy="117648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суще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гое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исло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дётся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884160" y="4425840"/>
            <a:ext cx="287964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ак как их будет ро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, сколько есть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ольше, ни меньш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>
            <a:off x="5375160" y="4425840"/>
            <a:ext cx="288000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ак как меж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быми из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ут други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2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5"/>
          <p:cNvSpPr/>
          <p:nvPr/>
        </p:nvSpPr>
        <p:spPr>
          <a:xfrm>
            <a:off x="3489480" y="5505480"/>
            <a:ext cx="215892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разуме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3"/>
          <p:cNvSpPr/>
          <p:nvPr/>
        </p:nvSpPr>
        <p:spPr>
          <a:xfrm>
            <a:off x="2863800" y="424656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719280" y="172728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строногий Ахил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когда не догон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дленно ползущую черепах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233856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прежде, чем догнать её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будет пройти то мест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которого она выш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95748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за это время черепах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йдёт вперёд и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ять окаж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пер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хил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1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2" descr="Ахилл"/>
          <p:cNvPicPr/>
          <p:nvPr/>
        </p:nvPicPr>
        <p:blipFill>
          <a:blip r:embed="rId1"/>
          <a:stretch/>
        </p:blipFill>
        <p:spPr>
          <a:xfrm>
            <a:off x="1079640" y="2698920"/>
            <a:ext cx="1868400" cy="2573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Черепаха-7"/>
          <p:cNvPicPr/>
          <p:nvPr/>
        </p:nvPicPr>
        <p:blipFill>
          <a:blip r:embed="rId2"/>
          <a:stretch/>
        </p:blipFill>
        <p:spPr>
          <a:xfrm>
            <a:off x="6369120" y="4210200"/>
            <a:ext cx="1200240" cy="6760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0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Oval 7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>
            <a:off x="83851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80247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741348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59371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Черепаха-5"/>
          <p:cNvPicPr/>
          <p:nvPr/>
        </p:nvPicPr>
        <p:blipFill>
          <a:blip r:embed="rId1"/>
          <a:stretch/>
        </p:blipFill>
        <p:spPr>
          <a:xfrm>
            <a:off x="5505480" y="4246560"/>
            <a:ext cx="1000080" cy="6667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Ахилл-2"/>
          <p:cNvPicPr/>
          <p:nvPr/>
        </p:nvPicPr>
        <p:blipFill>
          <a:blip r:embed="rId2"/>
          <a:stretch/>
        </p:blipFill>
        <p:spPr>
          <a:xfrm>
            <a:off x="611280" y="3238560"/>
            <a:ext cx="1735200" cy="179208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2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6" dur="3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3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L 0.48802 0.00231 E">
                                      <p:cBhvr>
                                        <p:cTn id="950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0.15799 0.00024 E">
                                      <p:cBhvr>
                                        <p:cTn id="952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802 0.00231 L 0.6533 0.00231 E">
                                      <p:cBhvr>
                                        <p:cTn id="966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99 0.00024 L 0.22118 0.00024 E">
                                      <p:cBhvr>
                                        <p:cTn id="968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33 0.00231 L 0.71632 0.00231 E">
                                      <p:cBhvr>
                                        <p:cTn id="98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18 0.00024 L 0.26059 0.00024 E">
                                      <p:cBhvr>
                                        <p:cTn id="984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463760" y="2158920"/>
            <a:ext cx="6215040" cy="359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u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хотом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ú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διχοτομί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δίχ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 две част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τομ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сечение, раздел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) деление целого на две части (с возмож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ледующим делением каждой из ча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две подчасти и т.д.)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 метод классификации, состоящий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ении объёма понятия (класса, множества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два подчинённых взаимоисключающих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речащих) понятия, суммарный объё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х исчерпывает объём делимого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2863800" y="424656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719280" y="172728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хилл вооб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двинется с мес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, впрочем, и черепах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95748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жде, чем пройти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место, он должен прой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сто, которое нах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полпути между ни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234000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прежде, ч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ться до любого ме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пройти то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ходи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пу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им и первым мес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0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15462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1690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1906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22669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130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46782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80964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Черепаха-5"/>
          <p:cNvPicPr/>
          <p:nvPr/>
        </p:nvPicPr>
        <p:blipFill>
          <a:blip r:embed="rId1"/>
          <a:stretch/>
        </p:blipFill>
        <p:spPr>
          <a:xfrm>
            <a:off x="7629480" y="4246560"/>
            <a:ext cx="1000080" cy="6667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1" descr="Ахилл-2"/>
          <p:cNvPicPr/>
          <p:nvPr/>
        </p:nvPicPr>
        <p:blipFill>
          <a:blip r:embed="rId2"/>
          <a:stretch/>
        </p:blipFill>
        <p:spPr>
          <a:xfrm>
            <a:off x="611280" y="3238560"/>
            <a:ext cx="1735200" cy="179208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72431 0.00463 E">
                                      <p:cBhvr>
                                        <p:cTn id="106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31 L 0.34636 0.00231 E">
                                      <p:cBhvr>
                                        <p:cTn id="107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31 L 0.1809 0.00231 E">
                                      <p:cBhvr>
                                        <p:cTn id="1091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8646 0.00231 E">
                                      <p:cBhvr>
                                        <p:cTn id="1105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8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4705 0.00231 E">
                                      <p:cBhvr>
                                        <p:cTn id="111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2344 0.00231 E">
                                      <p:cBhvr>
                                        <p:cTn id="113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0764 0.00231 E">
                                      <p:cBhvr>
                                        <p:cTn id="114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и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 rot="10800000">
            <a:off x="358560" y="1870200"/>
            <a:ext cx="395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ерв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ве апор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монстрируют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мыслимость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допущен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 rot="10800000">
            <a:off x="4678200" y="187020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ве послед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пор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монстрируют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мыслимость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допущен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ел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3043080" y="424656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39640" y="172728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тящая стре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момент врем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нимает какое-то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остранств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её нет вообщ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413856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в этом мест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двигаться некуд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а покои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о верно для люб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ста её траек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234000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занимает в пространств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сто, равное её размеру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ольше, ни ме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она была бы бол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меньше себя сам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6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1719360" y="2698920"/>
            <a:ext cx="0" cy="1820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"/>
          <p:cNvSpPr/>
          <p:nvPr/>
        </p:nvSpPr>
        <p:spPr>
          <a:xfrm>
            <a:off x="7423200" y="2698920"/>
            <a:ext cx="0" cy="1820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"/>
          <p:cNvSpPr/>
          <p:nvPr/>
        </p:nvSpPr>
        <p:spPr>
          <a:xfrm>
            <a:off x="1000080" y="3417840"/>
            <a:ext cx="71438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6"/>
          <p:cNvSpPr/>
          <p:nvPr/>
        </p:nvSpPr>
        <p:spPr>
          <a:xfrm>
            <a:off x="1000080" y="3798720"/>
            <a:ext cx="71438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arrow01"/>
          <p:cNvPicPr/>
          <p:nvPr/>
        </p:nvPicPr>
        <p:blipFill>
          <a:blip r:embed="rId1"/>
          <a:stretch/>
        </p:blipFill>
        <p:spPr>
          <a:xfrm>
            <a:off x="1719360" y="3440160"/>
            <a:ext cx="5705280" cy="33336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7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6"/>
          <p:cNvSpPr/>
          <p:nvPr/>
        </p:nvSpPr>
        <p:spPr>
          <a:xfrm>
            <a:off x="2986200" y="4965840"/>
            <a:ext cx="575784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получится, что минималь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делима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диница време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абсурдно. (Ра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имой окажется и минималь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неделимая, единица простран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1892160" y="433548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625320" y="2608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466560" y="1511280"/>
            <a:ext cx="575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ве колесниц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утся навстречу друг друга со скорость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й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нимальной единице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странства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за минимальную единицу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мо третьей – неподвижной – колес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1727280" y="3238560"/>
            <a:ext cx="575784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и пройдут расстоя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е минимальной единиц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ра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нимальную единицу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неподвижной колесницы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ловину минимальной единицы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Зенон Элейский"/>
          <p:cNvPicPr/>
          <p:nvPr/>
        </p:nvPicPr>
        <p:blipFill>
          <a:blip r:embed="rId1"/>
          <a:stretch/>
        </p:blipFill>
        <p:spPr>
          <a:xfrm>
            <a:off x="7197840" y="971640"/>
            <a:ext cx="1547640" cy="19796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3525840" y="1798560"/>
            <a:ext cx="0" cy="4318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"/>
          <p:cNvSpPr/>
          <p:nvPr/>
        </p:nvSpPr>
        <p:spPr>
          <a:xfrm>
            <a:off x="5684760" y="1798560"/>
            <a:ext cx="0" cy="4318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Колесница-1"/>
          <p:cNvPicPr/>
          <p:nvPr/>
        </p:nvPicPr>
        <p:blipFill>
          <a:blip r:embed="rId1"/>
          <a:stretch/>
        </p:blipFill>
        <p:spPr>
          <a:xfrm>
            <a:off x="2446200" y="3238560"/>
            <a:ext cx="2159280" cy="129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Колесница-1"/>
          <p:cNvPicPr/>
          <p:nvPr/>
        </p:nvPicPr>
        <p:blipFill>
          <a:blip r:embed="rId2"/>
          <a:stretch/>
        </p:blipFill>
        <p:spPr>
          <a:xfrm>
            <a:off x="4605480" y="4537080"/>
            <a:ext cx="2158920" cy="1300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Колесница-3"/>
          <p:cNvPicPr/>
          <p:nvPr/>
        </p:nvPicPr>
        <p:blipFill>
          <a:blip r:embed="rId3"/>
          <a:stretch/>
        </p:blipFill>
        <p:spPr>
          <a:xfrm>
            <a:off x="3525840" y="1982880"/>
            <a:ext cx="2158920" cy="122544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1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5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L 0.12222 -4.44444E-006 E">
                                      <p:cBhvr>
                                        <p:cTn id="1331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48148E-006 L -0.1217 -1.48148E-006 E">
                                      <p:cBhvr>
                                        <p:cTn id="133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7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1" dur="3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3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719280" y="1654200"/>
            <a:ext cx="4317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идетельствует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усто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и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ож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они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1798560" y="291456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позволяют утвержд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усто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идетельствуют о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огих движущихс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2878200" y="4173480"/>
            <a:ext cx="431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есть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а источника зн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в чём-то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тивореч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9"/>
          <p:cNvSpPr/>
          <p:nvPr/>
        </p:nvSpPr>
        <p:spPr>
          <a:xfrm>
            <a:off x="3957480" y="543384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й же из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призн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вер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1" descr="Зенон Элейский"/>
          <p:cNvPicPr/>
          <p:nvPr/>
        </p:nvPicPr>
        <p:blipFill>
          <a:blip r:embed="rId1"/>
          <a:stretch/>
        </p:blipFill>
        <p:spPr>
          <a:xfrm>
            <a:off x="7197840" y="1619280"/>
            <a:ext cx="1406520" cy="1798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3" descr="Parmenides (Raphael) - ed"/>
          <p:cNvPicPr/>
          <p:nvPr/>
        </p:nvPicPr>
        <p:blipFill>
          <a:blip r:embed="rId2"/>
          <a:stretch/>
        </p:blipFill>
        <p:spPr>
          <a:xfrm>
            <a:off x="358920" y="4317840"/>
            <a:ext cx="1716120" cy="215748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0" descr="Анаксимандр (1обр)"/>
          <p:cNvPicPr/>
          <p:nvPr/>
        </p:nvPicPr>
        <p:blipFill>
          <a:blip r:embed="rId1"/>
          <a:stretch/>
        </p:blipFill>
        <p:spPr>
          <a:xfrm>
            <a:off x="3562200" y="2158920"/>
            <a:ext cx="201168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2" name="Picture 15" descr="thales (1-2)"/>
          <p:cNvPicPr/>
          <p:nvPr/>
        </p:nvPicPr>
        <p:blipFill>
          <a:blip r:embed="rId2"/>
          <a:stretch/>
        </p:blipFill>
        <p:spPr>
          <a:xfrm>
            <a:off x="900000" y="1619280"/>
            <a:ext cx="188280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3" name="Picture 23" descr="Анаксимен (2)"/>
          <p:cNvPicPr/>
          <p:nvPr/>
        </p:nvPicPr>
        <p:blipFill>
          <a:blip r:embed="rId3"/>
          <a:stretch/>
        </p:blipFill>
        <p:spPr>
          <a:xfrm>
            <a:off x="6224760" y="2698920"/>
            <a:ext cx="219204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25"/>
          <p:cNvSpPr/>
          <p:nvPr/>
        </p:nvSpPr>
        <p:spPr>
          <a:xfrm>
            <a:off x="1070640" y="4497480"/>
            <a:ext cx="1551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3538080" y="5037120"/>
            <a:ext cx="20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610 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. 5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284520" y="5576760"/>
            <a:ext cx="20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ксиме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588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к. 5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nodeType="clickEffect" fill="hold">
                      <p:stCondLst>
                        <p:cond delay="0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690560" y="1978200"/>
            <a:ext cx="5757840" cy="323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заимопревращения веществ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идетельствуют, чт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 видимым многообразием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спринимаемого мир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рыв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ервонач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355760" y="1798560"/>
            <a:ext cx="6431040" cy="4318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ρχ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rincipiu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зна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о (принцип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правной мом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сходную точку) чего-либ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пространственном и временном смысл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о как зачин ил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чин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его-либ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о ка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ьств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вла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специфически философском употреблени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нтологическое начал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первоначало)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о позн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гносеологический принцип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651720" y="55767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0800000">
            <a:off x="21600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большинство первых философ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ло началом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, из ч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оят все вещ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чего как перв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возникают и во что как в послед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, погибая, превращаются, прич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хотя и остаётся, но измен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их проявлениях, – это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ют элементом и началом вещ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тому они полагают, что ни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зникает и не исчезает;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 некоторое естество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дно, или больше одного, отку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ет всё остальное, в то врем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амо это естество сохраняет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Рафаэль, Аристотель (голова - red)"/>
          <p:cNvPicPr/>
          <p:nvPr/>
        </p:nvPicPr>
        <p:blipFill>
          <a:blip r:embed="rId1"/>
          <a:stretch/>
        </p:blipFill>
        <p:spPr>
          <a:xfrm>
            <a:off x="6405480" y="1798560"/>
            <a:ext cx="2419560" cy="1971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да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651720" y="55767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 rot="10800000">
            <a:off x="21600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количества и вида т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 не все учили одинаково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ле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тель такого рода философии 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ал, что начало – в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потому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являл, что земля находится на воде)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этому предположению он, быть мож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шёл, видя, что пища всех суще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жная и что само тепло возникае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ги и ею жив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а то, из чего всё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никает – это и есть начало всего)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он именно поэт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шёл к своему предположен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тому, что семена вс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природ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жны, а нач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влажного –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Рафаэль, Аристотель (голова - red)"/>
          <p:cNvPicPr/>
          <p:nvPr/>
        </p:nvPicPr>
        <p:blipFill>
          <a:blip r:embed="rId1"/>
          <a:stretch/>
        </p:blipFill>
        <p:spPr>
          <a:xfrm>
            <a:off x="6405480" y="1798560"/>
            <a:ext cx="2419560" cy="19717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050920" y="1727280"/>
            <a:ext cx="251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илосо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570560" y="1727280"/>
            <a:ext cx="25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ерво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790560" y="1727280"/>
            <a:ext cx="125892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050920" y="280656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а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570560" y="280656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050920" y="403056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аксим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570560" y="403056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пейрон</a:t>
            </a:r>
            <a:br>
              <a:rPr sz="24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(беспредельное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еопределён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050920" y="525312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акси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570560" y="525312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790560" y="2806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90560" y="4030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790560" y="525312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5" descr="thales (1-2)"/>
          <p:cNvPicPr/>
          <p:nvPr/>
        </p:nvPicPr>
        <p:blipFill>
          <a:blip r:embed="rId1"/>
          <a:stretch/>
        </p:blipFill>
        <p:spPr>
          <a:xfrm>
            <a:off x="1017720" y="2878200"/>
            <a:ext cx="806400" cy="10778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98" name="Picture 16" descr="Анаксимандр (1обр)"/>
          <p:cNvPicPr/>
          <p:nvPr/>
        </p:nvPicPr>
        <p:blipFill>
          <a:blip r:embed="rId2"/>
          <a:stretch/>
        </p:blipFill>
        <p:spPr>
          <a:xfrm>
            <a:off x="1006560" y="4102200"/>
            <a:ext cx="860400" cy="10792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99" name="Picture 17" descr="Анаксимен (2)"/>
          <p:cNvPicPr/>
          <p:nvPr/>
        </p:nvPicPr>
        <p:blipFill>
          <a:blip r:embed="rId3"/>
          <a:stretch/>
        </p:blipFill>
        <p:spPr>
          <a:xfrm>
            <a:off x="971640" y="5326200"/>
            <a:ext cx="939600" cy="10792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00" name="AutoShape 18"/>
          <p:cNvSpPr/>
          <p:nvPr/>
        </p:nvSpPr>
        <p:spPr>
          <a:xfrm>
            <a:off x="7088040" y="1727280"/>
            <a:ext cx="125892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7088040" y="2806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7088040" y="4030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7088040" y="525312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Вода-12"/>
          <p:cNvPicPr/>
          <p:nvPr/>
        </p:nvPicPr>
        <p:blipFill>
          <a:blip r:embed="rId4"/>
          <a:stretch/>
        </p:blipFill>
        <p:spPr>
          <a:xfrm>
            <a:off x="7132680" y="3068640"/>
            <a:ext cx="1170000" cy="7128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05" name="Picture 23" descr="Воздух-6"/>
          <p:cNvPicPr/>
          <p:nvPr/>
        </p:nvPicPr>
        <p:blipFill>
          <a:blip r:embed="rId5"/>
          <a:stretch/>
        </p:blipFill>
        <p:spPr>
          <a:xfrm>
            <a:off x="7132680" y="5445000"/>
            <a:ext cx="1170000" cy="8146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06" name="Rectangle 24"/>
          <p:cNvSpPr/>
          <p:nvPr/>
        </p:nvSpPr>
        <p:spPr>
          <a:xfrm>
            <a:off x="7132680" y="4221000"/>
            <a:ext cx="117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3:50:30Z</dcterms:created>
  <dc:creator>Николай Бирюков / Nikolai Biryukov</dc:creator>
  <dc:description>Редакция сентября 2009 г.</dc:description>
  <dc:language>en-US</dc:language>
  <cp:lastModifiedBy>LEGION</cp:lastModifiedBy>
  <dcterms:modified xsi:type="dcterms:W3CDTF">2014-11-11T12:08:58Z</dcterms:modified>
  <cp:revision>191</cp:revision>
  <dc:subject>Основы философии - Тема 2</dc:subject>
  <dc:title>Ранняя греческая натурфилософия</dc:title>
</cp:coreProperties>
</file>