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9.jpeg" ContentType="image/jpeg"/>
  <Override PartName="/ppt/media/image3.jpeg" ContentType="image/jpeg"/>
  <Override PartName="/ppt/media/image27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gif" ContentType="image/gif"/>
  <Override PartName="/ppt/media/image17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68AF-B9D6-4368-9072-532664C941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C920-7C53-4F6A-9986-CAF842F6DA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нняя греческая натур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188C-991A-4053-A9EE-624C0B8C72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ейрон как перво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03A7-1602-4472-A668-E01D708309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ейрон как перво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F69E-2983-41E4-B3A8-A87F8CE6FD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аксимен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здух как перво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027D-47FF-491A-876E-EC324B7E42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Геракли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A751-A182-4EEB-9A88-7F0D0AD6E9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D809-2A57-44C0-ABCB-9830630D57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05E7-FBFB-4C56-A58F-E7A4E82C0E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начало по природе своей изменчиво: стихия мира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го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 вечен, но не неизменен: в нём всё течёт, всё меняется, и даж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 одну и ту же реку нельзя войти дваж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ё возникает через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орьбу противоположностей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эта борьба порождает не хаос, а упорядоченный космос, подчинённый разумному принципу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огос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73C0-BE32-4E4F-AF72-EBCA8842CF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Элей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8C20-5C97-497C-A2E7-043A8E6DB6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лей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F5BB-2E3B-423C-B046-9D421DF6FD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лей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23C7-F1E9-4A24-B64A-AF8740E59E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проблема единого первонач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единства су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архе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алес: вода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ксимандр: апейрон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ксимен: воздух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еракли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проблема изменч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лейская школа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менид: мир как единое, вечное и неизменное бы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ы Зенона: обоснование элейской онт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я места (немыслимость пуст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и множества (немыслимость множе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дел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с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сч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и движения (немыслимость дви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Ахилл и черепах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Дихотомия»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деление на д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Стрел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Стад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и восприятия и мыслимая ре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AFEA-E162-400F-A0F3-CA09B078CE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ир как единое, вечное и неизменное бы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ытие есть, небытия нет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ытие едино и неделимо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ытие вечно и неизменно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бытие немыслим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BB0A-071F-4246-BFD9-A1F025C94A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 как единое, вечное и неизменное бы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833B-A0D5-4F83-B935-C5AB37F14B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лейской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я мест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пусто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и множеств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множе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дел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с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с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и движ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движ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хилл и черепах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Дихотомия»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деление на д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тре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тад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0597-DE41-4880-AB8C-5FBABC6316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элейской онт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EBF1-AF58-4C3A-B158-62B2BA6547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1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мес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9B7D-1EB4-415F-8A97-3853C5B086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делим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0BDB-6CEC-47BE-8D5E-71C1037B67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слож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DA1F-60E3-4350-8D5E-A5DC4EDC6E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счисл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1510-AF6A-47F0-B0A1-8271D9B2D7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8551-6BB6-4E72-840F-E8779B9929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A815-EB55-4E06-B62F-D8BA107F3D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0094-73F4-4036-BE1B-652BF5009F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F0CD-B28C-4648-91C4-B8BF81B5C4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53A4-F894-4E02-B456-2287A10370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0E0A-3DF8-4CAF-925F-BA5F74C532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64B2-8997-42D1-AFFE-8A56ADEA3A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и движ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47FE-35FE-4A37-8FA9-222108BAEC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«Стрел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43CE-8D2B-4EC4-98B4-E1CA27C61B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«Стрел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E66A-947E-485B-AF4C-A62413F9D5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«Стадий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EF26-C47D-482E-97C4-DDF513FD49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«Стадий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2FCF-6398-4CBE-BC8B-6E71E1428B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лейская школ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люзии восприятия и мыслимая ре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A116-BD48-46DC-87C3-A650629E46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EF29-FF16-460B-A645-AF9E9A62F6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69ED-7BE4-4F5A-8F7A-79A9D411BD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8606-8FF1-469E-8DA7-FF10EC1C61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11F1-4DE3-477F-8DEA-0C0164D7FD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2B18-1DCB-4D23-A153-588E690377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алес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да как перво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1E1E-15CD-4D08-B3CA-8C20CC0F4A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1870-3A61-4FEB-9E51-8891C9E0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8DF7-30DE-4370-B26C-0C10C5DA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09A8-189F-4BED-B4B7-E3062B0B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BCB4-70EE-45EF-848E-554E5AB0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DA8D-E193-4399-8C7F-2A2010DB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AE59-D96D-48E6-8FA9-04A4AA10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39A2-8CCF-4D61-8B36-35DFEC0A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1F5C-9ACE-4278-8534-9E0E3376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26CD-6ED0-4B2C-9DA2-667042B9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6BA5-75EE-40F7-8E4E-89EB460F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71A9-2ED1-4130-BE1B-2B1B9032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E16D-47B1-46FD-8F5C-3D8EB741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DB51-3EFB-4253-B747-299EF588AC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71680" y="285840"/>
            <a:ext cx="7922880" cy="18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Ранняя греческая натурфилософ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ейрон как перво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463760" y="2338560"/>
            <a:ext cx="6215040" cy="23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Á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ейро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άπειρον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;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рицательная пристав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πέρα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конец, преде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 древнегреческой философ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означающий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бесконечно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 (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беспредельно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/ил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неопределённо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ейрон как перво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122880" y="503712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оген Лаэрт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жизни, учениях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речениях знаменит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 rot="10800000">
            <a:off x="28692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наксимандр Милетский... учи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оначалом и основ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яется беспредель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определял его ни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дух, ни как воду, ни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-либо иное. Он учил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и изменяются, целое ж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таётся неизме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6" descr="Диоген Лаэртский (обложка книги-цв)"/>
          <p:cNvPicPr/>
          <p:nvPr/>
        </p:nvPicPr>
        <p:blipFill>
          <a:blip r:embed="rId1"/>
          <a:stretch/>
        </p:blipFill>
        <p:spPr>
          <a:xfrm>
            <a:off x="6764400" y="1978200"/>
            <a:ext cx="1636560" cy="2157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аксим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дух как перво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53080" y="5397480"/>
            <a:ext cx="200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пполит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проверж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х ерес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 rot="10800000">
            <a:off x="2517840" y="1726560"/>
            <a:ext cx="6370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наксимен... полагал, что начало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ый воздух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котор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то, что есть, что было и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ет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...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гущаясь и разрежаясь,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воздух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иобретает видимые различ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, растекшись до более разреже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яния, он становится огнё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реднем состоянии возвращ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рирод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здуха; по мере сгущ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воздуха путем «валяния» образу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ко, сгустившись ещё больше,</a:t>
            </a:r>
            <a:br>
              <a:rPr sz="1800"/>
            </a:b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[он становится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дой, ещё больш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емлёй, а достигнув предель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лотности – камня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Hippolytus-cl-red"/>
          <p:cNvPicPr/>
          <p:nvPr/>
        </p:nvPicPr>
        <p:blipFill>
          <a:blip r:embed="rId1"/>
          <a:stretch/>
        </p:blipFill>
        <p:spPr>
          <a:xfrm>
            <a:off x="395280" y="1727280"/>
            <a:ext cx="2019240" cy="3429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еракли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3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442120" y="371628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2"/>
          <p:cNvSpPr/>
          <p:nvPr/>
        </p:nvSpPr>
        <p:spPr>
          <a:xfrm>
            <a:off x="770040" y="2698920"/>
            <a:ext cx="1100160" cy="182052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520"/>
              <a:gd name="textAreaBottom" fmla="*/ 1320120 h 182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1330200" y="1619280"/>
            <a:ext cx="6478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к 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диног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олучае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ногое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изменног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нчив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7"/>
          <p:cNvSpPr/>
          <p:nvPr/>
        </p:nvSpPr>
        <p:spPr>
          <a:xfrm>
            <a:off x="1870200" y="3357720"/>
            <a:ext cx="1582560" cy="158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еракл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0"/>
          <p:cNvSpPr/>
          <p:nvPr/>
        </p:nvSpPr>
        <p:spPr>
          <a:xfrm>
            <a:off x="934920" y="5253120"/>
            <a:ext cx="3454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Мир как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ечное стано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415560" y="5181480"/>
            <a:ext cx="1678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540 - 4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 rot="10800000">
            <a:off x="538200" y="1940040"/>
            <a:ext cx="4857840" cy="3814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т космос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т же самый для всех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оздал ник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из богов, ни из люд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гда был, есть и буд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чно живы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нё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рн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згорающимс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рн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гасающи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Гераклит Эфесский (red)"/>
          <p:cNvPicPr/>
          <p:nvPr/>
        </p:nvPicPr>
        <p:blipFill>
          <a:blip r:embed="rId1"/>
          <a:stretch/>
        </p:blipFill>
        <p:spPr>
          <a:xfrm>
            <a:off x="6081840" y="1978200"/>
            <a:ext cx="2247840" cy="2895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98560" y="1781280"/>
            <a:ext cx="47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оначало по природе своей изменчиво: стихия мира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го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вечен, но не неизменен: в нём всё течёт, всё меняется, и даж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одну и ту же реку нельзя войти дваж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ё возникает через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орьбу противоположностей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эта борьба порождает не хаос, а упорядоченный космос, подчинённый разумному принципу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ого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Гераклит-река-огонь"/>
          <p:cNvPicPr/>
          <p:nvPr/>
        </p:nvPicPr>
        <p:blipFill>
          <a:blip r:embed="rId1"/>
          <a:stretch/>
        </p:blipFill>
        <p:spPr>
          <a:xfrm>
            <a:off x="898560" y="2924280"/>
            <a:ext cx="1957320" cy="28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2" name="Picture 5" descr="ddwfire"/>
          <p:cNvPicPr/>
          <p:nvPr/>
        </p:nvPicPr>
        <p:blipFill>
          <a:blip r:embed="rId2"/>
          <a:stretch/>
        </p:blipFill>
        <p:spPr>
          <a:xfrm>
            <a:off x="1619280" y="1690560"/>
            <a:ext cx="457200" cy="74304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лей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6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5442120" y="371628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й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656000" y="5397480"/>
            <a:ext cx="1709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род. 540/53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5828040" y="5397480"/>
            <a:ext cx="1678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ено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490 - 4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Zeno (Neapel, Nationalmuseum 1)_com3"/>
          <p:cNvPicPr/>
          <p:nvPr/>
        </p:nvPicPr>
        <p:blipFill>
          <a:blip r:embed="rId1"/>
          <a:stretch/>
        </p:blipFill>
        <p:spPr>
          <a:xfrm>
            <a:off x="5505480" y="2158920"/>
            <a:ext cx="229068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7" name="Picture 11" descr="Парменид (Элея)-c1-sized-08"/>
          <p:cNvPicPr/>
          <p:nvPr/>
        </p:nvPicPr>
        <p:blipFill>
          <a:blip r:embed="rId2"/>
          <a:stretch/>
        </p:blipFill>
        <p:spPr>
          <a:xfrm>
            <a:off x="1438200" y="2158920"/>
            <a:ext cx="2158920" cy="28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13"/>
          <p:cNvSpPr/>
          <p:nvPr/>
        </p:nvSpPr>
        <p:spPr>
          <a:xfrm flipH="1">
            <a:off x="7081920" y="2698920"/>
            <a:ext cx="1100160" cy="182052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520"/>
              <a:gd name="textAreaBottom" fmla="*/ 1320120 h 182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0"/>
          <p:cNvSpPr/>
          <p:nvPr/>
        </p:nvSpPr>
        <p:spPr>
          <a:xfrm>
            <a:off x="770040" y="2698920"/>
            <a:ext cx="1100160" cy="182052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520"/>
              <a:gd name="textAreaBottom" fmla="*/ 1320120 h 182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й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1330200" y="1619280"/>
            <a:ext cx="6478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к 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диног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олучае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ногое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изменног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нчив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7"/>
          <p:cNvSpPr/>
          <p:nvPr/>
        </p:nvSpPr>
        <p:spPr>
          <a:xfrm>
            <a:off x="5505480" y="3357720"/>
            <a:ext cx="1582560" cy="158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ле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934920" y="5253120"/>
            <a:ext cx="3454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Мир как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ечное стано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4570560" y="5253120"/>
            <a:ext cx="34542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Мир как вечное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неизменное бы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1870200" y="3357720"/>
            <a:ext cx="1582560" cy="158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еракл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3760" y="358920"/>
            <a:ext cx="8373960" cy="64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проблема единого первонач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единства су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архе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алес: вода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ксимандр: апейрон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ксимен: воздух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еракли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проблема изменч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лейская школа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менид: мир как единое, вечное и неизменное бы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ы Зенона: обоснование элейской онт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я места (немыслимость пуст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и множества (немыслимость множе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дел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с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сч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и движения (немыслимость дви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Ахилл и черепах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Дихотомия»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деление на д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Стрел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Стад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и восприятия и мыслимая ре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единое, вечное и неизменное бы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4120" y="1781280"/>
            <a:ext cx="234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ытие есть, небытия нет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ытие едино и неделимо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ытие вечно и неизменно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бытие немысли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3238560" y="1690560"/>
            <a:ext cx="539892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е не может быть несуществующи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-сущее же не может существ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3238560" y="2824200"/>
            <a:ext cx="539892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допущении множественности бы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дётся допустить бытие не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3238560" y="3957480"/>
            <a:ext cx="539892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е не может ни возникну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не-сущего, ни сделаться не-сущ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3238560" y="5091120"/>
            <a:ext cx="539892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 и то же – мыс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редмет мыс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единое, вечное и неизменное бы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6408000" y="5145120"/>
            <a:ext cx="239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ел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История запад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 rot="10800000">
            <a:off x="178920" y="1977840"/>
            <a:ext cx="6118200" cy="41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асто говорят, что Парменид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зобрёл логику, но в действительност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 изобрёл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физику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анную на логике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философии это первый пример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широко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гументации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мысли и языка к миру в целом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ту аргументацию нельзя, конечн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читать основатель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в то же время стоит посмотре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ой элемент истины она содержит.</a:t>
            </a:r>
            <a:br>
              <a:rPr sz="1800"/>
            </a:b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Рассел (Хеар - red)"/>
          <p:cNvPicPr/>
          <p:nvPr/>
        </p:nvPicPr>
        <p:blipFill>
          <a:blip r:embed="rId1"/>
          <a:stretch/>
        </p:blipFill>
        <p:spPr>
          <a:xfrm>
            <a:off x="6116760" y="1978200"/>
            <a:ext cx="2571480" cy="25239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лейской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760" y="178128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я мест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пусто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и множеств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множе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дел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с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с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и движ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движ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хилл и черепах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Дихотомия»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деление на д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тре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тад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лейской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176480" y="2338560"/>
            <a:ext cx="6791040" cy="23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пор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ú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απορί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труднение, безвыходное положение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рицательная приставка, 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πόρ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выхо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 древнегреческой философ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означающе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трудноразрешиму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разрешимую пробл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1"/>
          <p:cNvSpPr/>
          <p:nvPr/>
        </p:nvSpPr>
        <p:spPr>
          <a:xfrm>
            <a:off x="3224160" y="5073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0"/>
          <p:cNvSpPr/>
          <p:nvPr/>
        </p:nvSpPr>
        <p:spPr>
          <a:xfrm>
            <a:off x="2144880" y="3814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9"/>
          <p:cNvSpPr/>
          <p:nvPr/>
        </p:nvSpPr>
        <p:spPr>
          <a:xfrm>
            <a:off x="1065240" y="255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ме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719280" y="1654200"/>
            <a:ext cx="431784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условием суще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нахожд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аком-то мес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"/>
          <p:cNvSpPr/>
          <p:nvPr/>
        </p:nvSpPr>
        <p:spPr>
          <a:xfrm>
            <a:off x="1798560" y="2914560"/>
            <a:ext cx="431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и само мес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ль скоро оно существу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же должно находи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аком-то ме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2878200" y="4173480"/>
            <a:ext cx="431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будет уже «второе» мес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 оно должно существо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аком-то «третьем» мест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ак дал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 бесконе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3957480" y="5433840"/>
            <a:ext cx="431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пустое место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 что-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личное от того, местом ч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является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мысл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6" descr="Зенон Элейский"/>
          <p:cNvPicPr/>
          <p:nvPr/>
        </p:nvPicPr>
        <p:blipFill>
          <a:blip r:embed="rId1"/>
          <a:stretch/>
        </p:blipFill>
        <p:spPr>
          <a:xfrm>
            <a:off x="7088040" y="1619280"/>
            <a:ext cx="1548000" cy="197964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7"/>
          <p:cNvSpPr/>
          <p:nvPr/>
        </p:nvSpPr>
        <p:spPr>
          <a:xfrm>
            <a:off x="5681520" y="5019840"/>
            <a:ext cx="733680" cy="1176120"/>
          </a:xfrm>
          <a:custGeom>
            <a:avLst/>
            <a:gdLst>
              <a:gd name="textAreaLeft" fmla="*/ 98280 w 733680"/>
              <a:gd name="textAreaRight" fmla="*/ 635400 w 73368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6"/>
          <p:cNvSpPr/>
          <p:nvPr/>
        </p:nvSpPr>
        <p:spPr>
          <a:xfrm>
            <a:off x="2724120" y="501984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4"/>
          <p:cNvSpPr/>
          <p:nvPr/>
        </p:nvSpPr>
        <p:spPr>
          <a:xfrm>
            <a:off x="492912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3"/>
          <p:cNvSpPr/>
          <p:nvPr/>
        </p:nvSpPr>
        <p:spPr>
          <a:xfrm>
            <a:off x="347508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дел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2230560" y="1870200"/>
            <a:ext cx="467820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опустить, что быт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каждую частицу бы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дётся призн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вре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5"/>
          <p:cNvSpPr/>
          <p:nvPr/>
        </p:nvSpPr>
        <p:spPr>
          <a:xfrm>
            <a:off x="223056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474984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овс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ённ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л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9"/>
          <p:cNvSpPr/>
          <p:nvPr/>
        </p:nvSpPr>
        <p:spPr>
          <a:xfrm>
            <a:off x="1128600" y="226692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0"/>
          <p:cNvSpPr/>
          <p:nvPr/>
        </p:nvSpPr>
        <p:spPr>
          <a:xfrm>
            <a:off x="6908760" y="226692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1"/>
          <p:cNvSpPr/>
          <p:nvPr/>
        </p:nvSpPr>
        <p:spPr>
          <a:xfrm>
            <a:off x="1316160" y="4425840"/>
            <a:ext cx="215892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к делимую д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ости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2"/>
          <p:cNvSpPr/>
          <p:nvPr/>
        </p:nvSpPr>
        <p:spPr>
          <a:xfrm>
            <a:off x="5664240" y="4425840"/>
            <a:ext cx="215892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к результа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ения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5" descr="Зенон Элейский"/>
          <p:cNvPicPr/>
          <p:nvPr/>
        </p:nvPicPr>
        <p:blipFill>
          <a:blip r:embed="rId1"/>
          <a:stretch/>
        </p:blipFill>
        <p:spPr>
          <a:xfrm>
            <a:off x="466560" y="466560"/>
            <a:ext cx="1266840" cy="161928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28"/>
          <p:cNvSpPr/>
          <p:nvPr/>
        </p:nvSpPr>
        <p:spPr>
          <a:xfrm>
            <a:off x="3454560" y="5505480"/>
            <a:ext cx="223200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разумеетс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16"/>
          <p:cNvSpPr/>
          <p:nvPr/>
        </p:nvSpPr>
        <p:spPr>
          <a:xfrm>
            <a:off x="6905520" y="5019840"/>
            <a:ext cx="733680" cy="1176120"/>
          </a:xfrm>
          <a:custGeom>
            <a:avLst/>
            <a:gdLst>
              <a:gd name="textAreaLeft" fmla="*/ 98280 w 733680"/>
              <a:gd name="textAreaRight" fmla="*/ 635400 w 73368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4"/>
          <p:cNvSpPr/>
          <p:nvPr/>
        </p:nvSpPr>
        <p:spPr>
          <a:xfrm>
            <a:off x="1500120" y="501984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"/>
          <p:cNvSpPr/>
          <p:nvPr/>
        </p:nvSpPr>
        <p:spPr>
          <a:xfrm>
            <a:off x="492912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347508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с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2230560" y="1870200"/>
            <a:ext cx="467820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опустить, что быт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состоит из ча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его придётся призн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223056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74984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вовс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ённ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л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1128600" y="226692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6908760" y="226692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1316160" y="4425840"/>
            <a:ext cx="215892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если его ча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ют какую-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чину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5664240" y="4425840"/>
            <a:ext cx="215892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если его ча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чи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имеют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2" descr="Зенон Элейский"/>
          <p:cNvPicPr/>
          <p:nvPr/>
        </p:nvPicPr>
        <p:blipFill>
          <a:blip r:embed="rId1"/>
          <a:stretch/>
        </p:blipFill>
        <p:spPr>
          <a:xfrm>
            <a:off x="466560" y="466560"/>
            <a:ext cx="1266840" cy="161928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13"/>
          <p:cNvSpPr/>
          <p:nvPr/>
        </p:nvSpPr>
        <p:spPr>
          <a:xfrm>
            <a:off x="2230560" y="5505480"/>
            <a:ext cx="2195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тогда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о бы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ы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5"/>
          <p:cNvSpPr/>
          <p:nvPr/>
        </p:nvSpPr>
        <p:spPr>
          <a:xfrm>
            <a:off x="4713120" y="5505480"/>
            <a:ext cx="2195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тличим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не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4"/>
          <p:cNvSpPr/>
          <p:nvPr/>
        </p:nvSpPr>
        <p:spPr>
          <a:xfrm>
            <a:off x="5645160" y="501984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2759040" y="501984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"/>
          <p:cNvSpPr/>
          <p:nvPr/>
        </p:nvSpPr>
        <p:spPr>
          <a:xfrm>
            <a:off x="464184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"/>
          <p:cNvSpPr/>
          <p:nvPr/>
        </p:nvSpPr>
        <p:spPr>
          <a:xfrm>
            <a:off x="3763800" y="3957480"/>
            <a:ext cx="733680" cy="1176480"/>
          </a:xfrm>
          <a:custGeom>
            <a:avLst/>
            <a:gdLst>
              <a:gd name="textAreaLeft" fmla="*/ 98280 w 733680"/>
              <a:gd name="textAreaRight" fmla="*/ 635400 w 73368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2230560" y="1870200"/>
            <a:ext cx="467820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опустить, что существу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огое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число ве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идётся призн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вре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223056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ен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474984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1128600" y="226692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>
            <a:off x="6908760" y="226692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0"/>
          <p:cNvSpPr/>
          <p:nvPr/>
        </p:nvSpPr>
        <p:spPr>
          <a:xfrm>
            <a:off x="884160" y="4425840"/>
            <a:ext cx="287964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так как их будет ров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лько, сколько есть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ольше, ни меньше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1"/>
          <p:cNvSpPr/>
          <p:nvPr/>
        </p:nvSpPr>
        <p:spPr>
          <a:xfrm>
            <a:off x="5375160" y="4425840"/>
            <a:ext cx="288000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так как межд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быми из 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ут другие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2" descr="Зенон Элейский"/>
          <p:cNvPicPr/>
          <p:nvPr/>
        </p:nvPicPr>
        <p:blipFill>
          <a:blip r:embed="rId1"/>
          <a:stretch/>
        </p:blipFill>
        <p:spPr>
          <a:xfrm>
            <a:off x="466560" y="466560"/>
            <a:ext cx="1266840" cy="16192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15"/>
          <p:cNvSpPr/>
          <p:nvPr/>
        </p:nvSpPr>
        <p:spPr>
          <a:xfrm>
            <a:off x="3489480" y="5505480"/>
            <a:ext cx="215892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разумеетс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3"/>
          <p:cNvSpPr/>
          <p:nvPr/>
        </p:nvSpPr>
        <p:spPr>
          <a:xfrm>
            <a:off x="2863800" y="424656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1236600" y="2625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"/>
          <p:cNvSpPr/>
          <p:nvPr/>
        </p:nvSpPr>
        <p:spPr>
          <a:xfrm>
            <a:off x="719280" y="172728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строногий Ахил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когда не догон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дленно ползущую черепах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2338560" y="334656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прежде, чем догнать её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должен будет пройти то мест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которого она выш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8"/>
          <p:cNvSpPr/>
          <p:nvPr/>
        </p:nvSpPr>
        <p:spPr>
          <a:xfrm>
            <a:off x="3957480" y="4965840"/>
            <a:ext cx="43182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за это время черепах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йдёт вперёд и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ять окаж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перед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хил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ак дал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 бесконе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1" descr="Зенон Элейский"/>
          <p:cNvPicPr/>
          <p:nvPr/>
        </p:nvPicPr>
        <p:blipFill>
          <a:blip r:embed="rId1"/>
          <a:stretch/>
        </p:blipFill>
        <p:spPr>
          <a:xfrm>
            <a:off x="7088040" y="1619280"/>
            <a:ext cx="1548000" cy="197964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2" descr="Ахилл"/>
          <p:cNvPicPr/>
          <p:nvPr/>
        </p:nvPicPr>
        <p:blipFill>
          <a:blip r:embed="rId1"/>
          <a:stretch/>
        </p:blipFill>
        <p:spPr>
          <a:xfrm>
            <a:off x="1079640" y="2698920"/>
            <a:ext cx="1868400" cy="2573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4" descr="Черепаха-7"/>
          <p:cNvPicPr/>
          <p:nvPr/>
        </p:nvPicPr>
        <p:blipFill>
          <a:blip r:embed="rId2"/>
          <a:stretch/>
        </p:blipFill>
        <p:spPr>
          <a:xfrm>
            <a:off x="6369120" y="4210200"/>
            <a:ext cx="1200240" cy="67608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0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Oval 7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8"/>
          <p:cNvSpPr/>
          <p:nvPr/>
        </p:nvSpPr>
        <p:spPr>
          <a:xfrm>
            <a:off x="838512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>
            <a:off x="802476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6"/>
          <p:cNvSpPr/>
          <p:nvPr/>
        </p:nvSpPr>
        <p:spPr>
          <a:xfrm>
            <a:off x="741348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593712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Черепаха-5"/>
          <p:cNvPicPr/>
          <p:nvPr/>
        </p:nvPicPr>
        <p:blipFill>
          <a:blip r:embed="rId1"/>
          <a:stretch/>
        </p:blipFill>
        <p:spPr>
          <a:xfrm>
            <a:off x="5505480" y="4246560"/>
            <a:ext cx="1000080" cy="6667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Ахилл-2"/>
          <p:cNvPicPr/>
          <p:nvPr/>
        </p:nvPicPr>
        <p:blipFill>
          <a:blip r:embed="rId2"/>
          <a:stretch/>
        </p:blipFill>
        <p:spPr>
          <a:xfrm>
            <a:off x="611280" y="3238560"/>
            <a:ext cx="1735200" cy="179208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0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2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6" dur="3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3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8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22222E-006 L 0.48802 0.00231 E">
                                      <p:cBhvr>
                                        <p:cTn id="950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07407E-006 L 0.15799 0.00024 E">
                                      <p:cBhvr>
                                        <p:cTn id="952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8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802 0.00231 L 0.6533 0.00231 E">
                                      <p:cBhvr>
                                        <p:cTn id="966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99 0.00024 L 0.22118 0.00024 E">
                                      <p:cBhvr>
                                        <p:cTn id="968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8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33 0.00231 L 0.71632 0.00231 E">
                                      <p:cBhvr>
                                        <p:cTn id="982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18 0.00024 L 0.26059 0.00024 E">
                                      <p:cBhvr>
                                        <p:cTn id="984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8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463760" y="2158920"/>
            <a:ext cx="6215040" cy="359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u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хотом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ú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διχοτομί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;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δίχ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а две части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τομή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сечение, раздел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) деление целого на две части (с возмож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ледующим делением каждой из част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две подчасти и т.д.)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) метод классификации, состоящий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лении объёма понятия (класса, множества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два подчинённых взаимоисключающих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ротиворечащих) понятия, суммарный объё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торых исчерпывает объём делимого 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2863800" y="424656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1236600" y="2625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719280" y="172728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хилл вообщ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двинется с мес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к, впрочем, и черепаха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3957480" y="4965840"/>
            <a:ext cx="43182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режде, чем пройти э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торое место, он должен прой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сто, которое наход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полпути между ни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ак дал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 бесконе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8"/>
          <p:cNvSpPr/>
          <p:nvPr/>
        </p:nvSpPr>
        <p:spPr>
          <a:xfrm>
            <a:off x="2340000" y="334656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прежде, ч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аться до любого мест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должен пройти то мес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находится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лпу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ним и первым мест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0" descr="Зенон Элейский"/>
          <p:cNvPicPr/>
          <p:nvPr/>
        </p:nvPicPr>
        <p:blipFill>
          <a:blip r:embed="rId1"/>
          <a:stretch/>
        </p:blipFill>
        <p:spPr>
          <a:xfrm>
            <a:off x="7088040" y="1619280"/>
            <a:ext cx="1548000" cy="197964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Line 2"/>
          <p:cNvSpPr/>
          <p:nvPr/>
        </p:nvSpPr>
        <p:spPr>
          <a:xfrm>
            <a:off x="154620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"/>
          <p:cNvSpPr/>
          <p:nvPr/>
        </p:nvSpPr>
        <p:spPr>
          <a:xfrm>
            <a:off x="169056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>
            <a:off x="190656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226692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313056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7"/>
          <p:cNvSpPr/>
          <p:nvPr/>
        </p:nvSpPr>
        <p:spPr>
          <a:xfrm>
            <a:off x="467820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8"/>
          <p:cNvSpPr/>
          <p:nvPr/>
        </p:nvSpPr>
        <p:spPr>
          <a:xfrm>
            <a:off x="809640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9" descr="Черепаха-5"/>
          <p:cNvPicPr/>
          <p:nvPr/>
        </p:nvPicPr>
        <p:blipFill>
          <a:blip r:embed="rId1"/>
          <a:stretch/>
        </p:blipFill>
        <p:spPr>
          <a:xfrm>
            <a:off x="7629480" y="4246560"/>
            <a:ext cx="1000080" cy="6667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1" descr="Ахилл-2"/>
          <p:cNvPicPr/>
          <p:nvPr/>
        </p:nvPicPr>
        <p:blipFill>
          <a:blip r:embed="rId2"/>
          <a:stretch/>
        </p:blipFill>
        <p:spPr>
          <a:xfrm>
            <a:off x="611280" y="3238560"/>
            <a:ext cx="1735200" cy="179208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8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8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72431 0.00463 E">
                                      <p:cBhvr>
                                        <p:cTn id="1063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8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31 L 0.34636 0.00231 E">
                                      <p:cBhvr>
                                        <p:cTn id="1077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8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3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31 L 0.1809 0.00231 E">
                                      <p:cBhvr>
                                        <p:cTn id="1091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8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08646 0.00231 E">
                                      <p:cBhvr>
                                        <p:cTn id="1105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8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04705 0.00231 E">
                                      <p:cBhvr>
                                        <p:cTn id="1119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8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02344 0.00231 E">
                                      <p:cBhvr>
                                        <p:cTn id="1133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8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00764 0.00231 E">
                                      <p:cBhvr>
                                        <p:cTn id="1147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и дв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5"/>
          <p:cNvSpPr/>
          <p:nvPr/>
        </p:nvSpPr>
        <p:spPr>
          <a:xfrm rot="10800000">
            <a:off x="358560" y="1870200"/>
            <a:ext cx="395892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ервы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ве апори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емонстрируют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емыслимость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виже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допущен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ост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ремени 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стран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6"/>
          <p:cNvSpPr/>
          <p:nvPr/>
        </p:nvSpPr>
        <p:spPr>
          <a:xfrm rot="10800000">
            <a:off x="4678200" y="187020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ве послед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пори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емонстрируют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емыслимость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виже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допущен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ел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ост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ремени 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стран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2"/>
          <p:cNvSpPr/>
          <p:nvPr/>
        </p:nvSpPr>
        <p:spPr>
          <a:xfrm>
            <a:off x="3043080" y="424656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1236600" y="2625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Стре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39640" y="1727280"/>
            <a:ext cx="43182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тящая стре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любой момент времен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нимает какое-то ме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остранств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иначе её нет вообщ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4138560" y="4965840"/>
            <a:ext cx="43182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в этом мест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й двигаться некуд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а покои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это верно для люб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ста её траек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7"/>
          <p:cNvSpPr/>
          <p:nvPr/>
        </p:nvSpPr>
        <p:spPr>
          <a:xfrm>
            <a:off x="2340000" y="334656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занимает в пространств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сто, равное её размеру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ольше, ни мен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иначе она была бы бол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меньше себя само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6" descr="Зенон Элейский"/>
          <p:cNvPicPr/>
          <p:nvPr/>
        </p:nvPicPr>
        <p:blipFill>
          <a:blip r:embed="rId1"/>
          <a:stretch/>
        </p:blipFill>
        <p:spPr>
          <a:xfrm>
            <a:off x="7088040" y="1619280"/>
            <a:ext cx="1548000" cy="1979640"/>
          </a:xfrm>
          <a:prstGeom prst="rect">
            <a:avLst/>
          </a:prstGeom>
          <a:ln w="0">
            <a:noFill/>
          </a:ln>
        </p:spPr>
      </p:pic>
      <p:sp>
        <p:nvSpPr>
          <p:cNvPr id="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Стре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1719360" y="2698920"/>
            <a:ext cx="0" cy="1820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4"/>
          <p:cNvSpPr/>
          <p:nvPr/>
        </p:nvSpPr>
        <p:spPr>
          <a:xfrm>
            <a:off x="7423200" y="2698920"/>
            <a:ext cx="0" cy="1820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5"/>
          <p:cNvSpPr/>
          <p:nvPr/>
        </p:nvSpPr>
        <p:spPr>
          <a:xfrm>
            <a:off x="1000080" y="3417840"/>
            <a:ext cx="71438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6"/>
          <p:cNvSpPr/>
          <p:nvPr/>
        </p:nvSpPr>
        <p:spPr>
          <a:xfrm>
            <a:off x="1000080" y="3798720"/>
            <a:ext cx="71438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arrow01"/>
          <p:cNvPicPr/>
          <p:nvPr/>
        </p:nvPicPr>
        <p:blipFill>
          <a:blip r:embed="rId1"/>
          <a:stretch/>
        </p:blipFill>
        <p:spPr>
          <a:xfrm>
            <a:off x="1719360" y="3440160"/>
            <a:ext cx="5705280" cy="33336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7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6"/>
          <p:cNvSpPr/>
          <p:nvPr/>
        </p:nvSpPr>
        <p:spPr>
          <a:xfrm>
            <a:off x="2986200" y="4965840"/>
            <a:ext cx="575784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получится, что минималь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делима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диница времен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абсурдно. (Равны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имой окажется и минималь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неделимая, единица пространст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"/>
          <p:cNvSpPr/>
          <p:nvPr/>
        </p:nvSpPr>
        <p:spPr>
          <a:xfrm>
            <a:off x="1892160" y="433548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625320" y="2608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Стад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466560" y="1511280"/>
            <a:ext cx="575820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ве колесниц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утся навстречу друг друга со скорость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й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инимальной единице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остранства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за минимальную единицу време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мо третьей – неподвижной – колесниц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1727280" y="3238560"/>
            <a:ext cx="575784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ни пройдут расстоя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е минимальной единиц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стран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инимальную единицу време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ельно неподвижной колесницы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ловину минимальной единицы време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ельно друг д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Зенон Элейский"/>
          <p:cNvPicPr/>
          <p:nvPr/>
        </p:nvPicPr>
        <p:blipFill>
          <a:blip r:embed="rId1"/>
          <a:stretch/>
        </p:blipFill>
        <p:spPr>
          <a:xfrm>
            <a:off x="7197840" y="971640"/>
            <a:ext cx="1547640" cy="197964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Стад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"/>
          <p:cNvSpPr/>
          <p:nvPr/>
        </p:nvSpPr>
        <p:spPr>
          <a:xfrm>
            <a:off x="3525840" y="1798560"/>
            <a:ext cx="0" cy="43182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5"/>
          <p:cNvSpPr/>
          <p:nvPr/>
        </p:nvSpPr>
        <p:spPr>
          <a:xfrm>
            <a:off x="5684760" y="1798560"/>
            <a:ext cx="0" cy="43182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" descr="Колесница-1"/>
          <p:cNvPicPr/>
          <p:nvPr/>
        </p:nvPicPr>
        <p:blipFill>
          <a:blip r:embed="rId1"/>
          <a:stretch/>
        </p:blipFill>
        <p:spPr>
          <a:xfrm>
            <a:off x="2446200" y="3238560"/>
            <a:ext cx="2159280" cy="1299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Колесница-1"/>
          <p:cNvPicPr/>
          <p:nvPr/>
        </p:nvPicPr>
        <p:blipFill>
          <a:blip r:embed="rId2"/>
          <a:stretch/>
        </p:blipFill>
        <p:spPr>
          <a:xfrm>
            <a:off x="4605480" y="4537080"/>
            <a:ext cx="2158920" cy="1300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0" descr="Колесница-3"/>
          <p:cNvPicPr/>
          <p:nvPr/>
        </p:nvPicPr>
        <p:blipFill>
          <a:blip r:embed="rId3"/>
          <a:stretch/>
        </p:blipFill>
        <p:spPr>
          <a:xfrm>
            <a:off x="3525840" y="1982880"/>
            <a:ext cx="2158920" cy="1225440"/>
          </a:xfrm>
          <a:prstGeom prst="rect">
            <a:avLst/>
          </a:prstGeom>
          <a:ln w="0">
            <a:noFill/>
          </a:ln>
        </p:spPr>
      </p:pic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1" dur="2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2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5" dur="2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2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8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4444E-006 L 0.12222 -4.44444E-006 E">
                                      <p:cBhvr>
                                        <p:cTn id="1331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48148E-006 L -0.1217 -1.48148E-006 E">
                                      <p:cBhvr>
                                        <p:cTn id="1333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7" dur="3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3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0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1" dur="3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3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"/>
          <p:cNvSpPr/>
          <p:nvPr/>
        </p:nvSpPr>
        <p:spPr>
          <a:xfrm>
            <a:off x="3224160" y="5073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3"/>
          <p:cNvSpPr/>
          <p:nvPr/>
        </p:nvSpPr>
        <p:spPr>
          <a:xfrm>
            <a:off x="2144880" y="3814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1065240" y="255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йская школ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люзии восприятия и мыслимая ре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719280" y="1654200"/>
            <a:ext cx="431784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видетельствует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устот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и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нож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виж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они немысл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7"/>
          <p:cNvSpPr/>
          <p:nvPr/>
        </p:nvSpPr>
        <p:spPr>
          <a:xfrm>
            <a:off x="1798560" y="2914560"/>
            <a:ext cx="431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 позволяют утвержд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устот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идетельствуют о существовании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ногих движущихс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8"/>
          <p:cNvSpPr/>
          <p:nvPr/>
        </p:nvSpPr>
        <p:spPr>
          <a:xfrm>
            <a:off x="2878200" y="4173480"/>
            <a:ext cx="431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нас есть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ва источника зн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в чём-то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отивореча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руг д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9"/>
          <p:cNvSpPr/>
          <p:nvPr/>
        </p:nvSpPr>
        <p:spPr>
          <a:xfrm>
            <a:off x="3957480" y="5433840"/>
            <a:ext cx="431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й же из 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ует призн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оверны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1" descr="Зенон Элейский"/>
          <p:cNvPicPr/>
          <p:nvPr/>
        </p:nvPicPr>
        <p:blipFill>
          <a:blip r:embed="rId1"/>
          <a:stretch/>
        </p:blipFill>
        <p:spPr>
          <a:xfrm>
            <a:off x="7197840" y="1619280"/>
            <a:ext cx="1406520" cy="17985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3" descr="Parmenides (Raphael) - ed"/>
          <p:cNvPicPr/>
          <p:nvPr/>
        </p:nvPicPr>
        <p:blipFill>
          <a:blip r:embed="rId2"/>
          <a:stretch/>
        </p:blipFill>
        <p:spPr>
          <a:xfrm>
            <a:off x="358920" y="4317840"/>
            <a:ext cx="1716120" cy="215748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0" descr="Анаксимандр (1обр)"/>
          <p:cNvPicPr/>
          <p:nvPr/>
        </p:nvPicPr>
        <p:blipFill>
          <a:blip r:embed="rId1"/>
          <a:stretch/>
        </p:blipFill>
        <p:spPr>
          <a:xfrm>
            <a:off x="3562200" y="2158920"/>
            <a:ext cx="2011680" cy="25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2" name="Picture 15" descr="thales (1-2)"/>
          <p:cNvPicPr/>
          <p:nvPr/>
        </p:nvPicPr>
        <p:blipFill>
          <a:blip r:embed="rId2"/>
          <a:stretch/>
        </p:blipFill>
        <p:spPr>
          <a:xfrm>
            <a:off x="900000" y="1619280"/>
            <a:ext cx="1882800" cy="25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3" name="Picture 23" descr="Анаксимен (2)"/>
          <p:cNvPicPr/>
          <p:nvPr/>
        </p:nvPicPr>
        <p:blipFill>
          <a:blip r:embed="rId3"/>
          <a:stretch/>
        </p:blipFill>
        <p:spPr>
          <a:xfrm>
            <a:off x="6224760" y="2698920"/>
            <a:ext cx="2192040" cy="25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4" name="Text Box 25"/>
          <p:cNvSpPr/>
          <p:nvPr/>
        </p:nvSpPr>
        <p:spPr>
          <a:xfrm>
            <a:off x="1070640" y="4497480"/>
            <a:ext cx="1551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ле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6"/>
          <p:cNvSpPr/>
          <p:nvPr/>
        </p:nvSpPr>
        <p:spPr>
          <a:xfrm>
            <a:off x="3538080" y="5037120"/>
            <a:ext cx="2061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610 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. 5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6284520" y="5576760"/>
            <a:ext cx="2061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ксиме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588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к. 5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3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nodeType="clickEffect" fill="hold">
                      <p:stCondLst>
                        <p:cond delay="0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9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единства сущ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1690560" y="1978200"/>
            <a:ext cx="5757840" cy="323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заимопревращения веществ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идетельствуют, чт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 видимым многообразием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спринимаемого мир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крывае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дино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ервонача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355760" y="1798560"/>
            <a:ext cx="6431040" cy="4318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рх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αρχή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principium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 древнегреческой философ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значающи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чало (принцип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правной мом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сходную точку) чего-либ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 пространственном и временном смыслах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о как зачин ил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ичин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его-либ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о ка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чальств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вла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 специфически философском употреблении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нтологическое начал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первоначало)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чало позна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гносеологический принцип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651720" y="557676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 rot="10800000">
            <a:off x="216000" y="1726560"/>
            <a:ext cx="6370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большинство первых философ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читало началом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...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, из ч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стоят все вещ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чего как перв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возникают и во что как в последн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, погибая, превращаются, прич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ь хотя и остаётся, но измен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их проявлениях, – это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читают элементом и началом веще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тому они полагают, что ни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озникает и не исчезает;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...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о быть некоторое естество 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одно, или больше одного, отку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ает всё остальное, в то врем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амо это естество сохраняетс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Рафаэль, Аристотель (голова - red)"/>
          <p:cNvPicPr/>
          <p:nvPr/>
        </p:nvPicPr>
        <p:blipFill>
          <a:blip r:embed="rId1"/>
          <a:stretch/>
        </p:blipFill>
        <p:spPr>
          <a:xfrm>
            <a:off x="6405480" y="1798560"/>
            <a:ext cx="2419560" cy="19717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але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да как перво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651720" y="557676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 rot="10800000">
            <a:off x="216000" y="1726560"/>
            <a:ext cx="6370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ельно количества и вида та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а не все учили одинаково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але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 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атель такого рода философии 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ал, что начало – во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потому 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заявлял, что земля находится на воде)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этому предположению он, быть мож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шёл, видя, что пища всех сущест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жная и что само тепло возникает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ги и ею жив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а то, из чего всё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зникает – это и есть начало всего)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он именно поэт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шёл к своему предположени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потому, что семена вс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природ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жны, а нача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влажного –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Рафаэль, Аристотель (голова - red)"/>
          <p:cNvPicPr/>
          <p:nvPr/>
        </p:nvPicPr>
        <p:blipFill>
          <a:blip r:embed="rId1"/>
          <a:stretch/>
        </p:blipFill>
        <p:spPr>
          <a:xfrm>
            <a:off x="6405480" y="1798560"/>
            <a:ext cx="2419560" cy="19717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2050920" y="1727280"/>
            <a:ext cx="251964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Филосо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4570560" y="1727280"/>
            <a:ext cx="251928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ерво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790560" y="1727280"/>
            <a:ext cx="125892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050920" y="2806560"/>
            <a:ext cx="251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а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4570560" y="2806560"/>
            <a:ext cx="251928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050920" y="4030560"/>
            <a:ext cx="251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аксиман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4570560" y="4030560"/>
            <a:ext cx="251928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пейрон</a:t>
            </a:r>
            <a:br>
              <a:rPr sz="24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(беспредельное,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неопределённо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2050920" y="5253120"/>
            <a:ext cx="251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акси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570560" y="5253120"/>
            <a:ext cx="251928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з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790560" y="280656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790560" y="403056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790560" y="525312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5" descr="thales (1-2)"/>
          <p:cNvPicPr/>
          <p:nvPr/>
        </p:nvPicPr>
        <p:blipFill>
          <a:blip r:embed="rId1"/>
          <a:stretch/>
        </p:blipFill>
        <p:spPr>
          <a:xfrm>
            <a:off x="1017720" y="2878200"/>
            <a:ext cx="806400" cy="10778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98" name="Picture 16" descr="Анаксимандр (1обр)"/>
          <p:cNvPicPr/>
          <p:nvPr/>
        </p:nvPicPr>
        <p:blipFill>
          <a:blip r:embed="rId2"/>
          <a:stretch/>
        </p:blipFill>
        <p:spPr>
          <a:xfrm>
            <a:off x="1006560" y="4102200"/>
            <a:ext cx="860400" cy="10792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99" name="Picture 17" descr="Анаксимен (2)"/>
          <p:cNvPicPr/>
          <p:nvPr/>
        </p:nvPicPr>
        <p:blipFill>
          <a:blip r:embed="rId3"/>
          <a:stretch/>
        </p:blipFill>
        <p:spPr>
          <a:xfrm>
            <a:off x="971640" y="5326200"/>
            <a:ext cx="939600" cy="10792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100" name="AutoShape 18"/>
          <p:cNvSpPr/>
          <p:nvPr/>
        </p:nvSpPr>
        <p:spPr>
          <a:xfrm>
            <a:off x="7088040" y="1727280"/>
            <a:ext cx="125892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7088040" y="280656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7088040" y="403056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7088040" y="525312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2" descr="Вода-12"/>
          <p:cNvPicPr/>
          <p:nvPr/>
        </p:nvPicPr>
        <p:blipFill>
          <a:blip r:embed="rId4"/>
          <a:stretch/>
        </p:blipFill>
        <p:spPr>
          <a:xfrm>
            <a:off x="7132680" y="3068640"/>
            <a:ext cx="1170000" cy="71280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05" name="Picture 23" descr="Воздух-6"/>
          <p:cNvPicPr/>
          <p:nvPr/>
        </p:nvPicPr>
        <p:blipFill>
          <a:blip r:embed="rId5"/>
          <a:stretch/>
        </p:blipFill>
        <p:spPr>
          <a:xfrm>
            <a:off x="7132680" y="5445000"/>
            <a:ext cx="1170000" cy="8146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106" name="Rectangle 24"/>
          <p:cNvSpPr/>
          <p:nvPr/>
        </p:nvSpPr>
        <p:spPr>
          <a:xfrm>
            <a:off x="7132680" y="4221000"/>
            <a:ext cx="117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13:50:30Z</dcterms:created>
  <dc:creator>Николай Бирюков / Nikolai Biryukov</dc:creator>
  <dc:description>Редакция сентября 2009 г.</dc:description>
  <dc:language>en-US</dc:language>
  <cp:lastModifiedBy>LEGION</cp:lastModifiedBy>
  <dcterms:modified xsi:type="dcterms:W3CDTF">2014-11-11T12:08:58Z</dcterms:modified>
  <cp:revision>191</cp:revision>
  <dc:subject>Основы философии - Тема 2</dc:subject>
  <dc:title>Ранняя греческая натурфилософия</dc:title>
</cp:coreProperties>
</file>