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9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gif" ContentType="image/gif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BBD9-4872-4711-A9CD-6E583DA114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BFDB-6FDC-41EC-9ADB-EAF6D9CBB3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5A0E-C767-4E87-BB60-4B88D9EFB4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E7AA-856A-44D5-8823-45CF5F06B4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2ED8-FA62-4C41-A3A6-D24880B8AB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D97E-46FB-4A29-BD33-4127DE2CEA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80D8-18B0-4C08-8D62-E47EEFDEDD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AFBA-0722-4EFD-B81D-DA645DA479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0D52-8602-4BEC-A179-C7FEC25EDF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EC62-D928-4AA1-BC4F-D25CFC48B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C807-8CE7-4237-9CA1-61AFA31028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3B43-84AB-480D-9678-372492DFB6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6C03-8A27-4922-8799-E21C598B62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932F-4DBD-4C3F-8F66-C9D6BE0670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5C1C-E519-4864-996E-5C8C837E82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F788-482A-4952-BD70-4DAB41D89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51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4A73-26F0-492A-8A89-5B11DA64F1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7FC8-1768-430C-AEF7-353C4457B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5145-1443-4D27-B09B-F8BD2FA43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7C58-6E60-4DB3-BE69-B35A3AA61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3F18-7662-4912-B497-E3F173466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8E45-8F70-41EE-8311-4DF9A5987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EDDE-548E-4784-972D-EF1C4C261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6EBF-734A-431E-83BD-1BBC648DCF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328C-6EE7-42F3-B409-CC215AB60F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6B2A-DB74-41DB-8578-63AE8D911D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9769-9F60-4D54-A230-5B379879F3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7F68-E64B-429B-9098-84DDDF5331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898D-ED28-49A7-BCD5-C6EBF6723A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3D69-E7F7-489B-B413-899DB758A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B7C7-E018-4D23-9D31-A5184CD4D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82A4-8DBB-4B8A-8475-370553D36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2D46-304F-4848-A68A-E911B5914C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0FEC-5FBC-4E5F-95BA-29C4C2C98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BC40-7D04-48DD-9D61-02553EDB4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3647-16D1-4F69-AB83-6BFDCA2DB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4A04-BDEA-464C-B871-0FFAE7752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5ECA-E0D8-4329-95E6-28CAF738B9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2D40-44AF-4039-B5B0-CA5000B88E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4178-FD19-48E1-8F14-2EE1616C5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9EB9-FE1E-4BF8-8315-02CCA64A9F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AA9-4E48-46C4-9593-D3241CA9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675-D719-4E15-AECD-F0BBD06B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4AE-1A8F-47EE-B01E-10F9C959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872-A2EF-46F1-8298-88E40B3D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B21-0132-4152-9109-65A886F3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F82-AB4A-41C8-A12A-3594465C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537-FF5A-4FF2-AC64-F90EDCB1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F16-548D-4F6B-9B65-A59EEED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8B9-EBBD-4347-9385-A3B3C1DA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85E-064A-4372-B677-B436B169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49F-B04C-41BC-8D91-19C605A2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ED8-5323-4D44-9DE1-5C8E0984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D02E-978F-40D8-9F96-39AEBFF2B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71680" y="285840"/>
            <a:ext cx="7922880" cy="18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463760" y="2338560"/>
            <a:ext cx="6215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Á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йр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πειρο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έρα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конец, преде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конеч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беспредель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/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неопределённо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ейрон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122880" y="503712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оген Лаэрт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жизни, учениях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речениях знаменит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 rot="10800000">
            <a:off x="28692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наксимандр Милетский... уч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началом и основ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яется беспреде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определял его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ух, ни как воду, ни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либо иное. Он учил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и изменяются, целое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таётся неизме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Диоген Лаэртский (обложка книги-цв)"/>
          <p:cNvPicPr/>
          <p:nvPr/>
        </p:nvPicPr>
        <p:blipFill>
          <a:blip r:embed="rId1"/>
          <a:stretch/>
        </p:blipFill>
        <p:spPr>
          <a:xfrm>
            <a:off x="6764400" y="1978200"/>
            <a:ext cx="1636560" cy="215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ксим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дух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53080" y="5397480"/>
            <a:ext cx="200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пполи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овер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рес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 rot="10800000">
            <a:off x="251784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наксимен... полагал, что начало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й возду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то, что есть, что было и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ет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гущаясь и разрежаясь,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воздух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обретает видимые различ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, растекшись до более разреже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я, он становится ог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 состоянии возвращ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ирод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духа; по мере сгущ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оздуха путем «валяния» образу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ко, сгустившись ещё больше,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он становится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дой, ещё больш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ёй, а достигнув преде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лотности – камня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ippolytus-cl-red"/>
          <p:cNvPicPr/>
          <p:nvPr/>
        </p:nvPicPr>
        <p:blipFill>
          <a:blip r:embed="rId1"/>
          <a:stretch/>
        </p:blipFill>
        <p:spPr>
          <a:xfrm>
            <a:off x="395280" y="1727280"/>
            <a:ext cx="201924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3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2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415560" y="5181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40 - 4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 rot="10800000">
            <a:off x="538200" y="1940040"/>
            <a:ext cx="4857840" cy="3814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космо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т же самый для всех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здал ник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из богов, ни из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гда был, есть и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о жив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нё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згорающим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р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гасающи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Гераклит Эфесский (red)"/>
          <p:cNvPicPr/>
          <p:nvPr/>
        </p:nvPicPr>
        <p:blipFill>
          <a:blip r:embed="rId1"/>
          <a:stretch/>
        </p:blipFill>
        <p:spPr>
          <a:xfrm>
            <a:off x="6081840" y="1978200"/>
            <a:ext cx="2247840" cy="289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еракли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98560" y="1781280"/>
            <a:ext cx="47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о по природе своей изменчиво: стихия мира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вечен, но не неизменен: в нём всё течёт, всё меняется, и даж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одну и ту же реку нельзя войти два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ё возникает через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орьбу противоположност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а борьба порождает не хаос, а упорядоченный космос, подчинённый разумному принципу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ого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Гераклит-река-огонь"/>
          <p:cNvPicPr/>
          <p:nvPr/>
        </p:nvPicPr>
        <p:blipFill>
          <a:blip r:embed="rId1"/>
          <a:stretch/>
        </p:blipFill>
        <p:spPr>
          <a:xfrm>
            <a:off x="898560" y="2924280"/>
            <a:ext cx="1957320" cy="28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2" name="Picture 5" descr="ddwfire"/>
          <p:cNvPicPr/>
          <p:nvPr/>
        </p:nvPicPr>
        <p:blipFill>
          <a:blip r:embed="rId2"/>
          <a:stretch/>
        </p:blipFill>
        <p:spPr>
          <a:xfrm>
            <a:off x="1619280" y="1690560"/>
            <a:ext cx="457200" cy="743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6" name="Oval 4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"/>
          <p:cNvSpPr/>
          <p:nvPr/>
        </p:nvSpPr>
        <p:spPr>
          <a:xfrm>
            <a:off x="5292720" y="3933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442120" y="3716280"/>
            <a:ext cx="79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ф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84328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019960" y="3454560"/>
            <a:ext cx="7491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л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56000" y="5397480"/>
            <a:ext cx="1709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540/53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5828040" y="5397480"/>
            <a:ext cx="1678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ен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490 - 4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Zeno (Neapel, Nationalmuseum 1)_com3"/>
          <p:cNvPicPr/>
          <p:nvPr/>
        </p:nvPicPr>
        <p:blipFill>
          <a:blip r:embed="rId1"/>
          <a:stretch/>
        </p:blipFill>
        <p:spPr>
          <a:xfrm>
            <a:off x="5505480" y="2158920"/>
            <a:ext cx="22906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7" name="Picture 11" descr="Парменид (Элея)-c1-sized-08"/>
          <p:cNvPicPr/>
          <p:nvPr/>
        </p:nvPicPr>
        <p:blipFill>
          <a:blip r:embed="rId2"/>
          <a:stretch/>
        </p:blipFill>
        <p:spPr>
          <a:xfrm>
            <a:off x="1438200" y="2158920"/>
            <a:ext cx="2158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13"/>
          <p:cNvSpPr/>
          <p:nvPr/>
        </p:nvSpPr>
        <p:spPr>
          <a:xfrm flipH="1">
            <a:off x="708192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770040" y="2698920"/>
            <a:ext cx="1100160" cy="182052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520"/>
              <a:gd name="textAreaBottom" fmla="*/ 1320120 h 182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330200" y="1619280"/>
            <a:ext cx="6478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к 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олуч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ногое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изменног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чив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7"/>
          <p:cNvSpPr/>
          <p:nvPr/>
        </p:nvSpPr>
        <p:spPr>
          <a:xfrm>
            <a:off x="550548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е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934920" y="5253120"/>
            <a:ext cx="3454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вечное ста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4570560" y="5253120"/>
            <a:ext cx="3454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Мир как вечное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70200" y="3357720"/>
            <a:ext cx="1582560" cy="158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ракл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3760" y="358920"/>
            <a:ext cx="8373960" cy="64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единого перво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архе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лес: вода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андр: апейрон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ксимен: воздух как первоначало с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ераклит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: проблема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вечное становление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генези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лейская школа: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ллюзорность изменч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менид: мир как единое, вечное и неизменное 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ы Зенона: обоснование элейской онт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я места (немыслимость пусто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множества (немыслимость множ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пории движения (немыслимость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4120" y="1781280"/>
            <a:ext cx="23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сть, небытия нет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едино и неделим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ытие вечно и неизменно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бытие немысл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3238560" y="169056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быть несуществующи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-сущее же не может суще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3238560" y="282420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допущении множественности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допустить бытие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3238560" y="395748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е не может ни возни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-сущего, ни сделаться не-су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3238560" y="5091120"/>
            <a:ext cx="53989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и то же – мыс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редмет мыс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менид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единое, вечное и неизменное бы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408000" y="5145120"/>
            <a:ext cx="239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ел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История запад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 rot="10800000">
            <a:off x="178920" y="1977840"/>
            <a:ext cx="6118200" cy="41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асто говорят, что Парменид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зобрёл логику, но в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 изобрё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к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ную на логике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философии это первый пример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широко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ргументации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мысли и языка к миру в целом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у аргументацию нельзя, конеч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читать основатель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в то же время стоит посмотре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ой элемент истины она содержит.</a:t>
            </a:r>
            <a:br>
              <a:rPr sz="1800"/>
            </a:b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Рассел (Хеар - red)"/>
          <p:cNvPicPr/>
          <p:nvPr/>
        </p:nvPicPr>
        <p:blipFill>
          <a:blip r:embed="rId1"/>
          <a:stretch/>
        </p:blipFill>
        <p:spPr>
          <a:xfrm>
            <a:off x="6116760" y="1978200"/>
            <a:ext cx="2571480" cy="2523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78128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я мест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пусто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множеств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множе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дел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радокс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рии движ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немыслимость движ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Ахилл и черепа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Дихотомия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(деление на д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ре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тад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лейской онт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176480" y="2338560"/>
            <a:ext cx="6791040" cy="23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пор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πορ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труднение, безвыходное положение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рицательная приставка,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όρ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вых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значающе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рудноразрешим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разрешим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1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м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условием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ахо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и сам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ль скоро он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е должно находи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будет уже «второе»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оно должно существо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ком-то «третьем» ме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устое место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что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от того, местом 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мысл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7"/>
          <p:cNvSpPr/>
          <p:nvPr/>
        </p:nvSpPr>
        <p:spPr>
          <a:xfrm>
            <a:off x="5681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6"/>
          <p:cNvSpPr/>
          <p:nvPr/>
        </p:nvSpPr>
        <p:spPr>
          <a:xfrm>
            <a:off x="2724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дел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каждую частицу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5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0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1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делимую д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ст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2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ения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5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28"/>
          <p:cNvSpPr/>
          <p:nvPr/>
        </p:nvSpPr>
        <p:spPr>
          <a:xfrm>
            <a:off x="3454560" y="5505480"/>
            <a:ext cx="223200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6"/>
          <p:cNvSpPr/>
          <p:nvPr/>
        </p:nvSpPr>
        <p:spPr>
          <a:xfrm>
            <a:off x="6905520" y="5019840"/>
            <a:ext cx="733680" cy="117612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150012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492912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347508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б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оит из ча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го придётся призн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л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131616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 какую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5664240" y="4425840"/>
            <a:ext cx="215892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его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ют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3"/>
          <p:cNvSpPr/>
          <p:nvPr/>
        </p:nvSpPr>
        <p:spPr>
          <a:xfrm>
            <a:off x="2230560" y="5505480"/>
            <a:ext cx="2195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тогда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5"/>
          <p:cNvSpPr/>
          <p:nvPr/>
        </p:nvSpPr>
        <p:spPr>
          <a:xfrm>
            <a:off x="4713120" y="5505480"/>
            <a:ext cx="2195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тличим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не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4"/>
          <p:cNvSpPr/>
          <p:nvPr/>
        </p:nvSpPr>
        <p:spPr>
          <a:xfrm>
            <a:off x="564516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2759040" y="501984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4641840" y="395748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3763800" y="395748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2230560" y="1870200"/>
            <a:ext cx="467820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, что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гое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исло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дётся призн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врем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223056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е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4749840" y="3165480"/>
            <a:ext cx="21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1128600" y="226692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6908760" y="226692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884160" y="4425840"/>
            <a:ext cx="287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их будет ров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, сколько есть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5375160" y="4425840"/>
            <a:ext cx="288000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так как меж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ыми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т други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2" descr="Зенон Элейский"/>
          <p:cNvPicPr/>
          <p:nvPr/>
        </p:nvPicPr>
        <p:blipFill>
          <a:blip r:embed="rId1"/>
          <a:stretch/>
        </p:blipFill>
        <p:spPr>
          <a:xfrm>
            <a:off x="466560" y="466560"/>
            <a:ext cx="126684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5"/>
          <p:cNvSpPr/>
          <p:nvPr/>
        </p:nvSpPr>
        <p:spPr>
          <a:xfrm>
            <a:off x="3489480" y="5505480"/>
            <a:ext cx="21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разуме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3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строногий Ахил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когда не догон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дленно ползущую черепах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233856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 догнать е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будет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которого она выш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за это время черепа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йдёт вперёд и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ять окаж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пер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хил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" descr="Ахилл"/>
          <p:cNvPicPr/>
          <p:nvPr/>
        </p:nvPicPr>
        <p:blipFill>
          <a:blip r:embed="rId1"/>
          <a:stretch/>
        </p:blipFill>
        <p:spPr>
          <a:xfrm>
            <a:off x="1079640" y="2698920"/>
            <a:ext cx="1868400" cy="2573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4" descr="Черепаха-7"/>
          <p:cNvPicPr/>
          <p:nvPr/>
        </p:nvPicPr>
        <p:blipFill>
          <a:blip r:embed="rId2"/>
          <a:stretch/>
        </p:blipFill>
        <p:spPr>
          <a:xfrm>
            <a:off x="6369120" y="4210200"/>
            <a:ext cx="1200240" cy="6760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0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7"/>
          <p:cNvSpPr/>
          <p:nvPr/>
        </p:nvSpPr>
        <p:spPr>
          <a:xfrm>
            <a:off x="5292720" y="41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476680" y="4210200"/>
            <a:ext cx="893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>
            <a:off x="8385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80247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741348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>
            <a:off x="59371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Черепаха-5"/>
          <p:cNvPicPr/>
          <p:nvPr/>
        </p:nvPicPr>
        <p:blipFill>
          <a:blip r:embed="rId1"/>
          <a:stretch/>
        </p:blipFill>
        <p:spPr>
          <a:xfrm>
            <a:off x="5505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Ахилл и черепах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nodeType="clickEffect" fill="hold">
                      <p:stCondLst>
                        <p:cond delay="0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2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6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3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0.48802 0.00231 E">
                                      <p:cBhvr>
                                        <p:cTn id="95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07407E-006 L 0.15799 0.00024 E">
                                      <p:cBhvr>
                                        <p:cTn id="952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802 0.00231 L 0.6533 0.00231 E">
                                      <p:cBhvr>
                                        <p:cTn id="96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99 0.00024 L 0.22118 0.00024 E">
                                      <p:cBhvr>
                                        <p:cTn id="968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33 0.00231 L 0.71632 0.00231 E">
                                      <p:cBhvr>
                                        <p:cTn id="98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18 0.00024 L 0.26059 0.00024 E">
                                      <p:cBhvr>
                                        <p:cTn id="98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463760" y="2158920"/>
            <a:ext cx="6215040" cy="359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u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хотом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ú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ιχοτομί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δίχ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 две част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τομ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сечение, раздел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) деление целого на две части (с возмож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ледующим делением каждой из ча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е подчасти и т.д.)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 метод классификации, состоящий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ении объёма понятия (класса, множества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два подчинённых взаимоисключающих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ротиворечащих) понятия, суммарный объё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х исчерпывает объём делимого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863800" y="4246560"/>
            <a:ext cx="1101600" cy="182412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719280" y="172728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хилл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двинется с мес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, впрочем, и черепах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95748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жде, чем пройти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торое место, он должен прой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о, которо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полпути между н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ак дал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бесконе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прежде,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любого ме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пройти то мес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ходи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пу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им и первым мес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0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Line 2"/>
          <p:cNvSpPr/>
          <p:nvPr/>
        </p:nvSpPr>
        <p:spPr>
          <a:xfrm>
            <a:off x="1546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"/>
          <p:cNvSpPr/>
          <p:nvPr/>
        </p:nvSpPr>
        <p:spPr>
          <a:xfrm>
            <a:off x="169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>
            <a:off x="1906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226692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13056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46782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8096400" y="1619280"/>
            <a:ext cx="0" cy="47862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Черепаха-5"/>
          <p:cNvPicPr/>
          <p:nvPr/>
        </p:nvPicPr>
        <p:blipFill>
          <a:blip r:embed="rId1"/>
          <a:stretch/>
        </p:blipFill>
        <p:spPr>
          <a:xfrm>
            <a:off x="7629480" y="4246560"/>
            <a:ext cx="1000080" cy="666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Дихотом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Ахилл-2"/>
          <p:cNvPicPr/>
          <p:nvPr/>
        </p:nvPicPr>
        <p:blipFill>
          <a:blip r:embed="rId2"/>
          <a:stretch/>
        </p:blipFill>
        <p:spPr>
          <a:xfrm>
            <a:off x="611280" y="3238560"/>
            <a:ext cx="1735200" cy="17920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72431 0.00463 E">
                                      <p:cBhvr>
                                        <p:cTn id="106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34636 0.00231 E">
                                      <p:cBhvr>
                                        <p:cTn id="107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31 L 0.1809 0.00231 E">
                                      <p:cBhvr>
                                        <p:cTn id="1091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8646 0.00231 E">
                                      <p:cBhvr>
                                        <p:cTn id="1105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8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4705 0.00231 E">
                                      <p:cBhvr>
                                        <p:cTn id="111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8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2344 0.00231 E">
                                      <p:cBhvr>
                                        <p:cTn id="113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0231 L 0.00764 0.00231 E">
                                      <p:cBhvr>
                                        <p:cTn id="114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и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 rot="10800000">
            <a:off x="358560" y="1870200"/>
            <a:ext cx="395892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ерв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 rot="10800000">
            <a:off x="4678200" y="187020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ве послед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пор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монстрируют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емыслимость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допущен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ост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ремени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2"/>
          <p:cNvSpPr/>
          <p:nvPr/>
        </p:nvSpPr>
        <p:spPr>
          <a:xfrm>
            <a:off x="3043080" y="424656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1236600" y="262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39640" y="172728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тящая стре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момент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нимает какое-то ме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её нет вообщ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4138560" y="4965840"/>
            <a:ext cx="43182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 этом мес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двигаться некуд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а покои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верно для люб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ста её траек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2340000" y="3346560"/>
            <a:ext cx="43178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занимает в простра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сто, равное её размер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ольше, ни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она была бы бол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меньше себя сам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6" descr="Зенон Элейский"/>
          <p:cNvPicPr/>
          <p:nvPr/>
        </p:nvPicPr>
        <p:blipFill>
          <a:blip r:embed="rId1"/>
          <a:stretch/>
        </p:blipFill>
        <p:spPr>
          <a:xfrm>
            <a:off x="7088040" y="1619280"/>
            <a:ext cx="1548000" cy="197964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ре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171936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"/>
          <p:cNvSpPr/>
          <p:nvPr/>
        </p:nvSpPr>
        <p:spPr>
          <a:xfrm>
            <a:off x="7423200" y="2698920"/>
            <a:ext cx="0" cy="1820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5"/>
          <p:cNvSpPr/>
          <p:nvPr/>
        </p:nvSpPr>
        <p:spPr>
          <a:xfrm>
            <a:off x="1000080" y="341784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6"/>
          <p:cNvSpPr/>
          <p:nvPr/>
        </p:nvSpPr>
        <p:spPr>
          <a:xfrm>
            <a:off x="1000080" y="3798720"/>
            <a:ext cx="714384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arrow01"/>
          <p:cNvPicPr/>
          <p:nvPr/>
        </p:nvPicPr>
        <p:blipFill>
          <a:blip r:embed="rId1"/>
          <a:stretch/>
        </p:blipFill>
        <p:spPr>
          <a:xfrm>
            <a:off x="1719360" y="3440160"/>
            <a:ext cx="5705280" cy="33336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7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6"/>
          <p:cNvSpPr/>
          <p:nvPr/>
        </p:nvSpPr>
        <p:spPr>
          <a:xfrm>
            <a:off x="2986200" y="496584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получится, что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делима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диница време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абсурдно. (Ра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ой окажется и минималь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неделимая, единица простран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1892160" y="433548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625320" y="2608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466560" y="1511280"/>
            <a:ext cx="575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ве колесниц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тся навстречу друг друга со скоро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й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ой единице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странства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за минимальную единицу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мо третьей – неподвижной – колес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1727280" y="3238560"/>
            <a:ext cx="575784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пройдут расстоя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е минимальной единиц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инимальную единицу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неподвижной колесницы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ловину минимальной единицы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Зенон Элейский"/>
          <p:cNvPicPr/>
          <p:nvPr/>
        </p:nvPicPr>
        <p:blipFill>
          <a:blip r:embed="rId1"/>
          <a:stretch/>
        </p:blipFill>
        <p:spPr>
          <a:xfrm>
            <a:off x="7197840" y="971640"/>
            <a:ext cx="1547640" cy="1979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доксы Зенон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рия «Стад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352584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"/>
          <p:cNvSpPr/>
          <p:nvPr/>
        </p:nvSpPr>
        <p:spPr>
          <a:xfrm>
            <a:off x="5684760" y="1798560"/>
            <a:ext cx="0" cy="43182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Колесница-1"/>
          <p:cNvPicPr/>
          <p:nvPr/>
        </p:nvPicPr>
        <p:blipFill>
          <a:blip r:embed="rId1"/>
          <a:stretch/>
        </p:blipFill>
        <p:spPr>
          <a:xfrm>
            <a:off x="2446200" y="3238560"/>
            <a:ext cx="2159280" cy="129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Колесница-1"/>
          <p:cNvPicPr/>
          <p:nvPr/>
        </p:nvPicPr>
        <p:blipFill>
          <a:blip r:embed="rId2"/>
          <a:stretch/>
        </p:blipFill>
        <p:spPr>
          <a:xfrm>
            <a:off x="4605480" y="4537080"/>
            <a:ext cx="2158920" cy="1300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Колесница-3"/>
          <p:cNvPicPr/>
          <p:nvPr/>
        </p:nvPicPr>
        <p:blipFill>
          <a:blip r:embed="rId3"/>
          <a:stretch/>
        </p:blipFill>
        <p:spPr>
          <a:xfrm>
            <a:off x="3525840" y="1982880"/>
            <a:ext cx="2158920" cy="122544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1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2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5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2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L 0.12222 -4.44444E-006 E">
                                      <p:cBhvr>
                                        <p:cTn id="1331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L -0.1217 -1.48148E-006 E">
                                      <p:cBhvr>
                                        <p:cTn id="133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7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3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1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3224160" y="5073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"/>
          <p:cNvSpPr/>
          <p:nvPr/>
        </p:nvSpPr>
        <p:spPr>
          <a:xfrm>
            <a:off x="2144880" y="3814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1065240" y="255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йская школ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ллюзии восприятия и мыслимая ре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719280" y="1654200"/>
            <a:ext cx="431784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идетельств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и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ж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иж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ни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1798560" y="291456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позволяют утвержд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усто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идетельствуют 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огих движущихс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>
            <a:off x="2878200" y="4173480"/>
            <a:ext cx="431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есть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а источника зн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 чём-то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ротивореча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9"/>
          <p:cNvSpPr/>
          <p:nvPr/>
        </p:nvSpPr>
        <p:spPr>
          <a:xfrm>
            <a:off x="3957480" y="5433840"/>
            <a:ext cx="431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й же из 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вер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1" descr="Зенон Элейский"/>
          <p:cNvPicPr/>
          <p:nvPr/>
        </p:nvPicPr>
        <p:blipFill>
          <a:blip r:embed="rId1"/>
          <a:stretch/>
        </p:blipFill>
        <p:spPr>
          <a:xfrm>
            <a:off x="7197840" y="1619280"/>
            <a:ext cx="1406520" cy="1798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3" descr="Parmenides (Raphael) - ed"/>
          <p:cNvPicPr/>
          <p:nvPr/>
        </p:nvPicPr>
        <p:blipFill>
          <a:blip r:embed="rId2"/>
          <a:stretch/>
        </p:blipFill>
        <p:spPr>
          <a:xfrm>
            <a:off x="358920" y="4317840"/>
            <a:ext cx="1716120" cy="215748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ого первона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0" descr="Анаксимандр (1обр)"/>
          <p:cNvPicPr/>
          <p:nvPr/>
        </p:nvPicPr>
        <p:blipFill>
          <a:blip r:embed="rId1"/>
          <a:stretch/>
        </p:blipFill>
        <p:spPr>
          <a:xfrm>
            <a:off x="3562200" y="2158920"/>
            <a:ext cx="201168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2" name="Picture 15" descr="thales (1-2)"/>
          <p:cNvPicPr/>
          <p:nvPr/>
        </p:nvPicPr>
        <p:blipFill>
          <a:blip r:embed="rId2"/>
          <a:stretch/>
        </p:blipFill>
        <p:spPr>
          <a:xfrm>
            <a:off x="900000" y="1619280"/>
            <a:ext cx="188280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3" name="Picture 23" descr="Анаксимен (2)"/>
          <p:cNvPicPr/>
          <p:nvPr/>
        </p:nvPicPr>
        <p:blipFill>
          <a:blip r:embed="rId3"/>
          <a:stretch/>
        </p:blipFill>
        <p:spPr>
          <a:xfrm>
            <a:off x="6224760" y="2698920"/>
            <a:ext cx="2192040" cy="25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25"/>
          <p:cNvSpPr/>
          <p:nvPr/>
        </p:nvSpPr>
        <p:spPr>
          <a:xfrm>
            <a:off x="1070640" y="4497480"/>
            <a:ext cx="1551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3538080" y="503712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андр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610 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. 5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284520" y="557676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ксиме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к. 588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к. 5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nodeType="clickEffect" fill="hold">
                      <p:stCondLst>
                        <p:cond delay="0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единства су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690560" y="1978200"/>
            <a:ext cx="5757840" cy="323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заимопревращения вещест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идетельствуют, чт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 видимым многообразием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спринимаемого мир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рыва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дино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первонач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355760" y="1798560"/>
            <a:ext cx="6431040" cy="4318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х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αρχ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principiu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древнегреческ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зна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(принцип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правной мом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сходную точку) чего-либ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пространственном и временном смысл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зачин ил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чин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его-либ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о ка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ьств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ла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специфически философском употреблении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нтологическое нача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первоначало)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чало позн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гносеологический принцип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большинство первых философ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ло началом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, из ч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оят вс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чего как пер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возникают и во что как в послед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, погибая, превращаются, прич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хотя и остаётся, но измен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их проявлениях, – это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читают элементом и началом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тому они полагают, что ни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зникает и не исчезает;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...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некоторое естество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дно, или больше одного, отку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всё остальное, в то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амо это естество сохраняет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алес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да как перво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651720" y="557676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 rot="10800000">
            <a:off x="216000" y="1726560"/>
            <a:ext cx="6370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 количества и вида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 не все учили одинаков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ле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тель такого рода философи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ал, что начало – в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отом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являл, что земля находится на воде)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этому предположению он, быть мож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, видя, что пища всех суще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ая и что само тепло возникае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ги и ею жив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а то, из чего всё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никает – это и есть начало всего)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он именно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шёл к своему предположен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в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тому, что семена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природ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ажны, а нач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влажного –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Рафаэль, Аристотель (голова - red)"/>
          <p:cNvPicPr/>
          <p:nvPr/>
        </p:nvPicPr>
        <p:blipFill>
          <a:blip r:embed="rId1"/>
          <a:stretch/>
        </p:blipFill>
        <p:spPr>
          <a:xfrm>
            <a:off x="6405480" y="1798560"/>
            <a:ext cx="2419560" cy="197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летская школ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первоначал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арх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050920" y="1727280"/>
            <a:ext cx="251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Филосо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4570560" y="1727280"/>
            <a:ext cx="251928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ерво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79056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050920" y="2806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а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570560" y="2806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050920" y="403056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ан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570560" y="403056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Апейрон</a:t>
            </a:r>
            <a:br>
              <a:rPr sz="24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(беспредельное,</a:t>
            </a:r>
            <a:br>
              <a:rPr sz="2000"/>
            </a:b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еопределённ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2050920" y="5253120"/>
            <a:ext cx="251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накси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570560" y="525312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79056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9056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79056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thales (1-2)"/>
          <p:cNvPicPr/>
          <p:nvPr/>
        </p:nvPicPr>
        <p:blipFill>
          <a:blip r:embed="rId1"/>
          <a:stretch/>
        </p:blipFill>
        <p:spPr>
          <a:xfrm>
            <a:off x="1017720" y="2878200"/>
            <a:ext cx="806400" cy="107784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8" name="Picture 16" descr="Анаксимандр (1обр)"/>
          <p:cNvPicPr/>
          <p:nvPr/>
        </p:nvPicPr>
        <p:blipFill>
          <a:blip r:embed="rId2"/>
          <a:stretch/>
        </p:blipFill>
        <p:spPr>
          <a:xfrm>
            <a:off x="1006560" y="4102200"/>
            <a:ext cx="8604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99" name="Picture 17" descr="Анаксимен (2)"/>
          <p:cNvPicPr/>
          <p:nvPr/>
        </p:nvPicPr>
        <p:blipFill>
          <a:blip r:embed="rId3"/>
          <a:stretch/>
        </p:blipFill>
        <p:spPr>
          <a:xfrm>
            <a:off x="971640" y="5326200"/>
            <a:ext cx="939600" cy="10792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0" name="AutoShape 18"/>
          <p:cNvSpPr/>
          <p:nvPr/>
        </p:nvSpPr>
        <p:spPr>
          <a:xfrm>
            <a:off x="7088040" y="1727280"/>
            <a:ext cx="125892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7088040" y="2806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7088040" y="403056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7088040" y="5253120"/>
            <a:ext cx="125892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2" descr="Вода-12"/>
          <p:cNvPicPr/>
          <p:nvPr/>
        </p:nvPicPr>
        <p:blipFill>
          <a:blip r:embed="rId4"/>
          <a:stretch/>
        </p:blipFill>
        <p:spPr>
          <a:xfrm>
            <a:off x="7132680" y="3068640"/>
            <a:ext cx="1170000" cy="7128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05" name="Picture 23" descr="Воздух-6"/>
          <p:cNvPicPr/>
          <p:nvPr/>
        </p:nvPicPr>
        <p:blipFill>
          <a:blip r:embed="rId5"/>
          <a:stretch/>
        </p:blipFill>
        <p:spPr>
          <a:xfrm>
            <a:off x="7132680" y="5445000"/>
            <a:ext cx="1170000" cy="81468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06" name="Rectangle 24"/>
          <p:cNvSpPr/>
          <p:nvPr/>
        </p:nvSpPr>
        <p:spPr>
          <a:xfrm>
            <a:off x="7132680" y="4221000"/>
            <a:ext cx="117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13:50:30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2:08:58Z</dcterms:modified>
  <cp:revision>191</cp:revision>
  <dc:subject>Основы философии - Тема 2</dc:subject>
  <dc:title>Ранняя греческая натурфилософия</dc:title>
</cp:coreProperties>
</file>