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4100-F76E-4165-BB04-6105FC153CC9}" type="slidenum"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азерная 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Лазерная медицин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убина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Глубина воздейств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биологически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Фотобиологический эффек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в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[Вт], [Вт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[Дж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 = P *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энергии[Дж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ловые характеристик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щность [Вт], [Вт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Энергия [Дж]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 = P * 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лотность энергии[Дж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/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ктр терапевтических лаз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Спектр терапевтических лазеро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ла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лат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.63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m, 1 – 5 mW, 5 minuts, 3.5 – 7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0.63 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nm, 1 – 5 mW, 5 minuts, 3.5 – 7 J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апевт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сновные напра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рапевт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Хирург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рк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Зерк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ретр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Уретр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ая деструкция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ибилиза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ем 63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 67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орфирин 6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охлорин 70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ая деструкция ткане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ибилизаторы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гем 63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 67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ензопорфирин 69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дохлорин 70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й когерентный томо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тический когерентный томограф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функциона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рмирование базы данных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функциональных тестов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 = dL/L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монохрома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0-3 – 10-4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-1 – 10-2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 – 1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М = dL/L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тепень монохроматичност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0-3 – 10-4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-1 – 10-2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 – 1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й скальп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ый скальпел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пецифические эффекты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емостатическ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ктерицидны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иостимулирующ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на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стема навед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«Portabl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«Portable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nderfu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Wonderful”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ксимер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Эксимер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«Лазерная медиц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343)37691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charoky@r66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екция «Лазерная медицина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лефон: (343)376919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E-mail: charoky@r66.ru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итература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Поляризац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имость пуч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о – 10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ходимость пучка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о – 10о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7D4-D2C4-46AF-9EB5-DB1DF2CB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11F-C27C-4369-8E8C-4018828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56A-EB20-435E-9ED3-FC4FA7C0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2E5-00AB-4AC1-A253-2AC4C570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3065-1101-4805-B7C6-5B451F25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AF23-A5B2-457A-AC17-9912D534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505D-34DE-43C1-A0C2-8D3848AD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FFD2-D35A-4FA5-8563-F9CFF5A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D450-924B-442D-AE39-51B32FBB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A158-F96A-409C-B1F4-FCCD583F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EC40-C0DF-4770-B093-4AD5E250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9FB-12B5-41F3-B0B0-74B41456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EA57-EDB8-4E95-ABAE-53F4243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07DD-C50A-4140-9A82-EDA33D6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FF61-F349-4CC7-A25F-E1E2C095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2EFB-97E1-420E-B20B-84384C7C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D05E-737C-4AFC-89D5-5596BA85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958-D1A7-45CD-B785-9031B6C1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436-CD9C-4246-B3A4-BCAD5383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216-079A-4614-AF49-DCF395DA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C8B-989C-4BCB-BBB5-6324BAC0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5F1-74CE-49A8-BE35-E0E6E5EC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A1D-C5EA-40DE-A9FD-99EF0814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4A7-9915-4046-BA0B-0501BA2B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DB4D-0A51-4EC8-817D-5F433824A1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6EE9-44FE-4ABC-95BD-281EE1BCAF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charoky@r66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Лазерная медиц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Световод"/>
          <p:cNvPicPr/>
          <p:nvPr/>
        </p:nvPicPr>
        <p:blipFill>
          <a:blip r:embed="rId1"/>
          <a:stretch/>
        </p:blipFill>
        <p:spPr>
          <a:xfrm>
            <a:off x="1258920" y="836640"/>
            <a:ext cx="655164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лубина воз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Глубина"/>
          <p:cNvPicPr/>
          <p:nvPr/>
        </p:nvPicPr>
        <p:blipFill>
          <a:blip r:embed="rId1">
            <a:lum contrast="12000"/>
          </a:blip>
          <a:srcRect l="0" t="0" r="0" b="6558"/>
          <a:stretch/>
        </p:blipFill>
        <p:spPr>
          <a:xfrm>
            <a:off x="468360" y="1413000"/>
            <a:ext cx="8281800" cy="48877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биологический эфф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Мощность_Эффект"/>
          <p:cNvPicPr/>
          <p:nvPr/>
        </p:nvPicPr>
        <p:blipFill>
          <a:blip r:embed="rId1"/>
          <a:srcRect l="0" t="0" r="0" b="12474"/>
          <a:stretch/>
        </p:blipFill>
        <p:spPr>
          <a:xfrm>
            <a:off x="611280" y="907920"/>
            <a:ext cx="7848360" cy="55944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ловые характерис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Энергия"/>
          <p:cNvPicPr/>
          <p:nvPr/>
        </p:nvPicPr>
        <p:blipFill>
          <a:blip r:embed="rId1"/>
          <a:stretch/>
        </p:blipFill>
        <p:spPr>
          <a:xfrm>
            <a:off x="250920" y="1268280"/>
            <a:ext cx="2779560" cy="5300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03640" y="1413000"/>
            <a:ext cx="568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щ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нергия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P * 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энерг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/см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Мустанг"/>
          <p:cNvPicPr/>
          <p:nvPr/>
        </p:nvPicPr>
        <p:blipFill>
          <a:blip r:embed="rId1"/>
          <a:stretch/>
        </p:blipFill>
        <p:spPr>
          <a:xfrm>
            <a:off x="539640" y="995400"/>
            <a:ext cx="8209080" cy="586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ектр терапевтических лазер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Спектр"/>
          <p:cNvPicPr/>
          <p:nvPr/>
        </p:nvPicPr>
        <p:blipFill>
          <a:blip r:embed="rId1"/>
          <a:srcRect l="0" t="0" r="0" b="67595"/>
          <a:stretch/>
        </p:blipFill>
        <p:spPr>
          <a:xfrm>
            <a:off x="250920" y="126828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Спектр"/>
          <p:cNvPicPr/>
          <p:nvPr/>
        </p:nvPicPr>
        <p:blipFill>
          <a:blip r:embed="rId2"/>
          <a:srcRect l="0" t="66685" r="0" b="0"/>
          <a:stretch/>
        </p:blipFill>
        <p:spPr>
          <a:xfrm>
            <a:off x="6156360" y="1268280"/>
            <a:ext cx="2808360" cy="221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Спектр"/>
          <p:cNvPicPr/>
          <p:nvPr/>
        </p:nvPicPr>
        <p:blipFill>
          <a:blip r:embed="rId3"/>
          <a:srcRect l="0" t="32363" r="0" b="33822"/>
          <a:stretch/>
        </p:blipFill>
        <p:spPr>
          <a:xfrm>
            <a:off x="3276720" y="1268280"/>
            <a:ext cx="2808000" cy="224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Мустанг2000_1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69772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Мустанг2000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2102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ла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Мулат"/>
          <p:cNvPicPr/>
          <p:nvPr/>
        </p:nvPicPr>
        <p:blipFill>
          <a:blip r:embed="rId1"/>
          <a:stretch/>
        </p:blipFill>
        <p:spPr>
          <a:xfrm>
            <a:off x="1258920" y="981000"/>
            <a:ext cx="6985080" cy="55342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ВЛОК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1052640"/>
            <a:ext cx="8642160" cy="5209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ВЛОК1"/>
          <p:cNvPicPr/>
          <p:nvPr/>
        </p:nvPicPr>
        <p:blipFill>
          <a:blip r:embed="rId1">
            <a:lum contrast="24000"/>
          </a:blip>
          <a:srcRect l="0" t="0" r="31949" b="0"/>
          <a:stretch/>
        </p:blipFill>
        <p:spPr>
          <a:xfrm>
            <a:off x="250920" y="981000"/>
            <a:ext cx="8642160" cy="3608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250920" y="501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.63 nm,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 – 5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W, 5 minuts, 3.5 – 7 J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141300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ерапевт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Хирург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ерк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Насодка_зеркало"/>
          <p:cNvPicPr/>
          <p:nvPr/>
        </p:nvPicPr>
        <p:blipFill>
          <a:blip r:embed="rId1"/>
          <a:stretch/>
        </p:blipFill>
        <p:spPr>
          <a:xfrm>
            <a:off x="755640" y="1031760"/>
            <a:ext cx="7848720" cy="58262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Насодка106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31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Насодка105"/>
          <p:cNvPicPr/>
          <p:nvPr/>
        </p:nvPicPr>
        <p:blipFill>
          <a:blip r:embed="rId2"/>
          <a:stretch/>
        </p:blipFill>
        <p:spPr>
          <a:xfrm>
            <a:off x="250920" y="3573360"/>
            <a:ext cx="8642160" cy="2225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етр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Насодка109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5428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Насодка11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257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Насодка108"/>
          <p:cNvPicPr/>
          <p:nvPr/>
        </p:nvPicPr>
        <p:blipFill>
          <a:blip r:embed="rId2"/>
          <a:stretch/>
        </p:blipFill>
        <p:spPr>
          <a:xfrm>
            <a:off x="250920" y="4443480"/>
            <a:ext cx="410508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Насодка111"/>
          <p:cNvPicPr/>
          <p:nvPr/>
        </p:nvPicPr>
        <p:blipFill>
          <a:blip r:embed="rId3"/>
          <a:stretch/>
        </p:blipFill>
        <p:spPr>
          <a:xfrm>
            <a:off x="250920" y="2852640"/>
            <a:ext cx="60498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126828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Направленная деструкция ткан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ибилизатор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гем 63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 67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Бензопорфирин 6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Радохлорин 70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1413000"/>
            <a:ext cx="86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ьютерная лазерная капилляроскоп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тический когерентный томограф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омпьютерная лазерная капилляроско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Эритроцит"/>
          <p:cNvPicPr/>
          <p:nvPr/>
        </p:nvPicPr>
        <p:blipFill>
          <a:blip r:embed="rId1"/>
          <a:srcRect l="0" t="0" r="1817" b="0"/>
          <a:stretch/>
        </p:blipFill>
        <p:spPr>
          <a:xfrm>
            <a:off x="2340000" y="170028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Лазм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76360" y="1916280"/>
            <a:ext cx="6337440" cy="4384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70028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50920" y="2133720"/>
            <a:ext cx="86421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ГРАММНОЕ ОБЕСПЕЧЕНИЕ К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НАЛИЗАТОРУ ЛАКК-0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ормирование базы данных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с применением математического аппарата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функциональных тес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87280" y="2708280"/>
            <a:ext cx="6193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СМ =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 dL</a:t>
            </a: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/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L</a:t>
            </a:r>
            <a:r>
              <a:rPr b="0" lang="ru-RU" sz="66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1337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Степень монохроматич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00000" y="408312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Газов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3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4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Твердотельн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1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2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Полупроводниковые 1 – 1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ый скальп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206064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ие эффе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емостатиче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актерицид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иостимулирующ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на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50920" y="1557360"/>
            <a:ext cx="86421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Комбинация СО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(10,6 мкм) и НИЛИ – пилот (0,64 мкм). Лучи фокусируются в одну точку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rtable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File0073"/>
          <p:cNvPicPr/>
          <p:nvPr/>
        </p:nvPicPr>
        <p:blipFill>
          <a:blip r:embed="rId1"/>
          <a:stretch/>
        </p:blipFill>
        <p:spPr>
          <a:xfrm>
            <a:off x="611280" y="907920"/>
            <a:ext cx="4160880" cy="595008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11280" y="277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nderful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File0074"/>
          <p:cNvPicPr/>
          <p:nvPr/>
        </p:nvPicPr>
        <p:blipFill>
          <a:blip r:embed="rId1"/>
          <a:stretch/>
        </p:blipFill>
        <p:spPr>
          <a:xfrm>
            <a:off x="250920" y="189000"/>
            <a:ext cx="1962000" cy="640872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имер лаз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LaserScan"/>
          <p:cNvPicPr/>
          <p:nvPr/>
        </p:nvPicPr>
        <p:blipFill>
          <a:blip r:embed="rId1"/>
          <a:stretch/>
        </p:blipFill>
        <p:spPr>
          <a:xfrm>
            <a:off x="971640" y="1125360"/>
            <a:ext cx="3894120" cy="5543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File0007"/>
          <p:cNvPicPr/>
          <p:nvPr/>
        </p:nvPicPr>
        <p:blipFill>
          <a:blip r:embed="rId1"/>
          <a:srcRect l="16242" t="0" r="0" b="0"/>
          <a:stretch/>
        </p:blipFill>
        <p:spPr>
          <a:xfrm>
            <a:off x="755640" y="1484280"/>
            <a:ext cx="7704000" cy="4118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0013"/>
          <p:cNvPicPr/>
          <p:nvPr/>
        </p:nvPicPr>
        <p:blipFill>
          <a:blip r:embed="rId2"/>
          <a:stretch/>
        </p:blipFill>
        <p:spPr>
          <a:xfrm>
            <a:off x="6948360" y="620640"/>
            <a:ext cx="695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File0008"/>
          <p:cNvPicPr/>
          <p:nvPr/>
        </p:nvPicPr>
        <p:blipFill>
          <a:blip r:embed="rId1"/>
          <a:srcRect l="13284" t="0" r="0" b="0"/>
          <a:stretch/>
        </p:blipFill>
        <p:spPr>
          <a:xfrm>
            <a:off x="468360" y="1557360"/>
            <a:ext cx="8424720" cy="36129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File0009"/>
          <p:cNvPicPr/>
          <p:nvPr/>
        </p:nvPicPr>
        <p:blipFill>
          <a:blip r:embed="rId1"/>
          <a:srcRect l="15509" t="0" r="0" b="0"/>
          <a:stretch/>
        </p:blipFill>
        <p:spPr>
          <a:xfrm>
            <a:off x="395280" y="1844640"/>
            <a:ext cx="84978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«Лазерная медиц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79280" y="836640"/>
            <a:ext cx="89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здана 17.12.200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втор: Исупов А.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лефон: (343)376919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22207293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Comic Sans MS"/>
                <a:hlinkClick r:id="rId1"/>
              </a:rPr>
              <a:t>charoky@r66.r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итература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268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4" descr="Рассея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21000"/>
            <a:ext cx="8569080" cy="43844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1413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ределяется технологией изготовл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126828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ходимость пучк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азовы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1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вердотельные 1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проводниковые 1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501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8:29:15Z</dcterms:created>
  <dc:creator>Исупов Андрей Борисович</dc:creator>
  <dc:description>лекция курс"Медицинские приборы, аппараты и системы"</dc:description>
  <dc:language>en-US</dc:language>
  <cp:lastModifiedBy>LEGION</cp:lastModifiedBy>
  <dcterms:modified xsi:type="dcterms:W3CDTF">2015-11-27T12:50:24Z</dcterms:modified>
  <cp:revision>138</cp:revision>
  <dc:subject/>
  <dc:title>Лазерная медицина</dc:title>
</cp:coreProperties>
</file>