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BF05-2FEB-4750-B603-E4CA097DF6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о Дню Медицинского работника (17 июн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о Дню Медицинского работника (17 июн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25602 Настольный складной прибор с часами, датой, термометром, подставками под ручки, визитки и бумаж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252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2518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ка с часами и калькуля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622850 Подставка под визитки с таблет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08860 —Часы «Гиппократ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25602 Настольный складной прибор с часами, датой, термометром, подставками под ручки, визитки и бумажный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25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2518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ка с часами и калькулято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622850 Подставка под визитки с таблет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08860 —Часы «Гиппокра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618068 Подставка под ручки в виде книги. «Обложка» книги может быть изготовлена на ваш вк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165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6523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дкостная фигура для релаксации с идущими вверх части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80645 Записная книжка с отделением для визиток и руч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618068 Подставка под ручки в виде книги. «Обложка» книги может быть изготовлена на ваш вку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1652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6523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дкостная фигура для релаксации с идущими вверх частиц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80645 Записная книжка с отделением для визиток и руч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4141.06  Ручка шариковая в форме шприца «03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7380.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7380.0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7380.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7380.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чка шариковая на шн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404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47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475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адки для кни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4141.06  Ручка шариковая в форме шприца «03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7380.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7380.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7380.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7380.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чка шариковая на шну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404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47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475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адки для кни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95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95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тляр для таблеток и витамин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0600 —Футляр для витаминов с тремя отделе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39500 Зеркало складное с расче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95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95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тляр для таблеток и витами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0600 —Футляр для витаминов с тремя отдел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39500 Зеркало складное с рас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51  «Сердце»-антистре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54106 Держатель для документов «Зу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56  «Таблетка»-антистре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41 —Подставка под визитки с ручкой и держателем для записок «Зу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51  «Сердце»-антистре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54106 Держатель для документов «Зуб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56  «Таблетка»-антистре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41 —Подставка под визитки с ручкой и держателем для записок «Зуб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02706 Рамка для фотографии 10x15 с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33212 —Рамка для фотографии 5х8 с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23912 Кружка на 30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23526 Кружка на 30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02706 Рамка для фотографии 10x15 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33212 —Рамка для фотографии 5х8 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23912 Кружка на 30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23526 Кружка на 30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жка на 275 мл с силиконовым покрытием на ру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жка на 32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жка на 275 мл с силиконовым покрытием на руч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жка на 32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79B-E296-4CFA-BEB9-5EA81D11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45E-F6B3-4318-9D4B-BD175F23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DA7-2E8F-4B60-9BEB-A1728856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BDA-90D1-46CC-A28F-6C83591F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44D-97D7-49C0-8CDF-0A5EC586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0DA-74E4-4578-8B39-E4B43037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2D7-BABA-464B-A375-3B0C1C0A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652-D973-4434-93B4-96D59139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2509-BDB7-4122-8DDE-52726E44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573-A089-4C27-9EF0-493FEEFA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E86-27BB-4045-9E7A-8829D553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DA1-0B7D-4F39-9725-1D2E89D4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9619-79EE-40A7-95CA-100A44ED34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я ко Дню Медицинского работника (17 июн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doc "/>
          <p:cNvPicPr/>
          <p:nvPr/>
        </p:nvPicPr>
        <p:blipFill>
          <a:blip r:embed="rId1"/>
          <a:stretch/>
        </p:blipFill>
        <p:spPr>
          <a:xfrm>
            <a:off x="3952800" y="3986280"/>
            <a:ext cx="1254240" cy="205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doc "/>
          <p:cNvPicPr/>
          <p:nvPr/>
        </p:nvPicPr>
        <p:blipFill>
          <a:blip r:embed="rId2"/>
          <a:stretch/>
        </p:blipFill>
        <p:spPr>
          <a:xfrm>
            <a:off x="193680" y="3678120"/>
            <a:ext cx="1619280" cy="264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doc "/>
          <p:cNvPicPr/>
          <p:nvPr/>
        </p:nvPicPr>
        <p:blipFill>
          <a:blip r:embed="rId3"/>
          <a:stretch/>
        </p:blipFill>
        <p:spPr>
          <a:xfrm>
            <a:off x="706320" y="209520"/>
            <a:ext cx="919440" cy="150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doc "/>
          <p:cNvPicPr/>
          <p:nvPr/>
        </p:nvPicPr>
        <p:blipFill>
          <a:blip r:embed="rId4"/>
          <a:stretch/>
        </p:blipFill>
        <p:spPr>
          <a:xfrm>
            <a:off x="2176560" y="820800"/>
            <a:ext cx="1025280" cy="167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doc "/>
          <p:cNvPicPr/>
          <p:nvPr/>
        </p:nvPicPr>
        <p:blipFill>
          <a:blip r:embed="rId5"/>
          <a:stretch/>
        </p:blipFill>
        <p:spPr>
          <a:xfrm>
            <a:off x="7421400" y="219240"/>
            <a:ext cx="1276560" cy="208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doc "/>
          <p:cNvPicPr/>
          <p:nvPr/>
        </p:nvPicPr>
        <p:blipFill>
          <a:blip r:embed="rId6"/>
          <a:stretch/>
        </p:blipFill>
        <p:spPr>
          <a:xfrm>
            <a:off x="7129440" y="3657600"/>
            <a:ext cx="1644840" cy="269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doc "/>
          <p:cNvPicPr/>
          <p:nvPr/>
        </p:nvPicPr>
        <p:blipFill>
          <a:blip r:embed="rId7"/>
          <a:stretch/>
        </p:blipFill>
        <p:spPr>
          <a:xfrm>
            <a:off x="5684760" y="4746600"/>
            <a:ext cx="960480" cy="1571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doc "/>
          <p:cNvPicPr/>
          <p:nvPr/>
        </p:nvPicPr>
        <p:blipFill>
          <a:blip r:embed="rId8"/>
          <a:stretch/>
        </p:blipFill>
        <p:spPr>
          <a:xfrm>
            <a:off x="3720960" y="279360"/>
            <a:ext cx="1254240" cy="205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doc "/>
          <p:cNvPicPr/>
          <p:nvPr/>
        </p:nvPicPr>
        <p:blipFill>
          <a:blip r:embed="rId9"/>
          <a:stretch/>
        </p:blipFill>
        <p:spPr>
          <a:xfrm>
            <a:off x="5700600" y="868320"/>
            <a:ext cx="960480" cy="1571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doc "/>
          <p:cNvPicPr/>
          <p:nvPr/>
        </p:nvPicPr>
        <p:blipFill>
          <a:blip r:embed="rId10"/>
          <a:stretch/>
        </p:blipFill>
        <p:spPr>
          <a:xfrm>
            <a:off x="2503440" y="4875120"/>
            <a:ext cx="960480" cy="1571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oc "/>
          <p:cNvPicPr/>
          <p:nvPr/>
        </p:nvPicPr>
        <p:blipFill>
          <a:blip r:embed="rId1"/>
          <a:stretch/>
        </p:blipFill>
        <p:spPr>
          <a:xfrm>
            <a:off x="7218360" y="3886200"/>
            <a:ext cx="1728720" cy="282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108860_a"/>
          <p:cNvPicPr/>
          <p:nvPr/>
        </p:nvPicPr>
        <p:blipFill>
          <a:blip r:embed="rId2"/>
          <a:stretch/>
        </p:blipFill>
        <p:spPr>
          <a:xfrm>
            <a:off x="974880" y="7128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5602_a"/>
          <p:cNvPicPr/>
          <p:nvPr/>
        </p:nvPicPr>
        <p:blipFill>
          <a:blip r:embed="rId3"/>
          <a:stretch/>
        </p:blipFill>
        <p:spPr>
          <a:xfrm>
            <a:off x="5486400" y="41904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22850_a"/>
          <p:cNvPicPr/>
          <p:nvPr/>
        </p:nvPicPr>
        <p:blipFill>
          <a:blip r:embed="rId4"/>
          <a:stretch/>
        </p:blipFill>
        <p:spPr>
          <a:xfrm>
            <a:off x="914400" y="37800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252500_a"/>
          <p:cNvPicPr/>
          <p:nvPr/>
        </p:nvPicPr>
        <p:blipFill>
          <a:blip r:embed="rId5"/>
          <a:stretch/>
        </p:blipFill>
        <p:spPr>
          <a:xfrm>
            <a:off x="4114800" y="3651120"/>
            <a:ext cx="2382840" cy="69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251802_a"/>
          <p:cNvPicPr/>
          <p:nvPr/>
        </p:nvPicPr>
        <p:blipFill>
          <a:blip r:embed="rId6"/>
          <a:stretch/>
        </p:blipFill>
        <p:spPr>
          <a:xfrm>
            <a:off x="4316400" y="4519440"/>
            <a:ext cx="2638440" cy="1071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5124600" y="2484360"/>
            <a:ext cx="385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560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льный складной прибор с часами, датой, термометром, подставками под ручки, визитки и бумажный б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316400" y="4363920"/>
            <a:ext cx="13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5867280" y="53150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18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403880" y="5600880"/>
            <a:ext cx="29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нейка с часами и калькулят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80880" y="5924520"/>
            <a:ext cx="40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2285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ставка под визитки с таблет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1295280" y="280044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886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Часы «Гиппокра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618068_a"/>
          <p:cNvPicPr/>
          <p:nvPr/>
        </p:nvPicPr>
        <p:blipFill>
          <a:blip r:embed="rId1"/>
          <a:stretch/>
        </p:blipFill>
        <p:spPr>
          <a:xfrm>
            <a:off x="1020600" y="5493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780645_a"/>
          <p:cNvPicPr/>
          <p:nvPr/>
        </p:nvPicPr>
        <p:blipFill>
          <a:blip r:embed="rId2"/>
          <a:stretch/>
        </p:blipFill>
        <p:spPr>
          <a:xfrm>
            <a:off x="990720" y="441972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780645_b"/>
          <p:cNvPicPr/>
          <p:nvPr/>
        </p:nvPicPr>
        <p:blipFill>
          <a:blip r:embed="rId3"/>
          <a:stretch/>
        </p:blipFill>
        <p:spPr>
          <a:xfrm>
            <a:off x="3029040" y="4038480"/>
            <a:ext cx="2609640" cy="195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165218_a"/>
          <p:cNvPicPr/>
          <p:nvPr/>
        </p:nvPicPr>
        <p:blipFill>
          <a:blip r:embed="rId4"/>
          <a:stretch/>
        </p:blipFill>
        <p:spPr>
          <a:xfrm>
            <a:off x="5638680" y="706320"/>
            <a:ext cx="106704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165234_a"/>
          <p:cNvPicPr/>
          <p:nvPr/>
        </p:nvPicPr>
        <p:blipFill>
          <a:blip r:embed="rId5"/>
          <a:stretch/>
        </p:blipFill>
        <p:spPr>
          <a:xfrm>
            <a:off x="7010280" y="771480"/>
            <a:ext cx="132552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doc "/>
          <p:cNvPicPr/>
          <p:nvPr/>
        </p:nvPicPr>
        <p:blipFill>
          <a:blip r:embed="rId6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542880" y="3201840"/>
            <a:ext cx="461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18068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ставка под ручки в виде книги. «Обложка» книги может быть изготовлена на ваш вку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638680" y="23065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6521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7095960" y="2614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6523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5460840" y="300816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дкостная фигура для релаксации с идущими вверх частиц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631800" y="5996160"/>
            <a:ext cx="52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80645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исная книжка с отделением для визиток и руч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14141"/>
          <p:cNvPicPr/>
          <p:nvPr/>
        </p:nvPicPr>
        <p:blipFill>
          <a:blip r:embed="rId1"/>
          <a:stretch/>
        </p:blipFill>
        <p:spPr>
          <a:xfrm rot="1643400">
            <a:off x="1355760" y="290160"/>
            <a:ext cx="49536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77380"/>
          <p:cNvPicPr/>
          <p:nvPr/>
        </p:nvPicPr>
        <p:blipFill>
          <a:blip r:embed="rId2"/>
          <a:stretch/>
        </p:blipFill>
        <p:spPr>
          <a:xfrm rot="1758600">
            <a:off x="2285640" y="581040"/>
            <a:ext cx="1333440" cy="284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77380"/>
          <p:cNvPicPr/>
          <p:nvPr/>
        </p:nvPicPr>
        <p:blipFill>
          <a:blip r:embed="rId3"/>
          <a:stretch/>
        </p:blipFill>
        <p:spPr>
          <a:xfrm rot="1700400">
            <a:off x="3809520" y="295200"/>
            <a:ext cx="1143000" cy="28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77380"/>
          <p:cNvPicPr/>
          <p:nvPr/>
        </p:nvPicPr>
        <p:blipFill>
          <a:blip r:embed="rId4"/>
          <a:stretch/>
        </p:blipFill>
        <p:spPr>
          <a:xfrm rot="1672800">
            <a:off x="5243400" y="119160"/>
            <a:ext cx="1181160" cy="2828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77380"/>
          <p:cNvPicPr/>
          <p:nvPr/>
        </p:nvPicPr>
        <p:blipFill>
          <a:blip r:embed="rId5"/>
          <a:stretch/>
        </p:blipFill>
        <p:spPr>
          <a:xfrm rot="1506600">
            <a:off x="6514920" y="212400"/>
            <a:ext cx="1539720" cy="268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740415_a"/>
          <p:cNvPicPr/>
          <p:nvPr/>
        </p:nvPicPr>
        <p:blipFill>
          <a:blip r:embed="rId6"/>
          <a:stretch/>
        </p:blipFill>
        <p:spPr>
          <a:xfrm rot="20192400">
            <a:off x="825480" y="4485960"/>
            <a:ext cx="2460600" cy="108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747510_a"/>
          <p:cNvPicPr/>
          <p:nvPr/>
        </p:nvPicPr>
        <p:blipFill>
          <a:blip r:embed="rId7"/>
          <a:stretch/>
        </p:blipFill>
        <p:spPr>
          <a:xfrm rot="20891400">
            <a:off x="2681280" y="4440240"/>
            <a:ext cx="2424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747500_a"/>
          <p:cNvPicPr/>
          <p:nvPr/>
        </p:nvPicPr>
        <p:blipFill>
          <a:blip r:embed="rId8"/>
          <a:stretch/>
        </p:blipFill>
        <p:spPr>
          <a:xfrm rot="2554800">
            <a:off x="5833800" y="3886200"/>
            <a:ext cx="685800" cy="255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doc "/>
          <p:cNvPicPr/>
          <p:nvPr/>
        </p:nvPicPr>
        <p:blipFill>
          <a:blip r:embed="rId9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8"/>
          <p:cNvSpPr/>
          <p:nvPr/>
        </p:nvSpPr>
        <p:spPr>
          <a:xfrm>
            <a:off x="380880" y="3165480"/>
            <a:ext cx="189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141.06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чка шариковая в форме шприца «03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619440" y="30621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2286000" y="33433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4952880" y="3124080"/>
            <a:ext cx="13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4"/>
          <p:cNvSpPr/>
          <p:nvPr/>
        </p:nvSpPr>
        <p:spPr>
          <a:xfrm>
            <a:off x="6629400" y="31240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39625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чка шариковая на шну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533520" y="6004080"/>
            <a:ext cx="20574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041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7"/>
          <p:cNvSpPr/>
          <p:nvPr/>
        </p:nvSpPr>
        <p:spPr>
          <a:xfrm>
            <a:off x="4800600" y="6004080"/>
            <a:ext cx="2438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750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2438280" y="60199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751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2781360" y="6186600"/>
            <a:ext cx="33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адки для кни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730600_b"/>
          <p:cNvPicPr/>
          <p:nvPr/>
        </p:nvPicPr>
        <p:blipFill>
          <a:blip r:embed="rId1"/>
          <a:stretch/>
        </p:blipFill>
        <p:spPr>
          <a:xfrm>
            <a:off x="517680" y="484200"/>
            <a:ext cx="2087280" cy="2305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730600_a"/>
          <p:cNvPicPr/>
          <p:nvPr/>
        </p:nvPicPr>
        <p:blipFill>
          <a:blip r:embed="rId2"/>
          <a:stretch/>
        </p:blipFill>
        <p:spPr>
          <a:xfrm>
            <a:off x="2544840" y="331920"/>
            <a:ext cx="1874880" cy="1749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739502_b"/>
          <p:cNvPicPr/>
          <p:nvPr/>
        </p:nvPicPr>
        <p:blipFill>
          <a:blip r:embed="rId3"/>
          <a:stretch/>
        </p:blipFill>
        <p:spPr>
          <a:xfrm>
            <a:off x="1798560" y="3324240"/>
            <a:ext cx="2468520" cy="261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739506_b"/>
          <p:cNvPicPr/>
          <p:nvPr/>
        </p:nvPicPr>
        <p:blipFill>
          <a:blip r:embed="rId4"/>
          <a:stretch/>
        </p:blipFill>
        <p:spPr>
          <a:xfrm>
            <a:off x="4352760" y="3505320"/>
            <a:ext cx="2292480" cy="26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839500_a"/>
          <p:cNvPicPr/>
          <p:nvPr/>
        </p:nvPicPr>
        <p:blipFill>
          <a:blip r:embed="rId5"/>
          <a:stretch/>
        </p:blipFill>
        <p:spPr>
          <a:xfrm>
            <a:off x="5391000" y="846000"/>
            <a:ext cx="3276720" cy="2048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doc "/>
          <p:cNvPicPr/>
          <p:nvPr/>
        </p:nvPicPr>
        <p:blipFill>
          <a:blip r:embed="rId6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2819520" y="58863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95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302080" y="6033960"/>
            <a:ext cx="17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95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352680" y="6248520"/>
            <a:ext cx="29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утляр для таблеток и витами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39560" y="2824200"/>
            <a:ext cx="487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06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Футляр для витаминов с тремя отделени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5361120" y="2973240"/>
            <a:ext cx="35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395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еркало складное с расческ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549441_a"/>
          <p:cNvPicPr/>
          <p:nvPr/>
        </p:nvPicPr>
        <p:blipFill>
          <a:blip r:embed="rId1"/>
          <a:stretch/>
        </p:blipFill>
        <p:spPr>
          <a:xfrm>
            <a:off x="758880" y="69048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754106_a"/>
          <p:cNvPicPr/>
          <p:nvPr/>
        </p:nvPicPr>
        <p:blipFill>
          <a:blip r:embed="rId2"/>
          <a:stretch/>
        </p:blipFill>
        <p:spPr>
          <a:xfrm>
            <a:off x="5145120" y="5954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549451_a"/>
          <p:cNvPicPr/>
          <p:nvPr/>
        </p:nvPicPr>
        <p:blipFill>
          <a:blip r:embed="rId3"/>
          <a:stretch/>
        </p:blipFill>
        <p:spPr>
          <a:xfrm>
            <a:off x="1038240" y="4102200"/>
            <a:ext cx="1477800" cy="149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549456_a"/>
          <p:cNvPicPr/>
          <p:nvPr/>
        </p:nvPicPr>
        <p:blipFill>
          <a:blip r:embed="rId4"/>
          <a:stretch/>
        </p:blipFill>
        <p:spPr>
          <a:xfrm>
            <a:off x="4467240" y="405432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doc "/>
          <p:cNvPicPr/>
          <p:nvPr/>
        </p:nvPicPr>
        <p:blipFill>
          <a:blip r:embed="rId5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819000" y="56404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5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Сердце»-анти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933800" y="3241800"/>
            <a:ext cx="39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5410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жатель для документов «Зуб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373640" y="5667480"/>
            <a:ext cx="31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56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Таблетка»-анти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92280" y="3132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4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Подставка под визитки с ручкой и держателем для записок «Зуб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502706_a"/>
          <p:cNvPicPr/>
          <p:nvPr/>
        </p:nvPicPr>
        <p:blipFill>
          <a:blip r:embed="rId1"/>
          <a:stretch/>
        </p:blipFill>
        <p:spPr>
          <a:xfrm>
            <a:off x="5283360" y="939960"/>
            <a:ext cx="1917720" cy="241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833212_a"/>
          <p:cNvPicPr/>
          <p:nvPr/>
        </p:nvPicPr>
        <p:blipFill>
          <a:blip r:embed="rId2"/>
          <a:stretch/>
        </p:blipFill>
        <p:spPr>
          <a:xfrm>
            <a:off x="1487520" y="679320"/>
            <a:ext cx="1778040" cy="234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723526_a"/>
          <p:cNvPicPr/>
          <p:nvPr/>
        </p:nvPicPr>
        <p:blipFill>
          <a:blip r:embed="rId3"/>
          <a:stretch/>
        </p:blipFill>
        <p:spPr>
          <a:xfrm>
            <a:off x="952560" y="3778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823912_a"/>
          <p:cNvPicPr/>
          <p:nvPr/>
        </p:nvPicPr>
        <p:blipFill>
          <a:blip r:embed="rId4"/>
          <a:stretch/>
        </p:blipFill>
        <p:spPr>
          <a:xfrm>
            <a:off x="4048200" y="414648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doc "/>
          <p:cNvPicPr/>
          <p:nvPr/>
        </p:nvPicPr>
        <p:blipFill>
          <a:blip r:embed="rId5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4876920" y="350820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0270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мка для фотографии 10x15 с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685800" y="3124080"/>
            <a:ext cx="380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3321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Рамка для фотографии 5х8 с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343400" y="614052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2391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00 м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305000" y="59976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2352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00 м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879623_a"/>
          <p:cNvPicPr/>
          <p:nvPr/>
        </p:nvPicPr>
        <p:blipFill>
          <a:blip r:embed="rId1"/>
          <a:stretch/>
        </p:blipFill>
        <p:spPr>
          <a:xfrm>
            <a:off x="762120" y="814320"/>
            <a:ext cx="1981080" cy="1851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879624_a"/>
          <p:cNvPicPr/>
          <p:nvPr/>
        </p:nvPicPr>
        <p:blipFill>
          <a:blip r:embed="rId2"/>
          <a:stretch/>
        </p:blipFill>
        <p:spPr>
          <a:xfrm>
            <a:off x="3122640" y="1101600"/>
            <a:ext cx="2011320" cy="186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879628_a"/>
          <p:cNvPicPr/>
          <p:nvPr/>
        </p:nvPicPr>
        <p:blipFill>
          <a:blip r:embed="rId3"/>
          <a:stretch/>
        </p:blipFill>
        <p:spPr>
          <a:xfrm>
            <a:off x="5608800" y="1351080"/>
            <a:ext cx="1954080" cy="187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879662_a"/>
          <p:cNvPicPr/>
          <p:nvPr/>
        </p:nvPicPr>
        <p:blipFill>
          <a:blip r:embed="rId4"/>
          <a:stretch/>
        </p:blipFill>
        <p:spPr>
          <a:xfrm>
            <a:off x="733320" y="3863880"/>
            <a:ext cx="1995480" cy="1930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879664_a"/>
          <p:cNvPicPr/>
          <p:nvPr/>
        </p:nvPicPr>
        <p:blipFill>
          <a:blip r:embed="rId5"/>
          <a:stretch/>
        </p:blipFill>
        <p:spPr>
          <a:xfrm>
            <a:off x="3076560" y="3889440"/>
            <a:ext cx="2048040" cy="191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879668_a"/>
          <p:cNvPicPr/>
          <p:nvPr/>
        </p:nvPicPr>
        <p:blipFill>
          <a:blip r:embed="rId6"/>
          <a:stretch/>
        </p:blipFill>
        <p:spPr>
          <a:xfrm>
            <a:off x="5326200" y="3889440"/>
            <a:ext cx="2065320" cy="1923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oc "/>
          <p:cNvPicPr/>
          <p:nvPr/>
        </p:nvPicPr>
        <p:blipFill>
          <a:blip r:embed="rId7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4"/>
          <p:cNvSpPr/>
          <p:nvPr/>
        </p:nvSpPr>
        <p:spPr>
          <a:xfrm>
            <a:off x="1295280" y="3276720"/>
            <a:ext cx="570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275 мл с силиконовым покрытием на руч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171960" y="29908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734080" y="316224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866880" y="27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3000240" y="60530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20 м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487840" y="585936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15840" y="5791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3187800" y="577368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50:4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