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53C6-151E-48A6-9EF3-F43720CFDF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EA8-74F0-4D21-9A67-2D528D90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C66-520F-497B-B3F0-13A4AA34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66B-774A-437B-8979-7B80E89D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0D8-8F97-4D77-89D5-83BA8B0C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C66D-3F37-4826-9F97-EA3DAF6E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537E-8D6D-495C-92C7-C309208A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7119-4186-49E3-81C7-6BB9ACEC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1A4A-23D2-41C6-9688-D1589C7C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2A2D-3FB8-4607-B3F4-529EE084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47DC-BE81-4E7B-AE17-F9473B86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E685-996D-49D6-99FF-6D5FB656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A2B-CBE6-4021-A3F2-29C66774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A26A-8A83-41A9-8E81-477D608D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3F95-7B49-498C-B93A-0F5CA462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B2A2-8C1E-42E4-9774-2F7762C3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0765-AC6C-413C-A04C-C36E62F4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0DC9-22EC-478F-A178-2B28C7D4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D0B8-5A9E-4624-B3C1-8A630D27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593E-16F9-49F8-80B7-0D8526CA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DE390-AA4C-4587-B917-8396944F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2B57C-6ACE-4D16-B135-9A3CD9CB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F829-4732-434D-8D9E-332FBB8F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5F9-912C-4B84-AFF8-139F6839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ACC7-6C92-49FC-ABFB-B1DC09AF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8DAA0-314E-4D2B-A1A8-AC5E313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7A260-CCD8-4FD5-A418-D33BF954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DFAB-1A2A-4366-B7D6-78CAC514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D5DD-919D-44CE-B19B-B283DEAA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76305-C4F9-4A49-8F95-71D24483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C7553-ADB4-4D3F-B4D2-A0904E59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4F21C-3995-4886-BCC9-2A6E29D1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BBFFD-DF67-4B89-8FD8-CCF2E90F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65E9B-610C-4A5A-8B31-FFCB9AB0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808-C3D4-47D9-BAF4-773DD48A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AB2C5-3AA2-4473-9B40-B820D381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EDEDE-9CF1-4F15-AA94-10DC2A08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5E43D-8204-4224-99F1-6DD60854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C36F6-FABC-49DF-9E80-58E46D26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49DB2-8633-4CF7-B37C-958B654E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8999A-4104-421F-9137-4EEEB078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66D53-36BA-4E1B-ACD2-828F48B4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3D5F0-F62F-4BC0-8BB9-F58CD0E1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EDB76-BDAB-48DA-84F2-A8891D22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9626C-FCB6-4F97-A7DC-76106A54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8DA-3569-4D10-BF19-254F10D3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CCAC8-767B-46CC-8835-F19E132C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0256A-3F1B-420F-9D0C-6B693DDA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589FF-6287-4E82-AD34-BC5B9116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EB7C5-EB54-404E-ABF1-15A8721B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5CB32-E39E-4D0C-8524-D4375508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1EA51-4CE8-40BE-982D-35C6AB5C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AD548-23EF-452E-9721-2ABE7F54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186C5-0C07-4B54-BF7E-036B6CB3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A3AB1-DDC8-4966-8CAA-B74354D5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189E8-3166-485E-87BA-A2829691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385-3159-4009-81F7-41B60521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8612A-34FF-4ED1-B193-32997602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4FD38-FAF7-44AA-BA18-EB716AC0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68A4A-8EF2-4E2F-9710-BBEC6C9E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7B5BB-1203-413B-BA48-37D616F6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42A62-DFE6-4A18-BBA8-F133AE5A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DA731-2829-445A-93F5-4FEE78B7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44D9D-0BA2-45CB-9999-D96704CD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683BC-4CFD-4F4E-8A6C-C9DEF8C5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A1E61-A4AF-4776-9455-F3E81C1B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BC819-27C7-4B1E-B2CD-9446AB60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5AC5-1539-436D-A31A-4CBBC53B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4FD55-5942-462E-8DE2-F7AF4FC2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8DD39-4686-4B15-BF99-C3ADD8D7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CD339-A288-4C0A-B8B1-9FADAB77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9A4DE-2F33-43FA-B592-79AC0281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7D112-BF04-4A30-BFB6-2EC85E90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E8BF1-98AB-4AD6-8AD4-C61A0F81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1FC2E-79A1-4B14-A053-32AF545A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5F1F8-BC3B-4C5E-97BB-4239380F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8C840-9C46-4634-82F8-D84A3B6C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39A76-FAE7-4603-A22E-481E8910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9A3-1FDB-42F0-9468-BA8E53CF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436C2-33ED-4BF3-882C-40C99D8D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56CB2-8142-432B-82E9-30DE8F0B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DE3D0-91EC-4514-A196-21F9B290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1514F-2EF9-4A0A-95AF-CD38B43E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3DA83-F979-4B48-A646-0137E1DC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090-AFAC-48AB-B251-DE697134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A0FD-77AB-4059-BB42-0696F75196A2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77D2-3B5D-491D-A79D-061E7235DD3F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2921-10FD-43C9-9F28-7DB6C7A69E1A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0DAE-0CCE-4B6C-8B70-592B91F3E63D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B42D-9FE6-4613-88DC-03905CA11E2A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8B18-4719-4D9D-9DD8-7386608B5423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2029-A613-4F23-B518-9EBB07E75127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5E5E-4BDD-4A00-A93B-06D0629C46E1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EF4C-EB46-4E04-AFDE-2432AB413BCF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9850-0EC1-466B-8A1F-9C7281A6D4A8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3915-5D54-469D-84FA-1D951F071E80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3408-0F90-4B8B-A97F-5B0082C60A83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7CD4-55AD-4FD3-BDF2-AF8510175646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0295-FA1A-4DAE-BC5E-13A73FE2C9FC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ndara"/>
              </a:rPr>
              <a:t>ПРОФИЛАКТИКА СЕРДЕЧНО-СОСУДИСТЫХ ЗАБОЛЕВАНИЙ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556000" y="465300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15840" y="4005360"/>
            <a:ext cx="3809880" cy="2638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ЧИНЫ РАЗВИТИЯ ИБ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789120" y="23493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Чаще всего причиной развития ИБС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з коронарных артери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, при котором происходит постепенное сужение просвета сосуда вследствие жировых (холестериновых) отложений в его стенке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тических бляшек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3635280" y="450864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Возникновению заболевания способствуют множество причин, но особое место занимают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факторы риска,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связанные с привычками и образом жизни. Если они будут вовремя предотвращены, то болезнь может и не разв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08000" y="256536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ное АД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Курен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Гиподинам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сихоэмоциональное перенапряжение (острые тяжелые или длительные стрессы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СНОВНЫЕ ФАКТОРЫ РИСКА РАЗВИТИЯ АТЕРОСКЛЕРОЗ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988640"/>
            <a:ext cx="8056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Основные цели лечения стенокардии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– устранение боли, профилактика приступов и прогрессирования заболевани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омимо лекарственных антиангиальных средств лечение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обязательно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должно включать меры по устранению негативного влияния факторов риска ИБС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Также в настоящее время активно примен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хирургические и интервенционные методы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восстановления кровоснабжения миокард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ЛЕЧЕНИЕ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179280" y="1628640"/>
          <a:ext cx="8785440" cy="5135760"/>
        </p:xfrm>
        <a:graphic>
          <a:graphicData uri="http://schemas.openxmlformats.org/drawingml/2006/table">
            <a:tbl>
              <a:tblPr/>
              <a:tblGrid>
                <a:gridCol w="360072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РЕПАР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цетилсалициловая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едупреждает образование тромбов в коронарных сосу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ат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ормализуют уровень липидов кр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22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-адреноблокаторы (при противопоказаниях или непереносимости применяю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ингиби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медляют частоту пульса, уменьшают работу сердца, снижают частоту приступов стенокар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слабляют нагрузку на 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нтагонисты кальция и 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асширяют артерии, в т. ч. коронарные, снижают повышенное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нгибиторы АП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нижают АД, замедляют развитие изменений в сосудах и сердце и тяжелых осложнений ИБ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Цитопроте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щищают клетки миокарда от недостатка кислорода (ишемии) в момент приступа, не оказывают влияния на ЧСС и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338040"/>
            <a:ext cx="86421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РЕПАРАТЫ ДЛЯ ПРЕДУПРЕЖДЕНИЯ ПРИСТУПОВ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Объект 3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673520" cy="4451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4979880" y="2565360"/>
            <a:ext cx="4032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НГИОПЛАСТИКА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Объект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4240080" cy="38163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79280" y="2809800"/>
            <a:ext cx="5113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ОРТОКОРОНАРНОЕ ШУНТИРОВАНИЕ (АКШ)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61720" y="1709640"/>
            <a:ext cx="8856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а дозированная ходьба, пульс при этом необходимо контролировать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овень допустимых нагрузок определяется границами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зоны безопасного пульс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торая индивидуальна и определяется врачом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ледует избегать изометрических усилий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АБОЧИЕ НАГРУЗ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50920" y="1699920"/>
            <a:ext cx="8642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отказаться от кур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2" name="Рисунок 3" descr=""/>
          <p:cNvPicPr/>
          <p:nvPr/>
        </p:nvPicPr>
        <p:blipFill>
          <a:blip r:embed="rId1"/>
          <a:stretch/>
        </p:blipFill>
        <p:spPr>
          <a:xfrm>
            <a:off x="2266920" y="4175280"/>
            <a:ext cx="4756320" cy="253044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871560" y="1412640"/>
            <a:ext cx="7408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табилизируется или нормализуется уровень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ежается пуль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меньшается утренний кашель, одышка, слабость и утомляем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величивается работоспособ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сстанавливается способность чувствовать запах и вку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цвет лица, состояние кож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памя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26560" y="2349360"/>
            <a:ext cx="7409160" cy="38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Ежегодный отпуск необходим для укрепления и восстановления здоровь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согласование с врачом выбора места отдых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тдыхать желательно в той климатической зоне, в которой больной проживает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ТДЫХ И ДОСУГ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Объект 3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489120" cy="3240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СНОВНЫЕ С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3510000" y="2349360"/>
            <a:ext cx="561636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ndara"/>
              </a:rPr>
              <a:t>СЕРДЦ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это конусообразный полый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мышечно-фиброз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ой системы. Располагается в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грудной клетке загрудинно. 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беспечивает ток крови по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ым  сосудам. Работа сердца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писывается механическими явлениями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(всасывание и выталкивание). Обладает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автомати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309600" y="5697360"/>
            <a:ext cx="36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Схема расположения коронарных артерий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Режим дня соблюдать, спать ложиться в одно и то же время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должительность сна 7-8 часо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ельзя заниматься физической или умственной работой непосредственно перед сном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смотр эмоциональных передач необходимо прекращать за 1,5-2 часа до сна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Желательно совершать перед сном прогулки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СО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Объект 3" descr=""/>
          <p:cNvPicPr/>
          <p:nvPr/>
        </p:nvPicPr>
        <p:blipFill>
          <a:blip r:embed="rId1"/>
          <a:stretch/>
        </p:blipFill>
        <p:spPr>
          <a:xfrm>
            <a:off x="4498920" y="2419200"/>
            <a:ext cx="4821120" cy="41767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79280" y="1844640"/>
            <a:ext cx="6480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ища должна быть разнообраз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бязателен режим п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Больным ИБС необходимо огранич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или исключить из рациона продукты, богатые холестерином и насыщенными жи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Если повышается АД, необходим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граничить употребление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соли –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не боле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5 г в сутки (1 чайная ложка без верха)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Алкогольные напитки даже в мал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дозах можно употреблять только п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огласованию с врач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360" y="1412640"/>
            <a:ext cx="79912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ограничить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убпродукты (печень, почки, мозги, икр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Яичный желток (не более 1 в недел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говядину, баранину, свинину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птицу (гусь, утка, куриц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вотные жиры в чистом вид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альмовое и кокосовое масл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ые молочные продукты (сливки, кефир, сыры и т.д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Майонез и соусы на его основ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ладости с высоким содержанием жир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Алког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71560" y="1341360"/>
            <a:ext cx="7408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ndara"/>
              </a:rPr>
              <a:t>Добавить в рацион: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Овощи, фрукты, ягоды, зеленый салат и лук, петрушку, укроп, шпинат, сельдерей, чесн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Постное мясо и птицу (желательно белое мясо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Яичный бел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Растительные мас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рскую рыбу и морепродукты (НО НЕ креветк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ягкие маргарины (не более столовой ложки в день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лочные продукты с пониженным содержанием жира (0,5%-1%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Каши из круп, отруби, хлеб из муки грубого помо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Грецкие орехи (под контролем калорийност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Бобовые, сою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Зеленый чай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24000" y="2133360"/>
            <a:ext cx="86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бщий холестерин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7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 4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5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низкой плотности (ЛПНП), повыш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0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2,6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высокой плотности (ЛПВП), сниж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4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1,0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Триглицериды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5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,7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УРОВНИ ЖИРОВ КРОВ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8920" y="206064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ля точной оценки степени избыточной массы тела использу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индекс массы тела (индекс Кетле)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ИМТ (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) = вес (кг) : рост (м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ЕС ТЕ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2268360" y="2924280"/>
            <a:ext cx="4607280" cy="43344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68360" y="3645000"/>
          <a:ext cx="8064360" cy="2595600"/>
        </p:xfrm>
        <a:graphic>
          <a:graphicData uri="http://schemas.openxmlformats.org/drawingml/2006/table">
            <a:tbl>
              <a:tblPr/>
              <a:tblGrid>
                <a:gridCol w="2521080"/>
                <a:gridCol w="2590560"/>
                <a:gridCol w="2952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Индекс Кетле (кг/м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Риск ССЗ и диаб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lt;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ефицит массы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18,5 – 2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уме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нормаль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,0 – 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збыточ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,0 – 3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5,0 – 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чень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резвычайно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3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иболее неблагоприятным для больных ИБС и артериальной гипертонией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верхний (висцеральный) тип ожирени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гда жир накапливается в области груди и живота (мужской тип ожирения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Риск такого ожирения определяется по измерению окружности тали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ИП ОЖИР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0920" y="4869000"/>
          <a:ext cx="8642160" cy="1523880"/>
        </p:xfrm>
        <a:graphic>
          <a:graphicData uri="http://schemas.openxmlformats.org/drawingml/2006/table">
            <a:tbl>
              <a:tblPr/>
              <a:tblGrid>
                <a:gridCol w="4398840"/>
                <a:gridCol w="42433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мужч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94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102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женщ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80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– 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8 – 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3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умеренной физической активности = 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7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2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АЛОРИЙ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1835280" y="3573360"/>
            <a:ext cx="5473440" cy="43200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1835280" y="5373720"/>
            <a:ext cx="5473440" cy="50328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Объект 3" descr=""/>
          <p:cNvPicPr/>
          <p:nvPr/>
        </p:nvPicPr>
        <p:blipFill>
          <a:blip r:embed="rId1"/>
          <a:stretch/>
        </p:blipFill>
        <p:spPr>
          <a:xfrm>
            <a:off x="5870520" y="285264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СИХОЭМОЦИОНАЛЬНОЕ НАПРЯЖЕНИ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108000" y="2060640"/>
            <a:ext cx="590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собенно опасны для больных тяжелые и длительные стрессы (дистре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либо устранять факторы-стрессоры, либо учиться изменять к ним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ороший эффект оказывают занятие любимым делом (хобб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2276640"/>
            <a:ext cx="8642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Заболевание сердца (болезни сердца) 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лассификация по МКБ-10 – разделы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I00 – I52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АБОЛЕВАНИЯ СЕРДЦ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00000" y="2491920"/>
            <a:ext cx="7407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Нарушения ритма и проводимост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оспалительные заболевания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лапанные порок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ртериальные гипертензи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Ишемические пораж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оражение сосудов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атологические измен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КЛАССИФИКАЦИЯ ВИДОВ ЗАБОЛЕВАНИЙ СЕРДЦ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-22320" y="1773360"/>
            <a:ext cx="56023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аболевания сердца различны, наиболее распространенное и серьёзное из них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ишемическая болезнь сердца (ИБС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 основе ИБС лежит сужение или закупорка коронарных артерий, питающих сердц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аще всего ИБС проявляется болевым приступом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стенокардие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 затянувшемся приступе стенокардии или чрезмерной нагрузк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может развиться инфаркт миокард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ШЕМИЧЕСКАЯ БОЛЕЗНЬ СЕРДЦА (ИБС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Рисунок 3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894120" cy="35276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5508720" y="593244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Окклюзия (закупорка) коронарной артерии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50560" y="234900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Физические нагрузки (быстрая ходьба, подъем по лестнице, перенос тяжестей и др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моциональный стрес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соблюдение рекомендаций врач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Резкая смена метеорологических условий (холод, ветер, влажность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ие артериального давлен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резмерное потребление пищ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ем большой дозы алкогол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ексуальная актив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ФАКТОРЫ, ПРОВОЦИРУЮЩИЕ ПРИСТУП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900000" y="2421000"/>
            <a:ext cx="7407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одолжительность приступа 3-5 мин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ЗНАКИ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34920" y="5661000"/>
            <a:ext cx="9109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обходимо запоминать характер, длительность болей, реакцию на прием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итроглицерина во время приступа. Это необходимо для того, чтобы отличить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стабильное течение болезни с постоянной частотой приступов от перехода его в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стабильное состояние и особенно от инфаркта миокар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0" y="5819760"/>
            <a:ext cx="10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NB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7928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екратить физическую нагрузку, при возможности сесть, успокоитьс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нять одну таблетку нитроглицерина под язык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 подъеме АД разжевать одну таблетку нифедепина или катоприл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ЕРВАЯ ПОМОЩЬ ПРИ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50560" y="1773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Опасные признак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становятся интенсивнее, продолжаются 20-30 мин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лнообразно повторяются в состоянии поко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зникает резкая слабость и чувство страх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чащается пульс и резко колеблется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ГРЕССИРУЮЩАЯ (НЕСТАБИЛЬНАЯ) СТЕНОКАРД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19:08Z</dcterms:created>
  <dc:creator>MashutiK</dc:creator>
  <dc:description/>
  <dc:language>en-US</dc:language>
  <cp:lastModifiedBy>LEGION</cp:lastModifiedBy>
  <dcterms:modified xsi:type="dcterms:W3CDTF">2015-11-27T12:50:49Z</dcterms:modified>
  <cp:revision>54</cp:revision>
  <dc:subject/>
  <dc:title>ПРОФИЛАКТИКА СЕРДЕЧНО-СОСУДИСТЫХ ЗАБОЛЕВАНИЙ</dc:title>
</cp:coreProperties>
</file>