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11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F3D7B-B561-443D-96C6-F858CC6A4B1C}" type="slidenum"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ОЕ  ГОСУДАРСТВЕННОЕ  ОБРАЗОВАТЕЛЬНОЕ  УЧЕРЕЖДЕНИЕ ВЫСШЕГО  ПРОФЕССИОНАЛЬНОГО  ОБРАЗОВАНИЯ  «МОСКОВСКАЯ ГОСУДАРСТВЕННАЯ  АКАДЕМИЯ  ВЕТЕРИНАРНОЙ  МЕДИЦИНЫ И БИОТЕХНОЛОГИИ  им. К.И.СКРЯБИНА»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ФЕДРА ЭПИЗООТОЛОГИИ И ИНФЕКЦИОННЫХ БОЛЕЗНЕЙ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КЦИ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езинфекция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езинсекция, дератизация средства, методы и их роль в противоэпизоотических мероприятиях. 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ЦЕНТ  ВАСЕНКО С.В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13 г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ЕДЕРАЛЬНОЕ  ГОСУДАРСТВЕННОЕ  ОБРАЗОВАТЕЛЬНОЕ  УЧЕРЕЖДЕНИЕ ВЫСШЕГО  ПРОФЕССИОНАЛЬНОГО  ОБРАЗОВАНИЯ  «МОСКОВСКАЯ ГОСУДАРСТВЕННАЯ  АКАДЕМИЯ  ВЕТЕРИНАРНОЙ  МЕДИЦИНЫ И БИОТЕХНОЛОГИИ  им. К.И.СКРЯБИНА»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ЭПИЗООТОЛОГИИ И ИНФЕКЦИОННЫХ БОЛЕЗНЕЙ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езинфекция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езинсекция, дератизация средства, методы и их роль в противоэпизоотических мероприятиях. 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ЦЕНТ  ВАСЕНКО С.В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3 г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ы и аппараты применяемые для дез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изированные дезинфекционные маш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ппараты для обработки кожного покрова живот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эрозольные генера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зинфекционные кам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и аппараты применяемые для дезинфе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изированные дезинфекционные маши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ппараты для обработки кожного покрова живот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эрозольные генера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зинфекционные каме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и техника проведения дезинфек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ческая очис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лажнение водой или дезсред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щательная механическая очис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дроочис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ственно дезинфе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   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 дезсре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  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дез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суммарной площади поме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чёт общего количество дезсре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ядок про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ози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тривание, мытье при необходимости нейтрализация дезсред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ка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и техника проведения дезинфек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ческая очист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лажнение водой или дезсред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щательная механическая очист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дроочист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ственно дезинфек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   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 дезсре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  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дезинфе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суммарной площади помещ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чёт общего количество дезсре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ядок прове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пози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тривание, мытье при необходимости нейтрализация дез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кач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дезинфекции зависит от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ы на (в) которой находятся микро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нтрации дезинфекта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ературы воздей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а обеззараж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тности нанесения дезраство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нанесенного раствора н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ицу площади (объем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ени воздействия (экспози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о дезинфекции зависит от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ы на (в) которой находятся микроб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нтрации дезинфекта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пературы воздей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а обеззаражи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ности нанесения дезраство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нанесенного раствора н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ицу площади (объем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и воздействия (экспози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качества дез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подготовки объе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за соблюдением установленных режимов дез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ктериологический контр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качества дезинфе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подготовки объе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за соблюдением установленных режимов дезинфе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ктериологический контр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ДЕРАТ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ДЕРАТ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ратизация – комплекс мероприятий направленных на уничтожение вредных грызу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ратизация – комплекс мероприятий направленных на уничтожение вредных грызу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РАТ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ро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теринарно-санитар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оздание услов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шающих грызунов корм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ы и убежищ); ветеринарн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ветительна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ительно-техническая работа (защита от мышевидных грызунов зданий и сооруж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отехнические( вспашка, своевременная уборка соломы, мякины и др.отход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пугивающие (сланцевое масло,альбихтин, цимат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ребите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лог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бинирова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родействующие яды(фосфи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инка, крысид, монофторин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сный морской лук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коагулянты(зоокумарин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тиндан, пенолацин, фентолацин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ественные враг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ызунов (кошки, собаки, лисицы, хищные птиц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бактерий (бактерии Исаченко-Мережковского, Прохорова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вушки, капк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ие яды и бактериальные препар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РАТ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илакт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ро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теринарно-санитар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создание услов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шающих грызунов корм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ы и убежищ); ветеринарно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ветительная раб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но-техническая работа (защита от мышевидных грызунов зданий и сооруж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гротехнические( вспашка, своевременная уборка соломы, мякины и др.отход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пугивающие (сланцевое масло,альбихтин, цимат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ребите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им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лог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бинирова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родействующие яды(фосфи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нка, крысид, монофторин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сный морской лук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коагулянты(зоокумарин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тиндан, пенолацин, фентолацин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ественные враг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ызунов (кошки, собаки, лисицы, хищные птиц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бактерий (бактерии Исаченко-Мережковского, Прохорова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вушки, капк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имические яды и бактериальные препара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ДЕЗИНФЕ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ДЕЗИНФЕК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ДЕРА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приманоч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пыли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д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, путей движ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аночный (пищев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анки: каши,хлеб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рш, ;водные приман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а, молоко, буль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зами(углекислый газ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ДЕРАТ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зприманоч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пыли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д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, путей движе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аночный (пищев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анки: каши,хлеб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рш, ;водные приман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а, молоко, буль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зами(углекислый газ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приготовления отравляющих приман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ческое смеши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мачивание в растворах яд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липание ядов-порошков к поверхности приманок (растительное масло и другие масл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несение ядовитых паст на поверхность приман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мачивание или опыливание растительных приманок я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ы приготовления отравляющих примано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ческое смешив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мачивание в растворах яд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липание ядов-порошков к поверхности приманок (растительное масло и другие масл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есение ядовитых паст на поверхность приман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мачивание или опыливание растительных приманок яд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цепты приманок (в грамма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цепты приманок (в грамма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орядок проведения дерат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орядок проведения дерат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эффективности дерат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 =  (А+ В)х 100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 -  %    эффективности дератизации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- количество жилых нор или  суточное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ичество съеденной приманки      до      дера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- то же после дера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эффективности дерат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 =  (А+ В)х 100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 -  %    эффективности дератизации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- количество жилых нор или  суточное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личество съеденной приманки      до      дерат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- то же после дерат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ДЕЗИНСЕ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ДЕЗИНСЕК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зинсекция – комплекс мероприятий, направленных на уничтожение членистоногих (клещей и насекомых), вызывающих заболевания и являющихся переносчиками возбуди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зинсекция – комплекс мероприятий, направленных на уничтожение членистоногих (клещей и насекомых), вызывающих заболевания и являющихся переносчиками возбуди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зни, переносчиками которых являются членистоног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ЭМ лоша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ксоматоз крол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понский энцефал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знь Акаба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сельсбронская болезнь ов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ута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дулярный дермат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фриканская чума лоша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знь Найроб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отландский энцефаломиелит ов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зикулярный стомат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нлейкопения кош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зни, переносчиками которых являются членистоног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ЭМ лоша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ксоматоз крол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понский энцефал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знь Акаба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ссельсбронская болезнь ове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утан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дулярный дермат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фриканская чума лоша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знь Найроб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отландский энцефаломиелит ове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зикулярный стомат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нлейкопения кош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РЫ БОРЬБЫ С НАСЕКОМ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ЗИНСЕ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ЧЕСКИЕ МЕРО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ОЯННАЯ ОЧИСТКА ПОМЕЩЕНИЙ; УБОРКА ТЕРРИТОРИЙ; УДАЛЕНИЕ ОТХОДОВ И МУСОРА; ЗАГРАДИТЕЛЬНЫЕ СЕТКИ; ПРОВЕТРИВАНИЕ ПОМЕЩЕНИЙ И СЫРЬЯ; ОСУШЕНИЕ МЕЛКИХ ВОДОЕМОВ, БОЛОТ, ЗАСЫПКА ЯМ, КАНАВ, КАРЬЕРОВ, ЛУЖ; РАСПАШКА ПУСТУЮЩИХ ЗЕМЕЛЬ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РЕБИТЕЛЬНЫЕ СРЕ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ЛОГ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ЕКТИЦИДЫ (ДДВФ, ДИБРО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ЛОРОФОС, ЦИОДРИН, АМИДОФОС. БАЙТЕКС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МОРАЖИВАНИЕ; КИПЯЧЕНИЕ; ГОРЯЧИЙ ВОЗДУХ, ГОРЯЧ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ЙКА. ЭЛЕКТРОЛОВУШКИ; ОГОНЬ; ЛИПКАЯ  БУМАГА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ПЕЛЛЕНТЫ (ОКСАМАТ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ЕКТИЦИДНО-РЕПЕЛЛЕНТ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ОЗИЦИИ (ДИОКС-1, ДИОКС-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БЫ, ОСЫ,СТРЕКОЗЫ, ПАУ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РАВЬИ, ЖУКИ , БОЖЬИ КОРОВ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РИНГИН, ПАТОГЕННЫЕ ГРИБЫ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РИЛИЗАЦИЯ  НАСЕКОМ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ММА-ЛУЧАМИ; ХИМИЧЕСКИМИ ПРЕПАРА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РЫ БОРЬБЫ С НАСЕКОМЫ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ЗИНСЕК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ИЛАКТИЧЕСКИЕ МЕРО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ОЯННАЯ ОЧИСТКА ПОМЕЩЕНИЙ; УБОРКА ТЕРРИТОРИЙ; УДАЛЕНИЕ ОТХОДОВ И МУСОРА; ЗАГРАДИТЕЛЬНЫЕ СЕТКИ; ПРОВЕТРИВАНИЕ ПОМЕЩЕНИЙ И СЫРЬЯ; ОСУШЕНИЕ МЕЛКИХ ВОДОЕМОВ, БОЛОТ, ЗАСЫПКА ЯМ, КАНАВ, КАРЬЕРОВ, ЛУЖ; РАСПАШКА ПУСТУЮЩИХ ЗЕМЕЛЬ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РЕБИТЕЛЬНЫЕ СРЕ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ИМ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ЛОГ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ЕКТИЦИДЫ (ДДВФ, ДИБРОМ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ЛОРОФОС, ЦИОДРИН, АМИДОФОС. БАЙТЕКС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МОРАЖИВАНИЕ; КИПЯЧЕНИЕ; ГОРЯЧИЙ ВОЗДУХ, ГОРЯЧ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ЙКА. ЭЛЕКТРОЛОВУШКИ; ОГОНЬ; ЛИПКАЯ  БУМАГА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ПЕЛЛЕНТЫ (ОКСАМАТ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ЕКТИЦИДНО-РЕПЕЛЛЕНТ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ОЗИЦИИ (ДИОКС-1, ДИОКС-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БЫ, ОСЫ,СТРЕКОЗЫ, ПАУК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РАВЬИ, ЖУКИ , БОЖЬИ КОРОВ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РИНГИН, ПАТОГЕННЫЕ ГРИБЫ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ЕРИЛИЗАЦИЯ  НАСЕКОМ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ММА-ЛУЧАМИ; ХИМИЧЕСКИМИ ПРЕПАРАТ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зинфекция- комплексная система мероприятий по уничтожению патоге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условно патогенных микроорганизмов во внешней среде и на теле живот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зинфекция- комплексная система мероприятий по уничтожению патоге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 условно патогенных микроорганизмов во внешней среде и на теле живот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ДЕЗИНС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ЭРОЗОЛЬ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З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ГАЗ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ЕКТИЦИД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Ш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Х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ОСЫП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ОШК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БЛЕТК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АЖ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ЫСКИВАН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ГРУЖЕНИЕ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В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ДЕЗИНСЕ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ЭРОЗОЛЬ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З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ГАЗ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ЕКТИЦИД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Ш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Х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ОСЫП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ОШК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ЕТК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Ж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ЫСКИВАНИ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ГРУЖЕНИЕ 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ТВ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иды дез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иды дезинфе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редства  дез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редства  дезинфе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требования предъявляемые к дезинфектант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обладать достаточной бактерицид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не иметь стойкого неприятного запах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хорошо растворяться в воде или давать с ней стойкие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уль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проявлять дезинфицирующее действие в любой сре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не портить обрабатываемые предм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быть доступным и  дешев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удобными при транспортировк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обладать высокой стабильностью при хран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обладать низкой токсичностью для человека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льскохозяйственных животных и пти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обладать низкой коррозионной активностью в отношени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ных конструктивных материа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наиболее важным показателем является экологическа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требования предъявляемые к дезинфектант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обладать достаточной бактерицидност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не иметь стойкого неприятного запах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хорошо растворяться в воде или давать с ней стойкие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муль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проявлять дезинфицирующее действие в любой сре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не портить обрабатываемые предме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быть доступным и  дешевы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удобными при транспортировк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обладать высокой стабильностью при хран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обладать низкой токсичностью для человека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льскохозяйственных животных и пти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обладать низкой коррозионной активностью в отношени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личных конструктивных материа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наиболее важным показателем является экологическа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зопас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ие дезинфекта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. Кислоты (соляная, молочная, муравьиная, уксусная, щавелевая, надуксусная, дезокса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. Щелочи (едкий натр, едкое кали, гашеная известь- пушон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льцинированная (двууглекислая сода), карбонат калия (поташ), демп (комплексное соединение)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. Хлорсодержащие препараты (хлорная известь - получается пу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пускания газа-хлора через гашеную известь \пушенку\, содержит 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е 25% активного хлора, гипохлорит кальция, хлорамин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ные гидантиона, соли изоциануровой кислоты, однохлористый йод.и д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. Фенолы и крезолы (фенол, крезол, феносмолин, креоли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. (Форм)альдегиды (формалин, пароформ, метафор, паросод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спар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). Соли тяжелых металлов (медный купорос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). Препараты других групп (спирты, иодоформ, оксиды, соединения бром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). Моющие сре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имические дезинфектан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. Кислоты (соляная, молочная, муравьиная, уксусная, щавелевая, надуксусная, дезокса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. Щелочи (едкий натр, едкое кали, гашеная известь- пушонк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льцинированная (двууглекислая сода), карбонат калия (поташ), демп (комплексное соединение)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. Хлорсодержащие препараты (хлорная известь - получается пут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пускания газа-хлора через гашеную известь \пушенку\, содержит 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е 25% активного хлора, гипохлорит кальция, хлорамин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ные гидантиона, соли изоциануровой кислоты, однохлористый йод.и д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. Фенолы и крезолы (фенол, крезол, феносмолин, креоли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. (Форм)альдегиды (формалин, пароформ, метафор, паросод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спар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). Соли тяжелых металлов (медный купорос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). Препараты других групп (спирты, иодоформ, оксиды, соединения бром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). Моющие сред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Дезинфекц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Дезинфекц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F55D6-3ED5-4962-9A66-D0FC17473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07AEA-24C3-45C9-B00D-0358A634E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B1608-A966-4934-938E-948A8EF1D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43519-9DF6-4D6E-BD66-F90A9723F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673CE-3F46-42D3-8993-9FF1858B9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8C0A6-0CF8-44F0-A0CB-152D382B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C2420-4A3E-494F-8332-872F0812D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AED67-2EF9-4D57-82FF-EF0E9A8C9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1B99D-80A7-4646-8158-B62BF1FB8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47CF4-1AF7-4CB7-A202-12932087F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2B863-1921-4F2F-96BE-ACA1CF85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7EC1F-4B39-4F1E-9196-3C131404B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7022A-0A3C-45B8-B469-51918A9F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57C87-6696-477F-8403-D9C17BD3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9B0F9-F782-4E30-8201-E8949EFD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4E1BC-3F74-4C88-BED6-764E9EBC3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C6D63-ED77-42CF-95A7-0C4D541D4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5B323-527E-4EC7-A1FE-26972D92B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3104F-BD4B-41BC-B884-8345C4F99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D9CCB-2C57-424B-8FAB-BA9221358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4D2A4-05DD-4C33-9DB0-1E76DA3B0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1D018-45AE-4ACE-90DE-D959D1CE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52BE0-824F-400F-B040-0B6A3173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0D112-3808-4BC5-9A99-EE14B857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b9d"/>
            </a:gs>
            <a:gs pos="100000">
              <a:srgbClr val="756d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56d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4c47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807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b72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279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7a70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7068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7068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3C105-6553-4C51-9493-80A06338B1D0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b9d"/>
            </a:gs>
            <a:gs pos="100000">
              <a:srgbClr val="7b724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56d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4c47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807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300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b72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279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7a70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F9AE9-B3ED-4037-8A9B-D37E098665F3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9280" y="533520"/>
            <a:ext cx="8280360" cy="59385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ЕДЕРАЛЬНОЕ  ГОСУДАРСТВЕННОЕ  ОБРАЗОВАТЕЛЬНОЕ  УЧЕРЕЖДЕНИЕ ВЫСШЕГО  ПРОФЕССИОНАЛЬНОГО  ОБРАЗОВАНИЯ  «МОСКОВСКАЯ ГОСУДАРСТВЕННАЯ  АКАДЕМИЯ  ВЕТЕРИНАРНОЙ  МЕДИЦИНЫ И БИОТЕХНОЛОГИИ  им. К.И.СКРЯБИНА»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ФЕДРА ЭПИЗООТОЛОГИИ И ИНФЕКЦИОННЫХ БОЛЕЗНЕЙ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КЦИЯ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зинфекция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езинсекция, дератизация средства, методы и их роль в противоэпизоотических мероприятиях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ЦЕНТ  ВАСЕНКО С.В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13 г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ханизмы и аппараты применяемые для дезинфе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599840" y="2743200"/>
            <a:ext cx="7086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ециализированные дезинфекционные маш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ппараты для обработки кожного покрова живот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эрозольные генерат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зинфекционные кам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Организация и техника проведения дезинфекци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295280" y="12952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еханическая очист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влажнение водой или дезсредств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щательная механическая очис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идроочис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обственно дезинфек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ыбор дез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етод дезинфе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преде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ни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суммарн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й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лощад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мещ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ч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ё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 общ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количество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ез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рядок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в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экспози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ветривание, мытье при необходимости нейтрализация дезсред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троль ка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Качество дезинфекции зависит от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реды на (в) которой находятся микро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центрации дезинфекта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температуры воздей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способа обеззаражи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кратности нанесения дезраство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количество нанесенного раствора н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диниц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у площади (объем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ремени воздействия (экспозици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троль качества дезинфе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3"/>
          <p:cNvSpPr/>
          <p:nvPr/>
        </p:nvSpPr>
        <p:spPr>
          <a:xfrm>
            <a:off x="838080" y="2590920"/>
            <a:ext cx="8077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нтроль подготовки объе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нтроль за соблюдением установленных режимов дезинфе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актериологический контр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177336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ДЕРАТИЗАЦ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3"/>
          <p:cNvSpPr/>
          <p:nvPr/>
        </p:nvSpPr>
        <p:spPr>
          <a:xfrm>
            <a:off x="8532720" y="5661000"/>
            <a:ext cx="142920" cy="28908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Oval 4"/>
          <p:cNvSpPr/>
          <p:nvPr/>
        </p:nvSpPr>
        <p:spPr>
          <a:xfrm>
            <a:off x="8459640" y="5950080"/>
            <a:ext cx="289080" cy="574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Oval 5"/>
          <p:cNvSpPr/>
          <p:nvPr/>
        </p:nvSpPr>
        <p:spPr>
          <a:xfrm>
            <a:off x="8317080" y="5877000"/>
            <a:ext cx="215640" cy="1443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Oval 6"/>
          <p:cNvSpPr/>
          <p:nvPr/>
        </p:nvSpPr>
        <p:spPr>
          <a:xfrm>
            <a:off x="8675640" y="5877000"/>
            <a:ext cx="216000" cy="1443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7"/>
          <p:cNvSpPr/>
          <p:nvPr/>
        </p:nvSpPr>
        <p:spPr>
          <a:xfrm rot="6552600">
            <a:off x="8268480" y="6331680"/>
            <a:ext cx="309600" cy="216000"/>
          </a:xfrm>
          <a:custGeom>
            <a:avLst/>
            <a:gdLst>
              <a:gd name="textAreaLeft" fmla="*/ 0 w 309600"/>
              <a:gd name="textAreaRight" fmla="*/ 309960 w 309600"/>
              <a:gd name="textAreaTop" fmla="*/ 0 h 216000"/>
              <a:gd name="textAreaBottom" fmla="*/ 77040 h 2160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8"/>
          <p:cNvSpPr/>
          <p:nvPr/>
        </p:nvSpPr>
        <p:spPr>
          <a:xfrm rot="16200000">
            <a:off x="8638920" y="6348240"/>
            <a:ext cx="285840" cy="215640"/>
          </a:xfrm>
          <a:custGeom>
            <a:avLst/>
            <a:gdLst>
              <a:gd name="textAreaLeft" fmla="*/ 0 w 285840"/>
              <a:gd name="textAreaRight" fmla="*/ 286200 w 285840"/>
              <a:gd name="textAreaTop" fmla="*/ 0 h 215640"/>
              <a:gd name="textAreaBottom" fmla="*/ 77040 h 21564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9"/>
          <p:cNvSpPr/>
          <p:nvPr/>
        </p:nvSpPr>
        <p:spPr>
          <a:xfrm rot="7901400">
            <a:off x="8291520" y="6532200"/>
            <a:ext cx="393840" cy="216000"/>
          </a:xfrm>
          <a:custGeom>
            <a:avLst/>
            <a:gdLst>
              <a:gd name="textAreaLeft" fmla="*/ 0 w 393840"/>
              <a:gd name="textAreaRight" fmla="*/ 394200 w 393840"/>
              <a:gd name="textAreaTop" fmla="*/ 0 h 216000"/>
              <a:gd name="textAreaBottom" fmla="*/ 77040 h 2160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10"/>
          <p:cNvSpPr/>
          <p:nvPr/>
        </p:nvSpPr>
        <p:spPr>
          <a:xfrm>
            <a:off x="8629560" y="5743440"/>
            <a:ext cx="123840" cy="9720"/>
          </a:xfrm>
          <a:custGeom>
            <a:avLst/>
            <a:gdLst>
              <a:gd name="textAreaLeft" fmla="*/ 0 w 123840"/>
              <a:gd name="textAreaRight" fmla="*/ 124200 w 12384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78" h="6">
                <a:moveTo>
                  <a:pt x="0" y="6"/>
                </a:moveTo>
                <a:cubicBezTo>
                  <a:pt x="70" y="0"/>
                  <a:pt x="44" y="0"/>
                  <a:pt x="7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reeform 11"/>
          <p:cNvSpPr/>
          <p:nvPr/>
        </p:nvSpPr>
        <p:spPr>
          <a:xfrm>
            <a:off x="8400960" y="5781600"/>
            <a:ext cx="190440" cy="54000"/>
          </a:xfrm>
          <a:custGeom>
            <a:avLst/>
            <a:gdLst>
              <a:gd name="textAreaLeft" fmla="*/ 0 w 190440"/>
              <a:gd name="textAreaRight" fmla="*/ 190800 w 1904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120" h="34">
                <a:moveTo>
                  <a:pt x="120" y="6"/>
                </a:moveTo>
                <a:cubicBezTo>
                  <a:pt x="78" y="34"/>
                  <a:pt x="43" y="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reeform 12"/>
          <p:cNvSpPr/>
          <p:nvPr/>
        </p:nvSpPr>
        <p:spPr>
          <a:xfrm>
            <a:off x="8442360" y="5710320"/>
            <a:ext cx="130320" cy="61920"/>
          </a:xfrm>
          <a:custGeom>
            <a:avLst/>
            <a:gdLst>
              <a:gd name="textAreaLeft" fmla="*/ 0 w 130320"/>
              <a:gd name="textAreaRight" fmla="*/ 130680 w 13032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82" h="39">
                <a:moveTo>
                  <a:pt x="82" y="39"/>
                </a:moveTo>
                <a:cubicBezTo>
                  <a:pt x="76" y="37"/>
                  <a:pt x="70" y="36"/>
                  <a:pt x="64" y="33"/>
                </a:cubicBezTo>
                <a:cubicBezTo>
                  <a:pt x="58" y="30"/>
                  <a:pt x="53" y="24"/>
                  <a:pt x="46" y="21"/>
                </a:cubicBezTo>
                <a:cubicBezTo>
                  <a:pt x="0" y="0"/>
                  <a:pt x="21" y="20"/>
                  <a:pt x="4" y="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reeform 13"/>
          <p:cNvSpPr/>
          <p:nvPr/>
        </p:nvSpPr>
        <p:spPr>
          <a:xfrm>
            <a:off x="8601120" y="5676840"/>
            <a:ext cx="152280" cy="66600"/>
          </a:xfrm>
          <a:custGeom>
            <a:avLst/>
            <a:gdLst>
              <a:gd name="textAreaLeft" fmla="*/ 0 w 152280"/>
              <a:gd name="textAreaRight" fmla="*/ 152640 w 15228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96" h="42">
                <a:moveTo>
                  <a:pt x="0" y="42"/>
                </a:moveTo>
                <a:cubicBezTo>
                  <a:pt x="6" y="40"/>
                  <a:pt x="12" y="39"/>
                  <a:pt x="18" y="36"/>
                </a:cubicBezTo>
                <a:cubicBezTo>
                  <a:pt x="24" y="33"/>
                  <a:pt x="29" y="27"/>
                  <a:pt x="36" y="24"/>
                </a:cubicBezTo>
                <a:cubicBezTo>
                  <a:pt x="55" y="16"/>
                  <a:pt x="81" y="15"/>
                  <a:pt x="9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28600" y="160020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ератизац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мплекс мероприятий направленных на уничтожение вредных грызун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Picture 2" descr="Горбатов 2"/>
          <p:cNvPicPr/>
          <p:nvPr/>
        </p:nvPicPr>
        <p:blipFill>
          <a:blip r:embed="rId1"/>
          <a:srcRect l="4320" t="4536" r="10361" b="3057"/>
          <a:stretch/>
        </p:blipFill>
        <p:spPr>
          <a:xfrm>
            <a:off x="152280" y="220680"/>
            <a:ext cx="8686800" cy="6580080"/>
          </a:xfrm>
          <a:prstGeom prst="rect">
            <a:avLst/>
          </a:prstGeom>
          <a:ln w="0">
            <a:noFill/>
          </a:ln>
        </p:spPr>
      </p:pic>
      <p:sp>
        <p:nvSpPr>
          <p:cNvPr id="57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2" descr="Горбатов 1"/>
          <p:cNvPicPr/>
          <p:nvPr/>
        </p:nvPicPr>
        <p:blipFill>
          <a:blip r:embed="rId1"/>
          <a:srcRect l="7281" t="1336" r="6364" b="0"/>
          <a:stretch/>
        </p:blipFill>
        <p:spPr>
          <a:xfrm>
            <a:off x="228600" y="1600200"/>
            <a:ext cx="8686800" cy="3193920"/>
          </a:xfrm>
          <a:prstGeom prst="rect">
            <a:avLst/>
          </a:prstGeom>
          <a:ln w="0">
            <a:noFill/>
          </a:ln>
        </p:spPr>
      </p:pic>
      <p:sp>
        <p:nvSpPr>
          <p:cNvPr id="58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2" descr="Горбатов 3"/>
          <p:cNvPicPr/>
          <p:nvPr/>
        </p:nvPicPr>
        <p:blipFill>
          <a:blip r:embed="rId1"/>
          <a:srcRect l="0" t="3498" r="13770" b="8148"/>
          <a:stretch/>
        </p:blipFill>
        <p:spPr>
          <a:xfrm>
            <a:off x="2573280" y="152280"/>
            <a:ext cx="3900600" cy="6553440"/>
          </a:xfrm>
          <a:prstGeom prst="rect">
            <a:avLst/>
          </a:prstGeom>
          <a:ln w="0">
            <a:noFill/>
          </a:ln>
        </p:spPr>
      </p:pic>
      <p:sp>
        <p:nvSpPr>
          <p:cNvPr id="58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3628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ЕРАТИЗ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3"/>
          <p:cNvSpPr/>
          <p:nvPr/>
        </p:nvSpPr>
        <p:spPr>
          <a:xfrm>
            <a:off x="8532720" y="5661000"/>
            <a:ext cx="142920" cy="28908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Oval 4"/>
          <p:cNvSpPr/>
          <p:nvPr/>
        </p:nvSpPr>
        <p:spPr>
          <a:xfrm>
            <a:off x="8459640" y="5950080"/>
            <a:ext cx="289080" cy="574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Oval 5"/>
          <p:cNvSpPr/>
          <p:nvPr/>
        </p:nvSpPr>
        <p:spPr>
          <a:xfrm>
            <a:off x="8317080" y="5877000"/>
            <a:ext cx="215640" cy="1443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Oval 6"/>
          <p:cNvSpPr/>
          <p:nvPr/>
        </p:nvSpPr>
        <p:spPr>
          <a:xfrm>
            <a:off x="8675640" y="5877000"/>
            <a:ext cx="216000" cy="1443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7"/>
          <p:cNvSpPr/>
          <p:nvPr/>
        </p:nvSpPr>
        <p:spPr>
          <a:xfrm rot="6552600">
            <a:off x="8268480" y="6331680"/>
            <a:ext cx="309600" cy="216000"/>
          </a:xfrm>
          <a:custGeom>
            <a:avLst/>
            <a:gdLst>
              <a:gd name="textAreaLeft" fmla="*/ 0 w 309600"/>
              <a:gd name="textAreaRight" fmla="*/ 309960 w 309600"/>
              <a:gd name="textAreaTop" fmla="*/ 0 h 216000"/>
              <a:gd name="textAreaBottom" fmla="*/ 77040 h 2160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8"/>
          <p:cNvSpPr/>
          <p:nvPr/>
        </p:nvSpPr>
        <p:spPr>
          <a:xfrm rot="16200000">
            <a:off x="8638920" y="6348240"/>
            <a:ext cx="285840" cy="215640"/>
          </a:xfrm>
          <a:custGeom>
            <a:avLst/>
            <a:gdLst>
              <a:gd name="textAreaLeft" fmla="*/ 0 w 285840"/>
              <a:gd name="textAreaRight" fmla="*/ 286200 w 285840"/>
              <a:gd name="textAreaTop" fmla="*/ 0 h 215640"/>
              <a:gd name="textAreaBottom" fmla="*/ 77040 h 21564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AutoShape 9"/>
          <p:cNvSpPr/>
          <p:nvPr/>
        </p:nvSpPr>
        <p:spPr>
          <a:xfrm rot="7901400">
            <a:off x="8291520" y="6532200"/>
            <a:ext cx="393840" cy="216000"/>
          </a:xfrm>
          <a:custGeom>
            <a:avLst/>
            <a:gdLst>
              <a:gd name="textAreaLeft" fmla="*/ 0 w 393840"/>
              <a:gd name="textAreaRight" fmla="*/ 394200 w 393840"/>
              <a:gd name="textAreaTop" fmla="*/ 0 h 216000"/>
              <a:gd name="textAreaBottom" fmla="*/ 77040 h 2160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Freeform 10"/>
          <p:cNvSpPr/>
          <p:nvPr/>
        </p:nvSpPr>
        <p:spPr>
          <a:xfrm>
            <a:off x="8629560" y="5743440"/>
            <a:ext cx="123840" cy="9720"/>
          </a:xfrm>
          <a:custGeom>
            <a:avLst/>
            <a:gdLst>
              <a:gd name="textAreaLeft" fmla="*/ 0 w 123840"/>
              <a:gd name="textAreaRight" fmla="*/ 124200 w 12384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78" h="6">
                <a:moveTo>
                  <a:pt x="0" y="6"/>
                </a:moveTo>
                <a:cubicBezTo>
                  <a:pt x="70" y="0"/>
                  <a:pt x="44" y="0"/>
                  <a:pt x="7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Freeform 11"/>
          <p:cNvSpPr/>
          <p:nvPr/>
        </p:nvSpPr>
        <p:spPr>
          <a:xfrm>
            <a:off x="8400960" y="5781600"/>
            <a:ext cx="190440" cy="54000"/>
          </a:xfrm>
          <a:custGeom>
            <a:avLst/>
            <a:gdLst>
              <a:gd name="textAreaLeft" fmla="*/ 0 w 190440"/>
              <a:gd name="textAreaRight" fmla="*/ 190800 w 1904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120" h="34">
                <a:moveTo>
                  <a:pt x="120" y="6"/>
                </a:moveTo>
                <a:cubicBezTo>
                  <a:pt x="78" y="34"/>
                  <a:pt x="43" y="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Freeform 12"/>
          <p:cNvSpPr/>
          <p:nvPr/>
        </p:nvSpPr>
        <p:spPr>
          <a:xfrm>
            <a:off x="8442360" y="5710320"/>
            <a:ext cx="130320" cy="61920"/>
          </a:xfrm>
          <a:custGeom>
            <a:avLst/>
            <a:gdLst>
              <a:gd name="textAreaLeft" fmla="*/ 0 w 130320"/>
              <a:gd name="textAreaRight" fmla="*/ 130680 w 13032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82" h="39">
                <a:moveTo>
                  <a:pt x="82" y="39"/>
                </a:moveTo>
                <a:cubicBezTo>
                  <a:pt x="76" y="37"/>
                  <a:pt x="70" y="36"/>
                  <a:pt x="64" y="33"/>
                </a:cubicBezTo>
                <a:cubicBezTo>
                  <a:pt x="58" y="30"/>
                  <a:pt x="53" y="24"/>
                  <a:pt x="46" y="21"/>
                </a:cubicBezTo>
                <a:cubicBezTo>
                  <a:pt x="0" y="0"/>
                  <a:pt x="21" y="20"/>
                  <a:pt x="4" y="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Freeform 13"/>
          <p:cNvSpPr/>
          <p:nvPr/>
        </p:nvSpPr>
        <p:spPr>
          <a:xfrm>
            <a:off x="8601120" y="5676840"/>
            <a:ext cx="152280" cy="66600"/>
          </a:xfrm>
          <a:custGeom>
            <a:avLst/>
            <a:gdLst>
              <a:gd name="textAreaLeft" fmla="*/ 0 w 152280"/>
              <a:gd name="textAreaRight" fmla="*/ 152640 w 15228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96" h="42">
                <a:moveTo>
                  <a:pt x="0" y="42"/>
                </a:moveTo>
                <a:cubicBezTo>
                  <a:pt x="6" y="40"/>
                  <a:pt x="12" y="39"/>
                  <a:pt x="18" y="36"/>
                </a:cubicBezTo>
                <a:cubicBezTo>
                  <a:pt x="24" y="33"/>
                  <a:pt x="29" y="27"/>
                  <a:pt x="36" y="24"/>
                </a:cubicBezTo>
                <a:cubicBezTo>
                  <a:pt x="55" y="16"/>
                  <a:pt x="81" y="15"/>
                  <a:pt x="9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4"/>
          <p:cNvSpPr/>
          <p:nvPr/>
        </p:nvSpPr>
        <p:spPr>
          <a:xfrm>
            <a:off x="395280" y="1197000"/>
            <a:ext cx="266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офилактическ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ероприя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utoShape 15"/>
          <p:cNvSpPr/>
          <p:nvPr/>
        </p:nvSpPr>
        <p:spPr>
          <a:xfrm rot="21048600">
            <a:off x="2123640" y="912960"/>
            <a:ext cx="1079640" cy="217440"/>
          </a:xfrm>
          <a:prstGeom prst="leftArrow">
            <a:avLst>
              <a:gd name="adj1" fmla="val 50000"/>
              <a:gd name="adj2" fmla="val 124131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16"/>
          <p:cNvSpPr/>
          <p:nvPr/>
        </p:nvSpPr>
        <p:spPr>
          <a:xfrm rot="16200000">
            <a:off x="4319640" y="944280"/>
            <a:ext cx="144360" cy="3603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17"/>
          <p:cNvSpPr/>
          <p:nvPr/>
        </p:nvSpPr>
        <p:spPr>
          <a:xfrm rot="16200000">
            <a:off x="1385640" y="1719000"/>
            <a:ext cx="142920" cy="2505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18"/>
          <p:cNvSpPr/>
          <p:nvPr/>
        </p:nvSpPr>
        <p:spPr>
          <a:xfrm>
            <a:off x="250920" y="1989000"/>
            <a:ext cx="3241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етеринарно-санитарн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(создание услови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лишающих грызунов корм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оды и убежищ); ветеринарно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росветительная рабо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19"/>
          <p:cNvSpPr/>
          <p:nvPr/>
        </p:nvSpPr>
        <p:spPr>
          <a:xfrm rot="16200000">
            <a:off x="1386000" y="3303720"/>
            <a:ext cx="142560" cy="2505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20"/>
          <p:cNvSpPr/>
          <p:nvPr/>
        </p:nvSpPr>
        <p:spPr>
          <a:xfrm>
            <a:off x="250920" y="3645000"/>
            <a:ext cx="3384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Строительно-техническая работа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(защита от мышевидных грызунов зданий и сооруж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AutoShape 21"/>
          <p:cNvSpPr/>
          <p:nvPr/>
        </p:nvSpPr>
        <p:spPr>
          <a:xfrm rot="16200000">
            <a:off x="1385640" y="4669920"/>
            <a:ext cx="142920" cy="2505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22"/>
          <p:cNvSpPr/>
          <p:nvPr/>
        </p:nvSpPr>
        <p:spPr>
          <a:xfrm>
            <a:off x="250920" y="4797360"/>
            <a:ext cx="316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Агротехнические( вспашка, своевременная уборка соломы, мякины и др.отходо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23"/>
          <p:cNvSpPr/>
          <p:nvPr/>
        </p:nvSpPr>
        <p:spPr>
          <a:xfrm rot="16200000">
            <a:off x="1385640" y="5751000"/>
            <a:ext cx="142920" cy="2505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24"/>
          <p:cNvSpPr/>
          <p:nvPr/>
        </p:nvSpPr>
        <p:spPr>
          <a:xfrm>
            <a:off x="250920" y="5950080"/>
            <a:ext cx="316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тпугивающие (сланцевое масло,альбихтин, цимат и др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25"/>
          <p:cNvSpPr/>
          <p:nvPr/>
        </p:nvSpPr>
        <p:spPr>
          <a:xfrm>
            <a:off x="3276720" y="1262160"/>
            <a:ext cx="21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Истребитель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ред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AutoShape 26"/>
          <p:cNvSpPr/>
          <p:nvPr/>
        </p:nvSpPr>
        <p:spPr>
          <a:xfrm rot="16200000">
            <a:off x="4319640" y="1807920"/>
            <a:ext cx="144360" cy="3603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27"/>
          <p:cNvSpPr/>
          <p:nvPr/>
        </p:nvSpPr>
        <p:spPr>
          <a:xfrm>
            <a:off x="3564000" y="2127240"/>
            <a:ext cx="163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Химичес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utoShape 28"/>
          <p:cNvSpPr/>
          <p:nvPr/>
        </p:nvSpPr>
        <p:spPr>
          <a:xfrm rot="16200000">
            <a:off x="4139280" y="2564280"/>
            <a:ext cx="505080" cy="360360"/>
          </a:xfrm>
          <a:prstGeom prst="leftArrow">
            <a:avLst>
              <a:gd name="adj1" fmla="val 50000"/>
              <a:gd name="adj2" fmla="val 35040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29"/>
          <p:cNvSpPr/>
          <p:nvPr/>
        </p:nvSpPr>
        <p:spPr>
          <a:xfrm>
            <a:off x="3564000" y="3141720"/>
            <a:ext cx="20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Биологичес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30"/>
          <p:cNvSpPr/>
          <p:nvPr/>
        </p:nvSpPr>
        <p:spPr>
          <a:xfrm rot="16200000">
            <a:off x="3924000" y="3860640"/>
            <a:ext cx="935280" cy="360360"/>
          </a:xfrm>
          <a:prstGeom prst="leftArrow">
            <a:avLst>
              <a:gd name="adj1" fmla="val 50000"/>
              <a:gd name="adj2" fmla="val 64885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31"/>
          <p:cNvSpPr/>
          <p:nvPr/>
        </p:nvSpPr>
        <p:spPr>
          <a:xfrm>
            <a:off x="3564000" y="4581360"/>
            <a:ext cx="17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еханичес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AutoShape 32"/>
          <p:cNvSpPr/>
          <p:nvPr/>
        </p:nvSpPr>
        <p:spPr>
          <a:xfrm rot="16200000">
            <a:off x="4211640" y="4868640"/>
            <a:ext cx="360360" cy="3603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33"/>
          <p:cNvSpPr/>
          <p:nvPr/>
        </p:nvSpPr>
        <p:spPr>
          <a:xfrm>
            <a:off x="3276720" y="5229360"/>
            <a:ext cx="25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Комбинирован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AutoShape 34"/>
          <p:cNvSpPr/>
          <p:nvPr/>
        </p:nvSpPr>
        <p:spPr>
          <a:xfrm rot="9381600">
            <a:off x="4946400" y="1901520"/>
            <a:ext cx="714240" cy="216000"/>
          </a:xfrm>
          <a:prstGeom prst="leftArrow">
            <a:avLst>
              <a:gd name="adj1" fmla="val 50000"/>
              <a:gd name="adj2" fmla="val 82667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35"/>
          <p:cNvSpPr/>
          <p:nvPr/>
        </p:nvSpPr>
        <p:spPr>
          <a:xfrm rot="10800000">
            <a:off x="5003280" y="2205000"/>
            <a:ext cx="576360" cy="216000"/>
          </a:xfrm>
          <a:prstGeom prst="leftArrow">
            <a:avLst>
              <a:gd name="adj1" fmla="val 50000"/>
              <a:gd name="adj2" fmla="val 66708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36"/>
          <p:cNvSpPr/>
          <p:nvPr/>
        </p:nvSpPr>
        <p:spPr>
          <a:xfrm>
            <a:off x="5651640" y="981000"/>
            <a:ext cx="33843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стродействующие яды(фосфи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цинка, крысид, монофторин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красный морской лук и др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Антикоагулянты(зоокумарин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ратиндан, пенолацин, фентолацин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AutoShape 37"/>
          <p:cNvSpPr/>
          <p:nvPr/>
        </p:nvSpPr>
        <p:spPr>
          <a:xfrm rot="9828600">
            <a:off x="5126760" y="2994120"/>
            <a:ext cx="505080" cy="217440"/>
          </a:xfrm>
          <a:prstGeom prst="leftArrow">
            <a:avLst>
              <a:gd name="adj1" fmla="val 50000"/>
              <a:gd name="adj2" fmla="val 58071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AutoShape 38"/>
          <p:cNvSpPr/>
          <p:nvPr/>
        </p:nvSpPr>
        <p:spPr>
          <a:xfrm rot="12802800">
            <a:off x="5065560" y="3563280"/>
            <a:ext cx="649440" cy="244440"/>
          </a:xfrm>
          <a:prstGeom prst="leftArrow">
            <a:avLst>
              <a:gd name="adj1" fmla="val 50000"/>
              <a:gd name="adj2" fmla="val 66421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39"/>
          <p:cNvSpPr/>
          <p:nvPr/>
        </p:nvSpPr>
        <p:spPr>
          <a:xfrm>
            <a:off x="5651640" y="2846520"/>
            <a:ext cx="3492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Естественные враг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грызунов (кошки, собаки, лисицы, хищные птиц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40"/>
          <p:cNvSpPr/>
          <p:nvPr/>
        </p:nvSpPr>
        <p:spPr>
          <a:xfrm>
            <a:off x="5638680" y="3581280"/>
            <a:ext cx="3313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рименение бактерий (бактерии Исаченко-Мережковского, Прохорова и др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41"/>
          <p:cNvSpPr/>
          <p:nvPr/>
        </p:nvSpPr>
        <p:spPr>
          <a:xfrm>
            <a:off x="5651640" y="4600440"/>
            <a:ext cx="21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Ловушки, капка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42"/>
          <p:cNvSpPr/>
          <p:nvPr/>
        </p:nvSpPr>
        <p:spPr>
          <a:xfrm rot="10800000">
            <a:off x="5219640" y="4653000"/>
            <a:ext cx="432000" cy="2160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43"/>
          <p:cNvSpPr/>
          <p:nvPr/>
        </p:nvSpPr>
        <p:spPr>
          <a:xfrm>
            <a:off x="6156360" y="5013360"/>
            <a:ext cx="223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Химические яды и бактериальные препара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44"/>
          <p:cNvSpPr/>
          <p:nvPr/>
        </p:nvSpPr>
        <p:spPr>
          <a:xfrm rot="10800000">
            <a:off x="5651640" y="5229000"/>
            <a:ext cx="504720" cy="215640"/>
          </a:xfrm>
          <a:prstGeom prst="leftArrow">
            <a:avLst>
              <a:gd name="adj1" fmla="val 50000"/>
              <a:gd name="adj2" fmla="val 58514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1341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ДЕЗИНФЕКЦИ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ТОДЫ ДЕРАТ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3"/>
          <p:cNvSpPr/>
          <p:nvPr/>
        </p:nvSpPr>
        <p:spPr>
          <a:xfrm>
            <a:off x="8532720" y="5661000"/>
            <a:ext cx="142920" cy="28908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Oval 4"/>
          <p:cNvSpPr/>
          <p:nvPr/>
        </p:nvSpPr>
        <p:spPr>
          <a:xfrm>
            <a:off x="8459640" y="5950080"/>
            <a:ext cx="289080" cy="574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Oval 5"/>
          <p:cNvSpPr/>
          <p:nvPr/>
        </p:nvSpPr>
        <p:spPr>
          <a:xfrm>
            <a:off x="8317080" y="5877000"/>
            <a:ext cx="215640" cy="1443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Oval 6"/>
          <p:cNvSpPr/>
          <p:nvPr/>
        </p:nvSpPr>
        <p:spPr>
          <a:xfrm>
            <a:off x="8675640" y="5877000"/>
            <a:ext cx="216000" cy="1443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AutoShape 7"/>
          <p:cNvSpPr/>
          <p:nvPr/>
        </p:nvSpPr>
        <p:spPr>
          <a:xfrm rot="6552600">
            <a:off x="8268480" y="6331680"/>
            <a:ext cx="309600" cy="216000"/>
          </a:xfrm>
          <a:custGeom>
            <a:avLst/>
            <a:gdLst>
              <a:gd name="textAreaLeft" fmla="*/ 0 w 309600"/>
              <a:gd name="textAreaRight" fmla="*/ 309960 w 309600"/>
              <a:gd name="textAreaTop" fmla="*/ 0 h 216000"/>
              <a:gd name="textAreaBottom" fmla="*/ 77040 h 2160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AutoShape 8"/>
          <p:cNvSpPr/>
          <p:nvPr/>
        </p:nvSpPr>
        <p:spPr>
          <a:xfrm rot="16200000">
            <a:off x="8638920" y="6348240"/>
            <a:ext cx="285840" cy="215640"/>
          </a:xfrm>
          <a:custGeom>
            <a:avLst/>
            <a:gdLst>
              <a:gd name="textAreaLeft" fmla="*/ 0 w 285840"/>
              <a:gd name="textAreaRight" fmla="*/ 286200 w 285840"/>
              <a:gd name="textAreaTop" fmla="*/ 0 h 215640"/>
              <a:gd name="textAreaBottom" fmla="*/ 77040 h 21564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AutoShape 9"/>
          <p:cNvSpPr/>
          <p:nvPr/>
        </p:nvSpPr>
        <p:spPr>
          <a:xfrm rot="7901400">
            <a:off x="8291520" y="6532200"/>
            <a:ext cx="393840" cy="216000"/>
          </a:xfrm>
          <a:custGeom>
            <a:avLst/>
            <a:gdLst>
              <a:gd name="textAreaLeft" fmla="*/ 0 w 393840"/>
              <a:gd name="textAreaRight" fmla="*/ 394200 w 393840"/>
              <a:gd name="textAreaTop" fmla="*/ 0 h 216000"/>
              <a:gd name="textAreaBottom" fmla="*/ 77040 h 2160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Freeform 10"/>
          <p:cNvSpPr/>
          <p:nvPr/>
        </p:nvSpPr>
        <p:spPr>
          <a:xfrm>
            <a:off x="8629560" y="5743440"/>
            <a:ext cx="123840" cy="9720"/>
          </a:xfrm>
          <a:custGeom>
            <a:avLst/>
            <a:gdLst>
              <a:gd name="textAreaLeft" fmla="*/ 0 w 123840"/>
              <a:gd name="textAreaRight" fmla="*/ 124200 w 12384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78" h="6">
                <a:moveTo>
                  <a:pt x="0" y="6"/>
                </a:moveTo>
                <a:cubicBezTo>
                  <a:pt x="70" y="0"/>
                  <a:pt x="44" y="0"/>
                  <a:pt x="7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Freeform 11"/>
          <p:cNvSpPr/>
          <p:nvPr/>
        </p:nvSpPr>
        <p:spPr>
          <a:xfrm>
            <a:off x="8400960" y="5781600"/>
            <a:ext cx="190440" cy="54000"/>
          </a:xfrm>
          <a:custGeom>
            <a:avLst/>
            <a:gdLst>
              <a:gd name="textAreaLeft" fmla="*/ 0 w 190440"/>
              <a:gd name="textAreaRight" fmla="*/ 190800 w 1904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120" h="34">
                <a:moveTo>
                  <a:pt x="120" y="6"/>
                </a:moveTo>
                <a:cubicBezTo>
                  <a:pt x="78" y="34"/>
                  <a:pt x="43" y="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Freeform 12"/>
          <p:cNvSpPr/>
          <p:nvPr/>
        </p:nvSpPr>
        <p:spPr>
          <a:xfrm>
            <a:off x="8442360" y="5710320"/>
            <a:ext cx="130320" cy="61920"/>
          </a:xfrm>
          <a:custGeom>
            <a:avLst/>
            <a:gdLst>
              <a:gd name="textAreaLeft" fmla="*/ 0 w 130320"/>
              <a:gd name="textAreaRight" fmla="*/ 130680 w 13032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82" h="39">
                <a:moveTo>
                  <a:pt x="82" y="39"/>
                </a:moveTo>
                <a:cubicBezTo>
                  <a:pt x="76" y="37"/>
                  <a:pt x="70" y="36"/>
                  <a:pt x="64" y="33"/>
                </a:cubicBezTo>
                <a:cubicBezTo>
                  <a:pt x="58" y="30"/>
                  <a:pt x="53" y="24"/>
                  <a:pt x="46" y="21"/>
                </a:cubicBezTo>
                <a:cubicBezTo>
                  <a:pt x="0" y="0"/>
                  <a:pt x="21" y="20"/>
                  <a:pt x="4" y="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Freeform 13"/>
          <p:cNvSpPr/>
          <p:nvPr/>
        </p:nvSpPr>
        <p:spPr>
          <a:xfrm>
            <a:off x="8601120" y="5676840"/>
            <a:ext cx="152280" cy="66600"/>
          </a:xfrm>
          <a:custGeom>
            <a:avLst/>
            <a:gdLst>
              <a:gd name="textAreaLeft" fmla="*/ 0 w 152280"/>
              <a:gd name="textAreaRight" fmla="*/ 152640 w 15228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96" h="42">
                <a:moveTo>
                  <a:pt x="0" y="42"/>
                </a:moveTo>
                <a:cubicBezTo>
                  <a:pt x="6" y="40"/>
                  <a:pt x="12" y="39"/>
                  <a:pt x="18" y="36"/>
                </a:cubicBezTo>
                <a:cubicBezTo>
                  <a:pt x="24" y="33"/>
                  <a:pt x="29" y="27"/>
                  <a:pt x="36" y="24"/>
                </a:cubicBezTo>
                <a:cubicBezTo>
                  <a:pt x="55" y="16"/>
                  <a:pt x="81" y="15"/>
                  <a:pt x="9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4"/>
          <p:cNvSpPr/>
          <p:nvPr/>
        </p:nvSpPr>
        <p:spPr>
          <a:xfrm>
            <a:off x="395280" y="1268280"/>
            <a:ext cx="288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Безприманоч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(опыл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яд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ор, путей движ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15"/>
          <p:cNvSpPr/>
          <p:nvPr/>
        </p:nvSpPr>
        <p:spPr>
          <a:xfrm>
            <a:off x="2916360" y="249228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риманочный (пищев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риманки: каши,хлеб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фарш, ;водные приман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ода, молоко, буль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16"/>
          <p:cNvSpPr/>
          <p:nvPr/>
        </p:nvSpPr>
        <p:spPr>
          <a:xfrm>
            <a:off x="5651640" y="465300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Газами(углекислый газ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AutoShape 17"/>
          <p:cNvSpPr/>
          <p:nvPr/>
        </p:nvSpPr>
        <p:spPr>
          <a:xfrm rot="19414200">
            <a:off x="3203640" y="1196640"/>
            <a:ext cx="1087200" cy="495360"/>
          </a:xfrm>
          <a:prstGeom prst="leftArrow">
            <a:avLst>
              <a:gd name="adj1" fmla="val 50000"/>
              <a:gd name="adj2" fmla="val 54869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AutoShape 18"/>
          <p:cNvSpPr/>
          <p:nvPr/>
        </p:nvSpPr>
        <p:spPr>
          <a:xfrm rot="16200000">
            <a:off x="3919320" y="1520280"/>
            <a:ext cx="1305000" cy="495360"/>
          </a:xfrm>
          <a:prstGeom prst="leftArrow">
            <a:avLst>
              <a:gd name="adj1" fmla="val 50000"/>
              <a:gd name="adj2" fmla="val 65861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AutoShape 19"/>
          <p:cNvSpPr/>
          <p:nvPr/>
        </p:nvSpPr>
        <p:spPr>
          <a:xfrm rot="14123400">
            <a:off x="4069440" y="2568960"/>
            <a:ext cx="4084560" cy="495000"/>
          </a:xfrm>
          <a:prstGeom prst="leftArrow">
            <a:avLst>
              <a:gd name="adj1" fmla="val 50000"/>
              <a:gd name="adj2" fmla="val 206291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AutoShape 20"/>
          <p:cNvSpPr/>
          <p:nvPr/>
        </p:nvSpPr>
        <p:spPr>
          <a:xfrm>
            <a:off x="108000" y="981000"/>
            <a:ext cx="2879640" cy="3057480"/>
          </a:xfrm>
          <a:prstGeom prst="cloudCallout">
            <a:avLst>
              <a:gd name="adj1" fmla="val -18027"/>
              <a:gd name="adj2" fmla="val 54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AutoShape 21"/>
          <p:cNvSpPr/>
          <p:nvPr/>
        </p:nvSpPr>
        <p:spPr>
          <a:xfrm>
            <a:off x="3708360" y="4221000"/>
            <a:ext cx="1655640" cy="10083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AutoShape 22"/>
          <p:cNvSpPr/>
          <p:nvPr/>
        </p:nvSpPr>
        <p:spPr>
          <a:xfrm>
            <a:off x="7093080" y="5589720"/>
            <a:ext cx="2050920" cy="1152360"/>
          </a:xfrm>
          <a:prstGeom prst="cloudCallout">
            <a:avLst>
              <a:gd name="adj1" fmla="val -1624"/>
              <a:gd name="adj2" fmla="val 384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23"/>
          <p:cNvSpPr/>
          <p:nvPr/>
        </p:nvSpPr>
        <p:spPr>
          <a:xfrm>
            <a:off x="7742160" y="5716440"/>
            <a:ext cx="87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Способы приготовления отравляющих приманок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229600" cy="45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Механическое смеши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ымачивание в растворах яд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липание ядов-порошков к поверхности приманок (растительное масло и другие масл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Нанесение ядовитых паст на поверхность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риман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ымачивание или опыливание растительных приманок яд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цепты приманок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в грамма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5" name=""/>
          <p:cNvGraphicFramePr/>
          <p:nvPr/>
        </p:nvGraphicFramePr>
        <p:xfrm>
          <a:off x="457200" y="1600200"/>
          <a:ext cx="8229600" cy="4876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62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оокумарин     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лажный комбикорм   9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ло растительное  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оокумарин 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ебная крошка 5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рш мясной или рыбный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нтолацин 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обленое зерно 9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ло растительное 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нтолацин 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бикорм запаренный 9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хар 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ысит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ебная крошка 9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сфид цинка 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рно дробленое  9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ло растительное  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Picture 2" descr="Горбатов 4"/>
          <p:cNvPicPr/>
          <p:nvPr/>
        </p:nvPicPr>
        <p:blipFill>
          <a:blip r:embed="rId1"/>
          <a:srcRect l="1552" t="7784" r="6041" b="2214"/>
          <a:stretch/>
        </p:blipFill>
        <p:spPr>
          <a:xfrm>
            <a:off x="2133720" y="304920"/>
            <a:ext cx="4854600" cy="6553080"/>
          </a:xfrm>
          <a:prstGeom prst="rect">
            <a:avLst/>
          </a:prstGeom>
          <a:ln w="0">
            <a:noFill/>
          </a:ln>
        </p:spPr>
      </p:pic>
      <p:sp>
        <p:nvSpPr>
          <p:cNvPr id="658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Picture 2" descr="Горбатов 5"/>
          <p:cNvPicPr/>
          <p:nvPr/>
        </p:nvPicPr>
        <p:blipFill>
          <a:blip r:embed="rId1"/>
          <a:srcRect l="1008" t="3681" r="1008" b="3498"/>
          <a:stretch/>
        </p:blipFill>
        <p:spPr>
          <a:xfrm>
            <a:off x="1143000" y="838080"/>
            <a:ext cx="6934320" cy="5646960"/>
          </a:xfrm>
          <a:prstGeom prst="rect">
            <a:avLst/>
          </a:prstGeom>
          <a:ln w="0">
            <a:noFill/>
          </a:ln>
        </p:spPr>
      </p:pic>
      <p:sp>
        <p:nvSpPr>
          <p:cNvPr id="660" name="Text Box 3"/>
          <p:cNvSpPr/>
          <p:nvPr/>
        </p:nvSpPr>
        <p:spPr>
          <a:xfrm>
            <a:off x="990720" y="228600"/>
            <a:ext cx="727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рядок проведения дератиз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Оценка эффективности дератизации.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0" y="19051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Х =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(А+ В)х 100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-  %    эффективности дератизаци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- количество жилых нор или  суточно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колличество съеденной приманки      до      дерат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- то же после дерат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Picture 3" descr="AN00460_"/>
          <p:cNvPicPr/>
          <p:nvPr/>
        </p:nvPicPr>
        <p:blipFill>
          <a:blip r:embed="rId1"/>
          <a:stretch/>
        </p:blipFill>
        <p:spPr>
          <a:xfrm>
            <a:off x="3962520" y="2057400"/>
            <a:ext cx="4464000" cy="4394160"/>
          </a:xfrm>
          <a:prstGeom prst="rect">
            <a:avLst/>
          </a:prstGeom>
          <a:ln w="0">
            <a:noFill/>
          </a:ln>
        </p:spPr>
      </p:pic>
      <p:pic>
        <p:nvPicPr>
          <p:cNvPr id="666" name="Reco35.WAV" descr=""/>
          <p:cNvPicPr/>
          <p:nvPr/>
        </p:nvPicPr>
        <p:blipFill>
          <a:blip r:embed="rId2"/>
          <a:stretch/>
        </p:blipFill>
        <p:spPr>
          <a:xfrm>
            <a:off x="0" y="670572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667" name="Text Box 7"/>
          <p:cNvSpPr/>
          <p:nvPr/>
        </p:nvSpPr>
        <p:spPr>
          <a:xfrm rot="19719000">
            <a:off x="243360" y="2228400"/>
            <a:ext cx="8418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ДЕЗИНСЕКЦИ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3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езинсекция –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мплекс мероприятий, направленных на уничтожение членистоногих (клещей и насекомых), вызывающих заболевания и являющихся переносчиками возбудител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олезни, переносчиками которых являются членистоноги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4"/>
          <p:cNvSpPr/>
          <p:nvPr/>
        </p:nvSpPr>
        <p:spPr>
          <a:xfrm>
            <a:off x="1828800" y="1817640"/>
            <a:ext cx="6553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ЭМ лоша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соматоз крол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понский энцефал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знь Акаб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сельсбронская болезнь ов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ута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дулярный дермат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фриканская чума лоша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знь Найроб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отландский энцефаломиелит ов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икулярный стомат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нлейкопения кош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tabLst>
                <a:tab algn="l" pos="0"/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Picture 3" descr="AN00460_"/>
          <p:cNvPicPr/>
          <p:nvPr/>
        </p:nvPicPr>
        <p:blipFill>
          <a:blip r:embed="rId1"/>
          <a:stretch/>
        </p:blipFill>
        <p:spPr>
          <a:xfrm rot="3529800">
            <a:off x="7595280" y="5590080"/>
            <a:ext cx="936720" cy="1077840"/>
          </a:xfrm>
          <a:prstGeom prst="rect">
            <a:avLst/>
          </a:prstGeom>
          <a:ln w="0">
            <a:noFill/>
          </a:ln>
        </p:spPr>
      </p:pic>
      <p:sp>
        <p:nvSpPr>
          <p:cNvPr id="676" name="Text Box 4"/>
          <p:cNvSpPr/>
          <p:nvPr/>
        </p:nvSpPr>
        <p:spPr>
          <a:xfrm>
            <a:off x="1979640" y="0"/>
            <a:ext cx="62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РЫ БОРЬБЫ С НАСЕКОМ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AutoShape 5"/>
          <p:cNvSpPr/>
          <p:nvPr/>
        </p:nvSpPr>
        <p:spPr>
          <a:xfrm>
            <a:off x="4086360" y="549360"/>
            <a:ext cx="48564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6"/>
          <p:cNvSpPr/>
          <p:nvPr/>
        </p:nvSpPr>
        <p:spPr>
          <a:xfrm>
            <a:off x="3348000" y="836640"/>
            <a:ext cx="30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ЗИНСЕ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AutoShape 7"/>
          <p:cNvSpPr/>
          <p:nvPr/>
        </p:nvSpPr>
        <p:spPr>
          <a:xfrm>
            <a:off x="4086360" y="1341360"/>
            <a:ext cx="48564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AutoShape 8"/>
          <p:cNvSpPr/>
          <p:nvPr/>
        </p:nvSpPr>
        <p:spPr>
          <a:xfrm rot="3649800">
            <a:off x="2887920" y="935640"/>
            <a:ext cx="366480" cy="453960"/>
          </a:xfrm>
          <a:prstGeom prst="downArrow">
            <a:avLst>
              <a:gd name="adj1" fmla="val 50000"/>
              <a:gd name="adj2" fmla="val 30968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9"/>
          <p:cNvSpPr/>
          <p:nvPr/>
        </p:nvSpPr>
        <p:spPr>
          <a:xfrm>
            <a:off x="179280" y="1330200"/>
            <a:ext cx="331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ФИЛАКТИЧЕСКИЕ МЕРО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AutoShape 10"/>
          <p:cNvSpPr/>
          <p:nvPr/>
        </p:nvSpPr>
        <p:spPr>
          <a:xfrm>
            <a:off x="1403280" y="1773360"/>
            <a:ext cx="360360" cy="1800000"/>
          </a:xfrm>
          <a:prstGeom prst="downArrow">
            <a:avLst>
              <a:gd name="adj1" fmla="val 50000"/>
              <a:gd name="adj2" fmla="val 124875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11"/>
          <p:cNvSpPr/>
          <p:nvPr/>
        </p:nvSpPr>
        <p:spPr>
          <a:xfrm>
            <a:off x="250920" y="3716280"/>
            <a:ext cx="280836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СТОЯННАЯ ОЧИСТКА ПОМЕЩЕНИЙ; УБОРКА ТЕРРИТОРИЙ; УДАЛЕНИЕ ОТХОДОВ И МУСОРА; ЗАГРАДИТЕЛЬНЫЕ СЕТКИ; ПРОВЕТРИВАНИЕ ПОМЕЩЕНИЙ И СЫРЬЯ; ОСУШЕНИЕ МЕЛКИХ ВОДОЕМОВ, БОЛОТ, ЗАСЫПКА ЯМ, КАНАВ, КАРЬЕРОВ, ЛУЖ; РАСПАШКА ПУСТУЮЩИХ ЗЕМЕЛЬ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12"/>
          <p:cNvSpPr/>
          <p:nvPr/>
        </p:nvSpPr>
        <p:spPr>
          <a:xfrm>
            <a:off x="3276720" y="1576440"/>
            <a:ext cx="330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ТРЕБИТЕЛЬН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РЕ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AutoShape 13"/>
          <p:cNvSpPr/>
          <p:nvPr/>
        </p:nvSpPr>
        <p:spPr>
          <a:xfrm>
            <a:off x="4086360" y="2060640"/>
            <a:ext cx="48564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14"/>
          <p:cNvSpPr/>
          <p:nvPr/>
        </p:nvSpPr>
        <p:spPr>
          <a:xfrm>
            <a:off x="3708360" y="2421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ИМ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AutoShape 15"/>
          <p:cNvSpPr/>
          <p:nvPr/>
        </p:nvSpPr>
        <p:spPr>
          <a:xfrm>
            <a:off x="4086360" y="2852640"/>
            <a:ext cx="48564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16"/>
          <p:cNvSpPr/>
          <p:nvPr/>
        </p:nvSpPr>
        <p:spPr>
          <a:xfrm>
            <a:off x="3708360" y="3284640"/>
            <a:ext cx="14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З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AutoShape 17"/>
          <p:cNvSpPr/>
          <p:nvPr/>
        </p:nvSpPr>
        <p:spPr>
          <a:xfrm>
            <a:off x="4086360" y="3716280"/>
            <a:ext cx="485640" cy="1441440"/>
          </a:xfrm>
          <a:prstGeom prst="downArrow">
            <a:avLst>
              <a:gd name="adj1" fmla="val 50000"/>
              <a:gd name="adj2" fmla="val 74203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18"/>
          <p:cNvSpPr/>
          <p:nvPr/>
        </p:nvSpPr>
        <p:spPr>
          <a:xfrm>
            <a:off x="3492360" y="537372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ИОЛОГ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AutoShape 20"/>
          <p:cNvSpPr/>
          <p:nvPr/>
        </p:nvSpPr>
        <p:spPr>
          <a:xfrm rot="15435000">
            <a:off x="5288760" y="2000880"/>
            <a:ext cx="314280" cy="718920"/>
          </a:xfrm>
          <a:prstGeom prst="downArrow">
            <a:avLst>
              <a:gd name="adj1" fmla="val 50000"/>
              <a:gd name="adj2" fmla="val 57188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AutoShape 21"/>
          <p:cNvSpPr/>
          <p:nvPr/>
        </p:nvSpPr>
        <p:spPr>
          <a:xfrm rot="16200000">
            <a:off x="5328360" y="2313720"/>
            <a:ext cx="287280" cy="790560"/>
          </a:xfrm>
          <a:prstGeom prst="downArrow">
            <a:avLst>
              <a:gd name="adj1" fmla="val 50000"/>
              <a:gd name="adj2" fmla="val 6879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AutoShape 22"/>
          <p:cNvSpPr/>
          <p:nvPr/>
        </p:nvSpPr>
        <p:spPr>
          <a:xfrm rot="17314200">
            <a:off x="5272560" y="2715120"/>
            <a:ext cx="295560" cy="703440"/>
          </a:xfrm>
          <a:prstGeom prst="downArrow">
            <a:avLst>
              <a:gd name="adj1" fmla="val 50000"/>
              <a:gd name="adj2" fmla="val 59501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23"/>
          <p:cNvSpPr/>
          <p:nvPr/>
        </p:nvSpPr>
        <p:spPr>
          <a:xfrm>
            <a:off x="5867280" y="1865160"/>
            <a:ext cx="316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СЕКТИЦИДЫ (ДДВФ, ДИБРОМ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ЛОРОФОС, ЦИОДРИН, АМИДОФОС. БАЙТЕКС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AutoShape 24"/>
          <p:cNvSpPr/>
          <p:nvPr/>
        </p:nvSpPr>
        <p:spPr>
          <a:xfrm rot="16200000">
            <a:off x="5328360" y="5265000"/>
            <a:ext cx="216000" cy="576000"/>
          </a:xfrm>
          <a:prstGeom prst="downArrow">
            <a:avLst>
              <a:gd name="adj1" fmla="val 50000"/>
              <a:gd name="adj2" fmla="val 6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25"/>
          <p:cNvSpPr/>
          <p:nvPr/>
        </p:nvSpPr>
        <p:spPr>
          <a:xfrm>
            <a:off x="5867280" y="3789360"/>
            <a:ext cx="316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МОРАЖИВАНИЕ; КИПЯЧЕНИЕ; ГОРЯЧИЙ ВОЗДУХ, ГОРЯЧ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ЙКА. ЭЛЕКТРОЛОВУШКИ; ОГОНЬ; ЛИПКАЯ  БУМАГА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26"/>
          <p:cNvSpPr/>
          <p:nvPr/>
        </p:nvSpPr>
        <p:spPr>
          <a:xfrm>
            <a:off x="5867280" y="2565360"/>
            <a:ext cx="283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ПЕЛЛЕНТЫ (ОКСАМАТ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27"/>
          <p:cNvSpPr/>
          <p:nvPr/>
        </p:nvSpPr>
        <p:spPr>
          <a:xfrm>
            <a:off x="5867280" y="3068640"/>
            <a:ext cx="309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СЕКТИЦИДНО-РЕПЕЛЛЕНТ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МПОЗИЦИИ (ДИОКС-1, ДИОКС-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28"/>
          <p:cNvSpPr/>
          <p:nvPr/>
        </p:nvSpPr>
        <p:spPr>
          <a:xfrm>
            <a:off x="6135840" y="4600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29"/>
          <p:cNvSpPr/>
          <p:nvPr/>
        </p:nvSpPr>
        <p:spPr>
          <a:xfrm>
            <a:off x="5867280" y="4746600"/>
            <a:ext cx="327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ЫБЫ, ОСЫ,СТРЕКОЗЫ, ПАУК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УРАВЬИ, ЖУКИ , БОЖЬИ КОРОВ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30"/>
          <p:cNvSpPr/>
          <p:nvPr/>
        </p:nvSpPr>
        <p:spPr>
          <a:xfrm>
            <a:off x="5867280" y="5394240"/>
            <a:ext cx="316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УРИНГИН, ПАТОГЕННЫЕ ГРИБЫ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31"/>
          <p:cNvSpPr/>
          <p:nvPr/>
        </p:nvSpPr>
        <p:spPr>
          <a:xfrm>
            <a:off x="5867280" y="6041880"/>
            <a:ext cx="316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ЕРИЛИЗАЦИЯ  НАСЕКОМ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АММА-ЛУЧАМИ; ХИМИЧЕСКИМИ ПРЕПАРАТ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AutoShape 32"/>
          <p:cNvSpPr/>
          <p:nvPr/>
        </p:nvSpPr>
        <p:spPr>
          <a:xfrm rot="17998800">
            <a:off x="5177520" y="3353040"/>
            <a:ext cx="307800" cy="884160"/>
          </a:xfrm>
          <a:prstGeom prst="downArrow">
            <a:avLst>
              <a:gd name="adj1" fmla="val 50000"/>
              <a:gd name="adj2" fmla="val 71813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AutoShape 33"/>
          <p:cNvSpPr/>
          <p:nvPr/>
        </p:nvSpPr>
        <p:spPr>
          <a:xfrm rot="14850600">
            <a:off x="5330520" y="4698360"/>
            <a:ext cx="214200" cy="849240"/>
          </a:xfrm>
          <a:prstGeom prst="downArrow">
            <a:avLst>
              <a:gd name="adj1" fmla="val 50000"/>
              <a:gd name="adj2" fmla="val 99118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AutoShape 34"/>
          <p:cNvSpPr/>
          <p:nvPr/>
        </p:nvSpPr>
        <p:spPr>
          <a:xfrm rot="18326400">
            <a:off x="5200920" y="5532840"/>
            <a:ext cx="239760" cy="860400"/>
          </a:xfrm>
          <a:prstGeom prst="downArrow">
            <a:avLst>
              <a:gd name="adj1" fmla="val 50000"/>
              <a:gd name="adj2" fmla="val 89715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Picture 0" descr="AN00460_"/>
          <p:cNvPicPr/>
          <p:nvPr/>
        </p:nvPicPr>
        <p:blipFill>
          <a:blip r:embed="rId2"/>
          <a:stretch/>
        </p:blipFill>
        <p:spPr>
          <a:xfrm>
            <a:off x="7853400" y="692280"/>
            <a:ext cx="627120" cy="72072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1" descr="AN00460_"/>
          <p:cNvPicPr/>
          <p:nvPr/>
        </p:nvPicPr>
        <p:blipFill>
          <a:blip r:embed="rId3"/>
          <a:stretch/>
        </p:blipFill>
        <p:spPr>
          <a:xfrm rot="13525800">
            <a:off x="2051280" y="2707560"/>
            <a:ext cx="627120" cy="72072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2" descr="AN00460_"/>
          <p:cNvPicPr/>
          <p:nvPr/>
        </p:nvPicPr>
        <p:blipFill>
          <a:blip r:embed="rId4"/>
          <a:stretch/>
        </p:blipFill>
        <p:spPr>
          <a:xfrm rot="1767600">
            <a:off x="466200" y="117360"/>
            <a:ext cx="936720" cy="1078200"/>
          </a:xfrm>
          <a:prstGeom prst="rect">
            <a:avLst/>
          </a:prstGeom>
          <a:ln w="0">
            <a:noFill/>
          </a:ln>
        </p:spPr>
      </p:pic>
      <p:sp>
        <p:nvSpPr>
          <p:cNvPr id="70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path" presetID="4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 0.01067 0.017 0.02133 0.021 0.03467 C 0.025 0.04933 0.027 0.06667 0.029 0.084 C 0.031 0.10133 0.029 0.116 0.027 0.132 C 0.025 0.14667 0.022 0.16267 0.015 0.176 C 0.009 0.18933 -0.001 0.2 -0.012 0.208 C -0.022 0.216 -0.034 0.22133 -0.046 0.224 C -0.058 0.22667 -0.07 0.22667 -0.081 0.224 C -0.093 0.22133 -0.104 0.21467 -0.113 0.204 C -0.122 0.19467 -0.13 0.18267 -0.134 0.168 C -0.139 0.15467 -0.141 0.136 -0.141 0.12133 C -0.142 0.10667 -0.141 0.08933 -0.136 0.07467 C -0.131 0.06133 -0.122 0.05067 -0.11 0.04533 C -0.098 0.04133 -0.086 0.04667 -0.078 0.056 C -0.071 0.06533 -0.066 0.08 -0.065 0.09733 C -0.065 0.11467 -0.066 0.13067 -0.071 0.144 C -0.076 0.15733 -0.075 0.16 -0.095 0.17733 C -0.113 0.196 -0.131 0.19067 -0.142 0.192 C -0.153 0.192 -0.162 0.18667 -0.173 0.18133 C -0.185 0.17467 -0.195 0.16267 -0.202 0.152 C -0.209 0.14133 -0.212 0.128 -0.216 0.10667 C -0.219 0.08533 -0.219 0.07467 -0.219 0.05867 C -0.219 0.04267 -0.219 0.02667 -0.219 0.01067 E">
                                      <p:cBhvr>
                                        <p:cTn id="67" dur="2000" fill="hold"/>
                                        <p:tgtEl>
                                          <p:spTgt spid="6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4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 0.01067 0.017 0.02133 0.021 0.03467 C 0.025 0.04933 0.027 0.06667 0.029 0.084 C 0.031 0.10133 0.029 0.116 0.027 0.132 C 0.025 0.14667 0.022 0.16267 0.015 0.176 C 0.009 0.18933 -0.001 0.2 -0.012 0.208 C -0.022 0.216 -0.034 0.22133 -0.046 0.224 C -0.058 0.22667 -0.07 0.22667 -0.081 0.224 C -0.093 0.22133 -0.104 0.21467 -0.113 0.204 C -0.122 0.19467 -0.13 0.18267 -0.134 0.168 C -0.139 0.15467 -0.141 0.136 -0.141 0.12133 C -0.142 0.10667 -0.141 0.08933 -0.136 0.07467 C -0.131 0.06133 -0.122 0.05067 -0.11 0.04533 C -0.098 0.04133 -0.086 0.04667 -0.078 0.056 C -0.071 0.06533 -0.066 0.08 -0.065 0.09733 C -0.065 0.11467 -0.066 0.13067 -0.071 0.144 C -0.076 0.15733 -0.075 0.16 -0.095 0.17733 C -0.113 0.196 -0.131 0.19067 -0.142 0.192 C -0.153 0.192 -0.162 0.18667 -0.173 0.18133 C -0.185 0.17467 -0.195 0.16267 -0.202 0.152 C -0.209 0.14133 -0.212 0.128 -0.216 0.10667 C -0.219 0.08533 -0.219 0.07467 -0.219 0.05867 C -0.219 0.04267 -0.219 0.02667 -0.219 0.01067 E">
                                      <p:cBhvr>
                                        <p:cTn id="71" dur="2000" fill="hold"/>
                                        <p:tgtEl>
                                          <p:spTgt spid="7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75" dur="2000" fill="hold"/>
                                        <p:tgtEl>
                                          <p:spTgt spid="7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4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768 0.07152 C -0.08091 0.08356 -0.07309 0.09583 -0.07066 0.10995 C -0.06823 0.125 -0.06823 0.14259 -0.06789 0.16018 C -0.06771 0.17777 -0.07136 0.19189 -0.075 0.20671 C -0.07865 0.22152 -0.08316 0.2368 -0.09167 0.24861 C -0.09896 0.26064 -0.11007 0.26921 -0.1217 0.27523 C -0.13247 0.28055 -0.14497 0.28356 -0.15712 0.28402 C -0.16927 0.28425 -0.18108 0.28263 -0.19184 0.278 C -0.20348 0.27291 -0.21354 0.26412 -0.22136 0.25185 C -0.22917 0.2405 -0.23594 0.22754 -0.2382 0.2125 C -0.24184 0.19814 -0.24167 0.17893 -0.24011 0.16481 C -0.23959 0.15023 -0.23664 0.13263 -0.23021 0.11967 C -0.22396 0.1074 -0.21389 0.09861 -0.20139 0.0956 C -0.18907 0.09398 -0.17761 0.10115 -0.17084 0.11226 C -0.16493 0.12268 -0.16146 0.13773 -0.16233 0.15509 C -0.16424 0.17268 -0.16684 0.18819 -0.17327 0.2 C -0.17969 0.21296 -0.179 0.21504 -0.20052 0.22847 C -0.22049 0.24421 -0.23785 0.23541 -0.24879 0.23449 C -0.25955 0.2324 -0.26789 0.22546 -0.27813 0.21805 C -0.28959 0.20949 -0.29809 0.1956 -0.304 0.18379 C -0.30973 0.17175 -0.31111 0.1581 -0.31285 0.13611 C -0.31355 0.11458 -0.31233 0.10393 -0.31059 0.08796 C -0.30886 0.07222 -0.30712 0.05625 -0.30556 0.0405 E">
                                      <p:cBhvr>
                                        <p:cTn id="79" dur="2000" fill="hold"/>
                                        <p:tgtEl>
                                          <p:spTgt spid="7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path" presetID="4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 0.01067 0.017 0.02133 0.021 0.03467 C 0.025 0.04933 0.027 0.06667 0.029 0.084 C 0.031 0.10133 0.029 0.116 0.027 0.132 C 0.025 0.14667 0.022 0.16267 0.015 0.176 C 0.009 0.18933 -0.001 0.2 -0.012 0.208 C -0.022 0.216 -0.034 0.22133 -0.046 0.224 C -0.058 0.22667 -0.07 0.22667 -0.081 0.224 C -0.093 0.22133 -0.104 0.21467 -0.113 0.204 C -0.122 0.19467 -0.13 0.18267 -0.134 0.168 C -0.139 0.15467 -0.141 0.136 -0.141 0.12133 C -0.142 0.10667 -0.141 0.08933 -0.136 0.07467 C -0.131 0.06133 -0.122 0.05067 -0.11 0.04533 C -0.098 0.04133 -0.086 0.04667 -0.078 0.056 C -0.071 0.06533 -0.066 0.08 -0.065 0.09733 C -0.065 0.11467 -0.066 0.13067 -0.071 0.144 C -0.076 0.15733 -0.075 0.16 -0.095 0.17733 C -0.113 0.196 -0.131 0.19067 -0.142 0.192 C -0.153 0.192 -0.162 0.18667 -0.173 0.18133 C -0.185 0.17467 -0.195 0.16267 -0.202 0.152 C -0.209 0.14133 -0.212 0.128 -0.216 0.10667 C -0.219 0.08533 -0.219 0.07467 -0.219 0.05867 C -0.219 0.04267 -0.219 0.02667 -0.219 0.01067 E">
                                      <p:cBhvr>
                                        <p:cTn id="83" dur="2000" fill="hold"/>
                                        <p:tgtEl>
                                          <p:spTgt spid="7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2"/>
          <p:cNvSpPr/>
          <p:nvPr/>
        </p:nvSpPr>
        <p:spPr>
          <a:xfrm>
            <a:off x="684360" y="1555200"/>
            <a:ext cx="81356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Дезинфекция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- комплексная система мероприятий по уничтожению патоген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или условно патогенных микроорганизмов во внешней среде и на теле животны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Picture 2" descr="AN00460_"/>
          <p:cNvPicPr/>
          <p:nvPr/>
        </p:nvPicPr>
        <p:blipFill>
          <a:blip r:embed="rId1"/>
          <a:stretch/>
        </p:blipFill>
        <p:spPr>
          <a:xfrm>
            <a:off x="5580000" y="2708280"/>
            <a:ext cx="936720" cy="1077840"/>
          </a:xfrm>
          <a:prstGeom prst="rect">
            <a:avLst/>
          </a:prstGeom>
          <a:ln w="0">
            <a:noFill/>
          </a:ln>
        </p:spPr>
      </p:pic>
      <p:sp>
        <p:nvSpPr>
          <p:cNvPr id="711" name="AutoShape 40"/>
          <p:cNvSpPr/>
          <p:nvPr/>
        </p:nvSpPr>
        <p:spPr>
          <a:xfrm>
            <a:off x="2700360" y="2060640"/>
            <a:ext cx="2592360" cy="2305080"/>
          </a:xfrm>
          <a:prstGeom prst="cloudCallout">
            <a:avLst>
              <a:gd name="adj1" fmla="val -85148"/>
              <a:gd name="adj2" fmla="val 9256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AutoShape 21"/>
          <p:cNvSpPr/>
          <p:nvPr/>
        </p:nvSpPr>
        <p:spPr>
          <a:xfrm>
            <a:off x="7164360" y="4221000"/>
            <a:ext cx="1800360" cy="2016360"/>
          </a:xfrm>
          <a:prstGeom prst="cloudCallout">
            <a:avLst>
              <a:gd name="adj1" fmla="val -85537"/>
              <a:gd name="adj2" fmla="val 10133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AutoShape 20"/>
          <p:cNvSpPr/>
          <p:nvPr/>
        </p:nvSpPr>
        <p:spPr>
          <a:xfrm>
            <a:off x="5219640" y="5229360"/>
            <a:ext cx="1513080" cy="936360"/>
          </a:xfrm>
          <a:prstGeom prst="can">
            <a:avLst>
              <a:gd name="adj" fmla="val 25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AutoShape 19"/>
          <p:cNvSpPr/>
          <p:nvPr/>
        </p:nvSpPr>
        <p:spPr>
          <a:xfrm>
            <a:off x="5292720" y="4508640"/>
            <a:ext cx="1366920" cy="720720"/>
          </a:xfrm>
          <a:prstGeom prst="can">
            <a:avLst>
              <a:gd name="adj" fmla="val 25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Freeform 16"/>
          <p:cNvSpPr/>
          <p:nvPr/>
        </p:nvSpPr>
        <p:spPr>
          <a:xfrm rot="21174000">
            <a:off x="173160" y="853560"/>
            <a:ext cx="215640" cy="702000"/>
          </a:xfrm>
          <a:custGeom>
            <a:avLst/>
            <a:gdLst>
              <a:gd name="textAreaLeft" fmla="*/ 0 w 215640"/>
              <a:gd name="textAreaRight" fmla="*/ 216000 w 215640"/>
              <a:gd name="textAreaTop" fmla="*/ 0 h 702000"/>
              <a:gd name="textAreaBottom" fmla="*/ 702360 h 702000"/>
            </a:gdLst>
            <a:ahLst/>
            <a:rect l="textAreaLeft" t="textAreaTop" r="textAreaRight" b="textAreaBottom"/>
            <a:pathLst>
              <a:path w="1085" h="1746">
                <a:moveTo>
                  <a:pt x="428" y="138"/>
                </a:moveTo>
                <a:cubicBezTo>
                  <a:pt x="413" y="199"/>
                  <a:pt x="406" y="258"/>
                  <a:pt x="386" y="318"/>
                </a:cubicBezTo>
                <a:cubicBezTo>
                  <a:pt x="377" y="344"/>
                  <a:pt x="365" y="364"/>
                  <a:pt x="356" y="390"/>
                </a:cubicBezTo>
                <a:cubicBezTo>
                  <a:pt x="354" y="396"/>
                  <a:pt x="350" y="408"/>
                  <a:pt x="350" y="408"/>
                </a:cubicBezTo>
                <a:cubicBezTo>
                  <a:pt x="338" y="493"/>
                  <a:pt x="287" y="546"/>
                  <a:pt x="236" y="612"/>
                </a:cubicBezTo>
                <a:cubicBezTo>
                  <a:pt x="215" y="639"/>
                  <a:pt x="196" y="671"/>
                  <a:pt x="182" y="702"/>
                </a:cubicBezTo>
                <a:cubicBezTo>
                  <a:pt x="177" y="714"/>
                  <a:pt x="177" y="727"/>
                  <a:pt x="170" y="738"/>
                </a:cubicBezTo>
                <a:cubicBezTo>
                  <a:pt x="162" y="750"/>
                  <a:pt x="151" y="760"/>
                  <a:pt x="146" y="774"/>
                </a:cubicBezTo>
                <a:cubicBezTo>
                  <a:pt x="144" y="780"/>
                  <a:pt x="143" y="787"/>
                  <a:pt x="140" y="792"/>
                </a:cubicBezTo>
                <a:cubicBezTo>
                  <a:pt x="124" y="821"/>
                  <a:pt x="100" y="846"/>
                  <a:pt x="86" y="876"/>
                </a:cubicBezTo>
                <a:cubicBezTo>
                  <a:pt x="67" y="919"/>
                  <a:pt x="49" y="988"/>
                  <a:pt x="38" y="1032"/>
                </a:cubicBezTo>
                <a:cubicBezTo>
                  <a:pt x="34" y="1050"/>
                  <a:pt x="31" y="1068"/>
                  <a:pt x="26" y="1086"/>
                </a:cubicBezTo>
                <a:cubicBezTo>
                  <a:pt x="23" y="1098"/>
                  <a:pt x="14" y="1122"/>
                  <a:pt x="14" y="1122"/>
                </a:cubicBezTo>
                <a:cubicBezTo>
                  <a:pt x="10" y="1234"/>
                  <a:pt x="0" y="1332"/>
                  <a:pt x="44" y="1434"/>
                </a:cubicBezTo>
                <a:cubicBezTo>
                  <a:pt x="59" y="1470"/>
                  <a:pt x="85" y="1500"/>
                  <a:pt x="110" y="1530"/>
                </a:cubicBezTo>
                <a:cubicBezTo>
                  <a:pt x="125" y="1548"/>
                  <a:pt x="164" y="1572"/>
                  <a:pt x="164" y="1572"/>
                </a:cubicBezTo>
                <a:cubicBezTo>
                  <a:pt x="180" y="1621"/>
                  <a:pt x="221" y="1641"/>
                  <a:pt x="266" y="1656"/>
                </a:cubicBezTo>
                <a:cubicBezTo>
                  <a:pt x="273" y="1658"/>
                  <a:pt x="277" y="1665"/>
                  <a:pt x="284" y="1668"/>
                </a:cubicBezTo>
                <a:cubicBezTo>
                  <a:pt x="349" y="1697"/>
                  <a:pt x="415" y="1724"/>
                  <a:pt x="482" y="1746"/>
                </a:cubicBezTo>
                <a:cubicBezTo>
                  <a:pt x="720" y="1738"/>
                  <a:pt x="604" y="1742"/>
                  <a:pt x="734" y="1716"/>
                </a:cubicBezTo>
                <a:cubicBezTo>
                  <a:pt x="764" y="1696"/>
                  <a:pt x="801" y="1683"/>
                  <a:pt x="836" y="1674"/>
                </a:cubicBezTo>
                <a:cubicBezTo>
                  <a:pt x="879" y="1645"/>
                  <a:pt x="858" y="1653"/>
                  <a:pt x="896" y="1644"/>
                </a:cubicBezTo>
                <a:cubicBezTo>
                  <a:pt x="931" y="1618"/>
                  <a:pt x="966" y="1595"/>
                  <a:pt x="992" y="1560"/>
                </a:cubicBezTo>
                <a:cubicBezTo>
                  <a:pt x="1021" y="1473"/>
                  <a:pt x="1052" y="1388"/>
                  <a:pt x="1070" y="1296"/>
                </a:cubicBezTo>
                <a:cubicBezTo>
                  <a:pt x="1074" y="1193"/>
                  <a:pt x="1085" y="1065"/>
                  <a:pt x="1052" y="966"/>
                </a:cubicBezTo>
                <a:cubicBezTo>
                  <a:pt x="1045" y="945"/>
                  <a:pt x="1028" y="930"/>
                  <a:pt x="1016" y="912"/>
                </a:cubicBezTo>
                <a:cubicBezTo>
                  <a:pt x="1008" y="899"/>
                  <a:pt x="1006" y="883"/>
                  <a:pt x="998" y="870"/>
                </a:cubicBezTo>
                <a:cubicBezTo>
                  <a:pt x="974" y="828"/>
                  <a:pt x="954" y="785"/>
                  <a:pt x="926" y="744"/>
                </a:cubicBezTo>
                <a:cubicBezTo>
                  <a:pt x="895" y="697"/>
                  <a:pt x="839" y="681"/>
                  <a:pt x="800" y="642"/>
                </a:cubicBezTo>
                <a:cubicBezTo>
                  <a:pt x="773" y="615"/>
                  <a:pt x="749" y="585"/>
                  <a:pt x="722" y="558"/>
                </a:cubicBezTo>
                <a:cubicBezTo>
                  <a:pt x="679" y="515"/>
                  <a:pt x="654" y="459"/>
                  <a:pt x="626" y="408"/>
                </a:cubicBezTo>
                <a:cubicBezTo>
                  <a:pt x="606" y="372"/>
                  <a:pt x="559" y="316"/>
                  <a:pt x="548" y="282"/>
                </a:cubicBezTo>
                <a:cubicBezTo>
                  <a:pt x="534" y="241"/>
                  <a:pt x="510" y="197"/>
                  <a:pt x="500" y="156"/>
                </a:cubicBezTo>
                <a:cubicBezTo>
                  <a:pt x="494" y="133"/>
                  <a:pt x="493" y="106"/>
                  <a:pt x="482" y="84"/>
                </a:cubicBezTo>
                <a:cubicBezTo>
                  <a:pt x="468" y="55"/>
                  <a:pt x="458" y="32"/>
                  <a:pt x="452" y="0"/>
                </a:cubicBezTo>
                <a:cubicBezTo>
                  <a:pt x="441" y="32"/>
                  <a:pt x="434" y="75"/>
                  <a:pt x="416" y="102"/>
                </a:cubicBezTo>
                <a:cubicBezTo>
                  <a:pt x="419" y="118"/>
                  <a:pt x="428" y="134"/>
                  <a:pt x="428" y="150"/>
                </a:cubicBezTo>
                <a:cubicBezTo>
                  <a:pt x="428" y="172"/>
                  <a:pt x="422" y="194"/>
                  <a:pt x="422" y="216"/>
                </a:cubicBezTo>
                <a:lnTo>
                  <a:pt x="428" y="138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7"/>
          <p:cNvSpPr/>
          <p:nvPr/>
        </p:nvSpPr>
        <p:spPr>
          <a:xfrm>
            <a:off x="900000" y="189000"/>
            <a:ext cx="7993080" cy="764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e0ce8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МЕТОДЫ ДЕЗИНСЕ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9"/>
          <p:cNvSpPr/>
          <p:nvPr/>
        </p:nvSpPr>
        <p:spPr>
          <a:xfrm>
            <a:off x="2771640" y="2997360"/>
            <a:ext cx="25210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ЭРОЗОЛЬ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11"/>
          <p:cNvSpPr/>
          <p:nvPr/>
        </p:nvSpPr>
        <p:spPr>
          <a:xfrm>
            <a:off x="7236000" y="4437000"/>
            <a:ext cx="190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АЗ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З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СЕКТИЦИД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Ш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AutoShape 18"/>
          <p:cNvSpPr/>
          <p:nvPr/>
        </p:nvSpPr>
        <p:spPr>
          <a:xfrm>
            <a:off x="5435640" y="3789360"/>
            <a:ext cx="1224000" cy="577800"/>
          </a:xfrm>
          <a:prstGeom prst="can">
            <a:avLst>
              <a:gd name="adj" fmla="val 25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10"/>
          <p:cNvSpPr/>
          <p:nvPr/>
        </p:nvSpPr>
        <p:spPr>
          <a:xfrm>
            <a:off x="5219640" y="3860640"/>
            <a:ext cx="158436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Х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ОСЫП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ОШК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БЛЕТК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Freeform 26"/>
          <p:cNvSpPr/>
          <p:nvPr/>
        </p:nvSpPr>
        <p:spPr>
          <a:xfrm rot="21174000">
            <a:off x="468360" y="981000"/>
            <a:ext cx="216000" cy="701640"/>
          </a:xfrm>
          <a:custGeom>
            <a:avLst/>
            <a:gdLst>
              <a:gd name="textAreaLeft" fmla="*/ 0 w 216000"/>
              <a:gd name="textAreaRight" fmla="*/ 216360 w 21600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1085" h="1746">
                <a:moveTo>
                  <a:pt x="428" y="138"/>
                </a:moveTo>
                <a:cubicBezTo>
                  <a:pt x="413" y="199"/>
                  <a:pt x="406" y="258"/>
                  <a:pt x="386" y="318"/>
                </a:cubicBezTo>
                <a:cubicBezTo>
                  <a:pt x="377" y="344"/>
                  <a:pt x="365" y="364"/>
                  <a:pt x="356" y="390"/>
                </a:cubicBezTo>
                <a:cubicBezTo>
                  <a:pt x="354" y="396"/>
                  <a:pt x="350" y="408"/>
                  <a:pt x="350" y="408"/>
                </a:cubicBezTo>
                <a:cubicBezTo>
                  <a:pt x="338" y="493"/>
                  <a:pt x="287" y="546"/>
                  <a:pt x="236" y="612"/>
                </a:cubicBezTo>
                <a:cubicBezTo>
                  <a:pt x="215" y="639"/>
                  <a:pt x="196" y="671"/>
                  <a:pt x="182" y="702"/>
                </a:cubicBezTo>
                <a:cubicBezTo>
                  <a:pt x="177" y="714"/>
                  <a:pt x="177" y="727"/>
                  <a:pt x="170" y="738"/>
                </a:cubicBezTo>
                <a:cubicBezTo>
                  <a:pt x="162" y="750"/>
                  <a:pt x="151" y="760"/>
                  <a:pt x="146" y="774"/>
                </a:cubicBezTo>
                <a:cubicBezTo>
                  <a:pt x="144" y="780"/>
                  <a:pt x="143" y="787"/>
                  <a:pt x="140" y="792"/>
                </a:cubicBezTo>
                <a:cubicBezTo>
                  <a:pt x="124" y="821"/>
                  <a:pt x="100" y="846"/>
                  <a:pt x="86" y="876"/>
                </a:cubicBezTo>
                <a:cubicBezTo>
                  <a:pt x="67" y="919"/>
                  <a:pt x="49" y="988"/>
                  <a:pt x="38" y="1032"/>
                </a:cubicBezTo>
                <a:cubicBezTo>
                  <a:pt x="34" y="1050"/>
                  <a:pt x="31" y="1068"/>
                  <a:pt x="26" y="1086"/>
                </a:cubicBezTo>
                <a:cubicBezTo>
                  <a:pt x="23" y="1098"/>
                  <a:pt x="14" y="1122"/>
                  <a:pt x="14" y="1122"/>
                </a:cubicBezTo>
                <a:cubicBezTo>
                  <a:pt x="10" y="1234"/>
                  <a:pt x="0" y="1332"/>
                  <a:pt x="44" y="1434"/>
                </a:cubicBezTo>
                <a:cubicBezTo>
                  <a:pt x="59" y="1470"/>
                  <a:pt x="85" y="1500"/>
                  <a:pt x="110" y="1530"/>
                </a:cubicBezTo>
                <a:cubicBezTo>
                  <a:pt x="125" y="1548"/>
                  <a:pt x="164" y="1572"/>
                  <a:pt x="164" y="1572"/>
                </a:cubicBezTo>
                <a:cubicBezTo>
                  <a:pt x="180" y="1621"/>
                  <a:pt x="221" y="1641"/>
                  <a:pt x="266" y="1656"/>
                </a:cubicBezTo>
                <a:cubicBezTo>
                  <a:pt x="273" y="1658"/>
                  <a:pt x="277" y="1665"/>
                  <a:pt x="284" y="1668"/>
                </a:cubicBezTo>
                <a:cubicBezTo>
                  <a:pt x="349" y="1697"/>
                  <a:pt x="415" y="1724"/>
                  <a:pt x="482" y="1746"/>
                </a:cubicBezTo>
                <a:cubicBezTo>
                  <a:pt x="720" y="1738"/>
                  <a:pt x="604" y="1742"/>
                  <a:pt x="734" y="1716"/>
                </a:cubicBezTo>
                <a:cubicBezTo>
                  <a:pt x="764" y="1696"/>
                  <a:pt x="801" y="1683"/>
                  <a:pt x="836" y="1674"/>
                </a:cubicBezTo>
                <a:cubicBezTo>
                  <a:pt x="879" y="1645"/>
                  <a:pt x="858" y="1653"/>
                  <a:pt x="896" y="1644"/>
                </a:cubicBezTo>
                <a:cubicBezTo>
                  <a:pt x="931" y="1618"/>
                  <a:pt x="966" y="1595"/>
                  <a:pt x="992" y="1560"/>
                </a:cubicBezTo>
                <a:cubicBezTo>
                  <a:pt x="1021" y="1473"/>
                  <a:pt x="1052" y="1388"/>
                  <a:pt x="1070" y="1296"/>
                </a:cubicBezTo>
                <a:cubicBezTo>
                  <a:pt x="1074" y="1193"/>
                  <a:pt x="1085" y="1065"/>
                  <a:pt x="1052" y="966"/>
                </a:cubicBezTo>
                <a:cubicBezTo>
                  <a:pt x="1045" y="945"/>
                  <a:pt x="1028" y="930"/>
                  <a:pt x="1016" y="912"/>
                </a:cubicBezTo>
                <a:cubicBezTo>
                  <a:pt x="1008" y="899"/>
                  <a:pt x="1006" y="883"/>
                  <a:pt x="998" y="870"/>
                </a:cubicBezTo>
                <a:cubicBezTo>
                  <a:pt x="974" y="828"/>
                  <a:pt x="954" y="785"/>
                  <a:pt x="926" y="744"/>
                </a:cubicBezTo>
                <a:cubicBezTo>
                  <a:pt x="895" y="697"/>
                  <a:pt x="839" y="681"/>
                  <a:pt x="800" y="642"/>
                </a:cubicBezTo>
                <a:cubicBezTo>
                  <a:pt x="773" y="615"/>
                  <a:pt x="749" y="585"/>
                  <a:pt x="722" y="558"/>
                </a:cubicBezTo>
                <a:cubicBezTo>
                  <a:pt x="679" y="515"/>
                  <a:pt x="654" y="459"/>
                  <a:pt x="626" y="408"/>
                </a:cubicBezTo>
                <a:cubicBezTo>
                  <a:pt x="606" y="372"/>
                  <a:pt x="559" y="316"/>
                  <a:pt x="548" y="282"/>
                </a:cubicBezTo>
                <a:cubicBezTo>
                  <a:pt x="534" y="241"/>
                  <a:pt x="510" y="197"/>
                  <a:pt x="500" y="156"/>
                </a:cubicBezTo>
                <a:cubicBezTo>
                  <a:pt x="494" y="133"/>
                  <a:pt x="493" y="106"/>
                  <a:pt x="482" y="84"/>
                </a:cubicBezTo>
                <a:cubicBezTo>
                  <a:pt x="468" y="55"/>
                  <a:pt x="458" y="32"/>
                  <a:pt x="452" y="0"/>
                </a:cubicBezTo>
                <a:cubicBezTo>
                  <a:pt x="441" y="32"/>
                  <a:pt x="434" y="75"/>
                  <a:pt x="416" y="102"/>
                </a:cubicBezTo>
                <a:cubicBezTo>
                  <a:pt x="419" y="118"/>
                  <a:pt x="428" y="134"/>
                  <a:pt x="428" y="150"/>
                </a:cubicBezTo>
                <a:cubicBezTo>
                  <a:pt x="428" y="172"/>
                  <a:pt x="422" y="194"/>
                  <a:pt x="422" y="216"/>
                </a:cubicBezTo>
                <a:lnTo>
                  <a:pt x="428" y="138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Freeform 27"/>
          <p:cNvSpPr/>
          <p:nvPr/>
        </p:nvSpPr>
        <p:spPr>
          <a:xfrm rot="21174000">
            <a:off x="826920" y="1197000"/>
            <a:ext cx="216000" cy="701640"/>
          </a:xfrm>
          <a:custGeom>
            <a:avLst/>
            <a:gdLst>
              <a:gd name="textAreaLeft" fmla="*/ 0 w 216000"/>
              <a:gd name="textAreaRight" fmla="*/ 216360 w 21600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1085" h="1746">
                <a:moveTo>
                  <a:pt x="428" y="138"/>
                </a:moveTo>
                <a:cubicBezTo>
                  <a:pt x="413" y="199"/>
                  <a:pt x="406" y="258"/>
                  <a:pt x="386" y="318"/>
                </a:cubicBezTo>
                <a:cubicBezTo>
                  <a:pt x="377" y="344"/>
                  <a:pt x="365" y="364"/>
                  <a:pt x="356" y="390"/>
                </a:cubicBezTo>
                <a:cubicBezTo>
                  <a:pt x="354" y="396"/>
                  <a:pt x="350" y="408"/>
                  <a:pt x="350" y="408"/>
                </a:cubicBezTo>
                <a:cubicBezTo>
                  <a:pt x="338" y="493"/>
                  <a:pt x="287" y="546"/>
                  <a:pt x="236" y="612"/>
                </a:cubicBezTo>
                <a:cubicBezTo>
                  <a:pt x="215" y="639"/>
                  <a:pt x="196" y="671"/>
                  <a:pt x="182" y="702"/>
                </a:cubicBezTo>
                <a:cubicBezTo>
                  <a:pt x="177" y="714"/>
                  <a:pt x="177" y="727"/>
                  <a:pt x="170" y="738"/>
                </a:cubicBezTo>
                <a:cubicBezTo>
                  <a:pt x="162" y="750"/>
                  <a:pt x="151" y="760"/>
                  <a:pt x="146" y="774"/>
                </a:cubicBezTo>
                <a:cubicBezTo>
                  <a:pt x="144" y="780"/>
                  <a:pt x="143" y="787"/>
                  <a:pt x="140" y="792"/>
                </a:cubicBezTo>
                <a:cubicBezTo>
                  <a:pt x="124" y="821"/>
                  <a:pt x="100" y="846"/>
                  <a:pt x="86" y="876"/>
                </a:cubicBezTo>
                <a:cubicBezTo>
                  <a:pt x="67" y="919"/>
                  <a:pt x="49" y="988"/>
                  <a:pt x="38" y="1032"/>
                </a:cubicBezTo>
                <a:cubicBezTo>
                  <a:pt x="34" y="1050"/>
                  <a:pt x="31" y="1068"/>
                  <a:pt x="26" y="1086"/>
                </a:cubicBezTo>
                <a:cubicBezTo>
                  <a:pt x="23" y="1098"/>
                  <a:pt x="14" y="1122"/>
                  <a:pt x="14" y="1122"/>
                </a:cubicBezTo>
                <a:cubicBezTo>
                  <a:pt x="10" y="1234"/>
                  <a:pt x="0" y="1332"/>
                  <a:pt x="44" y="1434"/>
                </a:cubicBezTo>
                <a:cubicBezTo>
                  <a:pt x="59" y="1470"/>
                  <a:pt x="85" y="1500"/>
                  <a:pt x="110" y="1530"/>
                </a:cubicBezTo>
                <a:cubicBezTo>
                  <a:pt x="125" y="1548"/>
                  <a:pt x="164" y="1572"/>
                  <a:pt x="164" y="1572"/>
                </a:cubicBezTo>
                <a:cubicBezTo>
                  <a:pt x="180" y="1621"/>
                  <a:pt x="221" y="1641"/>
                  <a:pt x="266" y="1656"/>
                </a:cubicBezTo>
                <a:cubicBezTo>
                  <a:pt x="273" y="1658"/>
                  <a:pt x="277" y="1665"/>
                  <a:pt x="284" y="1668"/>
                </a:cubicBezTo>
                <a:cubicBezTo>
                  <a:pt x="349" y="1697"/>
                  <a:pt x="415" y="1724"/>
                  <a:pt x="482" y="1746"/>
                </a:cubicBezTo>
                <a:cubicBezTo>
                  <a:pt x="720" y="1738"/>
                  <a:pt x="604" y="1742"/>
                  <a:pt x="734" y="1716"/>
                </a:cubicBezTo>
                <a:cubicBezTo>
                  <a:pt x="764" y="1696"/>
                  <a:pt x="801" y="1683"/>
                  <a:pt x="836" y="1674"/>
                </a:cubicBezTo>
                <a:cubicBezTo>
                  <a:pt x="879" y="1645"/>
                  <a:pt x="858" y="1653"/>
                  <a:pt x="896" y="1644"/>
                </a:cubicBezTo>
                <a:cubicBezTo>
                  <a:pt x="931" y="1618"/>
                  <a:pt x="966" y="1595"/>
                  <a:pt x="992" y="1560"/>
                </a:cubicBezTo>
                <a:cubicBezTo>
                  <a:pt x="1021" y="1473"/>
                  <a:pt x="1052" y="1388"/>
                  <a:pt x="1070" y="1296"/>
                </a:cubicBezTo>
                <a:cubicBezTo>
                  <a:pt x="1074" y="1193"/>
                  <a:pt x="1085" y="1065"/>
                  <a:pt x="1052" y="966"/>
                </a:cubicBezTo>
                <a:cubicBezTo>
                  <a:pt x="1045" y="945"/>
                  <a:pt x="1028" y="930"/>
                  <a:pt x="1016" y="912"/>
                </a:cubicBezTo>
                <a:cubicBezTo>
                  <a:pt x="1008" y="899"/>
                  <a:pt x="1006" y="883"/>
                  <a:pt x="998" y="870"/>
                </a:cubicBezTo>
                <a:cubicBezTo>
                  <a:pt x="974" y="828"/>
                  <a:pt x="954" y="785"/>
                  <a:pt x="926" y="744"/>
                </a:cubicBezTo>
                <a:cubicBezTo>
                  <a:pt x="895" y="697"/>
                  <a:pt x="839" y="681"/>
                  <a:pt x="800" y="642"/>
                </a:cubicBezTo>
                <a:cubicBezTo>
                  <a:pt x="773" y="615"/>
                  <a:pt x="749" y="585"/>
                  <a:pt x="722" y="558"/>
                </a:cubicBezTo>
                <a:cubicBezTo>
                  <a:pt x="679" y="515"/>
                  <a:pt x="654" y="459"/>
                  <a:pt x="626" y="408"/>
                </a:cubicBezTo>
                <a:cubicBezTo>
                  <a:pt x="606" y="372"/>
                  <a:pt x="559" y="316"/>
                  <a:pt x="548" y="282"/>
                </a:cubicBezTo>
                <a:cubicBezTo>
                  <a:pt x="534" y="241"/>
                  <a:pt x="510" y="197"/>
                  <a:pt x="500" y="156"/>
                </a:cubicBezTo>
                <a:cubicBezTo>
                  <a:pt x="494" y="133"/>
                  <a:pt x="493" y="106"/>
                  <a:pt x="482" y="84"/>
                </a:cubicBezTo>
                <a:cubicBezTo>
                  <a:pt x="468" y="55"/>
                  <a:pt x="458" y="32"/>
                  <a:pt x="452" y="0"/>
                </a:cubicBezTo>
                <a:cubicBezTo>
                  <a:pt x="441" y="32"/>
                  <a:pt x="434" y="75"/>
                  <a:pt x="416" y="102"/>
                </a:cubicBezTo>
                <a:cubicBezTo>
                  <a:pt x="419" y="118"/>
                  <a:pt x="428" y="134"/>
                  <a:pt x="428" y="150"/>
                </a:cubicBezTo>
                <a:cubicBezTo>
                  <a:pt x="428" y="172"/>
                  <a:pt x="422" y="194"/>
                  <a:pt x="422" y="216"/>
                </a:cubicBezTo>
                <a:lnTo>
                  <a:pt x="428" y="138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Freeform 28"/>
          <p:cNvSpPr/>
          <p:nvPr/>
        </p:nvSpPr>
        <p:spPr>
          <a:xfrm rot="21174000">
            <a:off x="324000" y="1341000"/>
            <a:ext cx="215640" cy="701640"/>
          </a:xfrm>
          <a:custGeom>
            <a:avLst/>
            <a:gdLst>
              <a:gd name="textAreaLeft" fmla="*/ 0 w 215640"/>
              <a:gd name="textAreaRight" fmla="*/ 216000 w 21564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1085" h="1746">
                <a:moveTo>
                  <a:pt x="428" y="138"/>
                </a:moveTo>
                <a:cubicBezTo>
                  <a:pt x="413" y="199"/>
                  <a:pt x="406" y="258"/>
                  <a:pt x="386" y="318"/>
                </a:cubicBezTo>
                <a:cubicBezTo>
                  <a:pt x="377" y="344"/>
                  <a:pt x="365" y="364"/>
                  <a:pt x="356" y="390"/>
                </a:cubicBezTo>
                <a:cubicBezTo>
                  <a:pt x="354" y="396"/>
                  <a:pt x="350" y="408"/>
                  <a:pt x="350" y="408"/>
                </a:cubicBezTo>
                <a:cubicBezTo>
                  <a:pt x="338" y="493"/>
                  <a:pt x="287" y="546"/>
                  <a:pt x="236" y="612"/>
                </a:cubicBezTo>
                <a:cubicBezTo>
                  <a:pt x="215" y="639"/>
                  <a:pt x="196" y="671"/>
                  <a:pt x="182" y="702"/>
                </a:cubicBezTo>
                <a:cubicBezTo>
                  <a:pt x="177" y="714"/>
                  <a:pt x="177" y="727"/>
                  <a:pt x="170" y="738"/>
                </a:cubicBezTo>
                <a:cubicBezTo>
                  <a:pt x="162" y="750"/>
                  <a:pt x="151" y="760"/>
                  <a:pt x="146" y="774"/>
                </a:cubicBezTo>
                <a:cubicBezTo>
                  <a:pt x="144" y="780"/>
                  <a:pt x="143" y="787"/>
                  <a:pt x="140" y="792"/>
                </a:cubicBezTo>
                <a:cubicBezTo>
                  <a:pt x="124" y="821"/>
                  <a:pt x="100" y="846"/>
                  <a:pt x="86" y="876"/>
                </a:cubicBezTo>
                <a:cubicBezTo>
                  <a:pt x="67" y="919"/>
                  <a:pt x="49" y="988"/>
                  <a:pt x="38" y="1032"/>
                </a:cubicBezTo>
                <a:cubicBezTo>
                  <a:pt x="34" y="1050"/>
                  <a:pt x="31" y="1068"/>
                  <a:pt x="26" y="1086"/>
                </a:cubicBezTo>
                <a:cubicBezTo>
                  <a:pt x="23" y="1098"/>
                  <a:pt x="14" y="1122"/>
                  <a:pt x="14" y="1122"/>
                </a:cubicBezTo>
                <a:cubicBezTo>
                  <a:pt x="10" y="1234"/>
                  <a:pt x="0" y="1332"/>
                  <a:pt x="44" y="1434"/>
                </a:cubicBezTo>
                <a:cubicBezTo>
                  <a:pt x="59" y="1470"/>
                  <a:pt x="85" y="1500"/>
                  <a:pt x="110" y="1530"/>
                </a:cubicBezTo>
                <a:cubicBezTo>
                  <a:pt x="125" y="1548"/>
                  <a:pt x="164" y="1572"/>
                  <a:pt x="164" y="1572"/>
                </a:cubicBezTo>
                <a:cubicBezTo>
                  <a:pt x="180" y="1621"/>
                  <a:pt x="221" y="1641"/>
                  <a:pt x="266" y="1656"/>
                </a:cubicBezTo>
                <a:cubicBezTo>
                  <a:pt x="273" y="1658"/>
                  <a:pt x="277" y="1665"/>
                  <a:pt x="284" y="1668"/>
                </a:cubicBezTo>
                <a:cubicBezTo>
                  <a:pt x="349" y="1697"/>
                  <a:pt x="415" y="1724"/>
                  <a:pt x="482" y="1746"/>
                </a:cubicBezTo>
                <a:cubicBezTo>
                  <a:pt x="720" y="1738"/>
                  <a:pt x="604" y="1742"/>
                  <a:pt x="734" y="1716"/>
                </a:cubicBezTo>
                <a:cubicBezTo>
                  <a:pt x="764" y="1696"/>
                  <a:pt x="801" y="1683"/>
                  <a:pt x="836" y="1674"/>
                </a:cubicBezTo>
                <a:cubicBezTo>
                  <a:pt x="879" y="1645"/>
                  <a:pt x="858" y="1653"/>
                  <a:pt x="896" y="1644"/>
                </a:cubicBezTo>
                <a:cubicBezTo>
                  <a:pt x="931" y="1618"/>
                  <a:pt x="966" y="1595"/>
                  <a:pt x="992" y="1560"/>
                </a:cubicBezTo>
                <a:cubicBezTo>
                  <a:pt x="1021" y="1473"/>
                  <a:pt x="1052" y="1388"/>
                  <a:pt x="1070" y="1296"/>
                </a:cubicBezTo>
                <a:cubicBezTo>
                  <a:pt x="1074" y="1193"/>
                  <a:pt x="1085" y="1065"/>
                  <a:pt x="1052" y="966"/>
                </a:cubicBezTo>
                <a:cubicBezTo>
                  <a:pt x="1045" y="945"/>
                  <a:pt x="1028" y="930"/>
                  <a:pt x="1016" y="912"/>
                </a:cubicBezTo>
                <a:cubicBezTo>
                  <a:pt x="1008" y="899"/>
                  <a:pt x="1006" y="883"/>
                  <a:pt x="998" y="870"/>
                </a:cubicBezTo>
                <a:cubicBezTo>
                  <a:pt x="974" y="828"/>
                  <a:pt x="954" y="785"/>
                  <a:pt x="926" y="744"/>
                </a:cubicBezTo>
                <a:cubicBezTo>
                  <a:pt x="895" y="697"/>
                  <a:pt x="839" y="681"/>
                  <a:pt x="800" y="642"/>
                </a:cubicBezTo>
                <a:cubicBezTo>
                  <a:pt x="773" y="615"/>
                  <a:pt x="749" y="585"/>
                  <a:pt x="722" y="558"/>
                </a:cubicBezTo>
                <a:cubicBezTo>
                  <a:pt x="679" y="515"/>
                  <a:pt x="654" y="459"/>
                  <a:pt x="626" y="408"/>
                </a:cubicBezTo>
                <a:cubicBezTo>
                  <a:pt x="606" y="372"/>
                  <a:pt x="559" y="316"/>
                  <a:pt x="548" y="282"/>
                </a:cubicBezTo>
                <a:cubicBezTo>
                  <a:pt x="534" y="241"/>
                  <a:pt x="510" y="197"/>
                  <a:pt x="500" y="156"/>
                </a:cubicBezTo>
                <a:cubicBezTo>
                  <a:pt x="494" y="133"/>
                  <a:pt x="493" y="106"/>
                  <a:pt x="482" y="84"/>
                </a:cubicBezTo>
                <a:cubicBezTo>
                  <a:pt x="468" y="55"/>
                  <a:pt x="458" y="32"/>
                  <a:pt x="452" y="0"/>
                </a:cubicBezTo>
                <a:cubicBezTo>
                  <a:pt x="441" y="32"/>
                  <a:pt x="434" y="75"/>
                  <a:pt x="416" y="102"/>
                </a:cubicBezTo>
                <a:cubicBezTo>
                  <a:pt x="419" y="118"/>
                  <a:pt x="428" y="134"/>
                  <a:pt x="428" y="150"/>
                </a:cubicBezTo>
                <a:cubicBezTo>
                  <a:pt x="428" y="172"/>
                  <a:pt x="422" y="194"/>
                  <a:pt x="422" y="216"/>
                </a:cubicBezTo>
                <a:lnTo>
                  <a:pt x="428" y="138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Freeform 29"/>
          <p:cNvSpPr/>
          <p:nvPr/>
        </p:nvSpPr>
        <p:spPr>
          <a:xfrm rot="21174000">
            <a:off x="684360" y="1483920"/>
            <a:ext cx="215640" cy="701640"/>
          </a:xfrm>
          <a:custGeom>
            <a:avLst/>
            <a:gdLst>
              <a:gd name="textAreaLeft" fmla="*/ 0 w 215640"/>
              <a:gd name="textAreaRight" fmla="*/ 216000 w 21564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1085" h="1746">
                <a:moveTo>
                  <a:pt x="428" y="138"/>
                </a:moveTo>
                <a:cubicBezTo>
                  <a:pt x="413" y="199"/>
                  <a:pt x="406" y="258"/>
                  <a:pt x="386" y="318"/>
                </a:cubicBezTo>
                <a:cubicBezTo>
                  <a:pt x="377" y="344"/>
                  <a:pt x="365" y="364"/>
                  <a:pt x="356" y="390"/>
                </a:cubicBezTo>
                <a:cubicBezTo>
                  <a:pt x="354" y="396"/>
                  <a:pt x="350" y="408"/>
                  <a:pt x="350" y="408"/>
                </a:cubicBezTo>
                <a:cubicBezTo>
                  <a:pt x="338" y="493"/>
                  <a:pt x="287" y="546"/>
                  <a:pt x="236" y="612"/>
                </a:cubicBezTo>
                <a:cubicBezTo>
                  <a:pt x="215" y="639"/>
                  <a:pt x="196" y="671"/>
                  <a:pt x="182" y="702"/>
                </a:cubicBezTo>
                <a:cubicBezTo>
                  <a:pt x="177" y="714"/>
                  <a:pt x="177" y="727"/>
                  <a:pt x="170" y="738"/>
                </a:cubicBezTo>
                <a:cubicBezTo>
                  <a:pt x="162" y="750"/>
                  <a:pt x="151" y="760"/>
                  <a:pt x="146" y="774"/>
                </a:cubicBezTo>
                <a:cubicBezTo>
                  <a:pt x="144" y="780"/>
                  <a:pt x="143" y="787"/>
                  <a:pt x="140" y="792"/>
                </a:cubicBezTo>
                <a:cubicBezTo>
                  <a:pt x="124" y="821"/>
                  <a:pt x="100" y="846"/>
                  <a:pt x="86" y="876"/>
                </a:cubicBezTo>
                <a:cubicBezTo>
                  <a:pt x="67" y="919"/>
                  <a:pt x="49" y="988"/>
                  <a:pt x="38" y="1032"/>
                </a:cubicBezTo>
                <a:cubicBezTo>
                  <a:pt x="34" y="1050"/>
                  <a:pt x="31" y="1068"/>
                  <a:pt x="26" y="1086"/>
                </a:cubicBezTo>
                <a:cubicBezTo>
                  <a:pt x="23" y="1098"/>
                  <a:pt x="14" y="1122"/>
                  <a:pt x="14" y="1122"/>
                </a:cubicBezTo>
                <a:cubicBezTo>
                  <a:pt x="10" y="1234"/>
                  <a:pt x="0" y="1332"/>
                  <a:pt x="44" y="1434"/>
                </a:cubicBezTo>
                <a:cubicBezTo>
                  <a:pt x="59" y="1470"/>
                  <a:pt x="85" y="1500"/>
                  <a:pt x="110" y="1530"/>
                </a:cubicBezTo>
                <a:cubicBezTo>
                  <a:pt x="125" y="1548"/>
                  <a:pt x="164" y="1572"/>
                  <a:pt x="164" y="1572"/>
                </a:cubicBezTo>
                <a:cubicBezTo>
                  <a:pt x="180" y="1621"/>
                  <a:pt x="221" y="1641"/>
                  <a:pt x="266" y="1656"/>
                </a:cubicBezTo>
                <a:cubicBezTo>
                  <a:pt x="273" y="1658"/>
                  <a:pt x="277" y="1665"/>
                  <a:pt x="284" y="1668"/>
                </a:cubicBezTo>
                <a:cubicBezTo>
                  <a:pt x="349" y="1697"/>
                  <a:pt x="415" y="1724"/>
                  <a:pt x="482" y="1746"/>
                </a:cubicBezTo>
                <a:cubicBezTo>
                  <a:pt x="720" y="1738"/>
                  <a:pt x="604" y="1742"/>
                  <a:pt x="734" y="1716"/>
                </a:cubicBezTo>
                <a:cubicBezTo>
                  <a:pt x="764" y="1696"/>
                  <a:pt x="801" y="1683"/>
                  <a:pt x="836" y="1674"/>
                </a:cubicBezTo>
                <a:cubicBezTo>
                  <a:pt x="879" y="1645"/>
                  <a:pt x="858" y="1653"/>
                  <a:pt x="896" y="1644"/>
                </a:cubicBezTo>
                <a:cubicBezTo>
                  <a:pt x="931" y="1618"/>
                  <a:pt x="966" y="1595"/>
                  <a:pt x="992" y="1560"/>
                </a:cubicBezTo>
                <a:cubicBezTo>
                  <a:pt x="1021" y="1473"/>
                  <a:pt x="1052" y="1388"/>
                  <a:pt x="1070" y="1296"/>
                </a:cubicBezTo>
                <a:cubicBezTo>
                  <a:pt x="1074" y="1193"/>
                  <a:pt x="1085" y="1065"/>
                  <a:pt x="1052" y="966"/>
                </a:cubicBezTo>
                <a:cubicBezTo>
                  <a:pt x="1045" y="945"/>
                  <a:pt x="1028" y="930"/>
                  <a:pt x="1016" y="912"/>
                </a:cubicBezTo>
                <a:cubicBezTo>
                  <a:pt x="1008" y="899"/>
                  <a:pt x="1006" y="883"/>
                  <a:pt x="998" y="870"/>
                </a:cubicBezTo>
                <a:cubicBezTo>
                  <a:pt x="974" y="828"/>
                  <a:pt x="954" y="785"/>
                  <a:pt x="926" y="744"/>
                </a:cubicBezTo>
                <a:cubicBezTo>
                  <a:pt x="895" y="697"/>
                  <a:pt x="839" y="681"/>
                  <a:pt x="800" y="642"/>
                </a:cubicBezTo>
                <a:cubicBezTo>
                  <a:pt x="773" y="615"/>
                  <a:pt x="749" y="585"/>
                  <a:pt x="722" y="558"/>
                </a:cubicBezTo>
                <a:cubicBezTo>
                  <a:pt x="679" y="515"/>
                  <a:pt x="654" y="459"/>
                  <a:pt x="626" y="408"/>
                </a:cubicBezTo>
                <a:cubicBezTo>
                  <a:pt x="606" y="372"/>
                  <a:pt x="559" y="316"/>
                  <a:pt x="548" y="282"/>
                </a:cubicBezTo>
                <a:cubicBezTo>
                  <a:pt x="534" y="241"/>
                  <a:pt x="510" y="197"/>
                  <a:pt x="500" y="156"/>
                </a:cubicBezTo>
                <a:cubicBezTo>
                  <a:pt x="494" y="133"/>
                  <a:pt x="493" y="106"/>
                  <a:pt x="482" y="84"/>
                </a:cubicBezTo>
                <a:cubicBezTo>
                  <a:pt x="468" y="55"/>
                  <a:pt x="458" y="32"/>
                  <a:pt x="452" y="0"/>
                </a:cubicBezTo>
                <a:cubicBezTo>
                  <a:pt x="441" y="32"/>
                  <a:pt x="434" y="75"/>
                  <a:pt x="416" y="102"/>
                </a:cubicBezTo>
                <a:cubicBezTo>
                  <a:pt x="419" y="118"/>
                  <a:pt x="428" y="134"/>
                  <a:pt x="428" y="150"/>
                </a:cubicBezTo>
                <a:cubicBezTo>
                  <a:pt x="428" y="172"/>
                  <a:pt x="422" y="194"/>
                  <a:pt x="422" y="216"/>
                </a:cubicBezTo>
                <a:lnTo>
                  <a:pt x="428" y="138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Freeform 30"/>
          <p:cNvSpPr/>
          <p:nvPr/>
        </p:nvSpPr>
        <p:spPr>
          <a:xfrm rot="21174000">
            <a:off x="1116000" y="1628640"/>
            <a:ext cx="216000" cy="701640"/>
          </a:xfrm>
          <a:custGeom>
            <a:avLst/>
            <a:gdLst>
              <a:gd name="textAreaLeft" fmla="*/ 0 w 216000"/>
              <a:gd name="textAreaRight" fmla="*/ 216360 w 21600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1085" h="1746">
                <a:moveTo>
                  <a:pt x="428" y="138"/>
                </a:moveTo>
                <a:cubicBezTo>
                  <a:pt x="413" y="199"/>
                  <a:pt x="406" y="258"/>
                  <a:pt x="386" y="318"/>
                </a:cubicBezTo>
                <a:cubicBezTo>
                  <a:pt x="377" y="344"/>
                  <a:pt x="365" y="364"/>
                  <a:pt x="356" y="390"/>
                </a:cubicBezTo>
                <a:cubicBezTo>
                  <a:pt x="354" y="396"/>
                  <a:pt x="350" y="408"/>
                  <a:pt x="350" y="408"/>
                </a:cubicBezTo>
                <a:cubicBezTo>
                  <a:pt x="338" y="493"/>
                  <a:pt x="287" y="546"/>
                  <a:pt x="236" y="612"/>
                </a:cubicBezTo>
                <a:cubicBezTo>
                  <a:pt x="215" y="639"/>
                  <a:pt x="196" y="671"/>
                  <a:pt x="182" y="702"/>
                </a:cubicBezTo>
                <a:cubicBezTo>
                  <a:pt x="177" y="714"/>
                  <a:pt x="177" y="727"/>
                  <a:pt x="170" y="738"/>
                </a:cubicBezTo>
                <a:cubicBezTo>
                  <a:pt x="162" y="750"/>
                  <a:pt x="151" y="760"/>
                  <a:pt x="146" y="774"/>
                </a:cubicBezTo>
                <a:cubicBezTo>
                  <a:pt x="144" y="780"/>
                  <a:pt x="143" y="787"/>
                  <a:pt x="140" y="792"/>
                </a:cubicBezTo>
                <a:cubicBezTo>
                  <a:pt x="124" y="821"/>
                  <a:pt x="100" y="846"/>
                  <a:pt x="86" y="876"/>
                </a:cubicBezTo>
                <a:cubicBezTo>
                  <a:pt x="67" y="919"/>
                  <a:pt x="49" y="988"/>
                  <a:pt x="38" y="1032"/>
                </a:cubicBezTo>
                <a:cubicBezTo>
                  <a:pt x="34" y="1050"/>
                  <a:pt x="31" y="1068"/>
                  <a:pt x="26" y="1086"/>
                </a:cubicBezTo>
                <a:cubicBezTo>
                  <a:pt x="23" y="1098"/>
                  <a:pt x="14" y="1122"/>
                  <a:pt x="14" y="1122"/>
                </a:cubicBezTo>
                <a:cubicBezTo>
                  <a:pt x="10" y="1234"/>
                  <a:pt x="0" y="1332"/>
                  <a:pt x="44" y="1434"/>
                </a:cubicBezTo>
                <a:cubicBezTo>
                  <a:pt x="59" y="1470"/>
                  <a:pt x="85" y="1500"/>
                  <a:pt x="110" y="1530"/>
                </a:cubicBezTo>
                <a:cubicBezTo>
                  <a:pt x="125" y="1548"/>
                  <a:pt x="164" y="1572"/>
                  <a:pt x="164" y="1572"/>
                </a:cubicBezTo>
                <a:cubicBezTo>
                  <a:pt x="180" y="1621"/>
                  <a:pt x="221" y="1641"/>
                  <a:pt x="266" y="1656"/>
                </a:cubicBezTo>
                <a:cubicBezTo>
                  <a:pt x="273" y="1658"/>
                  <a:pt x="277" y="1665"/>
                  <a:pt x="284" y="1668"/>
                </a:cubicBezTo>
                <a:cubicBezTo>
                  <a:pt x="349" y="1697"/>
                  <a:pt x="415" y="1724"/>
                  <a:pt x="482" y="1746"/>
                </a:cubicBezTo>
                <a:cubicBezTo>
                  <a:pt x="720" y="1738"/>
                  <a:pt x="604" y="1742"/>
                  <a:pt x="734" y="1716"/>
                </a:cubicBezTo>
                <a:cubicBezTo>
                  <a:pt x="764" y="1696"/>
                  <a:pt x="801" y="1683"/>
                  <a:pt x="836" y="1674"/>
                </a:cubicBezTo>
                <a:cubicBezTo>
                  <a:pt x="879" y="1645"/>
                  <a:pt x="858" y="1653"/>
                  <a:pt x="896" y="1644"/>
                </a:cubicBezTo>
                <a:cubicBezTo>
                  <a:pt x="931" y="1618"/>
                  <a:pt x="966" y="1595"/>
                  <a:pt x="992" y="1560"/>
                </a:cubicBezTo>
                <a:cubicBezTo>
                  <a:pt x="1021" y="1473"/>
                  <a:pt x="1052" y="1388"/>
                  <a:pt x="1070" y="1296"/>
                </a:cubicBezTo>
                <a:cubicBezTo>
                  <a:pt x="1074" y="1193"/>
                  <a:pt x="1085" y="1065"/>
                  <a:pt x="1052" y="966"/>
                </a:cubicBezTo>
                <a:cubicBezTo>
                  <a:pt x="1045" y="945"/>
                  <a:pt x="1028" y="930"/>
                  <a:pt x="1016" y="912"/>
                </a:cubicBezTo>
                <a:cubicBezTo>
                  <a:pt x="1008" y="899"/>
                  <a:pt x="1006" y="883"/>
                  <a:pt x="998" y="870"/>
                </a:cubicBezTo>
                <a:cubicBezTo>
                  <a:pt x="974" y="828"/>
                  <a:pt x="954" y="785"/>
                  <a:pt x="926" y="744"/>
                </a:cubicBezTo>
                <a:cubicBezTo>
                  <a:pt x="895" y="697"/>
                  <a:pt x="839" y="681"/>
                  <a:pt x="800" y="642"/>
                </a:cubicBezTo>
                <a:cubicBezTo>
                  <a:pt x="773" y="615"/>
                  <a:pt x="749" y="585"/>
                  <a:pt x="722" y="558"/>
                </a:cubicBezTo>
                <a:cubicBezTo>
                  <a:pt x="679" y="515"/>
                  <a:pt x="654" y="459"/>
                  <a:pt x="626" y="408"/>
                </a:cubicBezTo>
                <a:cubicBezTo>
                  <a:pt x="606" y="372"/>
                  <a:pt x="559" y="316"/>
                  <a:pt x="548" y="282"/>
                </a:cubicBezTo>
                <a:cubicBezTo>
                  <a:pt x="534" y="241"/>
                  <a:pt x="510" y="197"/>
                  <a:pt x="500" y="156"/>
                </a:cubicBezTo>
                <a:cubicBezTo>
                  <a:pt x="494" y="133"/>
                  <a:pt x="493" y="106"/>
                  <a:pt x="482" y="84"/>
                </a:cubicBezTo>
                <a:cubicBezTo>
                  <a:pt x="468" y="55"/>
                  <a:pt x="458" y="32"/>
                  <a:pt x="452" y="0"/>
                </a:cubicBezTo>
                <a:cubicBezTo>
                  <a:pt x="441" y="32"/>
                  <a:pt x="434" y="75"/>
                  <a:pt x="416" y="102"/>
                </a:cubicBezTo>
                <a:cubicBezTo>
                  <a:pt x="419" y="118"/>
                  <a:pt x="428" y="134"/>
                  <a:pt x="428" y="150"/>
                </a:cubicBezTo>
                <a:cubicBezTo>
                  <a:pt x="428" y="172"/>
                  <a:pt x="422" y="194"/>
                  <a:pt x="422" y="216"/>
                </a:cubicBezTo>
                <a:lnTo>
                  <a:pt x="428" y="138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Freeform 34"/>
          <p:cNvSpPr/>
          <p:nvPr/>
        </p:nvSpPr>
        <p:spPr>
          <a:xfrm rot="21174000">
            <a:off x="468360" y="2421000"/>
            <a:ext cx="216000" cy="701640"/>
          </a:xfrm>
          <a:custGeom>
            <a:avLst/>
            <a:gdLst>
              <a:gd name="textAreaLeft" fmla="*/ 0 w 216000"/>
              <a:gd name="textAreaRight" fmla="*/ 216360 w 21600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1085" h="1746">
                <a:moveTo>
                  <a:pt x="428" y="138"/>
                </a:moveTo>
                <a:cubicBezTo>
                  <a:pt x="413" y="199"/>
                  <a:pt x="406" y="258"/>
                  <a:pt x="386" y="318"/>
                </a:cubicBezTo>
                <a:cubicBezTo>
                  <a:pt x="377" y="344"/>
                  <a:pt x="365" y="364"/>
                  <a:pt x="356" y="390"/>
                </a:cubicBezTo>
                <a:cubicBezTo>
                  <a:pt x="354" y="396"/>
                  <a:pt x="350" y="408"/>
                  <a:pt x="350" y="408"/>
                </a:cubicBezTo>
                <a:cubicBezTo>
                  <a:pt x="338" y="493"/>
                  <a:pt x="287" y="546"/>
                  <a:pt x="236" y="612"/>
                </a:cubicBezTo>
                <a:cubicBezTo>
                  <a:pt x="215" y="639"/>
                  <a:pt x="196" y="671"/>
                  <a:pt x="182" y="702"/>
                </a:cubicBezTo>
                <a:cubicBezTo>
                  <a:pt x="177" y="714"/>
                  <a:pt x="177" y="727"/>
                  <a:pt x="170" y="738"/>
                </a:cubicBezTo>
                <a:cubicBezTo>
                  <a:pt x="162" y="750"/>
                  <a:pt x="151" y="760"/>
                  <a:pt x="146" y="774"/>
                </a:cubicBezTo>
                <a:cubicBezTo>
                  <a:pt x="144" y="780"/>
                  <a:pt x="143" y="787"/>
                  <a:pt x="140" y="792"/>
                </a:cubicBezTo>
                <a:cubicBezTo>
                  <a:pt x="124" y="821"/>
                  <a:pt x="100" y="846"/>
                  <a:pt x="86" y="876"/>
                </a:cubicBezTo>
                <a:cubicBezTo>
                  <a:pt x="67" y="919"/>
                  <a:pt x="49" y="988"/>
                  <a:pt x="38" y="1032"/>
                </a:cubicBezTo>
                <a:cubicBezTo>
                  <a:pt x="34" y="1050"/>
                  <a:pt x="31" y="1068"/>
                  <a:pt x="26" y="1086"/>
                </a:cubicBezTo>
                <a:cubicBezTo>
                  <a:pt x="23" y="1098"/>
                  <a:pt x="14" y="1122"/>
                  <a:pt x="14" y="1122"/>
                </a:cubicBezTo>
                <a:cubicBezTo>
                  <a:pt x="10" y="1234"/>
                  <a:pt x="0" y="1332"/>
                  <a:pt x="44" y="1434"/>
                </a:cubicBezTo>
                <a:cubicBezTo>
                  <a:pt x="59" y="1470"/>
                  <a:pt x="85" y="1500"/>
                  <a:pt x="110" y="1530"/>
                </a:cubicBezTo>
                <a:cubicBezTo>
                  <a:pt x="125" y="1548"/>
                  <a:pt x="164" y="1572"/>
                  <a:pt x="164" y="1572"/>
                </a:cubicBezTo>
                <a:cubicBezTo>
                  <a:pt x="180" y="1621"/>
                  <a:pt x="221" y="1641"/>
                  <a:pt x="266" y="1656"/>
                </a:cubicBezTo>
                <a:cubicBezTo>
                  <a:pt x="273" y="1658"/>
                  <a:pt x="277" y="1665"/>
                  <a:pt x="284" y="1668"/>
                </a:cubicBezTo>
                <a:cubicBezTo>
                  <a:pt x="349" y="1697"/>
                  <a:pt x="415" y="1724"/>
                  <a:pt x="482" y="1746"/>
                </a:cubicBezTo>
                <a:cubicBezTo>
                  <a:pt x="720" y="1738"/>
                  <a:pt x="604" y="1742"/>
                  <a:pt x="734" y="1716"/>
                </a:cubicBezTo>
                <a:cubicBezTo>
                  <a:pt x="764" y="1696"/>
                  <a:pt x="801" y="1683"/>
                  <a:pt x="836" y="1674"/>
                </a:cubicBezTo>
                <a:cubicBezTo>
                  <a:pt x="879" y="1645"/>
                  <a:pt x="858" y="1653"/>
                  <a:pt x="896" y="1644"/>
                </a:cubicBezTo>
                <a:cubicBezTo>
                  <a:pt x="931" y="1618"/>
                  <a:pt x="966" y="1595"/>
                  <a:pt x="992" y="1560"/>
                </a:cubicBezTo>
                <a:cubicBezTo>
                  <a:pt x="1021" y="1473"/>
                  <a:pt x="1052" y="1388"/>
                  <a:pt x="1070" y="1296"/>
                </a:cubicBezTo>
                <a:cubicBezTo>
                  <a:pt x="1074" y="1193"/>
                  <a:pt x="1085" y="1065"/>
                  <a:pt x="1052" y="966"/>
                </a:cubicBezTo>
                <a:cubicBezTo>
                  <a:pt x="1045" y="945"/>
                  <a:pt x="1028" y="930"/>
                  <a:pt x="1016" y="912"/>
                </a:cubicBezTo>
                <a:cubicBezTo>
                  <a:pt x="1008" y="899"/>
                  <a:pt x="1006" y="883"/>
                  <a:pt x="998" y="870"/>
                </a:cubicBezTo>
                <a:cubicBezTo>
                  <a:pt x="974" y="828"/>
                  <a:pt x="954" y="785"/>
                  <a:pt x="926" y="744"/>
                </a:cubicBezTo>
                <a:cubicBezTo>
                  <a:pt x="895" y="697"/>
                  <a:pt x="839" y="681"/>
                  <a:pt x="800" y="642"/>
                </a:cubicBezTo>
                <a:cubicBezTo>
                  <a:pt x="773" y="615"/>
                  <a:pt x="749" y="585"/>
                  <a:pt x="722" y="558"/>
                </a:cubicBezTo>
                <a:cubicBezTo>
                  <a:pt x="679" y="515"/>
                  <a:pt x="654" y="459"/>
                  <a:pt x="626" y="408"/>
                </a:cubicBezTo>
                <a:cubicBezTo>
                  <a:pt x="606" y="372"/>
                  <a:pt x="559" y="316"/>
                  <a:pt x="548" y="282"/>
                </a:cubicBezTo>
                <a:cubicBezTo>
                  <a:pt x="534" y="241"/>
                  <a:pt x="510" y="197"/>
                  <a:pt x="500" y="156"/>
                </a:cubicBezTo>
                <a:cubicBezTo>
                  <a:pt x="494" y="133"/>
                  <a:pt x="493" y="106"/>
                  <a:pt x="482" y="84"/>
                </a:cubicBezTo>
                <a:cubicBezTo>
                  <a:pt x="468" y="55"/>
                  <a:pt x="458" y="32"/>
                  <a:pt x="452" y="0"/>
                </a:cubicBezTo>
                <a:cubicBezTo>
                  <a:pt x="441" y="32"/>
                  <a:pt x="434" y="75"/>
                  <a:pt x="416" y="102"/>
                </a:cubicBezTo>
                <a:cubicBezTo>
                  <a:pt x="419" y="118"/>
                  <a:pt x="428" y="134"/>
                  <a:pt x="428" y="150"/>
                </a:cubicBezTo>
                <a:cubicBezTo>
                  <a:pt x="428" y="172"/>
                  <a:pt x="422" y="194"/>
                  <a:pt x="422" y="216"/>
                </a:cubicBezTo>
                <a:lnTo>
                  <a:pt x="428" y="138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Freeform 35"/>
          <p:cNvSpPr/>
          <p:nvPr/>
        </p:nvSpPr>
        <p:spPr>
          <a:xfrm rot="21174000">
            <a:off x="1042920" y="2492280"/>
            <a:ext cx="216000" cy="701640"/>
          </a:xfrm>
          <a:custGeom>
            <a:avLst/>
            <a:gdLst>
              <a:gd name="textAreaLeft" fmla="*/ 0 w 216000"/>
              <a:gd name="textAreaRight" fmla="*/ 216360 w 21600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1085" h="1746">
                <a:moveTo>
                  <a:pt x="428" y="138"/>
                </a:moveTo>
                <a:cubicBezTo>
                  <a:pt x="413" y="199"/>
                  <a:pt x="406" y="258"/>
                  <a:pt x="386" y="318"/>
                </a:cubicBezTo>
                <a:cubicBezTo>
                  <a:pt x="377" y="344"/>
                  <a:pt x="365" y="364"/>
                  <a:pt x="356" y="390"/>
                </a:cubicBezTo>
                <a:cubicBezTo>
                  <a:pt x="354" y="396"/>
                  <a:pt x="350" y="408"/>
                  <a:pt x="350" y="408"/>
                </a:cubicBezTo>
                <a:cubicBezTo>
                  <a:pt x="338" y="493"/>
                  <a:pt x="287" y="546"/>
                  <a:pt x="236" y="612"/>
                </a:cubicBezTo>
                <a:cubicBezTo>
                  <a:pt x="215" y="639"/>
                  <a:pt x="196" y="671"/>
                  <a:pt x="182" y="702"/>
                </a:cubicBezTo>
                <a:cubicBezTo>
                  <a:pt x="177" y="714"/>
                  <a:pt x="177" y="727"/>
                  <a:pt x="170" y="738"/>
                </a:cubicBezTo>
                <a:cubicBezTo>
                  <a:pt x="162" y="750"/>
                  <a:pt x="151" y="760"/>
                  <a:pt x="146" y="774"/>
                </a:cubicBezTo>
                <a:cubicBezTo>
                  <a:pt x="144" y="780"/>
                  <a:pt x="143" y="787"/>
                  <a:pt x="140" y="792"/>
                </a:cubicBezTo>
                <a:cubicBezTo>
                  <a:pt x="124" y="821"/>
                  <a:pt x="100" y="846"/>
                  <a:pt x="86" y="876"/>
                </a:cubicBezTo>
                <a:cubicBezTo>
                  <a:pt x="67" y="919"/>
                  <a:pt x="49" y="988"/>
                  <a:pt x="38" y="1032"/>
                </a:cubicBezTo>
                <a:cubicBezTo>
                  <a:pt x="34" y="1050"/>
                  <a:pt x="31" y="1068"/>
                  <a:pt x="26" y="1086"/>
                </a:cubicBezTo>
                <a:cubicBezTo>
                  <a:pt x="23" y="1098"/>
                  <a:pt x="14" y="1122"/>
                  <a:pt x="14" y="1122"/>
                </a:cubicBezTo>
                <a:cubicBezTo>
                  <a:pt x="10" y="1234"/>
                  <a:pt x="0" y="1332"/>
                  <a:pt x="44" y="1434"/>
                </a:cubicBezTo>
                <a:cubicBezTo>
                  <a:pt x="59" y="1470"/>
                  <a:pt x="85" y="1500"/>
                  <a:pt x="110" y="1530"/>
                </a:cubicBezTo>
                <a:cubicBezTo>
                  <a:pt x="125" y="1548"/>
                  <a:pt x="164" y="1572"/>
                  <a:pt x="164" y="1572"/>
                </a:cubicBezTo>
                <a:cubicBezTo>
                  <a:pt x="180" y="1621"/>
                  <a:pt x="221" y="1641"/>
                  <a:pt x="266" y="1656"/>
                </a:cubicBezTo>
                <a:cubicBezTo>
                  <a:pt x="273" y="1658"/>
                  <a:pt x="277" y="1665"/>
                  <a:pt x="284" y="1668"/>
                </a:cubicBezTo>
                <a:cubicBezTo>
                  <a:pt x="349" y="1697"/>
                  <a:pt x="415" y="1724"/>
                  <a:pt x="482" y="1746"/>
                </a:cubicBezTo>
                <a:cubicBezTo>
                  <a:pt x="720" y="1738"/>
                  <a:pt x="604" y="1742"/>
                  <a:pt x="734" y="1716"/>
                </a:cubicBezTo>
                <a:cubicBezTo>
                  <a:pt x="764" y="1696"/>
                  <a:pt x="801" y="1683"/>
                  <a:pt x="836" y="1674"/>
                </a:cubicBezTo>
                <a:cubicBezTo>
                  <a:pt x="879" y="1645"/>
                  <a:pt x="858" y="1653"/>
                  <a:pt x="896" y="1644"/>
                </a:cubicBezTo>
                <a:cubicBezTo>
                  <a:pt x="931" y="1618"/>
                  <a:pt x="966" y="1595"/>
                  <a:pt x="992" y="1560"/>
                </a:cubicBezTo>
                <a:cubicBezTo>
                  <a:pt x="1021" y="1473"/>
                  <a:pt x="1052" y="1388"/>
                  <a:pt x="1070" y="1296"/>
                </a:cubicBezTo>
                <a:cubicBezTo>
                  <a:pt x="1074" y="1193"/>
                  <a:pt x="1085" y="1065"/>
                  <a:pt x="1052" y="966"/>
                </a:cubicBezTo>
                <a:cubicBezTo>
                  <a:pt x="1045" y="945"/>
                  <a:pt x="1028" y="930"/>
                  <a:pt x="1016" y="912"/>
                </a:cubicBezTo>
                <a:cubicBezTo>
                  <a:pt x="1008" y="899"/>
                  <a:pt x="1006" y="883"/>
                  <a:pt x="998" y="870"/>
                </a:cubicBezTo>
                <a:cubicBezTo>
                  <a:pt x="974" y="828"/>
                  <a:pt x="954" y="785"/>
                  <a:pt x="926" y="744"/>
                </a:cubicBezTo>
                <a:cubicBezTo>
                  <a:pt x="895" y="697"/>
                  <a:pt x="839" y="681"/>
                  <a:pt x="800" y="642"/>
                </a:cubicBezTo>
                <a:cubicBezTo>
                  <a:pt x="773" y="615"/>
                  <a:pt x="749" y="585"/>
                  <a:pt x="722" y="558"/>
                </a:cubicBezTo>
                <a:cubicBezTo>
                  <a:pt x="679" y="515"/>
                  <a:pt x="654" y="459"/>
                  <a:pt x="626" y="408"/>
                </a:cubicBezTo>
                <a:cubicBezTo>
                  <a:pt x="606" y="372"/>
                  <a:pt x="559" y="316"/>
                  <a:pt x="548" y="282"/>
                </a:cubicBezTo>
                <a:cubicBezTo>
                  <a:pt x="534" y="241"/>
                  <a:pt x="510" y="197"/>
                  <a:pt x="500" y="156"/>
                </a:cubicBezTo>
                <a:cubicBezTo>
                  <a:pt x="494" y="133"/>
                  <a:pt x="493" y="106"/>
                  <a:pt x="482" y="84"/>
                </a:cubicBezTo>
                <a:cubicBezTo>
                  <a:pt x="468" y="55"/>
                  <a:pt x="458" y="32"/>
                  <a:pt x="452" y="0"/>
                </a:cubicBezTo>
                <a:cubicBezTo>
                  <a:pt x="441" y="32"/>
                  <a:pt x="434" y="75"/>
                  <a:pt x="416" y="102"/>
                </a:cubicBezTo>
                <a:cubicBezTo>
                  <a:pt x="419" y="118"/>
                  <a:pt x="428" y="134"/>
                  <a:pt x="428" y="150"/>
                </a:cubicBezTo>
                <a:cubicBezTo>
                  <a:pt x="428" y="172"/>
                  <a:pt x="422" y="194"/>
                  <a:pt x="422" y="216"/>
                </a:cubicBezTo>
                <a:lnTo>
                  <a:pt x="428" y="138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Freeform 36"/>
          <p:cNvSpPr/>
          <p:nvPr/>
        </p:nvSpPr>
        <p:spPr>
          <a:xfrm rot="21174000">
            <a:off x="826920" y="2727360"/>
            <a:ext cx="216000" cy="701640"/>
          </a:xfrm>
          <a:custGeom>
            <a:avLst/>
            <a:gdLst>
              <a:gd name="textAreaLeft" fmla="*/ 0 w 216000"/>
              <a:gd name="textAreaRight" fmla="*/ 216360 w 21600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1085" h="1746">
                <a:moveTo>
                  <a:pt x="428" y="138"/>
                </a:moveTo>
                <a:cubicBezTo>
                  <a:pt x="413" y="199"/>
                  <a:pt x="406" y="258"/>
                  <a:pt x="386" y="318"/>
                </a:cubicBezTo>
                <a:cubicBezTo>
                  <a:pt x="377" y="344"/>
                  <a:pt x="365" y="364"/>
                  <a:pt x="356" y="390"/>
                </a:cubicBezTo>
                <a:cubicBezTo>
                  <a:pt x="354" y="396"/>
                  <a:pt x="350" y="408"/>
                  <a:pt x="350" y="408"/>
                </a:cubicBezTo>
                <a:cubicBezTo>
                  <a:pt x="338" y="493"/>
                  <a:pt x="287" y="546"/>
                  <a:pt x="236" y="612"/>
                </a:cubicBezTo>
                <a:cubicBezTo>
                  <a:pt x="215" y="639"/>
                  <a:pt x="196" y="671"/>
                  <a:pt x="182" y="702"/>
                </a:cubicBezTo>
                <a:cubicBezTo>
                  <a:pt x="177" y="714"/>
                  <a:pt x="177" y="727"/>
                  <a:pt x="170" y="738"/>
                </a:cubicBezTo>
                <a:cubicBezTo>
                  <a:pt x="162" y="750"/>
                  <a:pt x="151" y="760"/>
                  <a:pt x="146" y="774"/>
                </a:cubicBezTo>
                <a:cubicBezTo>
                  <a:pt x="144" y="780"/>
                  <a:pt x="143" y="787"/>
                  <a:pt x="140" y="792"/>
                </a:cubicBezTo>
                <a:cubicBezTo>
                  <a:pt x="124" y="821"/>
                  <a:pt x="100" y="846"/>
                  <a:pt x="86" y="876"/>
                </a:cubicBezTo>
                <a:cubicBezTo>
                  <a:pt x="67" y="919"/>
                  <a:pt x="49" y="988"/>
                  <a:pt x="38" y="1032"/>
                </a:cubicBezTo>
                <a:cubicBezTo>
                  <a:pt x="34" y="1050"/>
                  <a:pt x="31" y="1068"/>
                  <a:pt x="26" y="1086"/>
                </a:cubicBezTo>
                <a:cubicBezTo>
                  <a:pt x="23" y="1098"/>
                  <a:pt x="14" y="1122"/>
                  <a:pt x="14" y="1122"/>
                </a:cubicBezTo>
                <a:cubicBezTo>
                  <a:pt x="10" y="1234"/>
                  <a:pt x="0" y="1332"/>
                  <a:pt x="44" y="1434"/>
                </a:cubicBezTo>
                <a:cubicBezTo>
                  <a:pt x="59" y="1470"/>
                  <a:pt x="85" y="1500"/>
                  <a:pt x="110" y="1530"/>
                </a:cubicBezTo>
                <a:cubicBezTo>
                  <a:pt x="125" y="1548"/>
                  <a:pt x="164" y="1572"/>
                  <a:pt x="164" y="1572"/>
                </a:cubicBezTo>
                <a:cubicBezTo>
                  <a:pt x="180" y="1621"/>
                  <a:pt x="221" y="1641"/>
                  <a:pt x="266" y="1656"/>
                </a:cubicBezTo>
                <a:cubicBezTo>
                  <a:pt x="273" y="1658"/>
                  <a:pt x="277" y="1665"/>
                  <a:pt x="284" y="1668"/>
                </a:cubicBezTo>
                <a:cubicBezTo>
                  <a:pt x="349" y="1697"/>
                  <a:pt x="415" y="1724"/>
                  <a:pt x="482" y="1746"/>
                </a:cubicBezTo>
                <a:cubicBezTo>
                  <a:pt x="720" y="1738"/>
                  <a:pt x="604" y="1742"/>
                  <a:pt x="734" y="1716"/>
                </a:cubicBezTo>
                <a:cubicBezTo>
                  <a:pt x="764" y="1696"/>
                  <a:pt x="801" y="1683"/>
                  <a:pt x="836" y="1674"/>
                </a:cubicBezTo>
                <a:cubicBezTo>
                  <a:pt x="879" y="1645"/>
                  <a:pt x="858" y="1653"/>
                  <a:pt x="896" y="1644"/>
                </a:cubicBezTo>
                <a:cubicBezTo>
                  <a:pt x="931" y="1618"/>
                  <a:pt x="966" y="1595"/>
                  <a:pt x="992" y="1560"/>
                </a:cubicBezTo>
                <a:cubicBezTo>
                  <a:pt x="1021" y="1473"/>
                  <a:pt x="1052" y="1388"/>
                  <a:pt x="1070" y="1296"/>
                </a:cubicBezTo>
                <a:cubicBezTo>
                  <a:pt x="1074" y="1193"/>
                  <a:pt x="1085" y="1065"/>
                  <a:pt x="1052" y="966"/>
                </a:cubicBezTo>
                <a:cubicBezTo>
                  <a:pt x="1045" y="945"/>
                  <a:pt x="1028" y="930"/>
                  <a:pt x="1016" y="912"/>
                </a:cubicBezTo>
                <a:cubicBezTo>
                  <a:pt x="1008" y="899"/>
                  <a:pt x="1006" y="883"/>
                  <a:pt x="998" y="870"/>
                </a:cubicBezTo>
                <a:cubicBezTo>
                  <a:pt x="974" y="828"/>
                  <a:pt x="954" y="785"/>
                  <a:pt x="926" y="744"/>
                </a:cubicBezTo>
                <a:cubicBezTo>
                  <a:pt x="895" y="697"/>
                  <a:pt x="839" y="681"/>
                  <a:pt x="800" y="642"/>
                </a:cubicBezTo>
                <a:cubicBezTo>
                  <a:pt x="773" y="615"/>
                  <a:pt x="749" y="585"/>
                  <a:pt x="722" y="558"/>
                </a:cubicBezTo>
                <a:cubicBezTo>
                  <a:pt x="679" y="515"/>
                  <a:pt x="654" y="459"/>
                  <a:pt x="626" y="408"/>
                </a:cubicBezTo>
                <a:cubicBezTo>
                  <a:pt x="606" y="372"/>
                  <a:pt x="559" y="316"/>
                  <a:pt x="548" y="282"/>
                </a:cubicBezTo>
                <a:cubicBezTo>
                  <a:pt x="534" y="241"/>
                  <a:pt x="510" y="197"/>
                  <a:pt x="500" y="156"/>
                </a:cubicBezTo>
                <a:cubicBezTo>
                  <a:pt x="494" y="133"/>
                  <a:pt x="493" y="106"/>
                  <a:pt x="482" y="84"/>
                </a:cubicBezTo>
                <a:cubicBezTo>
                  <a:pt x="468" y="55"/>
                  <a:pt x="458" y="32"/>
                  <a:pt x="452" y="0"/>
                </a:cubicBezTo>
                <a:cubicBezTo>
                  <a:pt x="441" y="32"/>
                  <a:pt x="434" y="75"/>
                  <a:pt x="416" y="102"/>
                </a:cubicBezTo>
                <a:cubicBezTo>
                  <a:pt x="419" y="118"/>
                  <a:pt x="428" y="134"/>
                  <a:pt x="428" y="150"/>
                </a:cubicBezTo>
                <a:cubicBezTo>
                  <a:pt x="428" y="172"/>
                  <a:pt x="422" y="194"/>
                  <a:pt x="422" y="216"/>
                </a:cubicBezTo>
                <a:lnTo>
                  <a:pt x="428" y="138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AutoShape 38"/>
          <p:cNvSpPr/>
          <p:nvPr/>
        </p:nvSpPr>
        <p:spPr>
          <a:xfrm>
            <a:off x="1476360" y="5661000"/>
            <a:ext cx="358920" cy="1197000"/>
          </a:xfrm>
          <a:prstGeom prst="can">
            <a:avLst>
              <a:gd name="adj" fmla="val 25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c8c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AutoShape 39"/>
          <p:cNvSpPr/>
          <p:nvPr/>
        </p:nvSpPr>
        <p:spPr>
          <a:xfrm>
            <a:off x="1547640" y="5373720"/>
            <a:ext cx="216000" cy="503280"/>
          </a:xfrm>
          <a:prstGeom prst="can">
            <a:avLst>
              <a:gd name="adj" fmla="val 25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Freeform 41"/>
          <p:cNvSpPr/>
          <p:nvPr/>
        </p:nvSpPr>
        <p:spPr>
          <a:xfrm rot="21174000">
            <a:off x="1403280" y="3573360"/>
            <a:ext cx="216000" cy="701640"/>
          </a:xfrm>
          <a:custGeom>
            <a:avLst/>
            <a:gdLst>
              <a:gd name="textAreaLeft" fmla="*/ 0 w 216000"/>
              <a:gd name="textAreaRight" fmla="*/ 216360 w 21600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1085" h="1746">
                <a:moveTo>
                  <a:pt x="428" y="138"/>
                </a:moveTo>
                <a:cubicBezTo>
                  <a:pt x="413" y="199"/>
                  <a:pt x="406" y="258"/>
                  <a:pt x="386" y="318"/>
                </a:cubicBezTo>
                <a:cubicBezTo>
                  <a:pt x="377" y="344"/>
                  <a:pt x="365" y="364"/>
                  <a:pt x="356" y="390"/>
                </a:cubicBezTo>
                <a:cubicBezTo>
                  <a:pt x="354" y="396"/>
                  <a:pt x="350" y="408"/>
                  <a:pt x="350" y="408"/>
                </a:cubicBezTo>
                <a:cubicBezTo>
                  <a:pt x="338" y="493"/>
                  <a:pt x="287" y="546"/>
                  <a:pt x="236" y="612"/>
                </a:cubicBezTo>
                <a:cubicBezTo>
                  <a:pt x="215" y="639"/>
                  <a:pt x="196" y="671"/>
                  <a:pt x="182" y="702"/>
                </a:cubicBezTo>
                <a:cubicBezTo>
                  <a:pt x="177" y="714"/>
                  <a:pt x="177" y="727"/>
                  <a:pt x="170" y="738"/>
                </a:cubicBezTo>
                <a:cubicBezTo>
                  <a:pt x="162" y="750"/>
                  <a:pt x="151" y="760"/>
                  <a:pt x="146" y="774"/>
                </a:cubicBezTo>
                <a:cubicBezTo>
                  <a:pt x="144" y="780"/>
                  <a:pt x="143" y="787"/>
                  <a:pt x="140" y="792"/>
                </a:cubicBezTo>
                <a:cubicBezTo>
                  <a:pt x="124" y="821"/>
                  <a:pt x="100" y="846"/>
                  <a:pt x="86" y="876"/>
                </a:cubicBezTo>
                <a:cubicBezTo>
                  <a:pt x="67" y="919"/>
                  <a:pt x="49" y="988"/>
                  <a:pt x="38" y="1032"/>
                </a:cubicBezTo>
                <a:cubicBezTo>
                  <a:pt x="34" y="1050"/>
                  <a:pt x="31" y="1068"/>
                  <a:pt x="26" y="1086"/>
                </a:cubicBezTo>
                <a:cubicBezTo>
                  <a:pt x="23" y="1098"/>
                  <a:pt x="14" y="1122"/>
                  <a:pt x="14" y="1122"/>
                </a:cubicBezTo>
                <a:cubicBezTo>
                  <a:pt x="10" y="1234"/>
                  <a:pt x="0" y="1332"/>
                  <a:pt x="44" y="1434"/>
                </a:cubicBezTo>
                <a:cubicBezTo>
                  <a:pt x="59" y="1470"/>
                  <a:pt x="85" y="1500"/>
                  <a:pt x="110" y="1530"/>
                </a:cubicBezTo>
                <a:cubicBezTo>
                  <a:pt x="125" y="1548"/>
                  <a:pt x="164" y="1572"/>
                  <a:pt x="164" y="1572"/>
                </a:cubicBezTo>
                <a:cubicBezTo>
                  <a:pt x="180" y="1621"/>
                  <a:pt x="221" y="1641"/>
                  <a:pt x="266" y="1656"/>
                </a:cubicBezTo>
                <a:cubicBezTo>
                  <a:pt x="273" y="1658"/>
                  <a:pt x="277" y="1665"/>
                  <a:pt x="284" y="1668"/>
                </a:cubicBezTo>
                <a:cubicBezTo>
                  <a:pt x="349" y="1697"/>
                  <a:pt x="415" y="1724"/>
                  <a:pt x="482" y="1746"/>
                </a:cubicBezTo>
                <a:cubicBezTo>
                  <a:pt x="720" y="1738"/>
                  <a:pt x="604" y="1742"/>
                  <a:pt x="734" y="1716"/>
                </a:cubicBezTo>
                <a:cubicBezTo>
                  <a:pt x="764" y="1696"/>
                  <a:pt x="801" y="1683"/>
                  <a:pt x="836" y="1674"/>
                </a:cubicBezTo>
                <a:cubicBezTo>
                  <a:pt x="879" y="1645"/>
                  <a:pt x="858" y="1653"/>
                  <a:pt x="896" y="1644"/>
                </a:cubicBezTo>
                <a:cubicBezTo>
                  <a:pt x="931" y="1618"/>
                  <a:pt x="966" y="1595"/>
                  <a:pt x="992" y="1560"/>
                </a:cubicBezTo>
                <a:cubicBezTo>
                  <a:pt x="1021" y="1473"/>
                  <a:pt x="1052" y="1388"/>
                  <a:pt x="1070" y="1296"/>
                </a:cubicBezTo>
                <a:cubicBezTo>
                  <a:pt x="1074" y="1193"/>
                  <a:pt x="1085" y="1065"/>
                  <a:pt x="1052" y="966"/>
                </a:cubicBezTo>
                <a:cubicBezTo>
                  <a:pt x="1045" y="945"/>
                  <a:pt x="1028" y="930"/>
                  <a:pt x="1016" y="912"/>
                </a:cubicBezTo>
                <a:cubicBezTo>
                  <a:pt x="1008" y="899"/>
                  <a:pt x="1006" y="883"/>
                  <a:pt x="998" y="870"/>
                </a:cubicBezTo>
                <a:cubicBezTo>
                  <a:pt x="974" y="828"/>
                  <a:pt x="954" y="785"/>
                  <a:pt x="926" y="744"/>
                </a:cubicBezTo>
                <a:cubicBezTo>
                  <a:pt x="895" y="697"/>
                  <a:pt x="839" y="681"/>
                  <a:pt x="800" y="642"/>
                </a:cubicBezTo>
                <a:cubicBezTo>
                  <a:pt x="773" y="615"/>
                  <a:pt x="749" y="585"/>
                  <a:pt x="722" y="558"/>
                </a:cubicBezTo>
                <a:cubicBezTo>
                  <a:pt x="679" y="515"/>
                  <a:pt x="654" y="459"/>
                  <a:pt x="626" y="408"/>
                </a:cubicBezTo>
                <a:cubicBezTo>
                  <a:pt x="606" y="372"/>
                  <a:pt x="559" y="316"/>
                  <a:pt x="548" y="282"/>
                </a:cubicBezTo>
                <a:cubicBezTo>
                  <a:pt x="534" y="241"/>
                  <a:pt x="510" y="197"/>
                  <a:pt x="500" y="156"/>
                </a:cubicBezTo>
                <a:cubicBezTo>
                  <a:pt x="494" y="133"/>
                  <a:pt x="493" y="106"/>
                  <a:pt x="482" y="84"/>
                </a:cubicBezTo>
                <a:cubicBezTo>
                  <a:pt x="468" y="55"/>
                  <a:pt x="458" y="32"/>
                  <a:pt x="452" y="0"/>
                </a:cubicBezTo>
                <a:cubicBezTo>
                  <a:pt x="441" y="32"/>
                  <a:pt x="434" y="75"/>
                  <a:pt x="416" y="102"/>
                </a:cubicBezTo>
                <a:cubicBezTo>
                  <a:pt x="419" y="118"/>
                  <a:pt x="428" y="134"/>
                  <a:pt x="428" y="150"/>
                </a:cubicBezTo>
                <a:cubicBezTo>
                  <a:pt x="428" y="172"/>
                  <a:pt x="422" y="194"/>
                  <a:pt x="422" y="216"/>
                </a:cubicBezTo>
                <a:lnTo>
                  <a:pt x="428" y="138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42"/>
          <p:cNvSpPr/>
          <p:nvPr/>
        </p:nvSpPr>
        <p:spPr>
          <a:xfrm rot="21174000">
            <a:off x="611280" y="3860280"/>
            <a:ext cx="215640" cy="702000"/>
          </a:xfrm>
          <a:custGeom>
            <a:avLst/>
            <a:gdLst>
              <a:gd name="textAreaLeft" fmla="*/ 0 w 215640"/>
              <a:gd name="textAreaRight" fmla="*/ 216000 w 215640"/>
              <a:gd name="textAreaTop" fmla="*/ 0 h 702000"/>
              <a:gd name="textAreaBottom" fmla="*/ 702360 h 702000"/>
            </a:gdLst>
            <a:ahLst/>
            <a:rect l="textAreaLeft" t="textAreaTop" r="textAreaRight" b="textAreaBottom"/>
            <a:pathLst>
              <a:path w="1085" h="1746">
                <a:moveTo>
                  <a:pt x="428" y="138"/>
                </a:moveTo>
                <a:cubicBezTo>
                  <a:pt x="413" y="199"/>
                  <a:pt x="406" y="258"/>
                  <a:pt x="386" y="318"/>
                </a:cubicBezTo>
                <a:cubicBezTo>
                  <a:pt x="377" y="344"/>
                  <a:pt x="365" y="364"/>
                  <a:pt x="356" y="390"/>
                </a:cubicBezTo>
                <a:cubicBezTo>
                  <a:pt x="354" y="396"/>
                  <a:pt x="350" y="408"/>
                  <a:pt x="350" y="408"/>
                </a:cubicBezTo>
                <a:cubicBezTo>
                  <a:pt x="338" y="493"/>
                  <a:pt x="287" y="546"/>
                  <a:pt x="236" y="612"/>
                </a:cubicBezTo>
                <a:cubicBezTo>
                  <a:pt x="215" y="639"/>
                  <a:pt x="196" y="671"/>
                  <a:pt x="182" y="702"/>
                </a:cubicBezTo>
                <a:cubicBezTo>
                  <a:pt x="177" y="714"/>
                  <a:pt x="177" y="727"/>
                  <a:pt x="170" y="738"/>
                </a:cubicBezTo>
                <a:cubicBezTo>
                  <a:pt x="162" y="750"/>
                  <a:pt x="151" y="760"/>
                  <a:pt x="146" y="774"/>
                </a:cubicBezTo>
                <a:cubicBezTo>
                  <a:pt x="144" y="780"/>
                  <a:pt x="143" y="787"/>
                  <a:pt x="140" y="792"/>
                </a:cubicBezTo>
                <a:cubicBezTo>
                  <a:pt x="124" y="821"/>
                  <a:pt x="100" y="846"/>
                  <a:pt x="86" y="876"/>
                </a:cubicBezTo>
                <a:cubicBezTo>
                  <a:pt x="67" y="919"/>
                  <a:pt x="49" y="988"/>
                  <a:pt x="38" y="1032"/>
                </a:cubicBezTo>
                <a:cubicBezTo>
                  <a:pt x="34" y="1050"/>
                  <a:pt x="31" y="1068"/>
                  <a:pt x="26" y="1086"/>
                </a:cubicBezTo>
                <a:cubicBezTo>
                  <a:pt x="23" y="1098"/>
                  <a:pt x="14" y="1122"/>
                  <a:pt x="14" y="1122"/>
                </a:cubicBezTo>
                <a:cubicBezTo>
                  <a:pt x="10" y="1234"/>
                  <a:pt x="0" y="1332"/>
                  <a:pt x="44" y="1434"/>
                </a:cubicBezTo>
                <a:cubicBezTo>
                  <a:pt x="59" y="1470"/>
                  <a:pt x="85" y="1500"/>
                  <a:pt x="110" y="1530"/>
                </a:cubicBezTo>
                <a:cubicBezTo>
                  <a:pt x="125" y="1548"/>
                  <a:pt x="164" y="1572"/>
                  <a:pt x="164" y="1572"/>
                </a:cubicBezTo>
                <a:cubicBezTo>
                  <a:pt x="180" y="1621"/>
                  <a:pt x="221" y="1641"/>
                  <a:pt x="266" y="1656"/>
                </a:cubicBezTo>
                <a:cubicBezTo>
                  <a:pt x="273" y="1658"/>
                  <a:pt x="277" y="1665"/>
                  <a:pt x="284" y="1668"/>
                </a:cubicBezTo>
                <a:cubicBezTo>
                  <a:pt x="349" y="1697"/>
                  <a:pt x="415" y="1724"/>
                  <a:pt x="482" y="1746"/>
                </a:cubicBezTo>
                <a:cubicBezTo>
                  <a:pt x="720" y="1738"/>
                  <a:pt x="604" y="1742"/>
                  <a:pt x="734" y="1716"/>
                </a:cubicBezTo>
                <a:cubicBezTo>
                  <a:pt x="764" y="1696"/>
                  <a:pt x="801" y="1683"/>
                  <a:pt x="836" y="1674"/>
                </a:cubicBezTo>
                <a:cubicBezTo>
                  <a:pt x="879" y="1645"/>
                  <a:pt x="858" y="1653"/>
                  <a:pt x="896" y="1644"/>
                </a:cubicBezTo>
                <a:cubicBezTo>
                  <a:pt x="931" y="1618"/>
                  <a:pt x="966" y="1595"/>
                  <a:pt x="992" y="1560"/>
                </a:cubicBezTo>
                <a:cubicBezTo>
                  <a:pt x="1021" y="1473"/>
                  <a:pt x="1052" y="1388"/>
                  <a:pt x="1070" y="1296"/>
                </a:cubicBezTo>
                <a:cubicBezTo>
                  <a:pt x="1074" y="1193"/>
                  <a:pt x="1085" y="1065"/>
                  <a:pt x="1052" y="966"/>
                </a:cubicBezTo>
                <a:cubicBezTo>
                  <a:pt x="1045" y="945"/>
                  <a:pt x="1028" y="930"/>
                  <a:pt x="1016" y="912"/>
                </a:cubicBezTo>
                <a:cubicBezTo>
                  <a:pt x="1008" y="899"/>
                  <a:pt x="1006" y="883"/>
                  <a:pt x="998" y="870"/>
                </a:cubicBezTo>
                <a:cubicBezTo>
                  <a:pt x="974" y="828"/>
                  <a:pt x="954" y="785"/>
                  <a:pt x="926" y="744"/>
                </a:cubicBezTo>
                <a:cubicBezTo>
                  <a:pt x="895" y="697"/>
                  <a:pt x="839" y="681"/>
                  <a:pt x="800" y="642"/>
                </a:cubicBezTo>
                <a:cubicBezTo>
                  <a:pt x="773" y="615"/>
                  <a:pt x="749" y="585"/>
                  <a:pt x="722" y="558"/>
                </a:cubicBezTo>
                <a:cubicBezTo>
                  <a:pt x="679" y="515"/>
                  <a:pt x="654" y="459"/>
                  <a:pt x="626" y="408"/>
                </a:cubicBezTo>
                <a:cubicBezTo>
                  <a:pt x="606" y="372"/>
                  <a:pt x="559" y="316"/>
                  <a:pt x="548" y="282"/>
                </a:cubicBezTo>
                <a:cubicBezTo>
                  <a:pt x="534" y="241"/>
                  <a:pt x="510" y="197"/>
                  <a:pt x="500" y="156"/>
                </a:cubicBezTo>
                <a:cubicBezTo>
                  <a:pt x="494" y="133"/>
                  <a:pt x="493" y="106"/>
                  <a:pt x="482" y="84"/>
                </a:cubicBezTo>
                <a:cubicBezTo>
                  <a:pt x="468" y="55"/>
                  <a:pt x="458" y="32"/>
                  <a:pt x="452" y="0"/>
                </a:cubicBezTo>
                <a:cubicBezTo>
                  <a:pt x="441" y="32"/>
                  <a:pt x="434" y="75"/>
                  <a:pt x="416" y="102"/>
                </a:cubicBezTo>
                <a:cubicBezTo>
                  <a:pt x="419" y="118"/>
                  <a:pt x="428" y="134"/>
                  <a:pt x="428" y="150"/>
                </a:cubicBezTo>
                <a:cubicBezTo>
                  <a:pt x="428" y="172"/>
                  <a:pt x="422" y="194"/>
                  <a:pt x="422" y="216"/>
                </a:cubicBezTo>
                <a:lnTo>
                  <a:pt x="428" y="138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43"/>
          <p:cNvSpPr/>
          <p:nvPr/>
        </p:nvSpPr>
        <p:spPr>
          <a:xfrm flipH="1">
            <a:off x="1763640" y="3933720"/>
            <a:ext cx="936720" cy="1366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44"/>
          <p:cNvSpPr/>
          <p:nvPr/>
        </p:nvSpPr>
        <p:spPr>
          <a:xfrm flipV="1">
            <a:off x="1979640" y="4220640"/>
            <a:ext cx="1655640" cy="10796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Freeform 31"/>
          <p:cNvSpPr/>
          <p:nvPr/>
        </p:nvSpPr>
        <p:spPr>
          <a:xfrm rot="21174000">
            <a:off x="250920" y="1915920"/>
            <a:ext cx="215640" cy="701640"/>
          </a:xfrm>
          <a:custGeom>
            <a:avLst/>
            <a:gdLst>
              <a:gd name="textAreaLeft" fmla="*/ 0 w 215640"/>
              <a:gd name="textAreaRight" fmla="*/ 216000 w 21564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1085" h="1746">
                <a:moveTo>
                  <a:pt x="428" y="138"/>
                </a:moveTo>
                <a:cubicBezTo>
                  <a:pt x="413" y="199"/>
                  <a:pt x="406" y="258"/>
                  <a:pt x="386" y="318"/>
                </a:cubicBezTo>
                <a:cubicBezTo>
                  <a:pt x="377" y="344"/>
                  <a:pt x="365" y="364"/>
                  <a:pt x="356" y="390"/>
                </a:cubicBezTo>
                <a:cubicBezTo>
                  <a:pt x="354" y="396"/>
                  <a:pt x="350" y="408"/>
                  <a:pt x="350" y="408"/>
                </a:cubicBezTo>
                <a:cubicBezTo>
                  <a:pt x="338" y="493"/>
                  <a:pt x="287" y="546"/>
                  <a:pt x="236" y="612"/>
                </a:cubicBezTo>
                <a:cubicBezTo>
                  <a:pt x="215" y="639"/>
                  <a:pt x="196" y="671"/>
                  <a:pt x="182" y="702"/>
                </a:cubicBezTo>
                <a:cubicBezTo>
                  <a:pt x="177" y="714"/>
                  <a:pt x="177" y="727"/>
                  <a:pt x="170" y="738"/>
                </a:cubicBezTo>
                <a:cubicBezTo>
                  <a:pt x="162" y="750"/>
                  <a:pt x="151" y="760"/>
                  <a:pt x="146" y="774"/>
                </a:cubicBezTo>
                <a:cubicBezTo>
                  <a:pt x="144" y="780"/>
                  <a:pt x="143" y="787"/>
                  <a:pt x="140" y="792"/>
                </a:cubicBezTo>
                <a:cubicBezTo>
                  <a:pt x="124" y="821"/>
                  <a:pt x="100" y="846"/>
                  <a:pt x="86" y="876"/>
                </a:cubicBezTo>
                <a:cubicBezTo>
                  <a:pt x="67" y="919"/>
                  <a:pt x="49" y="988"/>
                  <a:pt x="38" y="1032"/>
                </a:cubicBezTo>
                <a:cubicBezTo>
                  <a:pt x="34" y="1050"/>
                  <a:pt x="31" y="1068"/>
                  <a:pt x="26" y="1086"/>
                </a:cubicBezTo>
                <a:cubicBezTo>
                  <a:pt x="23" y="1098"/>
                  <a:pt x="14" y="1122"/>
                  <a:pt x="14" y="1122"/>
                </a:cubicBezTo>
                <a:cubicBezTo>
                  <a:pt x="10" y="1234"/>
                  <a:pt x="0" y="1332"/>
                  <a:pt x="44" y="1434"/>
                </a:cubicBezTo>
                <a:cubicBezTo>
                  <a:pt x="59" y="1470"/>
                  <a:pt x="85" y="1500"/>
                  <a:pt x="110" y="1530"/>
                </a:cubicBezTo>
                <a:cubicBezTo>
                  <a:pt x="125" y="1548"/>
                  <a:pt x="164" y="1572"/>
                  <a:pt x="164" y="1572"/>
                </a:cubicBezTo>
                <a:cubicBezTo>
                  <a:pt x="180" y="1621"/>
                  <a:pt x="221" y="1641"/>
                  <a:pt x="266" y="1656"/>
                </a:cubicBezTo>
                <a:cubicBezTo>
                  <a:pt x="273" y="1658"/>
                  <a:pt x="277" y="1665"/>
                  <a:pt x="284" y="1668"/>
                </a:cubicBezTo>
                <a:cubicBezTo>
                  <a:pt x="349" y="1697"/>
                  <a:pt x="415" y="1724"/>
                  <a:pt x="482" y="1746"/>
                </a:cubicBezTo>
                <a:cubicBezTo>
                  <a:pt x="720" y="1738"/>
                  <a:pt x="604" y="1742"/>
                  <a:pt x="734" y="1716"/>
                </a:cubicBezTo>
                <a:cubicBezTo>
                  <a:pt x="764" y="1696"/>
                  <a:pt x="801" y="1683"/>
                  <a:pt x="836" y="1674"/>
                </a:cubicBezTo>
                <a:cubicBezTo>
                  <a:pt x="879" y="1645"/>
                  <a:pt x="858" y="1653"/>
                  <a:pt x="896" y="1644"/>
                </a:cubicBezTo>
                <a:cubicBezTo>
                  <a:pt x="931" y="1618"/>
                  <a:pt x="966" y="1595"/>
                  <a:pt x="992" y="1560"/>
                </a:cubicBezTo>
                <a:cubicBezTo>
                  <a:pt x="1021" y="1473"/>
                  <a:pt x="1052" y="1388"/>
                  <a:pt x="1070" y="1296"/>
                </a:cubicBezTo>
                <a:cubicBezTo>
                  <a:pt x="1074" y="1193"/>
                  <a:pt x="1085" y="1065"/>
                  <a:pt x="1052" y="966"/>
                </a:cubicBezTo>
                <a:cubicBezTo>
                  <a:pt x="1045" y="945"/>
                  <a:pt x="1028" y="930"/>
                  <a:pt x="1016" y="912"/>
                </a:cubicBezTo>
                <a:cubicBezTo>
                  <a:pt x="1008" y="899"/>
                  <a:pt x="1006" y="883"/>
                  <a:pt x="998" y="870"/>
                </a:cubicBezTo>
                <a:cubicBezTo>
                  <a:pt x="974" y="828"/>
                  <a:pt x="954" y="785"/>
                  <a:pt x="926" y="744"/>
                </a:cubicBezTo>
                <a:cubicBezTo>
                  <a:pt x="895" y="697"/>
                  <a:pt x="839" y="681"/>
                  <a:pt x="800" y="642"/>
                </a:cubicBezTo>
                <a:cubicBezTo>
                  <a:pt x="773" y="615"/>
                  <a:pt x="749" y="585"/>
                  <a:pt x="722" y="558"/>
                </a:cubicBezTo>
                <a:cubicBezTo>
                  <a:pt x="679" y="515"/>
                  <a:pt x="654" y="459"/>
                  <a:pt x="626" y="408"/>
                </a:cubicBezTo>
                <a:cubicBezTo>
                  <a:pt x="606" y="372"/>
                  <a:pt x="559" y="316"/>
                  <a:pt x="548" y="282"/>
                </a:cubicBezTo>
                <a:cubicBezTo>
                  <a:pt x="534" y="241"/>
                  <a:pt x="510" y="197"/>
                  <a:pt x="500" y="156"/>
                </a:cubicBezTo>
                <a:cubicBezTo>
                  <a:pt x="494" y="133"/>
                  <a:pt x="493" y="106"/>
                  <a:pt x="482" y="84"/>
                </a:cubicBezTo>
                <a:cubicBezTo>
                  <a:pt x="468" y="55"/>
                  <a:pt x="458" y="32"/>
                  <a:pt x="452" y="0"/>
                </a:cubicBezTo>
                <a:cubicBezTo>
                  <a:pt x="441" y="32"/>
                  <a:pt x="434" y="75"/>
                  <a:pt x="416" y="102"/>
                </a:cubicBezTo>
                <a:cubicBezTo>
                  <a:pt x="419" y="118"/>
                  <a:pt x="428" y="134"/>
                  <a:pt x="428" y="150"/>
                </a:cubicBezTo>
                <a:cubicBezTo>
                  <a:pt x="428" y="172"/>
                  <a:pt x="422" y="194"/>
                  <a:pt x="422" y="216"/>
                </a:cubicBezTo>
                <a:lnTo>
                  <a:pt x="428" y="138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Freeform 32"/>
          <p:cNvSpPr/>
          <p:nvPr/>
        </p:nvSpPr>
        <p:spPr>
          <a:xfrm rot="21174000">
            <a:off x="684360" y="1988640"/>
            <a:ext cx="215640" cy="701640"/>
          </a:xfrm>
          <a:custGeom>
            <a:avLst/>
            <a:gdLst>
              <a:gd name="textAreaLeft" fmla="*/ 0 w 215640"/>
              <a:gd name="textAreaRight" fmla="*/ 216000 w 21564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1085" h="1746">
                <a:moveTo>
                  <a:pt x="428" y="138"/>
                </a:moveTo>
                <a:cubicBezTo>
                  <a:pt x="413" y="199"/>
                  <a:pt x="406" y="258"/>
                  <a:pt x="386" y="318"/>
                </a:cubicBezTo>
                <a:cubicBezTo>
                  <a:pt x="377" y="344"/>
                  <a:pt x="365" y="364"/>
                  <a:pt x="356" y="390"/>
                </a:cubicBezTo>
                <a:cubicBezTo>
                  <a:pt x="354" y="396"/>
                  <a:pt x="350" y="408"/>
                  <a:pt x="350" y="408"/>
                </a:cubicBezTo>
                <a:cubicBezTo>
                  <a:pt x="338" y="493"/>
                  <a:pt x="287" y="546"/>
                  <a:pt x="236" y="612"/>
                </a:cubicBezTo>
                <a:cubicBezTo>
                  <a:pt x="215" y="639"/>
                  <a:pt x="196" y="671"/>
                  <a:pt x="182" y="702"/>
                </a:cubicBezTo>
                <a:cubicBezTo>
                  <a:pt x="177" y="714"/>
                  <a:pt x="177" y="727"/>
                  <a:pt x="170" y="738"/>
                </a:cubicBezTo>
                <a:cubicBezTo>
                  <a:pt x="162" y="750"/>
                  <a:pt x="151" y="760"/>
                  <a:pt x="146" y="774"/>
                </a:cubicBezTo>
                <a:cubicBezTo>
                  <a:pt x="144" y="780"/>
                  <a:pt x="143" y="787"/>
                  <a:pt x="140" y="792"/>
                </a:cubicBezTo>
                <a:cubicBezTo>
                  <a:pt x="124" y="821"/>
                  <a:pt x="100" y="846"/>
                  <a:pt x="86" y="876"/>
                </a:cubicBezTo>
                <a:cubicBezTo>
                  <a:pt x="67" y="919"/>
                  <a:pt x="49" y="988"/>
                  <a:pt x="38" y="1032"/>
                </a:cubicBezTo>
                <a:cubicBezTo>
                  <a:pt x="34" y="1050"/>
                  <a:pt x="31" y="1068"/>
                  <a:pt x="26" y="1086"/>
                </a:cubicBezTo>
                <a:cubicBezTo>
                  <a:pt x="23" y="1098"/>
                  <a:pt x="14" y="1122"/>
                  <a:pt x="14" y="1122"/>
                </a:cubicBezTo>
                <a:cubicBezTo>
                  <a:pt x="10" y="1234"/>
                  <a:pt x="0" y="1332"/>
                  <a:pt x="44" y="1434"/>
                </a:cubicBezTo>
                <a:cubicBezTo>
                  <a:pt x="59" y="1470"/>
                  <a:pt x="85" y="1500"/>
                  <a:pt x="110" y="1530"/>
                </a:cubicBezTo>
                <a:cubicBezTo>
                  <a:pt x="125" y="1548"/>
                  <a:pt x="164" y="1572"/>
                  <a:pt x="164" y="1572"/>
                </a:cubicBezTo>
                <a:cubicBezTo>
                  <a:pt x="180" y="1621"/>
                  <a:pt x="221" y="1641"/>
                  <a:pt x="266" y="1656"/>
                </a:cubicBezTo>
                <a:cubicBezTo>
                  <a:pt x="273" y="1658"/>
                  <a:pt x="277" y="1665"/>
                  <a:pt x="284" y="1668"/>
                </a:cubicBezTo>
                <a:cubicBezTo>
                  <a:pt x="349" y="1697"/>
                  <a:pt x="415" y="1724"/>
                  <a:pt x="482" y="1746"/>
                </a:cubicBezTo>
                <a:cubicBezTo>
                  <a:pt x="720" y="1738"/>
                  <a:pt x="604" y="1742"/>
                  <a:pt x="734" y="1716"/>
                </a:cubicBezTo>
                <a:cubicBezTo>
                  <a:pt x="764" y="1696"/>
                  <a:pt x="801" y="1683"/>
                  <a:pt x="836" y="1674"/>
                </a:cubicBezTo>
                <a:cubicBezTo>
                  <a:pt x="879" y="1645"/>
                  <a:pt x="858" y="1653"/>
                  <a:pt x="896" y="1644"/>
                </a:cubicBezTo>
                <a:cubicBezTo>
                  <a:pt x="931" y="1618"/>
                  <a:pt x="966" y="1595"/>
                  <a:pt x="992" y="1560"/>
                </a:cubicBezTo>
                <a:cubicBezTo>
                  <a:pt x="1021" y="1473"/>
                  <a:pt x="1052" y="1388"/>
                  <a:pt x="1070" y="1296"/>
                </a:cubicBezTo>
                <a:cubicBezTo>
                  <a:pt x="1074" y="1193"/>
                  <a:pt x="1085" y="1065"/>
                  <a:pt x="1052" y="966"/>
                </a:cubicBezTo>
                <a:cubicBezTo>
                  <a:pt x="1045" y="945"/>
                  <a:pt x="1028" y="930"/>
                  <a:pt x="1016" y="912"/>
                </a:cubicBezTo>
                <a:cubicBezTo>
                  <a:pt x="1008" y="899"/>
                  <a:pt x="1006" y="883"/>
                  <a:pt x="998" y="870"/>
                </a:cubicBezTo>
                <a:cubicBezTo>
                  <a:pt x="974" y="828"/>
                  <a:pt x="954" y="785"/>
                  <a:pt x="926" y="744"/>
                </a:cubicBezTo>
                <a:cubicBezTo>
                  <a:pt x="895" y="697"/>
                  <a:pt x="839" y="681"/>
                  <a:pt x="800" y="642"/>
                </a:cubicBezTo>
                <a:cubicBezTo>
                  <a:pt x="773" y="615"/>
                  <a:pt x="749" y="585"/>
                  <a:pt x="722" y="558"/>
                </a:cubicBezTo>
                <a:cubicBezTo>
                  <a:pt x="679" y="515"/>
                  <a:pt x="654" y="459"/>
                  <a:pt x="626" y="408"/>
                </a:cubicBezTo>
                <a:cubicBezTo>
                  <a:pt x="606" y="372"/>
                  <a:pt x="559" y="316"/>
                  <a:pt x="548" y="282"/>
                </a:cubicBezTo>
                <a:cubicBezTo>
                  <a:pt x="534" y="241"/>
                  <a:pt x="510" y="197"/>
                  <a:pt x="500" y="156"/>
                </a:cubicBezTo>
                <a:cubicBezTo>
                  <a:pt x="494" y="133"/>
                  <a:pt x="493" y="106"/>
                  <a:pt x="482" y="84"/>
                </a:cubicBezTo>
                <a:cubicBezTo>
                  <a:pt x="468" y="55"/>
                  <a:pt x="458" y="32"/>
                  <a:pt x="452" y="0"/>
                </a:cubicBezTo>
                <a:cubicBezTo>
                  <a:pt x="441" y="32"/>
                  <a:pt x="434" y="75"/>
                  <a:pt x="416" y="102"/>
                </a:cubicBezTo>
                <a:cubicBezTo>
                  <a:pt x="419" y="118"/>
                  <a:pt x="428" y="134"/>
                  <a:pt x="428" y="150"/>
                </a:cubicBezTo>
                <a:cubicBezTo>
                  <a:pt x="428" y="172"/>
                  <a:pt x="422" y="194"/>
                  <a:pt x="422" y="216"/>
                </a:cubicBezTo>
                <a:lnTo>
                  <a:pt x="428" y="138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Freeform 33"/>
          <p:cNvSpPr/>
          <p:nvPr/>
        </p:nvSpPr>
        <p:spPr>
          <a:xfrm rot="21174000">
            <a:off x="1116000" y="2060640"/>
            <a:ext cx="216000" cy="701640"/>
          </a:xfrm>
          <a:custGeom>
            <a:avLst/>
            <a:gdLst>
              <a:gd name="textAreaLeft" fmla="*/ 0 w 216000"/>
              <a:gd name="textAreaRight" fmla="*/ 216360 w 21600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1085" h="1746">
                <a:moveTo>
                  <a:pt x="428" y="138"/>
                </a:moveTo>
                <a:cubicBezTo>
                  <a:pt x="413" y="199"/>
                  <a:pt x="406" y="258"/>
                  <a:pt x="386" y="318"/>
                </a:cubicBezTo>
                <a:cubicBezTo>
                  <a:pt x="377" y="344"/>
                  <a:pt x="365" y="364"/>
                  <a:pt x="356" y="390"/>
                </a:cubicBezTo>
                <a:cubicBezTo>
                  <a:pt x="354" y="396"/>
                  <a:pt x="350" y="408"/>
                  <a:pt x="350" y="408"/>
                </a:cubicBezTo>
                <a:cubicBezTo>
                  <a:pt x="338" y="493"/>
                  <a:pt x="287" y="546"/>
                  <a:pt x="236" y="612"/>
                </a:cubicBezTo>
                <a:cubicBezTo>
                  <a:pt x="215" y="639"/>
                  <a:pt x="196" y="671"/>
                  <a:pt x="182" y="702"/>
                </a:cubicBezTo>
                <a:cubicBezTo>
                  <a:pt x="177" y="714"/>
                  <a:pt x="177" y="727"/>
                  <a:pt x="170" y="738"/>
                </a:cubicBezTo>
                <a:cubicBezTo>
                  <a:pt x="162" y="750"/>
                  <a:pt x="151" y="760"/>
                  <a:pt x="146" y="774"/>
                </a:cubicBezTo>
                <a:cubicBezTo>
                  <a:pt x="144" y="780"/>
                  <a:pt x="143" y="787"/>
                  <a:pt x="140" y="792"/>
                </a:cubicBezTo>
                <a:cubicBezTo>
                  <a:pt x="124" y="821"/>
                  <a:pt x="100" y="846"/>
                  <a:pt x="86" y="876"/>
                </a:cubicBezTo>
                <a:cubicBezTo>
                  <a:pt x="67" y="919"/>
                  <a:pt x="49" y="988"/>
                  <a:pt x="38" y="1032"/>
                </a:cubicBezTo>
                <a:cubicBezTo>
                  <a:pt x="34" y="1050"/>
                  <a:pt x="31" y="1068"/>
                  <a:pt x="26" y="1086"/>
                </a:cubicBezTo>
                <a:cubicBezTo>
                  <a:pt x="23" y="1098"/>
                  <a:pt x="14" y="1122"/>
                  <a:pt x="14" y="1122"/>
                </a:cubicBezTo>
                <a:cubicBezTo>
                  <a:pt x="10" y="1234"/>
                  <a:pt x="0" y="1332"/>
                  <a:pt x="44" y="1434"/>
                </a:cubicBezTo>
                <a:cubicBezTo>
                  <a:pt x="59" y="1470"/>
                  <a:pt x="85" y="1500"/>
                  <a:pt x="110" y="1530"/>
                </a:cubicBezTo>
                <a:cubicBezTo>
                  <a:pt x="125" y="1548"/>
                  <a:pt x="164" y="1572"/>
                  <a:pt x="164" y="1572"/>
                </a:cubicBezTo>
                <a:cubicBezTo>
                  <a:pt x="180" y="1621"/>
                  <a:pt x="221" y="1641"/>
                  <a:pt x="266" y="1656"/>
                </a:cubicBezTo>
                <a:cubicBezTo>
                  <a:pt x="273" y="1658"/>
                  <a:pt x="277" y="1665"/>
                  <a:pt x="284" y="1668"/>
                </a:cubicBezTo>
                <a:cubicBezTo>
                  <a:pt x="349" y="1697"/>
                  <a:pt x="415" y="1724"/>
                  <a:pt x="482" y="1746"/>
                </a:cubicBezTo>
                <a:cubicBezTo>
                  <a:pt x="720" y="1738"/>
                  <a:pt x="604" y="1742"/>
                  <a:pt x="734" y="1716"/>
                </a:cubicBezTo>
                <a:cubicBezTo>
                  <a:pt x="764" y="1696"/>
                  <a:pt x="801" y="1683"/>
                  <a:pt x="836" y="1674"/>
                </a:cubicBezTo>
                <a:cubicBezTo>
                  <a:pt x="879" y="1645"/>
                  <a:pt x="858" y="1653"/>
                  <a:pt x="896" y="1644"/>
                </a:cubicBezTo>
                <a:cubicBezTo>
                  <a:pt x="931" y="1618"/>
                  <a:pt x="966" y="1595"/>
                  <a:pt x="992" y="1560"/>
                </a:cubicBezTo>
                <a:cubicBezTo>
                  <a:pt x="1021" y="1473"/>
                  <a:pt x="1052" y="1388"/>
                  <a:pt x="1070" y="1296"/>
                </a:cubicBezTo>
                <a:cubicBezTo>
                  <a:pt x="1074" y="1193"/>
                  <a:pt x="1085" y="1065"/>
                  <a:pt x="1052" y="966"/>
                </a:cubicBezTo>
                <a:cubicBezTo>
                  <a:pt x="1045" y="945"/>
                  <a:pt x="1028" y="930"/>
                  <a:pt x="1016" y="912"/>
                </a:cubicBezTo>
                <a:cubicBezTo>
                  <a:pt x="1008" y="899"/>
                  <a:pt x="1006" y="883"/>
                  <a:pt x="998" y="870"/>
                </a:cubicBezTo>
                <a:cubicBezTo>
                  <a:pt x="974" y="828"/>
                  <a:pt x="954" y="785"/>
                  <a:pt x="926" y="744"/>
                </a:cubicBezTo>
                <a:cubicBezTo>
                  <a:pt x="895" y="697"/>
                  <a:pt x="839" y="681"/>
                  <a:pt x="800" y="642"/>
                </a:cubicBezTo>
                <a:cubicBezTo>
                  <a:pt x="773" y="615"/>
                  <a:pt x="749" y="585"/>
                  <a:pt x="722" y="558"/>
                </a:cubicBezTo>
                <a:cubicBezTo>
                  <a:pt x="679" y="515"/>
                  <a:pt x="654" y="459"/>
                  <a:pt x="626" y="408"/>
                </a:cubicBezTo>
                <a:cubicBezTo>
                  <a:pt x="606" y="372"/>
                  <a:pt x="559" y="316"/>
                  <a:pt x="548" y="282"/>
                </a:cubicBezTo>
                <a:cubicBezTo>
                  <a:pt x="534" y="241"/>
                  <a:pt x="510" y="197"/>
                  <a:pt x="500" y="156"/>
                </a:cubicBezTo>
                <a:cubicBezTo>
                  <a:pt x="494" y="133"/>
                  <a:pt x="493" y="106"/>
                  <a:pt x="482" y="84"/>
                </a:cubicBezTo>
                <a:cubicBezTo>
                  <a:pt x="468" y="55"/>
                  <a:pt x="458" y="32"/>
                  <a:pt x="452" y="0"/>
                </a:cubicBezTo>
                <a:cubicBezTo>
                  <a:pt x="441" y="32"/>
                  <a:pt x="434" y="75"/>
                  <a:pt x="416" y="102"/>
                </a:cubicBezTo>
                <a:cubicBezTo>
                  <a:pt x="419" y="118"/>
                  <a:pt x="428" y="134"/>
                  <a:pt x="428" y="150"/>
                </a:cubicBezTo>
                <a:cubicBezTo>
                  <a:pt x="428" y="172"/>
                  <a:pt x="422" y="194"/>
                  <a:pt x="422" y="216"/>
                </a:cubicBezTo>
                <a:lnTo>
                  <a:pt x="428" y="138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AutoShape 45"/>
          <p:cNvSpPr/>
          <p:nvPr/>
        </p:nvSpPr>
        <p:spPr>
          <a:xfrm rot="21417600">
            <a:off x="3209400" y="1157040"/>
            <a:ext cx="2508480" cy="1909800"/>
          </a:xfrm>
          <a:prstGeom prst="cloudCallout">
            <a:avLst>
              <a:gd name="adj1" fmla="val -112870"/>
              <a:gd name="adj2" fmla="val 16353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8"/>
          <p:cNvSpPr/>
          <p:nvPr/>
        </p:nvSpPr>
        <p:spPr>
          <a:xfrm>
            <a:off x="108000" y="2133720"/>
            <a:ext cx="230328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ЛАЖ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ЫСКИВАНИ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ГРУЖЕНИЕ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ТВ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Picture 1024" descr="AN00460_"/>
          <p:cNvPicPr/>
          <p:nvPr/>
        </p:nvPicPr>
        <p:blipFill>
          <a:blip r:embed="rId2"/>
          <a:stretch/>
        </p:blipFill>
        <p:spPr>
          <a:xfrm rot="4351800">
            <a:off x="3508560" y="3296160"/>
            <a:ext cx="750960" cy="86364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1025" descr="AN00460_"/>
          <p:cNvPicPr/>
          <p:nvPr/>
        </p:nvPicPr>
        <p:blipFill>
          <a:blip r:embed="rId3"/>
          <a:stretch/>
        </p:blipFill>
        <p:spPr>
          <a:xfrm rot="17631600">
            <a:off x="754920" y="765720"/>
            <a:ext cx="936720" cy="107784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1026" descr="AN00460_"/>
          <p:cNvPicPr/>
          <p:nvPr/>
        </p:nvPicPr>
        <p:blipFill>
          <a:blip r:embed="rId4"/>
          <a:stretch/>
        </p:blipFill>
        <p:spPr>
          <a:xfrm rot="4351800">
            <a:off x="7867800" y="3516840"/>
            <a:ext cx="750960" cy="863640"/>
          </a:xfrm>
          <a:prstGeom prst="rect">
            <a:avLst/>
          </a:prstGeom>
          <a:ln w="0">
            <a:noFill/>
          </a:ln>
        </p:spPr>
      </p:pic>
      <p:sp>
        <p:nvSpPr>
          <p:cNvPr id="74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4 -0.08933 -0.046 -0.16667 -0.113 -0.172 C -0.177 -0.17867 -0.237 -0.11867 -0.241 -0.032 C -0.246 0.048 -0.204 0.12267 -0.144 0.128 C -0.089 0.132 -0.037 0.08267 -0.033 0.008 C -0.029 -0.06 -0.064 -0.124 -0.115 -0.12933 C -0.162 -0.13333 -0.206 -0.092 -0.209 -0.02933 C -0.212 0.02667 -0.184 0.08133 -0.142 0.084 C -0.104 0.088 -0.068 0.056 -0.065 0.00533 C -0.063 -0.04 -0.084 -0.084 -0.117 -0.08667 C -0.146 -0.08933 -0.175 -0.06533 -0.177 -0.02667 C -0.179 0.00667 -0.164 0.03867 -0.14 0.04133 C -0.12 0.044 -0.099 0.02933 -0.098 0.00267 C -0.096 -0.01867 -0.104 -0.04133 -0.119 -0.044 C -0.131 -0.044 -0.143 -0.03867 -0.145 -0.024 C -0.146 -0.01467 -0.144 -0.00533 -0.138 -0.00133 C -0.135 0 -0.133 0 -0.13 -0.00133 E">
                                      <p:cBhvr>
                                        <p:cTn id="89" dur="2000" fill="hold"/>
                                        <p:tgtEl>
                                          <p:spTgt spid="7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121 -0.2956 L 0.44531 -0.6 E">
                                      <p:cBhvr>
                                        <p:cTn id="93" dur="2000" fill="hold"/>
                                        <p:tgtEl>
                                          <p:spTgt spid="7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274 0.05787 C -0.06875 -0.03148 -0.11875 -0.1088 -0.18576 -0.11412 C -0.24983 -0.12084 -0.30972 -0.06088 -0.31371 0.02592 C -0.31875 0.10578 -0.27674 0.18055 -0.21667 0.18588 C -0.16181 0.18981 -0.10972 0.14051 -0.10573 0.06597 C -0.10174 -0.00208999999999999 -0.13681 -0.06621 -0.18767 -0.07153 C -0.23472 -0.07547 -0.27882 -0.03403 -0.28177 0.02847 C -0.28472 0.08449 -0.25677 0.13912 -0.21476 0.1419 C -0.17674 0.14583 -0.1408 0.11389 -0.13767 0.06319 C -0.13576 0.01782 -0.15677 -0.02616 -0.18958 -0.02871 C -0.21875 -0.03148 -0.24774 -0.00741 -0.24983 0.03125 C -0.25174 0.06458 -0.23681 0.09653 -0.21267 0.0993 C -0.19271 0.10185 -0.1717 0.08727 -0.17066 0.06065 C -0.16875 0.03912 -0.17674 0.01643 -0.19167 0.01389 C -0.20382 0.01389 -0.2158 0.01921 -0.21771 0.03379 C -0.21875 0.04328 -0.21667 0.05254 -0.21076 0.05648 C -0.20781 0.05787 -0.20573 0.05787 -0.20278 0.05648 E">
                                      <p:cBhvr>
                                        <p:cTn id="97" dur="2000" fill="hold"/>
                                        <p:tgtEl>
                                          <p:spTgt spid="7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33 E">
                                      <p:cBhvr>
                                        <p:cTn id="101" dur="2000" fill="hold"/>
                                        <p:tgtEl>
                                          <p:spTgt spid="7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Picture 2" descr="AN00460_"/>
          <p:cNvPicPr/>
          <p:nvPr/>
        </p:nvPicPr>
        <p:blipFill>
          <a:blip r:embed="rId1"/>
          <a:stretch/>
        </p:blipFill>
        <p:spPr>
          <a:xfrm>
            <a:off x="8028000" y="6021360"/>
            <a:ext cx="936720" cy="1077840"/>
          </a:xfrm>
          <a:prstGeom prst="rect">
            <a:avLst/>
          </a:prstGeom>
          <a:ln w="0">
            <a:noFill/>
          </a:ln>
        </p:spPr>
      </p:pic>
      <p:sp>
        <p:nvSpPr>
          <p:cNvPr id="74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5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66 0.008 -0.115 0.028 -0.115 0.044 C -0.115 0.05867 -0.067 0.06933 -0.003 0.06933 C 0.061 0.06933 0.115 0.05867 0.115 0.044 C 0.115 0.028 0.059 0.024 -0.005 0.03467 C -0.068 0.04667 -0.115 0.06667 -0.115 0.08133 C -0.115 0.096 -0.066 0.108 -0.003 0.108 C 0.061 0.108 0.115 0.096 0.115 0.08133 C 0.115 0.06667 0.059 0.06267 -0.004 0.07333 C -0.068 0.084 -0.115 0.104 -0.115 0.11867 C -0.115 0.13467 -0.066 0.14667 -0.002 0.14667 C 0.061 0.14667 0.115 0.13467 0.115 0.11867 C 0.115 0.10533 0.059 0.10133 -0.004 0.11067 C -0.067 0.12133 -0.115 0.14267 -0.115 0.15733 C -0.115 0.172 -0.065 0.184 -0.002 0.184 C 0.063 0.184 0.115 0.172 0.115 0.15733 C 0.115 0.14267 0.06 0.13867 -0.003 0.14933 C -0.066 0.16 -0.115 0.18 -0.115 0.19467 C -0.115 0.21067 -0.065 0.22133 -0.001 0.22133 C 0.063 0.22133 0.115 0.20933 0.115 0.19467 C 0.115 0.18 0.06 0.176 -0.003 0.18667 C -0.066 0.19733 -0.115 0.21867 -0.115 0.232 C -0.115 0.24667 -0.064 0.25867 -0.001 0.25867 C 0.063 0.25867 0.115 0.24667 0.115 0.232 C 0.115 0.21867 0.061 0.21467 -0.003 0.224 C -0.066 0.23467 -0.115 0.256 -0.115 0.27067 C -0.115 0.284 -0.064 0.29733 0 0.29733 C 0.064 0.29733 0.115 0.28533 0.115 0.27067 C 0.115 0.256 0.061 0.252 -0.002 0.26267 C -0.065 0.27333 -0.116 0.29333 -0.115 0.308 C -0.114 0.32267 -0.064 0.33333 0 0.33333 C 0.064 0.33333 0.115 0.32133 0.115 0.30667 C 0.115 0.29333 0.063 0.28933 0 0.30133 E">
                                      <p:cBhvr>
                                        <p:cTn id="107" dur="2000" fill="hold"/>
                                        <p:tgtEl>
                                          <p:spTgt spid="7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6" name="Picture 2" descr="AN00460_"/>
          <p:cNvPicPr/>
          <p:nvPr/>
        </p:nvPicPr>
        <p:blipFill>
          <a:blip r:embed="rId1"/>
          <a:stretch/>
        </p:blipFill>
        <p:spPr>
          <a:xfrm>
            <a:off x="8028000" y="6021360"/>
            <a:ext cx="936720" cy="1077840"/>
          </a:xfrm>
          <a:prstGeom prst="rect">
            <a:avLst/>
          </a:prstGeom>
          <a:ln w="0">
            <a:noFill/>
          </a:ln>
        </p:spPr>
      </p:pic>
      <p:sp>
        <p:nvSpPr>
          <p:cNvPr id="74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113" dur="2000" fill="hold"/>
                                        <p:tgtEl>
                                          <p:spTgt spid="7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иды дезинфе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108000" y="981000"/>
          <a:ext cx="8928000" cy="5688000"/>
        </p:xfrm>
        <a:graphic>
          <a:graphicData uri="http://schemas.openxmlformats.org/drawingml/2006/table">
            <a:tbl>
              <a:tblPr/>
              <a:tblGrid>
                <a:gridCol w="2233440"/>
                <a:gridCol w="2517840"/>
                <a:gridCol w="1728720"/>
                <a:gridCol w="2448000"/>
              </a:tblGrid>
              <a:tr h="811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ФИЛАКТИЧЕСК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НУЖДЕНН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03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одится в благополучном хозяйстве с целью предупреждения возникновения болезн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одится при возникновении инфекционной болезн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пускова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хнологическа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куща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ключительна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 завершения строительства, накануне ввоза в помещение животных или завоза корм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одится в зависимости от технологии производств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одится системати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ски до ликвидации болезн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одится перед снятием карантина или ограничений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2"/>
          <p:cNvSpPr/>
          <p:nvPr/>
        </p:nvSpPr>
        <p:spPr>
          <a:xfrm>
            <a:off x="250920" y="1773360"/>
            <a:ext cx="2376360" cy="4751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"/>
          <p:cNvSpPr/>
          <p:nvPr/>
        </p:nvSpPr>
        <p:spPr>
          <a:xfrm>
            <a:off x="3492360" y="1773360"/>
            <a:ext cx="2376720" cy="4751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4"/>
          <p:cNvSpPr/>
          <p:nvPr/>
        </p:nvSpPr>
        <p:spPr>
          <a:xfrm>
            <a:off x="6227640" y="1773360"/>
            <a:ext cx="2448000" cy="1295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5"/>
          <p:cNvSpPr/>
          <p:nvPr/>
        </p:nvSpPr>
        <p:spPr>
          <a:xfrm>
            <a:off x="1908000" y="333360"/>
            <a:ext cx="4608720" cy="6476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6"/>
          <p:cNvSpPr/>
          <p:nvPr/>
        </p:nvSpPr>
        <p:spPr>
          <a:xfrm>
            <a:off x="3708360" y="1125360"/>
            <a:ext cx="1655640" cy="5749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7"/>
          <p:cNvSpPr/>
          <p:nvPr/>
        </p:nvSpPr>
        <p:spPr>
          <a:xfrm>
            <a:off x="6300720" y="1125360"/>
            <a:ext cx="1873440" cy="5749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8"/>
          <p:cNvSpPr/>
          <p:nvPr/>
        </p:nvSpPr>
        <p:spPr>
          <a:xfrm>
            <a:off x="900000" y="1125360"/>
            <a:ext cx="1511280" cy="5749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9"/>
          <p:cNvSpPr/>
          <p:nvPr/>
        </p:nvSpPr>
        <p:spPr>
          <a:xfrm>
            <a:off x="1533600" y="399240"/>
            <a:ext cx="563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Средства  дезинфе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8" name=""/>
          <p:cNvGraphicFramePr/>
          <p:nvPr/>
        </p:nvGraphicFramePr>
        <p:xfrm>
          <a:off x="250920" y="1125360"/>
          <a:ext cx="8569080" cy="5543640"/>
        </p:xfrm>
        <a:graphic>
          <a:graphicData uri="http://schemas.openxmlformats.org/drawingml/2006/table">
            <a:tbl>
              <a:tblPr/>
              <a:tblGrid>
                <a:gridCol w="2855880"/>
                <a:gridCol w="2905200"/>
                <a:gridCol w="2808000"/>
              </a:tblGrid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чес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логичес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механическая очист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кисл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микробы- антогонис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солнечный св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щёлоч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термофильные микоб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УФ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хлоросодержащ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сухой ж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фенолы и крео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перегретый п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формальдеги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кипяч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соли тяжёлых метал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высуши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препараты други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гамма луч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моющие сред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 ультразву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ые требования предъявляемые к дезинфектан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179280" y="1276200"/>
            <a:ext cx="8856720" cy="49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 обладать достаточной бактерицидност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 не иметь стойкого неприятного запа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 хорошо растворяться в воде или давать с ней стойкие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муль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 проявлять дезинфицирующее действие в любой сре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 не портить обрабатываемые предме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 быть доступным и  дешев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 удобными при транспортировк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 обладать высокой стабильностью при хран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 обладать низкой токсичностью для человека,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ельскохозяйственных животных и пт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 обладать низкой коррозионной активностью в отношении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азличных конструктивных материа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 наиболее важным показателем является экологическая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безопас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2"/>
          <p:cNvSpPr/>
          <p:nvPr/>
        </p:nvSpPr>
        <p:spPr>
          <a:xfrm>
            <a:off x="0" y="-51120"/>
            <a:ext cx="9036000" cy="69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Химические дезинфектан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).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ислоты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соляная, молочная, муравьиная, уксусная, щавелевая, надуксусная, дезоксан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).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Щелочи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(едкий натр, едкое кали, гашеная известь- пушонк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альцинированная (двууглекислая сода), карбонат калия (поташ), демп (комплексное соединение)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).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Хлорсодержащие препараты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(хлорная известь - получается пут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пускания газа-хлора через гашеную известь \пушенку\, содержит 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енее 25% активного хлора, гипохлорит кальция, хлорамин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изводные гидантиона, соли изоциануровой кислоты, однохлористый йод.и д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).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Фенолы и крезолы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(фенол, крезол, феносмолин, креолин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5).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(Форм)альдегиды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(формалин, пароформ, метафор, паросод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оспар и др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6).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оли тяжелых металлов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(медный купорос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7).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репараты других групп (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пирты, иодоформ, оксиды, соединения бром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8).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Моющие средства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2" descr="Укладка навоза0"/>
          <p:cNvPicPr/>
          <p:nvPr/>
        </p:nvPicPr>
        <p:blipFill>
          <a:blip r:embed="rId1"/>
          <a:srcRect l="0" t="-259" r="1563" b="0"/>
          <a:stretch/>
        </p:blipFill>
        <p:spPr>
          <a:xfrm>
            <a:off x="457200" y="380880"/>
            <a:ext cx="8209080" cy="5996160"/>
          </a:xfrm>
          <a:prstGeom prst="rect">
            <a:avLst/>
          </a:prstGeom>
          <a:ln w="0">
            <a:noFill/>
          </a:ln>
        </p:spPr>
      </p:pic>
      <p:sp>
        <p:nvSpPr>
          <p:cNvPr id="54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-181080" y="333000"/>
            <a:ext cx="8856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езинфекци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3"/>
          <p:cNvSpPr/>
          <p:nvPr/>
        </p:nvSpPr>
        <p:spPr>
          <a:xfrm>
            <a:off x="0" y="160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457200" y="993600"/>
          <a:ext cx="8229600" cy="6340680"/>
        </p:xfrm>
        <a:graphic>
          <a:graphicData uri="http://schemas.openxmlformats.org/drawingml/2006/table">
            <a:tbl>
              <a:tblPr/>
              <a:tblGrid>
                <a:gridCol w="4116240"/>
                <a:gridCol w="4113360"/>
              </a:tblGrid>
              <a:tr h="1066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Влаж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ьющей струёй, факельное распыление , опрыскивание,погружение в раство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Сухой                                                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ыпка порошками,опыливание дез.посолочные смес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Аэрозоль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паратный, безаппарат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Газов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мерный, под искусственным покрыти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3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0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12-31T12:49:34Z</dcterms:modified>
  <cp:revision>24</cp:revision>
  <dc:subject/>
  <dc:title>ФЕДЕРАЛЬНОЕ ГОСУДАРСТВЕННОЕ ОБРАЗОВАТЕЛЬНОЕ УЧЕРЕЖДЕНИЕ ВЫСШЕГО ПРОФЕССИОНАЛЬНОГО ОБРАЗОВАНИЯ «МОСКОВСКАЯ ГОСУДАРСТВЕННАЯ АКАДЕМИЯ ВЕТЕРИНАРНОЙ МЕДИЦИНЫ И БИОТЕХНОЛОГИИ им</dc:title>
</cp:coreProperties>
</file>