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B885-A9B4-4927-8573-D6B0823C3C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 Канищев В. В. (НИЦ ФГКУ»№№ ЦНИИИ МО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ремеева Н.И. (УНИИФ Росмед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циональная концепция профилактики инфекций, связанных с оказанием медицинской помощи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а Главным государственным санитарным врачом   РФ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 ноября 2011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1. Повышение эффективности дезинфекционных и стерилизационных меропри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с отсутствием во многих случаях должной квалифицированной его экспертной оцен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 7 -Динамика внедрения дезсредств и качества их экспертизы пр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2005 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спытания, регистрации и сертификации дезсредст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5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аяся ситуация с дезинфицирующими средствами – это «Дезинфектологический  тупик»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«Де факто» узаконено обращение и применение в практике большого количества дезсредств (более 50%) , имеющих явно искусственно завышенные по эффективности или нереальные для состава ДВ режимы применения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спользование таких дезсредств в ЛП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препятствует, а способствует возможности появления, накопления и циркуляции в ЛПО возбудителей ВБИ с более высокой устойчивостью (в том числе приобретенной) к используемым в средствах Д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щение и применение в практике таких дезсредст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тесняет из медицинской практики ( и не только отечественной) средства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ет бесперспективной 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гистрация таких дезсредств для практического применения дискредитирует все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ного при отработке тест - микроба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(мы просто обязаны) решительно и быстрее выйти из этого тупик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ивоэпидемическое предназначение применения дезинфицирующи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твор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роорганиз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ухода и обстан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Н, использова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и, одеж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ых и  их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рхности помещени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дящихся в ни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ия и белье бо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будителей  инфек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. - тех.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ух, вода,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(или в) объектах ,  являющихся потенциальными факторами передачи возбудител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й, в целях предотвращения возникновения и распространения различ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онных заболеваний среди людей через эти объек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 применен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Micobacterium В-5, существенно уступающей возбудителю по устойчивости к химическим дезинфектант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ивной аттестации, а также переаттестации на добровольной основе туберкулоцидных режимов на новом тест - микробе (Micobacterium terra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Micobacterium В-5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 и более раз ниже, чем необходимо за то же время для обеспечения эффективной дезинфекции в отношении возбудителя туберкулеза (причем музейного штамма Н37RV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щих два действующих вещества (ЧАС и триамин)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заниженной бактерицидной концентрацией Д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 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озы и последствия ситуации с дезсредств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1 -  Динамика разработки и регистрации дезсредств для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медицинской практики на основе основных групп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действующих вещ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2 - Режимы применения аналогичных дезсредств на основе   только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ЧАС, выданные  аккредитованными испытательными центр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а 4 - Режимы применения одного и того же дезсредства на основе   только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ЧАС, выданные  в аккредитованных испытательных цент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  - 12 (проект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на сайте info@niid.ru, обсуждены в ноябре 2011 г за  «круглым столом», проведенном в НИИД, откорректированы с учетом замеч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сих пор не может выйти из лабиринтов РОСПОТРЕБНАДЗ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ата из доку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 и композиционные составы на основе этих соединений, независимо от концентрации последних в средстве или его рабочих раство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жимы применения аналогичных дезсредств на основе на основе   ЧАС и ПМГХ , выданные  аккредитованными испытательными цент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проекта документа : «Методические рекомендаци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 3.5.1.       - 12, Москва 2012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мальные концентр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8FD-AEE9-4A27-A694-598A3C19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DA53-D6C8-44ED-A0DC-38EAC83B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2FC-8DEC-4785-829D-314A5A88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A4BA-AE45-4BAC-AF32-718EE628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B33-0C44-4009-96B5-291D72AE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47E2-FFDE-41BE-A768-A9CCF9FA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D09-2868-4320-8AB9-B6E186E5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B47-A84C-4D0B-8B2B-87456AE2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4B9-8E1A-4BDB-83B6-153C8413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9F04-5A3C-4B18-8DFF-BB8B8D7F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4BFF-7181-4094-B622-7BE097D4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C645-C52B-4D8D-AC15-1A54288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B961-1FDE-46B5-9541-1E7598833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niid.r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8164440" cy="180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ктуальные проблемы современной дезинфектолог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9960" y="2276280"/>
            <a:ext cx="8164440" cy="374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«Состояние  разработки и  регистрации современных дезинфицирующих средст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: Канищев В. В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Ц ФГКУ»№№ ЦНИИИ МО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ремеева Н.И. (УНИИФ Росмедтехнолог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кладчик: д.м.н., профессор Канищев Владимир Васил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627120"/>
            <a:ext cx="821844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езраствор, а прикормка для микроорганизмов!</a:t>
            </a:r>
            <a:br>
              <a:rPr sz="1200"/>
            </a:br>
            <a:br>
              <a:rPr sz="12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аблица 6 – концентрации действующих веществ в бактерицидных  рабочих растворах некоторых дезсредств в сопоставлении  с составом воды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11280" y="1581120"/>
          <a:ext cx="7986600" cy="5246640"/>
        </p:xfrm>
        <a:graphic>
          <a:graphicData uri="http://schemas.openxmlformats.org/drawingml/2006/table">
            <a:tbl>
              <a:tblPr/>
              <a:tblGrid>
                <a:gridCol w="1439640"/>
                <a:gridCol w="1297080"/>
                <a:gridCol w="1295280"/>
                <a:gridCol w="1405080"/>
                <a:gridCol w="2549520"/>
              </a:tblGrid>
              <a:tr h="603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регистраци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значение и и предписываемый режим применения дезсред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ое содерж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анПиН 2.1.4. 1074-01) в питьевой водопроводной воде веществ, способных оказывать бактериостатическое действие на микроорганизмы или нейтрализовать ЧАС и др.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елевое назначени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средства по ДВ и время воздейств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 9% ПГМГХ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(2008 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П-01/08)</a:t>
                      </a:r>
                      <a:r>
                        <a:rPr b="0" lang="ru-RU" sz="10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(бактери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006% в сумме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- 0,035 % (350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 - 0,0001%    (до 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 -    0,0001%     (1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ор-     0,00015%    (1,5 мг/дм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³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 (анион-активные) -0,00003%    (0,3 мг/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Ника Амици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0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0,0011% в сумме, 60 мин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5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Эквивален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9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 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ГМГХ и вспом.компонен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ИЛ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РНИИТО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11 г.)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0000"/>
                          </a:solidFill>
                          <a:latin typeface="Arial"/>
                          <a:ea typeface="Times New Roman"/>
                        </a:rPr>
                        <a:t>(0,0006% в сумме, 9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Дезавид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Концентрат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2,2% ПГМГХ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8% ЧАС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 ЭЧ 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.А.Н. Сыси-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№ДК-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ззараживание питьевой воды централи-зованного водоснаб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,04 мг/л д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 мг/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от 0,000004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о 0,00004%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циональная концепция профилактики инфекций, связанных с оказанием медицинской помощ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верждена Главным государственным санитарным врачом   РФ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  ноябр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1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ышение эффективности дезинфекционных и стерилизационных меропри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В последние годы в России наблюдаются случаи регистрации и внедрения в практику здравоохранения неэффективных дезинфекционных средств, дезинфекционного и стерилизационного оборудования, что связано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 отсутствием во многих случаях должной квалифицированной его экспертной оцен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344520"/>
            <a:ext cx="8218440" cy="636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аблица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7 -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инамика внедрения дезсредств и качества их экспертизы при регист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1680" y="1197000"/>
          <a:ext cx="8577360" cy="5143320"/>
        </p:xfrm>
        <a:graphic>
          <a:graphicData uri="http://schemas.openxmlformats.org/drawingml/2006/table">
            <a:tbl>
              <a:tblPr/>
              <a:tblGrid>
                <a:gridCol w="2830320"/>
                <a:gridCol w="1440000"/>
                <a:gridCol w="1143000"/>
                <a:gridCol w="3164040"/>
              </a:tblGrid>
              <a:tr h="4914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езсредств (исключая  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 г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 г.(на основе анализа инструкций , опубликованных на сайте «ДЕЗРЕЕСТР»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сомнительными по эффективности режимами или сферой примене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содержащих ДВ и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ам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, амина и гуаниди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 с 200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7 (50</a:t>
                      </a:r>
                      <a:r>
                        <a:rPr b="0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опубликованных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сайте ДЕЗРЕЕСТР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ств, </a:t>
                      </a: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зарегистрированных посл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4 г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546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 2005 г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40"/>
          <p:cNvGrpSpPr/>
          <p:nvPr/>
        </p:nvGrpSpPr>
        <p:grpSpPr>
          <a:xfrm>
            <a:off x="382680" y="1039680"/>
            <a:ext cx="8366040" cy="5480280"/>
            <a:chOff x="382680" y="1039680"/>
            <a:chExt cx="8366040" cy="5480280"/>
          </a:xfrm>
        </p:grpSpPr>
        <p:sp>
          <p:nvSpPr>
            <p:cNvPr id="133" name="Rectangle 5"/>
            <p:cNvSpPr/>
            <p:nvPr/>
          </p:nvSpPr>
          <p:spPr>
            <a:xfrm>
              <a:off x="382680" y="2022480"/>
              <a:ext cx="3638520" cy="9288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токсичности,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тработка режимов применен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медицинской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6978600" y="4933800"/>
              <a:ext cx="1486080" cy="6858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8"/>
            <p:cNvSpPr/>
            <p:nvPr/>
          </p:nvSpPr>
          <p:spPr>
            <a:xfrm>
              <a:off x="1312920" y="5289480"/>
              <a:ext cx="1440" cy="21456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9"/>
            <p:cNvSpPr/>
            <p:nvPr/>
          </p:nvSpPr>
          <p:spPr>
            <a:xfrm>
              <a:off x="4019400" y="2262240"/>
              <a:ext cx="5684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4562640" y="1982880"/>
              <a:ext cx="3922560" cy="14284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в НИИ ЖГ, НИИ мол., пиво-безалко., мясрой пром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(при теснейшем методическом взаимодейс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твии с НИИД и контроле )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ценка пригодности и 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соответству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7"/>
            <p:cNvSpPr/>
            <p:nvPr/>
          </p:nvSpPr>
          <p:spPr>
            <a:xfrm>
              <a:off x="395280" y="4076640"/>
              <a:ext cx="3656160" cy="118260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слушивание на заседании Федераль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омиссиии экспертных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й, обсужде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ие их и других материалов (НТД, проек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струкций и др.) членами  комисс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каждое регистрируемое  дезсредств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2228760" y="3868560"/>
              <a:ext cx="180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9"/>
            <p:cNvSpPr/>
            <p:nvPr/>
          </p:nvSpPr>
          <p:spPr>
            <a:xfrm flipH="1" flipV="1">
              <a:off x="3990960" y="3218040"/>
              <a:ext cx="58104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32"/>
            <p:cNvSpPr/>
            <p:nvPr/>
          </p:nvSpPr>
          <p:spPr>
            <a:xfrm>
              <a:off x="2968560" y="1039680"/>
              <a:ext cx="2362320" cy="849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5189400" y="1644480"/>
              <a:ext cx="42552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 flipH="1">
              <a:off x="6687720" y="5292720"/>
              <a:ext cx="319320" cy="3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2171880" y="2949480"/>
              <a:ext cx="1440" cy="2145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2"/>
            <p:cNvSpPr/>
            <p:nvPr/>
          </p:nvSpPr>
          <p:spPr>
            <a:xfrm>
              <a:off x="6605640" y="3510000"/>
              <a:ext cx="2143080" cy="1368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Утверж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382680" y="3156120"/>
              <a:ext cx="3638520" cy="717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едварительное обсуждение  результа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следован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на методкомиссии  НТС НИ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4040280" y="2263680"/>
              <a:ext cx="28872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9"/>
            <p:cNvSpPr/>
            <p:nvPr/>
          </p:nvSpPr>
          <p:spPr>
            <a:xfrm flipH="1">
              <a:off x="2932200" y="1741320"/>
              <a:ext cx="349200" cy="293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 flipV="1">
              <a:off x="4030560" y="4157280"/>
              <a:ext cx="333360" cy="20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2425680" y="5475240"/>
              <a:ext cx="1724040" cy="8240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на проведение практи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ческих испыта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7"/>
            <p:cNvSpPr/>
            <p:nvPr/>
          </p:nvSpPr>
          <p:spPr>
            <a:xfrm>
              <a:off x="422280" y="5475240"/>
              <a:ext cx="1724040" cy="831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каз в рекомендац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егистрации дл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мен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3289320" y="5261040"/>
              <a:ext cx="144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 flipV="1">
              <a:off x="6505560" y="3847680"/>
              <a:ext cx="279360" cy="18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6967440" y="5646600"/>
              <a:ext cx="1509840" cy="6462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Инструкция,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утвержден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оспотребнадзо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4211640" y="4784760"/>
              <a:ext cx="2514600" cy="91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а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олько 2 специализирован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ЛЦ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4716360" y="5877000"/>
              <a:ext cx="1805040" cy="642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8"/>
            <p:cNvSpPr/>
            <p:nvPr/>
          </p:nvSpPr>
          <p:spPr>
            <a:xfrm>
              <a:off x="5580000" y="5681520"/>
              <a:ext cx="1800" cy="2160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8"/>
            <p:cNvSpPr/>
            <p:nvPr/>
          </p:nvSpPr>
          <p:spPr>
            <a:xfrm flipH="1">
              <a:off x="8437320" y="513252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8"/>
            <p:cNvSpPr/>
            <p:nvPr/>
          </p:nvSpPr>
          <p:spPr>
            <a:xfrm flipH="1">
              <a:off x="8461080" y="5996160"/>
              <a:ext cx="2142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4"/>
            <p:cNvSpPr/>
            <p:nvPr/>
          </p:nvSpPr>
          <p:spPr>
            <a:xfrm>
              <a:off x="8637480" y="4495680"/>
              <a:ext cx="0" cy="15843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300560" y="3535200"/>
              <a:ext cx="2178000" cy="503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ект инструкци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ие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300560" y="3959280"/>
              <a:ext cx="2176560" cy="709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токол с рекоменда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ией регистрации  средств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 Роспотребнадзо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H="1" flipV="1">
              <a:off x="6588000" y="5516280"/>
              <a:ext cx="385920" cy="2127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4029120" y="3703680"/>
              <a:ext cx="2617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 flipV="1">
              <a:off x="6469200" y="4506480"/>
              <a:ext cx="279360" cy="18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17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истема испытания, регистрации и сертификации дезсредст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2005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9"/>
          <p:cNvGrpSpPr/>
          <p:nvPr/>
        </p:nvGrpSpPr>
        <p:grpSpPr>
          <a:xfrm>
            <a:off x="395280" y="1052640"/>
            <a:ext cx="8386920" cy="5486400"/>
            <a:chOff x="395280" y="1052640"/>
            <a:chExt cx="8386920" cy="5486400"/>
          </a:xfrm>
        </p:grpSpPr>
        <p:sp>
          <p:nvSpPr>
            <p:cNvPr id="169" name="Rectangle 5"/>
            <p:cNvSpPr/>
            <p:nvPr/>
          </p:nvSpPr>
          <p:spPr>
            <a:xfrm>
              <a:off x="395280" y="2133720"/>
              <a:ext cx="2697480" cy="118584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                      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НИД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спытание по оцен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соответствия физ.- хи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оказателям,  дезактивности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токсичности, отработка режим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применения в мед. практик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6977160" y="5240160"/>
              <a:ext cx="1503360" cy="56520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идетель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регист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>
              <a:off x="3668760" y="3225960"/>
              <a:ext cx="0" cy="3603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3165480" y="2133720"/>
              <a:ext cx="2756160" cy="107928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ИИ ЖГ, НИИ мол., пиво-безалк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ясной промышленности:  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ботка целев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жимов применения 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отраслевых  объект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4683240" y="3586320"/>
              <a:ext cx="1531800" cy="10666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Эксперт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в основн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ыдают сами ИЛ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 никем 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обсуждается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5604120" y="1628640"/>
              <a:ext cx="801720" cy="505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2"/>
            <p:cNvSpPr/>
            <p:nvPr/>
          </p:nvSpPr>
          <p:spPr>
            <a:xfrm>
              <a:off x="3353040" y="1052640"/>
              <a:ext cx="2392200" cy="841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редлагаемое к регистр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в РОССИИ дезсред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4605480" y="186696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2"/>
            <p:cNvSpPr/>
            <p:nvPr/>
          </p:nvSpPr>
          <p:spPr>
            <a:xfrm>
              <a:off x="6635880" y="4175280"/>
              <a:ext cx="2022480" cy="98244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егист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средств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imes New Roman"/>
                </a:rPr>
                <a:t>Роспотребнадз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H="1">
              <a:off x="2797200" y="1628640"/>
              <a:ext cx="655920" cy="49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>
              <a:off x="2872080" y="4149720"/>
              <a:ext cx="385560" cy="144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681960" y="3357720"/>
              <a:ext cx="2100240" cy="747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кспертный совет п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оспотребнадзор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рассматривает  ДС тольк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и спорных  вопроса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4318200" y="3284640"/>
              <a:ext cx="0" cy="360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906560" y="5156280"/>
              <a:ext cx="2843280" cy="115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зсре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выполняют на коммерческой основ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ые непрофиль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центр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2"/>
            <p:cNvSpPr/>
            <p:nvPr/>
          </p:nvSpPr>
          <p:spPr>
            <a:xfrm>
              <a:off x="4505400" y="5902200"/>
              <a:ext cx="2692440" cy="6368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ертификат или декларац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соответств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4459320" y="6029280"/>
              <a:ext cx="73080" cy="2080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 flipH="1">
              <a:off x="8465760" y="5538960"/>
              <a:ext cx="217800" cy="1260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"/>
            <p:cNvSpPr/>
            <p:nvPr/>
          </p:nvSpPr>
          <p:spPr>
            <a:xfrm flipH="1" flipV="1">
              <a:off x="4357440" y="5373720"/>
              <a:ext cx="2624040" cy="14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>
              <a:off x="8650440" y="4678200"/>
              <a:ext cx="1440" cy="925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5"/>
            <p:cNvSpPr/>
            <p:nvPr/>
          </p:nvSpPr>
          <p:spPr>
            <a:xfrm>
              <a:off x="6016680" y="2133720"/>
              <a:ext cx="2405160" cy="10411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зличные ИЛЦ, не имеющ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или с небольшим опыто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научно-испытатель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работы с дезсред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"/>
            <p:cNvSpPr/>
            <p:nvPr/>
          </p:nvSpPr>
          <p:spPr>
            <a:xfrm>
              <a:off x="609840" y="3573360"/>
              <a:ext cx="2259000" cy="1009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Обсуждение  результатов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исследований, инструкции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заключения на методическ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комиссии  НТС НИИ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3219480" y="3598920"/>
              <a:ext cx="1457280" cy="1054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Экземпляр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струкци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твержден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изводител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8"/>
            <p:cNvSpPr/>
            <p:nvPr/>
          </p:nvSpPr>
          <p:spPr>
            <a:xfrm>
              <a:off x="3884760" y="4653000"/>
              <a:ext cx="0" cy="57636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9"/>
            <p:cNvSpPr/>
            <p:nvPr/>
          </p:nvSpPr>
          <p:spPr>
            <a:xfrm>
              <a:off x="6183360" y="4221000"/>
              <a:ext cx="569880" cy="30024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795680" y="3344760"/>
              <a:ext cx="1440" cy="21600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6"/>
            <p:cNvSpPr/>
            <p:nvPr/>
          </p:nvSpPr>
          <p:spPr>
            <a:xfrm>
              <a:off x="4278600" y="3319560"/>
              <a:ext cx="189360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7"/>
            <p:cNvSpPr/>
            <p:nvPr/>
          </p:nvSpPr>
          <p:spPr>
            <a:xfrm>
              <a:off x="6189840" y="3141720"/>
              <a:ext cx="0" cy="2160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9"/>
            <p:cNvSpPr/>
            <p:nvPr/>
          </p:nvSpPr>
          <p:spPr>
            <a:xfrm>
              <a:off x="3888000" y="4869000"/>
              <a:ext cx="2843280" cy="144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48680" cy="865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8 – Пример того каким образом подтверждаются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нереальные по эффективности режимы применения Д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14440" y="1566720"/>
          <a:ext cx="8115120" cy="5007240"/>
        </p:xfrm>
        <a:graphic>
          <a:graphicData uri="http://schemas.openxmlformats.org/drawingml/2006/table">
            <a:tbl>
              <a:tblPr/>
              <a:tblGrid>
                <a:gridCol w="1249200"/>
                <a:gridCol w="1152720"/>
                <a:gridCol w="1150920"/>
                <a:gridCol w="1368360"/>
                <a:gridCol w="1081080"/>
                <a:gridCol w="2112840"/>
              </a:tblGrid>
              <a:tr h="6177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– испыта-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, подтвердившая декларацию о соответствии сред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нование для принятия декларации и подтверждения соответ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-ных инфек-циях 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-ных (включая туберкулез) 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я  (+ПСО)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2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лмадез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%триам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ПГМГХ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ЛЦ ФГУ РНИИТО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0" lang="ru-RU" sz="12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0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9% по сумме  ДВ/ 3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4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7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рган по сертификации продукции и услуг «ПОЛИСЕРТ» автономной некоммерческой организации по сертификации «ЭЛЕКТРОСЕРТ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"/>
                        </a:rPr>
                        <a:t>Протокол испытаний №665-10 от 24.11.201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ИЛЦ ФГУ «РНИИТО» им Р.Р. Вред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вид. Госрегистр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.77.99.01.002.Е.005764.03.11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2920"/>
            <a:ext cx="8353440" cy="838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меющаяся ситуация с дезинфицирующими средствам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– эт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Дезинфектологический  тупик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395280" y="1057320"/>
            <a:ext cx="8353440" cy="547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Де факто» узаконено обращение и применение в практике большого количества дезсредств (более 50%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ющих явно искусственно завышенные по эффективности или нереальные для состава ДВ режимы применени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Использовани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ких дезсредств в ЛПО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заражения пациентов и персонала ЛПО возбудителями ВБИ через обработанные такими средствами инструменты и другие объекты, считающиеся обеззараженными или стериль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не препятствует, а способствует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появления, накопления и циркуляции в ЛПО возбудителей ВБИ с более высокой устойчивостью (</a:t>
            </a:r>
            <a:r>
              <a:rPr b="1" lang="ru-RU" sz="1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том числе приобретенно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 используемым в средствах Д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щение и применение в практике таких дез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ытесняет из медицинской практики ( и не только отечественной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еющие реально эффективные, экспериментально объективно отработанные режимы и сферу применения, поскольку они, естественно, имеют более высокую стоимость рабочих раств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елает бесперспективной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брошенные деньги) научную разработку и регистрацию новых средств на основе результатов объективных исследований и испытаний, так как эти средства уже изначально не смогут конкурировать со средствами, у которых официальными Инструкцией, Свидетельством госрегистрации и Сертификатом соответствия узаконены режимы применения рабочих растворов, содержащих всего десятитысячные доли процента таких ДВ как ЧАС, да еще режимы стерилизации и Д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гистрация таких дезсредств для практического применения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искредитирует вс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 накоплено по дезинфицирующим средствам в дезинфектологии за многие десятилетия скрупулезного труда наших предшественн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аблица 9 - Ситуация  с количеством и качеством наиболее представительных групп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зсредств, зарегистрированных к 1.11.2012 г для  применения в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971640"/>
          <a:ext cx="7777080" cy="5694120"/>
        </p:xfrm>
        <a:graphic>
          <a:graphicData uri="http://schemas.openxmlformats.org/drawingml/2006/table">
            <a:tbl>
              <a:tblPr/>
              <a:tblGrid>
                <a:gridCol w="2952720"/>
                <a:gridCol w="1224000"/>
                <a:gridCol w="1800360"/>
                <a:gridCol w="1800000"/>
              </a:tblGrid>
              <a:tr h="1512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действующих веществ в средст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 с неэффективными режимами примене-ния (занижены концентрации рабочих растворов и экспози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средств, с  объективно аттестованными режимами в отношении возбудителя                                           туберкуле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е веще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е вещества и  их композиции с ЧАС, орг. кислотами, серебром  и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ьдег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альдегидов с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а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и ЧАС с аминами и полигуанидин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9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илянтов *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ы ил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гуаниди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чание: - ( * ) - Средства дополнительно имеют еще  фиктивные режимы  стерилизации и ДВУ, поскольку не содержат  спороцидных Д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блица 9 - Режимы применения одинаковых по составу ДВ средств дл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дезинфекции при туберкулезе,  в зависимости от  использован-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ного при отработке тест - микроб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14440" y="1268280"/>
          <a:ext cx="8018280" cy="5034240"/>
        </p:xfrm>
        <a:graphic>
          <a:graphicData uri="http://schemas.openxmlformats.org/drawingml/2006/table">
            <a:tbl>
              <a:tblPr/>
              <a:tblGrid>
                <a:gridCol w="3049560"/>
                <a:gridCol w="1439640"/>
                <a:gridCol w="352908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в инструкции концентрации рабочих растворов при времени воздействия  (экспозиции) 60 мин. для д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зинфекции  поверхностей при бактериальных инфекциях (включая туберкулез)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% по препарату/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птустин 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7,0% ЧАС, 6 % амин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13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/ 0,3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08/09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6,0/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еверян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% ЧАС, 10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 ПГМГХ и вспом. компоненты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5% ДВ в сумме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, №02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/0,17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Тестирован на Микобактерии В- 5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Авирайт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 ЧАС, 6% 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 ПГМГХ и вспом.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32% ДВ в сум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11 г, №14/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,0/2,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Тестирован на  Микобактерии Терра</a:t>
                      </a:r>
                      <a:r>
                        <a:rPr b="1" lang="en-US" sz="1400" spc="-1" strike="noStrike">
                          <a:solidFill>
                            <a:srgbClr val="008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362800" cy="5472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ужно (мы просто обязаны) решительно и быстрее выйт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 этого тупик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чется надеяться, что это, наконец - то, услышат и реально начнут что - то делать те, от кого зависит принятие не раз уже предлагаемых и обсуждаемых практических  реш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а это, в первую очередь, Роспотребнадзор РФ и наш уважаемый юбиляр – НИИДезинфектологии, научные данные и результаты многолетних трудов которого беспардонно игнорируются и перечеркиваются)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тивоэпидемическое предназначение применения дезинфицирующих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6200" y="3571920"/>
            <a:ext cx="1782720" cy="97956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Болезнетвор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микроорганиз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7880" y="2419200"/>
            <a:ext cx="194472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Живые переносч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(насекомые, грызун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060720" y="4437000"/>
            <a:ext cx="2595600" cy="32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дметы ухода и обстано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059280" y="4784760"/>
            <a:ext cx="2595240" cy="41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МН, использова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059280" y="3224160"/>
            <a:ext cx="2595240" cy="57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уки, одеж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ольных и  их окружаю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060720" y="2741760"/>
            <a:ext cx="2590920" cy="47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ерхности помещений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ходящихся в них объ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3059280" y="4137120"/>
            <a:ext cx="2595240" cy="307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деления и белье бо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8"/>
          <p:cNvSpPr/>
          <p:nvPr/>
        </p:nvSpPr>
        <p:spPr>
          <a:xfrm rot="16200000">
            <a:off x="7027560" y="2969640"/>
            <a:ext cx="1119240" cy="1170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2771640" y="45799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2"/>
          <p:cNvSpPr/>
          <p:nvPr/>
        </p:nvSpPr>
        <p:spPr>
          <a:xfrm>
            <a:off x="2771640" y="427032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5"/>
          <p:cNvSpPr/>
          <p:nvPr/>
        </p:nvSpPr>
        <p:spPr>
          <a:xfrm>
            <a:off x="684360" y="1482840"/>
            <a:ext cx="201600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точник вы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збудителей  инфекций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5670720" y="45957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5651640" y="347652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5651640" y="3068640"/>
            <a:ext cx="215640" cy="32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395280" y="2000160"/>
            <a:ext cx="0" cy="208908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6732720" y="1517760"/>
            <a:ext cx="1873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приимчи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той или и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7596360" y="24922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4"/>
          <p:cNvSpPr/>
          <p:nvPr/>
        </p:nvSpPr>
        <p:spPr>
          <a:xfrm>
            <a:off x="2411280" y="4075200"/>
            <a:ext cx="360360" cy="144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3059280" y="3809880"/>
            <a:ext cx="2595240" cy="308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ан. - тех. оборуд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6"/>
          <p:cNvSpPr/>
          <p:nvPr/>
        </p:nvSpPr>
        <p:spPr>
          <a:xfrm>
            <a:off x="2771640" y="2620800"/>
            <a:ext cx="0" cy="246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7"/>
          <p:cNvSpPr/>
          <p:nvPr/>
        </p:nvSpPr>
        <p:spPr>
          <a:xfrm>
            <a:off x="2771640" y="263520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8"/>
          <p:cNvSpPr/>
          <p:nvPr/>
        </p:nvSpPr>
        <p:spPr>
          <a:xfrm>
            <a:off x="2771640" y="3070080"/>
            <a:ext cx="287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0"/>
          <p:cNvSpPr/>
          <p:nvPr/>
        </p:nvSpPr>
        <p:spPr>
          <a:xfrm>
            <a:off x="5651640" y="249552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1"/>
          <p:cNvSpPr/>
          <p:nvPr/>
        </p:nvSpPr>
        <p:spPr>
          <a:xfrm>
            <a:off x="5867280" y="2492280"/>
            <a:ext cx="0" cy="251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2"/>
          <p:cNvSpPr/>
          <p:nvPr/>
        </p:nvSpPr>
        <p:spPr>
          <a:xfrm>
            <a:off x="392040" y="1987560"/>
            <a:ext cx="1968480" cy="4316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Больной инфек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ли нос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0"/>
          <p:cNvSpPr/>
          <p:nvPr/>
        </p:nvSpPr>
        <p:spPr>
          <a:xfrm>
            <a:off x="4284720" y="2131920"/>
            <a:ext cx="3240" cy="155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5"/>
          <p:cNvSpPr/>
          <p:nvPr/>
        </p:nvSpPr>
        <p:spPr>
          <a:xfrm>
            <a:off x="3059280" y="2287440"/>
            <a:ext cx="259236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здух, вода, проду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53"/>
          <p:cNvSpPr/>
          <p:nvPr/>
        </p:nvSpPr>
        <p:spPr>
          <a:xfrm>
            <a:off x="10072800" y="107172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0"/>
          <p:cNvSpPr/>
          <p:nvPr/>
        </p:nvSpPr>
        <p:spPr>
          <a:xfrm>
            <a:off x="5651640" y="4292640"/>
            <a:ext cx="2156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2771640" y="349884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2771640" y="393228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8"/>
          <p:cNvSpPr/>
          <p:nvPr/>
        </p:nvSpPr>
        <p:spPr>
          <a:xfrm>
            <a:off x="5651640" y="399564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5"/>
          <p:cNvSpPr/>
          <p:nvPr/>
        </p:nvSpPr>
        <p:spPr>
          <a:xfrm>
            <a:off x="250920" y="5272200"/>
            <a:ext cx="8497800" cy="136836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еспечение эффективного  уничтожения (умерщвления) болезнетворных микроорганиз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(или в) объект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вляющихся потенциальными факторами передачи возбудите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й, в целях предотвращен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озникновения и распространения различ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фекционных заболев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реди людей через эти объек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d2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2680" y="2816280"/>
            <a:ext cx="2003400" cy="433440"/>
          </a:xfrm>
          <a:prstGeom prst="rect">
            <a:avLst/>
          </a:prstGeom>
          <a:solidFill>
            <a:srgbClr val="9933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Объекты, поражен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есневыми гриб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442800" y="4075200"/>
            <a:ext cx="216000" cy="144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6"/>
          <p:cNvSpPr/>
          <p:nvPr/>
        </p:nvSpPr>
        <p:spPr>
          <a:xfrm>
            <a:off x="2627280" y="1916280"/>
            <a:ext cx="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7"/>
          <p:cNvSpPr/>
          <p:nvPr/>
        </p:nvSpPr>
        <p:spPr>
          <a:xfrm flipH="1">
            <a:off x="2340000" y="2201760"/>
            <a:ext cx="28728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7"/>
          <p:cNvSpPr/>
          <p:nvPr/>
        </p:nvSpPr>
        <p:spPr>
          <a:xfrm flipH="1">
            <a:off x="2340000" y="263376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7"/>
          <p:cNvSpPr/>
          <p:nvPr/>
        </p:nvSpPr>
        <p:spPr>
          <a:xfrm flipH="1">
            <a:off x="2340000" y="2994120"/>
            <a:ext cx="287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0"/>
          <p:cNvSpPr/>
          <p:nvPr/>
        </p:nvSpPr>
        <p:spPr>
          <a:xfrm flipH="1">
            <a:off x="5867280" y="264780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1482840"/>
            <a:ext cx="360072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семененные возбудителями различ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ъекты, как потенциальные  фактор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распространения возбудителя инфекц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0"/>
          <p:cNvSpPr/>
          <p:nvPr/>
        </p:nvSpPr>
        <p:spPr>
          <a:xfrm flipH="1">
            <a:off x="5867280" y="4579920"/>
            <a:ext cx="43344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300720" y="2635200"/>
            <a:ext cx="0" cy="26654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5867280" y="3641760"/>
            <a:ext cx="433440" cy="3240"/>
          </a:xfrm>
          <a:prstGeom prst="line">
            <a:avLst/>
          </a:prstGeom>
          <a:ln w="7632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2771640" y="5051520"/>
            <a:ext cx="287640" cy="144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5"/>
          <p:cNvSpPr/>
          <p:nvPr/>
        </p:nvSpPr>
        <p:spPr>
          <a:xfrm>
            <a:off x="2771640" y="841320"/>
            <a:ext cx="3384720" cy="432000"/>
          </a:xfrm>
          <a:prstGeom prst="rect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фера  применения дез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8"/>
          <p:cNvSpPr/>
          <p:nvPr/>
        </p:nvSpPr>
        <p:spPr>
          <a:xfrm>
            <a:off x="5651640" y="5011560"/>
            <a:ext cx="215640" cy="18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0"/>
          <p:cNvSpPr/>
          <p:nvPr/>
        </p:nvSpPr>
        <p:spPr>
          <a:xfrm>
            <a:off x="4280040" y="1303200"/>
            <a:ext cx="2880" cy="155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229600" cy="616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Существует еще одна, официально признанная проблема, на которую по разным причинам «закрывают» глаза и решать никто не торопитс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это неэффективность в отношении возбудителя туберкулеза режимов дезсредств (особенно на основе ЧАС, ПГМГ и триамина), отработанных с использованием в качестве тест-микроб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 существенно уступающей возбудителю по устойчивости к химическим дезинфектант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Объективной аттестации, а также переаттестации на добровольной основе туберкулоцидных режимов на новом тест - микробе (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terra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), предписываемым для проведения испытаний дезсредств Руководством Р4.2.2643 -10, подверглись всего считанный десяток средст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К сожалению, и в этом вопросе началась анархия. Многие производители либо сами в инструкциях с режимами, полученными на  микобактерии В-5, указывают, что тестировано на микобактерии Терра, либо находят ИЛЦ, которые это им делают, сохраняя старые режимы, но подкрепляют, так сказать научным отч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Негативные последствия нашей беспечности не замедлят сказаться. Ведь  анализ режимов дезсредств, переаттестованных в НИИД, свидетельствует о том, что концентрации рабочих растворов, аттестованные на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Micobacterium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В-5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660033"/>
                </a:solidFill>
                <a:uFillTx/>
                <a:latin typeface="Times New Roman"/>
              </a:rPr>
              <a:t>в 10 и более раз</a:t>
            </a:r>
            <a:r>
              <a:rPr b="1" lang="ru-RU" sz="1600" spc="-1" strike="noStrike" u="sng">
                <a:solidFill>
                  <a:srgbClr val="800000"/>
                </a:solidFill>
                <a:uFillTx/>
                <a:latin typeface="Times New Roman"/>
              </a:rPr>
              <a:t> ниже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, чем необходимо за то же время для обеспечения эффективной дезинфекции в отношении возбудителя туберкулеза (причем музейного штамма Н37</a:t>
            </a:r>
            <a:r>
              <a:rPr b="1" lang="en-US" sz="1600" spc="-1" strike="noStrike" baseline="-25000">
                <a:solidFill>
                  <a:srgbClr val="800000"/>
                </a:solidFill>
                <a:latin typeface="Times New Roman"/>
              </a:rPr>
              <a:t>RV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)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4920" y="856800"/>
            <a:ext cx="8248680" cy="714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блица 5 - Режимы применения практически одинаковых средств,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держащих два действующих вещества (ЧАС и триамин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14440" y="1787400"/>
          <a:ext cx="8115120" cy="4572000"/>
        </p:xfrm>
        <a:graphic>
          <a:graphicData uri="http://schemas.openxmlformats.org/drawingml/2006/table">
            <a:tbl>
              <a:tblPr/>
              <a:tblGrid>
                <a:gridCol w="1249200"/>
                <a:gridCol w="1079640"/>
                <a:gridCol w="1368360"/>
                <a:gridCol w="1368360"/>
                <a:gridCol w="1224000"/>
                <a:gridCol w="936720"/>
                <a:gridCol w="888840"/>
              </a:tblGrid>
              <a:tr h="770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средство и его соста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 применения (концентрация по ДВ/время воздействия):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исываемые режимы применения д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альной убор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онцентрация по ДВ/время воздествия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я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поверхностей при бактериальных инфек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включая туберкулез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мати-ческих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ениях, кабинетах функциональ-ной диагнос-тики  и д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опербло-ках, перевя-зочных, проце-дур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бинет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ПУ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ти-зиатрического профи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2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005 г,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8% по  сумме ДВ 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2% по сумм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/ 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 ДВ / -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% по сумм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 / 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по сумме ДВ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/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ми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Сурфаниос Плюс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% ЧА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% триами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всп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мпоненты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РНИИТО</a:t>
                      </a: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НЦ ПМ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,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5% по сумме 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% по сумме ДВ /60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% по сумме ДВ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% по сумме ДВ/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30"/>
          <p:cNvSpPr/>
          <p:nvPr/>
        </p:nvSpPr>
        <p:spPr>
          <a:xfrm>
            <a:off x="4284720" y="2133720"/>
            <a:ext cx="136836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>
            <a:off x="2340000" y="2143080"/>
            <a:ext cx="129528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39"/>
          <p:cNvSpPr/>
          <p:nvPr/>
        </p:nvSpPr>
        <p:spPr>
          <a:xfrm flipH="1">
            <a:off x="5143320" y="2060640"/>
            <a:ext cx="4680" cy="8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ound"/>
          <p:cNvSpPr/>
          <p:nvPr/>
        </p:nvSpPr>
        <p:spPr>
          <a:xfrm rot="1789200">
            <a:off x="1864800" y="2023560"/>
            <a:ext cx="608040" cy="235080"/>
          </a:xfrm>
          <a:custGeom>
            <a:avLst/>
            <a:gdLst>
              <a:gd name="textAreaLeft" fmla="*/ 21240 w 608040"/>
              <a:gd name="textAreaRight" fmla="*/ 593280 w 608040"/>
              <a:gd name="textAreaTop" fmla="*/ 244440 h 235080"/>
              <a:gd name="textAreaBottom" fmla="*/ 308160 h 23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loud"/>
          <p:cNvSpPr/>
          <p:nvPr/>
        </p:nvSpPr>
        <p:spPr>
          <a:xfrm>
            <a:off x="6072120" y="33256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loud"/>
          <p:cNvSpPr/>
          <p:nvPr/>
        </p:nvSpPr>
        <p:spPr>
          <a:xfrm>
            <a:off x="4643280" y="27860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Cloud"/>
          <p:cNvSpPr/>
          <p:nvPr/>
        </p:nvSpPr>
        <p:spPr>
          <a:xfrm>
            <a:off x="5076720" y="2981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Cloud"/>
          <p:cNvSpPr/>
          <p:nvPr/>
        </p:nvSpPr>
        <p:spPr>
          <a:xfrm>
            <a:off x="5292720" y="24289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Cloud"/>
          <p:cNvSpPr/>
          <p:nvPr/>
        </p:nvSpPr>
        <p:spPr>
          <a:xfrm>
            <a:off x="6357960" y="32860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loud"/>
          <p:cNvSpPr/>
          <p:nvPr/>
        </p:nvSpPr>
        <p:spPr>
          <a:xfrm>
            <a:off x="4932360" y="2481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Cloud"/>
          <p:cNvSpPr/>
          <p:nvPr/>
        </p:nvSpPr>
        <p:spPr>
          <a:xfrm>
            <a:off x="450072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Cloud"/>
          <p:cNvSpPr/>
          <p:nvPr/>
        </p:nvSpPr>
        <p:spPr>
          <a:xfrm>
            <a:off x="5076720" y="2714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82"/>
          <p:cNvSpPr/>
          <p:nvPr/>
        </p:nvSpPr>
        <p:spPr>
          <a:xfrm>
            <a:off x="214200" y="857160"/>
            <a:ext cx="1643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ссоциация живых возбудителей ВБИ на объектах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loud"/>
          <p:cNvSpPr/>
          <p:nvPr/>
        </p:nvSpPr>
        <p:spPr>
          <a:xfrm>
            <a:off x="4716360" y="3095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2"/>
          <p:cNvSpPr/>
          <p:nvPr/>
        </p:nvSpPr>
        <p:spPr>
          <a:xfrm>
            <a:off x="1893960" y="857160"/>
            <a:ext cx="25718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ботка объекта раствором дезсредства с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ниженно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актерицидной концентрацией ДВ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Cloud"/>
          <p:cNvSpPr/>
          <p:nvPr/>
        </p:nvSpPr>
        <p:spPr>
          <a:xfrm>
            <a:off x="1979640" y="1916280"/>
            <a:ext cx="1944720" cy="2089080"/>
          </a:xfrm>
          <a:custGeom>
            <a:avLst/>
            <a:gdLst>
              <a:gd name="textAreaLeft" fmla="*/ 267840 w 1944720"/>
              <a:gd name="textAreaRight" fmla="*/ 1538640 w 1944720"/>
              <a:gd name="textAreaTop" fmla="*/ 315360 h 2089080"/>
              <a:gd name="textAreaBottom" fmla="*/ 1676880 h 208908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2143080"/>
            <a:ext cx="1366920" cy="1655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642960" y="2552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141560" y="25239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loud"/>
          <p:cNvSpPr/>
          <p:nvPr/>
        </p:nvSpPr>
        <p:spPr>
          <a:xfrm>
            <a:off x="1571760" y="245736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loud"/>
          <p:cNvSpPr/>
          <p:nvPr/>
        </p:nvSpPr>
        <p:spPr>
          <a:xfrm>
            <a:off x="8334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loud"/>
          <p:cNvSpPr/>
          <p:nvPr/>
        </p:nvSpPr>
        <p:spPr>
          <a:xfrm>
            <a:off x="1214280" y="3060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903240" y="3195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loud"/>
          <p:cNvSpPr/>
          <p:nvPr/>
        </p:nvSpPr>
        <p:spPr>
          <a:xfrm>
            <a:off x="607212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7"/>
          <p:cNvSpPr/>
          <p:nvPr/>
        </p:nvSpPr>
        <p:spPr>
          <a:xfrm>
            <a:off x="1000080" y="1714680"/>
            <a:ext cx="0" cy="42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2"/>
          <p:cNvSpPr/>
          <p:nvPr/>
        </p:nvSpPr>
        <p:spPr>
          <a:xfrm>
            <a:off x="142920" y="4714920"/>
            <a:ext cx="5429160" cy="121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ивые возбудители ВБИ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бактерии (синегнойная палочка и др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низкоустойчивые вирусы (вирус грипа, гепатита С и др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бактерии (микобактерии туберкулеза и др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стойчивые вирусы (вирус полиомиелита, гепатита 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грибы ( трихофитон и др.)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3059280" y="1700280"/>
            <a:ext cx="1440" cy="3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2"/>
          <p:cNvSpPr/>
          <p:nvPr/>
        </p:nvSpPr>
        <p:spPr>
          <a:xfrm>
            <a:off x="4500720" y="863640"/>
            <a:ext cx="22143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объекте после такой обработки могут остаться жизнеспособными все виды исход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збудителей бактерий, вирусов и гриб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2"/>
          <p:cNvSpPr/>
          <p:nvPr/>
        </p:nvSpPr>
        <p:spPr>
          <a:xfrm>
            <a:off x="6804000" y="549360"/>
            <a:ext cx="2125800" cy="257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 Опасность не вед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го зарази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ой – ни буд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е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Профилактика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и нулева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т и больные и   носит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оявлени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копление в ЛП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штаммов возбудит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й ВБИ     с боле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й     устойч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стью и к антибиоти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м,  и  к дезинфект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м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loud"/>
          <p:cNvSpPr/>
          <p:nvPr/>
        </p:nvSpPr>
        <p:spPr>
          <a:xfrm>
            <a:off x="7999560" y="342900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8"/>
          <p:cNvSpPr/>
          <p:nvPr/>
        </p:nvSpPr>
        <p:spPr>
          <a:xfrm>
            <a:off x="6643800" y="3618000"/>
            <a:ext cx="428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2"/>
          <p:cNvSpPr/>
          <p:nvPr/>
        </p:nvSpPr>
        <p:spPr>
          <a:xfrm>
            <a:off x="7500960" y="4770360"/>
            <a:ext cx="13716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 жив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ганизм                (паци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и персонал ЛПО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2"/>
          <p:cNvSpPr/>
          <p:nvPr/>
        </p:nvSpPr>
        <p:spPr>
          <a:xfrm>
            <a:off x="4675320" y="142920"/>
            <a:ext cx="414468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грозы и последствия ситуации с дезсредствам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loud"/>
          <p:cNvSpPr/>
          <p:nvPr/>
        </p:nvSpPr>
        <p:spPr>
          <a:xfrm>
            <a:off x="6156360" y="3357720"/>
            <a:ext cx="344520" cy="21564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5640"/>
              <a:gd name="textAreaBottom" fmla="*/ 173160 h 21564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loud"/>
          <p:cNvSpPr/>
          <p:nvPr/>
        </p:nvSpPr>
        <p:spPr>
          <a:xfrm>
            <a:off x="6143760" y="293832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8"/>
          <p:cNvSpPr/>
          <p:nvPr/>
        </p:nvSpPr>
        <p:spPr>
          <a:xfrm flipV="1">
            <a:off x="1360440" y="37857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100"/>
          <p:cNvSpPr/>
          <p:nvPr/>
        </p:nvSpPr>
        <p:spPr>
          <a:xfrm>
            <a:off x="8358120" y="35845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03"/>
          <p:cNvSpPr/>
          <p:nvPr/>
        </p:nvSpPr>
        <p:spPr>
          <a:xfrm>
            <a:off x="1382760" y="4286160"/>
            <a:ext cx="697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loud"/>
          <p:cNvSpPr/>
          <p:nvPr/>
        </p:nvSpPr>
        <p:spPr>
          <a:xfrm>
            <a:off x="426960" y="5381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loud"/>
          <p:cNvSpPr/>
          <p:nvPr/>
        </p:nvSpPr>
        <p:spPr>
          <a:xfrm>
            <a:off x="1523880" y="3071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loud"/>
          <p:cNvSpPr/>
          <p:nvPr/>
        </p:nvSpPr>
        <p:spPr>
          <a:xfrm>
            <a:off x="1285920" y="27496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loud"/>
          <p:cNvSpPr/>
          <p:nvPr/>
        </p:nvSpPr>
        <p:spPr>
          <a:xfrm>
            <a:off x="5364000" y="30481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loud"/>
          <p:cNvSpPr/>
          <p:nvPr/>
        </p:nvSpPr>
        <p:spPr>
          <a:xfrm>
            <a:off x="5070600" y="32259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loud"/>
          <p:cNvSpPr/>
          <p:nvPr/>
        </p:nvSpPr>
        <p:spPr>
          <a:xfrm>
            <a:off x="1285920" y="33098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loud"/>
          <p:cNvSpPr/>
          <p:nvPr/>
        </p:nvSpPr>
        <p:spPr>
          <a:xfrm>
            <a:off x="6429240" y="3124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loud"/>
          <p:cNvSpPr/>
          <p:nvPr/>
        </p:nvSpPr>
        <p:spPr>
          <a:xfrm>
            <a:off x="426960" y="50007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loud"/>
          <p:cNvSpPr/>
          <p:nvPr/>
        </p:nvSpPr>
        <p:spPr>
          <a:xfrm>
            <a:off x="428760" y="555948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426960" y="51912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Cloud"/>
          <p:cNvSpPr/>
          <p:nvPr/>
        </p:nvSpPr>
        <p:spPr>
          <a:xfrm>
            <a:off x="415800" y="57513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8"/>
          <p:cNvSpPr/>
          <p:nvPr/>
        </p:nvSpPr>
        <p:spPr>
          <a:xfrm rot="16200000">
            <a:off x="6857640" y="3214440"/>
            <a:ext cx="1214640" cy="7858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loud"/>
          <p:cNvSpPr/>
          <p:nvPr/>
        </p:nvSpPr>
        <p:spPr>
          <a:xfrm>
            <a:off x="7524720" y="378936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loud"/>
          <p:cNvSpPr/>
          <p:nvPr/>
        </p:nvSpPr>
        <p:spPr>
          <a:xfrm>
            <a:off x="7215120" y="35528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loud"/>
          <p:cNvSpPr/>
          <p:nvPr/>
        </p:nvSpPr>
        <p:spPr>
          <a:xfrm>
            <a:off x="7215120" y="31431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loud"/>
          <p:cNvSpPr/>
          <p:nvPr/>
        </p:nvSpPr>
        <p:spPr>
          <a:xfrm>
            <a:off x="7224840" y="387504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"/>
          <p:cNvSpPr/>
          <p:nvPr/>
        </p:nvSpPr>
        <p:spPr>
          <a:xfrm>
            <a:off x="7570800" y="35002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"/>
          <p:cNvSpPr/>
          <p:nvPr/>
        </p:nvSpPr>
        <p:spPr>
          <a:xfrm>
            <a:off x="8213760" y="34830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Cloud"/>
          <p:cNvSpPr/>
          <p:nvPr/>
        </p:nvSpPr>
        <p:spPr>
          <a:xfrm>
            <a:off x="7642080" y="321480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loud"/>
          <p:cNvSpPr/>
          <p:nvPr/>
        </p:nvSpPr>
        <p:spPr>
          <a:xfrm>
            <a:off x="8459640" y="32846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loud"/>
          <p:cNvSpPr/>
          <p:nvPr/>
        </p:nvSpPr>
        <p:spPr>
          <a:xfrm>
            <a:off x="8070840" y="3267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29"/>
          <p:cNvSpPr/>
          <p:nvPr/>
        </p:nvSpPr>
        <p:spPr>
          <a:xfrm>
            <a:off x="6643800" y="3071880"/>
            <a:ext cx="0" cy="69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2"/>
          <p:cNvSpPr/>
          <p:nvPr/>
        </p:nvSpPr>
        <p:spPr>
          <a:xfrm>
            <a:off x="5786280" y="4749840"/>
            <a:ext cx="128592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убитый дезинфектан-том возбудитель В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Cloud"/>
          <p:cNvSpPr/>
          <p:nvPr/>
        </p:nvSpPr>
        <p:spPr>
          <a:xfrm>
            <a:off x="853272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Cloud"/>
          <p:cNvSpPr/>
          <p:nvPr/>
        </p:nvSpPr>
        <p:spPr>
          <a:xfrm>
            <a:off x="5857920" y="47862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2"/>
          <p:cNvSpPr/>
          <p:nvPr/>
        </p:nvSpPr>
        <p:spPr>
          <a:xfrm>
            <a:off x="2143080" y="4357800"/>
            <a:ext cx="51436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ловные обознач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loud"/>
          <p:cNvSpPr/>
          <p:nvPr/>
        </p:nvSpPr>
        <p:spPr>
          <a:xfrm>
            <a:off x="7927920" y="378612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8"/>
          <p:cNvSpPr/>
          <p:nvPr/>
        </p:nvSpPr>
        <p:spPr>
          <a:xfrm rot="16200000">
            <a:off x="7500960" y="5000400"/>
            <a:ext cx="500040" cy="214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loud"/>
          <p:cNvSpPr/>
          <p:nvPr/>
        </p:nvSpPr>
        <p:spPr>
          <a:xfrm>
            <a:off x="8043840" y="306864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8028000" y="3573360"/>
            <a:ext cx="344520" cy="216000"/>
          </a:xfrm>
          <a:custGeom>
            <a:avLst/>
            <a:gdLst>
              <a:gd name="textAreaLeft" fmla="*/ 47520 w 344520"/>
              <a:gd name="textAreaRight" fmla="*/ 272520 w 344520"/>
              <a:gd name="textAreaTop" fmla="*/ 32400 h 216000"/>
              <a:gd name="textAreaBottom" fmla="*/ 173520 h 21600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loud"/>
          <p:cNvSpPr/>
          <p:nvPr/>
        </p:nvSpPr>
        <p:spPr>
          <a:xfrm>
            <a:off x="785880" y="34624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loud"/>
          <p:cNvSpPr/>
          <p:nvPr/>
        </p:nvSpPr>
        <p:spPr>
          <a:xfrm>
            <a:off x="4572000" y="337824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loud"/>
          <p:cNvSpPr/>
          <p:nvPr/>
        </p:nvSpPr>
        <p:spPr>
          <a:xfrm>
            <a:off x="788508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85"/>
          <p:cNvSpPr/>
          <p:nvPr/>
        </p:nvSpPr>
        <p:spPr>
          <a:xfrm>
            <a:off x="5651640" y="3284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loud"/>
          <p:cNvSpPr/>
          <p:nvPr/>
        </p:nvSpPr>
        <p:spPr>
          <a:xfrm>
            <a:off x="6715080" y="418608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loud"/>
          <p:cNvSpPr/>
          <p:nvPr/>
        </p:nvSpPr>
        <p:spPr>
          <a:xfrm>
            <a:off x="6372360" y="418608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loud"/>
          <p:cNvSpPr/>
          <p:nvPr/>
        </p:nvSpPr>
        <p:spPr>
          <a:xfrm>
            <a:off x="6097680" y="32288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loud"/>
          <p:cNvSpPr/>
          <p:nvPr/>
        </p:nvSpPr>
        <p:spPr>
          <a:xfrm>
            <a:off x="6240600" y="3602160"/>
            <a:ext cx="215640" cy="9036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loud"/>
          <p:cNvSpPr/>
          <p:nvPr/>
        </p:nvSpPr>
        <p:spPr>
          <a:xfrm>
            <a:off x="6138720" y="293688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Cloud"/>
          <p:cNvSpPr/>
          <p:nvPr/>
        </p:nvSpPr>
        <p:spPr>
          <a:xfrm>
            <a:off x="7380360" y="3357720"/>
            <a:ext cx="216000" cy="9036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360"/>
              <a:gd name="textAreaBottom" fmla="*/ 72720 h 903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Cloud"/>
          <p:cNvSpPr/>
          <p:nvPr/>
        </p:nvSpPr>
        <p:spPr>
          <a:xfrm>
            <a:off x="608472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Cloud"/>
          <p:cNvSpPr/>
          <p:nvPr/>
        </p:nvSpPr>
        <p:spPr>
          <a:xfrm>
            <a:off x="8244000" y="285264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loud"/>
          <p:cNvSpPr/>
          <p:nvPr/>
        </p:nvSpPr>
        <p:spPr>
          <a:xfrm>
            <a:off x="7812000" y="285264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cc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loud"/>
          <p:cNvSpPr/>
          <p:nvPr/>
        </p:nvSpPr>
        <p:spPr>
          <a:xfrm>
            <a:off x="5796000" y="419400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loud"/>
          <p:cNvSpPr/>
          <p:nvPr/>
        </p:nvSpPr>
        <p:spPr>
          <a:xfrm>
            <a:off x="8028000" y="2833560"/>
            <a:ext cx="216000" cy="90720"/>
          </a:xfrm>
          <a:custGeom>
            <a:avLst/>
            <a:gdLst>
              <a:gd name="textAreaLeft" fmla="*/ 29520 w 216000"/>
              <a:gd name="textAreaRight" fmla="*/ 171000 w 21600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Cloud"/>
          <p:cNvSpPr/>
          <p:nvPr/>
        </p:nvSpPr>
        <p:spPr>
          <a:xfrm>
            <a:off x="5508720" y="4194000"/>
            <a:ext cx="215640" cy="90720"/>
          </a:xfrm>
          <a:custGeom>
            <a:avLst/>
            <a:gdLst>
              <a:gd name="textAreaLeft" fmla="*/ 29520 w 215640"/>
              <a:gd name="textAreaRight" fmla="*/ 170640 w 215640"/>
              <a:gd name="textAreaTop" fmla="*/ 13680 h 90720"/>
              <a:gd name="textAreaBottom" fmla="*/ 73080 h 9072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lnTo>
                  <a:pt x="1949" y="7180"/>
                </a:ln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3429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лагодарю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08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аблица 1 -  Динамика разработки и регистрации дезсредств для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медицинской практики на основе основных групп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действующи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1525680"/>
          <a:ext cx="8569080" cy="5209920"/>
        </p:xfrm>
        <a:graphic>
          <a:graphicData uri="http://schemas.openxmlformats.org/drawingml/2006/table">
            <a:tbl>
              <a:tblPr/>
              <a:tblGrid>
                <a:gridCol w="3529080"/>
                <a:gridCol w="863280"/>
                <a:gridCol w="865440"/>
                <a:gridCol w="863640"/>
                <a:gridCol w="936360"/>
                <a:gridCol w="1511280"/>
              </a:tblGrid>
              <a:tr h="4989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зсредства на основе действующих веществ (ДВ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зарегистрированных дезсредств (исключая   кожные антисептики) на перио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.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.20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всего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.10.20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искусствен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ышенными по эффективности режима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2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слородсодержащих ДВ и  их композиций с ЧАС, серебром,   др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ьдегидсодержащих Д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альдегиды и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</a:t>
                      </a: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6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амин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2 ДВ (ЧАС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зиций из 3 ДВ (ЧАС, амина и ПГМГХ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 на конкретный период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1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блица 2 - Режимы применения аналогичных дезсредств на основе   только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АС, выданные  аккредитованными испытательными центрам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11280" y="1052640"/>
          <a:ext cx="7921440" cy="5586120"/>
        </p:xfrm>
        <a:graphic>
          <a:graphicData uri="http://schemas.openxmlformats.org/drawingml/2006/table">
            <a:tbl>
              <a:tblPr/>
              <a:tblGrid>
                <a:gridCol w="1224000"/>
                <a:gridCol w="1441440"/>
                <a:gridCol w="1150920"/>
                <a:gridCol w="1152360"/>
                <a:gridCol w="1079640"/>
                <a:gridCol w="1008000"/>
                <a:gridCol w="86508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туберкулез и вирусы типа полиомие-лит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 –Форте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4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ЦНИИЭ,</a:t>
                      </a: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2005 г.№016-1/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 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-75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37,5% ЧАС и </a:t>
                      </a:r>
                      <a:r>
                        <a:rPr b="1" lang="ru-RU" sz="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всп. компоненты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4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5 г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1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Эком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53,7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1-1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20 ми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15 мин(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оводез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 ж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5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6-2/20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птодо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0% смесь 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4 г.№1-1/200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00040" y="50004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3 - Спороцидная активность ЧАС, используемых в качестве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субстанций (ДВ) у многих зарегистрированны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дезсредст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397160"/>
          <a:ext cx="8280360" cy="4195440"/>
        </p:xfrm>
        <a:graphic>
          <a:graphicData uri="http://schemas.openxmlformats.org/drawingml/2006/table">
            <a:tbl>
              <a:tblPr/>
              <a:tblGrid>
                <a:gridCol w="1379520"/>
                <a:gridCol w="1380960"/>
                <a:gridCol w="1379520"/>
                <a:gridCol w="1379520"/>
                <a:gridCol w="1381320"/>
                <a:gridCol w="1379520"/>
              </a:tblGrid>
              <a:tr h="606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тант на основе 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центрация рабочего раствора,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по Д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оры тест-куль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ходная концентрация спор в дезратворе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таточная концентрация живых спор в дезрастворе чере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ин., спо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‑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4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льтамин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9±0,2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39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42±0,1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±0,22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90±0,1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4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шт.9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13±0,06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8±0,1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,0±0,05)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8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,3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 row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рквад МСВ-5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, Шв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50% ЧАС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anthracis (шт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И‑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4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3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2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ili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u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шт.96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±0,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ru-RU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Таблица 4 - Режимы применения </a:t>
            </a: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одного и того же дезсредства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на основе   только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ЧАС, выданные  в аккредитованных испытательных центрах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052640"/>
          <a:ext cx="7921440" cy="5740200"/>
        </p:xfrm>
        <a:graphic>
          <a:graphicData uri="http://schemas.openxmlformats.org/drawingml/2006/table">
            <a:tbl>
              <a:tblPr/>
              <a:tblGrid>
                <a:gridCol w="1224000"/>
                <a:gridCol w="1512720"/>
                <a:gridCol w="1152720"/>
                <a:gridCol w="1150920"/>
                <a:gridCol w="1441440"/>
                <a:gridCol w="143964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- испытатель и разработчик  инструкц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16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бактерии, кроме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  (туберкулез и вирусы типа полиомие-ли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 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Д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И им. Д.И. Ивановск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ВолгНИИПЧИ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03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-02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ле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клатрата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ИЛЦ ФГУЗ ЦНИИЭ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 г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3-05/06-И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4%,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мин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ач. темп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3-06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9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лтогр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5% клатрат ЧАС и всп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оненты в виде мелких грану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РНИИТО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им Р.Р. Вредена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ЛЦ ФГУЗ ЦНИИЭ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5-10/07-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8% ,   50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начальная темпера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тура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,9%,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660033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°</a:t>
                      </a: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одические рекомендации. «Обоснования выборау химических дезинфицирующих и стерилизующих средств для применения в организациях, занимающихся медицинской деятельностью»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  - 12 (проект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убликован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сайт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info@niid.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сужде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в ноябре 2011 г за  «круглым столом», проведенном в НИИД, откорректированы с учетом замечаний и предложений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кумент разработан в помощь эпидемиологам  и персоналу ЛПО на основе данных науки и практики специалистами НИИД с участием ведущих специалистов страны.</a:t>
            </a:r>
            <a:br>
              <a:rPr sz="1800"/>
            </a:b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о сих пор не может выйти из лабиринтов РОСПОТРЕБНАДЗ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Цитата из докум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Не обладают спороцидной активностью средства на основе ЧАС, полимерных и мономерных производных гуанидина, третичных алкиламинов, спиртов, производных фенолов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</a:rPr>
              <a:t> и композиционные составы на основе этих соединений, независимо от концентрации последних в средстве или его рабочих растворах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800000"/>
                </a:solidFill>
                <a:latin typeface="Times New Roman"/>
              </a:rPr>
              <a:t>Их нельзя применять ни для дезинфекции объектов, контаминированных бактериями в споровой форме, ни для дезинфекции высокого уровня эндоскопов (ДВУ), используемых при нестерильных эндоскопических манипуляциях, ни для стерилизации изделий медицинского назначен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жимы применения аналогичных дезсредств на основе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 основе   ЧАС и ПМГ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, выданные  аккредитованными испытательными центр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1280" y="1052640"/>
          <a:ext cx="7921440" cy="5211720"/>
        </p:xfrm>
        <a:graphic>
          <a:graphicData uri="http://schemas.openxmlformats.org/drawingml/2006/table">
            <a:tbl>
              <a:tblPr/>
              <a:tblGrid>
                <a:gridCol w="1224000"/>
                <a:gridCol w="1296720"/>
                <a:gridCol w="1224000"/>
                <a:gridCol w="1079640"/>
                <a:gridCol w="1081080"/>
                <a:gridCol w="1079640"/>
                <a:gridCol w="936360"/>
              </a:tblGrid>
              <a:tr h="457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став дезсред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то испытывал средство и разработал  инструкцию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Год и № инструкции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дписываемая концентрация раствора дезсредства (</a:t>
                      </a:r>
                      <a:r>
                        <a:rPr b="1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о ДВ)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и экспозиции    60 минут д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ции (бактерии, кроме возбудителя туберкулез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(возб. туберкулеза и резистен-тные вирус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зинфек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 ПС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ерилиза-ции ИМ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Вендел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11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1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0,11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36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(30 мин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ксиди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7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ПГМГХ и вс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мпонен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8 г. №02/08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2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4% 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рисепт-Гамм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9% ЧАС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% амии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% ПГМГХ и всп.комп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ИЛЦ «РНИИТО» им Р.Р. Вредена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09 г. №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019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38%,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057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66% ДВ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,5% 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364680"/>
            <a:ext cx="7983720" cy="176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роекта документа : «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тодические рекомендации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Р 3.5.1.       - 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сква 2012</a:t>
            </a:r>
            <a:br>
              <a:rPr sz="4800"/>
            </a:b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Минимальные концентрац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некоторых действующих веществ  в рабочих растворах дезинфицирующих средств  при бактериальных (кроме туберкулеза) инфекциях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71640" y="2349360"/>
          <a:ext cx="7200720" cy="3692520"/>
        </p:xfrm>
        <a:graphic>
          <a:graphicData uri="http://schemas.openxmlformats.org/drawingml/2006/table">
            <a:tbl>
              <a:tblPr/>
              <a:tblGrid>
                <a:gridCol w="3313080"/>
                <a:gridCol w="38876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йствующее веществ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центрация рабочего раствора по действующему веществу, %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Четвертичные аммониевые соеди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2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Полимерные производные гуанид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Третичные алкиламины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Композиции на основе нескольких перечисленных выше действующих веществ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Не менее 0,01 (по сумме действующих веществ)</a:t>
                      </a:r>
                      <a:r>
                        <a:rPr b="0" lang="ru-RU" sz="1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65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триевая соль дихлоризоциануровой кислоты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0,015 (по активному хлор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кись водорода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3,0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4:17:33Z</dcterms:created>
  <dc:creator>Admin</dc:creator>
  <dc:description/>
  <dc:language>en-US</dc:language>
  <cp:lastModifiedBy>LEGION</cp:lastModifiedBy>
  <dcterms:modified xsi:type="dcterms:W3CDTF">2015-12-31T12:49:46Z</dcterms:modified>
  <cp:revision>5254</cp:revision>
  <dc:subject/>
  <dc:title>«Состояние разработки и регистрации современных дезинфицирующих средств» Авторы: Канищев В. В. (НИЦ ФГКУ»№№ ЦНИИИ МО РФ) Еремеева Н.И. (УНИИФ Росмедтехнологий) Докладчик: д.м.н., профессор Канищев Владимир Васильевич</dc:title>
</cp:coreProperties>
</file>