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784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CD99-8CF9-409D-96CB-1BF4FAF8AB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ы: Канищев В. В. (НИЦ ФГКУ»№№ ЦНИИИ МО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ремеева Н.И. (УНИИФ Росмед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ы: Канищев В. В. (НИЦ ФГКУ»№№ ЦНИИИ МО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ремеева Н.И. (УНИИФ Росмед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циональная концепция профилактики инфекций, связанных с оказанием медицинской помощи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а Главным государственным санитарным врачом   РФ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 ноября 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1. Повышение эффективности дезинфекционных и стерилизационных меропри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с отсутствием во многих случаях должной квалифицированной его экспертной оцен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циональная концепция профилактики инфекций, связанных с оказанием медицинской помощи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а Главным государственным санитарным врачом   РФ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 ноября 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1. Повышение эффективности дезинфекционных и стерилизационных меропри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с отсутствием во многих случаях должной квалифицированной его экспертной оцен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 7 -Динамика внедрения дезсредств и качества их экспертизы при регист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 7 -Динамика внедрения дезсредств и качества их экспертизы при регист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2005 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2005 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2005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2005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аяся ситуация с дезинфицирующими средствами – это «Дезинфектологический  тупик»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«Де факто» узаконено обращение и применение в практике большого количества дезсредств (более 50%) , имеющих явно искусственно завышенные по эффективности или нереальные для состава ДВ режимы применен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спользование таких дезсредств в ЛПО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появления, накопления и циркуляции в ЛПО возбудителей ВБИ с более высокой устойчивостью (в том числе приобретенной) к используемым в средствах Д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щение и применение в практике таких дезсред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тесняет из медицинской практики ( и не только отечественной) средства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ет бесперспективной 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гистрация таких дезсредств для практического применения дискредитирует все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аяся ситуация с дезинфицирующими средствами – это «Дезинфектологический  тупик»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«Де факто» узаконено обращение и применение в практике большого количества дезсредств (более 50%) , имеющих явно искусственно завышенные по эффективности или нереальные для состава ДВ режимы применен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спользование таких дезсредств в ЛПО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появления, накопления и циркуляции в ЛПО возбудителей ВБИ с более высокой устойчивостью (в том числе приобретенной) к используемым в средствах Д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щение и применение в практике таких дезсред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тесняет из медицинской практики ( и не только отечественной) средства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ет бесперспективной 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гистрация таких дезсредств для практического применения дискредитирует все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ного при отработке тест - микроба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ного при отработке тест - микроба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(мы просто обязаны) решительно и быстрее выйти из этого тупи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(мы просто обязаны) решительно и быстрее выйти из этого тупи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эпидемическое предназначение применения дезинфицирующи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тв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организ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ухода и обстан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Н, использова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и, оде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х и  их окруж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рхности помещени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ящихся в них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я и белье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будителей  инфек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. - тех.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, вода, проду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(или в) объектах ,  являющихся потенциальными факторами передачи возбуд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й, в целях предотвращения возникновения и распространения различ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х заболеваний среди людей через эти объек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 применения дез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эпидемическое предназначение применения дезинфицирующи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тв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организ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ухода и обстан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Н, использова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и, оде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х и  их окруж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рхности помещени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ящихся в них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я и белье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будителей  инфек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. - тех.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, вода, проду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(или в) объектах ,  являющихся потенциальными факторами передачи возбуд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й, в целях предотвращения возникновения и распространения различ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х заболеваний среди людей через эти объек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 применения дез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Micobacterium В-5, существенно уступающей возбудителю по устойчивости к химическим дезинфектан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й аттестации, а также переаттестации на добровольной основе туберкулоцидных режимов на новом тест - микробе (Micobacterium terra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Micobacterium В-5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0 и более раз ниже, чем необходимо за то же время для обеспечения эффективной дезинфекции в отношении возбудителя туберкулеза (причем музейного штамма Н37RV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Micobacterium В-5, существенно уступающей возбудителю по устойчивости к химическим дезинфектан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й аттестации, а также переаттестации на добровольной основе туберкулоцидных режимов на новом тест - микробе (Micobacterium terra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Micobacterium В-5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0 и более раз ниже, чем необходимо за то же время для обеспечения эффективной дезинфекции в отношении возбудителя туберкулеза (причем музейного штамма Н37RV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х два действующих вещества (ЧАС и триамин)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х два действующих вещества (ЧАС и триамин)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заниженной бактерицидной концентрацией Д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 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озы и последствия ситуации с дезсредств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заниженной бактерицидной концентрацией Д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 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озы и последствия ситуации с дезсредств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1 -  Динамика разработки и регистрации дезсредств для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медицинской практики на основе основных групп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действующих вещ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1 -  Динамика разработки и регистрации дезсредств для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медицинской практики на основе основных групп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действующих вещ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2 - Режимы применения аналогичных дезсредств на основе   только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ЧАС, выданные  аккредитованными испытательными центр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2 - Режимы применения аналогичных дезсредств на основе   только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ЧАС, выданные  аккредитованными испытательными центр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4 - Режимы применения одного и того же дезсредства на основе   только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ЧАС, выданные  в аккредитованных испытательных цент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4 - Режимы применения одного и того же дезсредства на основе   только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ЧАС, выданные  в аккредитованных испытательных цент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  - 12 (проект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ы на сайте info@niid.ru, обсуждены в ноябре 2011 г за  «круглым столом», проведенном в НИИД, откорректированы с учетом замечаний и предлож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сих пор не может выйти из лабиринтов РОСПОТРЕБНАДЗ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ата из доку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 и композиционные составы на основе этих соединений, независимо от концентрации последних в средстве или его рабочих раство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  - 12 (проект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ы на сайте info@niid.ru, обсуждены в ноябре 2011 г за  «круглым столом», проведенном в НИИД, откорректированы с учетом замечаний и предлож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сих пор не может выйти из лабиринтов РОСПОТРЕБНАДЗ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ата из доку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 и композиционные составы на основе этих соединений, независимо от концентрации последних в средстве или его рабочих раство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ы применения аналогичных дезсредств на основе на основе   ЧАС и ПМГХ , выданные  аккредитованными испытательными цент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ы применения аналогичных дезсредств на основе на основе   ЧАС и ПМГХ , выданные  аккредитованными испытательными цент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оекта документа : «Методические рекомендац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.       - 12, Москва 2012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концентр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оекта документа : «Методические рекомендац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.       - 12, Москва 2012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концентр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96CE-E104-4FD2-8EB8-79197FA2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C28E-281A-4F79-BEBC-06919AAE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44B6-742E-40EC-8E4E-C6C4BE60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EB84-1E9E-4122-9ABD-D9B31F24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9305-15EA-4E22-83C3-BD6077C5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158B-676B-4AD9-A4DA-6A0AF20D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9D55-08E1-4F4E-AE40-353C2010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A0DF-0C3C-45E0-9FEF-FBD1C710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34B9-0489-4571-AC6D-9FE6EDDB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BD19-4176-433F-9088-63285E07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2AC7-4E29-46D8-90C1-E81FC721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46E4-1817-4B74-B958-E2CC4F86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3CB8-F145-446A-9295-DCA21B9151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fo@niid.r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8164440" cy="1800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9960" y="2276280"/>
            <a:ext cx="8164440" cy="3740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торы: Канищев В. В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Ц ФГКУ»№№ ЦНИИИ МО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ремеева Н.И. (УНИИФ Росмедтехнолог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627120"/>
            <a:ext cx="8218440" cy="93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11280" y="1581120"/>
          <a:ext cx="7986600" cy="5246640"/>
        </p:xfrm>
        <a:graphic>
          <a:graphicData uri="http://schemas.openxmlformats.org/drawingml/2006/table">
            <a:tbl>
              <a:tblPr/>
              <a:tblGrid>
                <a:gridCol w="1439640"/>
                <a:gridCol w="1297080"/>
                <a:gridCol w="1295280"/>
                <a:gridCol w="1405080"/>
                <a:gridCol w="2549520"/>
              </a:tblGrid>
              <a:tr h="603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то испытывал средство и разработал  инструкцию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регистраци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значение и и предписываемый режим применения дез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устимое содерж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анПиН 2.1.4. 1074-01) в питьевой водопроводной воде веществ, способных оказывать бактериостатическое действие на микроорганизмы или нейтрализовать ЧАС и др. Д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левое назначени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центрация средства по ДВ и время воздейств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Дезави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9% ПГМГХ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(2008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П-01/08)</a:t>
                      </a:r>
                      <a:r>
                        <a:rPr b="0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(бактери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006% в сумме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иды - 0,035 % (350 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о - 0,0001%    (до 1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ь -    0,0001%     (1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тор-     0,00015%    (1,5 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 (анион-активные) -0,00003%    (0,3 мг/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Ника Амицид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% 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ГМГХ и вспом.компон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10 г.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0,0011% в сумме, 60 мин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Эквивален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% 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ГМГХ и вспом.компон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11 г.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(0,0006% в сумме, 90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езави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Концентра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42,2% ПГМГХ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8% ЧАС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 ЭЧ 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.А.Н. Сыси-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№ДК-02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ззараживание питьевой воды централи-зованного водоснаб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,04 мг/л д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 мг/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от 0,000004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 0,00004%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циональная концепция профилактики инфекций, связанных с оказанием медицинской помощ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верждена Главным государственным санитарным врачом   РФ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  ноября 201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1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ение эффективности дезинфекционных и стерилизационных мероприя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 отсутствием во многих случаях должной квалифицированной его экспертной оцен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344520"/>
            <a:ext cx="8218440" cy="636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аблица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7 -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инамика внедрения дезсредств и качества их экспертизы при регист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1680" y="1197000"/>
          <a:ext cx="8577360" cy="5143320"/>
        </p:xfrm>
        <a:graphic>
          <a:graphicData uri="http://schemas.openxmlformats.org/drawingml/2006/table">
            <a:tbl>
              <a:tblPr/>
              <a:tblGrid>
                <a:gridCol w="2830320"/>
                <a:gridCol w="1440000"/>
                <a:gridCol w="1143000"/>
                <a:gridCol w="3164040"/>
              </a:tblGrid>
              <a:tr h="4914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зсредства на основе действующих веществ (ДВ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дезсредств (исключая   антисептики) на период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г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 г.(на основе анализа инструкций , опубликованных на сайте «ДЕЗРЕЕСТР»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сомнительными по эффективности режимами или сферой примен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их ДВ и  их композиций с ЧАС, серебром,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дегид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альдегидсодержащих ДВ и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и ам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и гуани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, амина и гуани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риля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 с 20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7 (50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опубликованны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айте ДЕЗРЕЕСТР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, </a:t>
                      </a:r>
                      <a:r>
                        <a:rPr b="1" lang="ru-RU" sz="11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регистрированных посл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4 г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546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 испытания, регистрации и сертификации дезсредст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 2005 г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0"/>
          <p:cNvGrpSpPr/>
          <p:nvPr/>
        </p:nvGrpSpPr>
        <p:grpSpPr>
          <a:xfrm>
            <a:off x="382680" y="1039680"/>
            <a:ext cx="8366040" cy="5480280"/>
            <a:chOff x="382680" y="1039680"/>
            <a:chExt cx="8366040" cy="5480280"/>
          </a:xfrm>
        </p:grpSpPr>
        <p:sp>
          <p:nvSpPr>
            <p:cNvPr id="133" name="Rectangle 5"/>
            <p:cNvSpPr/>
            <p:nvPr/>
          </p:nvSpPr>
          <p:spPr>
            <a:xfrm>
              <a:off x="382680" y="2022480"/>
              <a:ext cx="3638520" cy="9288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НИД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пытание по оценке соответствия физ.- хим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оказателям,  дезактивности и токсичности,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тработка режимов применен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в медицинской практи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6"/>
            <p:cNvSpPr/>
            <p:nvPr/>
          </p:nvSpPr>
          <p:spPr>
            <a:xfrm>
              <a:off x="6978600" y="4933800"/>
              <a:ext cx="1486080" cy="68580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идетель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егист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>
              <a:off x="1312920" y="5289480"/>
              <a:ext cx="1440" cy="21456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>
              <a:off x="4019400" y="2262240"/>
              <a:ext cx="568440" cy="14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4562640" y="1982880"/>
              <a:ext cx="3922560" cy="14284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в НИИ ЖГ, НИИ мол., пиво-безалко., мясрой пром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(при теснейшем методическом взаимодейс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твии с НИИД и контроле )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ценка пригодности и отработка целев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жимов применения на соответствующ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слевых объект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7"/>
            <p:cNvSpPr/>
            <p:nvPr/>
          </p:nvSpPr>
          <p:spPr>
            <a:xfrm>
              <a:off x="395280" y="4076640"/>
              <a:ext cx="3656160" cy="11826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слушивание на заседании Федеральн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омиссиии экспертных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ключений, обсужде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ие их и других материалов (НТД, проек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струкций и др.) членами  комиссии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аждое регистрируемое  дезсредство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2228760" y="3868560"/>
              <a:ext cx="1800" cy="214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 flipH="1" flipV="1">
              <a:off x="3990960" y="3218040"/>
              <a:ext cx="581040" cy="14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2"/>
            <p:cNvSpPr/>
            <p:nvPr/>
          </p:nvSpPr>
          <p:spPr>
            <a:xfrm>
              <a:off x="2968560" y="1039680"/>
              <a:ext cx="2362320" cy="849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едлагаемое к регистр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РОССИИ дезсред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5189400" y="1644480"/>
              <a:ext cx="425520" cy="32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 flipH="1">
              <a:off x="6687720" y="5292720"/>
              <a:ext cx="319320" cy="32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2171880" y="2949480"/>
              <a:ext cx="1440" cy="214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2"/>
            <p:cNvSpPr/>
            <p:nvPr/>
          </p:nvSpPr>
          <p:spPr>
            <a:xfrm>
              <a:off x="6605640" y="3510000"/>
              <a:ext cx="2143080" cy="136836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Утвержд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нструкции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егист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средства  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оспотребнадзо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"/>
            <p:cNvSpPr/>
            <p:nvPr/>
          </p:nvSpPr>
          <p:spPr>
            <a:xfrm>
              <a:off x="382680" y="3156120"/>
              <a:ext cx="3638520" cy="717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редварительное обсуждение  результат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следовани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на методкомиссии  НТС НИИ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9"/>
            <p:cNvSpPr/>
            <p:nvPr/>
          </p:nvSpPr>
          <p:spPr>
            <a:xfrm flipH="1">
              <a:off x="4040280" y="2263680"/>
              <a:ext cx="288720" cy="18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9"/>
            <p:cNvSpPr/>
            <p:nvPr/>
          </p:nvSpPr>
          <p:spPr>
            <a:xfrm flipH="1">
              <a:off x="2932200" y="1741320"/>
              <a:ext cx="349200" cy="293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 flipV="1">
              <a:off x="4030560" y="4157280"/>
              <a:ext cx="333360" cy="2052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2425680" y="5475240"/>
              <a:ext cx="1724040" cy="824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екомендац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на проведение практи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ческих испыта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7"/>
            <p:cNvSpPr/>
            <p:nvPr/>
          </p:nvSpPr>
          <p:spPr>
            <a:xfrm>
              <a:off x="422280" y="5475240"/>
              <a:ext cx="1724040" cy="831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тказ в рекомендац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егистрации дл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имен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3289320" y="5261040"/>
              <a:ext cx="1440" cy="2160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 flipV="1">
              <a:off x="6505560" y="3847680"/>
              <a:ext cx="279360" cy="18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6967440" y="5646600"/>
              <a:ext cx="1509840" cy="6462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Инструкция,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твержден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оспотребнадзоро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32"/>
            <p:cNvSpPr/>
            <p:nvPr/>
          </p:nvSpPr>
          <p:spPr>
            <a:xfrm>
              <a:off x="4211640" y="4784760"/>
              <a:ext cx="2514600" cy="917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редства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выполнял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только 2 специализированны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ЛЦ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2"/>
            <p:cNvSpPr/>
            <p:nvPr/>
          </p:nvSpPr>
          <p:spPr>
            <a:xfrm>
              <a:off x="4716360" y="5877000"/>
              <a:ext cx="1805040" cy="642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ответств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>
              <a:off x="5580000" y="5681520"/>
              <a:ext cx="1800" cy="2160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8"/>
            <p:cNvSpPr/>
            <p:nvPr/>
          </p:nvSpPr>
          <p:spPr>
            <a:xfrm flipH="1">
              <a:off x="8437320" y="5132520"/>
              <a:ext cx="2142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 flipH="1">
              <a:off x="8461080" y="5996160"/>
              <a:ext cx="2142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4"/>
            <p:cNvSpPr/>
            <p:nvPr/>
          </p:nvSpPr>
          <p:spPr>
            <a:xfrm>
              <a:off x="8637480" y="4495680"/>
              <a:ext cx="0" cy="15843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300560" y="3535200"/>
              <a:ext cx="2178000" cy="503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ект инструкции 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тверждение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300560" y="3959280"/>
              <a:ext cx="2176560" cy="709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отокол с рекоменда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цией регистрации  средств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 Роспотребнадзо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 flipH="1" flipV="1">
              <a:off x="6588000" y="5516280"/>
              <a:ext cx="385920" cy="2127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9"/>
            <p:cNvSpPr/>
            <p:nvPr/>
          </p:nvSpPr>
          <p:spPr>
            <a:xfrm>
              <a:off x="4029120" y="3703680"/>
              <a:ext cx="26172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9"/>
            <p:cNvSpPr/>
            <p:nvPr/>
          </p:nvSpPr>
          <p:spPr>
            <a:xfrm flipV="1">
              <a:off x="6469200" y="4506480"/>
              <a:ext cx="279360" cy="18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617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 испытания, регистрации и сертификации дезсредст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2005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39"/>
          <p:cNvGrpSpPr/>
          <p:nvPr/>
        </p:nvGrpSpPr>
        <p:grpSpPr>
          <a:xfrm>
            <a:off x="395280" y="1052640"/>
            <a:ext cx="8386920" cy="5486400"/>
            <a:chOff x="395280" y="1052640"/>
            <a:chExt cx="8386920" cy="5486400"/>
          </a:xfrm>
        </p:grpSpPr>
        <p:sp>
          <p:nvSpPr>
            <p:cNvPr id="169" name="Rectangle 5"/>
            <p:cNvSpPr/>
            <p:nvPr/>
          </p:nvSpPr>
          <p:spPr>
            <a:xfrm>
              <a:off x="395280" y="2133720"/>
              <a:ext cx="2697480" cy="118584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НИД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пытание по оцен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соответствия физ.- хим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оказателям,  дезактивности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токсичности, отработка режим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рименения в мед. практи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6977160" y="5240160"/>
              <a:ext cx="1503360" cy="56520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идетель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егист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8"/>
            <p:cNvSpPr/>
            <p:nvPr/>
          </p:nvSpPr>
          <p:spPr>
            <a:xfrm>
              <a:off x="3668760" y="3225960"/>
              <a:ext cx="0" cy="360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"/>
            <p:cNvSpPr/>
            <p:nvPr/>
          </p:nvSpPr>
          <p:spPr>
            <a:xfrm>
              <a:off x="3165480" y="2133720"/>
              <a:ext cx="2756160" cy="10792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ИИ ЖГ, НИИ мол., пиво-безалк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мясной промышленности: 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ботка целев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жимов применения н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слевых  объект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4683240" y="3586320"/>
              <a:ext cx="1531800" cy="10666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Экспертн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ключ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в основно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дают сами ИЛ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никем 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обсуждается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8"/>
            <p:cNvSpPr/>
            <p:nvPr/>
          </p:nvSpPr>
          <p:spPr>
            <a:xfrm>
              <a:off x="5604120" y="1628640"/>
              <a:ext cx="801720" cy="505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2"/>
            <p:cNvSpPr/>
            <p:nvPr/>
          </p:nvSpPr>
          <p:spPr>
            <a:xfrm>
              <a:off x="3353040" y="1052640"/>
              <a:ext cx="2392200" cy="841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едлагаемое к регистр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РОССИИ дезсред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4605480" y="18669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2"/>
            <p:cNvSpPr/>
            <p:nvPr/>
          </p:nvSpPr>
          <p:spPr>
            <a:xfrm>
              <a:off x="6635880" y="4175280"/>
              <a:ext cx="2022480" cy="98244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гист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средства 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оспотребнадзо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 flipH="1">
              <a:off x="2797200" y="1628640"/>
              <a:ext cx="655920" cy="49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872080" y="4149720"/>
              <a:ext cx="385560" cy="14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6681960" y="3357720"/>
              <a:ext cx="2100240" cy="747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Экспертный совет пр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оспотребнадзор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рассматривает  ДС тольк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и спорных  вопросах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>
              <a:off x="4318200" y="3284640"/>
              <a:ext cx="0" cy="3603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2"/>
            <p:cNvSpPr/>
            <p:nvPr/>
          </p:nvSpPr>
          <p:spPr>
            <a:xfrm>
              <a:off x="1906560" y="5156280"/>
              <a:ext cx="2843280" cy="1152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дезсред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выполняют на коммерческой основ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азные непрофильны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центр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2"/>
            <p:cNvSpPr/>
            <p:nvPr/>
          </p:nvSpPr>
          <p:spPr>
            <a:xfrm>
              <a:off x="4505400" y="5902200"/>
              <a:ext cx="2692440" cy="636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т или декла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ответств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4459320" y="6029280"/>
              <a:ext cx="73080" cy="20808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 flipH="1">
              <a:off x="8465760" y="5538960"/>
              <a:ext cx="2178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9"/>
            <p:cNvSpPr/>
            <p:nvPr/>
          </p:nvSpPr>
          <p:spPr>
            <a:xfrm flipH="1" flipV="1">
              <a:off x="4357440" y="5373720"/>
              <a:ext cx="2624040" cy="14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4"/>
            <p:cNvSpPr/>
            <p:nvPr/>
          </p:nvSpPr>
          <p:spPr>
            <a:xfrm>
              <a:off x="8650440" y="4678200"/>
              <a:ext cx="1440" cy="9255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5"/>
            <p:cNvSpPr/>
            <p:nvPr/>
          </p:nvSpPr>
          <p:spPr>
            <a:xfrm>
              <a:off x="6016680" y="2133720"/>
              <a:ext cx="2405160" cy="10411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Различные ИЛЦ, не имеющ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ли с небольшим опыто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аучно-испытательск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работы с дезсредств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7"/>
            <p:cNvSpPr/>
            <p:nvPr/>
          </p:nvSpPr>
          <p:spPr>
            <a:xfrm>
              <a:off x="609840" y="3573360"/>
              <a:ext cx="2259000" cy="1009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Обсуждение  результатов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исследований, инструкции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заключения на методическ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комиссии  НТС НИИ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3219480" y="3598920"/>
              <a:ext cx="1457280" cy="1054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кземпляр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струкции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твержден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изводител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8"/>
            <p:cNvSpPr/>
            <p:nvPr/>
          </p:nvSpPr>
          <p:spPr>
            <a:xfrm>
              <a:off x="3884760" y="4653000"/>
              <a:ext cx="0" cy="5763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>
              <a:off x="6183360" y="4221000"/>
              <a:ext cx="569880" cy="30024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8"/>
            <p:cNvSpPr/>
            <p:nvPr/>
          </p:nvSpPr>
          <p:spPr>
            <a:xfrm>
              <a:off x="1795680" y="3344760"/>
              <a:ext cx="1440" cy="2160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6"/>
            <p:cNvSpPr/>
            <p:nvPr/>
          </p:nvSpPr>
          <p:spPr>
            <a:xfrm>
              <a:off x="4278600" y="3319560"/>
              <a:ext cx="1893600" cy="14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7"/>
            <p:cNvSpPr/>
            <p:nvPr/>
          </p:nvSpPr>
          <p:spPr>
            <a:xfrm>
              <a:off x="6189840" y="3141720"/>
              <a:ext cx="0" cy="2160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>
              <a:off x="3888000" y="4869000"/>
              <a:ext cx="2843280" cy="14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48680" cy="865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14440" y="1566720"/>
          <a:ext cx="8115120" cy="5007240"/>
        </p:xfrm>
        <a:graphic>
          <a:graphicData uri="http://schemas.openxmlformats.org/drawingml/2006/table">
            <a:tbl>
              <a:tblPr/>
              <a:tblGrid>
                <a:gridCol w="1249200"/>
                <a:gridCol w="1152720"/>
                <a:gridCol w="1150920"/>
                <a:gridCol w="1368360"/>
                <a:gridCol w="1081080"/>
                <a:gridCol w="2112840"/>
              </a:tblGrid>
              <a:tr h="6177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– испыта-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 применения (концентрация по ДВ/время воздействия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, подтвердившая декларацию о соответствии сред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снование для принятия декларации и подтверждения соответ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 поверхностей при бактериаль-ных инфек-циях (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поверхностей при бактериаль-ных (включая туберкулез) 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я  (+ПСО)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2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Алмадез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%три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%ПГМГХ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ИЛЦ ФГУ РНИИТО</a:t>
                      </a: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им Р.Р. Вредена</a:t>
                      </a: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9% по сумме  ДВ/ 3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4% по сумме ДВ /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7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ган по сертификации продукции и услуг «ПОЛИСЕРТ» автономной некоммерческой организации по сертификации «ЭЛЕКТРОСЕРТ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Протокол испытаний №665-10 от 24.11.201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Arial"/>
                        </a:rPr>
                        <a:t>ИЛЦ ФГУ «РНИИТО» им Р.Р. Вред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вид. Госрегистр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U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77.99.01.002.Е.005764.03.1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42920"/>
            <a:ext cx="8353440" cy="838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еющаяся ситуация с дезинфицирующими средства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 эт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Дезинфектологический  тупик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395280" y="1057320"/>
            <a:ext cx="8353440" cy="547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Де факто» узаконено обращение и применение в практике большого количества дезсредств (более 50%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ющих явно искусственно завышенные по эффективности или нереальные для состава ДВ режимы применения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Использовани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их дезсредств в ЛПО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не препятствует, а способствует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не препятствует, а способствует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появления, накопления и циркуляции в ЛПО возбудителей ВБИ с более высокой устойчивостью (</a:t>
            </a:r>
            <a:r>
              <a:rPr b="1" lang="ru-RU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 том числе приобретенно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 используемым в средствах Д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щение и применение в практике таких дез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вытесняет из медицинской практики ( и не только отечественной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лает бесперспективной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страция таких дезсредств для практического применения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скредитирует вс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755640" y="971640"/>
          <a:ext cx="7777080" cy="5694120"/>
        </p:xfrm>
        <a:graphic>
          <a:graphicData uri="http://schemas.openxmlformats.org/drawingml/2006/table">
            <a:tbl>
              <a:tblPr/>
              <a:tblGrid>
                <a:gridCol w="2952720"/>
                <a:gridCol w="1224000"/>
                <a:gridCol w="1800360"/>
                <a:gridCol w="1800000"/>
              </a:tblGrid>
              <a:tr h="151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 действующих веществ в средств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регистрированных дез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средств с неэффективными режимами примене-ния (занижены концентрации рабочих растворов и экспозиц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средств, с  объективно аттестованными режимами в отношении возбудителя                                           туберкул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е веще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е вещества и  их композиции с ЧАС, орг. кислотами, серебром  и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ьдеги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альдегидов с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рилян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ам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полигуанид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аминами и полигуанид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1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 *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ины и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гуанид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чание: - ( * ) - Средства дополнительно имеют еще  фиктивные режимы  стерилизации и ДВУ, поскольку не содержат  спороцидных Д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48680" cy="714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ного при отработке тест - микроб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14440" y="1268280"/>
          <a:ext cx="8018280" cy="5034240"/>
        </p:xfrm>
        <a:graphic>
          <a:graphicData uri="http://schemas.openxmlformats.org/drawingml/2006/table">
            <a:tbl>
              <a:tblPr/>
              <a:tblGrid>
                <a:gridCol w="3049560"/>
                <a:gridCol w="1439640"/>
                <a:gridCol w="3529080"/>
              </a:tblGrid>
              <a:tr h="154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в инструкции концентрации рабочих растворов при времени воздействия  (экспозиции) 60 мин. для д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зинфекции  поверхностей при бактериальных инфекциях (включая туберкулез)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% по препарату/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ептустин М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7,0% ЧАС, 6 % амин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3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г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/ 0,33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естирован на Микобактерии В- 5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г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8/09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6,0/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Тестирован на  Микобактерии Терра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еверян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% ЧАС, 10% 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% ПГМГХ и вспом. компоненты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5% ДВ в сумме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г, №02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/0,17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естирован на Микобактерии В- 5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Авирай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 ЧАС, 6% 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 ПГМГХ и вспом.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2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11 г, №14/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1,0/2,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Тестирован на  Микобактерии Терра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362800" cy="5472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ужно (мы просто обязаны) решительно и быстрее выйт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 этого тупи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тивоэпидемическое предназначение применения дезинфицирующих сред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646200" y="3571920"/>
            <a:ext cx="1782720" cy="9795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Болезнетвор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икроорганиз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07880" y="2419200"/>
            <a:ext cx="1944720" cy="4334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3060720" y="4437000"/>
            <a:ext cx="2595600" cy="32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дметы ухода и обстанов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3059280" y="4784760"/>
            <a:ext cx="2595240" cy="41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МН, использован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 бо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3059280" y="3224160"/>
            <a:ext cx="25952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уки, одеж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ольных и  их окружающ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3060720" y="2741760"/>
            <a:ext cx="2590920" cy="47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верхности помещ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ходящихся в них объ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3059280" y="4137120"/>
            <a:ext cx="2595240" cy="30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деления и белье бо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8"/>
          <p:cNvSpPr/>
          <p:nvPr/>
        </p:nvSpPr>
        <p:spPr>
          <a:xfrm rot="16200000">
            <a:off x="7027560" y="2969640"/>
            <a:ext cx="1119240" cy="1170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2771640" y="457992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2771640" y="427032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5"/>
          <p:cNvSpPr/>
          <p:nvPr/>
        </p:nvSpPr>
        <p:spPr>
          <a:xfrm>
            <a:off x="684360" y="1482840"/>
            <a:ext cx="2016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збудителей  инфекци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8"/>
          <p:cNvSpPr/>
          <p:nvPr/>
        </p:nvSpPr>
        <p:spPr>
          <a:xfrm>
            <a:off x="5670720" y="459576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5651640" y="347652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0"/>
          <p:cNvSpPr/>
          <p:nvPr/>
        </p:nvSpPr>
        <p:spPr>
          <a:xfrm>
            <a:off x="5651640" y="3068640"/>
            <a:ext cx="215640" cy="32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3"/>
          <p:cNvSpPr/>
          <p:nvPr/>
        </p:nvSpPr>
        <p:spPr>
          <a:xfrm>
            <a:off x="395280" y="2000160"/>
            <a:ext cx="0" cy="208908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6732720" y="1517760"/>
            <a:ext cx="187308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6"/>
          <p:cNvSpPr/>
          <p:nvPr/>
        </p:nvSpPr>
        <p:spPr>
          <a:xfrm>
            <a:off x="7596360" y="24922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4"/>
          <p:cNvSpPr/>
          <p:nvPr/>
        </p:nvSpPr>
        <p:spPr>
          <a:xfrm>
            <a:off x="2411280" y="4075200"/>
            <a:ext cx="360360" cy="144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5"/>
          <p:cNvSpPr/>
          <p:nvPr/>
        </p:nvSpPr>
        <p:spPr>
          <a:xfrm>
            <a:off x="3059280" y="3809880"/>
            <a:ext cx="2595240" cy="308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ан. - тех. оборуд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6"/>
          <p:cNvSpPr/>
          <p:nvPr/>
        </p:nvSpPr>
        <p:spPr>
          <a:xfrm>
            <a:off x="2771640" y="2620800"/>
            <a:ext cx="0" cy="24638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7"/>
          <p:cNvSpPr/>
          <p:nvPr/>
        </p:nvSpPr>
        <p:spPr>
          <a:xfrm>
            <a:off x="2771640" y="263520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8"/>
          <p:cNvSpPr/>
          <p:nvPr/>
        </p:nvSpPr>
        <p:spPr>
          <a:xfrm>
            <a:off x="2771640" y="307008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0"/>
          <p:cNvSpPr/>
          <p:nvPr/>
        </p:nvSpPr>
        <p:spPr>
          <a:xfrm>
            <a:off x="5651640" y="2495520"/>
            <a:ext cx="21564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1"/>
          <p:cNvSpPr/>
          <p:nvPr/>
        </p:nvSpPr>
        <p:spPr>
          <a:xfrm>
            <a:off x="5867280" y="2492280"/>
            <a:ext cx="0" cy="25192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2"/>
          <p:cNvSpPr/>
          <p:nvPr/>
        </p:nvSpPr>
        <p:spPr>
          <a:xfrm>
            <a:off x="392040" y="1987560"/>
            <a:ext cx="1968480" cy="4316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0"/>
          <p:cNvSpPr/>
          <p:nvPr/>
        </p:nvSpPr>
        <p:spPr>
          <a:xfrm>
            <a:off x="4284720" y="2131920"/>
            <a:ext cx="3240" cy="155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5"/>
          <p:cNvSpPr/>
          <p:nvPr/>
        </p:nvSpPr>
        <p:spPr>
          <a:xfrm>
            <a:off x="3059280" y="2287440"/>
            <a:ext cx="259236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здух, вода, проду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53"/>
          <p:cNvSpPr/>
          <p:nvPr/>
        </p:nvSpPr>
        <p:spPr>
          <a:xfrm>
            <a:off x="10072800" y="1071720"/>
            <a:ext cx="914400" cy="914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0"/>
          <p:cNvSpPr/>
          <p:nvPr/>
        </p:nvSpPr>
        <p:spPr>
          <a:xfrm>
            <a:off x="5651640" y="4292640"/>
            <a:ext cx="21564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2771640" y="349884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2771640" y="393228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8"/>
          <p:cNvSpPr/>
          <p:nvPr/>
        </p:nvSpPr>
        <p:spPr>
          <a:xfrm>
            <a:off x="5651640" y="399564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5"/>
          <p:cNvSpPr/>
          <p:nvPr/>
        </p:nvSpPr>
        <p:spPr>
          <a:xfrm>
            <a:off x="250920" y="5272200"/>
            <a:ext cx="849780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 (или в) объект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являющихся потенциальными факторами передачи возбуди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фекций, в целях предотвращ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озникновения и распространения различ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фекционных заболевани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реди людей через эти объек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d2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2680" y="2816280"/>
            <a:ext cx="2003400" cy="4334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4"/>
          <p:cNvSpPr/>
          <p:nvPr/>
        </p:nvSpPr>
        <p:spPr>
          <a:xfrm>
            <a:off x="442800" y="4075200"/>
            <a:ext cx="216000" cy="14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6"/>
          <p:cNvSpPr/>
          <p:nvPr/>
        </p:nvSpPr>
        <p:spPr>
          <a:xfrm>
            <a:off x="2627280" y="191628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7"/>
          <p:cNvSpPr/>
          <p:nvPr/>
        </p:nvSpPr>
        <p:spPr>
          <a:xfrm flipH="1">
            <a:off x="2340000" y="2201760"/>
            <a:ext cx="28728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7"/>
          <p:cNvSpPr/>
          <p:nvPr/>
        </p:nvSpPr>
        <p:spPr>
          <a:xfrm flipH="1">
            <a:off x="2340000" y="2633760"/>
            <a:ext cx="2872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7"/>
          <p:cNvSpPr/>
          <p:nvPr/>
        </p:nvSpPr>
        <p:spPr>
          <a:xfrm flipH="1">
            <a:off x="2340000" y="2994120"/>
            <a:ext cx="2872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0"/>
          <p:cNvSpPr/>
          <p:nvPr/>
        </p:nvSpPr>
        <p:spPr>
          <a:xfrm flipH="1">
            <a:off x="5867280" y="2647800"/>
            <a:ext cx="43344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2771640" y="1482840"/>
            <a:ext cx="360072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0"/>
          <p:cNvSpPr/>
          <p:nvPr/>
        </p:nvSpPr>
        <p:spPr>
          <a:xfrm flipH="1">
            <a:off x="5867280" y="4579920"/>
            <a:ext cx="43344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1"/>
          <p:cNvSpPr/>
          <p:nvPr/>
        </p:nvSpPr>
        <p:spPr>
          <a:xfrm>
            <a:off x="6300720" y="2635200"/>
            <a:ext cx="0" cy="266544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5867280" y="3641760"/>
            <a:ext cx="433440" cy="324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3"/>
          <p:cNvSpPr/>
          <p:nvPr/>
        </p:nvSpPr>
        <p:spPr>
          <a:xfrm>
            <a:off x="2771640" y="505152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5"/>
          <p:cNvSpPr/>
          <p:nvPr/>
        </p:nvSpPr>
        <p:spPr>
          <a:xfrm>
            <a:off x="2771640" y="841320"/>
            <a:ext cx="3384720" cy="432000"/>
          </a:xfrm>
          <a:prstGeom prst="rect">
            <a:avLst/>
          </a:prstGeom>
          <a:solidFill>
            <a:srgbClr val="008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фера  применения дез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8"/>
          <p:cNvSpPr/>
          <p:nvPr/>
        </p:nvSpPr>
        <p:spPr>
          <a:xfrm>
            <a:off x="5651640" y="501156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0"/>
          <p:cNvSpPr/>
          <p:nvPr/>
        </p:nvSpPr>
        <p:spPr>
          <a:xfrm>
            <a:off x="4280040" y="1303200"/>
            <a:ext cx="2880" cy="155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616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В-5, существенно уступающей возбудителю по устойчивости к химическим дезинфектан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бъективной аттестации, а также переаттестации на добровольной основе туберкулоцидных режимов на новом тест - микробе (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terra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В-5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600" spc="-1" strike="noStrike" u="sng">
                <a:solidFill>
                  <a:srgbClr val="660033"/>
                </a:solidFill>
                <a:uFillTx/>
                <a:latin typeface="Times New Roman"/>
              </a:rPr>
              <a:t>в 10 и более раз</a:t>
            </a:r>
            <a:r>
              <a:rPr b="1" lang="ru-RU" sz="1600" spc="-1" strike="noStrike" u="sng">
                <a:solidFill>
                  <a:srgbClr val="800000"/>
                </a:solidFill>
                <a:uFillTx/>
                <a:latin typeface="Times New Roman"/>
              </a:rPr>
              <a:t> ниже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, чем необходимо за то же время для обеспечения эффективной дезинфекции в отношении возбудителя туберкулеза (причем музейного штамма Н37</a:t>
            </a:r>
            <a:r>
              <a:rPr b="1" lang="en-US" sz="1600" spc="-1" strike="noStrike" baseline="-25000">
                <a:solidFill>
                  <a:srgbClr val="800000"/>
                </a:solidFill>
                <a:latin typeface="Times New Roman"/>
              </a:rPr>
              <a:t>RV</a:t>
            </a: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 )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4920" y="856800"/>
            <a:ext cx="8248680" cy="714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держащих два действующих вещества (ЧАС и триамин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14440" y="1787400"/>
          <a:ext cx="8115120" cy="4572000"/>
        </p:xfrm>
        <a:graphic>
          <a:graphicData uri="http://schemas.openxmlformats.org/drawingml/2006/table">
            <a:tbl>
              <a:tblPr/>
              <a:tblGrid>
                <a:gridCol w="1249200"/>
                <a:gridCol w="1079640"/>
                <a:gridCol w="1368360"/>
                <a:gridCol w="1368360"/>
                <a:gridCol w="1224000"/>
                <a:gridCol w="936720"/>
                <a:gridCol w="888840"/>
              </a:tblGrid>
              <a:tr h="770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 применения (концентрация по ДВ/время воздействия)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применения д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неральной убо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онцентрация по ДВ/время воздестви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 поверхностей при бактериальных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поверхностей при бактериальных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включая туберкулез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мати-ческих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х, кабинетах функциональ-ной диагнос-тики  и д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пербло-ках, перевя-зочных, проце-дур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ЛП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ти-зиатрического профи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урфанио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2% ЧА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% три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НЦ ПМ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05 г,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8% по  сумме ДВ / 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2% по сумм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/ 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% по сумме ДВ / - 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% по сумм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 / 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по сумме ДВ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урфаниос Плю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% ЧА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% три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РНИИТО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НЦ ПМ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,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5% по сумме 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2% по сумме ДВ /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% по сумме ДВ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0"/>
          <p:cNvSpPr/>
          <p:nvPr/>
        </p:nvSpPr>
        <p:spPr>
          <a:xfrm>
            <a:off x="4284720" y="2133720"/>
            <a:ext cx="136836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2340000" y="2143080"/>
            <a:ext cx="129528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9"/>
          <p:cNvSpPr/>
          <p:nvPr/>
        </p:nvSpPr>
        <p:spPr>
          <a:xfrm flipH="1">
            <a:off x="5143320" y="2060640"/>
            <a:ext cx="4680" cy="8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ound"/>
          <p:cNvSpPr/>
          <p:nvPr/>
        </p:nvSpPr>
        <p:spPr>
          <a:xfrm rot="1789200">
            <a:off x="1864800" y="2023560"/>
            <a:ext cx="608040" cy="235080"/>
          </a:xfrm>
          <a:custGeom>
            <a:avLst/>
            <a:gdLst>
              <a:gd name="textAreaLeft" fmla="*/ 21240 w 608040"/>
              <a:gd name="textAreaRight" fmla="*/ 593280 w 608040"/>
              <a:gd name="textAreaTop" fmla="*/ 244440 h 235080"/>
              <a:gd name="textAreaBottom" fmla="*/ 308160 h 23508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loud"/>
          <p:cNvSpPr/>
          <p:nvPr/>
        </p:nvSpPr>
        <p:spPr>
          <a:xfrm>
            <a:off x="6072120" y="33256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loud"/>
          <p:cNvSpPr/>
          <p:nvPr/>
        </p:nvSpPr>
        <p:spPr>
          <a:xfrm>
            <a:off x="4643280" y="27860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loud"/>
          <p:cNvSpPr/>
          <p:nvPr/>
        </p:nvSpPr>
        <p:spPr>
          <a:xfrm>
            <a:off x="5076720" y="29811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loud"/>
          <p:cNvSpPr/>
          <p:nvPr/>
        </p:nvSpPr>
        <p:spPr>
          <a:xfrm>
            <a:off x="5292720" y="24289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loud"/>
          <p:cNvSpPr/>
          <p:nvPr/>
        </p:nvSpPr>
        <p:spPr>
          <a:xfrm>
            <a:off x="6357960" y="32860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loud"/>
          <p:cNvSpPr/>
          <p:nvPr/>
        </p:nvSpPr>
        <p:spPr>
          <a:xfrm>
            <a:off x="4932360" y="248112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loud"/>
          <p:cNvSpPr/>
          <p:nvPr/>
        </p:nvSpPr>
        <p:spPr>
          <a:xfrm>
            <a:off x="4500720" y="25239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loud"/>
          <p:cNvSpPr/>
          <p:nvPr/>
        </p:nvSpPr>
        <p:spPr>
          <a:xfrm>
            <a:off x="5076720" y="2714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2"/>
          <p:cNvSpPr/>
          <p:nvPr/>
        </p:nvSpPr>
        <p:spPr>
          <a:xfrm>
            <a:off x="214200" y="857160"/>
            <a:ext cx="1643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loud"/>
          <p:cNvSpPr/>
          <p:nvPr/>
        </p:nvSpPr>
        <p:spPr>
          <a:xfrm>
            <a:off x="4716360" y="3095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2"/>
          <p:cNvSpPr/>
          <p:nvPr/>
        </p:nvSpPr>
        <p:spPr>
          <a:xfrm>
            <a:off x="1893960" y="857160"/>
            <a:ext cx="25718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заниженн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бактерицидной концентрацией Д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Cloud"/>
          <p:cNvSpPr/>
          <p:nvPr/>
        </p:nvSpPr>
        <p:spPr>
          <a:xfrm>
            <a:off x="1979640" y="1916280"/>
            <a:ext cx="1944720" cy="2089080"/>
          </a:xfrm>
          <a:custGeom>
            <a:avLst/>
            <a:gdLst>
              <a:gd name="textAreaLeft" fmla="*/ 267840 w 1944720"/>
              <a:gd name="textAreaRight" fmla="*/ 1538640 w 1944720"/>
              <a:gd name="textAreaTop" fmla="*/ 315360 h 2089080"/>
              <a:gd name="textAreaBottom" fmla="*/ 1676880 h 2089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68360" y="2143080"/>
            <a:ext cx="136692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loud"/>
          <p:cNvSpPr/>
          <p:nvPr/>
        </p:nvSpPr>
        <p:spPr>
          <a:xfrm>
            <a:off x="642960" y="2552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loud"/>
          <p:cNvSpPr/>
          <p:nvPr/>
        </p:nvSpPr>
        <p:spPr>
          <a:xfrm>
            <a:off x="1141560" y="25239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Cloud"/>
          <p:cNvSpPr/>
          <p:nvPr/>
        </p:nvSpPr>
        <p:spPr>
          <a:xfrm>
            <a:off x="1571760" y="24573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loud"/>
          <p:cNvSpPr/>
          <p:nvPr/>
        </p:nvSpPr>
        <p:spPr>
          <a:xfrm>
            <a:off x="83340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loud"/>
          <p:cNvSpPr/>
          <p:nvPr/>
        </p:nvSpPr>
        <p:spPr>
          <a:xfrm>
            <a:off x="1214280" y="3060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903240" y="3195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loud"/>
          <p:cNvSpPr/>
          <p:nvPr/>
        </p:nvSpPr>
        <p:spPr>
          <a:xfrm>
            <a:off x="6072120" y="3124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7"/>
          <p:cNvSpPr/>
          <p:nvPr/>
        </p:nvSpPr>
        <p:spPr>
          <a:xfrm>
            <a:off x="1000080" y="1714680"/>
            <a:ext cx="0" cy="42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2"/>
          <p:cNvSpPr/>
          <p:nvPr/>
        </p:nvSpPr>
        <p:spPr>
          <a:xfrm>
            <a:off x="142920" y="4714920"/>
            <a:ext cx="5429160" cy="121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5"/>
          <p:cNvSpPr/>
          <p:nvPr/>
        </p:nvSpPr>
        <p:spPr>
          <a:xfrm>
            <a:off x="3059280" y="1700280"/>
            <a:ext cx="1440" cy="3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2"/>
          <p:cNvSpPr/>
          <p:nvPr/>
        </p:nvSpPr>
        <p:spPr>
          <a:xfrm>
            <a:off x="4500720" y="863640"/>
            <a:ext cx="22143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2"/>
          <p:cNvSpPr/>
          <p:nvPr/>
        </p:nvSpPr>
        <p:spPr>
          <a:xfrm>
            <a:off x="6804000" y="549360"/>
            <a:ext cx="2125800" cy="257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loud"/>
          <p:cNvSpPr/>
          <p:nvPr/>
        </p:nvSpPr>
        <p:spPr>
          <a:xfrm>
            <a:off x="7999560" y="342900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8"/>
          <p:cNvSpPr/>
          <p:nvPr/>
        </p:nvSpPr>
        <p:spPr>
          <a:xfrm>
            <a:off x="6643800" y="3618000"/>
            <a:ext cx="428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2"/>
          <p:cNvSpPr/>
          <p:nvPr/>
        </p:nvSpPr>
        <p:spPr>
          <a:xfrm>
            <a:off x="7500960" y="4770360"/>
            <a:ext cx="137160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2"/>
          <p:cNvSpPr/>
          <p:nvPr/>
        </p:nvSpPr>
        <p:spPr>
          <a:xfrm>
            <a:off x="4675320" y="142920"/>
            <a:ext cx="41446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грозы и последствия ситуации с дезсредствам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loud"/>
          <p:cNvSpPr/>
          <p:nvPr/>
        </p:nvSpPr>
        <p:spPr>
          <a:xfrm>
            <a:off x="6156360" y="3357720"/>
            <a:ext cx="344520" cy="21564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5640"/>
              <a:gd name="textAreaBottom" fmla="*/ 173160 h 215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loud"/>
          <p:cNvSpPr/>
          <p:nvPr/>
        </p:nvSpPr>
        <p:spPr>
          <a:xfrm>
            <a:off x="6143760" y="293832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8"/>
          <p:cNvSpPr/>
          <p:nvPr/>
        </p:nvSpPr>
        <p:spPr>
          <a:xfrm flipV="1">
            <a:off x="1360440" y="378576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100"/>
          <p:cNvSpPr/>
          <p:nvPr/>
        </p:nvSpPr>
        <p:spPr>
          <a:xfrm>
            <a:off x="8358120" y="3584520"/>
            <a:ext cx="0" cy="6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03"/>
          <p:cNvSpPr/>
          <p:nvPr/>
        </p:nvSpPr>
        <p:spPr>
          <a:xfrm>
            <a:off x="1382760" y="4286160"/>
            <a:ext cx="697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loud"/>
          <p:cNvSpPr/>
          <p:nvPr/>
        </p:nvSpPr>
        <p:spPr>
          <a:xfrm>
            <a:off x="426960" y="5381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loud"/>
          <p:cNvSpPr/>
          <p:nvPr/>
        </p:nvSpPr>
        <p:spPr>
          <a:xfrm>
            <a:off x="1523880" y="30718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loud"/>
          <p:cNvSpPr/>
          <p:nvPr/>
        </p:nvSpPr>
        <p:spPr>
          <a:xfrm>
            <a:off x="1285920" y="27496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loud"/>
          <p:cNvSpPr/>
          <p:nvPr/>
        </p:nvSpPr>
        <p:spPr>
          <a:xfrm>
            <a:off x="5364000" y="30481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Cloud"/>
          <p:cNvSpPr/>
          <p:nvPr/>
        </p:nvSpPr>
        <p:spPr>
          <a:xfrm>
            <a:off x="5070600" y="322596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loud"/>
          <p:cNvSpPr/>
          <p:nvPr/>
        </p:nvSpPr>
        <p:spPr>
          <a:xfrm>
            <a:off x="1285920" y="330984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loud"/>
          <p:cNvSpPr/>
          <p:nvPr/>
        </p:nvSpPr>
        <p:spPr>
          <a:xfrm>
            <a:off x="6429240" y="3124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26960" y="5000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loud"/>
          <p:cNvSpPr/>
          <p:nvPr/>
        </p:nvSpPr>
        <p:spPr>
          <a:xfrm>
            <a:off x="428760" y="555948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loud"/>
          <p:cNvSpPr/>
          <p:nvPr/>
        </p:nvSpPr>
        <p:spPr>
          <a:xfrm>
            <a:off x="426960" y="51912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Cloud"/>
          <p:cNvSpPr/>
          <p:nvPr/>
        </p:nvSpPr>
        <p:spPr>
          <a:xfrm>
            <a:off x="415800" y="57513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8"/>
          <p:cNvSpPr/>
          <p:nvPr/>
        </p:nvSpPr>
        <p:spPr>
          <a:xfrm rot="16200000">
            <a:off x="6857640" y="3214440"/>
            <a:ext cx="1214640" cy="785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loud"/>
          <p:cNvSpPr/>
          <p:nvPr/>
        </p:nvSpPr>
        <p:spPr>
          <a:xfrm>
            <a:off x="7524720" y="37893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loud"/>
          <p:cNvSpPr/>
          <p:nvPr/>
        </p:nvSpPr>
        <p:spPr>
          <a:xfrm>
            <a:off x="7215120" y="35528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loud"/>
          <p:cNvSpPr/>
          <p:nvPr/>
        </p:nvSpPr>
        <p:spPr>
          <a:xfrm>
            <a:off x="7215120" y="31431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loud"/>
          <p:cNvSpPr/>
          <p:nvPr/>
        </p:nvSpPr>
        <p:spPr>
          <a:xfrm>
            <a:off x="7224840" y="387504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loud"/>
          <p:cNvSpPr/>
          <p:nvPr/>
        </p:nvSpPr>
        <p:spPr>
          <a:xfrm>
            <a:off x="7570800" y="35002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loud"/>
          <p:cNvSpPr/>
          <p:nvPr/>
        </p:nvSpPr>
        <p:spPr>
          <a:xfrm>
            <a:off x="8213760" y="34830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loud"/>
          <p:cNvSpPr/>
          <p:nvPr/>
        </p:nvSpPr>
        <p:spPr>
          <a:xfrm>
            <a:off x="7642080" y="32148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loud"/>
          <p:cNvSpPr/>
          <p:nvPr/>
        </p:nvSpPr>
        <p:spPr>
          <a:xfrm>
            <a:off x="8459640" y="3284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loud"/>
          <p:cNvSpPr/>
          <p:nvPr/>
        </p:nvSpPr>
        <p:spPr>
          <a:xfrm>
            <a:off x="8070840" y="3267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29"/>
          <p:cNvSpPr/>
          <p:nvPr/>
        </p:nvSpPr>
        <p:spPr>
          <a:xfrm>
            <a:off x="6643800" y="3071880"/>
            <a:ext cx="0" cy="69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2"/>
          <p:cNvSpPr/>
          <p:nvPr/>
        </p:nvSpPr>
        <p:spPr>
          <a:xfrm>
            <a:off x="5786280" y="4749840"/>
            <a:ext cx="128592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Cloud"/>
          <p:cNvSpPr/>
          <p:nvPr/>
        </p:nvSpPr>
        <p:spPr>
          <a:xfrm>
            <a:off x="853272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loud"/>
          <p:cNvSpPr/>
          <p:nvPr/>
        </p:nvSpPr>
        <p:spPr>
          <a:xfrm>
            <a:off x="5857920" y="47862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2"/>
          <p:cNvSpPr/>
          <p:nvPr/>
        </p:nvSpPr>
        <p:spPr>
          <a:xfrm>
            <a:off x="2143080" y="4357800"/>
            <a:ext cx="514368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loud"/>
          <p:cNvSpPr/>
          <p:nvPr/>
        </p:nvSpPr>
        <p:spPr>
          <a:xfrm>
            <a:off x="7927920" y="378612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8"/>
          <p:cNvSpPr/>
          <p:nvPr/>
        </p:nvSpPr>
        <p:spPr>
          <a:xfrm rot="16200000">
            <a:off x="7500960" y="5000400"/>
            <a:ext cx="500040" cy="214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loud"/>
          <p:cNvSpPr/>
          <p:nvPr/>
        </p:nvSpPr>
        <p:spPr>
          <a:xfrm>
            <a:off x="8043840" y="306864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loud"/>
          <p:cNvSpPr/>
          <p:nvPr/>
        </p:nvSpPr>
        <p:spPr>
          <a:xfrm>
            <a:off x="8028000" y="357336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loud"/>
          <p:cNvSpPr/>
          <p:nvPr/>
        </p:nvSpPr>
        <p:spPr>
          <a:xfrm>
            <a:off x="785880" y="34624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loud"/>
          <p:cNvSpPr/>
          <p:nvPr/>
        </p:nvSpPr>
        <p:spPr>
          <a:xfrm>
            <a:off x="4572000" y="33782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loud"/>
          <p:cNvSpPr/>
          <p:nvPr/>
        </p:nvSpPr>
        <p:spPr>
          <a:xfrm>
            <a:off x="7885080" y="3357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85"/>
          <p:cNvSpPr/>
          <p:nvPr/>
        </p:nvSpPr>
        <p:spPr>
          <a:xfrm>
            <a:off x="5651640" y="3284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loud"/>
          <p:cNvSpPr/>
          <p:nvPr/>
        </p:nvSpPr>
        <p:spPr>
          <a:xfrm>
            <a:off x="6715080" y="4186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loud"/>
          <p:cNvSpPr/>
          <p:nvPr/>
        </p:nvSpPr>
        <p:spPr>
          <a:xfrm>
            <a:off x="6372360" y="418608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Cloud"/>
          <p:cNvSpPr/>
          <p:nvPr/>
        </p:nvSpPr>
        <p:spPr>
          <a:xfrm>
            <a:off x="6097680" y="322884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loud"/>
          <p:cNvSpPr/>
          <p:nvPr/>
        </p:nvSpPr>
        <p:spPr>
          <a:xfrm>
            <a:off x="6240600" y="360216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Cloud"/>
          <p:cNvSpPr/>
          <p:nvPr/>
        </p:nvSpPr>
        <p:spPr>
          <a:xfrm>
            <a:off x="6138720" y="29368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Cloud"/>
          <p:cNvSpPr/>
          <p:nvPr/>
        </p:nvSpPr>
        <p:spPr>
          <a:xfrm>
            <a:off x="7380360" y="3357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Cloud"/>
          <p:cNvSpPr/>
          <p:nvPr/>
        </p:nvSpPr>
        <p:spPr>
          <a:xfrm>
            <a:off x="6084720" y="4194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Cloud"/>
          <p:cNvSpPr/>
          <p:nvPr/>
        </p:nvSpPr>
        <p:spPr>
          <a:xfrm>
            <a:off x="8244000" y="285264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Cloud"/>
          <p:cNvSpPr/>
          <p:nvPr/>
        </p:nvSpPr>
        <p:spPr>
          <a:xfrm>
            <a:off x="7812000" y="285264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loud"/>
          <p:cNvSpPr/>
          <p:nvPr/>
        </p:nvSpPr>
        <p:spPr>
          <a:xfrm>
            <a:off x="5796000" y="4194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Cloud"/>
          <p:cNvSpPr/>
          <p:nvPr/>
        </p:nvSpPr>
        <p:spPr>
          <a:xfrm>
            <a:off x="802800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Cloud"/>
          <p:cNvSpPr/>
          <p:nvPr/>
        </p:nvSpPr>
        <p:spPr>
          <a:xfrm>
            <a:off x="5508720" y="419400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1285560"/>
            <a:ext cx="8229600" cy="3429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лагодарю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1008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аблица 1 -  Динамика разработки и регистрации дезсредств для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медицинской практики на основе основных групп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действующи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1525680"/>
          <a:ext cx="8569080" cy="5209920"/>
        </p:xfrm>
        <a:graphic>
          <a:graphicData uri="http://schemas.openxmlformats.org/drawingml/2006/table">
            <a:tbl>
              <a:tblPr/>
              <a:tblGrid>
                <a:gridCol w="3529080"/>
                <a:gridCol w="863280"/>
                <a:gridCol w="865440"/>
                <a:gridCol w="863640"/>
                <a:gridCol w="936360"/>
                <a:gridCol w="1511280"/>
              </a:tblGrid>
              <a:tr h="4989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зсредства на основе действующих веществ (ДВ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регистрированных дезсредств (исключая   кожные антисептики) на период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.20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.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.20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.10.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сего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.10.20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искусствен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ышенными по эффективности режима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62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их ДВ и  их композиций с ЧАС, серебром,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дегид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альдегиды и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ЧАС и амин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ЧАС и ПГМГ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3 ДВ (ЧАС, амина и ПГМГ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на конкретный период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9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блица 2 - Режимы применения аналогичных дезсредств на основе   только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АС, выданные  аккредитованными испытательными центрам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11280" y="1052640"/>
          <a:ext cx="7921440" cy="5586120"/>
        </p:xfrm>
        <a:graphic>
          <a:graphicData uri="http://schemas.openxmlformats.org/drawingml/2006/table">
            <a:tbl>
              <a:tblPr/>
              <a:tblGrid>
                <a:gridCol w="1224000"/>
                <a:gridCol w="1441440"/>
                <a:gridCol w="1150920"/>
                <a:gridCol w="1152360"/>
                <a:gridCol w="1079640"/>
                <a:gridCol w="1008000"/>
                <a:gridCol w="86508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(бактерии, 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(туберкулез и вирусы типа полиомие-лит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 П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мин –Форте»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4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ЦНИИЭ,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005 г.№016-1/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 0 ми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дез-75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37,5% ЧАС и </a:t>
                      </a:r>
                      <a:r>
                        <a:rPr b="1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сп. компоненты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5 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4-2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дез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5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5 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3-1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м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53,7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5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-1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12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15 мин(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оводез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5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6-2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птодор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0% смесь ЧАС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4 г.№1-1/20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0040" y="500040"/>
            <a:ext cx="82296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68360" y="1397160"/>
          <a:ext cx="8280360" cy="4195440"/>
        </p:xfrm>
        <a:graphic>
          <a:graphicData uri="http://schemas.openxmlformats.org/drawingml/2006/table">
            <a:tbl>
              <a:tblPr/>
              <a:tblGrid>
                <a:gridCol w="1379520"/>
                <a:gridCol w="1380960"/>
                <a:gridCol w="1379520"/>
                <a:gridCol w="1379520"/>
                <a:gridCol w="1381320"/>
                <a:gridCol w="1379520"/>
              </a:tblGrid>
              <a:tr h="6066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тант на основе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центрация рабочего раствора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по Д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оры тест-культу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ходная концентрация спор в дезратворе, спор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‑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чная концентрация живых спор в дезрастворе чере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мин., спор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‑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rowSpan="4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льтамин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Росс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0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49±0,2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39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42±0,11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ili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9±0,22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90±0,1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4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reu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шт.9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13±0,0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8±0,1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4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8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3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row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квад МСВ-5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, Шве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0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4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2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ili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reu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96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И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аблица 4 - Режимы применения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одного и того же дезсредства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на основе   только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ЧАС, выданные  в аккредитованных испытательных центрах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1280" y="1052640"/>
          <a:ext cx="7921440" cy="5740200"/>
        </p:xfrm>
        <a:graphic>
          <a:graphicData uri="http://schemas.openxmlformats.org/drawingml/2006/table">
            <a:tbl>
              <a:tblPr/>
              <a:tblGrid>
                <a:gridCol w="1224000"/>
                <a:gridCol w="1512720"/>
                <a:gridCol w="1152720"/>
                <a:gridCol w="1150920"/>
                <a:gridCol w="1441440"/>
                <a:gridCol w="143964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бактерии, 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 (туберкулез и вирусы типа полиомие-ли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ле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 % клатрата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Д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 им. Д.И. Ивановск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ВолгНИИПЧ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3 г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-02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ле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% клатрата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им Р.Р. Вреден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ИЛЦ ФГУЗ ЦНИИЭ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г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3-05/06-И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4%,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мин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°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ач. темпера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раст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гра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5% клатрат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 в виде мелких грану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ЛЦ ФГУЗ ЦНИИЭ</a:t>
                      </a: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3-06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9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гра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5% клатрат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 в виде мелких грану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им Р.Р. Вредена,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ЛЦ ФГУЗ ЦНИИЭ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5-10/07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8% ,   50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°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начальная темпера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тура раст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,9%,  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°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Р 3.5.1  - 12 (проект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убликован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сайте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info@niid.r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сужден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в ноябре 2011 г за  «круглым столом», проведенном в НИИД, откорректированы с учетом замечаний и предложени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800"/>
            </a:b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до сих пор не может выйти из лабиринтов РОСПОТРЕБ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Цитата из докумен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и композиционные составы на основе этих соединений, независимо от концентрации последних в средстве или его рабочих растворах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жимы применения аналогичных дезсредств на основе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 основе   ЧАС и ПМГХ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, выданные  аккредитованными испытательными центр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11280" y="1052640"/>
          <a:ext cx="7921440" cy="5211720"/>
        </p:xfrm>
        <a:graphic>
          <a:graphicData uri="http://schemas.openxmlformats.org/drawingml/2006/table">
            <a:tbl>
              <a:tblPr/>
              <a:tblGrid>
                <a:gridCol w="1224000"/>
                <a:gridCol w="1296720"/>
                <a:gridCol w="1224000"/>
                <a:gridCol w="1079640"/>
                <a:gridCol w="1081080"/>
                <a:gridCol w="1079640"/>
                <a:gridCol w="93636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то испытывал средство и разработал  инструкцию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(бактерии, кроме возбудителя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(возб. туберкулеза и резистен-тные вирус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 П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ндел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11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% ПГМГХ и вс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9 г.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1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0,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0,11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36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30 ми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иксид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7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% ами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% ПГМГХ и вс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8 г. №02/08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2%,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%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5% 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% 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рисепт-Гамм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9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% ами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% ПГМГХ и всп.комп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9 г. №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19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38%,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7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66% ДВ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5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364680"/>
            <a:ext cx="7983720" cy="176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проекта документа : «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тодические рекомендации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Р 3.5.1.       - 1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сква 2012</a:t>
            </a:r>
            <a:br>
              <a:rPr sz="4800"/>
            </a:b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инимальные концентраци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71640" y="2349360"/>
          <a:ext cx="7200720" cy="3692520"/>
        </p:xfrm>
        <a:graphic>
          <a:graphicData uri="http://schemas.openxmlformats.org/drawingml/2006/table">
            <a:tbl>
              <a:tblPr/>
              <a:tblGrid>
                <a:gridCol w="3313080"/>
                <a:gridCol w="3887640"/>
              </a:tblGrid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ующее веществ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центрация рабочего раствора по действующему веществу, %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Четвертичные аммониевые соед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2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олимерные производные гуани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Третичные алкиламины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омпозиции на основе нескольких перечисленных выше действующих веществ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1 (по сумме действующих веществ)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триевая соль дихлоризоциануровой кислот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0,015 (по активному хлору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кись водород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3,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4:17:33Z</dcterms:created>
  <dc:creator>Admin</dc:creator>
  <dc:description/>
  <dc:language>en-US</dc:language>
  <cp:lastModifiedBy>LEGION</cp:lastModifiedBy>
  <dcterms:modified xsi:type="dcterms:W3CDTF">2015-12-31T12:49:46Z</dcterms:modified>
  <cp:revision>5254</cp:revision>
  <dc:subject/>
  <dc:title>«Состояние разработки и регистрации современных дезинфицирующих средств» Авторы: Канищев В. В. (НИЦ ФГКУ»№№ ЦНИИИ МО РФ) Еремеева Н.И. (УНИИФ Росмедтехнологий) Докладчик: д.м.н., профессор Канищев Владимир Васильевич</dc:title>
</cp:coreProperties>
</file>