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91B-7444-4B9E-A9B3-7D76278657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58A-D6B6-4FA8-B76C-E85B930102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ве главные цели «Вех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снование дела свобо-ды на религиозно-культур-ных началах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личение «идолов» ле-вой обще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Творческое самосозна-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бинетное резонё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ый максим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ктантская нетерп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EE14-F19C-4BD0-8A89-2300C54A55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Философская истина и интеллигентская прав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Кружковщ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тилитарно-моральная устан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ение истино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77DF-3B39-4E9A-9803-EDBABBCB37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ероизм и подвижни-че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уховная гордыня и нравственное смир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митивность фило-софско-исторических концепц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гматизм русской интеллиген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6FBC-37D9-4060-90F2-9DE9FE6950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В защиту пра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енебрежительное от-ношение к  формально-му праву как «низшей» сфер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F68E-D577-44A3-BD12-2BC9D2D6FC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Интеллигенция и революц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вязчивая идея револю-ционного переворот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инный путь прогрес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5DD8-1CC1-4055-8660-8460385A2A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Этика нигилиз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игилистическая религия земного благополуч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езнравственная идея «коллективной пользы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44A0-FB74-4B76-884B-A12B9BDFA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BABD-CC18-4E69-9B0F-8EFDE0F44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и общест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о-философские собрания (1901‑190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тербургское (Петроградское) религиозно-философское общество (1907‑191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ое религиозно-философское общество памяти Владимира Соловьёва (1905‑1918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9961-A8F1-482B-8CE3-668E432AE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Деятели религиозно-философского ренессанса (литераторы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 Роз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56-191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 Иванов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66-194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дрей Белый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1880-19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66DD-5E76-4A64-910A-B203AA36CD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нтропология («метафизика пол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ритика «исторического христиан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Христианство Вифлеема и христианство Голгоф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я Авраама и религия Хр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ский песси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сре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Человек как жер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550-1BCE-45F3-9435-0483C1DD9F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лигиозный мате-риализм»: «правда о пло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ософия: «три Заве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От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Сы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вет Ду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лигиозный анар-хиз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BDF-C7F6-40AD-995D-B17A9507A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AAE1-B592-4EE5-859B-2B41816263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мволизм как миропо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несение смысла в бессмысленный мир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ересоздание мирозда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BAD6-E3B0-4DFB-83AF-50EFD359E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борник «Вехи» (1909)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А. Бердяев. Фило-софская истина и ин-теллигентская прав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Н. Булгаков. Героизм и подвижничест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О. Гершензон. Твор-ческое самосозн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С. Изгоев. Об интел-лигентной молодёж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. А. Кистяковский. В защиту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. Б. Струве. Интелли-генция и револю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. Л. Франк. Этика ниги-лиз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AA45-812F-431D-8DEF-B221043E2A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2DDC-5C3A-42E9-AFA9-7583BF55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514-9A20-486D-BBBF-E4B07F4C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0C2-0C46-44F6-845B-6F29AACF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0ED-CD63-4C0D-997D-FB0A91EC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16FE-FEC5-4A75-9154-56D232D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95B-7222-494D-9E10-27F3DAA9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46D-C0BD-4F09-B1E1-FE5C152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42A-9C0D-48E4-90A0-58C8A04D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0F9-B981-490A-8D1B-05EACCED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531-CEF3-44B4-8F45-BB83EB6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325-D726-48C6-9FB8-D44AC1CF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831-90AE-4742-9D34-4D7D8BAF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230-144D-4428-85FD-955F19FA6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2600" y="2356920"/>
            <a:ext cx="75531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е главные цели «Вех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основание дела свобо-ды на религиозно-культур-ных начал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личение «идолов» ле-вой обще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орческое самосозна-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бинетное резонё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ый максим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ктантская нетерп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ершензон (1)"/>
          <p:cNvPicPr/>
          <p:nvPr/>
        </p:nvPicPr>
        <p:blipFill>
          <a:blip r:embed="rId1"/>
          <a:stretch/>
        </p:blipFill>
        <p:spPr>
          <a:xfrm>
            <a:off x="5649840" y="1798560"/>
            <a:ext cx="3065400" cy="43182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Философская истина и интеллигентская прав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ружковщи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тилитарно-мораль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ение истино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Бердяев (6-5)"/>
          <p:cNvPicPr/>
          <p:nvPr/>
        </p:nvPicPr>
        <p:blipFill>
          <a:blip r:embed="rId1"/>
          <a:stretch/>
        </p:blipFill>
        <p:spPr>
          <a:xfrm>
            <a:off x="6297480" y="1798560"/>
            <a:ext cx="2159280" cy="4318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7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роизм и подвижни-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уховная гордыня и нравственное сми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итивность фило-софско-исторических концепц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гматизм русской интеллиг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Булгаков СН (2)"/>
          <p:cNvPicPr/>
          <p:nvPr/>
        </p:nvPicPr>
        <p:blipFill>
          <a:blip r:embed="rId1"/>
          <a:stretch/>
        </p:blipFill>
        <p:spPr>
          <a:xfrm>
            <a:off x="5651640" y="1798560"/>
            <a:ext cx="3073320" cy="431964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. А. Кистяковский (1868-192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612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 защиту пра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небрежительное от-ношение к  формально-му праву как «низшей» сфер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истяковский (1-2)"/>
          <p:cNvPicPr/>
          <p:nvPr/>
        </p:nvPicPr>
        <p:blipFill>
          <a:blip r:embed="rId1"/>
          <a:stretch/>
        </p:blipFill>
        <p:spPr>
          <a:xfrm>
            <a:off x="5218200" y="1798560"/>
            <a:ext cx="3414600" cy="43182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нтеллигенция и револю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вязчивая идея револю-ционного переворо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инный путь прогр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труве П (1)"/>
          <p:cNvPicPr/>
          <p:nvPr/>
        </p:nvPicPr>
        <p:blipFill>
          <a:blip r:embed="rId1"/>
          <a:stretch/>
        </p:blipFill>
        <p:spPr>
          <a:xfrm>
            <a:off x="5757840" y="1798560"/>
            <a:ext cx="2951280" cy="43182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93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Этика нигилиз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игилистическая религия земного благополуч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знравственная идея «коллективной польз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ранк СЛ (1)"/>
          <p:cNvPicPr/>
          <p:nvPr/>
        </p:nvPicPr>
        <p:blipFill>
          <a:blip r:embed="rId1"/>
          <a:stretch/>
        </p:blipFill>
        <p:spPr>
          <a:xfrm>
            <a:off x="5937120" y="1798560"/>
            <a:ext cx="2595600" cy="4321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979640" y="1700280"/>
            <a:ext cx="503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¿ Вопросы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onf_gozzoli_triumph_of_st_thomas_aquinas_averrhoes"/>
          <p:cNvPicPr/>
          <p:nvPr/>
        </p:nvPicPr>
        <p:blipFill>
          <a:blip r:embed="rId1"/>
          <a:stretch/>
        </p:blipFill>
        <p:spPr>
          <a:xfrm>
            <a:off x="2340000" y="4005360"/>
            <a:ext cx="452448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4840" y="91800"/>
            <a:ext cx="8734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й ренессан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79280"/>
            <a:ext cx="8229600" cy="55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-ское общество (1907‑191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О. Гершензон (1869-19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А. Бердяев (1874-19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Н. Булгаков (1871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. А. Кистяковский (1868-19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 Б. Струве (1870-19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. Л. Франк (1977-1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о-философские собрания (1901‑190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ербургское (Петроградское) религиозно-философское общество (1907‑19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сковское религиозно-философское общество памяти Владимира Соловьёва (1905‑191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ятели религиозно-философского ренессанса (литератор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 Роз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56-19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. Иванов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66-194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дрей Белый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80-19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Мережковский (1)"/>
          <p:cNvPicPr/>
          <p:nvPr/>
        </p:nvPicPr>
        <p:blipFill>
          <a:blip r:embed="rId1"/>
          <a:stretch/>
        </p:blipFill>
        <p:spPr>
          <a:xfrm>
            <a:off x="6837480" y="1798560"/>
            <a:ext cx="1652400" cy="2158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Белый А (1-1)cr"/>
          <p:cNvPicPr/>
          <p:nvPr/>
        </p:nvPicPr>
        <p:blipFill>
          <a:blip r:embed="rId2"/>
          <a:stretch/>
        </p:blipFill>
        <p:spPr>
          <a:xfrm>
            <a:off x="7016760" y="4317840"/>
            <a:ext cx="1652400" cy="215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Иванов Вяч (1)cr"/>
          <p:cNvPicPr/>
          <p:nvPr/>
        </p:nvPicPr>
        <p:blipFill>
          <a:blip r:embed="rId3"/>
          <a:stretch/>
        </p:blipFill>
        <p:spPr>
          <a:xfrm>
            <a:off x="5037120" y="4138560"/>
            <a:ext cx="1781280" cy="215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Розанов (3)sep-cr"/>
          <p:cNvPicPr/>
          <p:nvPr/>
        </p:nvPicPr>
        <p:blipFill>
          <a:blip r:embed="rId4"/>
          <a:stretch/>
        </p:blipFill>
        <p:spPr>
          <a:xfrm>
            <a:off x="4857840" y="1619280"/>
            <a:ext cx="1652400" cy="21589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 Розанов (1856-19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5765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ропология («метафизика пола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«исторического христиан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ристианство Вифлеема и христианство Голгоф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лигия Авраама и религия Хр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ский пессим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к как жер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озанов (7)"/>
          <p:cNvPicPr/>
          <p:nvPr/>
        </p:nvPicPr>
        <p:blipFill>
          <a:blip r:embed="rId1"/>
          <a:stretch/>
        </p:blipFill>
        <p:spPr>
          <a:xfrm>
            <a:off x="6297480" y="1798560"/>
            <a:ext cx="2486160" cy="43210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. Мережковский (1865-194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Мережковский (1)"/>
          <p:cNvPicPr/>
          <p:nvPr/>
        </p:nvPicPr>
        <p:blipFill>
          <a:blip r:embed="rId1"/>
          <a:stretch/>
        </p:blipFill>
        <p:spPr>
          <a:xfrm>
            <a:off x="5397480" y="1798560"/>
            <a:ext cx="3303720" cy="4318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5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елигиозный мате-риализм»: «правда о пло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ософия: «три За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От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Сы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вет 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анар-хиз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. Иванов (1866-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181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осо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ритическое» и «органи-ческое» 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ая природа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интеграция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как те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алистический и реа-листический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илософия религии: «дионисий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Иванов Вяч (2 -  Юон)"/>
          <p:cNvPicPr/>
          <p:nvPr/>
        </p:nvPicPr>
        <p:blipFill>
          <a:blip r:embed="rId1"/>
          <a:stretch/>
        </p:blipFill>
        <p:spPr>
          <a:xfrm>
            <a:off x="5937120" y="1798560"/>
            <a:ext cx="2820960" cy="43210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ндрей Белый (1880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5760" y="1798560"/>
            <a:ext cx="421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мволизм как миропоним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сение смысла в бессмысленный м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Пересоздание мирозд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Белый А (1-1)cr"/>
          <p:cNvPicPr/>
          <p:nvPr/>
        </p:nvPicPr>
        <p:blipFill>
          <a:blip r:embed="rId1"/>
          <a:stretch/>
        </p:blipFill>
        <p:spPr>
          <a:xfrm>
            <a:off x="5219640" y="1916280"/>
            <a:ext cx="3306960" cy="43192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Бердяев (1)"/>
          <p:cNvPicPr/>
          <p:nvPr/>
        </p:nvPicPr>
        <p:blipFill>
          <a:blip r:embed="rId1"/>
          <a:stretch/>
        </p:blipFill>
        <p:spPr>
          <a:xfrm>
            <a:off x="4678200" y="1438200"/>
            <a:ext cx="1554480" cy="2160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борник «Вехи» (1909)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4840" y="1600200"/>
            <a:ext cx="421776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А. Бердяев. Фило-софская истина и ин-теллигентская прав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Н. Булгаков. Героизм и подвижнич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О. Гершензон. Твор-ческое самосоз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С. Изгоев. Об интел-лигентной молодёж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. А. Кистяковский. В защиту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 Б. Струве. Интелли-генция и револю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 Л. Франк. Этика ниги-лиз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Булгаков СН (1)"/>
          <p:cNvPicPr/>
          <p:nvPr/>
        </p:nvPicPr>
        <p:blipFill>
          <a:blip r:embed="rId2"/>
          <a:stretch/>
        </p:blipFill>
        <p:spPr>
          <a:xfrm>
            <a:off x="7197840" y="1438200"/>
            <a:ext cx="1622160" cy="2157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Струве П (1)"/>
          <p:cNvPicPr/>
          <p:nvPr/>
        </p:nvPicPr>
        <p:blipFill>
          <a:blip r:embed="rId3"/>
          <a:stretch/>
        </p:blipFill>
        <p:spPr>
          <a:xfrm>
            <a:off x="7340760" y="4497480"/>
            <a:ext cx="1474560" cy="2158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Франк СЛ (1)sep"/>
          <p:cNvPicPr/>
          <p:nvPr/>
        </p:nvPicPr>
        <p:blipFill>
          <a:blip r:embed="rId4"/>
          <a:stretch/>
        </p:blipFill>
        <p:spPr>
          <a:xfrm>
            <a:off x="4678200" y="4497480"/>
            <a:ext cx="1298880" cy="216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Гершензон (2)cr"/>
          <p:cNvPicPr/>
          <p:nvPr/>
        </p:nvPicPr>
        <p:blipFill>
          <a:blip r:embed="rId5"/>
          <a:stretch/>
        </p:blipFill>
        <p:spPr>
          <a:xfrm>
            <a:off x="5937120" y="2968560"/>
            <a:ext cx="1803600" cy="21607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09:59Z</dcterms:created>
  <dc:creator>Николай Бирюков / Nikolai Biryukov</dc:creator>
  <dc:description>Версия апреля 2004 г.</dc:description>
  <dc:language>en-US</dc:language>
  <cp:lastModifiedBy>LEGION</cp:lastModifiedBy>
  <dcterms:modified xsi:type="dcterms:W3CDTF">2014-11-11T10:14:33Z</dcterms:modified>
  <cp:revision>4</cp:revision>
  <dc:subject>История русской философии - Лекция 10</dc:subject>
  <dc:title>Религиозно-философский ренессанс</dc:title>
</cp:coreProperties>
</file>