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9528-738B-489E-B4B0-B4159B8A3B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о-философский ренессан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3DB1-35AF-4590-A7B5-34D3588B39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М. О. Гершензон (1869-192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ве главные цели «Вех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основание дела свобо-ды на религиозно-культур-ных началах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личение «идолов» ле-вой обще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Творческое самосозна-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бинетное резонё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уховный максим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ектантская нетерп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C2CC-412F-42AB-9C37-FEA6482D71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. А. Бердяев (1874-194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Философская истина и интеллигентская прав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ружковщ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Утилитарно-моральная устан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енебрежение истин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A035-A9E0-4C71-95D3-189CB33A8C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 Н. Булгаков (1871-19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Героизм и подвижни-че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уховная гордыня и нравственное смир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митивность фило-софско-исторических концепци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гматизм русской интеллиген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D3CE-040A-475C-874C-BDCA462855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Б. А. Кистяковский (1868-192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В защиту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енебрежительное от-ношение к  формально-му праву как «низшей» сфер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6A99-B66F-4805-B337-96DE91E108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. Б. Струве (1870-19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Интеллигенция и револю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вязчивая идея револю-ционного переворот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инный путь прогре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F3B0-C658-4E04-BCB4-EE5AD58D88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 Л. Франк (1977-195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тика нигилиз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игилистическая религия земного благополуч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езнравственная идея «коллективной польз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1EF5-7414-4468-964E-D182C15BB9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елигиозно-философский ренессан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и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(1901‑190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етербургское (Петроградское) религиозно-философ-ское общество (1907‑1917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осковское религиозно-философское общество памяти Владимира Соловьёва (1905‑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еятели религиозно-философского ренессан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 Розанов (1856-191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. Иванов (1866-194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ндрей Белый (1880-193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борник «Вехи» (19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. О. Гершензон (1869-192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. А. Бердяев (1874-194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 Н. Булгаков (1871-19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. А. Кистяковский (1868-192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. Б. Струве (1870-19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 Л. Франк (1977-19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B688-E593-46BA-A9F0-CDBC263CD9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и общ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(1901‑19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тербургское (Петроградское) религиозно-философское общество (1907‑191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осковское религиозно-философское общество памяти Владимира Соловьёва (1905‑191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CDEF-F288-4CC1-9494-7C231AF01F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еятели религиозно-философского ренессанса (литератор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 Розанов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56-19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. Иванов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66-194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дрей Белый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80-19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E13D-94E0-4D4A-B74C-2AD58A1DE9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 Розанов (1856-191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ропология («метафизика пол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ритика «исторического христиан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Христианство Вифлеема и христианство Голгоф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я Авраама и религия Хр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ософский пессим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еловек как сре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еловек как жер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8C67-CA26-4DC1-983A-6A90BB00AF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Религиозный мате-риализм»: «правда о пло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ософия: «три Заве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О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Сы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Д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ый анар-хиз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6115-4C42-4382-A9FA-0ED84B9470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. Иванов (1866-194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ориосо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Критическое» и «органи-ческое» нача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нтологическая природа твор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илософия искус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интеграция куль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кусство как теург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деалистический и реа-листический символ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илософия религии: «дионисийств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087F-81FD-449E-B805-6C27EA4E4C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ндрей Белый (1880-193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мволизм как миропоним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несение смысла в бессмысленный ми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ересоздание мирозд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681E-462F-4CCA-963F-14CC70B62E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борник «Вехи» (1909)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. А. Бердяев. Фило-софская истина и ин-теллигентская прав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 Н. Булгаков. Героизм и подвижниче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О. Гершензон. Твор-ческое самосозн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. С. Изгоев. Об интел-лигентной молодёж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. А. Кистяковский. В защиту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. Б. Струве. Интелли-генция и револю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 Л. Франк. Этика ниги-лиз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78E2-7A22-46CF-B712-53061D71D9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F6E-712A-4F66-9383-0DC674F1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C52-4F01-42BA-9DC6-30953D57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1D2-4149-4EF6-98D6-433D998E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247-CD22-4A37-8A8C-33235B1B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6A3-FC2E-49C1-A0AA-74BE7717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2EB-48CC-4E7E-A4B1-B5020B6F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D97-EB6A-4416-8E26-6B4F2C32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E747-D2AF-400A-9E6B-D72281A2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9A7-8705-4780-8A9E-49F46FB2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E32-D6DC-4518-B5A1-5E7D5FFB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B19-F33A-401B-AAB0-3D71EA87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D76-1586-4E97-8716-43C1BB97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1CB8-2468-47E3-BC8F-7948164B1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2600" y="2356920"/>
            <a:ext cx="75531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лигиозно-философский ренессанс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. О. Гершензон (1869-192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е главные цели «Вех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основание дела свобо-ды на религиозно-культур-ных начал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личение «идолов» ле-вой обществ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ворческое самосозна-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бинетное резонё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ховный максим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ктантская нетерп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ершензон (1)"/>
          <p:cNvPicPr/>
          <p:nvPr/>
        </p:nvPicPr>
        <p:blipFill>
          <a:blip r:embed="rId1"/>
          <a:stretch/>
        </p:blipFill>
        <p:spPr>
          <a:xfrm>
            <a:off x="5649840" y="1798560"/>
            <a:ext cx="3065400" cy="43182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. А. Бердяев (1874-194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Философская истина и интеллигентская прав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Кружковщ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илитарно-моральная у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небрежение истин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Бердяев (6-5)"/>
          <p:cNvPicPr/>
          <p:nvPr/>
        </p:nvPicPr>
        <p:blipFill>
          <a:blip r:embed="rId1"/>
          <a:stretch/>
        </p:blipFill>
        <p:spPr>
          <a:xfrm>
            <a:off x="6297480" y="1798560"/>
            <a:ext cx="2159280" cy="4318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 Н. Булгаков (1871-19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6120" y="1798560"/>
            <a:ext cx="47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ероизм и подвижни-ч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ховная гордыня и нравственное сми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итивность фило-софско-исторических концепц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гматизм русской интеллиге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Булгаков СН (2)"/>
          <p:cNvPicPr/>
          <p:nvPr/>
        </p:nvPicPr>
        <p:blipFill>
          <a:blip r:embed="rId1"/>
          <a:stretch/>
        </p:blipFill>
        <p:spPr>
          <a:xfrm>
            <a:off x="5651640" y="1798560"/>
            <a:ext cx="3073320" cy="4319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А. Кистяковский (1868-192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6120" y="179856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 защиту пра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небрежительное от-ношение к  формально-му праву как «низшей» сфер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истяковский (1-2)"/>
          <p:cNvPicPr/>
          <p:nvPr/>
        </p:nvPicPr>
        <p:blipFill>
          <a:blip r:embed="rId1"/>
          <a:stretch/>
        </p:blipFill>
        <p:spPr>
          <a:xfrm>
            <a:off x="5218200" y="1798560"/>
            <a:ext cx="3414600" cy="43182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. Б. Струве (1870-19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93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нтеллигенция и революц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вязчивая идея револю-ционного переворо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инный путь прогр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труве П (1)"/>
          <p:cNvPicPr/>
          <p:nvPr/>
        </p:nvPicPr>
        <p:blipFill>
          <a:blip r:embed="rId1"/>
          <a:stretch/>
        </p:blipFill>
        <p:spPr>
          <a:xfrm>
            <a:off x="5757840" y="1798560"/>
            <a:ext cx="2951280" cy="43182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 Л. Франк (1977-195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93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тика нигилиз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гилистическая религия земного благополуч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нравственная идея «коллективной пользы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Франк СЛ (1)"/>
          <p:cNvPicPr/>
          <p:nvPr/>
        </p:nvPicPr>
        <p:blipFill>
          <a:blip r:embed="rId1"/>
          <a:stretch/>
        </p:blipFill>
        <p:spPr>
          <a:xfrm>
            <a:off x="5937120" y="1798560"/>
            <a:ext cx="2595600" cy="4321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979640" y="1700280"/>
            <a:ext cx="503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¿ Вопрос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onf_gozzoli_triumph_of_st_thomas_aquinas_averrhoes"/>
          <p:cNvPicPr/>
          <p:nvPr/>
        </p:nvPicPr>
        <p:blipFill>
          <a:blip r:embed="rId1"/>
          <a:stretch/>
        </p:blipFill>
        <p:spPr>
          <a:xfrm>
            <a:off x="2340000" y="4005360"/>
            <a:ext cx="4524480" cy="14396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4840" y="91800"/>
            <a:ext cx="87343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лигиозно-философский ренессан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79280"/>
            <a:ext cx="822960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и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(1901‑190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тербургское (Петроградское) религиозно-философ-ское общество (1907‑191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ое религиозно-философское общество памяти Владимира Соловьёва (1905‑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ятели религиозно-философского ренесс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 Розанов (1856-19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 Иванов (1866-19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дрей Белый (1880-19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борник «Вехи» (19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О. Гершензон (1869-19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А. Бердяев (1874-19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 Н. Булгаков (1871-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. А. Кистяковский (1868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 Б. Струве (1870-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 Л. Франк (1977-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(1901‑190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ербургское (Петроградское) религиозно-философское общество (1907‑191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сковское религиозно-философское общество памяти Владимира Соловьёва (1905‑191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ятели религиозно-философского ренессанса (литератор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 Розанов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56-19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. Иванов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6-19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дрей Белы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80-193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Мережковский (1)"/>
          <p:cNvPicPr/>
          <p:nvPr/>
        </p:nvPicPr>
        <p:blipFill>
          <a:blip r:embed="rId1"/>
          <a:stretch/>
        </p:blipFill>
        <p:spPr>
          <a:xfrm>
            <a:off x="6837480" y="1798560"/>
            <a:ext cx="165240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Белый А (1-1)cr"/>
          <p:cNvPicPr/>
          <p:nvPr/>
        </p:nvPicPr>
        <p:blipFill>
          <a:blip r:embed="rId2"/>
          <a:stretch/>
        </p:blipFill>
        <p:spPr>
          <a:xfrm>
            <a:off x="7016760" y="4317840"/>
            <a:ext cx="1652400" cy="215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Иванов Вяч (1)cr"/>
          <p:cNvPicPr/>
          <p:nvPr/>
        </p:nvPicPr>
        <p:blipFill>
          <a:blip r:embed="rId3"/>
          <a:stretch/>
        </p:blipFill>
        <p:spPr>
          <a:xfrm>
            <a:off x="5037120" y="4138560"/>
            <a:ext cx="1781280" cy="21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Розанов (3)sep-cr"/>
          <p:cNvPicPr/>
          <p:nvPr/>
        </p:nvPicPr>
        <p:blipFill>
          <a:blip r:embed="rId4"/>
          <a:stretch/>
        </p:blipFill>
        <p:spPr>
          <a:xfrm>
            <a:off x="4857840" y="1619280"/>
            <a:ext cx="1652400" cy="21589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 Розанов (1856-19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4840" y="1600200"/>
            <a:ext cx="57657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я («метафизика пол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«исторического христиан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ристианство Вифлеема и христианство Голгоф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игия Авраама и религия Х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ский песс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как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как жер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Розанов (7)"/>
          <p:cNvPicPr/>
          <p:nvPr/>
        </p:nvPicPr>
        <p:blipFill>
          <a:blip r:embed="rId1"/>
          <a:stretch/>
        </p:blipFill>
        <p:spPr>
          <a:xfrm>
            <a:off x="6297480" y="1798560"/>
            <a:ext cx="2486160" cy="4321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Мережковский (1)"/>
          <p:cNvPicPr/>
          <p:nvPr/>
        </p:nvPicPr>
        <p:blipFill>
          <a:blip r:embed="rId1"/>
          <a:stretch/>
        </p:blipFill>
        <p:spPr>
          <a:xfrm>
            <a:off x="5397480" y="1798560"/>
            <a:ext cx="3303720" cy="4318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Религиозный мате-риализм»: «правда о пло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: «три Заве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От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Сы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ый анар-хиз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. Иванов (1866-19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Критическое» и «органи-ческое» 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ая природ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интеграция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как теу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алистический и реа-листический 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религии: «дионисий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Иванов Вяч (2 -  Юон)"/>
          <p:cNvPicPr/>
          <p:nvPr/>
        </p:nvPicPr>
        <p:blipFill>
          <a:blip r:embed="rId1"/>
          <a:stretch/>
        </p:blipFill>
        <p:spPr>
          <a:xfrm>
            <a:off x="5937120" y="1798560"/>
            <a:ext cx="2820960" cy="43210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ндрей Белый (1880-193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21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 как миропоним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сение смысла в бессмысленный ми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Пересоздание мирозд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Белый А (1-1)cr"/>
          <p:cNvPicPr/>
          <p:nvPr/>
        </p:nvPicPr>
        <p:blipFill>
          <a:blip r:embed="rId1"/>
          <a:stretch/>
        </p:blipFill>
        <p:spPr>
          <a:xfrm>
            <a:off x="5219640" y="1916280"/>
            <a:ext cx="3306960" cy="43192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Бердяев (1)"/>
          <p:cNvPicPr/>
          <p:nvPr/>
        </p:nvPicPr>
        <p:blipFill>
          <a:blip r:embed="rId1"/>
          <a:stretch/>
        </p:blipFill>
        <p:spPr>
          <a:xfrm>
            <a:off x="4678200" y="1438200"/>
            <a:ext cx="1554480" cy="2160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борник «Вехи» (1909)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4840" y="1600200"/>
            <a:ext cx="42177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А. Бердяев. Фило-софская истина и ин-теллигентская прав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 Н. Булгаков. Героизм и подвижнич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О. Гершензон. Твор-ческое самосоз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С. Изгоев. Об интел-лигентной молодё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. А. Кистяковский. В защиту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 Б. Струве. Интелли-генция и револю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 Л. Франк. Этика ниги-лиз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Булгаков СН (1)"/>
          <p:cNvPicPr/>
          <p:nvPr/>
        </p:nvPicPr>
        <p:blipFill>
          <a:blip r:embed="rId2"/>
          <a:stretch/>
        </p:blipFill>
        <p:spPr>
          <a:xfrm>
            <a:off x="7197840" y="1438200"/>
            <a:ext cx="1622160" cy="215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Струве П (1)"/>
          <p:cNvPicPr/>
          <p:nvPr/>
        </p:nvPicPr>
        <p:blipFill>
          <a:blip r:embed="rId3"/>
          <a:stretch/>
        </p:blipFill>
        <p:spPr>
          <a:xfrm>
            <a:off x="7340760" y="4497480"/>
            <a:ext cx="147456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Франк СЛ (1)sep"/>
          <p:cNvPicPr/>
          <p:nvPr/>
        </p:nvPicPr>
        <p:blipFill>
          <a:blip r:embed="rId4"/>
          <a:stretch/>
        </p:blipFill>
        <p:spPr>
          <a:xfrm>
            <a:off x="4678200" y="4497480"/>
            <a:ext cx="1298880" cy="21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Гершензон (2)cr"/>
          <p:cNvPicPr/>
          <p:nvPr/>
        </p:nvPicPr>
        <p:blipFill>
          <a:blip r:embed="rId5"/>
          <a:stretch/>
        </p:blipFill>
        <p:spPr>
          <a:xfrm>
            <a:off x="5937120" y="2968560"/>
            <a:ext cx="1803600" cy="216072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09:59Z</dcterms:created>
  <dc:creator>Николай Бирюков / Nikolai Biryukov</dc:creator>
  <dc:description>Версия апреля 2004 г.</dc:description>
  <dc:language>en-US</dc:language>
  <cp:lastModifiedBy>LEGION</cp:lastModifiedBy>
  <dcterms:modified xsi:type="dcterms:W3CDTF">2014-11-11T10:14:33Z</dcterms:modified>
  <cp:revision>4</cp:revision>
  <dc:subject>История русской философии - Лекция 10</dc:subject>
  <dc:title>Религиозно-философский ренессанс</dc:title>
</cp:coreProperties>
</file>