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DF20-8D15-48C8-80A3-6A0BC5B778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о-философский ренессан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D818-549F-4CF7-8479-440182EFA2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М. О. Гершензон (1869-192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ве главные цели «Вех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снование дела свобо-ды на религиозно-культур-ных началах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личение «идолов» ле-вой обще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Творческое самосозна-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бинетное резонё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уховный максим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ктантская нетерп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88EA-9600-48CD-A1C6-9BB042E6BA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. А. Бердяев (1874-194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Философская истина и интеллигентская прав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ружковщ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тилитарно-моральная устан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енебрежение истин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A3A1-7AB9-4A04-8837-6EB2E2E49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 Н. Булгаков (1871-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Героизм и подвижни-ч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уховная гордыня и нравственное см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митивность фило-софско-исторических концепц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гматизм русской интеллиген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589F-D3F6-48D7-8566-CAAD5B0D53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. А. Кистяковский (1868-192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В защиту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енебрежительное от-ношение к  формально-му праву как «низшей» сфер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0E07-E40A-471D-B4AB-FA01A9C69C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. Б. Струве (1870-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Интеллигенция и револю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вязчивая идея револю-ционного переворот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инный путь прогр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B85E-63D5-4DD8-A334-F37D704DBD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 Л. Франк (1977-19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тика нигилиз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игилистическая религия земного благополуч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езнравственная идея «коллективной польз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6ABF-3E98-4303-81F1-393893E761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елигиозно-философский ренессан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и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(1901‑190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етербургское (Петроградское) религиозно-философ-ское общество (1907‑1917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осковское религиозно-философское общество памяти Владимира Соловьёва (1905‑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еятели религиозно-философского ренессан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 Розанов (1856-191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. Иванов (1866-194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дрей Белый (1880-193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борник «Вехи» (19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. О. Гершензон (1869-192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. А. Бердяев (1874-194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 Н. Булгаков (1871-19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. А. Кистяковский (1868-19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. Б. Струве (1870-19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 Л. Франк (1977-19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D706-93E7-486F-ABDC-F79D84A3CA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и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(1901‑19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тербургское (Петроградское) религиозно-философское общество (1907‑191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ое религиозно-философское общество памяти Владимира Соловьёва (1905‑191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9AF6-B527-4890-A536-3B90D34240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еятели религиозно-философского ренессанса (литератор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 Розанов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56-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 Иванов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66-194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дрей Белый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80-19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3FAA-82D5-4E41-92AB-CCAC8138BE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 Розанов (1856-191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ропология («метафизика пол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«исторического христиан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Христианство Вифлеема и христианство Голгоф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я Авраама и религия Хр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ософский песси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еловек как ср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еловек как жер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2498-5528-463A-B628-57B9036D49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лигиозный мате-риализм»: «правда о пло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ософия: «три Заве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О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Сы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ый анар-хиз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0D8B-047F-4528-9EE6-5529DB28C8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. Иванов (1866-194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ори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Критическое» и «органи-ческое» нача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тологическая природа твор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илософия искус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интеграция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кусство как теур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деалистический и реа-листический симво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илософия религии: «дионисийст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1F0B-AFE3-4D68-8039-266622B00A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ндрей Белый (1880-193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как миропо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есение смысла в бессмысленный ми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ересоздание мирозд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FAAC-CC45-44F5-9112-9642BECC7A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борник «Вехи» (1909)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А. Бердяев. Фило-софская истина и ин-теллигентская прав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 Н. Булгаков. Героизм и подвижни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О. Гершензон. Твор-ческое самосо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С. Изгоев. Об интел-лигентной молодё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. А. Кистяковский. В защиту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. Б. Струве. Интелли-генция и револю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 Л. Франк. Этика ниги-лиз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2DA9-8EBB-4BA1-82E1-31A86672AF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8AC-902F-49EE-B831-50A7BD7F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B17-51E0-419C-A192-26099649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178-F3D4-40C9-8124-436FEE50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86F-643D-4662-8AEE-910EEFD5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C5B-2EA1-445E-8868-400F25D3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937-9117-4612-B4E0-7A14D7D3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943-6791-4E25-9FC1-563091AD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D4B-792A-4013-A636-CE8D0B8C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0A0-9426-4F96-BC1C-8F6BEBE4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45D-D143-4FD5-835F-E553CC5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655-93AB-4CAF-AE0D-8DD9173C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C26-A84B-4550-8DE1-0C04496B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40C-25E7-4904-871D-5714603CD0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2600" y="2356920"/>
            <a:ext cx="7553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лигиозно-философский ренессан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. О. Гершензон (1869-192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е главные цели «Вех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снование дела свобо-ды на религиозно-культур-ных начал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ичение «идолов» ле-вой обще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орческое самосозна-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бинетное резонё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ый максим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ктантская нетерп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ершензон (1)"/>
          <p:cNvPicPr/>
          <p:nvPr/>
        </p:nvPicPr>
        <p:blipFill>
          <a:blip r:embed="rId1"/>
          <a:stretch/>
        </p:blipFill>
        <p:spPr>
          <a:xfrm>
            <a:off x="5649840" y="1798560"/>
            <a:ext cx="3065400" cy="43182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. А. Бердяев (1874-194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Философская истина и интеллигентская прав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ружковщ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илитарно-моральная у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небрежение истин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Бердяев (6-5)"/>
          <p:cNvPicPr/>
          <p:nvPr/>
        </p:nvPicPr>
        <p:blipFill>
          <a:blip r:embed="rId1"/>
          <a:stretch/>
        </p:blipFill>
        <p:spPr>
          <a:xfrm>
            <a:off x="6297480" y="1798560"/>
            <a:ext cx="2159280" cy="4318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Н. Булгаков (1871-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6120" y="179856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роизм и подвижни-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ая гордыня и нравственное сми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итивность фило-софско-исторических концепц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гматизм русской интеллиг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Булгаков СН (2)"/>
          <p:cNvPicPr/>
          <p:nvPr/>
        </p:nvPicPr>
        <p:blipFill>
          <a:blip r:embed="rId1"/>
          <a:stretch/>
        </p:blipFill>
        <p:spPr>
          <a:xfrm>
            <a:off x="5651640" y="1798560"/>
            <a:ext cx="3073320" cy="431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А. Кистяковский (1868-192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6120" y="179856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 защиту пра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небрежительное от-ношение к  формально-му праву как «низшей» сфе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истяковский (1-2)"/>
          <p:cNvPicPr/>
          <p:nvPr/>
        </p:nvPicPr>
        <p:blipFill>
          <a:blip r:embed="rId1"/>
          <a:stretch/>
        </p:blipFill>
        <p:spPr>
          <a:xfrm>
            <a:off x="5218200" y="1798560"/>
            <a:ext cx="3414600" cy="43182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. Б. Струве (1870-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93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нтеллигенция и револю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вязчивая идея револю-ционного переворо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ный путь прогр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труве П (1)"/>
          <p:cNvPicPr/>
          <p:nvPr/>
        </p:nvPicPr>
        <p:blipFill>
          <a:blip r:embed="rId1"/>
          <a:stretch/>
        </p:blipFill>
        <p:spPr>
          <a:xfrm>
            <a:off x="5757840" y="1798560"/>
            <a:ext cx="2951280" cy="43182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Л. Франк (1977-195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93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тика нигил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гилистическая религия земного благополуч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нравственная идея «коллективной польз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Франк СЛ (1)"/>
          <p:cNvPicPr/>
          <p:nvPr/>
        </p:nvPicPr>
        <p:blipFill>
          <a:blip r:embed="rId1"/>
          <a:stretch/>
        </p:blipFill>
        <p:spPr>
          <a:xfrm>
            <a:off x="5937120" y="1798560"/>
            <a:ext cx="2595600" cy="4321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4840" y="91800"/>
            <a:ext cx="8734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игиозно-философский ренессан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79280"/>
            <a:ext cx="822960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и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(1901‑190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тербургское (Петроградское) религиозно-философ-ское общество (1907‑191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ое религиозно-философское общество памяти Владимира Соловьёва (1905‑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и религиозно-философского ренесс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 Розанов (1856-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 Иванов (1866-19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дрей Белый (1880-19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орник «Вехи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О. Гершензон (1869-19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А. Бердяев (1874-19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Н. Булгаков (1871-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. А. Кистяковский (1868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 Б. Струве (1870-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Л. Франк (1977-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(1901‑190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ское (Петроградское) религиозно-философское общество (1907‑191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сковское религиозно-философское общество памяти Владимира Соловьёва (1905‑191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ятели религиозно-философского ренессанса (литератор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 Розан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56-19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. Иван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6-19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дрей Белы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80-193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Мережковский (1)"/>
          <p:cNvPicPr/>
          <p:nvPr/>
        </p:nvPicPr>
        <p:blipFill>
          <a:blip r:embed="rId1"/>
          <a:stretch/>
        </p:blipFill>
        <p:spPr>
          <a:xfrm>
            <a:off x="6837480" y="1798560"/>
            <a:ext cx="165240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Белый А (1-1)cr"/>
          <p:cNvPicPr/>
          <p:nvPr/>
        </p:nvPicPr>
        <p:blipFill>
          <a:blip r:embed="rId2"/>
          <a:stretch/>
        </p:blipFill>
        <p:spPr>
          <a:xfrm>
            <a:off x="7016760" y="4317840"/>
            <a:ext cx="1652400" cy="215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Иванов Вяч (1)cr"/>
          <p:cNvPicPr/>
          <p:nvPr/>
        </p:nvPicPr>
        <p:blipFill>
          <a:blip r:embed="rId3"/>
          <a:stretch/>
        </p:blipFill>
        <p:spPr>
          <a:xfrm>
            <a:off x="5037120" y="4138560"/>
            <a:ext cx="178128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озанов (3)sep-cr"/>
          <p:cNvPicPr/>
          <p:nvPr/>
        </p:nvPicPr>
        <p:blipFill>
          <a:blip r:embed="rId4"/>
          <a:stretch/>
        </p:blipFill>
        <p:spPr>
          <a:xfrm>
            <a:off x="4857840" y="1619280"/>
            <a:ext cx="1652400" cy="215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 Розанов (1856-19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4840" y="1600200"/>
            <a:ext cx="5765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я («метафизика пол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«исторического христиан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ристианство Вифлеема и христианство Голгоф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игия Авраама и религия Х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ский песс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как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как жер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Розанов (7)"/>
          <p:cNvPicPr/>
          <p:nvPr/>
        </p:nvPicPr>
        <p:blipFill>
          <a:blip r:embed="rId1"/>
          <a:stretch/>
        </p:blipFill>
        <p:spPr>
          <a:xfrm>
            <a:off x="6297480" y="1798560"/>
            <a:ext cx="2486160" cy="4321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Мережковский (1)"/>
          <p:cNvPicPr/>
          <p:nvPr/>
        </p:nvPicPr>
        <p:blipFill>
          <a:blip r:embed="rId1"/>
          <a:stretch/>
        </p:blipFill>
        <p:spPr>
          <a:xfrm>
            <a:off x="5397480" y="1798560"/>
            <a:ext cx="3303720" cy="4318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Религиозный мате-риализм»: «правда о пло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: «три Заве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От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Сы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анар-хиз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. Иванов (1866-19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ритическое» и «органи-ческое» 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ая природ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интеграция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как те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алистический и реа-листический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религии: «дионисий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Иванов Вяч (2 -  Юон)"/>
          <p:cNvPicPr/>
          <p:nvPr/>
        </p:nvPicPr>
        <p:blipFill>
          <a:blip r:embed="rId1"/>
          <a:stretch/>
        </p:blipFill>
        <p:spPr>
          <a:xfrm>
            <a:off x="5937120" y="1798560"/>
            <a:ext cx="2820960" cy="43210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дрей Белый (1880-19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2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как миропоним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сение смысла в бессмысленный ми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Пересоздание мирозд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Белый А (1-1)cr"/>
          <p:cNvPicPr/>
          <p:nvPr/>
        </p:nvPicPr>
        <p:blipFill>
          <a:blip r:embed="rId1"/>
          <a:stretch/>
        </p:blipFill>
        <p:spPr>
          <a:xfrm>
            <a:off x="5219640" y="1916280"/>
            <a:ext cx="3306960" cy="4319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Бердяев (1)"/>
          <p:cNvPicPr/>
          <p:nvPr/>
        </p:nvPicPr>
        <p:blipFill>
          <a:blip r:embed="rId1"/>
          <a:stretch/>
        </p:blipFill>
        <p:spPr>
          <a:xfrm>
            <a:off x="4678200" y="1438200"/>
            <a:ext cx="155448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борник «Вехи» (1909)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4840" y="1600200"/>
            <a:ext cx="4217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А. Бердяев. Фило-софская истина и ин-теллигентская прав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 Н. Булгаков. Героизм и подвижнич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О. Гершензон. Твор-ческое самосоз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С. Изгоев. Об интел-лигентной молодё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. А. Кистяковский. В защиту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 Б. Струве. Интелли-генция и револю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 Л. Франк. Этика ниги-лиз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Булгаков СН (1)"/>
          <p:cNvPicPr/>
          <p:nvPr/>
        </p:nvPicPr>
        <p:blipFill>
          <a:blip r:embed="rId2"/>
          <a:stretch/>
        </p:blipFill>
        <p:spPr>
          <a:xfrm>
            <a:off x="7197840" y="1438200"/>
            <a:ext cx="1622160" cy="215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труве П (1)"/>
          <p:cNvPicPr/>
          <p:nvPr/>
        </p:nvPicPr>
        <p:blipFill>
          <a:blip r:embed="rId3"/>
          <a:stretch/>
        </p:blipFill>
        <p:spPr>
          <a:xfrm>
            <a:off x="7340760" y="4497480"/>
            <a:ext cx="147456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Франк СЛ (1)sep"/>
          <p:cNvPicPr/>
          <p:nvPr/>
        </p:nvPicPr>
        <p:blipFill>
          <a:blip r:embed="rId4"/>
          <a:stretch/>
        </p:blipFill>
        <p:spPr>
          <a:xfrm>
            <a:off x="4678200" y="4497480"/>
            <a:ext cx="1298880" cy="21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Гершензон (2)cr"/>
          <p:cNvPicPr/>
          <p:nvPr/>
        </p:nvPicPr>
        <p:blipFill>
          <a:blip r:embed="rId5"/>
          <a:stretch/>
        </p:blipFill>
        <p:spPr>
          <a:xfrm>
            <a:off x="5937120" y="2968560"/>
            <a:ext cx="1803600" cy="21607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09:59Z</dcterms:created>
  <dc:creator>Николай Бирюков / Nikolai Biryukov</dc:creator>
  <dc:description>Версия апреля 2004 г.</dc:description>
  <dc:language>en-US</dc:language>
  <cp:lastModifiedBy>LEGION</cp:lastModifiedBy>
  <dcterms:modified xsi:type="dcterms:W3CDTF">2014-11-11T10:14:33Z</dcterms:modified>
  <cp:revision>4</cp:revision>
  <dc:subject>История русской философии - Лекция 10</dc:subject>
  <dc:title>Религиозно-философский ренессанс</dc:title>
</cp:coreProperties>
</file>