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8020-3F3E-46BC-B937-4A544DE2BF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ACE-0F2D-4384-A28F-411F3FA2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A71-6E4A-4650-937D-5082C7C1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FE7-690C-4AAD-BB45-AE0A9C00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192-39D3-4EE1-9CAA-AA952238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C374-9507-4A92-96B7-2E990BBC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FB38-1593-4DB6-B6C5-6A9CFEED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B4D1-B901-45BD-B29E-761A7FD8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5653-67B8-4D86-8861-416B01F7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C8E8-020C-4349-8CB2-F04CE587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765C-1F7E-4BF4-B2E7-02A284C2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5FAE-7615-479A-934C-E020623F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831-44F3-4BC3-B60A-F93D9C9C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F816-F652-49A9-AB40-5E62A33E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88F8-6D98-415E-9CA1-92785E45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0DC7-8087-4298-979A-84335225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325E-9E56-4E0A-A1F1-A1688F8A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8403-4BEF-4AAA-9128-6E077BED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C51-341D-48CA-B7AB-698EC908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3A5-C140-41F5-AC10-7E8A68B3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5D3-DFB4-4720-8A6B-BD60A852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18A-76AA-47EF-A0F1-D83025D5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940-9D19-40E7-A901-E7C1A799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DAE-6616-47D1-A565-EECB1AC0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E5E-7B2A-41D5-B66E-23DA1BF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EB4B-6E8E-498C-9E57-C7535774D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35A4-B78B-45D2-8474-158BB45042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f"/>
              </a:gs>
              <a:gs pos="50000">
                <a:srgbClr val="76764a"/>
              </a:gs>
              <a:gs pos="100000">
                <a:srgbClr val="ffff9f"/>
              </a:gs>
            </a:gsLst>
            <a:lin ang="5400000"/>
          </a:gradFill>
          <a:ln w="9360">
            <a:solidFill>
              <a:srgbClr val="33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6600"/>
                </a:solidFill>
                <a:latin typeface="Arial"/>
              </a:rPr>
              <a:t>Медсестринство и медицина 19 века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49—1936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38440" y="404640"/>
            <a:ext cx="3743280" cy="54626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Луи Пастер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22-1895). Он является основателем научной микробиологии и иммунологии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инно-спиртового броже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оздани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тирабич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кцины (против бешенства)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уи Пастер (1822—189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2514600" y="549360"/>
            <a:ext cx="3733920" cy="5308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Роберта Кох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43-1910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берт Кох (1843—1910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28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865680" cy="56577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791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0" t="0" r="5884" b="0"/>
          <a:stretch/>
        </p:blipFill>
        <p:spPr>
          <a:xfrm>
            <a:off x="2344680" y="304920"/>
            <a:ext cx="4894200" cy="4952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5029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2 г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. Ивановский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крыл вирусы, еще более мелкие частицы сравнительно с микробами, которые являются внуриклеточ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разитами и, как оказалось позже, причиной многих эпидемических болезн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не Лаэннек (1781—182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3646440" cy="5183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6116" r="0" b="0"/>
          <a:stretch/>
        </p:blipFill>
        <p:spPr>
          <a:xfrm>
            <a:off x="1143000" y="304920"/>
            <a:ext cx="7162920" cy="5715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5 г.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Конрад Рентген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1845–1923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Пулюй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45–1918)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дом из Тернопольщины. Он получил первые снимки руки человека, но не зарегистрировал открыт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00000" y="260280"/>
            <a:ext cx="7705800" cy="5488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ергея Боткина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32–1889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32—1889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554280" cy="519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ортон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в присутствии численного врачебного собрания, впервые использовал эфир для удаления опухоли шеи. В 1847 г. английский хирург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ж. Симпсон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первые использовал хлороформ как обезболивающий средств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62784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Игнац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еммельвей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йский хирург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жозеф Лис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27-1912) положил начало антисептике; он довел, что возбудителями нагноения являются низшие существа, которые находятся в воздухе (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аз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то есть микробы. Как меру предосторожности, он использовал карболовую кислоту (1865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иколай Пирогов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0–1881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месте с физиологом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О. Филомафитским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иколай Пирогов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1810–188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224160" cy="5400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1261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акс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еттенкоф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8–1901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LO20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9900"/>
                </a:solidFill>
                <a:latin typeface="Arial"/>
              </a:rPr>
              <a:t>Благодарю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86728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Карл Рокитанский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Рудольф Вирхо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тологи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удольф Вирхов (1821—190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743280" cy="5483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рансуа Мажанди (1783—185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3684600" cy="54608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Сечен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700360" y="0"/>
            <a:ext cx="3875040" cy="5691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Иван Павло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1849–1936) —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лов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зусловнорефлектор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primum phisiologorum mund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9:17:45Z</dcterms:created>
  <dc:creator>1</dc:creator>
  <dc:description/>
  <dc:language>en-US</dc:language>
  <cp:lastModifiedBy>LEGION</cp:lastModifiedBy>
  <dcterms:modified xsi:type="dcterms:W3CDTF">2015-12-31T12:50:11Z</dcterms:modified>
  <cp:revision>42</cp:revision>
  <dc:subject/>
  <dc:title>Медсестринство и медицина 19 века</dc:title>
</cp:coreProperties>
</file>