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8.png" ContentType="image/png"/>
  <Override PartName="/ppt/media/image14.jpeg" ContentType="image/jpeg"/>
  <Override PartName="/ppt/media/image5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13844-88B3-477F-AF44-B8066A3082C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медицины Росс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XVIII ве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подаватель: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вковская Е.Н.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ое государственное военное образовательное учреждение высшего профессионального образования «Военно-медицинская академия имени С.М. Кирова»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истерства обороны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тория медицины Росси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в XVIII век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подаватель: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евковская Е.Н.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едеральное государственное военное образовательное учреждение высшего профессионального образования «Военно-медицинская академия имени С.М. Кирова»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инистерства обороны Российской Федер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НА ИВАНОВНА (Анна Иоанновн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28 января (7 февраля) 1693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сква — 17 (28) октября 1740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ербург), российская императрица с 1730 г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НА ИВАНОВНА (Анна Иоанновна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28 января (7 февраля) 1693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сква — 17 (28) октября 1740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тербург), российская императрица с 1730 год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аз от 14 сентября 1730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Нынешнего Архиатра отставить, а на его место определить докторов: Быдла (Н.Бидлоо), Шоберта (Г.Шобер); фон Дегульста (А.Ван-дер Гульст); Севаста (А.А.Севасто); Теульса (И.А.Де-Тейльс); которым по вся недели в медицинскую канцелярию собираться в учрежденные дни, и все к верхней аптеке принадлежащие дела основательно рассматривать и по обыкновению коллежскому учреждать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каз от 14 сентября 1730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"Нынешнего Архиатра отставить, а на его место определить докторов: Быдла (Н.Бидлоо), Шоберта (Г.Шобер); фон Дегульста (А.Ван-дер Гульст); Севаста (А.А.Севасто); Теульса (И.А.Де-Тейльс); которым по вся недели в медицинскую канцелярию собираться в учрежденные дни, и все к верхней аптеке принадлежащие дела основательно рассматривать и по обыкновению коллежскому учреждать"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разования архиатера Риг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ал подробный штат Медицинской канцелярии и всех подведомственных ей учреждений, который был утвержден 9 января 1733 г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этому штату в непосредственном ведении Медицинской канцелярии находились придворная медицинская часть (8 человек), штат-физики (врачи) и при них лекари в С.-Петербурге и Москве, Санкт-Петербургский сухопутный госпиталь (29 единиц медицинского персонала и 20 учеников), 2 главные аптеки (в Петербурге и Москве), 2 нижние аптеки (в Петербурге и Москве) и "медицинский огород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образования архиатера Риге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работал подробный штат Медицинской канцелярии и всех подведомственных ей учреждений, который был утвержден 9 января 1733 год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этому штату в непосредственном ведении Медицинской канцелярии находились придворная медицинская часть (8 человек), штат-физики (врачи) и при них лекари в С.-Петербурге и Москве, Санкт-Петербургский сухопутный госпиталь (29 единиц медицинского персонала и 20 учеников), 2 главные аптеки (в Петербурге и Москве), 2 нижние аптеки (в Петербурге и Москве) и "медицинский огород"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734 по 1741 год директором Медицинской канцелярии был И.Б.Фишер, уроженец Риги, получивший медицинское образование в Лейденском университе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его именем связаны наиболее крупные преобразования в организации медицинского дела в России первого периода деятельности Медицинской канцелярии. Прежде всего утверждение госпитального устава (1735 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 1734 по 1741 год директором Медицинской канцелярии был И.Б.Фишер, уроженец Риги, получивший медицинское образование в Лейденском университете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 его именем связаны наиболее крупные преобразования в организации медицинского дела в России первого периода деятельности Медицинской канцелярии. Прежде всего утверждение госпитального устава (1735 г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ЛИЗАВЕТА ПЕТР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[18 (29) декабря 1709, Петербург —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5 декабря 1761 (5 января 1762), там же]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ая императрица (1741 — 61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ЛИЗАВЕТА ПЕТР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[18 (29) декабря 1709, Петербург —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5 декабря 1761 (5 января 1762), там же]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ссийская императрица (1741 — 61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741 году с воцарением дочери Петра I Елизаветы были отстранены от должности все лица,  занимавшие высшие административныепосты при предыдущих правителя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ил отставку  архиатер И.Б.Фишер, на его место был назначен бездарный фаворит императрицы граф Г.Лесток, запутавшийся в дворцовых интригах и передавший вскоре фактическое управление Медицинской канцелярией П.З.Кондоиди, назначенному помощником директора этой канцеля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741 году с воцарением дочери Петра I Елизаветы были отстранены от должности все лица,  занимавшие высшие административныепосты при предыдущих правителях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лучил отставку  архиатер И.Б.Фишер, на его место был назначен бездарный фаворит императрицы граф Г.Лесток, запутавшийся в дворцовых интригах и передавший вскоре фактическое управление Медицинской канцелярией П.З.Кондоиди, назначенному помощником директора этой канцеляр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Р III Федорович (1728-62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ий император (с 176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ТР III Федорович (1728-62)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ссийский император (с 176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КАТЕРИНА II Великая (1729-96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ая императрица (с 1762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КАТЕРИНА II Великая (1729-96)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ссийская императрица (с 1762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медицинская коллегия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а 12 ноября 1763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нее возлагались организация медицинской и лекарственной помощи населению и наблюдение за деятельностью казенных и вольных апт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ачале коллегия состояла из президента, 3 докторов медицины, штаб-лекаря, оператора и аптекар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сударственная медицинская коллегия,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ана 12 ноября 1763 г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 нее возлагались организация медицинской и лекарственной помощи населению и наблюдение за деятельностью казенных и вольных аптек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начале коллегия состояла из президента, 3 докторов медицины, штаб-лекаря, оператора и аптекаря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разования медицинской колле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м президентом Медицинской коллегии был барон Александр Иванович Черка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последствии она разделилась на два департамента: первый управлял учеными делами, а второй - хозяйственно-экономическ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788 году Медицинская Коллегия была подчинена главному директор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м директором был назначен действительный тайный советник фон Фитинго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образования медицинской коллег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вым президентом Медицинской коллегии был барон Александр Иванович Черкасов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последствии она разделилась на два департамента: первый управлял учеными делами, а второй - хозяйственно-экономически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788 году Медицинская Коллегия была подчинена главному директору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вым директором был назначен действительный тайный советник фон Фитингоф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птекарский прик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я возникновения Аптекарского приказа в точности неизвестно. Чистович, Рихтер считают годом основания этого учреждения 1620-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птекарский приказ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ремя возникновения Аптекарского приказа в точности неизвестно. Чистович, Рихтер считают годом основания этого учреждения 1620-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 плодотворна бы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гии  после назна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793 г.  на пост главн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ректора  государственн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значея  А.И.Василье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обенно плодотворна был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ятельн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ллегии  после назнач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793 г.  на пост главног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иректора  государственног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значея  А.И.Васильев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нце 1803 г. Медицинская коллегия была ликвидиров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учреждением министерств функции руководства здравоохранением и медициной перешли в ведение 4 министерст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ая медицина - в Министерство внутренних дел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подготовки медицинских кадров - в Министерство просвеще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енная и морская медицина - соответственно в военное и морское министер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конце 1803 г. Медицинская коллегия была ликвидирован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 учреждением министерств функции руководства здравоохранением и медициной перешли в ведение 4 министерств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жданская медицина - в Министерство внутренних дел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просы подготовки медицинских кадров - в Министерство просвещения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енная и морская медицина - соответственно в военное и морское министерство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ая медицинская шк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товившая лекарей для войск, была открыта в 1654 г. в Москве. В школу было принято 30 учеников из "стрелецких детей". Срок обучения планировался индивидуально в зависимости от степени подготовленности учени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658 г. состоялся первый выпуск полковых лекарей, было выпущено 13 человек, которых направили на службу в армию. Остальные окончили школу в 1660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вая медицинская школ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товившая лекарей для войск, была открыта в 1654 г. в Москве. В школу было принято 30 учеников из "стрелецких детей". Срок обучения планировался индивидуально в зависимости от степени подготовленности учеников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658 г. состоялся первый выпуск полковых лекарей, было выпущено 13 человек, которых направили на службу в армию. Остальные окончили школу в 1660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707 г. в Москве при первом постоянном военном госпита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реждается лекарская шко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707 г. в Москве при первом постоянном военном госпитал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реждается лекарская школ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тат госпиталя и лекарской школы при открытии был небольшой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доктор, 1 лекарь, 2 аптекаря, 1 подлекарь, 1 гезел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ем школы был доктор Николай Бидло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школе обучалось 50 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тат госпиталя и лекарской школы при открытии был небольшой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 доктор, 1 лекарь, 2 аптекаря, 1 подлекарь, 1 гезель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уководителем школы был доктор Николай Бидлоо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школе обучалось 50 человек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ервую половину ХVIII в. в России существовал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 медицинских шко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них 2 (при Петербургском сухопутном и Елизаветградском госпиталях) - готовили лекарей для арм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(при Петербургском адмиралтейском и Кронштадтском морском госпиталях) - для флота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(при Московском госпитал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первую половину ХVIII в. в России существовало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 медицинских шко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з них 2 (при Петербургском сухопутном и Елизаветградском госпиталях) - готовили лекарей для арм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 (при Петербургском адмиралтейском и Кронштадтском морском госпиталях) - для флота 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 (при Московском госпитале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грамму обучения в госпитальных школах входили следующие раздел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тинский язык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томия челове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птекарское дело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болезней и способов их лече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ка хирургических опер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программу обучения в госпитальных школах входили следующие разделы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атинский язык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атомия человека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птекарское дело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зучение болезней и способов их лечения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хника хирургических операци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кция профессорам госпитальных школ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ставленная П.З.Кондоиди в 1742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...наипаче  на  то   смотреть,   чтобы   учащиеся   получали понятие о частях человеческого тела,    о медикаментах и хирургических инструментах   больше   очным   опознанием,   нежели  трудно   понимаемым описанием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струкция профессорам госпитальных школ,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составленная П.З.Кондоиди в 1742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"...наипаче  на  то   смотреть,   чтобы   учащиеся   получали понятие о частях человеческого тела,    о медикаментах и хирургических инструментах   больше   очным   опознанием,   нежели  трудно   понимаемым описанием"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Кто может сказать, что это не самый лучший способ изучать медицину, если у нас каждый ученик с самого поступления в госпиталь должен ежедневно быть у постели больного, пускать им кровь, делать перевязки, прописывать лекарства - словом, исполнять все то, что предписывает ему врач или хирург, наблюдающий за их излечением ... Не согласится ли всякий со мною, что лучше одновременно изучать теорию и практику, нежели одну теорию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"Кто может сказать, что это не самый лучший способ изучать медицину, если у нас каждый ученик с самого поступления в госпиталь должен ежедневно быть у постели больного, пускать им кровь, делать перевязки, прописывать лекарства - словом, исполнять все то, что предписывает ему врач или хирург, наблюдающий за их излечением ... Не согласится ли всякий со мною, что лучше одновременно изучать теорию и практику, нежели одну теорию"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р 1 запретил врачам - иностранцам производить экзамены русским лекарям, приказ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... чтоб никакой из иностранных хирургов до интересов его величества не касались,  и чтоб никто из оных никакой обиды в чести или в повышении чина российского народа от него (Бидлоо. - ) изученным хирургам являть не дерзал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тр 1 запретил врачам - иностранцам производить экзамены русским лекарям, приказа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"... чтоб никакой из иностранных хирургов до интересов его величества не касались,  и чтоб никто из оных никакой обиды в чести или в повышении чина российского народа от него (Бидлоо. - ) изученным хирургам являть не дерзал"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741 г. было положено начало обучению среднего медицинского состава. В хирургические школы с этой целью стали набирать солдатских детей, которых после 5 лет обучения выпускали помощниками лекар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794 г. был принят указ Медицинской коллегии, которым предписывалось снять с профессоров медико-хирургических училищ обязанность следить за поведением учащихся и за посещением ими лекц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741 г. было положено начало обучению среднего медицинского состава. В хирургические школы с этой целью стали набирать солдатских детей, которых после 5 лет обучения выпускали помощниками лекаре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794 г. был принят указ Медицинской коллегии, которым предписывалось снять с профессоров медико-хирургических училищ обязанность следить за поведением учащихся и за посещением ими лекций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7 августа 1795 г. А.И.Васильев утвердил "Предварительное постановление о должностях учащих и учащихся" Главного Врачебного училища. Оно послужило основой для разработки положения о создании Медико-хирургической академ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7 августа 1795 г. А.И.Васильев утвердил "Предварительное постановление о должностях учащих и учащихся" Главного Врачебного училища. Оно послужило основой для разработки положения о создании Медико-хирургической академи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оябре 1802 г. в учебном процессе произошли некоторые изменения в связи с присоединением к Петербургской академии Калининского медико-хирургического института, который был основан в 1783 г. по указу Екатерины II в Петербурге за Калининским мостом на базе небольшой "секретной больницы" (больница для венерических больных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ноябре 1802 г. в учебном процессе произошли некоторые изменения в связи с присоединением к Петербургской академии Калининского медико-хирургического института, который был основан в 1783 г. по указу Екатерины II в Петербурге за Калининским мостом на базе небольшой "секретной больницы" (больница для венерических больных)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 называемые службы "у физических дел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ые с петровских времен в Санкт-Петербурге и Москве занимались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рьбой со   знахарств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ем за деятельностью аптек и продажей ядовитых вещест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ими осмотрами рекрутов и освидетельствованиями инвалидо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итарным надзором за тюрьмам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упреждением эпидемий заразных болезне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733 г. они получили название физика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ак называемые службы "у физических дел"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торые с петровских времен в Санкт-Петербурге и Москве занимались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орьбой со   знахарством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тролем за деятельностью аптек и продажей ядовитых веществ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дицинскими осмотрами рекрутов и освидетельствованиями инвалидов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анитарным надзором за тюрьмами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упреждением эпидемий заразных болезней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733 г. они получили название физикатов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Аптекарского прик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чение царя и его семь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ведении Аптекарского приказа находились "водочные изделия". Только в 1694 году заведование водочными делами было передано из Аптекарского приказа в приказ Большой Каз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ебно-медицинская и вообще  врачебная  экспертиз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л книгохранилищем литературы, и не только медицинской, но и общ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ункции Аптекарского приказ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ечение царя и его семьи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ведении Аптекарского приказа находились "водочные изделия". Только в 1694 году заведование водочными делами было передано из Аптекарского приказа в приказ Большой Казн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дебно-медицинская и вообще  врачебная  экспертиз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ыл книгохранилищем литературы, и не только медицинской, но и обще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738 году Анна Иоановна учредила своим указом при главной аптеке Санкт-Петербурга диспенсарию -ежедневный бесплатный амбулаторный прием больных из неимущих слоев населения. Для этого вводилась должность врач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инициативе И.Б.Фишера она своим Указом 7 июля 1737 г. ввела штатные должности врачей в "знатных городах" России. Регламентировалось иметь 56 городовых врач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738 году Анна Иоановна учредила своим указом при главной аптеке Санкт-Петербурга диспенсарию -ежедневный бесплатный амбулаторный прием больных из неимущих слоев населения. Для этого вводилась должность врач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инициативе И.Б.Фишера она своим Указом 7 июля 1737 г. ввела штатные должности врачей в "знатных городах" России. Регламентировалось иметь 56 городовых враче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Инструкция физикату". 1793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права и обязанности как представителей органов государственного санитарного надзо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ей подробно излагались методы санитарного контроля и исследования продуктов питания, городских общественных мест, надзора за промышленными предприятия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задача физикатов определялась следующим образом: «Физикат есть блюститель здоровья человеческого и испытатель всех причин в оное вливающихс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"Инструкция физикату". 1793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х права и обязанности как представителей органов государственного санитарного надзор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ней подробно излагались методы санитарного контроля и исследования продуктов питания, городских общественных мест, надзора за промышленными предприятиями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щая задача физикатов определялась следующим образом: «Физикат есть блюститель здоровья человеческого и испытатель всех причин в оное вливающихся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Инструкция о должности врачебной управы" 1797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Должность врачебной управы вообще, кроме той, которую находящиеся в ней чины обязаны подавать страждующим людям, каждый по своему званию, не требуя за свой труд воздания,    основывается на том, чтобы посредством преподаваемых правил и наставлений, соблюдаемо было народное всей губернии здравие, равно и сбережение скотоводства подаваемы были полезные советы"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"Инструкция о должности врачебной управы" 1797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"Должность врачебной управы вообще, кроме той, которую находящиеся в ней чины обязаны подавать страждующим людям, каждый по своему званию, не требуя за свой труд воздания,    основывается на том, чтобы посредством преподаваемых правил и наставлений, соблюдаемо было народное всей губернии здравие, равно и сбережение скотоводства подаваемы были полезные советы" 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должности оператора (хирурга) сказа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Хотя каждого врача есть первый долг быть человеколюбиву и во всяком случае готову к поданию помощи людям, болезнями одержимым, но качества сии для оператора несравненно еще нужнее, поелику действует его рука и без помощи его иногда никакие средства не в состоянии не только исцелить, ниже облегчить болезни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 должности оператора (хирурга) сказано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"Хотя каждого врача есть первый долг быть человеколюбиву и во всяком случае готову к поданию помощи людям, болезнями одержимым, но качества сии для оператора несравненно еще нужнее, поелику действует его рука и без помощи его иногда никакие средства не в состоянии не только исцелить, ниже облегчить болезни"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Правила для устройства городских больниц на 50 мест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о устроить их на государственный счет во всех губернских и наиболее крупных уездных город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ая коллегия утвердила эти правила и разослала во все врачебные управ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"Правила для устройства городских больниц на 50 мест"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ложено устроить их на государственный счет во всех губернских и наиболее крупных уездных городах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дицинская коллегия утвердила эти правила и разослала во все врачебные управ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 переустройстве медицинского дела в России и новых штатах коллегии и подведомственных ей учреждений»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ыл утвержден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 февраля 1799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О переустройстве медицинского дела в России и новых штатах коллегии и подведомственных ей учреждений»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был утвержден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2 февраля 1799 г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ВЕЛ I (1754-1801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ий император с 1796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АВЕЛ I (1754-1801)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ссийский император с 1796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тат медицинской коллеги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799 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идент (немедик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первый член, 2 старших, 3 младши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ый секретарь, советник экономическо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диции, т.е. всего 9 челове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ее составе имелись также переводчики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хитектор,  бухгалтер и разные канцелярские служит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тат медицинской коллегии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799 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идент (немедик)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 первый член, 2 старших, 3 младших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еный секретарь, советник экономической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спедиции, т.е. всего 9 человек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ее составе имелись также переводчики,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рхитектор,  бухгалтер и разные канцелярские служител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указу, утвержденному Сена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ли назначены следующие члены коллег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м - доктор Г.Аш, старшими - профессора Н.К.Карпинский и Я.О.Саполович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ладшими - доктор И.Г.Еллизен и штаб-лекари И.И.Виен и И.К.Каменец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ым секретарем - профессор Г.И.Базилевич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леном коллегии, советником экономической экспедиции - штаб-лекарь С. С .Андреевск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гласно указу, утвержденному Сенат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ыли назначены следующие члены коллегии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вым - доктор Г.Аш, старшими - профессора Н.К.Карпинский и Я.О.Саполович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ладшими - доктор И.Г.Еллизен и штаб-лекари И.И.Виен и И.К.Каменеций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еным секретарем - профессор Г.И.Базилевич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леном коллегии, советником экономической экспедиции - штаб-лекарь С. С .Андреевски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а медицинской колле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ая часть ведала подчиненными коллегии госпиталями, аптеками, медико-инструментальными заводами, медико-хирургическими академиями, типографией, ботаническими медицинскими садами.    В ее ведении было назначение чинов, проведение экзаменов для разрешения практики врачам и повивальным бабк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ая часть занималась вопросами медицинского обеспечения армии и флота, военными лазаретами и полковыми аптек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ья часть - гражданской медициной "с больницами и партикулярными аптеками", определением членов врачебных управ и уездных врач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твертая часть - делами самой коллегии и столичных "физикатов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ая экспедиция занималась вопросами финансирования, снабжения оборудованием и медикаментами, а также строительством лечебных учрежд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ла медицинской коллег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вая часть ведала подчиненными коллегии госпиталями, аптеками, медико-инструментальными заводами, медико-хирургическими академиями, типографией, ботаническими медицинскими садами.    В ее ведении было назначение чинов, проведение экзаменов для разрешения практики врачам и повивальным бабкам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торая часть занималась вопросами медицинского обеспечения армии и флота, военными лазаретами и полковыми аптекам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ретья часть - гражданской медициной "с больницами и партикулярными аптеками", определением членов врачебных управ и уездных враче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етвертая часть - делами самой коллегии и столичных "физикатов"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ономическая экспедиция занималась вопросами финансирования, снабжения оборудованием и медикаментами, а также строительством лечебных учреждени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птекарская канцеля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ла не в результате преобразования Аптекарского приказа, а сама по себе как орган медицинского управления во вновь строившейся тогда столице - Санкт-Петербур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елах Правительствующего сената, учрежденного Петром I в 1711 г., Аптекарская канцелярия упоминается с 1712 г., а до этого времени упоминался только Аптекарский прик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птекарская канцеляр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зникла не в результате преобразования Аптекарского приказа, а сама по себе как орган медицинского управления во вновь строившейся тогда столице - Санкт-Петербург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делах Правительствующего сената, учрежденного Петром I в 1711 г., Аптекарская канцелярия упоминается с 1712 г., а до этого времени упоминался только Аптекарский приказ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Медицинская канцелярия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фициально было установлена указом только в 1721 году, когда Л.Блюментрост представил Петру I проект преобразования медицинской службы в России, которым предлагал учредить государственные аптеки во всех крупных городах, увеличить число врачей, а для управления всем медицинским делом "учредить Коллегиум медикум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"Медицинская канцелярия"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фициально было установлена указом только в 1721 году, когда Л.Блюментрост представил Петру I проект преобразования медицинской службы в России, которым предлагал учредить государственные аптеки во всех крупных городах, увеличить число врачей, а для управления всем медицинским делом "учредить Коллегиум медикум"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место предлагавшейся Л.Блюментрост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ой коллегии учреждена Медицинская канцеляр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 1721 год и должен считаться годом ее осн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место предлагавшейся Л.Блюментростом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дицинской коллегии учреждена Медицинская канцелярия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этому 1721 год и должен считаться годом ее основания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тат в Медицинской канцеля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феврале 1727 года по числилось: в Санкт-Петербурге - президент (архиятер Блюментрост), русский и иностранный секретари, шрейбер, 2 канцеляриста, 5 копистов, 2 сторожа и 10 рассыльны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оскве - дьяк, канцелярист, 2 кописта, 2 сторожа и 5 рассыль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тат в Медицинской канцеляр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феврале 1727 года по числилось: в Санкт-Петербурге - президент (архиятер Блюментрост), русский и иностранный секретари, шрейбер, 2 канцеляриста, 5 копистов, 2 сторожа и 10 рассыльных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Москве - дьяк, канцелярист, 2 кописта, 2 сторожа и 5 рассыльных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Р II [12 (23) октября 1715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ербург — 19 (30) января 1730, Москва]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ий император (с мая 1727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ТР II [12 (23) октября 1715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тербург — 19 (30) января 1730, Москва]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ссийский император (с мая 1727)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AAE0-BBAD-420D-A900-7AC861475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676C-C7F2-46B0-BCCF-8C910A3D8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8821-3CD6-4B6B-8142-7FF176604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2BAE-87BB-4403-B79D-5CD5FD626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D04D6-7D28-4499-89CB-0069902A3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E9BCD-0D4E-4B45-84D8-B9FEB636D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35595-7F3F-416D-B657-1E93972C3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D231C-68D7-4BCD-9EFF-379DD25AA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A5183-6A60-486F-ABC4-791B033EA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87352-BC46-4578-8F2E-A03EBE2B0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D45AA-557B-4031-ADB8-BD107DAB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4FFC-CBAC-4E5C-B427-14990A059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AB31F-2429-479F-AACC-9C6A56BF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9113F-7E0F-49CC-8B54-16D9213D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59A52-563D-4F34-9B10-1C99AE719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4CD7D-E76A-439F-8CC1-F84F733E8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0A649-F9C7-44F2-B9CD-F364E4E6A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8266-FBD9-47FD-881F-A86D98EEE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580D-D9FC-471F-8E5F-B36D80FAA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C890-C072-4AAB-A4F8-A7F31A9C3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F750-300F-475D-98AF-59E0B2C86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DA1C-565A-4E7D-AE06-4F43AC73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7FF0-C496-4A45-A6CB-A4B9C25D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5C77-FD32-45B4-B348-5F629A8F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9D6DC-5961-4DBE-A6EB-682E3B74EB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5ED64-ECD0-4491-BD18-9E436949251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2636640"/>
            <a:ext cx="8229600" cy="25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Arial"/>
              </a:rPr>
              <a:t>История медицины России</a:t>
            </a:r>
            <a:br>
              <a:rPr sz="3600"/>
            </a:br>
            <a:r>
              <a:rPr b="0" lang="ru-RU" sz="3600" spc="-1" strike="noStrike">
                <a:solidFill>
                  <a:srgbClr val="ffc000"/>
                </a:solidFill>
                <a:latin typeface="Arial"/>
              </a:rPr>
              <a:t> в </a:t>
            </a:r>
            <a:r>
              <a:rPr b="0" lang="en-US" sz="3600" spc="-1" strike="noStrike">
                <a:solidFill>
                  <a:srgbClr val="ffc000"/>
                </a:solidFill>
                <a:latin typeface="Arial"/>
              </a:rPr>
              <a:t>XVIII </a:t>
            </a:r>
            <a:r>
              <a:rPr b="0" lang="ru-RU" sz="3600" spc="-1" strike="noStrike">
                <a:solidFill>
                  <a:srgbClr val="ffc000"/>
                </a:solidFill>
                <a:latin typeface="Arial"/>
              </a:rPr>
              <a:t>век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Прямоугольник 4"/>
          <p:cNvSpPr/>
          <p:nvPr/>
        </p:nvSpPr>
        <p:spPr>
          <a:xfrm>
            <a:off x="6429240" y="5788080"/>
            <a:ext cx="271476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62b"/>
                </a:solidFill>
                <a:latin typeface="Times New Roman"/>
              </a:rPr>
              <a:t>Преподаватель: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62b"/>
                </a:solidFill>
                <a:latin typeface="Times New Roman"/>
              </a:rPr>
              <a:t>Левковская Е.Н.</a:t>
            </a:r>
            <a:r>
              <a:rPr b="0" i="1" lang="ru-RU" sz="2400" spc="-1" strike="noStrike">
                <a:solidFill>
                  <a:srgbClr val="00062b"/>
                </a:solidFill>
                <a:latin typeface="Times New Roman"/>
              </a:rPr>
              <a:t>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285840" y="28584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Федеральное государственное военное образовательное учреждение высшего профессионального образования «Военно-медицинская академия имени С.М. Кирова»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Министерства обороны Российской Феде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"/>
          <p:cNvPicPr/>
          <p:nvPr/>
        </p:nvPicPr>
        <p:blipFill>
          <a:blip r:embed="rId1"/>
          <a:stretch/>
        </p:blipFill>
        <p:spPr>
          <a:xfrm>
            <a:off x="5016600" y="404640"/>
            <a:ext cx="3558960" cy="396108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5"/>
          <p:cNvSpPr/>
          <p:nvPr/>
        </p:nvSpPr>
        <p:spPr>
          <a:xfrm>
            <a:off x="468360" y="4797360"/>
            <a:ext cx="82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ННА ИВАНОВНА (Анна Иоанновн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28 января (7 февраля) 1693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сква — 17 (28) октября 1740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тербург), российская императрица с 1730 год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Указ от 14 сентября 1730 г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"Нынешнего Архиатра отставить, а на его место определить докторов: Быдла (Н.Бидлоо), Шоберта (Г.Шобер); фон Дегульста (А.Ван-дер Гульст); Севаста (А.А.Севасто); Теульса (И.А.Де-Тейльс); которым по вся недели в медицинскую канцелярию собираться в учрежденные дни, и все к верхней аптеке принадлежащие дела основательно рассматривать и по обыкновению коллежскому учреждать"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Arial"/>
              </a:rPr>
              <a:t>Преобразования архиатера Риге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работал подробный штат Медицинской канцелярии и всех подведомственных ей учреждений, который был утвержден 9 января 1733 год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этому штату в непосредственном ведении Медицинской канцелярии находились придворная медицинская часть (8 человек), штат-физики (врачи) и при них лекари в С.-Петербурге и Москве, Санкт-Петербургский сухопутный госпиталь (29 единиц медицинского персонала и 20 учеников), 2 главные аптеки (в Петербурге и Москве), 2 нижние аптеки (в Петербурге и Москве) и "медицинский огород"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1734 по 1741 год директором Медицинской канцелярии был И.Б.Фишер, уроженец Риги, получивший медицинское образование в Лейденском университет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его именем связаны наиболее крупные преобразования в организации медицинского дела в России первого периода деятельности Медицинской канцелярии. Прежде всего утверждение госпитального устава (1735 г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5089680" y="404640"/>
            <a:ext cx="3558960" cy="396108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5"/>
          <p:cNvSpPr/>
          <p:nvPr/>
        </p:nvSpPr>
        <p:spPr>
          <a:xfrm>
            <a:off x="684360" y="4724280"/>
            <a:ext cx="784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ЕЛИЗАВЕТА ПЕТРО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[18 (29) декабря 1709, Петербург —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5 декабря 1761 (5 января 1762), там же]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оссийская императрица (1741 — 6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56944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1741 году с воцарением дочери Петра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лизаветы были отстранены от должности все лица,  занимавшие высшие административныепосты при предыдущих правителях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лучил отставку  архиатер И.Б.Фишер, на его место был назначен бездарный фаворит императрицы граф Г.Лесток, запутавшийся в дворцовых интригах и передавший вскоре фактическое управление Медицинской канцелярией П.З.Кондоиди, назначенному помощником директора этой канцеляр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4" descr=""/>
          <p:cNvPicPr/>
          <p:nvPr/>
        </p:nvPicPr>
        <p:blipFill>
          <a:blip r:embed="rId1"/>
          <a:stretch/>
        </p:blipFill>
        <p:spPr>
          <a:xfrm>
            <a:off x="4903920" y="404640"/>
            <a:ext cx="3816360" cy="424836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5"/>
          <p:cNvSpPr/>
          <p:nvPr/>
        </p:nvSpPr>
        <p:spPr>
          <a:xfrm>
            <a:off x="2015280" y="5013360"/>
            <a:ext cx="569772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ТР III Федорович (1728-62)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оссийский император (с 176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5229360" y="404640"/>
            <a:ext cx="3622680" cy="4032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"/>
          <p:cNvPicPr/>
          <p:nvPr/>
        </p:nvPicPr>
        <p:blipFill>
          <a:blip r:embed="rId2"/>
          <a:stretch/>
        </p:blipFill>
        <p:spPr>
          <a:xfrm>
            <a:off x="755640" y="404640"/>
            <a:ext cx="3622680" cy="403236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6"/>
          <p:cNvSpPr/>
          <p:nvPr/>
        </p:nvSpPr>
        <p:spPr>
          <a:xfrm>
            <a:off x="1253880" y="4724280"/>
            <a:ext cx="7154280" cy="14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ЕКАТЕРИНА II Великая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1729-96)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оссийская императрица (с 1762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5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Государственная медицинская коллегия, </a:t>
            </a:r>
            <a:br>
              <a:rPr sz="40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ан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ноябр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763 г.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нее возлагались организация медицинской и лекарственной помощи населению и наблюдение за деятельностью казенных и вольных апте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начале коллегия состояла из президента, 3 докторов медицины, штаб-лекаря, оператора и аптекар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еобразования медицинской коллег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вым президентом Медицинской коллегии был барон Александр Иванович Черкас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последствии она разделилась на два департамента: первый управлял учеными делами, а второй - хозяйственно-экономически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788 году Медицинская Коллегия была подчинена главному директор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вым директором был назначен действительный тайный советник фон Фитинго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Arial"/>
              </a:rPr>
              <a:t>Аптекарский приказ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ремя возникновения Аптекарского приказа в точности неизвестно. Чистович, Рихтер считают годом основания этого учреждения 1620-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4" descr="Васильев АИ"/>
          <p:cNvPicPr/>
          <p:nvPr/>
        </p:nvPicPr>
        <p:blipFill>
          <a:blip r:embed="rId1"/>
          <a:srcRect l="2845" t="0" r="124" b="0"/>
          <a:stretch/>
        </p:blipFill>
        <p:spPr>
          <a:xfrm>
            <a:off x="4932360" y="260280"/>
            <a:ext cx="4032360" cy="626436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1024"/>
          <p:cNvSpPr/>
          <p:nvPr/>
        </p:nvSpPr>
        <p:spPr>
          <a:xfrm>
            <a:off x="291240" y="4073760"/>
            <a:ext cx="444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собенно плодотворна бы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еятель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ллегии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сле назнач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1793 г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на пост главно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иректор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государственно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значея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.И.Василье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Arial"/>
              </a:rPr>
              <a:t>В конце 1803 г. Медицинская коллегия была ликвидирован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учреждением министерств функции руководства здравоохранением и медициной перешли в ведение 4 министерств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ражданская медицина - в Министерство внутренних дел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просы подготовки медицинских кадров - в Министерство просвещения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енная и морская медицина - соответственно в военное и морское министерств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Первая медицинская школ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товившая лекарей для войск, была открыта в 1654 г. в Москве. В школу было принято 30 учеников из "стрелецких детей". Срок обучения планировался индивидуально в зависимости от степени подготовленности ученик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658 г. состоялся первый выпуск полковых лекарей, было выпущено 13 человек, которых направили на службу в армию. Остальные окончили школу в 1660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4" descr="Московский госпиталь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395280" y="404640"/>
            <a:ext cx="8359920" cy="569772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2"/>
          <p:cNvSpPr/>
          <p:nvPr/>
        </p:nvSpPr>
        <p:spPr>
          <a:xfrm>
            <a:off x="798840" y="6216480"/>
            <a:ext cx="735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1707 г. в Москве при первом постоянном военном госпитал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реждается лекарская школ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Бидлоо"/>
          <p:cNvPicPr/>
          <p:nvPr/>
        </p:nvPicPr>
        <p:blipFill>
          <a:blip r:embed="rId1"/>
          <a:stretch/>
        </p:blipFill>
        <p:spPr>
          <a:xfrm>
            <a:off x="1979640" y="260280"/>
            <a:ext cx="6840360" cy="494496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2"/>
          <p:cNvSpPr/>
          <p:nvPr/>
        </p:nvSpPr>
        <p:spPr>
          <a:xfrm>
            <a:off x="303840" y="5373720"/>
            <a:ext cx="8852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Штат госпиталя и лекарской школы при открытии был небольшой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 доктор, 1 лекарь, 2 аптекаря, 1 подлекарь, 1 гезел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уководителем школы был доктор Николай Бидло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школе обучалось 50 челове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В первую половину Х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VIII</a:t>
            </a: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 в. в России существовало </a:t>
            </a:r>
            <a:br>
              <a:rPr sz="3200"/>
            </a:b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5 медицинских шко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 них 2 (при Петербургском сухопутном и Елизаветградском госпиталях) - готовили лекарей для арм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 (при Петербургском адмиралтейском и Кронштадтском морском госпиталях) - для флота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(при Московском госпитале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В программу обучения в госпитальных школах входили следующие раздел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атинский язык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атомия человека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птекарское дело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учение болезней и способов их лечения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хника хирургических операц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4" descr="Больничная палата"/>
          <p:cNvPicPr/>
          <p:nvPr/>
        </p:nvPicPr>
        <p:blipFill>
          <a:blip r:embed="rId1"/>
          <a:srcRect l="842" t="0" r="0" b="0"/>
          <a:stretch/>
        </p:blipFill>
        <p:spPr>
          <a:xfrm>
            <a:off x="395280" y="404640"/>
            <a:ext cx="8416800" cy="6100920"/>
          </a:xfrm>
          <a:prstGeom prst="rect">
            <a:avLst/>
          </a:prstGeom>
          <a:ln w="0">
            <a:noFill/>
          </a:ln>
        </p:spPr>
      </p:pic>
      <p:sp>
        <p:nvSpPr>
          <p:cNvPr id="2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Инструкция профессорам госпитальных школ,</a:t>
            </a:r>
            <a:br>
              <a:rPr sz="2800"/>
            </a:b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 составленная П.З.Кондоиди в 1742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"...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наипаче  на  то   смотреть,   чтобы   учащиеся   получали понятие о частях человеческого тела,    о медикаментах и хирургических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инструментах   больше   очным   опознанием,   нежели  трудно   понимаемым описанием"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4" descr="Атлас Бидлоо"/>
          <p:cNvPicPr/>
          <p:nvPr/>
        </p:nvPicPr>
        <p:blipFill>
          <a:blip r:embed="rId1"/>
          <a:stretch/>
        </p:blipFill>
        <p:spPr>
          <a:xfrm>
            <a:off x="2000160" y="285840"/>
            <a:ext cx="3981600" cy="626436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Боярин Матвеев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935600" y="333360"/>
            <a:ext cx="3757680" cy="626436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4" descr="Госпиталь Бурденко"/>
          <p:cNvPicPr/>
          <p:nvPr/>
        </p:nvPicPr>
        <p:blipFill>
          <a:blip r:embed="rId1"/>
          <a:stretch/>
        </p:blipFill>
        <p:spPr>
          <a:xfrm>
            <a:off x="539640" y="260280"/>
            <a:ext cx="8366400" cy="6404040"/>
          </a:xfrm>
          <a:prstGeom prst="rect">
            <a:avLst/>
          </a:prstGeom>
          <a:ln w="0">
            <a:noFill/>
          </a:ln>
        </p:spPr>
      </p:pic>
      <p:sp>
        <p:nvSpPr>
          <p:cNvPr id="2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788000" y="836640"/>
            <a:ext cx="4176720" cy="5472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"Кто может сказать, что это не самый лучший способ изучать медицину, если у нас каждый ученик с самого поступления в госпиталь должен ежедневно быть у постели больного, пускать им кровь,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лать перевязки, прописывать лекарства - словом, исполнять все то, что предписывает ему врач или хирург, наблюдающий за их излечением ... Не согласится ли всякий со мною, что лучше одновременно изучать теорию и практику, нежели одну теорию"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4" descr="Самойлович"/>
          <p:cNvPicPr/>
          <p:nvPr/>
        </p:nvPicPr>
        <p:blipFill>
          <a:blip r:embed="rId2"/>
          <a:srcRect l="3803" t="0" r="9479" b="3845"/>
          <a:stretch/>
        </p:blipFill>
        <p:spPr>
          <a:xfrm>
            <a:off x="468360" y="333360"/>
            <a:ext cx="3628800" cy="604836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4" descr="Петр 1 перевязывает раненого"/>
          <p:cNvPicPr/>
          <p:nvPr/>
        </p:nvPicPr>
        <p:blipFill>
          <a:blip r:embed="rId1"/>
          <a:stretch/>
        </p:blipFill>
        <p:spPr>
          <a:xfrm>
            <a:off x="785880" y="285840"/>
            <a:ext cx="7429320" cy="6121440"/>
          </a:xfrm>
          <a:prstGeom prst="rect">
            <a:avLst/>
          </a:prstGeom>
          <a:ln w="0">
            <a:noFill/>
          </a:ln>
        </p:spPr>
      </p:pic>
      <p:sp>
        <p:nvSpPr>
          <p:cNvPr id="2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4" descr="Петр 1 удаляет зуб"/>
          <p:cNvPicPr/>
          <p:nvPr/>
        </p:nvPicPr>
        <p:blipFill>
          <a:blip r:embed="rId1"/>
          <a:stretch/>
        </p:blipFill>
        <p:spPr>
          <a:xfrm>
            <a:off x="1428840" y="428760"/>
            <a:ext cx="6286320" cy="6092640"/>
          </a:xfrm>
          <a:prstGeom prst="rect">
            <a:avLst/>
          </a:prstGeom>
          <a:ln w="0">
            <a:noFill/>
          </a:ln>
        </p:spPr>
      </p:pic>
      <p:sp>
        <p:nvSpPr>
          <p:cNvPr id="2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Петр 1 запретил врачам - иностранцам производить экзамены русским лекарям, приказа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68360" y="2205000"/>
            <a:ext cx="8291520" cy="32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"...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чтоб никакой из иностранных хирургов до интересов его величества не касались,  и чтоб никто из оных никакой обиды в чести или в повышении чина российского народа от него (Бидлоо. - ) изученным хирургам являть не дерзал"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741 г. было положено начало обучению среднего медицинского состава. В хирургические школы с этой целью стали набирать солдатских детей, которых после 5 лет обучения выпускали помощниками лекар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794 г. был принят указ Медицинской коллегии, которым предписывалось снять с профессоров медико-хирургических училищ обязанность следить за поведением учащихся и за посещением ими лекци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7 августа 1795 г. А.И.Васильев утвердил "Предварительное постановление о должностях учащих и учащихся" Главного Врачебного училища. Оно послужило основой для разработки положения о создании Медико-хирургической академи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ноябре 1802 г. в учебном процессе произошли некоторые изменения в связи с присоединением к Петербургской академии Калининского медико-хирургического института, который был основан в 1783 г. по указу Екатерины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Петербурге за Калининским мостом на базе небольшой "секретной больницы" (больница для венерических больных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4" descr=""/>
          <p:cNvPicPr/>
          <p:nvPr/>
        </p:nvPicPr>
        <p:blipFill>
          <a:blip r:embed="rId1"/>
          <a:srcRect l="5569" t="0" r="4878" b="0"/>
          <a:stretch/>
        </p:blipFill>
        <p:spPr>
          <a:xfrm>
            <a:off x="2428920" y="642960"/>
            <a:ext cx="4114800" cy="511164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Arial"/>
              </a:rPr>
              <a:t>Так называемые службы "у физических дел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торые с петровских времен в Санкт-Петербурге и Москве занимались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рьбой со   знахарство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нтролем за деятельностью аптек и продажей ядовитых веществ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дицинскими осмотрами рекрутов и освидетельствованиями инвалидов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нитарным надзором за тюрьмам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дупреждением эпидемий заразных болезней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733 г. они получили название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физикатов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Функции Аптекарского приказ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ечение царя и его семь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ведении Аптекарского приказа находились "водочные изделия". Только в 1694 году заведование водочными делами было передано из Аптекарского приказа в приказ Большой Казн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удебно-медицинская и вообще  врачебная  экспертиз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ыл книгохранилищем литературы, и не только медицинской, но и общ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738 году Анна Иоановна учредила своим указом при главной аптеке Санкт-Петербурга диспенсарию -ежедневный бесплатный амбулаторный прием больных из неимущих слоев населения. Для этого вводилась должность врач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инициативе И.Б.Фишера она своим Указом 7 июля 1737 г. ввела штатные должности врачей в "знатных городах" России. Регламентировалось иметь 56 городовых враче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"Инструкция физикату".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793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х права и обязанности как представителей органов государственного санитарного надзор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ней подробно излагались методы санитарного контроля и исследования продуктов питания, городских общественных мест, надзора за промышленными предприятиям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щая задача физикатов определялась следующим образом: «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Физикат есть блюститель здоровья человеческого и испытатель всех причин в оное вливающихся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"Инструкция о должности врачебной управы" 1797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"Должность врачебной управы вообще, кроме той, которую находящиеся в ней чины обязаны подавать страждующим людям, каждый по своему званию, не требуя за свой труд воздания,    основывается на том, чтобы посредством преподаваемых правил и наставлений, соблюдаемо было народное всей губернии здравие, равно и сбережение скотоводства подаваемы были полезные советы"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 должности оператора (хирурга) сказано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"Хотя каждого врача есть первый долг быть человеколюбиву и во всяком случае готову к поданию помощи людям, болезнями одержимым, но качества сии для оператора несравненно еще нужнее, поелику действует его рука и без помощи его иногда никакие средства не в состоянии не только исцелить, ниже облегчить болезни"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"Правила для устройства городских больниц на 50 мест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ложено устроить их на государственный счет во всех губернских и наиболее крупных уездных городах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дицинская коллегия утвердила эти правила и разослала во все врачебные управ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«О переустройстве медицинского дела в России и новых штатах коллегии и подведомственных ей учреждений»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был утвержден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12 февраля 1799 г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4" descr=""/>
          <p:cNvPicPr/>
          <p:nvPr/>
        </p:nvPicPr>
        <p:blipFill>
          <a:blip r:embed="rId1"/>
          <a:srcRect l="5874" t="0" r="6585" b="0"/>
          <a:stretch/>
        </p:blipFill>
        <p:spPr>
          <a:xfrm>
            <a:off x="3000240" y="428760"/>
            <a:ext cx="3456000" cy="439236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5"/>
          <p:cNvSpPr/>
          <p:nvPr/>
        </p:nvSpPr>
        <p:spPr>
          <a:xfrm>
            <a:off x="1116000" y="5084640"/>
            <a:ext cx="7559640" cy="14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ПАВЕЛ I (1754-1801)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оссийский император с 1796 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Arial"/>
              </a:rPr>
              <a:t>Штат медицинской коллегии </a:t>
            </a:r>
            <a:br>
              <a:rPr sz="4000"/>
            </a:b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1799 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зидент (немедик)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 первый член, 2 старших, 3 младших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ный секретарь, советник экономической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кспедиции, т.е. всего 9 человек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ее составе имелись также переводчики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рхитектор,  бухгалтер и разные канцелярские служител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Согласно указу, утвержденному Сенат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ыли назначены следующие члены коллеги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вым - доктор Г.Аш, старшими - профессора Н.К.Карпинский и Я.О.Саполович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ладшими - доктор И.Г.Еллизен и штаб-лекари И.И.Виен и И.К.Каменеций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ным секретарем - профессор Г.И.Базилевич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леном коллегии, советником экономической экспедиции - штаб-лекарь С. С .Андреевск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Дела медицинской коллег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вая часть ведала подчиненными коллегии госпиталями, аптеками, медико-инструментальными заводами, медико-хирургическими академиями, типографией, ботаническими медицинскими садами.    В ее ведении было назначение чинов, проведение экзаменов для разрешения практики врачам и повивальным бабка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торая часть занималась вопросами медицинского обеспечения армии и флота, военными лазаретами и полковыми аптека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ретья часть - гражданской медициной "с больницами и партикулярными аптеками", определением членов врачебных управ и уездных врач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етвертая часть - делами самой коллегии и столичных "физикатов"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кономическая экспедиция занималась вопросами финансирования, снабжения оборудованием и медикаментами, а также строительством лечебных учрежден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Аптекарская канцеляр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зникла не в результате преобразования Аптекарского приказа, а сама по себе как орган медицинского управления во вновь строившейся тогда столице - Санкт-Петербург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делах Правительствующего сената, учрежденного Петром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711 г., Аптекарская канцелярия упоминается с 1712 г., а до этого времени упоминался только Аптекарский приказ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"Медицинская канцелярия"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фициально было установлена указом только в 1721 году, когда Л.Блюментрост представил Петру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ект преобразования медицинской службы в России, которым предлагал учредить государственные аптеки во всех крупных городах, увеличить число врачей, а для управления всем медицинским делом "учредить Коллегиум медикум"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Блюментрост"/>
          <p:cNvPicPr/>
          <p:nvPr/>
        </p:nvPicPr>
        <p:blipFill>
          <a:blip r:embed="rId1"/>
          <a:stretch/>
        </p:blipFill>
        <p:spPr>
          <a:xfrm>
            <a:off x="5292720" y="260280"/>
            <a:ext cx="3527280" cy="436572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2"/>
          <p:cNvSpPr/>
          <p:nvPr/>
        </p:nvSpPr>
        <p:spPr>
          <a:xfrm>
            <a:off x="198000" y="4939920"/>
            <a:ext cx="894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место предлагавшейся Л.Блюментросто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дицинской коллегии учреждена Медицинская канцеляри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этому 1721 год и должен считаться годом ее основания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Arial"/>
              </a:rPr>
              <a:t>Штат в Медицинской канцеляр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феврале 1727 года по числилось: в Санкт-Петербурге - президент (архиятер Блюментрост), русский и иностранный секретари, шрейбер, 2 канцеляриста, 5 копистов, 2 сторожа и 10 рассыльны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Москве - дьяк, канцелярист, 2 кописта, 2 сторожа и 5 рассыльны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4888080" y="333360"/>
            <a:ext cx="4011480" cy="44640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5"/>
          <p:cNvSpPr/>
          <p:nvPr/>
        </p:nvSpPr>
        <p:spPr>
          <a:xfrm>
            <a:off x="468360" y="5300640"/>
            <a:ext cx="820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ТР II [12 (23) октября 1715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тербург — 19 (30) января 1730, Москва]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оссийский император (с мая 1727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9T14:30:38Z</dcterms:created>
  <dc:creator>имя</dc:creator>
  <dc:description/>
  <dc:language>en-US</dc:language>
  <cp:lastModifiedBy>LEGION</cp:lastModifiedBy>
  <dcterms:modified xsi:type="dcterms:W3CDTF">2015-12-31T12:50:34Z</dcterms:modified>
  <cp:revision>13</cp:revision>
  <dc:subject/>
  <dc:title>История медицины России в XVIII век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