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0EC0-88D1-42DD-9951-21ED56648C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XVIII в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ковская Е.Н.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XVIII ве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: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вковская Е.Н.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(Анна Иоаннов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28 января (7 февраля) 169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— 17 (28) октября 174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 от 14 сентября 173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 от 14 сентября 173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архиатера Риг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архиатера Риг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8 (29) декабря 1709, Петербург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декабря 1761 (5 января 1762), там же]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1741 — 6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ЛИЗАВЕТА ПЕТ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I Федорович (1728-6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II Великая (1729-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с 176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КАТЕРИНА II Великая (1729-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12 ноября 176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12 ноября 1763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ий 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ий 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лодотворна бы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и  после назна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3 г.  на пост глав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а  государствен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начея  А.И.Васил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гии  после назна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3 г.  на пост глав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ректора  государст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значея  А.И.Василь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медицинск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медицинска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ается лекарская шко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реждается лекарская шко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обучалось 50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медицински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(при Московском госпитал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едицинских шк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ий язы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ое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хирург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енная П.З.Кондоиди в 174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ставленная П.З.Кондоиди в 1742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ой со   знахарств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ым надзором за тюрьм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Аптекарского при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царя и его семь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Аптекарского прик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физикату". 179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физикату". 179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февраля 179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I (1754-1801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с 179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АВЕЛ I (1754-1801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9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(немедик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ервый член, 2 старших, 3 младши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диции, т.е. всего 9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99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ая канцеля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ая канцеля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едицинская канцеляр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в Медицинской канцеля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в Медицинской канцеля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 [12 (23) октября 1715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— 19 (30) января 1730, Москва]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мая 172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604-DFED-434B-8853-82142D1F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353-AA01-464C-92F5-E8C30F00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1A5-DB9C-47EA-B7B8-45B0F20A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02E-5C5B-4B76-AD60-7BE1B88B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585A-6B3D-4A18-9AE6-072E1F53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6965-56F3-4E19-957A-FAC9AC33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B36C-A800-4F12-B210-1B607D9E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DBCD-8A68-4141-928D-4D0B98C8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2E5E-4C12-4494-A356-BF6C5A4B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479C-7F6D-430C-8CBE-CFF42F7F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CA5A-6701-41B0-A1B1-B1DDA96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DD2-F588-4BE6-AB82-52D05C36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7960-B858-4B07-88A7-CC63AE48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C667-F589-498A-8C16-3E982880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4E09-8448-4C86-9B4F-5A6B04EA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7213-DB17-43C8-B1F8-C1F21557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69D8-788F-4A79-AA48-88880DB9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E78-5D29-4401-A22C-4A9CA7C9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8D9-FF8E-4902-9CD2-BC2F1395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C4F-4C56-4D30-ADFC-2AB6EF70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0F7-1BD0-48E7-A189-414C7FC6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C70-23CF-4D32-9DC6-DD710126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FED-C1E0-4B16-8D63-F27801D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5A4-10D1-4EBD-8F6C-7ED0FD5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B5E0-1546-4B1B-A48A-FD88CC3F0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5F3E-0F9C-4817-BDE6-7A820DACE5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История медицины России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6429240" y="5788080"/>
            <a:ext cx="27147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Преподаватель: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Левковская Е.Н.</a:t>
            </a:r>
            <a:r>
              <a:rPr b="0" i="1" lang="ru-RU" sz="2400" spc="-1" strike="noStrike">
                <a:solidFill>
                  <a:srgbClr val="00062b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285840" y="285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инистерства обороны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501660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468360" y="4797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Указ от 14 сентября 1730 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еобразования архиатера Риг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08968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84360" y="4724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ЕЛИЗАВЕТ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4903920" y="404640"/>
            <a:ext cx="381636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2015280" y="5013360"/>
            <a:ext cx="5697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229360" y="404640"/>
            <a:ext cx="362268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62268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253880" y="4724280"/>
            <a:ext cx="71542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ЕКАТЕРИНА II Велик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729-96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яб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63 г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Аптекарский прик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Васильев АИ"/>
          <p:cNvPicPr/>
          <p:nvPr/>
        </p:nvPicPr>
        <p:blipFill>
          <a:blip r:embed="rId1"/>
          <a:srcRect l="2845" t="0" r="124" b="0"/>
          <a:stretch/>
        </p:blipFill>
        <p:spPr>
          <a:xfrm>
            <a:off x="493236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24"/>
          <p:cNvSpPr/>
          <p:nvPr/>
        </p:nvSpPr>
        <p:spPr>
          <a:xfrm>
            <a:off x="291240" y="4073760"/>
            <a:ext cx="44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г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93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ост глав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государ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наче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Василь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ервая медицинская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Московский госпитал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404640"/>
            <a:ext cx="8359920" cy="5697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98840" y="6216480"/>
            <a:ext cx="73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ается лекарская шк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Бидлоо"/>
          <p:cNvPicPr/>
          <p:nvPr/>
        </p:nvPicPr>
        <p:blipFill>
          <a:blip r:embed="rId1"/>
          <a:stretch/>
        </p:blipFill>
        <p:spPr>
          <a:xfrm>
            <a:off x="1979640" y="260280"/>
            <a:ext cx="6840360" cy="4944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3840" y="5373720"/>
            <a:ext cx="885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ервую половину Х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II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в. в России существовало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5 медицинск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Больничная палата"/>
          <p:cNvPicPr/>
          <p:nvPr/>
        </p:nvPicPr>
        <p:blipFill>
          <a:blip r:embed="rId1"/>
          <a:srcRect l="842" t="0" r="0" b="0"/>
          <a:stretch/>
        </p:blipFill>
        <p:spPr>
          <a:xfrm>
            <a:off x="395280" y="404640"/>
            <a:ext cx="8416800" cy="61009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Инструкция профессорам госпитальных школ,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оставленная П.З.Кондоиди в 174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..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ипаче  на  то   смотреть,   чтобы   учащиеся   получали понятие о частях человеческого тела,    о медикаментах и хирургических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нструментах   больше   очным   опознанием,   нежели  трудно   понимаемым описанием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Атлас Бидлоо"/>
          <p:cNvPicPr/>
          <p:nvPr/>
        </p:nvPicPr>
        <p:blipFill>
          <a:blip r:embed="rId1"/>
          <a:stretch/>
        </p:blipFill>
        <p:spPr>
          <a:xfrm>
            <a:off x="2000160" y="285840"/>
            <a:ext cx="3981600" cy="62643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Боярин Матвее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0" y="333360"/>
            <a:ext cx="3757680" cy="6264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Госпиталь Бурденко"/>
          <p:cNvPicPr/>
          <p:nvPr/>
        </p:nvPicPr>
        <p:blipFill>
          <a:blip r:embed="rId1"/>
          <a:stretch/>
        </p:blipFill>
        <p:spPr>
          <a:xfrm>
            <a:off x="539640" y="260280"/>
            <a:ext cx="8366400" cy="640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176720" cy="54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Самойлович"/>
          <p:cNvPicPr/>
          <p:nvPr/>
        </p:nvPicPr>
        <p:blipFill>
          <a:blip r:embed="rId2"/>
          <a:srcRect l="3803" t="0" r="9479" b="3845"/>
          <a:stretch/>
        </p:blipFill>
        <p:spPr>
          <a:xfrm>
            <a:off x="468360" y="333360"/>
            <a:ext cx="3628800" cy="60483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етр 1 перевязывает раненого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6121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Петр 1 удаляет зуб"/>
          <p:cNvPicPr/>
          <p:nvPr/>
        </p:nvPicPr>
        <p:blipFill>
          <a:blip r:embed="rId1"/>
          <a:stretch/>
        </p:blipFill>
        <p:spPr>
          <a:xfrm>
            <a:off x="1428840" y="428760"/>
            <a:ext cx="6286320" cy="609264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205000"/>
            <a:ext cx="82915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..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тербурге за Калининским мостом на базе небольшой "секретной больницы" (больница для венерических боль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rcRect l="5569" t="0" r="4878" b="0"/>
          <a:stretch/>
        </p:blipFill>
        <p:spPr>
          <a:xfrm>
            <a:off x="2428920" y="642960"/>
            <a:ext cx="4114800" cy="5111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ак называемые службы "у физических дел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3 г. они получили назва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ика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Функции Аптекарского прика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Инструкция физикату"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9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кат есть блюститель здоровья человеческого и испытатель всех причин в оное влив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5874" t="0" r="6585" b="0"/>
          <a:stretch/>
        </p:blipFill>
        <p:spPr>
          <a:xfrm>
            <a:off x="3000240" y="428760"/>
            <a:ext cx="3456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16000" y="5084640"/>
            <a:ext cx="75596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АВЕЛ I (1754-1801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медицинской коллегии </a:t>
            </a:r>
            <a:br>
              <a:rPr sz="40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1799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огласно указу, утвержденному Сен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ела медицинской колле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птекарская канцеля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11 г., Аптекарская канцелярия упоминается с 1712 г., а до этого времени упоминался только Аптекарский при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Блюментрост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4365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98000" y="4939920"/>
            <a:ext cx="89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в Медицинской канцеля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88080" y="333360"/>
            <a:ext cx="4011480" cy="44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006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30:38Z</dcterms:created>
  <dc:creator>имя</dc:creator>
  <dc:description/>
  <dc:language>en-US</dc:language>
  <cp:lastModifiedBy>LEGION</cp:lastModifiedBy>
  <dcterms:modified xsi:type="dcterms:W3CDTF">2015-12-31T12:50:34Z</dcterms:modified>
  <cp:revision>13</cp:revision>
  <dc:subject/>
  <dc:title>История медицины России в XVIII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