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D63BFB-8708-450C-B3B7-DAFA6249C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баев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рахан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полнил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мбаев 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Жорахан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  постановки амидопириновой про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ехнология  постановки амидопириновой про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собого микрокли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здание особого микроклим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сновные треб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, комплекс противоэпидем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ь проведения текущей и генеральной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, комплекс противоэпидемически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ратность проведения текущей и генеральной дезинфе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омплекс включ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  содержание поме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, оборудование, инвентарь должные содержаться в идеальной чист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е уборки проводятся по утвержденному граф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  содержание помещ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, оборудование, инвентарь должные содержаться в идеальной чисто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еральные уборки проводятся по утвержденному гра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 УЗ условно  можно разделить 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ющие особого режима дезинфекции (т.н. режимные кабине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 УЗ условно  можно разделить 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ебующие особого режима дезинфекции (т.н. режимные кабине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анипуляции  производится в перчатках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манипуляции  производится в перчатках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AA1-DDB0-4FFA-8067-8A7232DA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36B-3189-4EA7-BF26-56C24994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EE1-1675-49E5-9842-B19B9CC5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AC0-E6A5-407B-B8C0-D6523B7C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1B8A-A8E1-48A5-84F3-3D45DFA1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A9B6-E454-4719-919F-1385818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1110-06FF-4652-BC07-EB469BBF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F2B5-EB1F-4197-9039-17FDC47D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FD5E-44ED-4F0C-A34C-FE72C989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5C0E-7EA3-457A-B5C5-A679D0FD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3C6F-B899-4901-AA52-F64406A7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ED7-6460-4223-AE7E-2B4B0FD1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A998-AE6E-45F2-87EB-2EB128E3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7AC8-DAAC-473F-8C1C-51C8426F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44CF-7518-496B-8202-F8BE3D49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D174-E417-4EB8-BCD5-31DE4D84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6549-7815-46D8-857B-1FE15F65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EF7-8FAF-4890-A1C4-65EC222E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138-7B90-4C7F-B68B-EF7F123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AC0-7461-46B4-B04F-F82BAE2B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53E-6CC4-4156-B19B-3376433C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4B1-6C79-4544-A00C-BD4BB0A6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7C8-A7A0-44EA-AC0A-A0E971F3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64E-0A30-419C-B4B7-E7FBF8B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39" name="Rectangle 65" hidden="1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0" name="Rectangle 69" hidden="1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1" name="Rectangle 70" hidden="1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42" name="Group 42"/>
          <p:cNvGrpSpPr/>
          <p:nvPr/>
        </p:nvGrpSpPr>
        <p:grpSpPr>
          <a:xfrm>
            <a:off x="-644760" y="0"/>
            <a:ext cx="10458000" cy="7116480"/>
            <a:chOff x="-644760" y="0"/>
            <a:chExt cx="10458000" cy="7116480"/>
          </a:xfrm>
        </p:grpSpPr>
        <p:grpSp>
          <p:nvGrpSpPr>
            <p:cNvPr id="43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0" y="0"/>
                <a:ext cx="2514240" cy="6857640"/>
                <a:chOff x="0" y="0"/>
                <a:chExt cx="2514240" cy="6857640"/>
              </a:xfrm>
            </p:grpSpPr>
            <p:sp>
              <p:nvSpPr>
                <p:cNvPr id="45" name="Rectangle 114"/>
                <p:cNvSpPr/>
                <p:nvPr/>
              </p:nvSpPr>
              <p:spPr>
                <a:xfrm>
                  <a:off x="914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6" name="Rectangle 2"/>
                <p:cNvSpPr/>
                <p:nvPr/>
              </p:nvSpPr>
              <p:spPr>
                <a:xfrm>
                  <a:off x="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7" name="Rectangle 3"/>
                <p:cNvSpPr/>
                <p:nvPr/>
              </p:nvSpPr>
              <p:spPr>
                <a:xfrm>
                  <a:off x="228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8" name="Group 5"/>
              <p:cNvGrpSpPr/>
              <p:nvPr/>
            </p:nvGrpSpPr>
            <p:grpSpPr>
              <a:xfrm>
                <a:off x="423000" y="0"/>
                <a:ext cx="2514240" cy="6857640"/>
                <a:chOff x="423000" y="0"/>
                <a:chExt cx="2514240" cy="6857640"/>
              </a:xfrm>
            </p:grpSpPr>
            <p:sp>
              <p:nvSpPr>
                <p:cNvPr id="49" name="Rectangle 84"/>
                <p:cNvSpPr/>
                <p:nvPr/>
              </p:nvSpPr>
              <p:spPr>
                <a:xfrm>
                  <a:off x="1337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0" name="Rectangle 85"/>
                <p:cNvSpPr/>
                <p:nvPr/>
              </p:nvSpPr>
              <p:spPr>
                <a:xfrm>
                  <a:off x="4230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1" name="Rectangle 113"/>
                <p:cNvSpPr/>
                <p:nvPr/>
              </p:nvSpPr>
              <p:spPr>
                <a:xfrm>
                  <a:off x="651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2" name="Group 9"/>
              <p:cNvGrpSpPr/>
              <p:nvPr/>
            </p:nvGrpSpPr>
            <p:grpSpPr>
              <a:xfrm>
                <a:off x="6629760" y="360"/>
                <a:ext cx="2514240" cy="6857640"/>
                <a:chOff x="6629760" y="360"/>
                <a:chExt cx="2514240" cy="6857640"/>
              </a:xfrm>
            </p:grpSpPr>
            <p:sp>
              <p:nvSpPr>
                <p:cNvPr id="53" name="Rectangle 77"/>
                <p:cNvSpPr/>
                <p:nvPr/>
              </p:nvSpPr>
              <p:spPr>
                <a:xfrm rot="10800000">
                  <a:off x="662976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4" name="Rectangle 78"/>
                <p:cNvSpPr/>
                <p:nvPr/>
              </p:nvSpPr>
              <p:spPr>
                <a:xfrm rot="10800000">
                  <a:off x="868716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5" name="Rectangle 80"/>
                <p:cNvSpPr/>
                <p:nvPr/>
              </p:nvSpPr>
              <p:spPr>
                <a:xfrm rot="10800000">
                  <a:off x="815364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56" name="Rectangle 74"/>
              <p:cNvSpPr/>
              <p:nvPr/>
            </p:nvSpPr>
            <p:spPr>
              <a:xfrm>
                <a:off x="380988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7" name="Rectangle 75"/>
              <p:cNvSpPr/>
              <p:nvPr/>
            </p:nvSpPr>
            <p:spPr>
              <a:xfrm>
                <a:off x="289548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8" name="Rectangle 76"/>
              <p:cNvSpPr/>
              <p:nvPr/>
            </p:nvSpPr>
            <p:spPr>
              <a:xfrm>
                <a:off x="312408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59" name="Freeform 44"/>
            <p:cNvSpPr/>
            <p:nvPr/>
          </p:nvSpPr>
          <p:spPr>
            <a:xfrm>
              <a:off x="-11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47"/>
            <p:cNvSpPr/>
            <p:nvPr/>
          </p:nvSpPr>
          <p:spPr>
            <a:xfrm>
              <a:off x="-11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48"/>
            <p:cNvSpPr/>
            <p:nvPr/>
          </p:nvSpPr>
          <p:spPr>
            <a:xfrm>
              <a:off x="-2376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-11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21376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" name="Hexagon 52"/>
            <p:cNvSpPr/>
            <p:nvPr/>
          </p:nvSpPr>
          <p:spPr>
            <a:xfrm rot="1800000">
              <a:off x="2996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5" name="Hexagon 53"/>
            <p:cNvSpPr/>
            <p:nvPr/>
          </p:nvSpPr>
          <p:spPr>
            <a:xfrm rot="1800000">
              <a:off x="37202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6" name="Hexagon 54"/>
            <p:cNvSpPr/>
            <p:nvPr/>
          </p:nvSpPr>
          <p:spPr>
            <a:xfrm rot="1800000">
              <a:off x="372960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7" name="Hexagon 55"/>
            <p:cNvSpPr/>
            <p:nvPr/>
          </p:nvSpPr>
          <p:spPr>
            <a:xfrm rot="1800000">
              <a:off x="29772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" name="Hexagon 56"/>
            <p:cNvSpPr/>
            <p:nvPr/>
          </p:nvSpPr>
          <p:spPr>
            <a:xfrm rot="1800000">
              <a:off x="446292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 rot="1800000">
              <a:off x="-3819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0" name="Hexagon 58"/>
            <p:cNvSpPr/>
            <p:nvPr/>
          </p:nvSpPr>
          <p:spPr>
            <a:xfrm rot="1800000">
              <a:off x="244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1" name="Hexagon 59"/>
            <p:cNvSpPr/>
            <p:nvPr/>
          </p:nvSpPr>
          <p:spPr>
            <a:xfrm rot="1800000">
              <a:off x="5292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2" name="Hexagon 60"/>
            <p:cNvSpPr/>
            <p:nvPr/>
          </p:nvSpPr>
          <p:spPr>
            <a:xfrm rot="1800000">
              <a:off x="7768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3" name="Hexagon 61"/>
            <p:cNvSpPr/>
            <p:nvPr/>
          </p:nvSpPr>
          <p:spPr>
            <a:xfrm rot="1800000">
              <a:off x="151020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4" name="Hexagon 62"/>
            <p:cNvSpPr/>
            <p:nvPr/>
          </p:nvSpPr>
          <p:spPr>
            <a:xfrm rot="1800000">
              <a:off x="1529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5" name="Hexagon 63"/>
            <p:cNvSpPr/>
            <p:nvPr/>
          </p:nvSpPr>
          <p:spPr>
            <a:xfrm rot="1800000">
              <a:off x="7959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6" name="Hexagon 64"/>
            <p:cNvSpPr/>
            <p:nvPr/>
          </p:nvSpPr>
          <p:spPr>
            <a:xfrm rot="1800000">
              <a:off x="680616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7" name="Hexagon 65"/>
            <p:cNvSpPr/>
            <p:nvPr/>
          </p:nvSpPr>
          <p:spPr>
            <a:xfrm rot="1800000">
              <a:off x="75492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8" name="Hexagon 66"/>
            <p:cNvSpPr/>
            <p:nvPr/>
          </p:nvSpPr>
          <p:spPr>
            <a:xfrm rot="1800000">
              <a:off x="75492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 rot="1800000">
              <a:off x="830628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" name="Freeform 68"/>
            <p:cNvSpPr/>
            <p:nvPr/>
          </p:nvSpPr>
          <p:spPr>
            <a:xfrm rot="1800000">
              <a:off x="83066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1" name="Rectangle 45"/>
          <p:cNvSpPr/>
          <p:nvPr/>
        </p:nvSpPr>
        <p:spPr>
          <a:xfrm>
            <a:off x="4561200" y="-21600"/>
            <a:ext cx="3678840" cy="62715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4649040" y="-21600"/>
            <a:ext cx="3504960" cy="2312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33280" y="270864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738680" y="1516680"/>
            <a:ext cx="213336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9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5303520" y="5720040"/>
            <a:ext cx="2831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4649040" y="5720040"/>
            <a:ext cx="643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5B12D3F-99A9-43D7-BB18-9B9A566BEF95}" type="slidenum">
              <a:rPr b="0" lang="ru-RU" sz="1200" spc="-1" strike="noStrike">
                <a:solidFill>
                  <a:schemeClr val="accent1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8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27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128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129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0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1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2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133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4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5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6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37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8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9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0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1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2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43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9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0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1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2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4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5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6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7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8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9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0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1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2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3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4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65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4640" indent="-228600">
              <a:lnSpc>
                <a:spcPct val="100000"/>
              </a:lnSpc>
              <a:spcBef>
                <a:spcPts val="36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880" indent="-228600">
              <a:lnSpc>
                <a:spcPct val="100000"/>
              </a:lnSpc>
              <a:spcBef>
                <a:spcPts val="3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24CFF61-7389-442A-AFCB-9CDCAC5A76E3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88000" y="1585440"/>
            <a:ext cx="3096000" cy="22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процедурного кабинета</a:t>
            </a:r>
            <a:r>
              <a:rPr b="1" i="1" lang="uk-UA" sz="2800" spc="-1" strike="noStrike">
                <a:solidFill>
                  <a:schemeClr val="accent1"/>
                </a:solidFill>
                <a:latin typeface="Century Gothic"/>
              </a:rPr>
              <a:t>.</a:t>
            </a: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 Перевязочная в стационаре и поликлинике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640" y="3141720"/>
            <a:ext cx="3654720" cy="25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Дембаев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Жорахан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47640" y="1989000"/>
            <a:ext cx="6952320" cy="4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7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Технология  постановки амидопириновой пробы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061000"/>
            <a:ext cx="8064360" cy="43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26208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7640" y="908640"/>
            <a:ext cx="82807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оздание особого микроклимат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99640" y="2323800"/>
            <a:ext cx="72723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льшое внимание уделяется освещению палат . Прямые солнечные лучи обладают бактерицидным действием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сновные требования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ерсон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Воздух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оверхности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548640"/>
            <a:ext cx="724032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Материалы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7640" y="1484640"/>
            <a:ext cx="741636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3640" y="11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План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7640" y="1700640"/>
            <a:ext cx="74883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, комплекс противоэпидемических мероприяти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 в процедурном кабинете, хирургических отделения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ратность проведения текущей и генеральной дезинфекции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640" y="2323800"/>
            <a:ext cx="8064360" cy="40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й  режим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    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е  мероприятия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Комплекс включает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845000"/>
            <a:ext cx="763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4932000" y="1052640"/>
            <a:ext cx="303876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2"/>
          <a:stretch/>
        </p:blipFill>
        <p:spPr>
          <a:xfrm>
            <a:off x="747000" y="476640"/>
            <a:ext cx="3636360" cy="27237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4709520" cy="302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е  содержание помещений.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3640" y="2205000"/>
            <a:ext cx="76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помещения, оборудование, инвентарь должные содержаться в идеальной чистот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Генеральные уборки проводятся по утвержденному графику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7640" y="1412640"/>
            <a:ext cx="7488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Все помещения УЗ условно  можно разделить  на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2856600"/>
            <a:ext cx="7344360" cy="39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ребующие особого режима дезинфекции (т.н. режимные кабинеты);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2640"/>
            <a:ext cx="7848360" cy="18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в процедурном кабинет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6360" cy="420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7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манипуляции  производится в перчатках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99640" y="980640"/>
            <a:ext cx="7272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31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75</TotalTime>
  <Application>LibreOffice/7.4.7.2$Linux_X86_64 LibreOffice_project/40$Build-2</Application>
  <AppVersion>15.0000</AppVersion>
  <Words>1275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4:45:53Z</dcterms:created>
  <dc:creator>DES</dc:creator>
  <dc:description/>
  <dc:language>en-US</dc:language>
  <cp:lastModifiedBy>LEGION</cp:lastModifiedBy>
  <dcterms:modified xsi:type="dcterms:W3CDTF">2015-12-31T12:51:01Z</dcterms:modified>
  <cp:revision>9</cp:revision>
  <dc:subject/>
  <dc:title>Санитарно-противоэпидемический режим процедурного кабин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Екран (4:3)</vt:lpwstr>
  </property>
  <property fmtid="{D5CDD505-2E9C-101B-9397-08002B2CF9AE}" pid="4" name="Slides">
    <vt:r8>13</vt:r8>
  </property>
</Properties>
</file>