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61CB0-C7E3-4F79-8A76-80A793D14FD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оловно-процессуаль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я курса лекций, подготовленная к.ю.н., доцентом  А.В. Верещаги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головно-процессуальное прав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езентация курса лекций, подготовленная к.ю.н., доцентом  А.В. Верещагино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ые стад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это относительно самостоятельные последовательно сменяющие друг друга этапы процессуальной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цессуальные стад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это относительно самостоятельные последовательно сменяющие друг друга этапы процессуальной деятельност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ая процессуальная стадия характеризуе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личием конкретных задач, подчиняющихся назначению уголовного судо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кругом участников уголовного процес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орядком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характером и формой итового для стадии реш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установленными в законе сроками этапа процессуальной деятелнь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ждая процессуальная стадия характеризуется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 наличием конкретных задач, подчиняющихся назначению уголовного судопроизводства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кругом участников уголовного процесса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порядком деятельности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характером и формой итового для стадии решения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установленными в законе сроками этапа процессуальной деятелньости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дии российского уголовного процесса делятся 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. Обязате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. Факультативные (дополнительные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тадии российского уголовного процесса делятся на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I. Обязательны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II. Факультативные (дополнительные)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обязательным стадиям российского уголовного процесса относя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. Досудебные стад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тадия возбуждения уголовного де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тадия предварительного расслед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. Судебные стад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одготовительные действия к судебному разбирательств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удебное разбирательств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оизводство в суде второй инстанции (апелляция и кассаци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исполнение пригово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 обязательным стадиям российского уголовного процесса относятс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I. Досудебные стад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стадия возбуждения уголовного дела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стадия предварительного расследова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II. Судебные стад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подготовительные действия к судебному разбирательству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судебное разбирательство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производство в суде второй инстанции (апелляция и кассация)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исполнение приговора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ультативные стадии российского уголовного судо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оизводство в надзорной инстан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возобновление дела по новым и вновь открывшимся обстоятельств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акультативные стадии российского уголовного судопроизводств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производство в надзорной инстанц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возобновление дела по новым и вновь открывшимся обстоятельства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ношение уголовного процесса и правосуд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С одной стороны по содержанию понятие «уголовный процесс» шире понятия «правосудие», т.к. уголовный процесс включает не толь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о по уголовному делу в суде, но и досудебное производств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С другой стороны понятие «уголовный процесс» уже понятия «правосудие», т.к. оно осуществляется не только по уголовным, но и по гражданским, административным  делам, в конституционном судопроизводстве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отношение уголовного процесса и правосуд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 С одной стороны по содержанию понятие «уголовный процесс» шире понятия «правосудие», т.к. уголовный процесс включает не тольк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изводство по уголовному делу в суде, но и досудебное производство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. С другой стороны понятие «уголовный процесс» уже понятия «правосудие», т.к. оно осуществляется не только по уголовным, но и по гражданским, административным  делам, в конституционном судопроизводстве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1.Понятие и назначение уголовного судопроизводств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1.Понятие уголовно-процессуального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2.Цели уголовного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3. Процессуальные фо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4. Процессуальные гарант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5. Система стадий уголовного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ема 1.Понятие и назначение уголовного судопроизводства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1.Понятие уголовно-процессуального прав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2.Цели уголовного процесс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3. Процессуальные форм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4. Процессуальные гарант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5. Система стадий уголовного процесс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уголовно-процессуального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 уголовно-процессуальным правом следует понимать самостоятельную отрасль права, регламентирующую уголовно-процессуальную деятельность по возбуждению, расследованию и разрешению уголовных дел по существ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нятие уголовно-процессуального прав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д уголовно-процессуальным правом следует понимать самостоятельную отрасль права, регламентирующую уголовно-процессуальную деятельность по возбуждению, расследованию и разрешению уголовных дел по существу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(назначение) уголовного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защита прав и законных интересов лиц и организаций, потерпевших от преступл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защита личности от незаконного и необоснованного обвинения, осуждения, ограничения прав и своб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ль (назначение) уголовного процесс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защита прав и законных интересов лиц и организаций, потерпевших от преступлений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защита личности от незаконного и необоснованного обвинения, осуждения, ограничения прав и свобод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уголовно-процессуальной фо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 уголовно-процессуальной формой следует понимать установленный законом регламент расследования преступлений и рассмотрения уголовных дел в суд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нятие уголовно-процессуальной форм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д уголовно-процессуальной формой следует понимать установленный законом регламент расследования преступлений и рассмотрения уголовных дел в судах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оловно-процессуальная форма характеризуется-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всеобщн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един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бязательн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головно-процессуальная форма характеризуется-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всеобщностью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единство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обязательностью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процессуальных фо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частно-обвинитель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инквизиционный (следственны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мешан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остязательный (обвинительны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иды процессуальных фор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частно-обвинительны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инквизиционный (следственный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смешанны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состязательный (обвинительный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лементы уголовно-процессуальной форм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цел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инцип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фун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сновные элементы уголовно-процессуальной формы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цель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принципы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функц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ые гарант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 широком смысле слова все уголовно-процессуальное право от общих принципов до конкретных норм представляет собой совокупность процессуальных гаран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в узком смысле слова в отдельно взятых процессуальных институтах имеется оригинальный набор норм, обеспечивающих права и свободы личности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цессуальные гарант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 в широком смысле слова все уголовно-процессуальное право от общих принципов до конкретных норм представляет собой совокупность процессуальных гаранти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в узком смысле слова в отдельно взятых процессуальных институтах имеется оригинальный набор норм, обеспечивающих права и свободы личности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9A62-254C-44CC-B268-10E7EAFDE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3FBA-DA6C-4C65-9E9E-2CAACB93F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BF65-FE9C-4C34-94EB-9DDDE7975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3EC7-2C59-4632-A878-3B5046C6D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66E4E-C901-4BA6-82C9-D12A176AC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AEE5F-5647-4509-A650-8129E214F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21864-C5BF-41F5-ACFA-836FA2CE7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E1D8A-E209-4697-A15C-0E5E9554C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D9DD3-A06B-4C62-AEA2-36C74F023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9165D-B007-4F70-A22D-18FB47408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7556C-D8DA-4509-A02D-D1DACE69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459B-150A-45DA-BFCF-845F2646D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5E38C-E465-49F7-A2F2-EDC34D39C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F29B7-2B60-400E-8FA9-7695A492F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6C808-E1B9-49E9-9174-83846AF6A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B8B2E-6859-45C6-8970-5423DF736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20BAB-C185-420D-B7CC-F617CED2C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4B52-301F-40A2-AACE-625475C83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3AD2-C3D4-494A-B365-92DC94E8C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A11F-11E9-4CF1-9EA8-0E962D829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7D25-92AB-4E9E-8290-7AA11A842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54DF-19F7-474C-A32F-0422275C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AA4C-429C-4256-B9E9-D867F6AF9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E728-5D2E-4708-9874-798B4E8D9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7A5FF-EFA5-4251-B67B-9AA38304BF9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FB08C-3AA1-407A-94EC-ECFD6E3E384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bbd71"/>
                </a:solidFill>
                <a:latin typeface="Arial"/>
              </a:rPr>
              <a:t>Уголовно-процессуальное право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зентация курса лекций, подготовленная к.ю.н., доцентом  А.В. Верещагин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Процессуальные стади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это относительно самостоятельные последовательно сменяющие друг друга этапы процессуальной деятельност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Каждая процессуальная стадия характеризуется: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наличием конкретных задач, подчиняющихся назначению уголовного судопроизводств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кругом участников уголовного процесс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порядком деятельност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характером и формой итового для стадии реше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установленными в законе сроками этапа процессуальной деятелньост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Стадии российского уголовного процесса делятся на: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 Обязатель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 Факультативные (дополнительные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К обязательным стадиям российского уголовного процесса относятся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528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Досудебные стад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стадия возбуждения уголовного дел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стадия предварительного расследова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Судебные стад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подготовительные действия к судебному разбирательству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судебное разбирательство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производство в суде второй инстанции (апелляция и кассация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исполнение приговор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Факультативные стадии российского уголовного судопроизводств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964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производство в надзорной инстан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возобновление дела по новым и вновь открывшимся обстоятельства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Соотношение уголовного процесса и правосудия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 С одной стороны по содержанию понятие «уголовный процесс» шире понятия «правосудие», т.к. уголовный процесс включает не тольк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изводство по уголовному делу в суде, но и досудебное производств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 С другой стороны понятие «уголовный процесс» уже понятия «правосудие», т.к. оно осуществляется не только по уголовным, но и по гражданским, административным  делам, в конституционном судопроизводстве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Тема 1.Понятие и назначение уголовного судопроизводства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1.Понятие уголовно-процессуального пра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2.Цели уголовного процес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3. Процессуальные форм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4. Процессуальные гарант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5. Система стадий уголовного процес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Понятие уголовно-процессуального прав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д уголовно-процессуальным правом следует понимать самостоятельную отрасль права, регламентирующую уголовно-процессуальную деятельность по возбуждению, расследованию и разрешению уголовных дел по существу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Цель (назначение) уголовного процесс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защита прав и законных интересов лиц и организаций, потерпевших от преступлени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защита личности от незаконного и необоснованного обвинения, осуждения, ограничения прав и свобо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Понятие уголовно-процессуальной формы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д уголовно-процессуальной формой следует понимать установленный законом регламент расследования преступлений и рассмотрения уголовных дел в суда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bbd71"/>
                </a:solidFill>
                <a:latin typeface="Arial"/>
              </a:rPr>
              <a:t>Уголовно-процессуальная форма характеризуется- </a:t>
            </a:r>
            <a:br>
              <a:rPr sz="4800"/>
            </a:b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332000" y="256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-всеобщностью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-единством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-обязательностью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Виды процессуальных форм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частно-обвинительн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инквизиционный (следственный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смешанн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состязательный (обвинительный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Основные элементы уголовно-процессуальной формы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2400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цел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принципы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функ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Процессуальные гаранти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 широком смысл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слова все уголовно-процессуальное право от общих принципов до конкретных норм представляет собой совокупность процессуальных гарант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 узком смысл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слова в отдельно взятых процессуальных институтах имеется оригинальный набор норм, обеспечивающих права и свободы личности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5T13:48:35Z</dcterms:created>
  <dc:creator>Верещагина Катарина</dc:creator>
  <dc:description/>
  <dc:language>en-US</dc:language>
  <cp:lastModifiedBy>LEGION</cp:lastModifiedBy>
  <dcterms:modified xsi:type="dcterms:W3CDTF">2016-01-04T08:11:16Z</dcterms:modified>
  <cp:revision>27</cp:revision>
  <dc:subject/>
  <dc:title>Уголовно-процессуальное право</dc:title>
</cp:coreProperties>
</file>