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C837-1D12-4877-8C9B-91E251DDC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B18-0778-4A03-A100-E4210204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8CE-0B61-4EA6-B774-124FE8F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820-4945-4D60-99E2-C743CF90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A77-F899-4EC2-A6AA-D54424DB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652-4DFC-4ABC-A095-A30D1805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607-0EA2-41B5-BA35-F8A3F01A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5EB-D399-434D-8FD5-39F6A2EC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129-F9A2-44AD-8990-F83F5FB5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682-6A13-4B29-BBEE-A6C87CA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D59-1F5D-455A-BA1C-F39B520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EE0-9E74-47E1-A3F8-358B8F8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2E1-5895-4CD0-B3D3-E2886AB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0881-B761-4E12-99BA-76EBE2829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3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1:08Z</dcterms:modified>
  <cp:revision>182</cp:revision>
  <dc:subject/>
  <dc:title>Урок обществознания 6 класс по теме «Труд с точки зрения зако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