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24.jpeg" ContentType="image/jpeg"/>
  <Override PartName="/ppt/media/image11.gif" ContentType="image/gif"/>
  <Override PartName="/ppt/media/image14.png" ContentType="image/png"/>
  <Override PartName="/ppt/media/image7.jpeg" ContentType="image/jpeg"/>
  <Override PartName="/ppt/media/image6.jpeg" ContentType="image/jpeg"/>
  <Override PartName="/ppt/media/image10.gif" ContentType="image/gif"/>
  <Override PartName="/ppt/media/image9.png" ContentType="image/png"/>
  <Override PartName="/ppt/media/image5.gif" ContentType="image/gif"/>
  <Override PartName="/ppt/media/image13.gif" ContentType="image/gif"/>
  <Override PartName="/ppt/media/image16.jpeg" ContentType="image/jpeg"/>
  <Override PartName="/ppt/media/image8.gif" ContentType="image/gif"/>
  <Override PartName="/ppt/media/image26.gif" ContentType="image/gif"/>
  <Override PartName="/ppt/media/image15.jpeg" ContentType="image/jpeg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23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3B6B-8431-440B-8AC5-6239820367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епанова Татьяна Викто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истории  и обществозн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ОУ СОШ № 13 г.Тамбова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к обществознания  6 класс по теме «Труд с точки зрения закон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епанова Татьяна Викто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истории  и обществозн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ОУ СОШ № 13 г.Тамбова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к обществознания  6 класс по теме «Труд с точки зрения закон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ий лист  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определение понятия «Трудовой договор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пункты предусмотрен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кого возраста закон разрешает трудоустройство по общему правил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необходимо для заключения трудового договора с учащимися  с 14 лет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аких случаях трудовой договор может быть расторгну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ий лист  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определение понятия «Трудовой договор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пункты предусмотрен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кого возраста закон разрешает трудоустройство по общему правил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необходимо для заключения трудового договора с учащимися  с 14 лет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аких случаях трудовой договор может быть расторгну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ий лист   2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отдых и социальное обеспеч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говорится в Конституции РФ об отдыхе? Приложение 1 Статья 37 п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право на отдых рассматривается там же, где и право на труд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продолжительность рабочей недели в РФ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ключает в себя время отдых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минимальная продолжительность ежегодного отпус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праздничные дни предусмотрены законом РФ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пенсия? Каков пенсионный возраст в РФ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у еще положены социальные выплат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айте возможные вы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отдых и социальное обесп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ий лист   2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отдых и социальное обеспеч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говорится в Конституции РФ об отдыхе? Приложение 1 Статья 37 п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право на отдых рассматривается там же, где и право на труд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продолжительность рабочей недели в РФ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ключает в себя время отдых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минимальная продолжительность ежегодного отпус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праздничные дни предусмотрены законом РФ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пенсия? Каков пенсионный возраст в РФ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у еще положены социальные выплат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айте возможные вы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отдых и социальное обесп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ое регулирование труда несовершеннолет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ий лист  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ое регулирование труда несовершеннолет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то по закону считается несовершеннолетни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государство заботится об их здоровь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продолжительность рабочего дня несовершеннолетни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каким работам не привлекаются несовершеннолетние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льготы предусмотрены в ежегодном отпуске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 порядок их увольнения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айте возможные выводы об особенностях регулирования труда несовершеннолет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ое регулирование труда несовершеннолет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ий лист  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ое регулирование труда несовершеннолет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то по закону считается несовершеннолетни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государство заботится об их здоровь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продолжительность рабочего дня несовершеннолетни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каким работам не привлекаются несовершеннолетние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льготы предусмотрены в ежегодном отпуске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 порядок их увольнения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айте возможные выводы об особенностях регулирования труда несовершеннолет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ведем итог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  людей, занятых в общественном производстве, в совре­менной России регулируется Конституцией РФ, а также другими законами и подзаконными  актами.  Важным законом является Трудовой кодекс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 Законами установлены правила приема на работу,  заключении трудового договора и его расторжения, продолжительность труда и отды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  Труд несовершеннолетних охраняется законами. Им предоставляются льготные условия трудов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ведем итог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  людей, занятых в общественном производстве, в совре­менной России регулируется Конституцией РФ, а также другими законами и подзаконными  актами.  Важным законом является Трудовой кодекс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 Законами установлены правила приема на работу,  заключении трудового договора и его расторжения, продолжительность труда и отды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  Труд несовершеннолетних охраняется законами. Им предоставляются льготные условия трудов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Труд не есть добродетель, но необходимое  условие добродетельной жизни.»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.Толст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Труд не есть добродетель, но необходимое  условие добродетельной жизни.»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.Толст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 с точки зрения зако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Труд не есть добродетель, но необходимое условие добродетельной жизни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.Толстой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 с точки зрения зако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Труд не есть добродетель, но необходимое условие добродетельной жизни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.Толстой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тр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отдых и социальное обесп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правового регулирования труда несовершеннолетн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тр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отдых и социальное обесп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правового регулирования труда несовершеннолетн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Лентяй да шалопай – два родных брата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Хочешь есть калачи – не лежи на печ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Труд человека кормит, а лень порти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Лентяй да шалопай – два родных брата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Хочешь есть калачи – не лежи на печ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Труд человека кормит, а лень порти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 – это использование времени, энергии и способностей людей для производства и распределения товаров и услу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 – это использование времени, энергии и способностей людей для производства и распределения товаров и услу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о ли подросткам трудиться и зарабатывать деньги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о ли подросткам трудиться и зарабатывать деньги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труд –важнейшее и неотъемлем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но выбирать рабо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ть справедливые и благоприятные условия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у от безработ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труд –важнейшее и неотъемлем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но выбирать рабо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ть справедливые и благоприятные условия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у от безработ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труд –важнейшее и неотъемлем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труд –важнейшее и неотъемлем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кодекс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свод законов, регулирующий трудовую деятельность в нашей стра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кодекс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свод законов, регулирующий трудовую деятельность в нашей стра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F308-D9DF-427C-B53B-D58E922CF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C6E1-7608-4F07-992F-23AFC4C4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CB8F-437C-4341-AB5F-2E7DCDD63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0C56-E2F4-4F60-B9F4-1C9393520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34E9-4FBD-459B-AD68-A09978D6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ECD1-66C7-4FE3-8340-D3D8A850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0129-266A-4513-8DAC-BA6F2F75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DA47-CE31-4846-BCC6-6529933D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B9DA-AFB3-4688-8FAB-7DF4EE3F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1F77-D301-4FEB-88C4-9397354E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1022-DD82-42AE-B4B6-1D63A211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88AC-39AB-4C11-9EAF-570A19CB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99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6498-E1B2-49DE-917A-1908EADFE0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Степанова Татьян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учитель истории  и обществозн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МАОУ СОШ № 13 г.Тамбов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Урок обществознания  6 класс по теме «Труд с точки зрения закон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C:\Documents and Settings\Таня.F52B12A72E7B40C\Рабочий стол\труд\7-1.jpg"/>
          <p:cNvPicPr/>
          <p:nvPr/>
        </p:nvPicPr>
        <p:blipFill>
          <a:blip r:embed="rId1"/>
          <a:stretch/>
        </p:blipFill>
        <p:spPr>
          <a:xfrm>
            <a:off x="838080" y="2368440"/>
            <a:ext cx="2971800" cy="43228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380880" y="380880"/>
            <a:ext cx="838224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Arial Black"/>
              </a:rPr>
              <a:t>Трудовой догово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00600" y="1904760"/>
            <a:ext cx="4191120" cy="47242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90000"/>
          </a:bodyPr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чий лист  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ть определение понятия «Трудовой догово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пункты предусмотрен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какого возраста закон разрешает трудоустройство по общему правилу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необходимо для заключения трудового договора с учащимися  с 14 лет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ких случаях трудовой договор может быть расторгну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Текст 11"/>
          <p:cNvSpPr/>
          <p:nvPr/>
        </p:nvSpPr>
        <p:spPr>
          <a:xfrm>
            <a:off x="152280" y="1981080"/>
            <a:ext cx="4191120" cy="46483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C:\Documents and Settings\Таня.F52B12A72E7B40C\Рабочий стол\труд\trudovoy-dogovor.jpg"/>
          <p:cNvPicPr/>
          <p:nvPr/>
        </p:nvPicPr>
        <p:blipFill>
          <a:blip r:embed="rId1"/>
          <a:stretch/>
        </p:blipFill>
        <p:spPr>
          <a:xfrm>
            <a:off x="674640" y="2666880"/>
            <a:ext cx="3963960" cy="34480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62160" y="1981080"/>
            <a:ext cx="4800600" cy="45720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бочий лист   2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аво на отдых и социальное обеспеч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говорится в Конституции РФ об отдыхе? Приложение 1 Статья 37 п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чему право на отдых рассматривается там же, где и право на труд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ова продолжительность рабочей недели в РФ?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включает в себя время отдых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ова минимальная продолжительность ежегодного отпуск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ие праздничные дни предусмотрены законом РФ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такое пенсия? Каков пенсионный возраст в РФ?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у еще положены социальные выплат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делайте возможные выво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Текст 11"/>
          <p:cNvSpPr/>
          <p:nvPr/>
        </p:nvSpPr>
        <p:spPr>
          <a:xfrm>
            <a:off x="152280" y="1981080"/>
            <a:ext cx="3429000" cy="46483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228600" y="274680"/>
            <a:ext cx="8458200" cy="1554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Право на отдых и социальное обеспе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Чупров Леонид\Мои документы\А. наглядность\А. фон природа\02.gif"/>
          <p:cNvPicPr/>
          <p:nvPr/>
        </p:nvPicPr>
        <p:blipFill>
          <a:blip r:embed="rId1"/>
          <a:stretch/>
        </p:blipFill>
        <p:spPr>
          <a:xfrm>
            <a:off x="247680" y="2057400"/>
            <a:ext cx="3276720" cy="4444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C:\Documents and Settings\Чупров Леонид\Мои документы\А. наглядность\А. люди анимация\peopls166.gif"/>
          <p:cNvPicPr/>
          <p:nvPr/>
        </p:nvPicPr>
        <p:blipFill>
          <a:blip r:embed="rId2"/>
          <a:stretch/>
        </p:blipFill>
        <p:spPr>
          <a:xfrm>
            <a:off x="7696080" y="5334120"/>
            <a:ext cx="1086120" cy="1085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C:\Documents and Settings\Чупров Леонид\Мои документы\А. наглядность\А. люди анимация\hiker_roasting01.gif"/>
          <p:cNvPicPr/>
          <p:nvPr/>
        </p:nvPicPr>
        <p:blipFill>
          <a:blip r:embed="rId3"/>
          <a:stretch/>
        </p:blipFill>
        <p:spPr>
          <a:xfrm>
            <a:off x="1828800" y="335268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C:\Documents and Settings\Чупров Леонид\Мои документы\А. наглядность\А. люди анимация\album_0308172145_9443.gif"/>
          <p:cNvPicPr/>
          <p:nvPr/>
        </p:nvPicPr>
        <p:blipFill>
          <a:blip r:embed="rId4"/>
          <a:stretch/>
        </p:blipFill>
        <p:spPr>
          <a:xfrm>
            <a:off x="6858000" y="1136520"/>
            <a:ext cx="1600200" cy="135432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380880" y="380880"/>
            <a:ext cx="8382240" cy="1295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Правовое регулирование труда несовершеннолетн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267080" y="1904760"/>
            <a:ext cx="4724640" cy="47242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чий лист   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авовое регулирование труда несовершеннолетн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то по закону считается несовершеннолетним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государство заботится об их здоровь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ова продолжительность рабочего дня несовершеннолетних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каким работам не привлекаются несовершеннолетние?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ие льготы предусмотрены в ежегодном отпуске?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ов порядок их увольнения?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делайте возможные выводы об особенностях регулирования труда несовершеннолетн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Текст 11"/>
          <p:cNvSpPr/>
          <p:nvPr/>
        </p:nvSpPr>
        <p:spPr>
          <a:xfrm>
            <a:off x="152280" y="1981080"/>
            <a:ext cx="3733920" cy="46483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0" descr="C:\Documents and Settings\Чупров Леонид\Мои документы\А. наглядность\А. люди анимация\41_1.gif"/>
          <p:cNvPicPr/>
          <p:nvPr/>
        </p:nvPicPr>
        <p:blipFill>
          <a:blip r:embed="rId1"/>
          <a:stretch/>
        </p:blipFill>
        <p:spPr>
          <a:xfrm>
            <a:off x="1523880" y="4876920"/>
            <a:ext cx="1143000" cy="1533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C:\Documents and Settings\Таня.F52B12A72E7B40C\Рабочий стол\труд\trud1.jpg"/>
          <p:cNvPicPr/>
          <p:nvPr/>
        </p:nvPicPr>
        <p:blipFill>
          <a:blip r:embed="rId2"/>
          <a:stretch/>
        </p:blipFill>
        <p:spPr>
          <a:xfrm>
            <a:off x="304920" y="2209680"/>
            <a:ext cx="3448080" cy="259092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Подведем итог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1447920" y="1771200"/>
            <a:ext cx="6705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руд  людей, занятых в общественном производстве, в совре­менной России регулируется Конституцией РФ, а также другими законами и подзаконными  актами.  Важным законом является Трудовой кодекс Р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  Законами установлены правила приема на работу,  заключении трудового договора и его расторжения, продолжительность труда и отды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.   Труд несовершеннолетних охраняется законами. Им предоставляются льготные условия трудов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D:\Мои рисунки\Оля\Рисунок2.jpg"/>
          <p:cNvPicPr/>
          <p:nvPr/>
        </p:nvPicPr>
        <p:blipFill>
          <a:blip r:embed="rId1"/>
          <a:stretch/>
        </p:blipFill>
        <p:spPr>
          <a:xfrm>
            <a:off x="304920" y="2133720"/>
            <a:ext cx="1231920" cy="1371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C:\Documents and Settings\Таня.F52B12A72E7B40C\Рабочий стол\труд\7-1.jpg"/>
          <p:cNvPicPr/>
          <p:nvPr/>
        </p:nvPicPr>
        <p:blipFill>
          <a:blip r:embed="rId2"/>
          <a:stretch/>
        </p:blipFill>
        <p:spPr>
          <a:xfrm>
            <a:off x="228600" y="4343400"/>
            <a:ext cx="1228680" cy="1787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C:\Documents and Settings\Таня.F52B12A72E7B40C\Рабочий стол\труд\detskiy-trud.jpg"/>
          <p:cNvPicPr/>
          <p:nvPr/>
        </p:nvPicPr>
        <p:blipFill>
          <a:blip r:embed="rId3"/>
          <a:stretch/>
        </p:blipFill>
        <p:spPr>
          <a:xfrm>
            <a:off x="7010280" y="5562720"/>
            <a:ext cx="1752840" cy="11300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800600" y="609120"/>
            <a:ext cx="4114800" cy="57913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C:\Documents and Settings\Таня.F52B12A72E7B40C\Рабочий стол\труд\final_shmel060807-6.jpg"/>
          <p:cNvPicPr/>
          <p:nvPr/>
        </p:nvPicPr>
        <p:blipFill>
          <a:blip r:embed="rId1"/>
          <a:stretch/>
        </p:blipFill>
        <p:spPr>
          <a:xfrm>
            <a:off x="5181480" y="1371600"/>
            <a:ext cx="3429000" cy="4275000"/>
          </a:xfrm>
          <a:prstGeom prst="rect">
            <a:avLst/>
          </a:prstGeom>
          <a:ln w="0">
            <a:noFill/>
          </a:ln>
        </p:spPr>
      </p:pic>
      <p:sp>
        <p:nvSpPr>
          <p:cNvPr id="130" name="Текст 11"/>
          <p:cNvSpPr/>
          <p:nvPr/>
        </p:nvSpPr>
        <p:spPr>
          <a:xfrm>
            <a:off x="304920" y="609480"/>
            <a:ext cx="4190760" cy="586764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«Труд не есть добродетель, но необходимое  условие добродетельной жизни.»</a:t>
            </a: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(Л.Толст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C:\Documents and Settings\Чупров Леонид\Мои документы\А. наглядность\А. люди анимация\41_1.gif"/>
          <p:cNvPicPr/>
          <p:nvPr/>
        </p:nvPicPr>
        <p:blipFill>
          <a:blip r:embed="rId2"/>
          <a:stretch/>
        </p:blipFill>
        <p:spPr>
          <a:xfrm>
            <a:off x="3657600" y="4876920"/>
            <a:ext cx="1143000" cy="15332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4"/>
          <p:cNvSpPr/>
          <p:nvPr/>
        </p:nvSpPr>
        <p:spPr>
          <a:xfrm>
            <a:off x="457200" y="228600"/>
            <a:ext cx="8305920" cy="63244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00000"/>
                </a:solidFill>
                <a:latin typeface="Arial Black"/>
              </a:rPr>
              <a:t>Спасибо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00000"/>
                </a:solidFill>
                <a:latin typeface="Arial Black"/>
              </a:rPr>
              <a:t>за внимание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D:\Мои рисунки\Коллекция картинок (Microsoft)\j0315816.gif"/>
          <p:cNvPicPr/>
          <p:nvPr/>
        </p:nvPicPr>
        <p:blipFill>
          <a:blip r:embed="rId1"/>
          <a:stretch/>
        </p:blipFill>
        <p:spPr>
          <a:xfrm>
            <a:off x="7010280" y="5334120"/>
            <a:ext cx="1028880" cy="102852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Труд с точки зрения зако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Текст 11"/>
          <p:cNvSpPr/>
          <p:nvPr/>
        </p:nvSpPr>
        <p:spPr>
          <a:xfrm>
            <a:off x="4648320" y="1828800"/>
            <a:ext cx="4114800" cy="48769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C:\Documents and Settings\Таня.F52B12A72E7B40C\Рабочий стол\труд\1235993383_nb_pinacoteca_nesterov_portrait_of_count_leo_tolst.jpg"/>
          <p:cNvPicPr/>
          <p:nvPr/>
        </p:nvPicPr>
        <p:blipFill>
          <a:blip r:embed="rId1"/>
          <a:stretch/>
        </p:blipFill>
        <p:spPr>
          <a:xfrm>
            <a:off x="4800600" y="1981080"/>
            <a:ext cx="3765600" cy="4551480"/>
          </a:xfrm>
          <a:prstGeom prst="rect">
            <a:avLst/>
          </a:prstGeom>
          <a:ln w="0">
            <a:noFill/>
          </a:ln>
        </p:spPr>
      </p:pic>
      <p:sp>
        <p:nvSpPr>
          <p:cNvPr id="55" name="Текст 11"/>
          <p:cNvSpPr/>
          <p:nvPr/>
        </p:nvSpPr>
        <p:spPr>
          <a:xfrm>
            <a:off x="304920" y="3886200"/>
            <a:ext cx="4038480" cy="27432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C:\Documents and Settings\Таня.F52B12A72E7B40C\Рабочий стол\труд\215550.jpg"/>
          <p:cNvPicPr/>
          <p:nvPr/>
        </p:nvPicPr>
        <p:blipFill>
          <a:blip r:embed="rId2"/>
          <a:stretch/>
        </p:blipFill>
        <p:spPr>
          <a:xfrm>
            <a:off x="609480" y="4191120"/>
            <a:ext cx="3276720" cy="2206440"/>
          </a:xfrm>
          <a:prstGeom prst="rect">
            <a:avLst/>
          </a:prstGeom>
          <a:ln w="0">
            <a:noFill/>
          </a:ln>
        </p:spPr>
      </p:pic>
      <p:sp>
        <p:nvSpPr>
          <p:cNvPr id="57" name="Текст 11"/>
          <p:cNvSpPr/>
          <p:nvPr/>
        </p:nvSpPr>
        <p:spPr>
          <a:xfrm>
            <a:off x="228600" y="1828800"/>
            <a:ext cx="4038480" cy="16765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Труд не есть добродетель, но необходимое условие добродетельной жизни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Л.Толстой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8959680" y="0"/>
            <a:ext cx="1843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267080" y="1904760"/>
            <a:ext cx="4724640" cy="47242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о на тр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о на отдых и социальное обеспе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бенности правового регулирования труда несовершеннолетни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Текст 11"/>
          <p:cNvSpPr/>
          <p:nvPr/>
        </p:nvSpPr>
        <p:spPr>
          <a:xfrm>
            <a:off x="152280" y="1981080"/>
            <a:ext cx="3733920" cy="46483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C:\Documents and Settings\Таня.F52B12A72E7B40C\Рабочий стол\труд\pic.jpeg"/>
          <p:cNvPicPr/>
          <p:nvPr/>
        </p:nvPicPr>
        <p:blipFill>
          <a:blip r:embed="rId1"/>
          <a:stretch/>
        </p:blipFill>
        <p:spPr>
          <a:xfrm>
            <a:off x="457200" y="2209680"/>
            <a:ext cx="3257640" cy="43434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3"/>
          <p:cNvSpPr/>
          <p:nvPr/>
        </p:nvSpPr>
        <p:spPr>
          <a:xfrm>
            <a:off x="609480" y="304920"/>
            <a:ext cx="8153640" cy="12189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Arial Black"/>
              </a:rPr>
              <a:t>План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Documents and Settings\Чупров Леонид\Мои документы\А. наглядность\Анимации исторические\peo-engineer.gif"/>
          <p:cNvPicPr/>
          <p:nvPr/>
        </p:nvPicPr>
        <p:blipFill>
          <a:blip r:embed="rId2"/>
          <a:stretch/>
        </p:blipFill>
        <p:spPr>
          <a:xfrm>
            <a:off x="7772400" y="205740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457200" y="609480"/>
            <a:ext cx="8153280" cy="4267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« Лентяй да шалопай – два родных брата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« Хочешь есть калачи – не лежи на печ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«Труд человека кормит, а лень порти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0" y="0"/>
            <a:ext cx="3636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Текст 11"/>
          <p:cNvSpPr/>
          <p:nvPr/>
        </p:nvSpPr>
        <p:spPr>
          <a:xfrm>
            <a:off x="2895480" y="3733920"/>
            <a:ext cx="3810240" cy="29718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3124080" y="3886200"/>
            <a:ext cx="3449880" cy="259092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3"/>
          <p:cNvSpPr/>
          <p:nvPr/>
        </p:nvSpPr>
        <p:spPr>
          <a:xfrm>
            <a:off x="685800" y="533520"/>
            <a:ext cx="8153280" cy="20574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ТРУД – это использование времени, энергии и способностей людей для производства и распределения товаров и услу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C:\Documents and Settings\Таня.F52B12A72E7B40C\Рабочий стол\труд\trud1.jpg"/>
          <p:cNvPicPr/>
          <p:nvPr/>
        </p:nvPicPr>
        <p:blipFill>
          <a:blip r:embed="rId1"/>
          <a:stretch/>
        </p:blipFill>
        <p:spPr>
          <a:xfrm>
            <a:off x="2895480" y="2286000"/>
            <a:ext cx="5486400" cy="4121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C:\Documents and Settings\Чупров Леонид\Мои документы\А. наглядность\А. люди анимация\peopls79.gif"/>
          <p:cNvPicPr/>
          <p:nvPr/>
        </p:nvPicPr>
        <p:blipFill>
          <a:blip r:embed="rId2"/>
          <a:stretch/>
        </p:blipFill>
        <p:spPr>
          <a:xfrm>
            <a:off x="380880" y="4038480"/>
            <a:ext cx="1863720" cy="168300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Нужно ли подросткам трудиться и зарабатывать деньги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5800" y="3048120"/>
          <a:ext cx="8077320" cy="2617560"/>
        </p:xfrm>
        <a:graphic>
          <a:graphicData uri="http://schemas.openxmlformats.org/drawingml/2006/table">
            <a:tbl>
              <a:tblPr/>
              <a:tblGrid>
                <a:gridCol w="4038480"/>
                <a:gridCol w="4038840"/>
              </a:tblGrid>
              <a:tr h="971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стки должны трудиться и зарабатывать день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одростковом возрасте дети не должны трудиться и зарабатывать день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4114800" y="4952880"/>
            <a:ext cx="1295280" cy="166068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468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Право на труд –важнейшее и неотъемлемое пра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29718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ободно выбирать раб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ть справедливые и благоприятные условия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щиту от безработ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C:\Documents and Settings\Чупров Леонид\Мои документы\А. наглядность\Анимации исторические\peo-relaxin_dude.gif"/>
          <p:cNvPicPr/>
          <p:nvPr/>
        </p:nvPicPr>
        <p:blipFill>
          <a:blip r:embed="rId1"/>
          <a:stretch/>
        </p:blipFill>
        <p:spPr>
          <a:xfrm>
            <a:off x="1219320" y="3429000"/>
            <a:ext cx="2479680" cy="1157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C:\Documents and Settings\Чупров Леонид\Мои документы\А. наглядность\А. люди анимация\peopls91.gif"/>
          <p:cNvPicPr/>
          <p:nvPr/>
        </p:nvPicPr>
        <p:blipFill>
          <a:blip r:embed="rId2"/>
          <a:stretch/>
        </p:blipFill>
        <p:spPr>
          <a:xfrm>
            <a:off x="7238880" y="3124080"/>
            <a:ext cx="952560" cy="851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C:\Documents and Settings\Чупров Леонид\Мои документы\А. наглядность\Анимации исторические\man26.gif"/>
          <p:cNvPicPr/>
          <p:nvPr/>
        </p:nvPicPr>
        <p:blipFill>
          <a:blip r:embed="rId3"/>
          <a:stretch/>
        </p:blipFill>
        <p:spPr>
          <a:xfrm>
            <a:off x="6095880" y="5486400"/>
            <a:ext cx="1811520" cy="1012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Documents and Settings\Чупров Леонид\Мои документы\А. наглядность\А. люди анимация\hw06.gif"/>
          <p:cNvPicPr/>
          <p:nvPr/>
        </p:nvPicPr>
        <p:blipFill>
          <a:blip r:embed="rId4"/>
          <a:stretch/>
        </p:blipFill>
        <p:spPr>
          <a:xfrm>
            <a:off x="4114800" y="4800600"/>
            <a:ext cx="928800" cy="9288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457200" y="205740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0" y="3962520"/>
            <a:ext cx="2139840" cy="2895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D:\Мои рисунки\Оля\Рисунок2.jpg"/>
          <p:cNvPicPr/>
          <p:nvPr/>
        </p:nvPicPr>
        <p:blipFill>
          <a:blip r:embed="rId2"/>
          <a:stretch/>
        </p:blipFill>
        <p:spPr>
          <a:xfrm>
            <a:off x="2438280" y="3124080"/>
            <a:ext cx="3353040" cy="3733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C:\Documents and Settings\Таня.F52B12A72E7B40C\Рабочий стол\труд\7-1.jpg"/>
          <p:cNvPicPr/>
          <p:nvPr/>
        </p:nvPicPr>
        <p:blipFill>
          <a:blip r:embed="rId3"/>
          <a:stretch/>
        </p:blipFill>
        <p:spPr>
          <a:xfrm>
            <a:off x="6019920" y="2666880"/>
            <a:ext cx="2881080" cy="41911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3"/>
          <p:cNvSpPr/>
          <p:nvPr/>
        </p:nvSpPr>
        <p:spPr>
          <a:xfrm>
            <a:off x="457200" y="380880"/>
            <a:ext cx="8229600" cy="2133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Право на труд –важнейшее и неотъемлемое пра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380880" y="380880"/>
            <a:ext cx="838224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Arial Black"/>
              </a:rPr>
              <a:t>Трудовой кодекс Р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800240" y="1981080"/>
            <a:ext cx="3962520" cy="45720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новной свод законов, регулирующий трудовую деятельность в нашей стра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Текст 11"/>
          <p:cNvSpPr/>
          <p:nvPr/>
        </p:nvSpPr>
        <p:spPr>
          <a:xfrm>
            <a:off x="457200" y="1981080"/>
            <a:ext cx="3886200" cy="46483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C:\Documents and Settings\Таня.F52B12A72E7B40C\Рабочий стол\труд\7-1.jpg"/>
          <p:cNvPicPr/>
          <p:nvPr/>
        </p:nvPicPr>
        <p:blipFill>
          <a:blip r:embed="rId1"/>
          <a:stretch/>
        </p:blipFill>
        <p:spPr>
          <a:xfrm>
            <a:off x="914400" y="2286000"/>
            <a:ext cx="2917800" cy="41338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08:11:08Z</dcterms:modified>
  <cp:revision>182</cp:revision>
  <dc:subject/>
  <dc:title>Урок обществознания 6 класс по теме «Труд с точки зрения закона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