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B640-67A8-41DA-9172-ADDFF2F913A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Роль права в жизни человека, общества, государства § 2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еня не важно, на чьей стороне сила: важно то, на чьей сторон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Гю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Роль права в жизни человека, общества, государства § 2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меня не важно, на чьей стороне сила: важно то, на чьей сторон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Гю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 - ?  Уч-к стр. 1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совокупность норм права данно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взаимосвязанных правовых норм, регулирующих однородные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гражданское право, семейное право, трудовое право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трас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родственных институтов какой-либо 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избирательное право в конституционном пра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в трудовом праве институт рабочего времени, заработной плат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 - ?  Уч-к стр. 1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 совокупность норм права данно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взаимосвязанных правовых норм, регулирующих однородные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гражданское право, семейное право, трудовое право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трасли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ы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овокупность родственных институтов какой-либо 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избирательное право в конституционном пра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в трудовом праве институт рабочего времени, заработной платы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-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-к, стр.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-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к, стр.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 право –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-к стр. 1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право –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к стр.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З. § 29, конспект. Термины, вопросы для самопроверк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З. § 29, конспект. Термины, вопросы для самопроверки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сть – регулирует общественные отношения, действует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т от государства и поддерживается его принудитель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формальное выражение – устанавливается государством в нормативных а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для регулирования общественных отношений, носит систем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сть – регулирует общественные отношения, действует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ит от государства и поддерживается его принудительной сил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формальное выражение – устанавливается государством в нормативных ак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ит для регулирования общественных отношений, носит систем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а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го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ории возникновен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ории возникновения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начение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зглашение правового положения человек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начение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зглашение правового положения человека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авовых нор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овых норм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нормы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(предположе-ние) – описывает условия выполнения правила. «есл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озиция (распоряже-ние) – описывает само правило поведения. «то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ция (взыскание) предусматривает последствия неисполнения нормы. «инач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нормы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(предположе-ние) – описывает условия выполнения правила. «если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озиция (распоряже-ние) – описывает само правило поведения. «то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ция (взыскание) предусматривает последствия неисполнения нормы. «иначе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ко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(Конституция РФ, конституции республик в составе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конституционные (закон о гербе, о флаге, о референдуме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 – основной закон РФ! (принята 12 декабря 1993 г. путём референду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акон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(Конституция РФ, конституции республик в составе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конституционные (закон о гербе, о флаге, о референдуме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я РФ – основной закон РФ! (принята 12 декабря 1993 г. путём референду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7696-F48C-49E3-A79F-BF3EA400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66C9-80D1-4BAF-B113-3D1BDFE3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B63-7C36-4363-8A9A-4B3AA363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11F-0C27-43D8-9842-66D352AD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6409-CA4C-482B-A9B3-C4B7564B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6563-459A-47E7-9B72-0BE90D7E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1BEF-C08E-4898-A20D-650ECF9D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55F7-4C06-47D7-9C09-3A46BB99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943A-29CC-435A-BD1A-7C0E6D75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6DAF-E171-4CBF-AA02-B477CB8B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C13C-035D-44DA-9078-4F7D2437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862-97EF-4209-BAD5-8D3CBEAE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E1D1-F8A7-476F-B7D8-8E941D87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CCFA-3172-4AE2-B92C-1E1A4806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6613-9B5F-4AC9-9B59-7D96606C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EF8B-CF76-4557-896C-C73EC73B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3330-1D54-49CE-BF22-FE9CFFB0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2E77E-A6D3-4C7E-841B-EB18F52F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DF397-C911-44F1-8D19-168B1409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7043C-B0FF-4E26-8247-10AD0FA2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9A47F-5973-4C70-9759-E0D374A0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5161D-E2D6-464F-95B3-1A3541F7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AE09-2C31-461B-BC41-E4FDD900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DB375-681C-48C1-B9B6-92F68D47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816E1-11BA-45C4-A584-1899A74D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12390-020D-4537-BDD2-DAAA1065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34660-59B7-4C10-BC13-773F6243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8FA48-8052-4B3E-BAD2-D3307FCD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8A3FA-66E7-4775-B57B-7832B590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45F4B-2783-4974-B016-A0E71F63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2E6D1-F4DB-4113-A07E-62A4A13A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9C2EE-7F5C-4FDC-963F-47E2635D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62C59-FC53-4940-85CF-705C1343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513-2FF8-4F55-BE27-FAB8C500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B7304-5F50-4810-A1AD-74D73E90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152AE-D225-4867-AA1E-A441BB0A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4125C-77B9-47FD-92A2-FF21F2A5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CF7FF-69FB-4EC6-9421-D81CE539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84A62-ECFA-4357-9DCD-A1134438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AA10F-CF75-414F-98DA-3CA7FFAF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FA09C-6019-4F0D-9FFB-AADCE16F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741AE-1087-4CA2-84B5-E8E46B56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70D0F-6EA3-4213-B259-0A12C31F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08B46-21F8-408B-96D7-577D0B63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83F5-B24E-4889-A2BA-DDF4362A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C3773-A87E-470B-9056-B01F0E9D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31B71-8CBA-42D6-A192-C32B8CD1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7B076-5AC1-429C-AC62-C2D82AE7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65879-9338-4079-B8B2-C5F9E67C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8593C-706B-491A-85B4-0A90902B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DACA6-99E9-456C-9D52-0A7CE207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573B5-60BD-42E6-A606-1ABADC9D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9276D-8CE3-4B73-9F79-CD84A653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4AB96-BAC2-4C6D-87D5-09983D6C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E39FC-7E7D-4400-881C-FF6A6653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E0E0-7466-44CD-BC2F-639B296C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146E7-A468-4035-863D-9120DEFF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5DC91-D896-49D8-96DB-FC00BB2B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EF1B6-7D37-4E9A-87ED-1E004004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3D21A-09D7-40BF-8FC3-45B9E6A8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4BFFF-E184-4515-A04F-6ADA13A1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7BBE1-7296-4DF9-8EC5-F17EF74C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34522-B917-49F4-A358-2479EBF2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6C595-CEE6-4DC5-BD95-6AA5334A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6A8C4-294B-4057-BAE4-DB41104B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6432E-4911-49DE-AB9F-977AB0F2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1C8-E56B-42C4-8CAB-0F0F8B63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53086-A85C-4271-AA6B-553DB264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54779-C0B8-443A-B96A-BD468936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A4A1C-5359-4FE0-B6D3-6D8082B2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E71F3-3229-4269-8FA8-8A6B9522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87126-E6F2-4120-971D-025C7A83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8977D-6741-436F-9800-DD554B99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59E5D-9F6A-4A78-A59D-C1A99842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ACA64-056E-4CEA-87FD-E2FEA599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831C9-9C3E-41E4-B9D9-3C9C128E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6D6EF-8A26-4AEB-9B18-C93EDD3A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78B-DCB5-414B-ADDA-7562397C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FC94D-A118-4B4E-A481-D2C8BF04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E5CA2-F2AD-45A4-BC4A-F9101605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19E2C-EEBB-434B-8F91-57A8906A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EE523-BCCD-4FF3-9FC8-29D9077D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A906B-14A3-4988-8BB5-78DD6B68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430C-CBBA-4621-9EA0-E966B6F5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6F38-4B8C-48CC-A4C7-85BCD39E0A8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9B47-3467-46A9-8CB3-28C8E1E61C0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D5FE-4952-496B-B169-C9BDF999363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6D04-F469-4BF9-9F94-483C51C368C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2DB9-299E-405A-816D-54F48532DE1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1479-F89B-421B-8983-7D32F2EAB2D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C2EF-654B-438A-B277-55E20ABA09B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E9F6-BA87-4066-99FD-675820EE13F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FFFF-AA21-486A-909E-81D456BAA83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B73F-60F8-4ACE-86EA-72FE1D2902F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7593-39AA-4399-A5B2-E52C17D8407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3C3A-6731-4815-B965-AA965C67316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862A-43ED-4228-860B-EB88DBC05BC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9B62-8848-4640-BA61-B8C8BF62383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620280"/>
            <a:ext cx="7407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72314"/>
                </a:solidFill>
                <a:latin typeface="Corbel"/>
              </a:rPr>
              <a:t>Тема:</a:t>
            </a: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 Роль права в жизни человека, общества, государства § 29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26" name="Прямоугольник 2"/>
          <p:cNvGrpSpPr/>
          <p:nvPr/>
        </p:nvGrpSpPr>
        <p:grpSpPr>
          <a:xfrm>
            <a:off x="1719360" y="3449520"/>
            <a:ext cx="6912000" cy="3011760"/>
            <a:chOff x="1719360" y="3449520"/>
            <a:chExt cx="6912000" cy="3011760"/>
          </a:xfrm>
        </p:grpSpPr>
        <p:pic>
          <p:nvPicPr>
            <p:cNvPr id="327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719360" y="3449520"/>
              <a:ext cx="6912000" cy="30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763640" y="3500280"/>
              <a:ext cx="6480360" cy="24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rbel"/>
                </a:rPr>
                <a:t>Для меня не важно, на чьей стороне сила: важно то, на чьей стороне право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rbel"/>
                </a:rPr>
                <a:t>В.Гюг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1042920" y="115920"/>
            <a:ext cx="5400720" cy="1441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Система права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?  Уч-к стр. 18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4067280" y="115920"/>
            <a:ext cx="489744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Вся совокупность норм права данной ст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1042920" y="1844640"/>
            <a:ext cx="201636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Отрасли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4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Совокупность взаимосвязанных правовых норм, регулирующих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однородные общественные отнош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гражданское право, семейное право, трудовое право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3635280" y="1844640"/>
            <a:ext cx="223200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Подотрасли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6300720" y="1844640"/>
            <a:ext cx="266400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Институты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8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Это совокупность родственных институтов какой-либо отрасли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9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избирательное право в конституционном пр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0"/>
          <p:cNvSpPr/>
          <p:nvPr/>
        </p:nvSpPr>
        <p:spPr>
          <a:xfrm>
            <a:off x="2484360" y="3573360"/>
            <a:ext cx="4535640" cy="2665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1"/>
          <p:cNvSpPr/>
          <p:nvPr/>
        </p:nvSpPr>
        <p:spPr>
          <a:xfrm>
            <a:off x="2484360" y="3573360"/>
            <a:ext cx="4535640" cy="30956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в трудовом праве институт рабочего времени, заработной пла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ижнього колонтитула 1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2987640" y="549360"/>
            <a:ext cx="3529080" cy="9144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Система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2438280" y="1420920"/>
            <a:ext cx="2328840" cy="150480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ая со стрелкой 5" descr=""/>
          <p:cNvPicPr/>
          <p:nvPr/>
        </p:nvPicPr>
        <p:blipFill>
          <a:blip r:embed="rId2"/>
          <a:stretch/>
        </p:blipFill>
        <p:spPr>
          <a:xfrm>
            <a:off x="4700520" y="1420920"/>
            <a:ext cx="2724120" cy="1504800"/>
          </a:xfrm>
          <a:prstGeom prst="rect">
            <a:avLst/>
          </a:prstGeom>
          <a:ln w="0">
            <a:noFill/>
          </a:ln>
        </p:spPr>
      </p:pic>
      <p:sp>
        <p:nvSpPr>
          <p:cNvPr id="389" name="Скругленный прямоугольник 6"/>
          <p:cNvSpPr/>
          <p:nvPr/>
        </p:nvSpPr>
        <p:spPr>
          <a:xfrm>
            <a:off x="1547640" y="2708280"/>
            <a:ext cx="2160720" cy="18730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ЧАС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кругленный прямоугольник 7"/>
          <p:cNvSpPr/>
          <p:nvPr/>
        </p:nvSpPr>
        <p:spPr>
          <a:xfrm>
            <a:off x="6156360" y="2708280"/>
            <a:ext cx="2160720" cy="194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УБЛИЧ-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Овал 8"/>
          <p:cNvSpPr/>
          <p:nvPr/>
        </p:nvSpPr>
        <p:spPr>
          <a:xfrm>
            <a:off x="6732720" y="115920"/>
            <a:ext cx="1942920" cy="1584360"/>
          </a:xfrm>
          <a:prstGeom prst="ellipse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Уч-к, стр.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кругленный прямоугольник 14"/>
          <p:cNvSpPr/>
          <p:nvPr/>
        </p:nvSpPr>
        <p:spPr>
          <a:xfrm>
            <a:off x="2411280" y="4797360"/>
            <a:ext cx="2376720" cy="1871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ОЗИТИ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9"/>
          <p:cNvSpPr/>
          <p:nvPr/>
        </p:nvSpPr>
        <p:spPr>
          <a:xfrm>
            <a:off x="5219640" y="4797360"/>
            <a:ext cx="2376720" cy="1871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ЕСТЕ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Скругленный прямоугольник 1"/>
          <p:cNvSpPr/>
          <p:nvPr/>
        </p:nvSpPr>
        <p:spPr>
          <a:xfrm>
            <a:off x="1692360" y="260280"/>
            <a:ext cx="6696000" cy="223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Естественное право –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ч-к стр.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кругленный прямоугольник 2"/>
          <p:cNvSpPr/>
          <p:nvPr/>
        </p:nvSpPr>
        <p:spPr>
          <a:xfrm>
            <a:off x="1763640" y="3068640"/>
            <a:ext cx="6696000" cy="223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Прямоугольник 1"/>
          <p:cNvGrpSpPr/>
          <p:nvPr/>
        </p:nvGrpSpPr>
        <p:grpSpPr>
          <a:xfrm>
            <a:off x="1700280" y="2030400"/>
            <a:ext cx="6748560" cy="2273400"/>
            <a:chOff x="1700280" y="2030400"/>
            <a:chExt cx="6748560" cy="2273400"/>
          </a:xfrm>
        </p:grpSpPr>
        <p:pic>
          <p:nvPicPr>
            <p:cNvPr id="399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700280" y="2030400"/>
              <a:ext cx="674856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763640" y="2060640"/>
              <a:ext cx="662472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Д.З. § 29, конспект. Термины, вопросы для самопроверки,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        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зад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1"/>
          <p:cNvSpPr/>
          <p:nvPr/>
        </p:nvSpPr>
        <p:spPr>
          <a:xfrm>
            <a:off x="1187280" y="260280"/>
            <a:ext cx="7705800" cy="32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2"/>
          <p:cNvSpPr/>
          <p:nvPr/>
        </p:nvSpPr>
        <p:spPr>
          <a:xfrm>
            <a:off x="1908000" y="4149720"/>
            <a:ext cx="6120000" cy="19432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Признаки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187280" y="917640"/>
            <a:ext cx="7705800" cy="25826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Скругленный прямоугольник 1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оциальность – регулирует общественные отношения, действует в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2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3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сходит от государства и поддерживается его принудительной си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кругленный прямоугольник 4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меет формальное выражение – устанавливается государством в нормативных а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5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лужит для регулирования общественных отношений, носит системны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Скругленный прямоугольник 1"/>
          <p:cNvSpPr/>
          <p:nvPr/>
        </p:nvSpPr>
        <p:spPr>
          <a:xfrm>
            <a:off x="1979640" y="62064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Функции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2"/>
          <p:cNvSpPr/>
          <p:nvPr/>
        </p:nvSpPr>
        <p:spPr>
          <a:xfrm>
            <a:off x="1979640" y="907920"/>
            <a:ext cx="6264360" cy="36734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Воспита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3"/>
          <p:cNvSpPr/>
          <p:nvPr/>
        </p:nvSpPr>
        <p:spPr>
          <a:xfrm>
            <a:off x="1979640" y="119700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Социального контр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4"/>
          <p:cNvSpPr/>
          <p:nvPr/>
        </p:nvSpPr>
        <p:spPr>
          <a:xfrm>
            <a:off x="1979640" y="1484280"/>
            <a:ext cx="6264360" cy="36734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Регуля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5"/>
          <p:cNvSpPr/>
          <p:nvPr/>
        </p:nvSpPr>
        <p:spPr>
          <a:xfrm>
            <a:off x="1979640" y="184464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Охрани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1835280" y="44280"/>
            <a:ext cx="6121440" cy="720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Теории возникновения прав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042920" y="907920"/>
          <a:ext cx="8101080" cy="7351920"/>
        </p:xfrm>
        <a:graphic>
          <a:graphicData uri="http://schemas.openxmlformats.org/drawingml/2006/table">
            <a:tbl>
              <a:tblPr/>
              <a:tblGrid>
                <a:gridCol w="2422440"/>
                <a:gridCol w="567864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коны существуют вечно, ибо являются божественным дар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стественного пра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еловек от рождения и природы обладает неотъемлемыми естественными правами, которые нельзя отменит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сих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есть результат человеческих переживаний. Законы государства зависят от психологии люде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ормативист-ск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исходит от государства,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торое диктует людям модель поведе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зитивист-ск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порождено противоречиями в жизни, военными конфликтами, в результате которых победу одерживает сильнейш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1"/>
          <p:cNvSpPr/>
          <p:nvPr/>
        </p:nvSpPr>
        <p:spPr>
          <a:xfrm>
            <a:off x="2050920" y="333360"/>
            <a:ext cx="5185080" cy="9144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рактическое значение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Прямая со стрелкой 4" descr=""/>
          <p:cNvPicPr/>
          <p:nvPr/>
        </p:nvPicPr>
        <p:blipFill>
          <a:blip r:embed="rId1"/>
          <a:stretch/>
        </p:blipFill>
        <p:spPr>
          <a:xfrm>
            <a:off x="3017880" y="1182600"/>
            <a:ext cx="1712880" cy="117000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ая со стрелкой 6" descr=""/>
          <p:cNvPicPr/>
          <p:nvPr/>
        </p:nvPicPr>
        <p:blipFill>
          <a:blip r:embed="rId2"/>
          <a:stretch/>
        </p:blipFill>
        <p:spPr>
          <a:xfrm>
            <a:off x="4559400" y="1189080"/>
            <a:ext cx="1573200" cy="1163520"/>
          </a:xfrm>
          <a:prstGeom prst="rect">
            <a:avLst/>
          </a:prstGeom>
          <a:ln w="0">
            <a:noFill/>
          </a:ln>
        </p:spPr>
      </p:pic>
      <p:sp>
        <p:nvSpPr>
          <p:cNvPr id="352" name="Параллелограмм 7"/>
          <p:cNvSpPr/>
          <p:nvPr/>
        </p:nvSpPr>
        <p:spPr>
          <a:xfrm>
            <a:off x="1116000" y="2492280"/>
            <a:ext cx="3384720" cy="3529080"/>
          </a:xfrm>
          <a:prstGeom prst="parallelogram">
            <a:avLst>
              <a:gd name="adj" fmla="val 25000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Защит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араллелограмм 8"/>
          <p:cNvSpPr/>
          <p:nvPr/>
        </p:nvSpPr>
        <p:spPr>
          <a:xfrm>
            <a:off x="4932360" y="2421000"/>
            <a:ext cx="3600360" cy="3744720"/>
          </a:xfrm>
          <a:prstGeom prst="parallelogram">
            <a:avLst>
              <a:gd name="adj" fmla="val 25000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Провозглашение правового положения человека в обществ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1"/>
          <p:cNvSpPr/>
          <p:nvPr/>
        </p:nvSpPr>
        <p:spPr>
          <a:xfrm>
            <a:off x="1547640" y="115920"/>
            <a:ext cx="6769440" cy="2952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Норма права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2"/>
          <p:cNvSpPr/>
          <p:nvPr/>
        </p:nvSpPr>
        <p:spPr>
          <a:xfrm>
            <a:off x="1547640" y="3500280"/>
            <a:ext cx="6769440" cy="29530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Виды правовых нор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3"/>
          <p:cNvSpPr/>
          <p:nvPr/>
        </p:nvSpPr>
        <p:spPr>
          <a:xfrm>
            <a:off x="1547640" y="549360"/>
            <a:ext cx="6769440" cy="267156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4"/>
          <p:cNvSpPr/>
          <p:nvPr/>
        </p:nvSpPr>
        <p:spPr>
          <a:xfrm>
            <a:off x="1547640" y="4221000"/>
            <a:ext cx="6769440" cy="2384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Скругленный прямоугольник 1"/>
          <p:cNvSpPr/>
          <p:nvPr/>
        </p:nvSpPr>
        <p:spPr>
          <a:xfrm>
            <a:off x="1476360" y="189000"/>
            <a:ext cx="7272360" cy="1655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остав нормы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2"/>
          <p:cNvSpPr/>
          <p:nvPr/>
        </p:nvSpPr>
        <p:spPr>
          <a:xfrm>
            <a:off x="1187280" y="2421000"/>
            <a:ext cx="223236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Гипотез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предположе-ние) – описывает условия выполнения правила. «есл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3"/>
          <p:cNvSpPr/>
          <p:nvPr/>
        </p:nvSpPr>
        <p:spPr>
          <a:xfrm>
            <a:off x="3924360" y="2421000"/>
            <a:ext cx="237636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Диспози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распоряже-ние) – описывает само правило поведения. «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4"/>
          <p:cNvSpPr/>
          <p:nvPr/>
        </p:nvSpPr>
        <p:spPr>
          <a:xfrm>
            <a:off x="6732720" y="2421000"/>
            <a:ext cx="223200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Санк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взыскание) предусматривает последствия неисполнения нормы. «инач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1547640" y="71280"/>
            <a:ext cx="7201080" cy="2421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Закон –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"/>
          <p:cNvSpPr/>
          <p:nvPr/>
        </p:nvSpPr>
        <p:spPr>
          <a:xfrm>
            <a:off x="2268360" y="2637000"/>
            <a:ext cx="5543640" cy="2016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иды закон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4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сновные (Конституция РФ, конституции республик в составе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5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едеральные конституционные (закон о гербе, о флаге, о референдуме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6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7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8"/>
          <p:cNvSpPr/>
          <p:nvPr/>
        </p:nvSpPr>
        <p:spPr>
          <a:xfrm>
            <a:off x="2268360" y="3429000"/>
            <a:ext cx="5543640" cy="2449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Конституция РФ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– основной закон РФ! (принята 12 декабря 1993 г. путём референду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9"/>
          <p:cNvSpPr/>
          <p:nvPr/>
        </p:nvSpPr>
        <p:spPr>
          <a:xfrm>
            <a:off x="1547640" y="549360"/>
            <a:ext cx="7201080" cy="20955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6:19:30Z</dcterms:created>
  <dc:creator>Пользователь</dc:creator>
  <dc:description/>
  <dc:language>en-US</dc:language>
  <cp:lastModifiedBy>LEGION</cp:lastModifiedBy>
  <dcterms:modified xsi:type="dcterms:W3CDTF">2016-01-04T08:10:58Z</dcterms:modified>
  <cp:revision>24</cp:revision>
  <dc:subject/>
  <dc:title>Тема: Роль права в жизни человека, общества, государства § 29</dc:title>
</cp:coreProperties>
</file>