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082D-537E-4223-A2A1-4A37CD98ED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378F-7AB7-4BAC-B10D-E4FA3C40B1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экзистенц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D2BB-05C4-4E86-8D2D-C0F402047A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DAF5-4638-420D-B643-851A2B7A19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природы –  «Порча быт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– это активность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природа – пассивность, предметность, матери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объектов лиш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убин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сущей Дух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есть «ноумен», «вещь в себ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а же – лишь «феномен», явл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начально бытие было чисто духовной реальностью, но в этом первичном бытии произош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порч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дение: Дух стал отчуждённым от самого себ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шибочно полагать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ъектив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меет место лишь в познавательной сфере; она происходит в самом бытии: объективация – это лишь гносеологическая категория для обозначен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адше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ыти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C5F4-E1B3-4A7F-8560-21B6814707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11B1-3685-4909-A9FB-296303B139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обода и детермин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4131-C591-43FB-89D1-CF72720BED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40A1-8612-4C40-8E93-B97B694C11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сотворённом мире, и особенно в душе человека, происходи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рьба между Богом и свободо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ф о грехопадении свидетельствует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ссилии Творца предотвратить зло, исходящее из свободы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ой Он не сотвори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торично действ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отношении мира и человека, но он нисходит в мир уже не как Творец, а ка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паситель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Божественное самораспятие должно победить меоническую свободу просветлением её изнутри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з насилия над ней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рагическая теодице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 даёт никаких гарантий победы Бога над иррациональной свободой, но одушевляется верой в эту победу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2859-BC0D-436F-AFFF-01F308AEA0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зак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закона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изшая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хотя и необходимая ступень морального созн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, по преимуществу,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отрицательная этика»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остоящая из кодексов запретов – заповедей, табу, вет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з этих запретов человек рискует вернуться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животное состояни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этика закона как бы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роходит мимо личн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создаёт фарисейскую психологию «законничества», вырождающуюся нередко в лицемерие и ханжество и порождающую «фанатизм добра» с типичным для него садистским комплексо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(«кошмар злого добра»)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0919-2A1D-4FA1-9E9C-2281FFA903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искуп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искупления – благодатная этик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сепрощения, любви и сострадания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она легко вырождается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трансцендентный эгоизм» –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сключительную заботу о спасении собственной души, что может породить религиозный мазохизм и засушить корень любви к ближне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264F-622D-43E1-AA81-A42B37156D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тоит как бы вне этики закона и вне этики искупления и предполагает иную этик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ец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правдываетс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ои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тра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казания и страх вечных мук не может играт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никакой рол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этике твор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лимация, или преображение страстей, означа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свобожд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трасти от похоти и утверждение в ней свободной творческой стих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ворец всегд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скорыстен: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н забывает о себе и любит своё творение, как Бог любит ми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творчестве человек становитс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вободным соучастником миротвор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«меньшим братом Божиим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64B6-DA52-48A4-A386-53968380BB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BFB4-98EC-4410-AA9A-027162FF4A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экзистенциал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1866-193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7A83-C33D-4FFF-BFDF-2BEC61D228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29E9-AD6C-493D-B6C2-D594B54924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6A3C-9E33-4923-83BA-68412ACF15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DC0E-57DE-42BA-BAAD-74E7881203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EFBF-69A8-4175-9CE1-01E596AC5C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асение может быть лиш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обор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 есть имен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изоляц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от други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гедия ада заключается не в том, что Бог не может простить грешнику его грехи, но в том, ч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ам грешник не может простить их 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 не есть внешняя сфера, где мучаются грешники, а есть имен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абсолютное одиночество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где голос совести, заглушённый при жизни, жжёт грешника страшным неугасимым огнём самоосужд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22DD-8966-486F-B2F5-AE43840D48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8986-FF17-444D-96D9-0B59D2DF0B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Кризис 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истоки современного кризиса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отпадении человечества от христианства и гуманизм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Христианство дало человечеству благую весть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арстве Божие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гуманизм впервые осознал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вободу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еловека и ценность этой своб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современное человечество отвернулось и от Царствия Божия ради мечты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царстве человеческо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от свободы, предпочитая ей мечту 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ытом довольств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рганической культуры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человечество стало создавать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еханическую цивилизацию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ая устремлённость которой антирелигиозна и антиперсоналистична. Вместо образа и подобия Божия человек становится образом и подобием бездушной маши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Цивилизация развил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огромные технические силы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е по замыслу должны были уготовить господство человека над природой, н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эти силы властвуют над самим человеком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елают его рабом, убивают его душ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6150-2606-45DA-8B50-691D3992B1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Новое средневековь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днак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ания свободы в отрыве от Бог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иалектически приводит 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худшим формам рабств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а гуманизм, будучи оторван от его религиозного первоисточника, –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 дегуманизации и бестиализации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условиях относительного благоденствия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человеческий дух засыпает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амодовольная личность деперсонализируется, и в результате буржуазная культура, будучи не в состоянии выдержать натиска «нового варварства», оказывается лишь переходной формой от чистого гуманизма к «новому средневековью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 «новое средневековье» гораздо хуже прежнего, ибо тогда христианская идея предохраняла личность от разложения. Теперь же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 монаха и рыцаря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ступает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у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оргаша и шофёра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 тем, чтобы, в свою очередь, уступить место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ипу комиссара и чекист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тиранящего народ во имя народной воли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E1A3-FB74-49D0-87CD-1474AFA310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ммунизм есть Немезида капитализма и порождён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материалистическим духом капитализм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льшевизм силён своей критикой лжи буржуазной культуры, но не в силах создать своей положительной культуры, ибо он сам заражён материализмом, порождённым буржуазией;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льшевизм силён своим разрушением, а не творчеством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1D1D-CC99-47F7-A5DE-798BAC76C4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E8C7-3D90-45FE-B246-F2E87C9EB9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. Шестов (1866-193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562A-9BA9-4A0C-973F-C5230F5ABF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562E-78EC-4DE3-B478-211BB20EC4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абсу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7F80-87E7-4E36-A541-15EE69CE3F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абсу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тика абсур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диционная философия стремится стать «наукой», но человеку нужна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«не истинная, а лучшая философия»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этому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эллинской мудрост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до противопоставить иерусалимскую жажду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живого Бога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дь невозможное для человека возможно для Бога: Бог может изменить даже прошлое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нимание, не соблазняющееся жаждой универсального понимания, не желающее становиться «знанием», есть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ера – «второе измерение мышлен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Истины» разума требуют слепого повиновения своей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езличной необходимости;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ера предполагает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личную свободу и отвагу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43B4-A9F7-4FB4-A0EB-1881BD1668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1B47-988C-447A-9B95-19221355AD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А. Бердяев (1874-19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D666-2F9B-416A-8163-FF1079AFBC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тво и объектив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природы; «порча бытия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детерми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, этика искупления, этика твор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одоление морал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общее спас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зис куль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ое средневековь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ьба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075A-524B-4AD3-979E-EB23A8C112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ход из антиномии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еличия и ничтожества человека –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обожении человека и очеловечивании Бога, в Богочеловече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еловеческое творчество должно стать как бы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родолжением миротвор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ибо, творя, человек уподобляется Богу-Творц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диционное богословие чересчур унижало человека, чересчур сосредоточивалось на учении о человеке как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рабе Божие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мало замечало другую сторону христианского учения –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богоподобие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асение человека от греха есть только предварительная цель; конечная цель заключается не в спасении, а в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творчестве.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E4D3-D2F9-4BD5-8894-0B98E58D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178F-24D5-4D8A-AEEB-57F8AC1B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6CF-BD5D-401E-B5FC-864CCC49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E204-0988-4D90-BBA6-9157D6FA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905-6974-4947-92E5-3A28841A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C3E4-A893-4336-8078-553150C3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7DD3-F048-41C3-A664-8BC67B9F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359-81C3-4982-BAFC-026EBA2C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66B-F59F-48DC-B2CD-DB70CF80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DF70-C780-4045-9A3B-1FF3F057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B305-7816-4BA3-AE8D-3F2CFB24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1C0-26C0-478E-86EC-9393D92E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E0AB-48D7-4D68-A958-A2DA0872AF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680" y="2571480"/>
            <a:ext cx="82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усский экзистенциал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 rot="10800000">
            <a:off x="358920" y="2338560"/>
            <a:ext cx="431784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ворчество долж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правды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, наоборо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 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авдывать жизн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 rot="10800000">
            <a:off x="4497480" y="2338560"/>
            <a:ext cx="431784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кий ак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цен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нающая над соб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шнего суда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ульт свят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ен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полнен культ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ниаль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природы –  «Порча бытия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104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– это активность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природа – пассивность, предметность, материа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 объектов лиш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убин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исущей Дух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 есть «ноумен», «вещь в себ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а же – лишь «феномен», явлени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начально бытие было чисто духовной реальностью, но в этом первичном бытии произош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порч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адение: Дух стал отчуждённым от самого себ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шибочно полагать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бъектива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меет место лишь в познавательной сфере; она происходит в самом бытии: объективация – это лишь гносеологическая категория для обозначен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адше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ыти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3116160" y="49831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2036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957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611280" y="16192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арство духа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ваться лишь интуитивн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стическим опы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1690560" y="2878200"/>
            <a:ext cx="467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природы, «мира объектов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гда нос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й характ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2770200" y="413856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езультате объектив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тождествляем реальность с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а самом дел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торич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бъективирован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3849840" y="53974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еальности же первичн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ъективированн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рациональн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напроти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мневаем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15"/>
          <p:cNvSpPr/>
          <p:nvPr/>
        </p:nvSpPr>
        <p:spPr>
          <a:xfrm flipV="1">
            <a:off x="671040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3"/>
          <p:cNvSpPr/>
          <p:nvPr/>
        </p:nvSpPr>
        <p:spPr>
          <a:xfrm flipV="1">
            <a:off x="436392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4"/>
          <p:cNvSpPr/>
          <p:nvPr/>
        </p:nvSpPr>
        <p:spPr>
          <a:xfrm flipV="1">
            <a:off x="2050920" y="4497480"/>
            <a:ext cx="414360" cy="35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2"/>
          <p:cNvSpPr/>
          <p:nvPr/>
        </p:nvSpPr>
        <p:spPr>
          <a:xfrm flipV="1">
            <a:off x="4363920" y="3056760"/>
            <a:ext cx="414360" cy="358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обода и детермин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1690560" y="3417840"/>
            <a:ext cx="5757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го изначальная свобо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тупает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31640" y="4857840"/>
            <a:ext cx="251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природ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терминаци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6189840" y="4857840"/>
            <a:ext cx="251928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Бо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3309840" y="4857840"/>
            <a:ext cx="251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 обществ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емящим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чинить ли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вторим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му стандар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2409840" y="1978200"/>
            <a:ext cx="4317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сотворён дл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/>
          <p:cNvSpPr/>
          <p:nvPr/>
        </p:nvSpPr>
        <p:spPr>
          <a:xfrm>
            <a:off x="307980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2000160" y="372420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92088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574560" y="1619280"/>
            <a:ext cx="4749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начальная (иррациональная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а не сотворена Бог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предвечно укоренена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54200" y="2878200"/>
            <a:ext cx="474984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 дуализмом экзистенциаль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ъекта и мира объектив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о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ее глубокий дуализ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а-Творца и несотворённой своб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2733840" y="4138560"/>
            <a:ext cx="4749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поэтому есть н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дитя Божие», но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тя своб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бытия, «меона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3814920" y="5397480"/>
            <a:ext cx="47494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м объясняется непреодолим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ечение ко злу, иррацион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ывы к разруш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бод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отворённом мире, и особенно в душе человека, происходи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рьба между Богом и свободо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ф о грехопадении свидетельствует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ссилии Творца предотвратить зло, исходящее из свобод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ой Он не сотвори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торично действу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 отношении мира и человека, но он нисходит в мир уже не как Творец, а ка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паситель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Божественное самораспятие должно победить меоническую свободу просветлением её изнутри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з насилия над ней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рагическая теодице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е даёт никаких гарантий победы Бога над иррациональной свободой, но одушевляется верой в эту победу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зак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зшая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хотя и необходимая ступень морального созн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, по преимуществу,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отрицательная этика»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остоящая из кодексов запретов – заповедей, табу, вет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з этих запретов человек рискует вернуться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животное состояни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этика закона как бы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ходит мимо личн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создаёт фарисейскую психологию «законничества», вырождающуюся нередко в лицемерие и ханжество и порождающую «фанатизм добра» с типичным для него садистским комплексом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(«кошмар злого добра»)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искуп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60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искупления – благодатная этик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сепрощения, любви и сострадан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она легко вырождается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трансцендентный эгоизм»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сключительную заботу о спасении собственной души, что может породить религиозный мазохизм и засушить корень любви к ближне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оит как бы вне этики закона и вне этики искупления и предполагает иную эт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ец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правдывае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воим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трах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казания и страх вечных мук не может игра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никакой рол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 этике твор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блимация, или преображение страстей, означа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свобождени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трасти от похоти и утверждение в ней свободной творческой стих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ец всегд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скорыстен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н забывает о себе и любит своё творение, как Бог любит ми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творчестве человек становитс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ным соучастником миротвор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«меньшим братом Божии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, что возник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е между добром и зл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рошо пров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различ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 оно возникло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 проходи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ерез опыт з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рошо распо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 и з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 этого опы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экзистенциал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78200" y="1798200"/>
            <a:ext cx="3059280" cy="9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66-193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698920" y="5576760"/>
            <a:ext cx="2627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Бердяе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4-194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Шестов (1-2)"/>
          <p:cNvPicPr/>
          <p:nvPr/>
        </p:nvPicPr>
        <p:blipFill>
          <a:blip r:embed="rId1"/>
          <a:stretch/>
        </p:blipFill>
        <p:spPr>
          <a:xfrm>
            <a:off x="898560" y="1798560"/>
            <a:ext cx="2440080" cy="30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9" descr="Бердяев (2-1)"/>
          <p:cNvPicPr/>
          <p:nvPr/>
        </p:nvPicPr>
        <p:blipFill>
          <a:blip r:embed="rId2"/>
          <a:stretch/>
        </p:blipFill>
        <p:spPr>
          <a:xfrm>
            <a:off x="5649840" y="3309840"/>
            <a:ext cx="2749680" cy="30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одоление морализм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идёт от первоначаль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различения добра 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рез рез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ение добра 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окончатель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различению добра и зл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огащённ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 опытом различе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0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/>
          <p:cNvSpPr/>
          <p:nvPr/>
        </p:nvSpPr>
        <p:spPr>
          <a:xfrm>
            <a:off x="3076560" y="4371840"/>
            <a:ext cx="880920" cy="145764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640"/>
              <a:gd name="textAreaBottom" fmla="*/ 1056960 h 14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45728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19280" y="1943280"/>
            <a:ext cx="4317840" cy="125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раль высшего доб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все не означ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различия к добру и зл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значает терпимости ко з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2338560" y="3417840"/>
            <a:ext cx="431784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требует больш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меньшего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стреми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просветлен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освобождению з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3957480" y="4894200"/>
            <a:ext cx="431820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асение невозможно, е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ь одна душа мучается в ад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то не может быть спасё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золированности от друг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Бердяев (6-5_transp)"/>
          <p:cNvPicPr/>
          <p:nvPr/>
        </p:nvPicPr>
        <p:blipFill>
          <a:blip r:embed="rId1"/>
          <a:stretch/>
        </p:blipFill>
        <p:spPr>
          <a:xfrm>
            <a:off x="7197840" y="1619280"/>
            <a:ext cx="1493640" cy="19810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Novelli 1 Cain and Abel - compr"/>
          <p:cNvPicPr/>
          <p:nvPr/>
        </p:nvPicPr>
        <p:blipFill>
          <a:blip r:embed="rId1"/>
          <a:stretch/>
        </p:blipFill>
        <p:spPr>
          <a:xfrm>
            <a:off x="5397480" y="1978200"/>
            <a:ext cx="322884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4" name="Text Box 5"/>
          <p:cNvSpPr/>
          <p:nvPr/>
        </p:nvSpPr>
        <p:spPr>
          <a:xfrm>
            <a:off x="537120" y="1978200"/>
            <a:ext cx="395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равственное сознани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алось с Божьего вопро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 rot="10800000">
            <a:off x="719280" y="3238200"/>
            <a:ext cx="359856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ин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де брат тв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вель?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Bouguereau W, Les Remords d’Oreste [ARC] - compr"/>
          <p:cNvPicPr/>
          <p:nvPr/>
        </p:nvPicPr>
        <p:blipFill>
          <a:blip r:embed="rId1"/>
          <a:stretch/>
        </p:blipFill>
        <p:spPr>
          <a:xfrm>
            <a:off x="4678200" y="2338560"/>
            <a:ext cx="3959280" cy="3489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9" name="Text Box 5"/>
          <p:cNvSpPr/>
          <p:nvPr/>
        </p:nvSpPr>
        <p:spPr>
          <a:xfrm>
            <a:off x="715680" y="197820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о кончится вопросом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 rot="10800000">
            <a:off x="539280" y="3238200"/>
            <a:ext cx="359892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вель,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где брат твой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аин?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4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асение может быть лиш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обор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 есть имен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изоляц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т друг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гедия ада заключается не в том, что Бог не может простить грешнику его грехи, но в том, ч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ам грешник не может простить их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 не есть внешняя сфера, где мучаются грешники, а есть имен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абсолютное одиночество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де голос совести, заглушённый при жизни, жжёт грешника страшным неугасимым огнём самоосуж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сеобщее спас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 rot="10800000">
            <a:off x="358920" y="1798200"/>
            <a:ext cx="593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ада должна быть соверш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обождена от всех ассоциаций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язанных 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енесением на не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ов уголовного прав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д, как  субъективная сфе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погружение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ё собственную ть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ый результа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еховного суще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овс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трансцендентн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казание за гре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д и есть не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йти к трансцендент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погружённость в имманент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Кризис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истоки современного кризиса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 отпадении человечества от христианства и гуманизм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ристианство дало человечеству благую весть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арстве Божие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уманизм впервые осознал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вобод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ловека и ценность этой своб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 современное человечество отвернулось и от Царствия Божия ради мечты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царстве человеческо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от свободы, предпочитая ей мечту 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сытом довольств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рганической куль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ловечество стало создавать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еханическую цивилизацию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ая устремлённость которой антирелигиозна и антиперсоналистична. Вместо образа и подобия Божия человек становится образом и подобием бездушной маш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ивилизация развил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огромные технические силы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которые по замыслу должны были уготовить господство человека над природой, н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ти силы властвуют над самим человеком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елают его рабом, убивают его душ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вое средневековь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ак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ания свободы в отрыве от Бог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диалектически приводит 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худшим формам рабств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а гуманизм, будучи оторван от его религиозного первоисточника, –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дегуманизации и бестиализации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условиях относительного благоденствия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человеческий дух засыпает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амодовольная личность деперсонализируется, и в результате буржуазная культура, будучи не в состоянии выдержать натиска «нового варварства», оказывается лишь переходной формой от чистого гуманизма к «новому средневековь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«новое средневековье» гораздо хуже прежнего, ибо тогда христианская идея предохраняла личность от разложения. Теперь же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 монаха и рыцаря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тупает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оргаша и шофёр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 тем, чтобы, в свою очередь, уступить место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ипу комиссара и чекиста,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тиранящего народ во имя народной воли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960200"/>
            <a:ext cx="82310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мунизм есть Немезида капитализма и порождён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материалистическим духом капитализм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льшевизм силён своей критикой лжи буржуазной культуры, но не в силах создать своей положительной культуры, ибо он сам заражён материализмом, порождённым буржуазией;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льшевизм силён своим разрушением, а не творчеством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илософия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дьба Росс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 rot="10800000">
            <a:off x="431280" y="1869840"/>
            <a:ext cx="575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ий народ не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дать среди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уманистического цар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хочет правов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в европейс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этого слова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хочет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арства Божь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ратства во Христе, 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варищества в Антихрис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арства князя мира сег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Бердяев (6-5_transp)"/>
          <p:cNvPicPr/>
          <p:nvPr/>
        </p:nvPicPr>
        <p:blipFill>
          <a:blip r:embed="rId1"/>
          <a:stretch/>
        </p:blipFill>
        <p:spPr>
          <a:xfrm>
            <a:off x="6908760" y="1870200"/>
            <a:ext cx="149400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Шестов (1866-193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42920" y="2698920"/>
            <a:ext cx="575784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бро в учении гр. Толстого и Ф. Ницше (Философия и проповедь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стоевский и Ницше (Философия трагедии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пофеоз беспочвенности (Опыт адогматического мышления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асть ключ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весах Иова (Странствования по душам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фины и Иерусали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8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ркегард и экзистенциальная философ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публ. 1939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Шестов (2-2 - Григорьев)"/>
          <p:cNvPicPr/>
          <p:nvPr/>
        </p:nvPicPr>
        <p:blipFill>
          <a:blip r:embed="rId1"/>
          <a:stretch/>
        </p:blipFill>
        <p:spPr>
          <a:xfrm>
            <a:off x="6045120" y="1798560"/>
            <a:ext cx="27813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Text Box 6"/>
          <p:cNvSpPr/>
          <p:nvPr/>
        </p:nvSpPr>
        <p:spPr>
          <a:xfrm>
            <a:off x="1079640" y="183528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0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2"/>
          <p:cNvSpPr/>
          <p:nvPr/>
        </p:nvSpPr>
        <p:spPr>
          <a:xfrm>
            <a:off x="3116160" y="49831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"/>
          <p:cNvSpPr/>
          <p:nvPr/>
        </p:nvSpPr>
        <p:spPr>
          <a:xfrm>
            <a:off x="2036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957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611280" y="16192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– величайш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раг истин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Истины» разум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абощ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освобождают мыс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1690560" y="2878200"/>
            <a:ext cx="46785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звучит абсурд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мире абсурд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урдность 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р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казатель истин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знак недомыслия и забл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2770200" y="413856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ные методы разум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я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 противоречия и зак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аточного основа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в 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ности или целесообразн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3849840" y="5397480"/>
            <a:ext cx="4678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я из них разум стрем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ить всё совершающее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необходим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 самы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авдыва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я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Шестов (2-2 - Григорьев) red"/>
          <p:cNvPicPr/>
          <p:nvPr/>
        </p:nvPicPr>
        <p:blipFill>
          <a:blip r:embed="rId1"/>
          <a:stretch/>
        </p:blipFill>
        <p:spPr>
          <a:xfrm>
            <a:off x="7305840" y="1619280"/>
            <a:ext cx="1209600" cy="21621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2"/>
          <p:cNvSpPr/>
          <p:nvPr/>
        </p:nvSpPr>
        <p:spPr>
          <a:xfrm>
            <a:off x="2355840" y="4479840"/>
            <a:ext cx="880920" cy="1528920"/>
          </a:xfrm>
          <a:custGeom>
            <a:avLst/>
            <a:gdLst>
              <a:gd name="textAreaLeft" fmla="*/ 117720 w 880920"/>
              <a:gd name="textAreaRight" fmla="*/ 763200 w 880920"/>
              <a:gd name="textAreaTop" fmla="*/ 267480 h 1528920"/>
              <a:gd name="textAreaBottom" fmla="*/ 1108440 h 15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"/>
          <p:cNvSpPr/>
          <p:nvPr/>
        </p:nvSpPr>
        <p:spPr>
          <a:xfrm>
            <a:off x="1096920" y="2824200"/>
            <a:ext cx="881280" cy="1528560"/>
          </a:xfrm>
          <a:custGeom>
            <a:avLst/>
            <a:gdLst>
              <a:gd name="textAreaLeft" fmla="*/ 118080 w 881280"/>
              <a:gd name="textAreaRight" fmla="*/ 763200 w 881280"/>
              <a:gd name="textAreaTop" fmla="*/ 267480 h 1528560"/>
              <a:gd name="textAreaBottom" fmla="*/ 1108440 h 152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тология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719280" y="1654200"/>
            <a:ext cx="521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 создаёт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иемлемую картину мира: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временн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у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знравствен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1978200" y="3309840"/>
            <a:ext cx="521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наш ми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 зле лежит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праведливость и зл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ют в нё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 справедливостью и добром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3238560" y="4965840"/>
            <a:ext cx="521820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ейшее есть нечто, прям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положное миру ноуменальных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– бытие как бездонное, тайное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лыханное, неожиданное, обитающе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диничном, случайном, временном, н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ятом в расчёт sub speciae aeternitat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Шестов (2-2 - Григорьев) red"/>
          <p:cNvPicPr/>
          <p:nvPr/>
        </p:nvPicPr>
        <p:blipFill>
          <a:blip r:embed="rId1"/>
          <a:stretch/>
        </p:blipFill>
        <p:spPr>
          <a:xfrm>
            <a:off x="7305840" y="1619280"/>
            <a:ext cx="1209600" cy="21621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Шестов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ка абсур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диционная философия стремится стать «наукой», но человеку нужна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«не истинная, а лучшая философия»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этому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эллинской мудрост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надо противопоставить иерусалимскую жажду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живого Бога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дь невозможное для человека возможно для Бога: Бог может изменить даже прошлое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нимание, не соблазняющееся жаждой универсального понимания, не желающее становиться «знанием», есть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ра – «второе измерение мышлени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стины» разума требуют слепого повиновения своей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езличной необходимости;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вера предполагает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личную свободу и отвагу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878200" y="2698920"/>
            <a:ext cx="61182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свобод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: Опыт оправдания челове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6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назначении человека: Опыт парадоксальной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 и мир объектов: Философия и одиночества и общ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34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рабстве и свободе человека: Опыт персоналистической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3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ая идея: Основные проблемы русской мысл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ки и смысл русского коммунизм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55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Бердяев (6-5)"/>
          <p:cNvPicPr/>
          <p:nvPr/>
        </p:nvPicPr>
        <p:blipFill>
          <a:blip r:embed="rId1"/>
          <a:stretch/>
        </p:blipFill>
        <p:spPr>
          <a:xfrm>
            <a:off x="466560" y="1798560"/>
            <a:ext cx="21592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4210200" y="1835280"/>
            <a:ext cx="359856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 Бердяев (1874-194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458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ворчество и объектив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природы; «порча бытия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знание духа и познание прир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воб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детерми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обода и Ни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 и свобода (трагическая теодице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ик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закона, этика искупления, этика творч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одоление морал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общее спас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зис куль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вое средневековь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дьба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ворчество и объективац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ысл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ход из антиномии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еличия и ничтожества человека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божении человека и очеловечивании Бога, в Богочеловече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ловеческое творчество должно стать как бы 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одолжением миротвор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ибо, творя, человек уподобляется Богу-Творц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диционное богословие чересчур унижало человека, чересчур сосредоточивалось на учении о человеке как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рабе Божие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мало замечало другую сторону христианского учения 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богоподобие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пасение человека от греха есть только предварительная цель; конечная цель заключается не в спасении, а в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творчестве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18:20:26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0:15:48Z</dcterms:modified>
  <cp:revision>33</cp:revision>
  <dc:subject>История русской философии - Лекция 11</dc:subject>
  <dc:title>Русский экзистенциализм</dc:title>
</cp:coreProperties>
</file>