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1076-5411-4EBD-8275-A3FC65ACB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A23F-5AB8-4DFA-BAAA-3610784A5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3728-CFEE-407B-8715-7BDCC917D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51F-101F-434E-88EC-EC2BEA437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2FC-294E-490D-A8FD-F301BF06C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F0F4-F42C-452D-8394-72DCAF85E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1B9-1005-4C68-9556-458296733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AE00-0D21-4631-8A14-4B5974D2A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7F9-8CC1-412A-B92F-1F621B625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7E02-1ADA-4BE8-A0B5-D78009E5A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CFEF-1FB0-4327-866A-C68D9D096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EBED-262F-432E-89A0-152F84C4E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D2D5-54DE-48D7-83B1-871E454AB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4F84-40DA-4678-839F-1CA8F8C07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40BF-75D1-42CE-BA52-44BF7616C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1A1-7904-4A37-91A8-681DAFC3F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AF52-F7E4-42E3-8F04-98B8D931C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C788-5866-4059-B8B6-8EB879AEAE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562B-FB04-479C-823F-C3AB8A3C6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1D05-79C6-47F6-8001-6F42174C0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25ED-6EE6-41E5-856D-8764324675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BD41-247D-4904-A75A-D71E05C32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B2B3-EB14-4BBA-901A-7AFB0C172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28B-59B0-4A43-8917-0802113F9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0C8C-49B3-4114-B6EE-1C558CF2F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A79A-5A99-4237-9DD2-077F683E3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37CF-6E4E-4BF3-AC43-FFD3FF34F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5CC4-A9D1-4839-8214-0E238F00E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B0E-D550-4F86-85CA-20679A701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758-4D45-4753-AD49-CFAAA6C11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A99-D9A3-4C13-B170-EF170AA03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CE5-E74F-46E2-AE11-A98FC81A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46E-396F-4FE5-8123-68D03F72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3EB-0007-4479-B103-5D5DA01B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4D3-C139-4546-9412-DB0351CF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BEF-0430-452D-B0D3-F4F8E0EC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02A-35C7-41BC-817E-858A478C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B29-C5E3-4B33-9E3B-FF1E86C0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842-8AAB-4E2A-AD45-11E08142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008-BAD6-477B-A384-588289E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452-62CE-4A87-AB2A-7245591A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920-ACEE-4FA4-A88B-7963ECB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6ED-5A46-44BC-AD8B-BCEA2EC4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931-BF29-4EEF-8A9B-08E75421E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680" y="257148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35892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ворчество долж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правды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наоборо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ть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800000">
            <a:off x="449748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й ак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ц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щая над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д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льт свят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ен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полнен культ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о дух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ваться лишь интуитив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им опы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рироды, «мира объектов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да нос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зультате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ождествляем реальность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а самом дел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бъективиров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альности же первич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ъективирован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циональ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мне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5"/>
          <p:cNvSpPr/>
          <p:nvPr/>
        </p:nvSpPr>
        <p:spPr>
          <a:xfrm flipV="1">
            <a:off x="671040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V="1">
            <a:off x="4363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flipV="1">
            <a:off x="2050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flipV="1">
            <a:off x="4363920" y="3056760"/>
            <a:ext cx="414360" cy="35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90560" y="3417840"/>
            <a:ext cx="57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го изначальная своб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упает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природ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ерминац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189840" y="485784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Б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3098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обществ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м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ить ли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втор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му станд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409840" y="1978200"/>
            <a:ext cx="431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сотворён дл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79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000160" y="37242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920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74560" y="1619280"/>
            <a:ext cx="4749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начальная (иррациональная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а не сотворена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едвечно укоренен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54200" y="2878200"/>
            <a:ext cx="4749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дуализмом экзистенциа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а и мира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глубокий ду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а-Творца и несотворённой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733840" y="413856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этому есть н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дитя Божие», но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тя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бытия, «меон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814920" y="539748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объясняется непреодол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ечение ко злу, иррацион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ывы к разру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, что возник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е между добром и зл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про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различ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оно возникло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 прох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рез опыт з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рас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ого опы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820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98920" y="557676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Бердяе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4-19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Шестов (1-2)"/>
          <p:cNvPicPr/>
          <p:nvPr/>
        </p:nvPicPr>
        <p:blipFill>
          <a:blip r:embed="rId1"/>
          <a:stretch/>
        </p:blipFill>
        <p:spPr>
          <a:xfrm>
            <a:off x="898560" y="1798560"/>
            <a:ext cx="244008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9" descr="Бердяев (2-1)"/>
          <p:cNvPicPr/>
          <p:nvPr/>
        </p:nvPicPr>
        <p:blipFill>
          <a:blip r:embed="rId2"/>
          <a:stretch/>
        </p:blipFill>
        <p:spPr>
          <a:xfrm>
            <a:off x="5649840" y="3309840"/>
            <a:ext cx="274968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идёт от первонача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личения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ез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ение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окончатель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зличению добра и зл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гащён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опытом различ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076560" y="4371840"/>
            <a:ext cx="880920" cy="145764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640"/>
              <a:gd name="textAreaBottom" fmla="*/ 1056960 h 14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45728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19280" y="1943280"/>
            <a:ext cx="4317840" cy="12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раль высшего доб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ия к добру и з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значает терпимости ко з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338560" y="3417840"/>
            <a:ext cx="431784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требует больш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меньшего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стрем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просветле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освобождению з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57480" y="4894200"/>
            <a:ext cx="4318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асение невозможно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ь одна душа мучается в ад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то не может быть спасё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золированности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Novelli 1 Cain and Abel - compr"/>
          <p:cNvPicPr/>
          <p:nvPr/>
        </p:nvPicPr>
        <p:blipFill>
          <a:blip r:embed="rId1"/>
          <a:stretch/>
        </p:blipFill>
        <p:spPr>
          <a:xfrm>
            <a:off x="5397480" y="1978200"/>
            <a:ext cx="322884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7120" y="197820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е сознан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с Божьего вопро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0800000">
            <a:off x="719280" y="3238200"/>
            <a:ext cx="359856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uguereau W, Les Remords d’Oreste [ARC] - compr"/>
          <p:cNvPicPr/>
          <p:nvPr/>
        </p:nvPicPr>
        <p:blipFill>
          <a:blip r:embed="rId1"/>
          <a:stretch/>
        </p:blipFill>
        <p:spPr>
          <a:xfrm>
            <a:off x="4678200" y="2338560"/>
            <a:ext cx="3959280" cy="348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715680" y="19782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кончится вопрос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0800000">
            <a:off x="539280" y="3238200"/>
            <a:ext cx="359892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358920" y="1798200"/>
            <a:ext cx="593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ада должна быть соверш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а от всех ассоциаци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ых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несением на не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ов уголовного пра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, как  субъективная сф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гружение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ё собственную ть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ый результ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еховно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рансцендент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зание за гре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 и есть не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йти к трансцендент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погружённость в имманент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9602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ий народ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ть среди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уманистического цар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хочет право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в европейс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этого слова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хоче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ства Божь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атства во Христе,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варищества в Антихри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а князя мира се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2920" y="2698920"/>
            <a:ext cx="57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в учении гр. Толстого и Ф. Ницше (Философия и проповедь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евский и Ницше (Философия трагеди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феоз беспочвенности (Опыт адогматического мышления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сть ключ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есах Иова (Странствования по душам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фины и Иерусал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ркегард и экзистенциальная философ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Шестов (2-2 - Григорьев)"/>
          <p:cNvPicPr/>
          <p:nvPr/>
        </p:nvPicPr>
        <p:blipFill>
          <a:blip r:embed="rId1"/>
          <a:stretch/>
        </p:blipFill>
        <p:spPr>
          <a:xfrm>
            <a:off x="6045120" y="1798560"/>
            <a:ext cx="2781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07964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– величайш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аг истин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стины» разу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абощ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освобождают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звучит абсурд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мире абсур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урдность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ь исти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к недомыслия и забл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е методы разум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 противоречия и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точного основа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 или целесообраз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я из них разум стрем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всё соверш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еобходим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 сам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35584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09692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19280" y="165420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создаёт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иемлемую картину мира: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у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нравств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978200" y="330984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наш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 зле лежит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праведливость и зл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т в нё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справедливостью и добром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38560" y="4965840"/>
            <a:ext cx="521820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ейшее есть нечто, прям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ое миру ноуменальных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– бытие как бездонное, тайное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лыханное, неожиданное, обитающе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ичном, случайном, временном,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ом в расчёт sub speciae aeternita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78200" y="2698920"/>
            <a:ext cx="6118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своб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: Опыт оправдания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значении человека: Опыт парадоксальной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и мир объектов: Философия и одиночества и общ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бстве и свободе человека: Опыт персоналистиче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ая идея: Основные проблемы русской мыс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ки и смысл русского коммун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Бердяев (6-5)"/>
          <p:cNvPicPr/>
          <p:nvPr/>
        </p:nvPicPr>
        <p:blipFill>
          <a:blip r:embed="rId1"/>
          <a:stretch/>
        </p:blipFill>
        <p:spPr>
          <a:xfrm>
            <a:off x="466560" y="1798560"/>
            <a:ext cx="21592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020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8:20:26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5:48Z</dcterms:modified>
  <cp:revision>33</cp:revision>
  <dc:subject>История русской философии - Лекция 11</dc:subject>
  <dc:title>Русский экзистенциализм</dc:title>
</cp:coreProperties>
</file>