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65EC-3AB0-44A8-8063-75C1CF634B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F5AA-C654-491D-94E8-09B759201B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экзистенц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734C-375B-416C-8695-4D6C92A4E1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A5C3-2BAF-44C2-A526-76F0FCD830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природы –  «Порча быт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– это активность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природа – пассивность, предметность, матери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объектов лиш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убин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сущей Дух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есть «ноумен», «вещь в себ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а же – лишь «феномен», яв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начально бытие было чисто духовной реальностью, но в этом первичном бытии произош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порч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дение: Дух стал отчуждённым от самого себ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шибочно полагать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ъектив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меет место лишь в познавательной сфере; она происходит в самом бытии: объективация – это лишь гносеологическая категория для обозначен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адше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ыт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0A18-FF13-4BC6-812A-BC4318233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85DA-7B10-4C3E-995A-D76F82C6FC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обода и детерм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2D9A-0B42-42E1-A35D-2AD55B5CCA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41FF-A924-4125-B1CD-06E6777B96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сотворённом мире, и особенно в душе человека, происходи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рьба между Богом и свободо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ф о грехопадении свидетельствует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ссилии Творца предотвратить зло, исходящее из свободы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ой Он не сотвори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торично действ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отношении мира и человека, но он нисходит в мир уже не как Творец, а ка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паситель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Божественное самораспятие должно победить меоническую свободу просветлением её изнутри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з насилия над не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агическая теодице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 даёт никаких гарантий победы Бога над иррациональной свободой, но одушевляется верой в эту победу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400E-5643-4A13-8263-6A14005DF6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зак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закона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изша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хотя и необходимая ступень морального со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, по преимуществу,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отрицательная этика»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остоящая из кодексов запретов – заповедей, табу, вет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з этих запретов человек рискует вернуться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животное состояни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этика закона как бы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роходит мимо личн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создаёт фарисейскую психологию «законничества», вырождающуюся нередко в лицемерие и ханжество и порождающую «фанатизм добра» с типичным для него садистским комплексо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(«кошмар злого добра»)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1BE2-0C05-4329-8F64-A2E4646793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иску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искупления – благодатная этик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сепрощения, любви и сострадания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она легко вырождается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трансцендентный эгоизм» –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сключительную заботу о спасении собственной души, что может породить религиозный мазохизм и засушить корень любви к ближн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277D-D67D-4B86-A325-C948796DA1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тоит как бы вне этики закона и вне этики искупления и предполагает иную эти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ец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правдывае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ои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тра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казания и страх вечных мук не может играт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икакой рол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этике твор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лимация, или преображение страстей, означа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свобожд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трасти от похоти и утверждение в ней свободной творческой стих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ец всегд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скорыстен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 забывает о себе и любит своё творение, как Бог любит ми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творчестве человек становитс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вободным соучастником миротвор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«меньшим братом Божиим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DCA1-8B92-4711-8936-C8E823F99F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4FB3-3DD1-4B96-940A-AB18A74C06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экзистенциал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1866-193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316E-3E4F-4926-B63D-A56E9437C1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7F6C-DF40-439B-9E48-DEB8CF7D6C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863D-B1B0-4D3A-9A9F-2BBFFBB8EE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61F6-B522-46D8-832F-1B4D5875EB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AD61-B010-4E51-A194-7486647F61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асение может быть лиш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обор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 есть имен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золяц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т друг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гедия ада заключается не в том, что Бог не может простить грешнику его грехи, но в том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ам грешник не может простить их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 не есть внешняя сфера, где мучаются грешники, а есть имен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абсолютное одиночество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де голос совести, заглушённый при жизни, жжёт грешника страшным неугасимым огнём самоосужд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D060-1AB0-4B2E-A470-BD48754CA5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B2DF-561D-488E-A221-645133F64D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ризис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истоки современного кризиса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отпадении человечества от христианства и гуманизм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Христианство дало человечеству благую весть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арстве Божие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уманизм впервые осознал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вобод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еловека и ценность этой своб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современное человечество отвернулось и от Царствия Божия ради мечты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арстве человеческ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от свободы, предпочитая ей мечту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ытом довольств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рганической культуры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еловечество стало создават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ханическую цивилизацию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ая устремлённость которой антирелигиозна и антиперсоналистична. Вместо образа и подобия Божия человек становится образом и подобием бездушной маши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ивилизация развил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громные технические силы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е по замыслу должны были уготовить господство человека над природой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ти силы властвуют над самим человек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елают его рабом, убивают его душ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A3B6-3657-496B-AFAD-BC796FCA26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Новое средневековь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дна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ания свободы в отрыве от Бог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иалектически приводит 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худшим формам рабств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гуманизм, будучи оторван от его религиозного первоисточника, –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 дегуманизации и бестиализации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условиях относительного благоденств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еловеческий дух засыпает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довольная личность деперсонализируется, и в результате буржуазная культура, будучи не в состоянии выдержать натиска «нового варварства», оказывается лишь переходной формой от чистого гуманизма к «новому средневековью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 «новое средневековье» гораздо хуже прежнего, ибо тогда христианская идея предохраняла личность от разложения. Теперь ж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 монаха и рыцаря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тупает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оргаша и шофёр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 тем, чтобы, в свою очередь, уступить 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у комиссара и чеки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иранящего народ во имя народной воли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A085-80AB-4FAC-A7CC-142039582E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ммунизм есть Немезида капитализма и порождён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атериалистическим духом капитализм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льшевизм силён своей критикой лжи буржуазной культуры, но не в силах создать своей положительной культуры, ибо он сам заражён материализмом, порождённым буржуазией;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льшевизм силён своим разрушением, а не творчеством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C563-74E9-4D8E-B8CB-2EB9E3AC3A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2830-38BA-4FA1-A90B-261B9E0AE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. Шестов (1866-193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E24D-CC6F-4591-87A0-E40D975F6D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3C21-7D63-4631-8631-6548BC239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абсу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05E5-DFF8-47A2-BB0D-C2B97B311E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абсу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абсур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диционная философия стремится стать «наукой», но человеку нужн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не истинная, а лучшая философия»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ллинской мудр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до противопоставить иерусалимскую жажду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живого Бог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дь невозможное для человека возможно для Бога: Бог может изменить даже прошлое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нимание, не соблазняющееся жаждой универсального понимания, не желающее становиться «знанием», есть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ра – «второе измерение мышл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Истины» разума требуют слепого повиновения своей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зличной необходимости;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ера предполага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чную свободу и отвагу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23AE-BF0B-4D31-A28F-596161C307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95DD-AD3A-4D77-BCE7-778EC3CD1E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. Бердяев (1874-19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41C9-76BA-4DEA-B886-113EA27784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тво и объе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природы; «порча бытия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детерм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, этика искупления, этика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одоление мор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общее спа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зис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ое средневековь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ьба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C5A6-3070-4A77-9362-F80B7C15C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ход из антиноми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личия и ничтожества человека –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обожении человека и очеловечивании Бога, в Богочеловече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еловеческое творчество должно стать как бы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родолжением миротвор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ибо, творя, человек уподобляется Богу-Творц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диционное богословие чересчур унижало человека, чересчур сосредоточивалось на учении о человеке ка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бе Божие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мало замечало другую сторону христианского учения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гоподобие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асение человека от греха есть только предварительная цель; конечная цель заключается не в спасении, а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D3A1-1D3A-41E2-8FC3-29359E2F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177-86C9-4AC4-B1B8-8D439FB5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408-A991-4787-B097-E8FF82F1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63F-B107-4A36-97AF-0021E8C0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561E-8296-4124-97F5-F3D5353C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11A-BF47-4D3F-B633-FC0BB8DA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850-7949-4665-815F-69945E6F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309-7C37-4B77-83FC-1F5A59C9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06F-3D36-4CBB-9C9D-16F85AE1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4D8-1CA6-41D8-84A6-470A8ED0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39B-FB6A-42D6-B617-513E9450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474-AAA7-4E40-97D6-73AACF52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0ADE-9AD6-4C3B-870F-4FBD392DE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680" y="257148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ий экзистенци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rot="10800000">
            <a:off x="358920" y="2338560"/>
            <a:ext cx="431784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ворчество долж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правды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, наоборо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 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авдывать жизн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 rot="10800000">
            <a:off x="4497480" y="2338560"/>
            <a:ext cx="431784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кий ак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ц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щая над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го суда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ульт свят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ен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полнен культ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ниа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природы –  «Порча быт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– это активность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природа – пассивность, предметность, матери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объектов лиш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убин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сущей Дух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есть «ноумен», «вещь в себ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а же – лишь «феномен», яв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начально бытие было чисто духовной реальностью, но в этом первичном бытии произош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порч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дение: Дух стал отчуждённым от самого себ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шибочно полагать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ъектив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меет место лишь в познавательной сфере; она происходит в самом бытии: объективация – это лишь гносеологическая категория для обозначен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адше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ыт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3116160" y="49831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2036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957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611280" y="16192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арство духа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ваться лишь интуитив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тическим опы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1690560" y="2878200"/>
            <a:ext cx="467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природы, «мира объектов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да нос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й харак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770200" y="413856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езультате объектив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ождествляем реальность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а самом дел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бъективирова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3849840" y="53974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еальности же первичн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ъективированн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циональ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мневае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5"/>
          <p:cNvSpPr/>
          <p:nvPr/>
        </p:nvSpPr>
        <p:spPr>
          <a:xfrm flipV="1">
            <a:off x="671040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 flipV="1">
            <a:off x="436392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4"/>
          <p:cNvSpPr/>
          <p:nvPr/>
        </p:nvSpPr>
        <p:spPr>
          <a:xfrm flipV="1">
            <a:off x="205092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 flipV="1">
            <a:off x="4363920" y="3056760"/>
            <a:ext cx="414360" cy="35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бода и детерм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690560" y="3417840"/>
            <a:ext cx="57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го изначальная своб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упает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31640" y="4857840"/>
            <a:ext cx="251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природ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ерминаци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6189840" y="485784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Б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3309840" y="4857840"/>
            <a:ext cx="251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обществ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мящим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инить ли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вторим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му стандар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2409840" y="1978200"/>
            <a:ext cx="4317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сотворён дл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307980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2000160" y="372420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92088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574560" y="1619280"/>
            <a:ext cx="4749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начальная (иррациональная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а не сотворена Бог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едвечно укоренен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54200" y="2878200"/>
            <a:ext cx="4749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дуализмом экзистенциа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а и мира объектив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о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е глубокий дуализ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а-Творца и несотворённой своб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733840" y="4138560"/>
            <a:ext cx="4749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поэтому есть н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дитя Божие», но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тя своб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бытия, «меон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3814920" y="5397480"/>
            <a:ext cx="4749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м объясняется непреодолим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ечение ко злу, иррацион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ывы к разруш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отворённом мире, и особенно в душе человека, происход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рьба между Богом и свободо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ф о грехопадении свидетельствует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ссилии Творца предотвратить зло, исходящее из свобод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й Он не сотвор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торично действу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отношении мира и человека, но он нисходит в мир уже не как Творец, а ка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пасител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ожественное самораспятие должно победить меоническую свободу просветлением её изнутри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з насилия над не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агическая теодице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 даёт никаких гарантий победы Бога над иррациональной свободой, но одушевляется верой в эту победу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зак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зша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хотя и необходимая ступень морального созн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, по преимуществу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отрицательная этик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стоящая из кодексов запретов – заповедей, табу, ве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з этих запретов человек рискует вернуться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животное состояни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этика закона как б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ходит мимо лич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создаёт фарисейскую психологию «законничества», вырождающуюся нередко в лицемерие и ханжество и порождающую «фанатизм добра» с типичным для него садистским комплексом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(«кошмар злого добра»)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иск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60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искупления – благодатная этик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сепрощения, любви и сострадан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она легко вырождается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трансцендентный эгоизм»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сключительную заботу о спасении собственной души, что может породить религиозный мазохизм и засушить корень любви к ближне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оит как бы вне этики закона и вне этики искупления и предполагает иную эт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ец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правдывае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им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ра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казания и страх вечных мук не может игра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какой рол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этике твор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блимация, или преображение страстей, означа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свобожд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расти от похоти и утверждение в ней свободной творческой стих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ец всегд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скорысте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н забывает о себе и любит своё творение, как Бог любит ми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ворчестве человек станови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ным соучастником миротвор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«меньшим братом Божии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, что возник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е между добром и зл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рошо пров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различ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 оно возникло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 прох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ерез опыт з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рошо рас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 и з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 этого опы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экзистенциал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78200" y="1798200"/>
            <a:ext cx="3059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6-19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698920" y="5576760"/>
            <a:ext cx="262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Бердяе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4-194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Шестов (1-2)"/>
          <p:cNvPicPr/>
          <p:nvPr/>
        </p:nvPicPr>
        <p:blipFill>
          <a:blip r:embed="rId1"/>
          <a:stretch/>
        </p:blipFill>
        <p:spPr>
          <a:xfrm>
            <a:off x="898560" y="1798560"/>
            <a:ext cx="244008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9" descr="Бердяев (2-1)"/>
          <p:cNvPicPr/>
          <p:nvPr/>
        </p:nvPicPr>
        <p:blipFill>
          <a:blip r:embed="rId2"/>
          <a:stretch/>
        </p:blipFill>
        <p:spPr>
          <a:xfrm>
            <a:off x="5649840" y="3309840"/>
            <a:ext cx="274968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идёт от первонача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зличения добра 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ез рез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ение добра 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окончатель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зличению добра и зл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огащён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 опытом различ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3076560" y="4371840"/>
            <a:ext cx="880920" cy="145764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640"/>
              <a:gd name="textAreaBottom" fmla="*/ 1056960 h 14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45728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19280" y="1943280"/>
            <a:ext cx="4317840" cy="125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раль высшего доб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все не означ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различия к добру и з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значает терпимости ко з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2338560" y="3417840"/>
            <a:ext cx="431784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требует больш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меньшего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стреми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просветлен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освобождению з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3957480" y="4894200"/>
            <a:ext cx="431820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асение невозможно,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ь одна душа мучается в ад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то не может быть спасё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золированности от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Novelli 1 Cain and Abel - compr"/>
          <p:cNvPicPr/>
          <p:nvPr/>
        </p:nvPicPr>
        <p:blipFill>
          <a:blip r:embed="rId1"/>
          <a:stretch/>
        </p:blipFill>
        <p:spPr>
          <a:xfrm>
            <a:off x="5397480" y="1978200"/>
            <a:ext cx="322884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Text Box 5"/>
          <p:cNvSpPr/>
          <p:nvPr/>
        </p:nvSpPr>
        <p:spPr>
          <a:xfrm>
            <a:off x="537120" y="1978200"/>
            <a:ext cx="395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равственное сознани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ось с Божьего вопро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 rot="10800000">
            <a:off x="719280" y="3238200"/>
            <a:ext cx="359856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ин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де брат тв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вель?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Bouguereau W, Les Remords d’Oreste [ARC] - compr"/>
          <p:cNvPicPr/>
          <p:nvPr/>
        </p:nvPicPr>
        <p:blipFill>
          <a:blip r:embed="rId1"/>
          <a:stretch/>
        </p:blipFill>
        <p:spPr>
          <a:xfrm>
            <a:off x="4678200" y="2338560"/>
            <a:ext cx="3959280" cy="348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9" name="Text Box 5"/>
          <p:cNvSpPr/>
          <p:nvPr/>
        </p:nvSpPr>
        <p:spPr>
          <a:xfrm>
            <a:off x="715680" y="19782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о кончится вопрос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 rot="10800000">
            <a:off x="539280" y="3238200"/>
            <a:ext cx="359892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вель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де брат тв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ин?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ение может быть лиш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бор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 есть имен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золя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 друг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гедия ада заключается не в том, что Бог не может простить грешнику его грехи, но в том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ам грешник не может простить их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 не есть внешняя сфера, где мучаются грешники, а есть имен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бсолютное одино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де голос совести, заглушённый при жизни, жжёт грешника страшным неугасимым огнём самоосу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 rot="10800000">
            <a:off x="358920" y="1798200"/>
            <a:ext cx="593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ада должна быть соверш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обождена от всех ассоциаций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язанных 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несением на не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ов уголовного пра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д, как  субъективная сфе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гружение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ё собственную ть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ый результа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еховного суще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рансцендент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казание за гре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д и есть не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йти к трансцендент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погружённость в имманент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ризис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истоки современного кризиса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 отпадении человечества от христианства и гуманизм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истианство дало человечеству благую весть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арстве Божие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уманизм впервые осозна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ка и ценность этой своб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современное человечество отвернулось и от Царствия Божия ради мечты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арстве человеческ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от свободы, предпочитая ей мечту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ытом довольств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рганической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чество стало создава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еханическую цивилизацию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ая устремлённость которой антирелигиозна и антиперсоналистична. Вместо образа и подобия Божия человек становится образом и подобием бездушной маш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я разви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громные технические сил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ые по замыслу должны были уготовить господство человека над природой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ти силы властвуют над самим человек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ают его рабом, убивают его душ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вое средневеков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ания свободы в отрыве от Бог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иалектически приводит 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худшим формам раб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гуманизм, будучи оторван от его религиозного первоисточника, –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дегуманизации и бестиализации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условиях относительного благоденств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ческий дух засыпает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довольная личность деперсонализируется, и в результате буржуазная культура, будучи не в состоянии выдержать натиска «нового варварства», оказывается лишь переходной формой от чистого гуманизма к «новому средневековь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«новое средневековье» гораздо хуже прежнего, ибо тогда христианская идея предохраняла личность от разложения. Теперь же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 монаха и рыцар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упает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ргаша и шофё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 тем, чтобы, в свою очередь, уступить 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у комиссара и чекист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тиранящего народ во имя народной воли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96020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мунизм есть Немезида капитализма и порожд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атериалистическим духом капитализм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евизм силён своей критикой лжи буржуазной культуры, но не в силах создать своей положительной культуры, ибо он сам заражён материализмом, порождённым буржуазией;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визм силён своим разрушением, а не творчество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ий народ не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ть среди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уманистического цар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хочет правов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в европейс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этого слова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хочет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арства Божь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атства во Христе,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варищества в Антихрис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арства князя мира сег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Шестов (1866-19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42920" y="2698920"/>
            <a:ext cx="57578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бро в учении гр. Толстого и Ф. Ницше (Философия и проповедь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оевский и Ницше (Философия трагедии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феоз беспочвенности (Опыт адогматического мышления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асть ключ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весах Иова (Странствования по душам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фины и Иерусал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8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ркегард и экзистенциальная философ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93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Шестов (2-2 - Григорьев)"/>
          <p:cNvPicPr/>
          <p:nvPr/>
        </p:nvPicPr>
        <p:blipFill>
          <a:blip r:embed="rId1"/>
          <a:stretch/>
        </p:blipFill>
        <p:spPr>
          <a:xfrm>
            <a:off x="6045120" y="1798560"/>
            <a:ext cx="2781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Text Box 6"/>
          <p:cNvSpPr/>
          <p:nvPr/>
        </p:nvSpPr>
        <p:spPr>
          <a:xfrm>
            <a:off x="1079640" y="183528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3116160" y="49831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2036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957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611280" y="16192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– величайш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раг истин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Истины» разум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абощ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освобождают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690560" y="2878200"/>
            <a:ext cx="467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звучит абсурд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мире абсурд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урдность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казатель исти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к недомыслия и забл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2770200" y="413856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ные методы разум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я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 противоречия и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аточного основа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ности или целесообраз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3849840" y="53974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я из них разум стрем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ить всё совершающее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еобходим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 сам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авдыва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я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Шестов (2-2 - Григорьев) red"/>
          <p:cNvPicPr/>
          <p:nvPr/>
        </p:nvPicPr>
        <p:blipFill>
          <a:blip r:embed="rId1"/>
          <a:stretch/>
        </p:blipFill>
        <p:spPr>
          <a:xfrm>
            <a:off x="7305840" y="1619280"/>
            <a:ext cx="1209600" cy="21621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2355840" y="4479840"/>
            <a:ext cx="880920" cy="15289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67480 h 1528920"/>
              <a:gd name="textAreaBottom" fmla="*/ 11084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1096920" y="2824200"/>
            <a:ext cx="881280" cy="1528560"/>
          </a:xfrm>
          <a:custGeom>
            <a:avLst/>
            <a:gdLst>
              <a:gd name="textAreaLeft" fmla="*/ 118080 w 881280"/>
              <a:gd name="textAreaRight" fmla="*/ 763200 w 881280"/>
              <a:gd name="textAreaTop" fmla="*/ 267480 h 1528560"/>
              <a:gd name="textAreaBottom" fmla="*/ 1108440 h 152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719280" y="1654200"/>
            <a:ext cx="521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создаёт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иемлемую картину мира: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временн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у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нравстве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1978200" y="3309840"/>
            <a:ext cx="521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наш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 зле лежит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праведливость и зл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т в нё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 справедливостью и добром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238560" y="4965840"/>
            <a:ext cx="521820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ейшее есть нечто, прям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положное миру ноуменальных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– бытие как бездонное, тайное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лыханное, неожиданное, обитающе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диничном, случайном, временном,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ом в расчёт sub speciae aeternitat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Шестов (2-2 - Григорьев) red"/>
          <p:cNvPicPr/>
          <p:nvPr/>
        </p:nvPicPr>
        <p:blipFill>
          <a:blip r:embed="rId1"/>
          <a:stretch/>
        </p:blipFill>
        <p:spPr>
          <a:xfrm>
            <a:off x="7305840" y="1619280"/>
            <a:ext cx="1209600" cy="21621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диционная философия стремится стать «наукой», но человеку нужн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не истинная, а лучшая философия»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ллинской мудр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до противопоставить иерусалимскую жажду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живого Бог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дь невозможное для человека возможно для Бога: Бог может изменить даже прошло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имание, не соблазняющееся жаждой универсального понимания, не желающее становиться «знанием», есть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– «второе измерение мышлени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тины» разума требуют слепого повиновения своей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зличной необходим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ера предполага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чную свободу и отвагу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78200" y="2698920"/>
            <a:ext cx="61182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своб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: Опыт оправдания челове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назначении человека: Опыт парадоксальной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и мир объектов: Философия и одиночества и общ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4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бстве и свободе человека: Опыт персоналистическ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ая идея: Основные проблемы русской мыс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ки и смысл русского коммун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5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Бердяев (6-5)"/>
          <p:cNvPicPr/>
          <p:nvPr/>
        </p:nvPicPr>
        <p:blipFill>
          <a:blip r:embed="rId1"/>
          <a:stretch/>
        </p:blipFill>
        <p:spPr>
          <a:xfrm>
            <a:off x="466560" y="1798560"/>
            <a:ext cx="21592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4210200" y="183528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458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тво и объе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природы; «порча бытия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детерм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, этика искупления, этика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одоление мор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общее спа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зис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ое средневековь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ьба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ход из антиноми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личия и ничтожества человека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божении человека и очеловечивании Бога, в Богочеловече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ловеческое творчество должно стать как бы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должением миротвор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ибо, творя, человек уподобляется Богу-Твор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диционное богословие чересчур унижало человека, чересчур сосредоточивалось на учении о человеке ка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бе Божи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мало замечало другую сторону христианского учения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гоподобие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ение человека от греха есть только предварительная цель; конечная цель заключается не в спасении, а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18:20:26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0:15:48Z</dcterms:modified>
  <cp:revision>33</cp:revision>
  <dc:subject>История русской философии - Лекция 11</dc:subject>
  <dc:title>Русский экзистенциализм</dc:title>
</cp:coreProperties>
</file>