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40F6-A320-47D2-809F-71C05C47F0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мида (Юстиция)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я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й Гр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зна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язка на глаз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ч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мида (Юстиция)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й Гре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зна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язка на глаз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ч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Администартивный процесс</a:t>
            </a:r>
            <a:br>
              <a:rPr sz="400"/>
            </a:b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 (адм-процессуальное право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Административный процесс — это порядок осуществления государственно-управленческой деятельности, с целью реализации норм административного прав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артивный проце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дм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й процесс — это порядок осуществления государственно-управленческой деятельности, с целью реализации норм административн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открывает заседа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, какое дело рассматривае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т явку участников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яет из зала заседания свидет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 состав су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открывает засед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, какое дело рассматривает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т явку участников проц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яет из зала заседания свидетел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 состав су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важаемый суд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астники процесса должны давать свои показания и объяснения стоя, к суду обращаются со словами: «Уважаемый суд!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важаемый суд!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астники процесса должны давать свои показания и объяснения стоя, к суду обращаются со словами: «Уважаемый суд!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сути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докладывает д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яет, поддерживает ли истец свои требов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ет ли ответчик треб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желают ли стороны закончить дело ми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сути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докладывает дел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яет, поддерживает ли истец свои требов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ет ли ответчик треб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желают ли стороны закончить дело ми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судья заслушивает объяснения лиц, участвующих в деле (и соответственно их представителей), в следующей последователь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ц, третьи лица на стороне истц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чик, третьи лица на стороне ответч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судья заслушивает объяснения лиц, участвующих в деле (и соответственно их представителей), в следующей последовательност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ц, третьи лица на стороне истц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чик, третьи лица на стороне ответчи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доказательст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опрашивают свидете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глашают письменные доказательства, исследуют вещественные доказательства, воспроизводят и исследуют аудио- или видеозапись, исследуют заключение экспе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доказатель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опрашивают свидетел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глашают письменные доказательства, исследуют вещественные доказательства, воспроизводят и исследуют аудио- или видеозапись, исследуют заключение экспер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этап – судебные п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ления лиц, участвующих в деле с обоснованием своей правовой и фактической позиции, с учетом всех сведений и обстоятельств, которые были исследованы в ходе судебного засед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выступления в прениях аналогична последовательности дачи объяснений: прокурор, истец и его представитель; ответчик и его представит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этап – судебные п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ления лиц, участвующих в деле с обоснованием своей правовой и фактической позиции, с учетом всех сведений и обстоятельств, которые были исследованы в ходе судебного засед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выступления в прениях аналогична последовательности дачи объяснений: прокурор, истец и его представитель; ответчик и его представите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Последнее слов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Каждый имеет право выступить с речью (Приложение 3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Но последнее слово – подсудимого (право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ее сло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меет право выступить с речью (Приложение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следнее слово – подсудимого (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прений суд удаляется в совещательную комнату для вынесения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т есть оговорка: если в прениях выявлены некоторые новые обстоятельства, суд может вернуться к судебному следств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прений суд удаляется в совещательную комнату для вынесения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т есть оговорка: если в прениях выявлены некоторые новые обстоятельства, суд может вернуться к судебному следств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е 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 принимает решение немедленно после рассмотрения дела в совещательной комнате, тайно, т.е. с участием только тех лиц, которые входят в состав 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е ре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 принимает решение немедленно после рассмотрения дела в совещательной комнате, тайно, т.е. с участием только тех лиц, которые входят в состав 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отраслей, основная задача которых — определить правила судебного процесса, чтобы установить ИСТ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отраслей, основная задача которых — определить правила судебного процесса, чтобы установить ИСТ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ьный прокурор назначается и освобождается Советом Федерации по представлению президента на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енеральная п.,  п. субъектов РФ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городов, райо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осуществляет надзор 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блюдает правильно ли исполняются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е нарушаются ли права гражда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ыступает на суде со стороны обв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жет не согласиться с решением суда, наложив на него про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ьный прокурор назначается и освобождается Советом Федерации по представлению президента на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енеральная п.,  п. субъектов РФ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городов, райо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осуществляет надзор 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блюдает правильно ли исполняются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е нарушаются ли права гражда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ыступает на суде со стороны обв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жет не согласиться с решением суда, наложив на него проте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с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ое д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ает составить необходимые документы (исковое заяв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щитником в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адвоката оплачивается из средств кл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ст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ое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м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ает составить необходимые документы (исковое заявл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щитником в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адвоката оплачивается из средств кли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тать, суд идет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тать, суд идет!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частникам уголовного процесса со стороны защиты от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кур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ледов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дсуди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терпев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частникам уголовного процесса со стороны защиты относ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кур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ледов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дсуди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терпевш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ицам, способствующим проведению уголовного процесса, от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уди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нав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виняе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ицам, способствующим проведению уголовного процесса, относ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уди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нав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виняе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– это порядок реализации и защиты материального прав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– это порядок реализации и защиты материального прав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ислу наиболее «старых» процессуальных отраслей относятс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оцес.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о-процес.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Т    СУДО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ислу наиболее «старых» процессуальных отраслей относятс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оцес.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о-процес.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Т    СУДО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истема судопроизводств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рбитражный су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Разрешает экономические споры между гражданами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нимающими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едпринимательско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еятельностью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 организациям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ировые суды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рассматривают гражданские, уголовные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министративные дела незначительно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ложности в качеств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уда первой инстанци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онституционный су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тменяет законы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тиворечащи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онституции 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нарушающие прав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аждан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ерховный су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ажнейший орган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удебной власти п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ажданским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головным делам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удо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с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ешает экономические споры между граждана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имающими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ю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рганиза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су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ют гражданские, уголов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дела незначите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в кач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а первой инста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ый с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меняет закон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реча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ающие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овный с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орг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й власти 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м дел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е процессуальное право, арбитраж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суд рассматривает споры между юридическими лицами, гражданами, осуществляющими предпринимательскую деятельность без образования юридического лица и имеющими статус предпринимателя (граждане-предпринимател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е процессуальное право, арбитраж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суд рассматривает споры между юридическими лицами, гражданами, осуществляющими предпринимательскую деятельность без образования юридического лица и имеющими статус предпринимателя (граждане-предпринимател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головный процесс и его участ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головный процессуальное право (уголовный процесс)  — это процесс государственных органов по расследованию и разрешению дел, связанных с совершением преступлени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I.Органы государства и должностные лица: суд (судья), прокурор, следователь, орган дознания и лицо, дознаватель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II. Участники уголовного процесса: подозреваемый, обвиняемый, их защитники, потерпевший, гражданский истец, гражданский ответчик и их представител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III. Лица, привлекаемые в процессе для содействия органам государства в выполнении задач правосудия: свидетель, эксперт, специалист, переводчик, понятые, секретарь судебного заседан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й процесс и его участ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й процессуальное право (уголовный процесс)  — это процесс государственных органов по расследованию и разрешению дел, связанных с совершением преступл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Органы государства и должностные лица: суд (судья), прокурор, следователь, орган дознания и лицо, дознавате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Участники уголовного процесса: подозреваемый, обвиняемый, их защитники, потерпевший, гражданский истец, гражданский ответчик и их представит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. Лица, привлекаемые в процессе для содействия органам государства в выполнении задач правосудия: свидетель, эксперт, специалист, переводчик, понятые, секретарь судебного засе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удья на уголовном процесс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) судья единолично рассматривает дела (если санкция не превышает 10 лет лишения свободы)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) судья и 12 присяжных заседателей (рассматривают дела, затрагивающие общественный интерес и имеющие общественный интерес, согласно перечню в УПК)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) коллегия из трех судей (дела о тяжких и особо тяжких преступлениях)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) мировой судья (если санкция не превышает трех лет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на уголов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удья единолично рассматривает дела (если санкция не превышает 10 лет лишения свобод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удья и 12 присяжных заседателей (рассматривают дела, затрагивающие общественный интерес и имеющие общественный интерес, согласно перечню в УПК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оллегия из трех судей (дела о тяжких и особо тяжких преступлениях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мировой судья (если санкция не превышает трех ле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ражданский процесс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гражд-процессуальное право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частники гражданского  процесс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стец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ветчик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ретьи лица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курор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двокат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видетели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ксперты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пециалист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ражданское процессуальное право (процесс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то отрасль права, регулирующая порядок рассмотрения судом гражданских дел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 процес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ражд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гражданского 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ц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чи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и лиц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о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дет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оцессуальное право (процес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трасль права, регулирующая порядок рассмотрения судом гражданских де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7876-70A4-4B9E-A9BF-23B859EB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889C-291E-40ED-A27E-EBD590DD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207-6883-46F6-AA66-C37EFD54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45B-8211-46AD-B3D4-41F5E663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4D1A-998E-4F5F-8439-2D27889F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666D-110C-4E88-A817-153E1796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25EA-FCE6-462A-84EA-06FEFD3B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89CE-D49B-48C6-80A9-9828B738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A979-863B-4ECF-8EE2-F53F8080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9A7B-6109-4270-A778-765D954B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8C4A-DC24-43F1-8DC0-DA6EBCB8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4133-3052-4062-A8FE-80AA3322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959F-6408-420A-B274-76F146A8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E33F-DA11-4EEF-99E7-4C90FA5B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8DCA-E880-414E-8130-76F56A2F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8FAE-155A-435E-8268-F1294C87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9F36-9933-4D81-A8A7-0FA9A6BF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F913C-7C7E-462A-852B-AB418D9B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74C82-D22F-4156-8203-454DA1BB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11AFB-03D9-4F32-8947-2F7AA055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46701-CA48-4453-8EFC-4D6648EF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B220C-3D16-4A45-8DAB-44951F8E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2D7-8036-4E37-800A-5D33CE27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01F3E-84C0-4527-AAD6-25700D59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161F8-282B-4E7D-9A3F-35A7730C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32093-D2E7-455F-8AAD-146671FF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D641C-6B69-4D3C-8A90-EEB369DE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15819-23F9-4AAE-BF7A-1ECE394C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E6C86-483A-4E70-99C1-52690E5D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C48CD-EDD6-471D-A66F-CCD6A1D0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FB07D-F56A-4BE1-A277-B224575D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A601E-6B90-4812-8CBC-A5083CDB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C29EB-73BE-4901-AD99-9AE9C738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650-7132-45EB-BB5A-A30ED08F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DFB8E-4550-4DD2-BE51-687337EB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1EBE8-369B-45BA-9FFF-2430A4B0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814E6-94A6-47F2-B438-BE97026A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D6BAE-164C-44A5-9749-26223E90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3C6AC-14AF-4D46-AD5B-20AFB86C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D2037-1001-4690-944A-3DDD83DE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D4E88-1A36-4966-B755-9426607F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2AA64-1161-4A8E-8C33-99C10321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7D884-08AC-45EF-A62C-E64B5D78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EFF53-213F-4349-BA1C-0D647888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0AA-2D47-4605-9C32-E7409016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A12FC-388B-469A-B641-54EA7D95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450C9-C40F-4BC8-953C-804FC1F1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20074-2142-4BD7-AE04-73761050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74D07-A917-4844-92B0-A41B8F10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9F6F6-9E55-446F-AFFD-8FD06480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738BA-DB61-4AD8-84DE-68CD9334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5F9E7-10E6-409F-9419-868EED87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0B2C3-37BB-4142-8837-42A6A078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0D740-B848-4E47-A471-674DDA9F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E30AF-C83F-4862-AE05-E415AD9C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0CF7-0403-4B8B-AD15-FFDB0A17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BD01D-DE85-4020-A0E9-6E306E77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55744-2A57-4F47-B9A3-ABD95CEE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86426-D202-4142-8808-C12619D0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9C663-842F-4E7E-AD4C-8DDE81D8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DBE60-34BF-4C6D-B0F2-B5E1F832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59C81-A6BA-4EF4-8121-E5A85F3D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FF54F-1F44-405B-9B7A-95511073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3D01F-9A41-4BEA-AA91-63656D52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37898-94DD-4DD9-A243-324B2FDB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3030D-EA30-40B6-9460-70E6F314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557-97B3-4B46-BF38-F5B56A75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6233F-E82B-4B89-9500-54436892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87FAC-98A7-497F-8283-75DD70FF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BD702-A3FE-4F24-AF18-5F6CAA82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E1C5E-769F-4DBC-8061-6A4A82E4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B9246-3CD1-4390-BBD6-53D831DA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0B759-681D-4A04-ACDA-34AB8E56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0A1BD-B42B-4E9F-AD36-65DFB3C2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F9B1C-680D-488C-93AD-A0F08ECA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B1CF2-7B1B-4DAA-953B-15CD1B72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B5165-D79E-41B8-9A9D-7C320A59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BEE9-A3B0-4B7A-8E6B-FA14BD14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64146-C4AA-4BEE-AB04-66926CF3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B0766-153F-44D1-B394-CBB6B085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94CE1-16F8-4F50-9DDE-A973A6EB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8A253-9F91-461F-859E-152DCF5C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4966D-5116-4B95-8FA6-11C94115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18C-5DED-410F-9761-5970E142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610C-F80C-4CC6-8937-2B5910EB88E6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0717-86CA-4094-9062-ED88CBC9696E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E750-0AE8-4FFC-84D1-9882A73A7A11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6BBE-7DDA-4DF5-9294-B2058A8366ED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544D-264F-4C5E-9D7B-6675A4BBE0F0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BF2C-3B21-4B09-A9E7-7069E8D49DC3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8890-FA8A-4A18-BAB9-70300AA4C6B9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3782-4FDE-47E7-825B-A7F3C9990EFD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F295-AEF3-4B3B-A2C9-0829913713A6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655F-65A1-4D97-8ED3-22219D520FAE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B224-F851-4A83-9AF3-46E7F852643D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cbcbc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3979-F513-4F3A-B2AA-C83498C967F4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CC99-C0DE-40BF-BC96-85B7AF1E1CE1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3DC7-0286-4944-AB2A-C905BAAC611E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&#1072;&#1076;&#1084;&#1080;&#1085;&#1080;&#1089;&#1090;&#1088;&#1072;&#1090;&#1080;&#1074;&#1085;&#1072;&#1103;%20&#1102;&#1088;&#1080;&#1089;&#1076;&#1080;&#1082;&#1089;&#1094;&#1080;&#1103;.ppsx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87;&#1088;&#1072;&#1074;&#1086;&#1086;&#1079;&#1093;%20&#1086;&#1088;&#1075;&#1072;&#1085;&#1099;.pptx" TargetMode="External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901800" y="281160"/>
            <a:ext cx="7785000" cy="11397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3714480" y="1928520"/>
            <a:ext cx="5429160" cy="453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Фемида (Юстиция)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богин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авосудия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ревней Гре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Что означают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овязка на глазах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есы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еч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2"/>
          <a:stretch/>
        </p:blipFill>
        <p:spPr>
          <a:xfrm>
            <a:off x="0" y="1571760"/>
            <a:ext cx="3811680" cy="507528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213840" y="1773000"/>
            <a:ext cx="4281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Административный процесс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— это порядок осуществления 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государственно-управленческой деятельности,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с целью реализации норм административного прав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Содержимое 7" descr="4618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6200" y="2286000"/>
            <a:ext cx="3900600" cy="294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8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дья открывает заседание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ъявляет, какое дело рассматриваетс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еряет явку участников процесс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даляет из зала заседания свидетелей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ъявляет состав суд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се участники процесса должны давать свои показания и объяснени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стоя,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к суду обращаются со словами: 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«Уважаемый суд!»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дья докладывает дело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ясняет, поддерживает ли истец свои требования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знает ли ответчик требовани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желают ли стороны закончить дело мир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ле этого судья заслушивает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объяснения лиц,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аствующих в деле (и соответственно их представителей), в следующей последовательности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тец, третьи лица на стороне истца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чик, третьи лица на стороне ответчик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Исследование доказательств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начале допрашивают свидетелей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тем оглашают письменные доказательства, исследуют вещественные доказательства, воспроизводят и исследуют аудио- или видеозапись, исследуют заключение эксперт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ПРЕНИ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ыступления лиц, участвующих в деле с обоснованием своей правовой и фактической позиции, с учетом всех сведений и обстоятельств, которые были исследованы в ходе судебного заседания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следовательность выступления в прениях аналогична последовательности дачи объяснений: прокурор, истец и его представитель; ответчик и его представитель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ждый имеет право выступить с речью (Приложение 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о последнее слово – подсудимого (право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оугольник 3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 окончании прений суд удаляется в совещательную комнату для вынесения реш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днако тут есть оговорка: если в прениях выявлены некоторые новые обстоятельства, суд может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ернуться к судебному следствию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д принимает решение немедленно после рассмотрения дела в совещательной комнате, тайно, т.е. с участием только тех лиц, которые входят в состав суд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это совокупность отраслей, основная задача которых — определить правила судебного процесса, чтобы установить 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ИСТИН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1000080" y="3857760"/>
            <a:ext cx="2324160" cy="2786040"/>
          </a:xfrm>
          <a:prstGeom prst="rect">
            <a:avLst/>
          </a:prstGeom>
          <a:ln w="0">
            <a:noFill/>
          </a:ln>
        </p:spPr>
      </p:pic>
      <p:pic>
        <p:nvPicPr>
          <p:cNvPr id="390" name="Rectangle 2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8229600" cy="1141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285840" y="1356840"/>
            <a:ext cx="3889440" cy="26211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Black"/>
              </a:rPr>
              <a:t>   </a:t>
            </a:r>
            <a:r>
              <a:rPr b="1" lang="ru-RU" sz="2200" spc="-1" strike="noStrike">
                <a:solidFill>
                  <a:srgbClr val="ff0000"/>
                </a:solidFill>
                <a:latin typeface="Arial Black"/>
              </a:rPr>
              <a:t>Генеральный прокурор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назначается и освобождается Советом Федерации по представлению президента на 5 лет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211640" y="1628280"/>
            <a:ext cx="4681440" cy="49244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 Black"/>
              </a:rPr>
              <a:t>Прокуратура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Arial Black"/>
              </a:rPr>
              <a:t>(Генеральная п.,  п. субъектов РФ,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Arial Black"/>
              </a:rPr>
              <a:t>п. городов, районов)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осуществляет надзор  за исполнением законов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Наблюдает правильно ли исполняются законы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Не нарушаются ли права граждан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Выступает на суде со стороны обвинени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Может не согласиться с решением суда, наложив на него протест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4211640" y="3429000"/>
          <a:ext cx="4681440" cy="457200"/>
        </p:xfrm>
        <a:graphic>
          <a:graphicData uri="http://schemas.openxmlformats.org/drawingml/2006/table">
            <a:tbl>
              <a:tblPr/>
              <a:tblGrid>
                <a:gridCol w="2305080"/>
                <a:gridCol w="237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2071800"/>
            <a:ext cx="2068560" cy="3071880"/>
          </a:xfrm>
          <a:prstGeom prst="rect">
            <a:avLst/>
          </a:prstGeom>
          <a:ln w="0">
            <a:noFill/>
          </a:ln>
        </p:spPr>
      </p:pic>
      <p:pic>
        <p:nvPicPr>
          <p:cNvPr id="396" name="Rectangle 2" descr=""/>
          <p:cNvPicPr/>
          <p:nvPr/>
        </p:nvPicPr>
        <p:blipFill>
          <a:blip r:embed="rId3"/>
          <a:stretch/>
        </p:blipFill>
        <p:spPr>
          <a:xfrm>
            <a:off x="500040" y="285840"/>
            <a:ext cx="8229600" cy="1141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0" y="2071440"/>
            <a:ext cx="3214800" cy="40719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двокатур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обровольно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ъединени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юристов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озданное дл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авово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омощ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физическим 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юридическим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лица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214960" y="1773000"/>
            <a:ext cx="347184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омогает составить необходимые документы (исковое заявл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ыступает защитником в суд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еятельность адвоката оплачивается из средств клиент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4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Ролевая игр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2" name="Picture 4" descr=""/>
          <p:cNvPicPr/>
          <p:nvPr/>
        </p:nvPicPr>
        <p:blipFill>
          <a:blip r:embed="rId2"/>
          <a:stretch/>
        </p:blipFill>
        <p:spPr>
          <a:xfrm>
            <a:off x="5784840" y="549360"/>
            <a:ext cx="2968560" cy="394956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3" descr=""/>
          <p:cNvPicPr/>
          <p:nvPr/>
        </p:nvPicPr>
        <p:blipFill>
          <a:blip r:embed="rId2"/>
          <a:srcRect l="0" t="0" r="0" b="84963"/>
          <a:stretch/>
        </p:blipFill>
        <p:spPr>
          <a:xfrm>
            <a:off x="714240" y="1714680"/>
            <a:ext cx="7715520" cy="2143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06" name="Содержимое 4" descr=""/>
          <p:cNvPicPr/>
          <p:nvPr/>
        </p:nvPicPr>
        <p:blipFill>
          <a:blip r:embed="rId3"/>
          <a:srcRect l="0" t="37064" r="0" b="47495"/>
          <a:stretch/>
        </p:blipFill>
        <p:spPr>
          <a:xfrm>
            <a:off x="785880" y="4071960"/>
            <a:ext cx="7786800" cy="2428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7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09" name="Содержимое 4" descr=""/>
          <p:cNvPicPr/>
          <p:nvPr/>
        </p:nvPicPr>
        <p:blipFill>
          <a:blip r:embed="rId2"/>
          <a:srcRect l="0" t="53462" r="0" b="15093"/>
          <a:stretch/>
        </p:blipFill>
        <p:spPr>
          <a:xfrm>
            <a:off x="285840" y="1571760"/>
            <a:ext cx="8429400" cy="4929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0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12" name="Содержимое 4" descr=""/>
          <p:cNvPicPr/>
          <p:nvPr/>
        </p:nvPicPr>
        <p:blipFill>
          <a:blip r:embed="rId2"/>
          <a:srcRect l="2316" t="32433" r="51738" b="42864"/>
          <a:stretch/>
        </p:blipFill>
        <p:spPr>
          <a:xfrm>
            <a:off x="285840" y="1714680"/>
            <a:ext cx="8501040" cy="4214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3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4" descr=""/>
          <p:cNvPicPr/>
          <p:nvPr/>
        </p:nvPicPr>
        <p:blipFill>
          <a:blip r:embed="rId2"/>
          <a:srcRect l="2094" t="57141" r="53081" b="22785"/>
          <a:stretch/>
        </p:blipFill>
        <p:spPr>
          <a:xfrm>
            <a:off x="142920" y="1857240"/>
            <a:ext cx="8858160" cy="4000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6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Содержимое 4" descr=""/>
          <p:cNvPicPr/>
          <p:nvPr/>
        </p:nvPicPr>
        <p:blipFill>
          <a:blip r:embed="rId1"/>
          <a:srcRect l="2044" t="77220" r="52555" b="7197"/>
          <a:stretch/>
        </p:blipFill>
        <p:spPr>
          <a:xfrm>
            <a:off x="357120" y="0"/>
            <a:ext cx="7929720" cy="1857240"/>
          </a:xfrm>
          <a:prstGeom prst="rect">
            <a:avLst/>
          </a:prstGeom>
          <a:ln w="0">
            <a:noFill/>
          </a:ln>
        </p:spPr>
      </p:pic>
      <p:pic>
        <p:nvPicPr>
          <p:cNvPr id="418" name="Содержимое 4" descr=""/>
          <p:cNvPicPr/>
          <p:nvPr/>
        </p:nvPicPr>
        <p:blipFill>
          <a:blip r:embed="rId2"/>
          <a:srcRect l="52287" t="0" r="829" b="61775"/>
          <a:stretch/>
        </p:blipFill>
        <p:spPr>
          <a:xfrm>
            <a:off x="285840" y="1785960"/>
            <a:ext cx="8072280" cy="4857840"/>
          </a:xfrm>
          <a:prstGeom prst="rect">
            <a:avLst/>
          </a:prstGeom>
          <a:ln w="0">
            <a:noFill/>
          </a:ln>
        </p:spPr>
      </p:pic>
      <p:sp>
        <p:nvSpPr>
          <p:cNvPr id="419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участникам уголовного процесса со стороны защиты относи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прокуро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следовате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подсудим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потерпевш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5430960" y="2646360"/>
            <a:ext cx="2970000" cy="394956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лицам, способствующим проведению уголовного процесса, относи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судим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знавате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виняем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нято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2"/>
          <a:stretch/>
        </p:blipFill>
        <p:spPr>
          <a:xfrm>
            <a:off x="5430960" y="2646360"/>
            <a:ext cx="2970000" cy="394956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229600" cy="3865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цессуальное пра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атериальное пра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расли пра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истема пра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ава челове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2"/>
          <a:stretch/>
        </p:blipFill>
        <p:spPr>
          <a:xfrm>
            <a:off x="5357880" y="2646360"/>
            <a:ext cx="2968560" cy="3949560"/>
          </a:xfrm>
          <a:prstGeom prst="rect">
            <a:avLst/>
          </a:prstGeom>
          <a:ln w="0">
            <a:noFill/>
          </a:ln>
        </p:spPr>
      </p:pic>
      <p:sp>
        <p:nvSpPr>
          <p:cNvPr id="431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139680" y="158760"/>
            <a:ext cx="8791560" cy="1627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285840" y="2000160"/>
            <a:ext cx="8400960" cy="4500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Уголовно-процессуальное право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Гражданско-процессуальное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дминистративно-процес.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рбитражно-процессуальное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Конституционно-процес.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Corbel"/>
              </a:rPr>
              <a:t>РЕГУЛИРУЮТ    СУДОПРОИЗВОДСТ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3" descr=""/>
          <p:cNvPicPr/>
          <p:nvPr/>
        </p:nvPicPr>
        <p:blipFill>
          <a:blip r:embed="rId1"/>
          <a:stretch/>
        </p:blipFill>
        <p:spPr>
          <a:xfrm>
            <a:off x="7524720" y="3643200"/>
            <a:ext cx="1619280" cy="1214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2" descr=""/>
          <p:cNvPicPr/>
          <p:nvPr/>
        </p:nvPicPr>
        <p:blipFill>
          <a:blip r:embed="rId2"/>
          <a:srcRect l="0" t="-364" r="0" b="0"/>
          <a:stretch/>
        </p:blipFill>
        <p:spPr>
          <a:xfrm>
            <a:off x="7500960" y="1714680"/>
            <a:ext cx="1427040" cy="17888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"/>
          <p:cNvPicPr/>
          <p:nvPr/>
        </p:nvPicPr>
        <p:blipFill>
          <a:blip r:embed="rId3"/>
          <a:stretch/>
        </p:blipFill>
        <p:spPr>
          <a:xfrm>
            <a:off x="2786040" y="4857840"/>
            <a:ext cx="2060640" cy="13748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"/>
          <p:cNvPicPr/>
          <p:nvPr/>
        </p:nvPicPr>
        <p:blipFill>
          <a:blip r:embed="rId4"/>
          <a:stretch/>
        </p:blipFill>
        <p:spPr>
          <a:xfrm>
            <a:off x="3214800" y="2500200"/>
            <a:ext cx="1512720" cy="1241640"/>
          </a:xfrm>
          <a:prstGeom prst="rect">
            <a:avLst/>
          </a:prstGeom>
          <a:ln w="0">
            <a:noFill/>
          </a:ln>
        </p:spPr>
      </p:pic>
      <p:pic>
        <p:nvPicPr>
          <p:cNvPr id="329" name="Rectangle 2" descr=""/>
          <p:cNvPicPr/>
          <p:nvPr/>
        </p:nvPicPr>
        <p:blipFill>
          <a:blip r:embed="rId5"/>
          <a:stretch/>
        </p:blipFill>
        <p:spPr>
          <a:xfrm>
            <a:off x="500040" y="212760"/>
            <a:ext cx="8229600" cy="12254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68000" y="3860280"/>
            <a:ext cx="3311640" cy="23418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Арбитражный суд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Разрешает экономические споры между гражданами,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занимающимися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едпринимательской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деятельностью,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 организациям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858920" y="3789000"/>
            <a:ext cx="3745080" cy="23763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Мировые суды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ассматривают гражданские, уголовные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дминистративные дела незначительно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ложности в качеств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уда первой инстанц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468360" y="1700280"/>
            <a:ext cx="3348000" cy="1739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Конституционный су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тменяет зак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отивореч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нституци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рушающи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4859280" y="1700280"/>
            <a:ext cx="2641680" cy="1465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Верховный су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ажнейший ор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удебной власти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ражданск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головным де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7931160" y="139680"/>
            <a:ext cx="927000" cy="104940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рбитражный суд рассматривает споры между юридическими лицами, гражданами,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осуществляющими предпринимательскую деятельность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ез образования юридического лица и имеющими статус предпринимателя (граждане-предприниматели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39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142920" y="1857240"/>
            <a:ext cx="4038480" cy="4624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Уголовный процессуальное право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уголовный процесс)  — это процесс государственных органов по расследованию и разрешению дел,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связанных с совершением преступлений.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214880" y="1714680"/>
            <a:ext cx="4643280" cy="5000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I.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Органы государства и должностные лица</a:t>
            </a:r>
            <a:r>
              <a:rPr b="0" lang="ru-RU" sz="2200" spc="-1" strike="noStrike">
                <a:solidFill>
                  <a:srgbClr val="0070c0"/>
                </a:solidFill>
                <a:latin typeface="Corbel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уд (судья), прокурор, следователь, орган дознания и лицо, дознаватель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II. 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Участники уголовного процесса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дозреваемый, обвиняемый, их защитники, потерпевший, гражданский истец, гражданский ответчик и их представител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III. 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Лица, привлекаемые в процессе для содействи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рганам государства в выполнении задач правосудия: свидетель, эксперт, специалист, переводчик, понятые, секретарь судебного заседа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285840" y="1571400"/>
            <a:ext cx="4572000" cy="5072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а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удья единолично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рассматривает дела (если санкция не превышает 10 лет лишения свободы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б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удья и 12 присяжных заседателей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(рассматривают дела, затрагивающие общественный интерес и имеющие общественный интерес, согласно перечню в УПК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коллегия из трех судей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(дела о тяжких и особо тяжких преступлениях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г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мировой судь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если санкция не превышает трех лет)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Содержимое 4" descr="image31.png"/>
          <p:cNvPicPr/>
          <p:nvPr/>
        </p:nvPicPr>
        <p:blipFill>
          <a:blip r:embed="rId2"/>
          <a:stretch/>
        </p:blipFill>
        <p:spPr>
          <a:xfrm>
            <a:off x="4786200" y="1857240"/>
            <a:ext cx="3953160" cy="408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8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56760" y="1698120"/>
            <a:ext cx="4140360" cy="71604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ЧАСТНИКИ ГРАЖДАНСКОГО  ПРОЦЕСС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99680" y="22860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истец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ответчик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третьи лица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прокурор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адвокат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свидетели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эксперты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специалис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428720" y="2428920"/>
            <a:ext cx="4429080" cy="32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Гражданское процессуальное право (процесс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то отрасль права, регулирующая порядок рассмотрения судом гражданских дел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1:11:46Z</dcterms:created>
  <dc:creator>Учитель</dc:creator>
  <dc:description/>
  <dc:language>en-US</dc:language>
  <cp:lastModifiedBy>LEGION</cp:lastModifiedBy>
  <dcterms:modified xsi:type="dcterms:W3CDTF">2016-01-04T08:10:28Z</dcterms:modified>
  <cp:revision>65</cp:revision>
  <dc:subject/>
  <dc:title>Процессуальное право</dc:title>
</cp:coreProperties>
</file>