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48AF-101F-42FF-9935-2B1D379620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25D-68DD-4C31-9430-EBD0C730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4FE-8BAC-4C41-806A-8E3BBE96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8F4-C468-4A30-96F5-01730FC3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659-7E5C-43BA-B42B-69A4BC9E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B001-CF0E-4991-BB74-E210B40B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AAE0-3CE9-417C-BC96-0E94373C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0EE3-ADAC-4886-85EE-A6145B6F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5CCC-5F61-4D9F-BB86-2A32647C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AE4B-1DAE-44EE-97EC-CEDA93D4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189F-4BAC-4699-B2C3-4EEC1876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147F-0795-4401-AB96-5DD4F039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11D-D03C-4980-A16E-9E25C219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402F-D193-4AF3-913E-C303544C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AD51-3F07-4E7B-99C0-BE6EF6B1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A178-CB05-4EEF-8D76-07B25243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CE3E-A608-41C4-8E6D-3BBACC3B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0AEE-CC76-4AF9-A039-83F82426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8F032-D910-4F72-95F5-747F0E69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FE1AF-E151-4B90-8DCC-C7FF6043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40C1-0927-4756-9CC8-DA9B9DDE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DE83-E417-42A8-83B3-FFCD5BF0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DDB9-2D27-42EC-8483-883DC9D3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B5E-3385-4961-AA02-6361B343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B8D2-29BF-4D4F-B3D9-97A63F3F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EA9E-91E1-4F2A-BAB4-69590182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06B0-CA5E-4D1F-A1C9-37D39A54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8041-717E-42D0-BD42-D02BD2C2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5D6BB-8B7D-473C-A1EA-D5723EFB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2ABF-FAE1-46B2-94B2-8F8A8886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0B96-4C9C-4FA5-BAB4-200B1CDA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AB752-897A-4B59-A7A1-93766D2B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92BA-BBB5-4A1A-A783-E5CF3F2A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F3402-B399-47A7-B21F-F5B3A71F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036-2979-4850-9A28-54881A7E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12F9-AC83-4189-94D2-A41D7690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98AD2-1EB6-41AE-9510-AD4EDE2B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C6DE1-A0ED-4135-94D5-2E474308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8A788-2781-407D-9EB7-7F1FBA7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BD650-3646-4CB2-9DD3-6278B71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44F51-A9D1-49A8-81DB-969A4B2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36462-6CF0-4222-BB5D-36CB3368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509E9-4BE5-4EC8-BDA8-8B045993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2055-18CF-468A-8D63-A7991EA5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8B821-D496-4295-BDA9-2E4BE6DC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687-A26F-42BD-917E-8704838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E173F-F4A6-48F0-B379-F5F3D1E3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B160F-CB47-4DF1-BC63-F07BA503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96C93-7F3E-4884-9AA7-EC6FA15C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9D3D-4D5C-40EF-8B5E-C62E8DD1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71B6E-7807-460E-9787-18EE6B46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FCEA-46A3-4400-AF93-FA3774B4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BCAA8-FFFB-4F50-BA65-C37ABDED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67056-4E9E-4C87-8459-7FE7A530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0CA9B-7F41-4D56-85A6-259B0512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EF7B5-8DBA-434F-893F-5C8BAADE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352-1026-459C-9F8F-AF4EDEE7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6E8AD-357F-48D3-809F-F3F24096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0C33E-9A7C-4A69-AF2F-8E6735F9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7FD5-5B7D-4258-BD20-08DB3A53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0DF4-D83E-4471-A4D7-95227FC6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C106D-AD1D-46AE-9540-0E0C1F70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9C255-9E15-4DC0-954E-0432B60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A588-F4E6-41E5-B519-5F892B6A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B04F4-DEB8-4D33-B413-E45D07C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B3101-7AAB-468D-991C-2BCA7A37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2E0EF-5085-4295-BCE0-51468C8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62E-07E3-4C65-BD17-1A9B803D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07846-64E7-4373-A7E6-0D2A8100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14494-DAED-42E1-8CA0-96321000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DAAC1-DC24-47B4-9CB0-9BDCD13C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ED8F2-F532-43A7-AF5B-352F4715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CF7D3-3969-4CC7-9864-4B4DDFF9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87086-4898-4EC6-BE76-1DB20339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15575-1701-4E4F-AEB0-F4943AC8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E57A1-5136-4B95-9848-B78BDD9C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39FDF-218D-4600-AE1F-74BE7D4C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F683B-5D7D-44EC-B3E5-423D8090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0B5-F9D8-48B7-80A0-3DE1F647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9D31C-AFA8-4587-9EA6-2306EC4D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CB243-D78F-499E-A3D5-501B4BC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6B9E6-5AC8-4723-B093-59142817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8025A-45B3-44BF-B8B6-5666FE9B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16F9D-E87A-43F4-A64A-D6A52770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624-7E1A-4847-B486-3F42791F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BF28-C7EC-480C-AB37-A15377CFFEBC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500C-3A1E-4E12-B2DC-F208CD09ADF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BF0C-7AB2-4FD9-8F3F-E4E45A282E5F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C13E-D7BC-4FB7-A425-9ABAC5C17990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715C-70C7-4A0C-AC1A-F639193BF86C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0D4B-0BF1-4F06-8CBD-83C672EED4A4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F98D-C7F6-4072-A730-E9EDE8F6C262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F1F3-C0E4-4AB8-B822-8B6E4C3DA80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AB02-7635-4DCA-9AEE-E03834FD8484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9653-CCD3-4C27-B7C4-0316DC23EEF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37D7-1BF2-4D06-99EC-75BF310075E2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56E8-C0DC-4900-9613-D509B78E4C0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2EC7-1B46-4A2A-866C-962E4EA7DC8A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E5C7-63DD-43C0-9420-D57C7B43CE1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72;&#1076;&#1084;&#1080;&#1085;&#1080;&#1089;&#1090;&#1088;&#1072;&#1090;&#1080;&#1074;&#1085;&#1072;&#1103;%20&#1102;&#1088;&#1080;&#1089;&#1076;&#1080;&#1082;&#1089;&#1094;&#1080;&#1103;.ppsx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87;&#1088;&#1072;&#1074;&#1086;&#1086;&#1079;&#1093;%20&#1086;&#1088;&#1075;&#1072;&#1085;&#1099;.pptx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139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714480" y="1928520"/>
            <a:ext cx="542916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Фемида (Юстиция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огин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осудия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ревней Гре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Что означаю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вязка на глаза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есы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ч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0" y="1571760"/>
            <a:ext cx="3811680" cy="50752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13840" y="17730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Административный процесс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это порядок осуществления 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государственно-управленческой деятельности,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с целью реализации норм административного пра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Содержимое 7" descr="461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286000"/>
            <a:ext cx="3900600" cy="29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открывает заседание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, какое дело рассматривает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яет явку участников процес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аляет из зала заседания свидетеле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 состав суд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е участники процесса должны давать свои показания и объяснени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тоя,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к суду обращаются со словами: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«Уважаемый суд!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докладывает дел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яет, поддерживает ли истец свои требования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знает ли ответчик требова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желают ли стороны закончить дело мир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ле этого судья заслушивает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бъяснения лиц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вующих в деле (и соответственно их представителей), в следующей последовательност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ец, третьи лица на стороне ист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чик, третьи лица на стороне ответчик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Исследование доказательств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ачале допрашивают свидетеле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ПР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ждый имеет право выступить с речью (Приложение 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 последнее слово – подсудимого (право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окончании прений суд удаляется в совещательную комнату для вынесения реш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ко тут есть оговорка: если в прениях выявлены некоторые новые обстоятельства, суд может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ернуться к судебному следствию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о совокупность отраслей, основная задача которых — определить правила судебного процесса, чтобы установить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ИСТИН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2324160" cy="27860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1356840"/>
            <a:ext cx="3889440" cy="2621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Генеральный прокурор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значается и освобождается Советом Федерации по представлению президента на 5 лет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11640" y="1628280"/>
            <a:ext cx="4681440" cy="4924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Прокуратур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(Генеральная п.,  п. субъектов РФ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п. городов, районов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осуществляет надзор  за исполнением законов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аблюдает правильно ли исполняются закон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е нарушаются ли права граждан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Выступает на суде со стороны обвинени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Может не согласиться с решением суда, наложив на него протес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211640" y="3429000"/>
          <a:ext cx="4681440" cy="457200"/>
        </p:xfrm>
        <a:graphic>
          <a:graphicData uri="http://schemas.openxmlformats.org/drawingml/2006/table">
            <a:tbl>
              <a:tblPr/>
              <a:tblGrid>
                <a:gridCol w="2305080"/>
                <a:gridCol w="23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071800"/>
            <a:ext cx="2068560" cy="3071880"/>
          </a:xfrm>
          <a:prstGeom prst="rect">
            <a:avLst/>
          </a:prstGeom>
          <a:ln w="0">
            <a:noFill/>
          </a:ln>
        </p:spPr>
      </p:pic>
      <p:pic>
        <p:nvPicPr>
          <p:cNvPr id="396" name="Rectangle 2" descr=""/>
          <p:cNvPicPr/>
          <p:nvPr/>
        </p:nvPicPr>
        <p:blipFill>
          <a:blip r:embed="rId3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0" y="2071440"/>
            <a:ext cx="3214800" cy="4071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двокат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бровольн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ъедине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стов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зданное дл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авов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щ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изическим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дически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иц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214960" y="1773000"/>
            <a:ext cx="347184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гает составить необходимые документы (исковое заявл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ыступает защитником в суд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ятельность адвоката оплачивается из средств клиен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4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5784840" y="549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"/>
          <p:cNvPicPr/>
          <p:nvPr/>
        </p:nvPicPr>
        <p:blipFill>
          <a:blip r:embed="rId2"/>
          <a:srcRect l="0" t="0" r="0" b="84963"/>
          <a:stretch/>
        </p:blipFill>
        <p:spPr>
          <a:xfrm>
            <a:off x="714240" y="1714680"/>
            <a:ext cx="771552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06" name="Содержимое 4" descr=""/>
          <p:cNvPicPr/>
          <p:nvPr/>
        </p:nvPicPr>
        <p:blipFill>
          <a:blip r:embed="rId3"/>
          <a:srcRect l="0" t="37064" r="0" b="47495"/>
          <a:stretch/>
        </p:blipFill>
        <p:spPr>
          <a:xfrm>
            <a:off x="785880" y="4071960"/>
            <a:ext cx="778680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4" descr=""/>
          <p:cNvPicPr/>
          <p:nvPr/>
        </p:nvPicPr>
        <p:blipFill>
          <a:blip r:embed="rId2"/>
          <a:srcRect l="0" t="53462" r="0" b="15093"/>
          <a:stretch/>
        </p:blipFill>
        <p:spPr>
          <a:xfrm>
            <a:off x="285840" y="1571760"/>
            <a:ext cx="8429400" cy="492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0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4" descr=""/>
          <p:cNvPicPr/>
          <p:nvPr/>
        </p:nvPicPr>
        <p:blipFill>
          <a:blip r:embed="rId2"/>
          <a:srcRect l="2316" t="32433" r="51738" b="42864"/>
          <a:stretch/>
        </p:blipFill>
        <p:spPr>
          <a:xfrm>
            <a:off x="285840" y="1714680"/>
            <a:ext cx="8501040" cy="4214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"/>
          <p:cNvPicPr/>
          <p:nvPr/>
        </p:nvPicPr>
        <p:blipFill>
          <a:blip r:embed="rId2"/>
          <a:srcRect l="2094" t="57141" r="53081" b="22785"/>
          <a:stretch/>
        </p:blipFill>
        <p:spPr>
          <a:xfrm>
            <a:off x="142920" y="1857240"/>
            <a:ext cx="8858160" cy="400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4" descr=""/>
          <p:cNvPicPr/>
          <p:nvPr/>
        </p:nvPicPr>
        <p:blipFill>
          <a:blip r:embed="rId1"/>
          <a:srcRect l="2044" t="77220" r="52555" b="7197"/>
          <a:stretch/>
        </p:blipFill>
        <p:spPr>
          <a:xfrm>
            <a:off x="357120" y="0"/>
            <a:ext cx="7929720" cy="185724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4" descr=""/>
          <p:cNvPicPr/>
          <p:nvPr/>
        </p:nvPicPr>
        <p:blipFill>
          <a:blip r:embed="rId2"/>
          <a:srcRect l="52287" t="0" r="829" b="61775"/>
          <a:stretch/>
        </p:blipFill>
        <p:spPr>
          <a:xfrm>
            <a:off x="285840" y="1785960"/>
            <a:ext cx="8072280" cy="48578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участникам уголовного процесса со стороны защиты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рокуро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ледо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потерпевш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лицам, способствующим проведению уголовного процесса,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зна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виняе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нят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229600" cy="3865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у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тери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асли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стема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а челове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5357880" y="2646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39680" y="158760"/>
            <a:ext cx="8791560" cy="1627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5840" y="200016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Уголовно-процессуальное прав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Гражданск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дминистратив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рбитражн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онституцион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Corbel"/>
              </a:rPr>
              <a:t>РЕГУЛИРУЮТ    СУДОПРОИЗВОДСТ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3" descr=""/>
          <p:cNvPicPr/>
          <p:nvPr/>
        </p:nvPicPr>
        <p:blipFill>
          <a:blip r:embed="rId1"/>
          <a:stretch/>
        </p:blipFill>
        <p:spPr>
          <a:xfrm>
            <a:off x="7524720" y="3643200"/>
            <a:ext cx="1619280" cy="1214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2"/>
          <a:srcRect l="0" t="-364" r="0" b="0"/>
          <a:stretch/>
        </p:blipFill>
        <p:spPr>
          <a:xfrm>
            <a:off x="7500960" y="1714680"/>
            <a:ext cx="1427040" cy="1788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2786040" y="4857840"/>
            <a:ext cx="2060640" cy="1374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4"/>
          <a:stretch/>
        </p:blipFill>
        <p:spPr>
          <a:xfrm>
            <a:off x="3214800" y="2500200"/>
            <a:ext cx="1512720" cy="12416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" descr=""/>
          <p:cNvPicPr/>
          <p:nvPr/>
        </p:nvPicPr>
        <p:blipFill>
          <a:blip r:embed="rId5"/>
          <a:stretch/>
        </p:blipFill>
        <p:spPr>
          <a:xfrm>
            <a:off x="500040" y="21276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68000" y="3860280"/>
            <a:ext cx="3311640" cy="2341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Арбитражный суд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зрешает экономические споры между гражданами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нимающимис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принимательско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еятельностью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 организациям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858920" y="3789000"/>
            <a:ext cx="3745080" cy="2376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ировые суд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ссматривают гражданские, уголовные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дминистративные дела незначитель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ожности в качеств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а первой инстанц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68360" y="1700280"/>
            <a:ext cx="3348000" cy="1739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онституцион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меняет зак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тивореч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нститу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ушающ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859280" y="1700280"/>
            <a:ext cx="2641680" cy="1465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ерхов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ажнейший 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ебной власт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ск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головным де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7931160" y="139680"/>
            <a:ext cx="927000" cy="10494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рбитражный суд рассматривает споры между юридическими лицами, гражданами,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существляющими предпринимательскую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з образования юридического лица и имеющими статус предпринимателя (граждане-предпринимател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42920" y="1857240"/>
            <a:ext cx="4038480" cy="4624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Уголовный процессуаль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уголовный процесс)  — это процесс государственных органов по расследованию и разрешению дел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вязанных с совершением преступлений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14880" y="1714680"/>
            <a:ext cx="4643280" cy="500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.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Органы государства и должностные лица</a:t>
            </a:r>
            <a:r>
              <a:rPr b="0" lang="ru-RU" sz="2200" spc="-1" strike="noStrike">
                <a:solidFill>
                  <a:srgbClr val="0070c0"/>
                </a:solidFill>
                <a:latin typeface="Corbe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уд (судья), прокурор, следователь, орган дознания и лицо, дознавател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Участники уголовного процесса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Лица, привлекаемые в процессе для содейств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285840" y="157140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единолично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ссматривает дела (если санкция не превышает 10 лет лишения свободы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и 12 присяжных заседател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коллегия из трех суд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дела о тяжких и особо тяжких преступлениях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мировой судь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если санкция не превышает трех лет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Содержимое 4" descr="image31.png"/>
          <p:cNvPicPr/>
          <p:nvPr/>
        </p:nvPicPr>
        <p:blipFill>
          <a:blip r:embed="rId2"/>
          <a:stretch/>
        </p:blipFill>
        <p:spPr>
          <a:xfrm>
            <a:off x="4786200" y="1857240"/>
            <a:ext cx="3953160" cy="408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56760" y="1698120"/>
            <a:ext cx="414036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И ГРАЖДАНСКОГО  ПРОЦЕ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9680" y="2286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истец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ответчи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третьи ли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прокурор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адвокат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видетел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эксперт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пециал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428720" y="2428920"/>
            <a:ext cx="4429080" cy="32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Гражданское процессуальное право (процесс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отрасль права, регулирующая порядок рассмотрения судом гражданских де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11:46Z</dcterms:created>
  <dc:creator>Учитель</dc:creator>
  <dc:description/>
  <dc:language>en-US</dc:language>
  <cp:lastModifiedBy>LEGION</cp:lastModifiedBy>
  <dcterms:modified xsi:type="dcterms:W3CDTF">2016-01-04T08:10:28Z</dcterms:modified>
  <cp:revision>65</cp:revision>
  <dc:subject/>
  <dc:title>Процессуальное право</dc:title>
</cp:coreProperties>
</file>