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C55C-B84E-4FBC-8392-5BF52FE1E1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E13-58D2-4259-9774-5CA2B1DA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11F-72FC-4B89-9A0F-678A3BFD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CF1-DF65-4FF3-952F-3DAAA108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F62-54B5-4098-9596-3D44242E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C682-6F02-42DD-AE10-CBC43723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785B-AEF4-4AB4-A723-66FBE05A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7524-5875-4511-9CB5-92109C1E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2523-56F0-4AA8-9198-ABA89A8C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1AED-15BF-4A20-8BD8-4ED370DB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64B9-A855-4218-BC13-DF56AFB5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A292-FDD7-42FF-AFE5-137A45A8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2A5-D640-4BD8-85C8-B6A586E9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2687-A112-4B40-AF01-E853CB7B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C900-739D-4D5F-A6B1-21BCB24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14E7-3CE6-4F7C-A495-D95BE053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628E-75C8-440F-AB43-54D6B34C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9D29-C587-4B71-9C64-5046AE43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06493-4CF7-43D5-8122-F5901CB4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0880-0C24-4C8A-BF68-E31C8527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F2704-F7F1-49B6-BC5A-B02BA0A5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CF24-F226-4046-B326-69BEA9F5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821C-C550-4CD2-9CC4-324585F7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954-8427-4D13-8840-05E0E16D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FA01-2156-4ACC-80DF-4E7F93C2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B6B0D-BDD4-4BBA-879C-74852891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6327-521E-4E9B-B702-E81DCDF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796E-2D4D-4A93-B9B7-F82741F7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1E65-15D4-4F12-8195-9A2F0665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C091F-43E1-433E-A9A5-0290B8F8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57535-84FE-455D-81CB-AEAC88E4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4BC6-5E7F-4E06-BDD3-70419BB4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C31B-1097-4F08-AEA3-4A2FBE73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1FF62-1F68-482B-8CA6-7BE5EAFF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A44-3B1C-4B9C-B0DC-D90B83DF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98093-18FE-404F-AAA0-0A91FEDA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C879-BD6B-410A-9795-62028AD7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7DF0-E158-46E6-9AEF-696FED21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C0D1-15B7-407C-B03B-CC2E7B71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E9BC6-18B3-4837-BC28-CBE983C3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6203-9327-4ABC-ADAE-CF71D89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3300-DDD6-41A2-9FD5-981BF745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B57CB-56C2-44B6-9AF3-B8491917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6B982-28EE-48CD-BBE7-8BE20D2B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027E9-EC4D-4907-AE97-CD7BBE18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D5B-22BE-420D-A9D7-3EA9CBF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6EB9B-50F6-4CD9-8FD8-276FDF90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E60C2-B1B2-447F-BA30-6CA163E5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D449-9CB8-4E94-87FB-36F7C4C3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F5EC6-3F0A-4CB7-AB29-F6FCC806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6F2CB-E61B-4B0D-B626-69DD31CB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C1625-09A0-4D60-8ECB-3749F727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3E450-B19E-450D-80EF-B4305FFF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77F4B-F1F6-4351-AB3A-A4930BC4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DE944-3F7C-4F21-8186-D8740E95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D6FE1-AC34-4DC5-ADBF-3B46BFBD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6C2-395A-44DB-8E50-372A76E9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F90AB-98D6-42B0-9E71-088EB4A4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926B8-3D19-4AC4-9881-1CD7FCB1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35B05-B942-42B1-B888-6B303FD7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19BFF-4C20-4E9F-A85E-537AE16E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5D083-4736-446E-A5C5-04E18C43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89C8F-F85F-4B6E-8B56-4A59916F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5CB34-AC57-49B3-A11F-15FB93A4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EE126-0213-41D1-AA3F-9755BE06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87CE9-0D6F-4D8F-8BC9-7AC60C4D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03682-A5F4-40BB-A898-2E399124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754-C662-4495-A0F6-08D4179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6E244-3CDA-4F0B-AA8C-D45AC628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FA9F3-597C-4F0B-B0FF-728503E2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6F141-C2EE-4F8F-B375-84644592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35D76-A782-4C04-88F6-0592D580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C4950-A596-4131-B33F-67C83B67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41DF2-00F9-43D5-8D05-FDE5BD71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4D3D0-094F-4BBE-B977-C60807A6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AF4C2-1EB8-41FF-9390-B5C3546E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2F807-5B56-402C-8A21-0117C411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9EC60-07F0-4F64-9CD6-C8F4475C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F61-F4C4-447B-9653-2B95210B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990AD-F406-47B6-836E-86614F25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F8EF-E207-4C54-930F-54EB3D4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CC1B3-9B6A-4B9D-B73D-493B55FE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F7574-22EB-495E-9310-60D4ED15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C0588-C471-44CC-BD33-2E1230CB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DBA-BEB7-48B1-B45E-6A6252A1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9BDF-3397-4C5F-BF92-459BC1AFFCB4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811B-F994-47FF-A773-6FF8157B199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6CEE-E7E9-4D3B-BED0-9EB77A219E55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6DF4-726B-4CC2-B105-A8098408B86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091D-3BB1-4457-892A-19215D6FD855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EDEE-34AB-49AF-AED8-4A9328FD2D77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89C3-ED0B-4357-B232-C9F5FD2D83DB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FD6C-E431-448C-83EF-71042C7BC28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C205-7EBD-4227-A5D6-5F182CBBBF7C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A27C-09CE-4F5A-848D-2E08AB5DB25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7CA6-5CB8-415B-AE9B-B58AE40FA5B8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D647-F2FF-46E4-8528-6556A2883EA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E6DC-DD7B-438E-ADA3-A398775C3F6A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08C4-02D8-4956-A857-DA798A5D556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72;&#1076;&#1084;&#1080;&#1085;&#1080;&#1089;&#1090;&#1088;&#1072;&#1090;&#1080;&#1074;&#1085;&#1072;&#1103;%20&#1102;&#1088;&#1080;&#1089;&#1076;&#1080;&#1082;&#1089;&#1094;&#1080;&#1103;.ppsx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87;&#1088;&#1072;&#1074;&#1086;&#1086;&#1079;&#1093;%20&#1086;&#1088;&#1075;&#1072;&#1085;&#1099;.pptx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139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714480" y="1928520"/>
            <a:ext cx="542916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Фемида (Юстиция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огин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осудия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ревней Гре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Что означаю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вязка на глаза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есы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ч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0" y="1571760"/>
            <a:ext cx="3811680" cy="50752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13840" y="17730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Административный процесс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это порядок осуществления 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государственно-управленческой деятельности,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с целью реализации норм административного пра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Содержимое 7" descr="461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286000"/>
            <a:ext cx="3900600" cy="29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открывает заседание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, какое дело рассматривает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яет явку участников процес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аляет из зала заседания свидетеле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 состав суд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е участники процесса должны давать свои показания и объяснени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тоя,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к суду обращаются со словами: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«Уважаемый суд!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докладывает дел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яет, поддерживает ли истец свои требования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знает ли ответчик требова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желают ли стороны закончить дело мир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ле этого судья заслушивает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бъяснения лиц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вующих в деле (и соответственно их представителей), в следующей последовательност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ец, третьи лица на стороне ист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чик, третьи лица на стороне ответчик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Исследование доказательств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ачале допрашивают свидетеле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ПР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ждый имеет право выступить с речью (Приложение 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 последнее слово – подсудимого (право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окончании прений суд удаляется в совещательную комнату для вынесения реш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ко тут есть оговорка: если в прениях выявлены некоторые новые обстоятельства, суд может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ернуться к судебному следствию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о совокупность отраслей, основная задача которых — определить правила судебного процесса, чтобы установить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ИСТИН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2324160" cy="27860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1356840"/>
            <a:ext cx="3889440" cy="2621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Генеральный прокурор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значается и освобождается Советом Федерации по представлению президента на 5 лет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11640" y="1628280"/>
            <a:ext cx="4681440" cy="4924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Прокуратур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(Генеральная п.,  п. субъектов РФ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п. городов, районов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осуществляет надзор  за исполнением законов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аблюдает правильно ли исполняются закон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е нарушаются ли права граждан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Выступает на суде со стороны обвинени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Может не согласиться с решением суда, наложив на него протес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211640" y="3429000"/>
          <a:ext cx="4681440" cy="457200"/>
        </p:xfrm>
        <a:graphic>
          <a:graphicData uri="http://schemas.openxmlformats.org/drawingml/2006/table">
            <a:tbl>
              <a:tblPr/>
              <a:tblGrid>
                <a:gridCol w="2305080"/>
                <a:gridCol w="23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071800"/>
            <a:ext cx="2068560" cy="3071880"/>
          </a:xfrm>
          <a:prstGeom prst="rect">
            <a:avLst/>
          </a:prstGeom>
          <a:ln w="0">
            <a:noFill/>
          </a:ln>
        </p:spPr>
      </p:pic>
      <p:pic>
        <p:nvPicPr>
          <p:cNvPr id="396" name="Rectangle 2" descr=""/>
          <p:cNvPicPr/>
          <p:nvPr/>
        </p:nvPicPr>
        <p:blipFill>
          <a:blip r:embed="rId3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0" y="2071440"/>
            <a:ext cx="3214800" cy="4071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двокат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бровольн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ъедине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стов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зданное дл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авов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щ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изическим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дически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иц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214960" y="1773000"/>
            <a:ext cx="347184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гает составить необходимые документы (исковое заявл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ыступает защитником в суд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ятельность адвоката оплачивается из средств клиен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4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5784840" y="549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"/>
          <p:cNvPicPr/>
          <p:nvPr/>
        </p:nvPicPr>
        <p:blipFill>
          <a:blip r:embed="rId2"/>
          <a:srcRect l="0" t="0" r="0" b="84963"/>
          <a:stretch/>
        </p:blipFill>
        <p:spPr>
          <a:xfrm>
            <a:off x="714240" y="1714680"/>
            <a:ext cx="771552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06" name="Содержимое 4" descr=""/>
          <p:cNvPicPr/>
          <p:nvPr/>
        </p:nvPicPr>
        <p:blipFill>
          <a:blip r:embed="rId3"/>
          <a:srcRect l="0" t="37064" r="0" b="47495"/>
          <a:stretch/>
        </p:blipFill>
        <p:spPr>
          <a:xfrm>
            <a:off x="785880" y="4071960"/>
            <a:ext cx="778680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4" descr=""/>
          <p:cNvPicPr/>
          <p:nvPr/>
        </p:nvPicPr>
        <p:blipFill>
          <a:blip r:embed="rId2"/>
          <a:srcRect l="0" t="53462" r="0" b="15093"/>
          <a:stretch/>
        </p:blipFill>
        <p:spPr>
          <a:xfrm>
            <a:off x="285840" y="1571760"/>
            <a:ext cx="8429400" cy="492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0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4" descr=""/>
          <p:cNvPicPr/>
          <p:nvPr/>
        </p:nvPicPr>
        <p:blipFill>
          <a:blip r:embed="rId2"/>
          <a:srcRect l="2316" t="32433" r="51738" b="42864"/>
          <a:stretch/>
        </p:blipFill>
        <p:spPr>
          <a:xfrm>
            <a:off x="285840" y="1714680"/>
            <a:ext cx="8501040" cy="4214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"/>
          <p:cNvPicPr/>
          <p:nvPr/>
        </p:nvPicPr>
        <p:blipFill>
          <a:blip r:embed="rId2"/>
          <a:srcRect l="2094" t="57141" r="53081" b="22785"/>
          <a:stretch/>
        </p:blipFill>
        <p:spPr>
          <a:xfrm>
            <a:off x="142920" y="1857240"/>
            <a:ext cx="8858160" cy="400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4" descr=""/>
          <p:cNvPicPr/>
          <p:nvPr/>
        </p:nvPicPr>
        <p:blipFill>
          <a:blip r:embed="rId1"/>
          <a:srcRect l="2044" t="77220" r="52555" b="7197"/>
          <a:stretch/>
        </p:blipFill>
        <p:spPr>
          <a:xfrm>
            <a:off x="357120" y="0"/>
            <a:ext cx="7929720" cy="185724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4" descr=""/>
          <p:cNvPicPr/>
          <p:nvPr/>
        </p:nvPicPr>
        <p:blipFill>
          <a:blip r:embed="rId2"/>
          <a:srcRect l="52287" t="0" r="829" b="61775"/>
          <a:stretch/>
        </p:blipFill>
        <p:spPr>
          <a:xfrm>
            <a:off x="285840" y="1785960"/>
            <a:ext cx="8072280" cy="48578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участникам уголовного процесса со стороны защиты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рокуро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ледо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потерпевш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лицам, способствующим проведению уголовного процесса,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зна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виняе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нят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229600" cy="3865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у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тери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асли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стема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а челове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5357880" y="2646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39680" y="158760"/>
            <a:ext cx="8791560" cy="1627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5840" y="200016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Уголовно-процессуальное прав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Гражданск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дминистратив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рбитражн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онституцион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Corbel"/>
              </a:rPr>
              <a:t>РЕГУЛИРУЮТ    СУДОПРОИЗВОДСТ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3" descr=""/>
          <p:cNvPicPr/>
          <p:nvPr/>
        </p:nvPicPr>
        <p:blipFill>
          <a:blip r:embed="rId1"/>
          <a:stretch/>
        </p:blipFill>
        <p:spPr>
          <a:xfrm>
            <a:off x="7524720" y="3643200"/>
            <a:ext cx="1619280" cy="1214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2"/>
          <a:srcRect l="0" t="-364" r="0" b="0"/>
          <a:stretch/>
        </p:blipFill>
        <p:spPr>
          <a:xfrm>
            <a:off x="7500960" y="1714680"/>
            <a:ext cx="1427040" cy="1788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2786040" y="4857840"/>
            <a:ext cx="2060640" cy="1374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4"/>
          <a:stretch/>
        </p:blipFill>
        <p:spPr>
          <a:xfrm>
            <a:off x="3214800" y="2500200"/>
            <a:ext cx="1512720" cy="12416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" descr=""/>
          <p:cNvPicPr/>
          <p:nvPr/>
        </p:nvPicPr>
        <p:blipFill>
          <a:blip r:embed="rId5"/>
          <a:stretch/>
        </p:blipFill>
        <p:spPr>
          <a:xfrm>
            <a:off x="500040" y="21276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68000" y="3860280"/>
            <a:ext cx="3311640" cy="2341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Арбитражный суд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зрешает экономические споры между гражданами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нимающимис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принимательско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еятельностью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 организациям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858920" y="3789000"/>
            <a:ext cx="3745080" cy="2376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ировые суд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ссматривают гражданские, уголовные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дминистративные дела незначитель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ожности в качеств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а первой инстанц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68360" y="1700280"/>
            <a:ext cx="3348000" cy="1739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онституцион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меняет зак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тивореч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нститу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ушающ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859280" y="1700280"/>
            <a:ext cx="2641680" cy="1465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ерхов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ажнейший 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ебной власт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ск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головным де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7931160" y="139680"/>
            <a:ext cx="927000" cy="10494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рбитражный суд рассматривает споры между юридическими лицами, гражданами,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существляющими предпринимательскую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з образования юридического лица и имеющими статус предпринимателя (граждане-предпринимател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42920" y="1857240"/>
            <a:ext cx="4038480" cy="4624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Уголовный процессуаль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уголовный процесс)  — это процесс государственных органов по расследованию и разрешению дел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вязанных с совершением преступлений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14880" y="1714680"/>
            <a:ext cx="4643280" cy="500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.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Органы государства и должностные лица</a:t>
            </a:r>
            <a:r>
              <a:rPr b="0" lang="ru-RU" sz="2200" spc="-1" strike="noStrike">
                <a:solidFill>
                  <a:srgbClr val="0070c0"/>
                </a:solidFill>
                <a:latin typeface="Corbe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уд (судья), прокурор, следователь, орган дознания и лицо, дознавател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Участники уголовного процесса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Лица, привлекаемые в процессе для содейств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285840" y="157140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единолично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ссматривает дела (если санкция не превышает 10 лет лишения свободы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и 12 присяжных заседател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коллегия из трех суд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дела о тяжких и особо тяжких преступлениях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мировой судь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если санкция не превышает трех лет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Содержимое 4" descr="image31.png"/>
          <p:cNvPicPr/>
          <p:nvPr/>
        </p:nvPicPr>
        <p:blipFill>
          <a:blip r:embed="rId2"/>
          <a:stretch/>
        </p:blipFill>
        <p:spPr>
          <a:xfrm>
            <a:off x="4786200" y="1857240"/>
            <a:ext cx="3953160" cy="408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56760" y="1698120"/>
            <a:ext cx="414036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И ГРАЖДАНСКОГО  ПРОЦЕ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9680" y="2286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истец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ответчи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третьи ли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прокурор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адвокат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видетел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эксперт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пециал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428720" y="2428920"/>
            <a:ext cx="4429080" cy="32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Гражданское процессуальное право (процесс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отрасль права, регулирующая порядок рассмотрения судом гражданских де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11:46Z</dcterms:created>
  <dc:creator>Учитель</dc:creator>
  <dc:description/>
  <dc:language>en-US</dc:language>
  <cp:lastModifiedBy>LEGION</cp:lastModifiedBy>
  <dcterms:modified xsi:type="dcterms:W3CDTF">2016-01-04T08:10:28Z</dcterms:modified>
  <cp:revision>65</cp:revision>
  <dc:subject/>
  <dc:title>Процессуальное право</dc:title>
</cp:coreProperties>
</file>