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3173-9FEA-4C07-97BD-F94A129C117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 обществознания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ЦЕССУАЛЬНОЕ ПРАВО: ГРАЖДАНСКИЙ И АРБИТРАЖНЫЙ ПРОЦЕСС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урока обществознания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ОЦЕССУАЛЬНОЕ ПРАВО: ГРАЖДАНСКИЙ И АРБИТРАЖНЫЙ ПРОЦЕСС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е задание ЕГЭ В1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пишите слово, пропущенное во фрагменте таблиц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тороны гражданского судопроизвод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    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   ОТВЕТЧ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те задание ЕГЭ В1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пишите слово, пропущенное во фрагменте таблиц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тороны гражданского судопроизводст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:     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:    ОТВЕТЧ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ТЕЛЬСТВА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цессуальные средства установления истины в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ам известно об обязательности доказательств в уголовном процесс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ota bane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 подлежат допросу в качестве свидетелей священнослужители, если им об обстоятельствах дела стало известно из испове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огут отказаться от дачи свидетельских показаний граждане, если  данные доказательства затрагивают интересы их близ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АЗАТЕЛЬСТВА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оцессуальные средства установления истины в су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ам известно об обязательности доказательств в уголовном процесс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ota ban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е подлежат допросу в качестве свидетелей священнослужители, если им об обстоятельствах дела стало известно из исповед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огут отказаться от дачи свидетельских показаний граждане, если  данные доказательства затрагивают интересы их близк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ДИ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ДИ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часть судебного разбирательства имеет своей целью подвести итог проведенного исследования доказательств. Здесь лица, участвующие в деле, высказывают и аргументируют свои выводы о том, какие доказательства являются достовер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о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часть судебного разбирательства имеет своей целью подвести итог проведенного исследования доказательств. Здесь лица, участвующие в деле, высказывают и аргументируют свои выводы о том, какие доказательства являются достовер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бирательство 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процесс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пецифическая отрасль гражданского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хождение дел в арбитражном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арбитражного процесса – экономические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арбитражного процесса -    граждане, юридические лица, государство, предприниматели без образования юридического лица (ПБОЮ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ный процесс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пецифическая отрасль гражданского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охождение дел в арбитражном су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арбитражного процесса – экономические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арбитражного процесса -    граждане, юридические лица, государство, предприниматели без образования юридического лица (ПБОЮ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е задание ЕГЭ С1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равовых источник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чебник стр. 297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фрагменты 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процессуального кодекс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го процессуального кодекс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жите,  каково соотношение статей указанных источ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жите, в чем общее и особенное в задачах ГПК и АП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те задание ЕГЭ С1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равовых источник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учебник стр. 297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фрагменты 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и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о-процессуального кодекс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ного процессуального кодекс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ажите,  каково соотношение статей указанных источ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ажите, в чем общее и особенное в задачах ГПК и А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 «Принципы гражданского процес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граф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лнить таблицу «Принципы гражданского процес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е задание ЕГЭ С5: Какой смысл вкладывают обществоведы в понятие? Привлекая знания обществоведческого курса, составьте два предложения, содержащие информацию о данном поня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вариан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вари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Я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те задание ЕГЭ С5: Какой смысл вкладывают обществоведы в понятие? Привлекая знания обществоведческого курса, составьте два предложения, содержащие информацию о данном понят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вариан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НЯТ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е задание ЕГЭ С8:  Вам поручено подготовить развернутый план по теме. Составьте план в соответствии с которым вы будете освещать эту тему. План должен содержать не менее трех пунктов, два или более из которых детализированы в подпунк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вариа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циальное обеспече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вариант «Профессиональ-ное образов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те задание ЕГЭ С8:  Вам поручено подготовить развернутый план по теме. Составьте план в соответствии с которым вы будете освещать эту тему. План должен содержать не менее трех пунктов, два или более из которых детализированы в подпунк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вариа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циальное обеспече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 вариант «Профессиональ-ное образова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гражданский процес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гражданского процесса и категории исковых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тельство и доказывание как процессуальные 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гражданский процес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инципы гражданского процесса и категории исковых 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азательство и доказывание как процессуальные  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ди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производство - э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судов по рассмотрению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енные судебные действия, которые в последовательности представляют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производство - э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судов по рассмотрению 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орядоченные судебные действия, которые в последовательности представляют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 процес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ражданско-процессуальное право) -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права, регулирующая порядок рассмотрения и разрешения гражданских дел в суде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 и последовательность процессуаль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участников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ий процес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ражданско-процессуальное право) - э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права, регулирующая порядок рассмотрения и разрешения гражданских дел в суде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 и последовательность процессуаль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участников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текстом учебн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в тексте основные принципы гражданского процесса                (учебник стр. 28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е таблицу, используя материалы учебника и Главу II Конституц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с текстом учебн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йдите в тексте основные принципы гражданского процесса                (учебник стр. 2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лните таблицу, используя материалы учебника и Главу II Конституции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и (виды) де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ражданском проце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егории (виды) де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ражданском проце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ЧАСТНИК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ЧАСТНИКИ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62E5-C67E-48B6-862C-617DD29C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3B28-8E01-4875-8EDC-3F2D0A05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9E2-B7AC-400E-A93A-E6CC6570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8987-76CE-4D9D-9C94-7B26D1183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3AE3-EAD8-40AA-AAB8-EFFC4D4C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4FE8-C297-427E-81B1-4F11C41A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DC7E-90E4-44DF-B807-67D3773C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91E2-970B-4A54-9B36-FC176235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41E5-89D7-4FC7-91CC-B88929D4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0A33-B177-481F-931C-33E5DC1C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F095-BF32-4893-9EEB-F99E06D6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E6DC-6115-4092-9B00-AC222003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D819-1489-48DA-AEF4-AD348A3E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C8E7-3473-4ABC-AAAB-FC8CCDD7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517A-D976-47DE-B9DF-765112C6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1E67-4FED-4186-BF3D-E13D36D9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8768-8938-48C2-9C15-6DAD8DE4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04F7B-B42E-4CCA-B677-02287399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451D8-EB68-413B-ABC2-CE9CCC68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AC9F8-73C7-4AEE-90A6-807EA9F2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43516-E42C-4A9E-A21D-85D81F5D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88EBB-9BC5-4E5D-98AE-66676440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4023-CDBF-4C25-A675-E9EE97B3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22595-05B0-4653-BD76-2D4E0FC8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3916D-D915-4609-A652-AA9F88B4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D53F9-61F4-4A54-8A66-289C0280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ECA65-313C-41F5-B3CE-6657947D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13ED5-7816-46AA-9DC3-7DC0FA8A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97A31-4019-49B6-8436-1D8DACB4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40750-0C5D-4C3F-B4F1-10F85727A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E73A6-AFD1-4EE1-A13C-98DCC2D3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CFE71-F08C-4D3C-A964-72B5D88E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34389-0EDB-4184-B86E-86F68842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6C7A-EA29-4250-A1D4-5DCEFE63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F9AD8-C7DF-49AE-8ED0-13B5B40E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7BD7E-0373-4F9B-91FA-99FEDA9E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D290A-3F0B-4A1E-A027-A20EAF11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0EF22-E5A6-4698-999F-62B8AAAC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D824F-676C-4A93-A106-D70E0EEA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E90F6-10DD-4E47-9E61-CAF2B48B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049D6-27E8-4641-9B5F-94D69777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70E27-0807-473C-83F4-6C1CDC43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AC0E7-269C-4EEA-930E-67907CE1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22698-1791-4396-8218-2A7AD169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07C-CBA6-47B5-A058-97FA7C2E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E917D-6C97-4932-BAC0-915309B7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6D371-A983-483D-A145-CBF1D050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FC886-7789-4F3C-A75D-70AAD4CB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34C1D-4988-4DD7-A611-8A529422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2EA1F-B141-4DC3-B7B8-BF49F69E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0414E-DA23-4911-B328-481A5B08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BF6DC-546C-41C6-BE09-9D0CFBEC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DA763-550A-4FA6-A682-D309EAAB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BFDD7-F47F-4440-A3D0-850E22ED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03F05-7C44-440A-BC7E-88CA7926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B470-AAF1-430B-830A-3FBC48A4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6549E-440A-46CE-9CD7-0D1994B9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1903-9102-4EEF-B262-A8DB2DF4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7AA0-56E1-462E-936C-BAD1F084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95E7-FBE7-49A7-9DA6-E179DBA6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D502-6FB3-4BCF-AD19-3C4769689A9F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BB4F-BCFC-4F7C-AE21-EC38D355389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A3D6-982F-4A47-9EF4-1732C4AE1388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3F71-B4B3-4235-BD86-DCC5B2B471F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DEE5-993A-407D-BDD6-057EE819F818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39FC-0ABA-491E-A023-C4276D3E6BF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5E78-C564-47B0-B901-FB09C7D5249D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67BA-35A8-4EEE-B552-91A9F42EA9A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63D4-6180-43DD-8704-12CC7BA02FC5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B7A6-AE4B-46A3-B88C-5BC59C6B10C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696464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500040" y="157140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Тема урока обществознания: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«ПРОЦЕССУАЛЬНОЕ ПРАВО: ГРАЖДАНСКИЙ И АРБИТРАЖНЫЙ ПРОЦЕСС»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7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115120" cy="2368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полните задание ЕГЭ В1: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 Запишите слово, пропущенное во фрагменте таблицы</a:t>
            </a:r>
            <a:br>
              <a:rPr sz="3600"/>
            </a:b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«Стороны гражданского судопроизводства»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28760" y="2571840"/>
          <a:ext cx="8258040" cy="3597120"/>
        </p:xfrm>
        <a:graphic>
          <a:graphicData uri="http://schemas.openxmlformats.org/drawingml/2006/table">
            <a:tbl>
              <a:tblPr/>
              <a:tblGrid>
                <a:gridCol w="4128840"/>
                <a:gridCol w="41292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Наименование стор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Их сущ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078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. .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Лицо, которое предположительно нарушило права истца и которое по указанию последнего привлекается судом в проце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267" name="TextBox 4"/>
          <p:cNvSpPr/>
          <p:nvPr/>
        </p:nvSpPr>
        <p:spPr>
          <a:xfrm>
            <a:off x="928800" y="62866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твет:     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857160" y="62866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твет:    ОТВЕТ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ДОКАЗАТЕЛЬСТВА -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14400" y="144756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Это процессуальные средства установления истины в суд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Прямоугольник 3"/>
          <p:cNvSpPr/>
          <p:nvPr/>
        </p:nvSpPr>
        <p:spPr>
          <a:xfrm>
            <a:off x="1016640" y="2428920"/>
            <a:ext cx="124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2714760" y="2214720"/>
            <a:ext cx="5214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Что вам известно об обязательности доказательств в уголовном процесс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5"/>
          <p:cNvSpPr/>
          <p:nvPr/>
        </p:nvSpPr>
        <p:spPr>
          <a:xfrm>
            <a:off x="928800" y="421488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Nota bane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не подлежат допросу в качестве свидетелей священнослужители, если им об обстоятельствах дела стало известно из испове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могут отказаться от дачи свидетельских показаний граждане, если  данные доказательства затрагивают интересы их близ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ТАДИИ ГРАЖДАНСКОГО ПРОЦЕСС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7" name="Содержимое 3" descr=""/>
          <p:cNvPicPr/>
          <p:nvPr/>
        </p:nvPicPr>
        <p:blipFill>
          <a:blip r:embed="rId1"/>
          <a:stretch/>
        </p:blipFill>
        <p:spPr>
          <a:xfrm>
            <a:off x="907920" y="1450800"/>
            <a:ext cx="7785360" cy="457200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Задание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Эта часть судебного разбирательства имеет своей целью подвести итог проведенного исследования доказательств. Здесь лица, участвующие в деле, высказывают и аргументируют свои выводы о том, какие доказательства являются достоверным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Прямоугольник 3"/>
          <p:cNvSpPr/>
          <p:nvPr/>
        </p:nvSpPr>
        <p:spPr>
          <a:xfrm>
            <a:off x="802440" y="4143240"/>
            <a:ext cx="124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3571920" y="4429080"/>
            <a:ext cx="50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Разбирательство 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797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Арбитражный процесс – 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-специфическая отрасль гражданского процесса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-прохождение дел в арбитражном суд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14400" y="349992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едмет арбитражного процесса – экономические споры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убъекты арбитражного процесса -    граждане, юридические лица, государство, предприниматели без образования юридического лица (ПБОЮЛ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Місце для нижнього колонтитула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2368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полните задание ЕГЭ С1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: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Анализ правовых источников </a:t>
            </a:r>
            <a:br>
              <a:rPr sz="3600"/>
            </a:b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(учебник стр. 297)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пользуя фрагменты из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857160" y="2714760"/>
            <a:ext cx="777240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нституции РФ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Гражданско-процессуального кодекса РФ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рбитражного процессуального кодекса РФ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кажите,  каково соотношение статей указанных источник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кажите, в чем общее и особенное в задачах ГПК и АП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омашнее задание 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араграф 25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аполнить таблицу «Принципы гражданского процесса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3440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полните задание ЕГЭ С5: 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Какой смысл вкладывают обществоведы в понятие? Привлекая знания обществоведческого курса, составьте два предложения, содержащие информацию о данном понятии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040" y="4071600"/>
            <a:ext cx="2871720" cy="19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вариант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БРАЗОВАНИ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857560" y="4142880"/>
            <a:ext cx="282564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I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вариан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АНЯТОСТ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3940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ыполните задание ЕГЭ С8:  </a:t>
            </a: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Вам поручено подготовить развернутый план по теме. Составьте план в соответствии с которым вы будете освещать эту тему. План должен содержать не менее трех пунктов, два или более из которых детализированы в подпунктах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4142880"/>
            <a:ext cx="374976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вариант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«Социальное обеспечение»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285800" y="4142880"/>
            <a:ext cx="439740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I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вариант «Профессиональ-ное образование»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лан урок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нятие «гражданский процесс»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сновные принципы гражданского процесса и категории исковых дел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Участники гражданского процесс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Доказательство и доказывание как процессуальные  средств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тадии гражданского процесс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Арбитражный процесс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удопроизводство - это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еятельность судов по рассмотрению дел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Упорядоченные судебные действия, которые в последовательности представляют процесс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1868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Гражданский процесс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(гражданско-процессуальное право) - это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2142720"/>
            <a:ext cx="777240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трасль права, регулирующая порядок рассмотрения и разрешения гражданских дел в суде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рядок  и последовательность процессуальных действий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рава и обязанности участников процесс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Работа с текстом учебника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00080" y="128556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Найдите в тексте </a:t>
            </a:r>
            <a:r>
              <a:rPr b="0" i="1" lang="ru-RU" sz="3200" spc="-1" strike="noStrike">
                <a:solidFill>
                  <a:srgbClr val="ff0000"/>
                </a:solidFill>
                <a:latin typeface="Cambria"/>
              </a:rPr>
              <a:t>основные принципы гражданского процесса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(учебник стр. 288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Заполните таблицу, используя материалы учебника и Главу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Конституции РФ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928800" y="4000680"/>
          <a:ext cx="7715160" cy="2595240"/>
        </p:xfrm>
        <a:graphic>
          <a:graphicData uri="http://schemas.openxmlformats.org/drawingml/2006/table">
            <a:tbl>
              <a:tblPr/>
              <a:tblGrid>
                <a:gridCol w="3857400"/>
                <a:gridCol w="3857760"/>
              </a:tblGrid>
              <a:tr h="222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ринципы гражданского процессуального пра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Какое право человека и гражданина защищает данный принци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25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Категории (виды) дел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в гражданском процесс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0" name="Содержимое 3" descr=""/>
          <p:cNvPicPr/>
          <p:nvPr/>
        </p:nvPicPr>
        <p:blipFill>
          <a:blip r:embed="rId1"/>
          <a:stretch/>
        </p:blipFill>
        <p:spPr>
          <a:xfrm>
            <a:off x="907920" y="1450800"/>
            <a:ext cx="7785360" cy="457200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УЧАСТНИКИ ГРАЖДАНСКОГО ПРОЦЕСС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3" name="Содержимое 3" descr=""/>
          <p:cNvPicPr/>
          <p:nvPr/>
        </p:nvPicPr>
        <p:blipFill>
          <a:blip r:embed="rId1"/>
          <a:stretch/>
        </p:blipFill>
        <p:spPr>
          <a:xfrm>
            <a:off x="907920" y="1420920"/>
            <a:ext cx="7785360" cy="460188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696464"/>
                </a:solidFill>
                <a:latin typeface="Perpetu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09:51Z</dcterms:modified>
  <cp:revision>14</cp:revision>
  <dc:subject/>
  <dc:title>Тема урока обществознания: «ПРОЦЕССУАЛЬНОЕ ПРАВО: ГРАЖДАНСКИЙ И АРБИТРАЖНЫЙ ПРОЦЕСС»</dc:title>
</cp:coreProperties>
</file>