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C538-17FE-4F2E-AE96-53F08989E93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обществознания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ЦЕССУАЛЬНОЕ ПРАВО: ГРАЖДАНСКИЙ И АРБИТРАЖНЫЙ ПРОЦЕСС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урока обществознания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ОЦЕССУАЛЬНОЕ ПРАВО: ГРАЖДАНСКИЙ И АРБИТРАЖНЫЙ ПРОЦЕСС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В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пишите слово, пропущенное во фрагменте таблиц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ороны гражданского судопроизвод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    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   ОТВЕТЧ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В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пишите слово, пропущенное во фрагменте таблиц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тороны гражданского судопроизводст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    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   ОТВЕТЧ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ЕЛЬСТВА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цессуальные средства установления истины в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ам известно об обязательности доказательств в уголовном процесс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ota bane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 подлежат допросу в качестве свидетелей священнослужители, если им об обстоятельствах дела стало известно из испове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гут отказаться от дачи свидетельских показаний граждане, если  данные доказательства затрагивают интересы их близ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ТЕЛЬСТВА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оцессуальные средства установления истины в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ам известно об обязательности доказательств в уголовном процесс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ota ban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 подлежат допросу в качестве свидетелей священнослужители, если им об обстоятельствах дела стало известно из исповед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гут отказаться от дачи свидетельских показаний граждане, если  данные доказательства затрагивают интересы их близ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часть судебного разбирательства имеет своей целью подвести итог проведенного исследования доказательств. Здесь лица, участвующие в деле, высказывают и аргументируют свои выводы о том, какие доказательства являются достовер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часть судебного разбирательства имеет своей целью подвести итог проведенного исследования доказательств. Здесь лица, участвующие в деле, высказывают и аргументируют свои выводы о том, какие доказательства являются достовер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бирательство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процесс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ецифическая отрасль гражданского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хождение дел в арбитражном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арбитражного процесса – экономически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арбитражного процесса -    граждане, юридические лица, государство, предприниматели без образования юридического лица (ПБОЮ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й процесс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пецифическая отрасль гражданского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охождение дел в арбитражном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арбитражного процесса – экономически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арбитражного процесса -    граждане, юридические лица, государство, предприниматели без образования юридического лица (ПБОЮ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С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авовых источник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чебник стр. 297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фрагменты 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го 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,  каково соотношение статей указанных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, в чем общее и особенное в задачах ГПК и АП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С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равовых источник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учебник стр. 297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фрагменты 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-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ого 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жите,  каково соотношение статей указанных источ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жите, в чем общее и особенное в задачах ГПК и А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 «Принципы гражданского процес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граф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лнить таблицу «Принципы гражданского процес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С5: Какой смысл вкладывают обществоведы в понятие? Привлекая знания обществоведческого курса, составьте два предложения, содержащие информацию о данном пон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вариан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С5: Какой смысл вкладывают обществоведы в понятие? Привлекая знания обществоведческого курса, составьте два предложения, содержащие информацию о данном поня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вариан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ЯТ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С8:  Вам поручено подготовить развернутый план по теме. Составьте план в соответствии с которым вы будете освещать эту тему. План должен содержать не менее трех пунктов, два или более из которых детализированы в подпун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вариа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циальное обеспеч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вариант «Профессиональ-ное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С8:  Вам поручено подготовить развернутый план по теме. Составьте план в соответствии с которым вы будете освещать эту тему. План должен содержать не менее трех пунктов, два или более из которых детализированы в подпунк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вариа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циальное обеспече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вариант «Профессиональ-ное образова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гражданский процес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гражданского процесса и категории исковых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ельство и доказывание как процессуальные 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гражданский проце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гражданского процесса и категории исковых 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тельство и доказывание как процессуальные 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производство -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удов по рассмотрению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ные судебные действия, которые в последовательности представляют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производство - э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судов по рассмотрению 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орядоченные судебные действия, которые в последовательности представляют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ражданско-процессуальное право) -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права, регулирующая порядок рассмотрения и разрешения гражданских дел в суде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 и последовательность процессуаль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участников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й процес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ражданско-процессуальное право) - э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права, регулирующая порядок рассмотрения и разрешения гражданских дел в суде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 и последовательность процессуаль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участников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текстом учеб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в тексте основные принципы гражданского процесса                (учебник стр. 28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е таблицу, используя материалы учебника и Главу II 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текстом учебн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те в тексте основные принципы гражданского процесса                (учебник стр. 2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лните таблицу, используя материалы учебника и Главу II Конституц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(виды) де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ражданском проце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егории (виды) де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ражданск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AE56-1308-4C86-BDBF-36379B8F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064-92E9-4877-8339-A82B0BDF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A29-5597-456B-B79C-55200D69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64ED-6A54-40DD-AD2A-F82D6617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B294-3249-417F-A357-CC5A6EC8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D1E7-573A-41CF-9CA7-33B69E57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25C2-B9A9-4DCF-BB75-89E86590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0EAA-0C67-4231-8161-372A2FD3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DB62-B570-40B9-B520-656E6A39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B043-0564-479E-B80E-B33EC364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9D83-445C-44DC-B152-92A55DB4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DE53-0A38-4636-B639-50548F3B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7995-2779-4DF9-9291-E457CC3A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7158-C00C-40B4-9190-640878F1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61A3-F780-4F28-9673-DF2E9B4C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4144-0127-4B88-9BED-477E4B0A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1080-FDDE-4A92-9D56-07AB1114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E67FA-7D4F-4E98-BD46-8A7F5DDF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95384-1671-4495-BA5A-388D5BB6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C8306-8660-47CE-8301-FEE847B8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8BD95-C9F6-4B8C-959D-DE056415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D090B-95E1-4363-A933-6F7B5F0D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AC1-3EE3-4248-8100-81868752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D4AA5-CAF2-462E-A892-146A90E6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40138-9ADA-4D8A-AEEF-D0F964CC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7C8CD-D419-4B21-BEC1-3BB027E6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C142C-A651-43C8-8C47-54363C66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EB3B1-9E2B-4AA6-AC3C-6FBC72BD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C3848-3FA1-415A-A5A4-4BBD67AE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D47FE-7965-4AB6-9099-952ACD65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EA7DC-B8B4-473E-90F9-F08B33D2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1B8B6-F6EB-439F-8119-A646D52A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6AD2D-4AB1-42A4-994E-C2206617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38B-B4D7-4F8D-8A70-6849B091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95DAA-4F32-4CB3-AD60-3A4EA9E1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4EDD7-016F-4322-BBBF-168D3F6C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C98F2-7729-4BD3-8C8E-97F3DB39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F4D35-A7D1-4D0A-AC4B-638C6017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DB0FE-E65D-4B4C-B139-27015243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ED93E-0325-4FF9-8CB4-5AE84071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2A401-21AB-4498-8CA5-84471D47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60835-8225-4401-AD4A-971A9B87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80689-1E1F-4C8E-A3EC-64ED4EF0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70261-ABA7-469B-BE70-50A48632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84C-A193-4034-A09F-4DED0D63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D57C8-BC24-4AD7-98A3-2551ED4C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66DB0-7527-4CFE-848A-05C1B127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26FDA-3B90-40CF-A443-589060D3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633AB-B32C-467A-9190-E9CA3235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19637-2EFB-428B-8B7E-1C8753EE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49C87-534B-46E9-BC7A-3458D3CA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3C517-CB6A-45C0-BA29-C283C07D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7E69C-50CB-4A9B-AE61-1603E0B4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17485-E3E6-44ED-B169-2E4F2781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4996E-A0DC-45B3-8082-3494B7FE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544-5340-4D9A-8DB8-6FBBF9A7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B213C-CFA4-425E-8BC2-518B1E06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361-C191-4BDF-AAF1-585DFEDE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8C35-1E12-47A8-B0F8-AD7AA510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D244-53A6-40D2-87AE-EEBF1BFE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201F-9874-4266-9A12-574FFCD5EEA7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1574-2F51-46EF-9AC0-DB31CE82216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C25B-D222-4C5B-8C64-052AADC34400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175C-FB39-477C-B6E0-AB447DC2962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156C-267A-46C3-BFBA-AACF74392E50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7137-11F9-4331-A9E4-2A8572C1FC0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50B5-FD4A-4A4C-83AA-ABFB8D3E06CD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A8F9-FC23-4870-9455-712439947FA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0905-CE2C-4794-91F4-5269E5EF387B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6451-2A6D-4198-980F-18DBB6BF896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500040" y="157140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Тема урока обществознания: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«ПРОЦЕССУАЛЬНОЕ ПРАВО: ГРАЖДАНСКИЙ И АРБИТРАЖНЫЙ ПРОЦЕСС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2368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В1: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 Запишите слово, пропущенное во фрагменте таблицы</a:t>
            </a:r>
            <a:br>
              <a:rPr sz="3600"/>
            </a:b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«Стороны гражданского судопроизводства»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28760" y="2571840"/>
          <a:ext cx="8258040" cy="3597120"/>
        </p:xfrm>
        <a:graphic>
          <a:graphicData uri="http://schemas.openxmlformats.org/drawingml/2006/table">
            <a:tbl>
              <a:tblPr/>
              <a:tblGrid>
                <a:gridCol w="4128840"/>
                <a:gridCol w="4129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Наименование стор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х сущ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07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 .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Лицо, которое предположительно нарушило права истца и которое по указанию последнего привлекается судом в проце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267" name="TextBox 4"/>
          <p:cNvSpPr/>
          <p:nvPr/>
        </p:nvSpPr>
        <p:spPr>
          <a:xfrm>
            <a:off x="928800" y="62866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твет:     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857160" y="62866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твет:    ОТВЕТ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ДОКАЗАТЕЛЬСТВА -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56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то процессуальные средства установления истины в суд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Прямоугольник 3"/>
          <p:cNvSpPr/>
          <p:nvPr/>
        </p:nvSpPr>
        <p:spPr>
          <a:xfrm>
            <a:off x="1016640" y="2428920"/>
            <a:ext cx="124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2714760" y="2214720"/>
            <a:ext cx="5214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то вам известно об обязательности доказательств в уголовном процес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928800" y="421488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Nota bane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не подлежат допросу в качестве свидетелей священнослужители, если им об обстоятельствах дела стало известно из испове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могут отказаться от дачи свидетельских показаний граждане, если  данные доказательства затрагивают интересы их близ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ТАДИИ ГРАЖДАНСКОГО ПРОЦЕСС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7" name="Содержимое 3" descr=""/>
          <p:cNvPicPr/>
          <p:nvPr/>
        </p:nvPicPr>
        <p:blipFill>
          <a:blip r:embed="rId1"/>
          <a:stretch/>
        </p:blipFill>
        <p:spPr>
          <a:xfrm>
            <a:off x="907920" y="1450800"/>
            <a:ext cx="7785360" cy="457200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Задание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та часть судебного разбирательства имеет своей целью подвести итог проведенного исследования доказательств. Здесь лица, участвующие в деле, высказывают и аргументируют свои выводы о том, какие доказательства являются достоверным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802440" y="4143240"/>
            <a:ext cx="124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3571920" y="442908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Разбирательство 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79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рбитражный процесс – 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-специфическая отрасль гражданского процесса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-прохождение дел в арбитражном суд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349992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едмет арбитражного процесса – экономические спор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убъекты арбитражного процесса -    граждане, юридические лица, государство, предприниматели без образования юридического лица (ПБОЮЛ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2368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С1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Анализ правовых источников 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(учебник стр. 297)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пользуя фрагменты из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857160" y="2714760"/>
            <a:ext cx="77724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нституции Р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ражданско-процессуального кодекса Р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рбитражного процессуального кодекса Р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кажите,  каково соотношение статей указанных источни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кажите, в чем общее и особенное в задачах ГПК и АП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омашнее задание 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араграф 25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полнить таблицу «Принципы гражданского процесса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3440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С5: 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Какой смысл вкладывают обществоведы в понятие? Привлекая знания обществоведческого курса, составьте два предложения, содержащие информацию о данном понятии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040" y="4071600"/>
            <a:ext cx="287172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вариант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РАЗОВАНИ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857560" y="4142880"/>
            <a:ext cx="282564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вариан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НЯТ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3940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С8:  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Вам поручено подготовить развернутый план по теме. Составьте план в соответствии с которым вы будете освещать эту тему. План должен содержать не менее трех пунктов, два или более из которых детализированы в подпунктах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4142880"/>
            <a:ext cx="374976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вариант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«Социальное обеспечение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5800" y="4142880"/>
            <a:ext cx="439740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вариант «Профессиональ-ное образование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лан урок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нятие «гражданский процесс»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сновные принципы гражданского процесса и категории исковых дел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частники гражданского проце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Доказательство и доказывание как процессуальные  средств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тадии гражданского проце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Арбитражный процесс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удопроизводство - это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еятельность судов по рассмотрению де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Упорядоченные судебные действия, которые в последовательности представляют процесс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1868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Гражданский процесс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(гражданско-процессуальное право) - это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2142720"/>
            <a:ext cx="777240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трасль права, регулирующая порядок рассмотрения и разрешения гражданских дел в суде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рядок  и последовательность процессуальных действий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рава и обязанности участников проце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Работа с текстом учебника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00080" y="128556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айдите в тексте </a:t>
            </a:r>
            <a:r>
              <a:rPr b="0" i="1" lang="ru-RU" sz="3200" spc="-1" strike="noStrike">
                <a:solidFill>
                  <a:srgbClr val="ff0000"/>
                </a:solidFill>
                <a:latin typeface="Cambria"/>
              </a:rPr>
              <a:t>основные принципы гражданского процесса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учебник стр. 288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Заполните таблицу, используя материалы учебника и Главу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Конституции РФ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928800" y="4000680"/>
          <a:ext cx="7715160" cy="2595240"/>
        </p:xfrm>
        <a:graphic>
          <a:graphicData uri="http://schemas.openxmlformats.org/drawingml/2006/table">
            <a:tbl>
              <a:tblPr/>
              <a:tblGrid>
                <a:gridCol w="3857400"/>
                <a:gridCol w="3857760"/>
              </a:tblGrid>
              <a:tr h="222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инципы гражданского процессуального пра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акое право человека и гражданина защищает данный принци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25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Категории (виды) дел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 гражданском процесс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0" name="Содержимое 3" descr=""/>
          <p:cNvPicPr/>
          <p:nvPr/>
        </p:nvPicPr>
        <p:blipFill>
          <a:blip r:embed="rId1"/>
          <a:stretch/>
        </p:blipFill>
        <p:spPr>
          <a:xfrm>
            <a:off x="907920" y="1450800"/>
            <a:ext cx="7785360" cy="45720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ЧАСТНИКИ ГРАЖДАНСКОГО ПРОЦЕСС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3" name="Содержимое 3" descr=""/>
          <p:cNvPicPr/>
          <p:nvPr/>
        </p:nvPicPr>
        <p:blipFill>
          <a:blip r:embed="rId1"/>
          <a:stretch/>
        </p:blipFill>
        <p:spPr>
          <a:xfrm>
            <a:off x="907920" y="1420920"/>
            <a:ext cx="7785360" cy="460188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09:51Z</dcterms:modified>
  <cp:revision>14</cp:revision>
  <dc:subject/>
  <dc:title>Тема урока обществознания: «ПРОЦЕССУАЛЬНОЕ ПРАВО: ГРАЖДАНСКИЙ И АРБИТРАЖНЫЙ ПРОЦЕСС»</dc:title>
</cp:coreProperties>
</file>