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CBC4-3641-40EA-8672-FEF250A7FE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 Ковд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Томилова Алё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6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 Ковд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Томилова Алё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ца 6 «А» кла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проводило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 №1,2,3 Ковдорс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ятся в вашей шк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е проводилос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 №1,2,3 Ковдорского райо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ятся в вашей школ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1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1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2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2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нтересны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3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интересные мероприя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 : Налич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4 : Налич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5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ы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6: способы сокра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6: способы сокращ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у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уж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ирование подрост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ирование подростк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сследова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 в Ковдорском рай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а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е межведомственные рей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 в Ковдорском район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активное взаимодейств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ые межведомственные рей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ая служба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A07-CF79-4B89-AE96-EBE9C38B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415-7994-4482-AA7D-1D5F604E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9DE-00FE-4A13-8E13-8C7DB993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BA0-EC56-41D5-9FE5-85105CAF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E7A-F736-4D7D-95F2-A25D32CF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82D-D70C-4BD6-9E8C-4BF0DF5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D4B-8BCC-43DE-A938-0C97E7A4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9A9-9B57-4B77-8952-29375DFD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254-BD17-4615-B23A-E6AFB1B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EF9-0D60-495F-BC9B-38EF2885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3F5-2D41-4EB7-A8E6-1BB9FC3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78C-88A7-4A84-954E-1279430F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86A5-E31F-4F5C-9EFF-82FC6C6605F6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1530-1288-490A-96A9-6C0DF4DB51D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7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6008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XII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енические чтения «Шаг в будущее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ород  Ковд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6480" y="1925640"/>
            <a:ext cx="469404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dsc06407_001.jpg"/>
          <p:cNvPicPr/>
          <p:nvPr/>
        </p:nvPicPr>
        <p:blipFill>
          <a:blip r:embed="rId2"/>
          <a:stretch/>
        </p:blipFill>
        <p:spPr>
          <a:xfrm>
            <a:off x="4643280" y="1871640"/>
            <a:ext cx="4235760" cy="3659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-42840" y="3591000"/>
            <a:ext cx="4938840" cy="17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2920" y="214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4240" y="1928880"/>
          <a:ext cx="7500960" cy="432252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1052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О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сентябре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январе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СОШ №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СКОУ СКОШ №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АОУ МО СПО «КПК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47840"/>
            <a:ext cx="885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-79200"/>
            <a:ext cx="761364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0" y="1285920"/>
            <a:ext cx="8286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Анкета включала следующие вопрос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мероприятия, направленные на предотвращение вредных привычек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водятся в вашей школ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 какой форме вы получаете информаци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об ответственности подростков перед Закон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 вы думаете, почему подростки совершают преступле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из мероприятий, названных вами в п.1,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ы считаете наиболее интересными и эффективными (полезными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Напишите ваше мнение, как можно сократить преступность в подростковой среде?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133200"/>
            <a:ext cx="66261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2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08960" cy="55101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92160"/>
            <a:ext cx="74437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Диаграмма 2" descr=""/>
          <p:cNvPicPr/>
          <p:nvPr/>
        </p:nvPicPr>
        <p:blipFill>
          <a:blip r:embed="rId2"/>
          <a:stretch/>
        </p:blipFill>
        <p:spPr>
          <a:xfrm>
            <a:off x="281160" y="1139760"/>
            <a:ext cx="8150040" cy="5432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-182520" y="-92160"/>
            <a:ext cx="8759880" cy="15130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2" descr=""/>
          <p:cNvPicPr/>
          <p:nvPr/>
        </p:nvPicPr>
        <p:blipFill>
          <a:blip r:embed="rId2"/>
          <a:stretch/>
        </p:blipFill>
        <p:spPr>
          <a:xfrm>
            <a:off x="0" y="1285920"/>
            <a:ext cx="8931240" cy="49989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4224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2" descr=""/>
          <p:cNvPicPr/>
          <p:nvPr/>
        </p:nvPicPr>
        <p:blipFill>
          <a:blip r:embed="rId2"/>
          <a:stretch/>
        </p:blipFill>
        <p:spPr>
          <a:xfrm>
            <a:off x="281160" y="1500120"/>
            <a:ext cx="8003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2" descr="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-298440" y="-146160"/>
            <a:ext cx="7510320" cy="2614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103320"/>
            <a:ext cx="9236160" cy="162864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3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9004320" cy="528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-212760"/>
            <a:ext cx="8412120" cy="6784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571176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95280" y="1052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25360"/>
            <a:ext cx="9339120" cy="3846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928880" y="3357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99"/>
                </a:solidFill>
                <a:latin typeface="Arial"/>
                <a:ea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19080"/>
            <a:ext cx="3511800" cy="145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10785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1. Проанализировать состояние профилактической работы в стране и в регио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666432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27640" y="-603360"/>
            <a:ext cx="47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IMG_0066(1).jpg"/>
          <p:cNvPicPr/>
          <p:nvPr/>
        </p:nvPicPr>
        <p:blipFill>
          <a:blip r:embed="rId2"/>
          <a:stretch/>
        </p:blipFill>
        <p:spPr>
          <a:xfrm>
            <a:off x="179280" y="1413000"/>
            <a:ext cx="4248360" cy="280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244440" y="4237200"/>
            <a:ext cx="4919760" cy="1846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284720" y="4334040"/>
            <a:ext cx="48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2600"/>
            <a:ext cx="4187880" cy="1932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00000" y="119700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589680"/>
            <a:ext cx="8459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анкетирование подростков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беседа с социальными педагогами шко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176040"/>
            <a:ext cx="8163000" cy="1560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1620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Преступления, совершаемые несовершеннолетним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являются наиболее опасным и широко распространенным явлением в наше время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20001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3" descr="IMG_1155.jpg"/>
          <p:cNvPicPr/>
          <p:nvPr/>
        </p:nvPicPr>
        <p:blipFill>
          <a:blip r:embed="rId1"/>
          <a:stretch/>
        </p:blipFill>
        <p:spPr>
          <a:xfrm>
            <a:off x="5929200" y="5000760"/>
            <a:ext cx="3214800" cy="18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910116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19:36Z</dcterms:created>
  <dc:creator>user</dc:creator>
  <dc:description/>
  <dc:language>en-US</dc:language>
  <cp:lastModifiedBy>LEGION</cp:lastModifiedBy>
  <dcterms:modified xsi:type="dcterms:W3CDTF">2016-01-04T08:09:40Z</dcterms:modified>
  <cp:revision>48</cp:revision>
  <dc:subject/>
  <dc:title>Профилактика правонарушений среди подростков</dc:title>
</cp:coreProperties>
</file>