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D189-0019-4F7A-AF73-E8422344BC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правонарушений среди подрос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II ученические чтения «Шаг в будуще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  Ковд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 Томилова Алё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ца 6 «А»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 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ый руководитель: Старкова Мария Анатол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й педаг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 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филактика правонарушений среди подрост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XII ученические чтения «Шаг в будущее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  Ковдо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втор: Томилова Алё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еница 6 «А» класс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а №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чный руководитель: Старкова Мария Анатолье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ый педаго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а №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димая профилактическая работа в учреждениях сегодня дает положительные результа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водимая профилактическая работа в учреждениях сегодня дает положительные результат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дела об административных и уголовных правонарушениях все же продолжают поступать на рассмотрение Комиссии по делам несовершеннолетни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говорит о необходимости сделать профилактическую работу в регионе еще более эффективной, в чем может помочь настоящее исслед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днако дела об административных и уголовных правонарушениях все же продолжают поступать на рассмотрение Комиссии по делам несовершеннолетних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говорит о необходимости сделать профилактическую работу в регионе еще более эффективной, в чем может помочь настоящее исследова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проводилос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анкетирования учащих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 №1,2,3 Ковдорского рай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а включала следующие вопрос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мероприятия, направленные на предотвращение вредных привычек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дятся в вашей школ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форме вы получаете информац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ответственности подростков перед Закон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проведения какого из названых вами в п.1,2 мероприятий в школе, вы или ваши друзья решили избавиться от какой-либо привычки или отказаться от мысли совершить правонаруш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думаете, почему подростки совершают преступ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из мероприятий, названных вами в п.1,2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считаете наиболее интересными и эффективными (полезными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ишите ваше мнение, как можно сократить преступность в подростковой сред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следование проводилось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основании анкетирования учащихс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 №1,2,3 Ковдорского район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кета включала следующие вопросы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ие мероприятия, направленные на предотвращение вредных привычек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водятся в вашей школ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какой форме вы получаете информацию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 ответственности подростков перед Законом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ле проведения какого из названых вами в п.1,2 мероприятий в школе, вы или ваши друзья решили избавиться от какой-либо привычки или отказаться от мысли совершить правонарушени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 вы думаете, почему подростки совершают преступления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ие из мероприятий, названных вами в п.1,2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 считаете наиболее интересными и эффективными (полезными)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ишите ваше мнение, как можно сократить преступность в подростковой среде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 на вопрос 1 показа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ы на вопрос 1 показал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 на вопрос 2 показа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ы на вопрос 2 показал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интересные меро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 3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иболее интересные мероприят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 : Налич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го эффекта от меро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 4 : Налич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ожительного эффекта от мероприят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подростк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 5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чины подростков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ступ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6: способы сокращ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 6: способы сокращ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ступ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теза: формы профилактической работ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зывающие наибольший интерес у подростков, являются наиболе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ыми» - опровергнута результатами исслед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популярные среди подростков Декада «SOS» и тематические классные часы не заставляют ребят оказаться от вредных привычек и совершения правонару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нство опрошенных считают, что количество правонарушений в подростковой среде можно сократ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нуж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ще приглашать специалистов для бесед с подростками в шко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рно демонстрировать подросткам негативные примеры поведения несовершеннолетних и рассказывать о том, как за это дети наказ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ь родителей работе с детьми и помогать им в этом, рассказывать родителям о том, что дети мечтают о большем внимании со стороны взросл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ипотеза: формы профилактической работы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зывающие наибольший интерес у подростков, являются наиболе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ффективными» - опровергнута результатами исследова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иболее популярные среди подростков Декада «SOS» и тематические классные часы не заставляют ребят оказаться от вредных привычек и совершения правонаруш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ольшинство опрошенных считают, что количество правонарушений в подростковой среде можно сократи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этого нужно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аще приглашать специалистов для бесед с подростками в школ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гулярно демонстрировать подросткам негативные примеры поведения несовершеннолетних и рассказывать о том, как за это дети наказан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ить родителей работе с детьми и помогать им в этом, рассказывать родителям о том, что дети мечтают о большем внимании со стороны взрослых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ть наиболее эффективные методы работы по профилактике подростковой преступности, опираясь на интересы и мнение самих подрос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ль работ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явить наиболее эффективные методы работы по профилактике подростковой преступности, опираясь на интересы и мнение самих подрост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вать в школе условия для досуговой деятельности ребят «группы риска» и контролировать их досуг за пределами шко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ить Законодательство в сторону введения реальных мер наказания за такие правонарушения как уклонение от учебы, курение на территории школы, употребление спиртных напитков, уходы из дома и друг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очень важно не упустить момент – предотвратить распространение преступности в подростковой сред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вать в школе условия для досуговой деятельности ребят «группы риска» и контролировать их досуг за пределами школ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менить Законодательство в сторону введения реальных мер наказания за такие правонарушения как уклонение от учебы, курение на территории школы, употребление спиртных напитков, уходы из дома и другие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егодня очень важно не упустить момент – предотвратить распространение преступности в подростковой среде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анализировать состояние профилактической работы в стране и в регио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ыявить и проанализировать основные направления в профилактической работе школ Ковдорского райо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Установить (с помощью метода анкетирования) наиболее интересные и эффективные для самих подростков способы профилактики преступ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Проанализировать состояние профилактической работы в стране и в регионе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Выявить и проанализировать основные направления в профилактической работе школ Ковдорского район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 Установить (с помощью метода анкетирования) наиболее интересные и эффективные для самих подростков способы профилактики преступност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школ Ковдорского района, в возрасте от 11 до 14 лет, входящие в «группу рис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ческая работа педагогов школ города Ковдора с подростками от 11 до 14 лет, склонными к девиантному повед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ъект исследова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щиеся школ Ковдорского района, в возрасте от 11 до 14 лет, входящие в «группу риска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мет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следова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филактическая работа педагогов школ города Ковдора с подростками от 11 до 14 лет, склонными к девиантному поведен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те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профилактической работы, вызывающие наибольший интерес у подростков, являются самыми эффектив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ипотез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ы профилактической работы, вызывающие наибольший интерес у подростков, являются самыми эффективны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списка несовершеннолетних, состоящих на профилактическом учете в Комиссии по делам несовершеннолетних и защите их прав Ковдорского район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нормативной базы по профилактике преступлений в подростковой сред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ирование подростк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еда с социальными педагогами шк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исследова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учение списка несовершеннолетних, состоящих на профилактическом учете в Комиссии по делам несовершеннолетних и защите их прав Ковдорского района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учение нормативной базы по профилактике преступлений в подростковой среде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кетирование подростков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еседа с социальными педагогами шко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 исследования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я, совершаемые несовершеннолетни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ются наиболее опасным и широко распространенным явлением в наше время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ступления, совершаемые несовершеннолетними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являются наиболее опасным и широко распространенным явлением в наше время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а жизни и  здоровья несовершеннолетних является одним из важнейших факторов сохранения стабильности демографического состояния государства. Активная реализация общероссийских тенденций в сфере профилактики, позволила переломить ситуацию в нашем регио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храна жизни и  здоровья несовершеннолетних является одним из важнейших факторов сохранения стабильности демографического состояния государства. Активная реализация общероссийских тенденций в сфере профилактики, позволила переломить ситуацию в нашем регион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подростк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ности в Ковдорском райо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анная работа всех ведомств и учре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активное взаимо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рные межведомственные рей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ое объединение социальных педаг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ая служба г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етвленная система дополните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филактика подростков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ступности в Ковдорском район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о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ованная работа всех ведомств и учрежд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х активное взаимодейств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гулярные межведомственные рей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ическое объединение социальных педагог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сихологическая служба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етвленная система дополнительного образ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459A-98FB-436E-929E-9AD4AD51C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AA95-5F38-44DB-99C3-712A6A8A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8787-0250-44E9-88C6-C8234C07D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6796-6EB7-497A-8B4E-579547FDE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C13F-FB90-4551-BE27-993107E3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8BC0-13CC-448E-AE49-535851E9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0E99-1EE5-403F-ACB1-5C3C65E4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7E8F-E03F-4D84-B296-550020CC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1D98-6883-4823-B6F4-331A14AD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605E-B9B3-4F87-A2B4-A1AB83FB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274E-42DA-4982-B4B0-90CDEC4F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4565-F07C-41F6-8D05-99D82E1C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9B5F-E361-4C66-B113-B70726B80F5B}" type="datetime">
              <a:rPr b="0" lang="ru-RU" sz="1200" spc="-1" strike="noStrike">
                <a:solidFill>
                  <a:srgbClr val="ffffff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6683-352D-4D79-8993-399664F6348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77480"/>
            <a:ext cx="77724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c00000"/>
                </a:solidFill>
                <a:latin typeface="Calibri"/>
              </a:rPr>
              <a:t>Профилактика правонарушений среди подростков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5600880"/>
            <a:ext cx="914400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XII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ученические чтения «Шаг в будущее»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город  Ковдор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TextBox 3" descr=""/>
          <p:cNvPicPr/>
          <p:nvPr/>
        </p:nvPicPr>
        <p:blipFill>
          <a:blip r:embed="rId1"/>
          <a:stretch/>
        </p:blipFill>
        <p:spPr>
          <a:xfrm>
            <a:off x="6480" y="1925640"/>
            <a:ext cx="4694040" cy="18651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dsc06407_001.jpg"/>
          <p:cNvPicPr/>
          <p:nvPr/>
        </p:nvPicPr>
        <p:blipFill>
          <a:blip r:embed="rId2"/>
          <a:stretch/>
        </p:blipFill>
        <p:spPr>
          <a:xfrm>
            <a:off x="4643280" y="1871640"/>
            <a:ext cx="4235760" cy="365904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5" descr=""/>
          <p:cNvPicPr/>
          <p:nvPr/>
        </p:nvPicPr>
        <p:blipFill>
          <a:blip r:embed="rId3"/>
          <a:stretch/>
        </p:blipFill>
        <p:spPr>
          <a:xfrm>
            <a:off x="-42840" y="3591000"/>
            <a:ext cx="4938840" cy="17668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142920" y="214200"/>
            <a:ext cx="814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Arial"/>
                <a:ea typeface="Arial"/>
              </a:rPr>
              <a:t>Проводимая профилактическая работа в учреждениях сегодня дает положительные результат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14240" y="1928880"/>
          <a:ext cx="7500960" cy="4322520"/>
        </p:xfrm>
        <a:graphic>
          <a:graphicData uri="http://schemas.openxmlformats.org/drawingml/2006/table">
            <a:tbl>
              <a:tblPr/>
              <a:tblGrid>
                <a:gridCol w="2500560"/>
                <a:gridCol w="2500200"/>
                <a:gridCol w="2500200"/>
              </a:tblGrid>
              <a:tr h="105228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азвание О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анные о состоящих на учете в сентябре 20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анные о состоящих на учете в январе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24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БОУ СОШ №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24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БОУ ООШ №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24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БОУ ООШ №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БСКОУ СКОШ №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ГАОУ МО СПО «КПК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447840"/>
            <a:ext cx="8858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Однако дела об административных и уголовных правонарушениях все же продолжают поступать на рассмотрение Комиссии по делам несовершеннолетних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что говорит о необходимости сделать профилактическую работу в регионе еще более эффективной, в чем может помочь настоящее исследов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Прямоугольник 3" descr=""/>
          <p:cNvPicPr/>
          <p:nvPr/>
        </p:nvPicPr>
        <p:blipFill>
          <a:blip r:embed="rId1"/>
          <a:stretch/>
        </p:blipFill>
        <p:spPr>
          <a:xfrm>
            <a:off x="49320" y="-79200"/>
            <a:ext cx="7613640" cy="18954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"/>
          <p:cNvSpPr/>
          <p:nvPr/>
        </p:nvSpPr>
        <p:spPr>
          <a:xfrm>
            <a:off x="0" y="1285920"/>
            <a:ext cx="82868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Анкета включала следующие вопросы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Какие мероприятия, направленные на предотвращение вредных привычек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проводятся в вашей школе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В какой форме вы получаете информацию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об ответственности подростков перед Законом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После проведения какого из названых вами в п.1,2 мероприятий в школе, вы или ваши друзья решили избавиться от какой-либо привычки или отказаться от мысли совершить правонарушение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Как вы думаете, почему подростки совершают преступления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Какие из мероприятий, названных вами в п.1,2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вы считаете наиболее интересными и эффективными (полезными)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Напишите ваше мнение, как можно сократить преступность в подростковой среде?</a:t>
            </a:r>
            <a:r>
              <a:rPr b="0" lang="ru-RU" sz="2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Прямоугольник 1" descr=""/>
          <p:cNvPicPr/>
          <p:nvPr/>
        </p:nvPicPr>
        <p:blipFill>
          <a:blip r:embed="rId1"/>
          <a:stretch/>
        </p:blipFill>
        <p:spPr>
          <a:xfrm>
            <a:off x="-128520" y="133200"/>
            <a:ext cx="6626160" cy="860400"/>
          </a:xfrm>
          <a:prstGeom prst="rect">
            <a:avLst/>
          </a:prstGeom>
          <a:ln w="0">
            <a:noFill/>
          </a:ln>
        </p:spPr>
      </p:pic>
      <p:pic>
        <p:nvPicPr>
          <p:cNvPr id="88" name="Диаграмма 2" descr=""/>
          <p:cNvPicPr/>
          <p:nvPr/>
        </p:nvPicPr>
        <p:blipFill>
          <a:blip r:embed="rId2"/>
          <a:stretch/>
        </p:blipFill>
        <p:spPr>
          <a:xfrm>
            <a:off x="281160" y="1066680"/>
            <a:ext cx="8508960" cy="551016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Прямоугольник 1" descr=""/>
          <p:cNvPicPr/>
          <p:nvPr/>
        </p:nvPicPr>
        <p:blipFill>
          <a:blip r:embed="rId1"/>
          <a:stretch/>
        </p:blipFill>
        <p:spPr>
          <a:xfrm>
            <a:off x="-158760" y="-92160"/>
            <a:ext cx="7443720" cy="963720"/>
          </a:xfrm>
          <a:prstGeom prst="rect">
            <a:avLst/>
          </a:prstGeom>
          <a:ln w="0">
            <a:noFill/>
          </a:ln>
        </p:spPr>
      </p:pic>
      <p:pic>
        <p:nvPicPr>
          <p:cNvPr id="91" name="Диаграмма 2" descr=""/>
          <p:cNvPicPr/>
          <p:nvPr/>
        </p:nvPicPr>
        <p:blipFill>
          <a:blip r:embed="rId2"/>
          <a:stretch/>
        </p:blipFill>
        <p:spPr>
          <a:xfrm>
            <a:off x="281160" y="1139760"/>
            <a:ext cx="8150040" cy="54324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Прямоугольник 1" descr=""/>
          <p:cNvPicPr/>
          <p:nvPr/>
        </p:nvPicPr>
        <p:blipFill>
          <a:blip r:embed="rId1"/>
          <a:stretch/>
        </p:blipFill>
        <p:spPr>
          <a:xfrm>
            <a:off x="-182520" y="-92160"/>
            <a:ext cx="8759880" cy="1513080"/>
          </a:xfrm>
          <a:prstGeom prst="rect">
            <a:avLst/>
          </a:prstGeom>
          <a:ln w="0">
            <a:noFill/>
          </a:ln>
        </p:spPr>
      </p:pic>
      <p:pic>
        <p:nvPicPr>
          <p:cNvPr id="94" name="Диаграмма 2" descr=""/>
          <p:cNvPicPr/>
          <p:nvPr/>
        </p:nvPicPr>
        <p:blipFill>
          <a:blip r:embed="rId2"/>
          <a:stretch/>
        </p:blipFill>
        <p:spPr>
          <a:xfrm>
            <a:off x="0" y="1285920"/>
            <a:ext cx="8931240" cy="499896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Прямоугольник 1" descr=""/>
          <p:cNvPicPr/>
          <p:nvPr/>
        </p:nvPicPr>
        <p:blipFill>
          <a:blip r:embed="rId1"/>
          <a:stretch/>
        </p:blipFill>
        <p:spPr>
          <a:xfrm>
            <a:off x="-12600" y="201600"/>
            <a:ext cx="8742240" cy="1225440"/>
          </a:xfrm>
          <a:prstGeom prst="rect">
            <a:avLst/>
          </a:prstGeom>
          <a:ln w="0">
            <a:noFill/>
          </a:ln>
        </p:spPr>
      </p:pic>
      <p:pic>
        <p:nvPicPr>
          <p:cNvPr id="97" name="Диаграмма 2" descr=""/>
          <p:cNvPicPr/>
          <p:nvPr/>
        </p:nvPicPr>
        <p:blipFill>
          <a:blip r:embed="rId2"/>
          <a:stretch/>
        </p:blipFill>
        <p:spPr>
          <a:xfrm>
            <a:off x="281160" y="1500120"/>
            <a:ext cx="8003880" cy="45720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Диаграмма 2" descr=""/>
          <p:cNvPicPr/>
          <p:nvPr/>
        </p:nvPicPr>
        <p:blipFill>
          <a:blip r:embed="rId1"/>
          <a:stretch/>
        </p:blipFill>
        <p:spPr>
          <a:xfrm>
            <a:off x="0" y="1573200"/>
            <a:ext cx="9144000" cy="528480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3" descr=""/>
          <p:cNvPicPr/>
          <p:nvPr/>
        </p:nvPicPr>
        <p:blipFill>
          <a:blip r:embed="rId2"/>
          <a:stretch/>
        </p:blipFill>
        <p:spPr>
          <a:xfrm>
            <a:off x="-298440" y="-146160"/>
            <a:ext cx="7510320" cy="26146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Прямоугольник 1" descr=""/>
          <p:cNvPicPr/>
          <p:nvPr/>
        </p:nvPicPr>
        <p:blipFill>
          <a:blip r:embed="rId1"/>
          <a:stretch/>
        </p:blipFill>
        <p:spPr>
          <a:xfrm>
            <a:off x="-231840" y="103320"/>
            <a:ext cx="9236160" cy="1628640"/>
          </a:xfrm>
          <a:prstGeom prst="rect">
            <a:avLst/>
          </a:prstGeom>
          <a:ln w="0">
            <a:noFill/>
          </a:ln>
        </p:spPr>
      </p:pic>
      <p:pic>
        <p:nvPicPr>
          <p:cNvPr id="103" name="Диаграмма 3" descr=""/>
          <p:cNvPicPr/>
          <p:nvPr/>
        </p:nvPicPr>
        <p:blipFill>
          <a:blip r:embed="rId2"/>
          <a:stretch/>
        </p:blipFill>
        <p:spPr>
          <a:xfrm>
            <a:off x="139680" y="1573200"/>
            <a:ext cx="9004320" cy="52848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Прямоугольник 1" descr=""/>
          <p:cNvPicPr/>
          <p:nvPr/>
        </p:nvPicPr>
        <p:blipFill>
          <a:blip r:embed="rId1"/>
          <a:stretch/>
        </p:blipFill>
        <p:spPr>
          <a:xfrm>
            <a:off x="73080" y="-212760"/>
            <a:ext cx="8412120" cy="67849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рямоугольник 1" descr=""/>
          <p:cNvPicPr/>
          <p:nvPr/>
        </p:nvPicPr>
        <p:blipFill>
          <a:blip r:embed="rId1"/>
          <a:stretch/>
        </p:blipFill>
        <p:spPr>
          <a:xfrm>
            <a:off x="23760" y="-23760"/>
            <a:ext cx="5711760" cy="19684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3"/>
          <p:cNvSpPr/>
          <p:nvPr/>
        </p:nvSpPr>
        <p:spPr>
          <a:xfrm>
            <a:off x="395280" y="1052640"/>
            <a:ext cx="84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  <a:ea typeface="Arial"/>
              </a:rPr>
              <a:t>выявить наиболее эффективные методы работы по профилактике подростковой преступности, опираясь на интересы и мнение самих подростк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Прямоугольник 1" descr=""/>
          <p:cNvPicPr/>
          <p:nvPr/>
        </p:nvPicPr>
        <p:blipFill>
          <a:blip r:embed="rId1"/>
          <a:stretch/>
        </p:blipFill>
        <p:spPr>
          <a:xfrm>
            <a:off x="-128520" y="225360"/>
            <a:ext cx="9339120" cy="384660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2"/>
          <p:cNvSpPr/>
          <p:nvPr/>
        </p:nvSpPr>
        <p:spPr>
          <a:xfrm>
            <a:off x="1928880" y="335772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ff99"/>
                </a:solidFill>
                <a:latin typeface="Arial"/>
                <a:ea typeface="Arial"/>
              </a:rPr>
              <a:t>Сегодня очень важно не упустить момент – предотвратить распространение преступности в подростковой сред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Прямоугольник 1" descr=""/>
          <p:cNvPicPr/>
          <p:nvPr/>
        </p:nvPicPr>
        <p:blipFill>
          <a:blip r:embed="rId1"/>
          <a:stretch/>
        </p:blipFill>
        <p:spPr>
          <a:xfrm>
            <a:off x="-30240" y="19080"/>
            <a:ext cx="3511800" cy="14558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0" y="107856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1. Проанализировать состояние профилактической работы в стране и в регионе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2. Выявить и проанализировать основные направления в профилактической работе школ Ковдорского район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3.  Установить (с помощью метода анкетирования) наиболее интересные и эффективные для самих подростков способы профилактики преступност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1" descr=""/>
          <p:cNvPicPr/>
          <p:nvPr/>
        </p:nvPicPr>
        <p:blipFill>
          <a:blip r:embed="rId1"/>
          <a:stretch/>
        </p:blipFill>
        <p:spPr>
          <a:xfrm>
            <a:off x="-244440" y="-128520"/>
            <a:ext cx="6664320" cy="18478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"/>
          <p:cNvSpPr/>
          <p:nvPr/>
        </p:nvSpPr>
        <p:spPr>
          <a:xfrm>
            <a:off x="4427640" y="-603360"/>
            <a:ext cx="471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  <a:ea typeface="Arial"/>
              </a:rPr>
              <a:t>учащиеся школ Ковдорского района, в возрасте от 11 до 14 лет, входящие в «группу риск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Рисунок 3" descr="IMG_0066(1).jpg"/>
          <p:cNvPicPr/>
          <p:nvPr/>
        </p:nvPicPr>
        <p:blipFill>
          <a:blip r:embed="rId2"/>
          <a:stretch/>
        </p:blipFill>
        <p:spPr>
          <a:xfrm>
            <a:off x="179280" y="1413000"/>
            <a:ext cx="4248360" cy="28080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4" descr=""/>
          <p:cNvPicPr/>
          <p:nvPr/>
        </p:nvPicPr>
        <p:blipFill>
          <a:blip r:embed="rId3"/>
          <a:stretch/>
        </p:blipFill>
        <p:spPr>
          <a:xfrm>
            <a:off x="-244440" y="4237200"/>
            <a:ext cx="4919760" cy="18460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5"/>
          <p:cNvSpPr/>
          <p:nvPr/>
        </p:nvSpPr>
        <p:spPr>
          <a:xfrm>
            <a:off x="4284720" y="4334040"/>
            <a:ext cx="4859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профилактическая работа педагогов школ города Ковдора с подростками от 11 до 14 лет, склонными к девиантному поведен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Прямоугольник 1" descr=""/>
          <p:cNvPicPr/>
          <p:nvPr/>
        </p:nvPicPr>
        <p:blipFill>
          <a:blip r:embed="rId1"/>
          <a:stretch/>
        </p:blipFill>
        <p:spPr>
          <a:xfrm>
            <a:off x="433440" y="12600"/>
            <a:ext cx="4187880" cy="19321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900000" y="1197000"/>
            <a:ext cx="7920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  <a:ea typeface="Arial"/>
              </a:rPr>
              <a:t>формы профилактической работы, вызывающие наибольший интерес у подростков, являются самыми эффективным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0" y="589680"/>
            <a:ext cx="845964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  <a:ea typeface="Calibri"/>
              </a:rPr>
              <a:t>изучение списка несовершеннолетних, состоящих на профилактическом учете в Комиссии по делам несовершеннолетних и защите их прав Ковдорского района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  <a:ea typeface="Arial"/>
              </a:rPr>
              <a:t>изучение нормативной базы по профилактике преступлений в подростковой среде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  <a:ea typeface="Arial"/>
              </a:rPr>
              <a:t>анкетирование подростков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  <a:ea typeface="Arial"/>
              </a:rPr>
              <a:t>беседа с социальными педагогами шко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Прямоугольник 2" descr=""/>
          <p:cNvPicPr/>
          <p:nvPr/>
        </p:nvPicPr>
        <p:blipFill>
          <a:blip r:embed="rId1"/>
          <a:stretch/>
        </p:blipFill>
        <p:spPr>
          <a:xfrm>
            <a:off x="0" y="-176040"/>
            <a:ext cx="8163000" cy="156024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0" y="16200"/>
            <a:ext cx="7812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000"/>
                </a:solidFill>
                <a:latin typeface="Calibri"/>
                <a:ea typeface="Times New Roman"/>
              </a:rPr>
              <a:t>Преступления, совершаемые несовершеннолетними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000"/>
                </a:solidFill>
                <a:latin typeface="Calibri"/>
                <a:ea typeface="Times New Roman"/>
              </a:rPr>
              <a:t>являются наиболее опасным и широко распространенным явлением в наше время…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1714680" y="2000160"/>
            <a:ext cx="6572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Охрана жизни и  здоровья несовершеннолетних является одним из важнейших факторов сохранения стабильности демографического состояния государства. Активная реализация общероссийских тенденций в сфере профилактики, позволила переломить ситуацию в нашем регио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Рисунок 3" descr="IMG_1155.jpg"/>
          <p:cNvPicPr/>
          <p:nvPr/>
        </p:nvPicPr>
        <p:blipFill>
          <a:blip r:embed="rId1"/>
          <a:stretch/>
        </p:blipFill>
        <p:spPr>
          <a:xfrm>
            <a:off x="5929200" y="5000760"/>
            <a:ext cx="3214800" cy="18572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Прямоугольник 1" descr=""/>
          <p:cNvPicPr/>
          <p:nvPr/>
        </p:nvPicPr>
        <p:blipFill>
          <a:blip r:embed="rId1"/>
          <a:stretch/>
        </p:blipFill>
        <p:spPr>
          <a:xfrm>
            <a:off x="-219240" y="-96840"/>
            <a:ext cx="9101160" cy="42181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6:19:36Z</dcterms:created>
  <dc:creator>user</dc:creator>
  <dc:description/>
  <dc:language>en-US</dc:language>
  <cp:lastModifiedBy>LEGION</cp:lastModifiedBy>
  <dcterms:modified xsi:type="dcterms:W3CDTF">2016-01-04T08:09:40Z</dcterms:modified>
  <cp:revision>48</cp:revision>
  <dc:subject/>
  <dc:title>Профилактика правонарушений среди подростков</dc:title>
</cp:coreProperties>
</file>