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75803-A2EE-40D7-9720-DB6C5EAC4134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сознание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вая культу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 № 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авосознание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                          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авовая культур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ма № 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сознание от уровня отражения правовой действитель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ыденное (эмпирическое) - складывается стихийно, под влиянием конкретных жизненных условий, отражает непосредственно воспринимаемые конкретные правовые яв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авосознание от уровня отражения правовой действительност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ыденное (эмпирическое) - складывается стихийно, под влиянием конкретных жизненных условий, отражает непосредственно воспринимаемые конкретные правовые явл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сознание от уровня отражения правовой действитель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фессиональное – обладают юристы, специалисты-практ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учное (теоретическое)  - источник правотворч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авосознание от уровня отражения правовой действительност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фессиональное – обладают юристы, специалисты-практи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учное (теоретическое)  - источник правотворчеств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обенности    правового созн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ражает явления, связанные с прав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ируется многими поколениями, характеризуется преемственность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ознание правовых явлений через юридические понятия и категор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обенности    правового созна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тражает явления, связанные с право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ормируется многими поколениями, характеризуется преемственностью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ознание правовых явлений через юридические понятия и категор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вая культу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широком смысле – все правовые ценности, созданные в правовой сфере (законодательство, правовая наука, система правоохранительных и судебных органов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авовая культур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широком смысле – все правовые ценности, созданные в правовой сфере (законодательство, правовая наука, система правоохранительных и судебных органов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узком смысле – определенный уровень правосознания, включающий  в себя знание действующих законов, их понимание, соблюдение и применение, нетерпимое отношение к любым нарушениям закон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вая культу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узком смысле – определенный уровень правосознания, включающий  в себя знание действующих законов, их понимание, соблюдение и применение, нетерпимое отношение к любым нарушениям законност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авовая культур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вая культу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дивидуаль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ествен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авовая культур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ндивидуальна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щественна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вая культу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вой нигилизм - отрицание правовых установок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вой идеализм - возвеличивание роли прав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авовая культур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авовой нигилизм - отрицание правовых установок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авовой идеализм - возвеличивание роли права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чины правового нигилизм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Юридическое невеже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Отстал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Правовая невоспитанность насе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Незнание пра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чины правового нигилизма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. Юридическое невежеств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 Отсталост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. Правовая невоспитанность насел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4. Незнание прав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вое воспитание общества зависит о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чества законодатель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ктики правопримен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ояния судебной защиты прав и свобод чело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овня раскрытия преступл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авовое воспитание общества зависит от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чества законодательств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актики правопримен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стояния судебной защиты прав и свобод челове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ровня раскрытия преступлен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ы правового воспит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овоспитание и самообразов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ирование правовой культуры в семь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пространение правовых знаний через С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подавание права в образовательных учреждения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пуляризация правовых знаний учеными-юрист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а юридической учеб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ормы правового воспита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амовоспитание и самообразова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ормирование правовой культуры в семь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спространение правовых знаний через С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еподавание права в образовательных учреждения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пуляризация правовых знаний учеными-юриста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истема юридической учеб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машнее зад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§1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ние № 1, 2, 3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машнее зада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§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дание № 1, 2, 3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созн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форма общественного сознания, выражающая представления и чувства людей о праве и регулируемом им поведен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авосозна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то форма общественного сознания, выражающая представления и чувства людей о праве и регулируемом им поведен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правосозн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Правов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психолог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Правов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идеолог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правосозна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Правова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психолог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Правова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идеолог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вая психолог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система правовых чувств, эмоций, настроений, выражающих отношение людей к прав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авовая психолог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то система правовых чувств, эмоций, настроений, выражающих отношение людей к праву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вая идеолог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атизированное, научно обоснованное отражение правовых явлений (правовые знания, понятия, категории, принципы, убеждения, идеи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авовая идеолог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истематизированное, научно обоснованное отражение правовых явлений (правовые знания, понятия, категории, принципы, убеждения, идеи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вые знания –информация о различных сторонах правовой системы общ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вые эмоции – чувственное отношение к праву в форме позитивных и негативных пережива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авовые знания –информация о различных сторонах правовой системы обществ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авовые эмоции – чувственное отношение к праву в форме позитивных и негативных переживан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вая установка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 предрасположенность личности (группы, общества) определенным (негативным или позитивным) образом воспринимать и оценивать правовые явления и готовность в соответствии с этим действова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мерное повед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тивоправное повед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авовая установка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  предрасположенность личности (группы, общества) определенным (негативным или позитивным) образом воспринимать и оценивать правовые явления и готовность в соответствии с этим действовать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авомерное поведе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тивоправное поведе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сознание по субъекта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дивидуальное –отношение к праву отдельного чело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ллективное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Групповое – отношение к праву групп и коллективов люд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Общественное – правовые идеи, взгляды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ории общ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авосознание по субъекта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ндивидуальное –отношение к праву отдельного челове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ллективное 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 Групповое – отношение к праву групп и коллективов люде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 Общественное – правовые идеи, взгляды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ории обществ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497E8-D20A-487D-A418-4F4CEC501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7AA06-F659-4813-8593-31FDCE1EC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6E252-9F88-4403-A049-A6A16E2E0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60DF2-F08D-4212-B262-8BD4DA289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13AE7-417A-4C1D-8D24-BF0A11C6D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CE78A-4AA1-463E-99F8-3C253A968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93A78-D055-452A-B8D1-A3EBE060C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CB659-6634-4667-BA24-9A40F8944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886DD-F01F-4C50-9AF2-0244CBDE3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3ECED-A8D8-41C5-9D5B-32416691D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8EE68-17DD-4C9D-B221-7DC511453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7D6F0-A7A2-4F5C-9F98-1880F70DB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FE009-2B74-4376-B7E6-DECA941EA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FD5B7-67AA-4BF2-8C43-057E31E8B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FC93B-458F-492C-9EB0-4DF7C324D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5ED52-B822-437D-AE0E-DA0547F64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73E9C-1967-4D6B-A2C5-87EDAD4A0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05AAF67-0412-4914-A871-83B47E786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C9D7080-0CFF-4A96-B5B7-040B162AE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F21DB45-63F1-4510-A5CE-160070AF6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7AD33B1-9274-479E-B09F-1C255CC7A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DEC1AB9-7008-443B-B602-E23CDD90B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053F8-F692-4763-A0ED-ACE4C5E24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9ACA22C-FAB2-4454-AC6E-C0061FC8D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C7944F3-79E8-4DCF-82E8-F21505808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0B8EC72-E98D-43E8-98A8-80785B8FB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E5BDC26-ABCA-4E9B-B0E2-02FDCDA98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092D89C-FE8E-4886-A8C9-5F771F29A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8018769-C2C9-485E-864C-F2BF9E5DC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0D6A7AC-D40D-4221-88A4-CD241002D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0F7F64-9A21-4516-88DC-71CF8AAF3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1F8F1A-027A-4D42-B568-5BA83B47F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15798D-F203-47E5-82FC-66A58FB86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88A0C-3CC5-4669-AB94-79C5917FF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D1BF23-83A9-447E-9150-EC0B07C51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AB50DD-E7AA-4D96-BECE-555341861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4AC9F0-9E5B-4EE2-A08B-25B817BA9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AA833C-7155-4A1E-B62C-CAFCA0185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563025-A90D-4BD5-B486-2F208169F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6DD68B-C3F6-4AF9-96AE-EE58199F9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16DEC2-3CA8-42CB-8384-B020F16B1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4B3C7E-B719-41B6-949F-BE2BAFC98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6D1B6D-3A6F-408D-B527-9102611FC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E2EBA-7FE6-4599-8079-6E6C7F95E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E3A30-933A-438B-B606-4423799D4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93607-5C91-4B7D-9D7A-B5A3E8C42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BC3B3-A250-4195-80A3-23080A6C5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AF831-F7EA-4022-9666-E1F4EE8F6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A050C-4E91-47F7-8F81-95A8A67ED4B2}" type="datetime">
              <a:rPr b="0" lang="ru-RU" sz="800" spc="-1" strike="noStrike">
                <a:solidFill>
                  <a:srgbClr val="438086"/>
                </a:solidFill>
                <a:latin typeface="Georgia"/>
              </a:rPr>
              <a:t>30.07.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EE4DC-5D51-4332-B987-80559D0F6045}" type="slidenum">
              <a:rPr b="0" lang="ru-R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Прямоугольник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Прямоугольник 21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Прямоугольник 23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Прямоугольник 24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Скругленный прямоугольник 25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Скругленный прямоугольник 26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Прямоугольник 40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Прямоугольник 41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Прямоугольник 42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Прямоугольник 43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0158C-F830-4EEF-8D80-D74F9674E4B2}" type="datetime">
              <a:rPr b="0" lang="ru-RU" sz="800" spc="-1" strike="noStrike">
                <a:solidFill>
                  <a:srgbClr val="438086"/>
                </a:solidFill>
                <a:latin typeface="Georgia"/>
              </a:rPr>
              <a:t>30.07.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6CE2D-F8A3-4E9A-A5D1-E5F0D3817C66}" type="slidenum">
              <a:rPr b="0" lang="ru-R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4E033-A824-4FEA-B3BA-872D05903AE3}" type="datetime">
              <a:rPr b="0" lang="ru-RU" sz="800" spc="-1" strike="noStrike">
                <a:solidFill>
                  <a:srgbClr val="438086"/>
                </a:solidFill>
                <a:latin typeface="Georgia"/>
              </a:rPr>
              <a:t>30.07.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CBDFD-69C3-48AB-A5D5-FE355AB4A027}" type="slidenum">
              <a:rPr b="0" lang="ru-R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44EDB-8B38-4A83-950D-9B2D892A03B4}" type="datetime">
              <a:rPr b="0" lang="ru-RU" sz="800" spc="-1" strike="noStrike">
                <a:solidFill>
                  <a:srgbClr val="438086"/>
                </a:solidFill>
                <a:latin typeface="Georgia"/>
              </a:rPr>
              <a:t>30.07.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D954F-49E9-4A52-8D8A-E4FD4647D815}" type="slidenum">
              <a:rPr b="0" lang="ru-R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85480" y="2357280"/>
            <a:ext cx="8458200" cy="175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imes New Roman"/>
              </a:rPr>
              <a:t>Правосознание </a:t>
            </a:r>
            <a:br>
              <a:rPr sz="4800"/>
            </a:br>
            <a:r>
              <a:rPr b="0" lang="ru-RU" sz="4800" spc="-1" strike="noStrike">
                <a:solidFill>
                  <a:srgbClr val="ffffff"/>
                </a:solidFill>
                <a:latin typeface="Times New Roman"/>
              </a:rPr>
              <a:t>                                и</a:t>
            </a:r>
            <a:endParaRPr b="0" lang="en-US" sz="48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3286080" y="4142880"/>
            <a:ext cx="58579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3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424456"/>
                </a:solidFill>
                <a:latin typeface="Times New Roman"/>
              </a:rPr>
              <a:t>правовая культура</a:t>
            </a:r>
            <a:endParaRPr b="0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Text Box 5"/>
          <p:cNvSpPr/>
          <p:nvPr/>
        </p:nvSpPr>
        <p:spPr>
          <a:xfrm>
            <a:off x="6569640" y="5918040"/>
            <a:ext cx="188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Тема № 1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Місце для нижнього колонтитула 1"/>
          <p:cNvSpPr/>
          <p:nvPr/>
        </p:nvSpPr>
        <p:spPr>
          <a:xfrm>
            <a:off x="541008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95280" y="836280"/>
            <a:ext cx="8066160" cy="1655640"/>
          </a:xfrm>
          <a:prstGeom prst="rect">
            <a:avLst/>
          </a:prstGeom>
          <a:solidFill>
            <a:srgbClr val="9fccd5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24456"/>
                </a:solidFill>
                <a:latin typeface="Times New Roman"/>
              </a:rPr>
              <a:t>Правосознание от уровня отражения правовой действительности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852640"/>
            <a:ext cx="836280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Обыденное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(эмпирическое) - складывается стихийно, под влиянием конкретных жизненных условий, отражает непосредственно воспринимаемые конкретные правовые явления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Місце для нижнього колонтитула 1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68000" y="691920"/>
            <a:ext cx="8218440" cy="1709640"/>
          </a:xfrm>
          <a:prstGeom prst="rect">
            <a:avLst/>
          </a:prstGeom>
          <a:solidFill>
            <a:srgbClr val="9fccd5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24456"/>
                </a:solidFill>
                <a:latin typeface="Times New Roman"/>
              </a:rPr>
              <a:t>Правосознание от уровня отражения правовой действительности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6840" y="3141360"/>
            <a:ext cx="8435880" cy="33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Профессиональное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– обладают юристы, специалисты-практики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Научное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(теоретическое)  - источник правотворчества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Місце для нижнього колонтитула 1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Скругленный прямоугольник 3"/>
          <p:cNvSpPr/>
          <p:nvPr/>
        </p:nvSpPr>
        <p:spPr>
          <a:xfrm>
            <a:off x="2627280" y="2852640"/>
            <a:ext cx="3786120" cy="1357560"/>
          </a:xfrm>
          <a:prstGeom prst="roundRect">
            <a:avLst>
              <a:gd name="adj" fmla="val 16667"/>
            </a:avLst>
          </a:prstGeom>
          <a:solidFill>
            <a:srgbClr val="53548a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Особенности    правового созна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Прямоугольник 4"/>
          <p:cNvSpPr/>
          <p:nvPr/>
        </p:nvSpPr>
        <p:spPr>
          <a:xfrm>
            <a:off x="755640" y="620640"/>
            <a:ext cx="3065400" cy="1728720"/>
          </a:xfrm>
          <a:prstGeom prst="rect">
            <a:avLst/>
          </a:prstGeom>
          <a:solidFill>
            <a:srgbClr val="d6d7e0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52e1f"/>
                </a:solidFill>
                <a:latin typeface="Georgia"/>
              </a:rPr>
              <a:t>Отражает явления, связанные с право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Прямоугольник 7"/>
          <p:cNvSpPr/>
          <p:nvPr/>
        </p:nvSpPr>
        <p:spPr>
          <a:xfrm>
            <a:off x="2411280" y="4581360"/>
            <a:ext cx="4176720" cy="1727280"/>
          </a:xfrm>
          <a:prstGeom prst="rect">
            <a:avLst/>
          </a:prstGeom>
          <a:solidFill>
            <a:srgbClr val="d6d7e0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52e1f"/>
                </a:solidFill>
                <a:latin typeface="Georgia"/>
              </a:rPr>
              <a:t>Формируется многими поколениями, характеризуется преемственность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Прямоугольник 8"/>
          <p:cNvSpPr/>
          <p:nvPr/>
        </p:nvSpPr>
        <p:spPr>
          <a:xfrm>
            <a:off x="4716360" y="642960"/>
            <a:ext cx="3498840" cy="1633680"/>
          </a:xfrm>
          <a:prstGeom prst="rect">
            <a:avLst/>
          </a:prstGeom>
          <a:solidFill>
            <a:srgbClr val="d6d7e0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52e1f"/>
                </a:solidFill>
                <a:latin typeface="Georgia"/>
              </a:rPr>
              <a:t>Осознание правовых явлений через юридические понятия и категор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0" name="Соединительная линия уступом 16"/>
          <p:cNvCxnSpPr/>
          <p:nvPr/>
        </p:nvCxnSpPr>
        <p:spPr>
          <a:xfrm rot="5400000">
            <a:off x="4464000" y="3609000"/>
            <a:ext cx="357840" cy="286200"/>
          </a:xfrm>
          <a:prstGeom prst="bentConnector3">
            <a:avLst>
              <a:gd name="adj1" fmla="val 12386"/>
            </a:avLst>
          </a:prstGeom>
          <a:ln w="9360">
            <a:solidFill>
              <a:srgbClr val="53548a"/>
            </a:solidFill>
            <a:miter/>
            <a:tailEnd len="med" type="arrow" w="med"/>
          </a:ln>
        </p:spPr>
      </p:cxnSp>
      <p:sp>
        <p:nvSpPr>
          <p:cNvPr id="261" name="Місце для нижнього колонтитула 1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24000" y="691920"/>
            <a:ext cx="8229600" cy="1066680"/>
          </a:xfrm>
          <a:prstGeom prst="rect">
            <a:avLst/>
          </a:prstGeom>
          <a:solidFill>
            <a:srgbClr val="add2d6"/>
          </a:solidFill>
          <a:ln w="9360">
            <a:solidFill>
              <a:srgbClr val="53548a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e3f68"/>
                </a:solidFill>
                <a:latin typeface="Times New Roman"/>
              </a:rPr>
              <a:t>Правовая культура</a:t>
            </a:r>
            <a:endParaRPr b="0" lang="en-US" sz="4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468360" y="177300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df41e3"/>
                </a:solidFill>
                <a:latin typeface="Times New Roman"/>
              </a:rPr>
              <a:t>В широком смысле</a:t>
            </a:r>
            <a:r>
              <a:rPr b="1" lang="ru-RU" sz="3600" spc="-1" strike="noStrike">
                <a:solidFill>
                  <a:srgbClr val="3e3f68"/>
                </a:solidFill>
                <a:latin typeface="Times New Roman"/>
              </a:rPr>
              <a:t> – все правовые ценности, созданные в правовой сфере (законодательство, правовая наука, система правоохранительных и судебных органов)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Місце для нижнього колонтитула 3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/>
          </p:nvPr>
        </p:nvSpPr>
        <p:spPr>
          <a:xfrm>
            <a:off x="457200" y="2249640"/>
            <a:ext cx="86868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df41e3"/>
                </a:solidFill>
                <a:latin typeface="Times New Roman"/>
              </a:rPr>
              <a:t>В узком смысле</a:t>
            </a:r>
            <a:r>
              <a:rPr b="1" lang="ru-RU" sz="3200" spc="-1" strike="noStrike">
                <a:solidFill>
                  <a:srgbClr val="3e3f68"/>
                </a:solidFill>
                <a:latin typeface="Times New Roman"/>
              </a:rPr>
              <a:t> – определенный уровень правосознания, включающий  в себя знание действующих законов, их понимание, соблюдение и применение, нетерпимое отношение к любым нарушениям законности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solidFill>
            <a:srgbClr val="add2d6"/>
          </a:solidFill>
          <a:ln w="9360">
            <a:solidFill>
              <a:srgbClr val="53548a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24456"/>
                </a:solidFill>
                <a:latin typeface="Arial"/>
              </a:rPr>
              <a:t>Правовая культура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7" name="Місце для нижнього колонтитула 2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solidFill>
            <a:srgbClr val="9fccd5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24456"/>
                </a:solidFill>
                <a:latin typeface="Georgia"/>
              </a:rPr>
              <a:t>Правовая культура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2565000"/>
            <a:ext cx="82296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Text Box 4"/>
          <p:cNvSpPr/>
          <p:nvPr/>
        </p:nvSpPr>
        <p:spPr>
          <a:xfrm>
            <a:off x="611280" y="3786120"/>
            <a:ext cx="388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индивидуальна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Text Box 5"/>
          <p:cNvSpPr/>
          <p:nvPr/>
        </p:nvSpPr>
        <p:spPr>
          <a:xfrm>
            <a:off x="5292720" y="3860640"/>
            <a:ext cx="331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общественна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Line 6"/>
          <p:cNvSpPr/>
          <p:nvPr/>
        </p:nvSpPr>
        <p:spPr>
          <a:xfrm flipH="1">
            <a:off x="2555640" y="2565360"/>
            <a:ext cx="187164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Line 7"/>
          <p:cNvSpPr/>
          <p:nvPr/>
        </p:nvSpPr>
        <p:spPr>
          <a:xfrm>
            <a:off x="4500720" y="2565360"/>
            <a:ext cx="201600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Місце для нижнього колонтитула 1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066680"/>
          </a:xfrm>
          <a:prstGeom prst="rect">
            <a:avLst/>
          </a:prstGeom>
          <a:solidFill>
            <a:srgbClr val="9fccd5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24456"/>
                </a:solidFill>
                <a:latin typeface="Georgia"/>
              </a:rPr>
              <a:t>Правовая культура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6" name="Text Box 4"/>
          <p:cNvSpPr/>
          <p:nvPr/>
        </p:nvSpPr>
        <p:spPr>
          <a:xfrm>
            <a:off x="539640" y="2565360"/>
            <a:ext cx="8064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Правовой нигилизм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- отрицание правовых установок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Правовой идеализм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- возвеличивание роли права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Text Box 5"/>
          <p:cNvSpPr/>
          <p:nvPr/>
        </p:nvSpPr>
        <p:spPr>
          <a:xfrm>
            <a:off x="5940360" y="5950080"/>
            <a:ext cx="3527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Місце для нижнього колонтитула 1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solidFill>
            <a:srgbClr val="9fccd5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24456"/>
                </a:solidFill>
                <a:latin typeface="Times New Roman"/>
              </a:rPr>
              <a:t>Причины правового нигилизма</a:t>
            </a:r>
            <a:r>
              <a:rPr b="1" lang="ru-RU" sz="4000" spc="-1" strike="noStrike">
                <a:solidFill>
                  <a:srgbClr val="424456"/>
                </a:solidFill>
                <a:latin typeface="Georgia"/>
              </a:rPr>
              <a:t>: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2565000"/>
            <a:ext cx="82296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. Юридическое невежество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2. Отсталость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3. Правовая невоспитанность населения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4. Незнание права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Місце для нижнього колонтитула 1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68360" y="907920"/>
            <a:ext cx="8229600" cy="1067040"/>
          </a:xfrm>
          <a:prstGeom prst="rect">
            <a:avLst/>
          </a:prstGeom>
          <a:solidFill>
            <a:srgbClr val="9fccd5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24456"/>
                </a:solidFill>
                <a:latin typeface="Times New Roman"/>
              </a:rPr>
              <a:t>Правовое воспитание общества зависит от: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2249280"/>
            <a:ext cx="8229600" cy="427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502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ачества законодательства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57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актики правоприменения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57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остояния судебной защиты прав и свобод человека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57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Уровня раскрытия преступлений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Місце для нижнього колонтитула 1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2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2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39640" y="620640"/>
            <a:ext cx="8229600" cy="1067040"/>
          </a:xfrm>
          <a:prstGeom prst="rect">
            <a:avLst/>
          </a:prstGeom>
          <a:solidFill>
            <a:srgbClr val="9fccd5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imes New Roman"/>
              </a:rPr>
              <a:t>Формы правового воспитания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539640" y="191628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амовоспитание и самообразование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Формирование правовой культуры в семье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аспространение правовых знаний через СМИ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еподавание права в образовательных учреждениях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пуляризация правовых знаний учеными-юристами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истема юридической учебы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Місце для нижнього колонтитула 1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2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2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2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2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solidFill>
            <a:srgbClr val="add2d6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424456"/>
                </a:solidFill>
                <a:latin typeface="Times New Roman"/>
              </a:rPr>
              <a:t>Домашнее задание</a:t>
            </a:r>
            <a:endParaRPr b="0" lang="en-US" sz="42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714240" y="2286000"/>
            <a:ext cx="77868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e3f68"/>
                </a:solidFill>
                <a:latin typeface="Times New Roman"/>
              </a:rPr>
              <a:t>§</a:t>
            </a:r>
            <a:r>
              <a:rPr b="0" lang="ru-RU" sz="4000" spc="-1" strike="noStrike">
                <a:solidFill>
                  <a:srgbClr val="3e3f68"/>
                </a:solidFill>
                <a:latin typeface="Times New Roman"/>
              </a:rPr>
              <a:t>16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e3f68"/>
                </a:solidFill>
                <a:latin typeface="Times New Roman"/>
              </a:rPr>
              <a:t>Задание № 1, 2, 3.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Місце для нижнього колонтитула 2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solidFill>
            <a:srgbClr val="add2d6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424456"/>
                </a:solidFill>
                <a:latin typeface="Times New Roman"/>
              </a:rPr>
              <a:t>Правосознание</a:t>
            </a:r>
            <a:endParaRPr b="0" lang="en-US" sz="48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14240" y="2286000"/>
            <a:ext cx="77868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e3f68"/>
                </a:solidFill>
                <a:latin typeface="Times New Roman"/>
              </a:rPr>
              <a:t>это форма общественного сознания, выражающая представления и чувства людей о праве и регулируемом им поведении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0" name="Місце для нижнього колонтитула 3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Выноска со стрелками влево/вправо 3"/>
          <p:cNvSpPr/>
          <p:nvPr/>
        </p:nvSpPr>
        <p:spPr>
          <a:xfrm>
            <a:off x="2571840" y="1643040"/>
            <a:ext cx="4071960" cy="928800"/>
          </a:xfrm>
          <a:custGeom>
            <a:avLst/>
            <a:gdLst>
              <a:gd name="textAreaLeft" fmla="*/ 487080 w 4071960"/>
              <a:gd name="textAreaRight" fmla="*/ 3584880 w 407196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2584" y="0"/>
                </a:moveTo>
                <a:lnTo>
                  <a:pt x="19016" y="0"/>
                </a:lnTo>
                <a:lnTo>
                  <a:pt x="19016" y="8570"/>
                </a:lnTo>
                <a:lnTo>
                  <a:pt x="20290" y="8570"/>
                </a:lnTo>
                <a:lnTo>
                  <a:pt x="20290" y="6772"/>
                </a:lnTo>
                <a:lnTo>
                  <a:pt x="21600" y="10800"/>
                </a:lnTo>
                <a:lnTo>
                  <a:pt x="20290" y="14828"/>
                </a:lnTo>
                <a:lnTo>
                  <a:pt x="20290" y="13030"/>
                </a:lnTo>
                <a:lnTo>
                  <a:pt x="19016" y="13030"/>
                </a:lnTo>
                <a:lnTo>
                  <a:pt x="19016" y="21600"/>
                </a:lnTo>
                <a:lnTo>
                  <a:pt x="2584" y="21600"/>
                </a:lnTo>
                <a:lnTo>
                  <a:pt x="2584" y="13030"/>
                </a:lnTo>
                <a:lnTo>
                  <a:pt x="1310" y="13030"/>
                </a:lnTo>
                <a:lnTo>
                  <a:pt x="1310" y="14828"/>
                </a:lnTo>
                <a:lnTo>
                  <a:pt x="0" y="10800"/>
                </a:lnTo>
                <a:lnTo>
                  <a:pt x="1310" y="6772"/>
                </a:lnTo>
                <a:lnTo>
                  <a:pt x="1310" y="8570"/>
                </a:lnTo>
                <a:lnTo>
                  <a:pt x="2584" y="8570"/>
                </a:lnTo>
                <a:close/>
              </a:path>
            </a:pathLst>
          </a:custGeom>
          <a:solidFill>
            <a:srgbClr val="406f8d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2f2f2"/>
                </a:solidFill>
                <a:latin typeface="Times New Roman"/>
              </a:rPr>
              <a:t>правосознани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Прямоугольник 4"/>
          <p:cNvSpPr/>
          <p:nvPr/>
        </p:nvSpPr>
        <p:spPr>
          <a:xfrm>
            <a:off x="250920" y="2133720"/>
            <a:ext cx="2305080" cy="2357280"/>
          </a:xfrm>
          <a:prstGeom prst="rect">
            <a:avLst/>
          </a:prstGeom>
          <a:solidFill>
            <a:srgbClr val="d6e9ea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a45"/>
                </a:solidFill>
                <a:latin typeface="Times New Roman"/>
              </a:rPr>
              <a:t>Правова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a45"/>
                </a:solidFill>
                <a:latin typeface="Times New Roman"/>
              </a:rPr>
              <a:t>психолог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Прямоугольник 5"/>
          <p:cNvSpPr/>
          <p:nvPr/>
        </p:nvSpPr>
        <p:spPr>
          <a:xfrm>
            <a:off x="6659640" y="2143080"/>
            <a:ext cx="2198520" cy="2357640"/>
          </a:xfrm>
          <a:prstGeom prst="rect">
            <a:avLst/>
          </a:prstGeom>
          <a:solidFill>
            <a:srgbClr val="d6e9ea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a45"/>
                </a:solidFill>
                <a:latin typeface="Times New Roman"/>
              </a:rPr>
              <a:t>Правова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a45"/>
                </a:solidFill>
                <a:latin typeface="Times New Roman"/>
              </a:rPr>
              <a:t>идеолог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Місце для нижнього колонтитула 1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solidFill>
            <a:srgbClr val="9fccd5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424456"/>
                </a:solidFill>
                <a:latin typeface="Times New Roman"/>
              </a:rPr>
              <a:t>Правовая психология</a:t>
            </a:r>
            <a:endParaRPr b="0" lang="en-US" sz="48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826560" y="2498760"/>
            <a:ext cx="7572600" cy="388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e3f68"/>
                </a:solidFill>
                <a:latin typeface="Times New Roman"/>
              </a:rPr>
              <a:t>это система правовых чувств, эмоций, настроений, выражающих отношение людей к праву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Місце для нижнього колонтитула 1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solidFill>
            <a:srgbClr val="9fccd5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424456"/>
                </a:solidFill>
                <a:latin typeface="Times New Roman"/>
              </a:rPr>
              <a:t>Правовая идеология</a:t>
            </a:r>
            <a:endParaRPr b="0" lang="en-US" sz="48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856800" y="2285640"/>
            <a:ext cx="7572600" cy="428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e3f68"/>
                </a:solidFill>
                <a:latin typeface="Times New Roman"/>
              </a:rPr>
              <a:t>систематизированное, научно обоснованное отражение правовых явлений (правовые знания, понятия, категории, принципы, убеждения, идеи</a:t>
            </a:r>
            <a:r>
              <a:rPr b="0" lang="ru-RU" sz="4000" spc="-1" strike="noStrike">
                <a:solidFill>
                  <a:srgbClr val="3e3f68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Місце для нижнього колонтитула 1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604000" y="-4147920"/>
            <a:ext cx="82440" cy="996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573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424456"/>
                </a:solidFill>
                <a:latin typeface="Times New Roman"/>
              </a:rPr>
              <a:t>Правовые знания</a:t>
            </a:r>
            <a:r>
              <a:rPr b="0" lang="ru-RU" sz="3600" spc="-1" strike="noStrike">
                <a:solidFill>
                  <a:srgbClr val="424456"/>
                </a:solidFill>
                <a:latin typeface="Times New Roman"/>
              </a:rPr>
              <a:t> –информация о различных сторонах правовой системы общества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424456"/>
                </a:solidFill>
                <a:latin typeface="Times New Roman"/>
              </a:rPr>
              <a:t>Правовые эмоции</a:t>
            </a:r>
            <a:r>
              <a:rPr b="0" lang="ru-RU" sz="3600" spc="-1" strike="noStrike">
                <a:solidFill>
                  <a:srgbClr val="424456"/>
                </a:solidFill>
                <a:latin typeface="Times New Roman"/>
              </a:rPr>
              <a:t> – чувственное отношение к праву в форме позитивных и негативных переживаний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Місце для нижнього колонтитула 1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1066680"/>
          </a:xfrm>
          <a:prstGeom prst="rect">
            <a:avLst/>
          </a:prstGeom>
          <a:solidFill>
            <a:srgbClr val="9fccd5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424456"/>
                </a:solidFill>
                <a:latin typeface="Times New Roman"/>
              </a:rPr>
              <a:t>Правовая установка</a:t>
            </a:r>
            <a:r>
              <a:rPr b="0" lang="ru-RU" sz="4000" spc="-1" strike="noStrike">
                <a:solidFill>
                  <a:srgbClr val="424456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856800" y="1989000"/>
            <a:ext cx="7572600" cy="458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 </a:t>
            </a:r>
            <a:r>
              <a:rPr b="0" lang="ru-RU" sz="2800" spc="-1" strike="noStrike">
                <a:solidFill>
                  <a:srgbClr val="424456"/>
                </a:solidFill>
                <a:latin typeface="Times New Roman"/>
              </a:rPr>
              <a:t>предрасположенность личности (группы, общества) определенным (негативным или позитивным) образом воспринимать и оценивать правовые явления и готовность в соответствии с этим действовать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424456"/>
                </a:solidFill>
                <a:latin typeface="Times New Roman"/>
              </a:rPr>
              <a:t>Правомерное поведение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424456"/>
                </a:solidFill>
                <a:latin typeface="Times New Roman"/>
              </a:rPr>
              <a:t>Противоправное поведение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6" name="Місце для нижнього колонтитула 1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95280" y="836640"/>
            <a:ext cx="8229600" cy="1084320"/>
          </a:xfrm>
          <a:prstGeom prst="rect">
            <a:avLst/>
          </a:prstGeom>
          <a:solidFill>
            <a:srgbClr val="9fccd5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24456"/>
                </a:solidFill>
                <a:latin typeface="Times New Roman"/>
              </a:rPr>
              <a:t>Правосознание по субъектам</a:t>
            </a:r>
            <a:endParaRPr b="0" lang="en-US" sz="4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95280" y="2060280"/>
            <a:ext cx="83534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Индивидуальное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–отношение к праву отдельного человека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Коллективное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- Групповое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– отношение к праву групп и коллективов людей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- Общественное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– правовые идеи, взгляды, 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еории общества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Місце для нижнього колонтитула 1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2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2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6T23:44:26Z</dcterms:created>
  <dc:creator>Пыркина</dc:creator>
  <dc:description/>
  <dc:language>en-US</dc:language>
  <cp:lastModifiedBy>LEGION</cp:lastModifiedBy>
  <dcterms:modified xsi:type="dcterms:W3CDTF">2016-01-04T08:09:19Z</dcterms:modified>
  <cp:revision>31</cp:revision>
  <dc:subject/>
  <dc:title>Правосознание                                  и</dc:title>
</cp:coreProperties>
</file>