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B7AA-51CF-437E-96FF-A9F30B92667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№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 №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 от уровня отражения правовой действ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денное (эмпирическое) - складывается стихийно, под влиянием конкретных жизненных условий, отражает непосредственно воспринимаемые конкретные правовые я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 от уровня отражения правовой действи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ыденное (эмпирическое) - складывается стихийно, под влиянием конкретных жизненных условий, отражает непосредственно воспринимаемые конкретные правовые я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 от уровня отражения правовой действ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е – обладают юристы, специалисты-прак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е (теоретическое)  - источник право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 от уровня отражения правовой действи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ое – обладают юристы, специалисты-прак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чное (теоретическое)  - источник правотворч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   правового с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жает явления, связанные с пра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уется многими поколениями, характеризуется преемстве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знание правовых явлений через юридические понятия и 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   правового созн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ражает явления, связанные с прав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уется многими поколениями, характеризуется преемственнос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знание правовых явлений через юридические понятия и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ироком смысле – все правовые ценности, созданные в правовой сфере (законодательство, правовая наука, система правоохранительных и судебных орган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широком смысле – все правовые ценности, созданные в правовой сфере (законодательство, правовая наука, система правоохранительных и судебных орган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зком смысле – определенный уровень правосознания, включающий  в себя знание действующих законов, их понимание, соблюдение и применение, нетерпимое отношение к любым нарушениям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зком смысле – определенный уровень правосознания, включающий  в себя знание действующих законов, их понимание, соблюдение и применение, нетерпимое отношение к любым нарушениям зако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ивидуаль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 нигилизм - отрицание правовых установ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 идеализм - возвеличивание роли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й нигилизм - отрицание правовых установ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й идеализм - возвеличивание роли пра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правового нигилиз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Юридическое невеж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стал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авовая невоспитанность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Незнани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правового нигилизм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Юридическое невеж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тстал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равовая невоспитанность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Незнание пра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е воспитание общества зависит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а законод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и право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я судебной защиты прав и свобод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я раскрытия преступ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е воспитание общества зависит 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чества законодатель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ки правопримен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я судебной защиты прав и свобод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ня раскрытия преступл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правового вос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воспитание и само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равовой культуры в сем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ие правовых знаний через С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ние права в образовательных учрежд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уляризация правовых знаний учеными-юрис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юридической уче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ы правового воспит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воспитание и сам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правовой культуры в семь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остранение правовых знаний через С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подавание права в образовательных учрежде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пуляризация правовых знаний учеными-юрис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юридической учеб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§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№ 1, 2,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§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ние № 1, 2,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форма общественного сознания, выражающая представления и чувства людей о праве и регулируемом им повед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форма общественного сознания, выражающая представления и чувства людей о праве и регулируемом им поведе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авос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ав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ав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де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равосозн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рав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рав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иде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истема правовых чувств, эмоций, настроений, выражающих отношение людей к пра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псих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истема правовых чувств, эмоций, настроений, выражающих отношение людей к прав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иде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зированное, научно обоснованное отражение правовых явлений (правовые знания, понятия, категории, принципы, убеждения, иде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иде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тизированное, научно обоснованное отражение правовых явлений (правовые знания, понятия, категории, принципы, убеждения, иде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знания –информация о различных сторонах правовой системы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эмоции – чувственное отношение к праву в форме позитивных и негативных пережи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ые знания –информация о различных сторонах правовой системы об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ые эмоции – чувственное отношение к праву в форме позитивных и негативных пережив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установк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редрасположенность личности (группы, общества) определенным (негативным или позитивным) образом воспринимать и оценивать правовые явления и готовность в соответствии с этим действ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е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установка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 предрасположенность личности (группы, общества) определенным (негативным или позитивным) образом воспринимать и оценивать правовые явления и готовность в соответствии с этим действова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мерное по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ивоправное по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 по субъек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е –отношение к праву отдельного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ое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рупповое – отношение к праву групп и коллективов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щественное – правовые идеи, взгляд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 по субъект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ивидуальное –отношение к праву отдельного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лективное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Групповое – отношение к праву групп и коллективов люд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Общественное – правовые идеи, взгляды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и об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01CA-D1B3-45C1-8D26-48F5EAD4E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5286-A7CB-4623-92E6-5623D306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2C47-DC57-45EC-B1D1-34E1B124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A893-2CE7-42AB-8E4B-89AF3992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0E9B-8AA8-4ADA-88E6-B9E396606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B587-4C1E-45D0-B8E8-8F00AED0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032E-F374-4D09-B12D-4FA204EE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03FB-9DF2-4A63-A656-EB603F83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74F4-EE0B-4240-8A37-1FCCC794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3943-43D8-4681-AB98-88FCBA55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794B-B131-452A-BE12-DE158C07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996A-ACC8-4382-8C10-47AC7160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8EF4-4A5F-4A84-B9BD-5F3651CE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80B5-CEFF-4D91-8842-EEFEF74C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E28A-F170-4BEE-9F5C-ECD893F6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5AFF-D2C0-43F2-B3C2-8569CF34E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7807-93D5-4F3E-9B10-EAF3D4F50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585660-B685-43C1-887E-C92F2CFB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414835-ECD4-48A0-8F6D-60CA777B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35602A-6C5C-4F51-A702-9F2E2BC4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82BDE8-8A56-4F73-8C16-DB32A2AD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09B84B-6A24-43D6-8FE1-7DB94C00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7179-6004-43A5-86DE-44C27C30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BF5A23-3A13-419C-8B6B-8C426F8C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36D4A0-53D6-4597-BA85-62EF88EC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06B367-7BD9-44CF-9B96-AABE0F65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54A43A-18A5-400F-B091-2C204B3B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733299-ECCA-4D56-A272-7D92B6D6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A75689-FAE9-4ADD-8F19-4A7A1B2E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1178AC-CC69-4B87-9367-A4316564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79EF4-A3E1-49E0-8387-E05CD8211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D38E2-3D5B-47C6-B2AC-6C3DF278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E60D2-0A38-45DB-9F8E-E83D1538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A852-9912-4B9D-97CB-6F199C11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B9126-BAD3-4730-89FD-6FFFFA0E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E8043-9B62-43E6-94AB-2B9479F7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1E5BA-AD43-43AA-B139-77FB2F93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E6969-FD51-4866-95AC-F2E67E96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3A06B-8B88-4107-87BA-2F14EBC1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5FE16-5302-4548-AEF9-6B13FE04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DBE02-EA29-4792-8EB0-F8BC0D79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79F4A-247B-4165-A7A5-DC150B680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E8E77-0F69-4285-8CE8-08C0A1365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B1CB-58A4-4518-BAF4-B51B070A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1770-AECD-4C00-ACB4-EA6E6952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6220-BB2B-4C21-93C5-B0F17E14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AE6F-88CB-4F23-91F4-5E300145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4FB1-2F5D-4A6B-A909-C9065876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1C0A-5591-49FE-8472-97CD16E94DDB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AA9F-8774-4313-BF71-2DF72C9E227D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D23D-F25A-48F7-BF69-B434EEF2DF09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A2F8-9736-4750-BE75-F9E69E6B5BCE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BDA2-288D-4B75-881B-7CD79A77A1C2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2EB5-5873-4E53-B2E6-63727D96356F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0354-CCCC-4F26-9139-17EA738B78D9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3B29-F0ED-4441-A9C6-64220FBEF01E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5480" y="2357280"/>
            <a:ext cx="8458200" cy="175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Правосознание 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                               и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286080" y="4142880"/>
            <a:ext cx="5857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4456"/>
                </a:solidFill>
                <a:latin typeface="Times New Roman"/>
              </a:rPr>
              <a:t>правовая культура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6569640" y="591804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ма №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066160" cy="165564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</a:rPr>
              <a:t>Правосознание от уровня отражения правовой действительност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3628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быден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эмпирическое) - складывается стихийно, под влиянием конкретных жизненных условий, отражает непосредственно воспринимаемые конкретные правовые явле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170964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</a:rPr>
              <a:t>Правосознание от уровня отражения правовой действительност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41360"/>
            <a:ext cx="84358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офессиональ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бладают юристы, специалисты-практик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уч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теоретическое)  - источник правотворчеств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Скругленный прямоугольник 3"/>
          <p:cNvSpPr/>
          <p:nvPr/>
        </p:nvSpPr>
        <p:spPr>
          <a:xfrm>
            <a:off x="2627280" y="2852640"/>
            <a:ext cx="3786120" cy="135756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Особенности    правового со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оугольник 4"/>
          <p:cNvSpPr/>
          <p:nvPr/>
        </p:nvSpPr>
        <p:spPr>
          <a:xfrm>
            <a:off x="755640" y="620640"/>
            <a:ext cx="3065400" cy="1728720"/>
          </a:xfrm>
          <a:prstGeom prst="rect">
            <a:avLst/>
          </a:prstGeom>
          <a:solidFill>
            <a:srgbClr val="d6d7e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2e1f"/>
                </a:solidFill>
                <a:latin typeface="Georgia"/>
              </a:rPr>
              <a:t>Отражает явления, связанные с прав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оугольник 7"/>
          <p:cNvSpPr/>
          <p:nvPr/>
        </p:nvSpPr>
        <p:spPr>
          <a:xfrm>
            <a:off x="2411280" y="4581360"/>
            <a:ext cx="4176720" cy="1727280"/>
          </a:xfrm>
          <a:prstGeom prst="rect">
            <a:avLst/>
          </a:prstGeom>
          <a:solidFill>
            <a:srgbClr val="d6d7e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2e1f"/>
                </a:solidFill>
                <a:latin typeface="Georgia"/>
              </a:rPr>
              <a:t>Формируется многими поколениями, характеризуется преемственно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8"/>
          <p:cNvSpPr/>
          <p:nvPr/>
        </p:nvSpPr>
        <p:spPr>
          <a:xfrm>
            <a:off x="4716360" y="642960"/>
            <a:ext cx="3498840" cy="1633680"/>
          </a:xfrm>
          <a:prstGeom prst="rect">
            <a:avLst/>
          </a:prstGeom>
          <a:solidFill>
            <a:srgbClr val="d6d7e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2e1f"/>
                </a:solidFill>
                <a:latin typeface="Georgia"/>
              </a:rPr>
              <a:t>Осознание правовых явлений через юридические понятия и катег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Соединительная линия уступом 16"/>
          <p:cNvCxnSpPr/>
          <p:nvPr/>
        </p:nvCxnSpPr>
        <p:spPr>
          <a:xfrm rot="5400000">
            <a:off x="4464000" y="3609000"/>
            <a:ext cx="357840" cy="286200"/>
          </a:xfrm>
          <a:prstGeom prst="bentConnector3">
            <a:avLst>
              <a:gd name="adj1" fmla="val 12386"/>
            </a:avLst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sp>
        <p:nvSpPr>
          <p:cNvPr id="261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066680"/>
          </a:xfrm>
          <a:prstGeom prst="rect">
            <a:avLst/>
          </a:prstGeom>
          <a:solidFill>
            <a:srgbClr val="add2d6"/>
          </a:solidFill>
          <a:ln w="9360">
            <a:solidFill>
              <a:srgbClr val="53548a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3f68"/>
                </a:solidFill>
                <a:latin typeface="Times New Roman"/>
              </a:rPr>
              <a:t>Правовая культура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36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f41e3"/>
                </a:solidFill>
                <a:latin typeface="Times New Roman"/>
              </a:rPr>
              <a:t>В широком смысле</a:t>
            </a:r>
            <a:r>
              <a:rPr b="1" lang="ru-RU" sz="3600" spc="-1" strike="noStrike">
                <a:solidFill>
                  <a:srgbClr val="3e3f68"/>
                </a:solidFill>
                <a:latin typeface="Times New Roman"/>
              </a:rPr>
              <a:t> – все правовые ценности, созданные в правовой сфере (законодательство, правовая наука, система правоохранительных и судебных органов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57200" y="2249640"/>
            <a:ext cx="8686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41e3"/>
                </a:solidFill>
                <a:latin typeface="Times New Roman"/>
              </a:rPr>
              <a:t>В узком смысле</a:t>
            </a:r>
            <a:r>
              <a:rPr b="1" lang="ru-RU" sz="3200" spc="-1" strike="noStrike">
                <a:solidFill>
                  <a:srgbClr val="3e3f68"/>
                </a:solidFill>
                <a:latin typeface="Times New Roman"/>
              </a:rPr>
              <a:t> – определенный уровень правосознания, включающий  в себя знание действующих законов, их понимание, соблюдение и применение, нетерпимое отношение к любым нарушениям законност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add2d6"/>
          </a:solidFill>
          <a:ln w="9360">
            <a:solidFill>
              <a:srgbClr val="53548a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Arial"/>
              </a:rPr>
              <a:t>Правовая куль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Georgia"/>
              </a:rPr>
              <a:t>Правовая куль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611280" y="378612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индивидуальн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292720" y="386064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общественн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6"/>
          <p:cNvSpPr/>
          <p:nvPr/>
        </p:nvSpPr>
        <p:spPr>
          <a:xfrm flipH="1">
            <a:off x="2555640" y="2565360"/>
            <a:ext cx="1871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4500720" y="2565360"/>
            <a:ext cx="2016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Georgia"/>
              </a:rPr>
              <a:t>Правовая куль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539640" y="2565360"/>
            <a:ext cx="80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авовой нигилиз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отрицание правовых установо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авовой идеализ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возвеличивание роли пра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5940360" y="5950080"/>
            <a:ext cx="352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imes New Roman"/>
              </a:rPr>
              <a:t>Причины правового нигилизма</a:t>
            </a:r>
            <a:r>
              <a:rPr b="1" lang="ru-RU" sz="4000" spc="-1" strike="noStrike">
                <a:solidFill>
                  <a:srgbClr val="424456"/>
                </a:solidFill>
                <a:latin typeface="Georgia"/>
              </a:rPr>
              <a:t>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Юридическое невежество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Отстал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Правовая невоспитанность населе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Незнание прав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106704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</a:rPr>
              <a:t>Правовое воспитание общества зависит от: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822960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чества законодательств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ктики правопримене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стояния судебной защиты прав и свобод человек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овня раскрытия преступлений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06704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</a:rPr>
              <a:t>Формы правового воспита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воспитание и самообразовани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ирование правовой культуры в семь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ространение правовых знаний через СМ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подавание права в образовательных учреждениях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пуляризация правовых знаний учеными-юристам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стема юридической учеб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add2d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424456"/>
                </a:solidFill>
                <a:latin typeface="Times New Roman"/>
              </a:rPr>
              <a:t>Домашнее задание</a:t>
            </a:r>
            <a:endParaRPr b="0" lang="en-US" sz="4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14240" y="2286000"/>
            <a:ext cx="7786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f68"/>
                </a:solidFill>
                <a:latin typeface="Times New Roman"/>
              </a:rPr>
              <a:t>§</a:t>
            </a:r>
            <a:r>
              <a:rPr b="0" lang="ru-RU" sz="4000" spc="-1" strike="noStrike">
                <a:solidFill>
                  <a:srgbClr val="3e3f68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e3f68"/>
                </a:solidFill>
                <a:latin typeface="Times New Roman"/>
              </a:rPr>
              <a:t>Задание № 1, 2, 3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add2d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4456"/>
                </a:solidFill>
                <a:latin typeface="Times New Roman"/>
              </a:rPr>
              <a:t>Правосознание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14240" y="2286000"/>
            <a:ext cx="7786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e3f68"/>
                </a:solidFill>
                <a:latin typeface="Times New Roman"/>
              </a:rPr>
              <a:t>это форма общественного сознания, выражающая представления и чувства людей о праве и регулируемом им поведени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Выноска со стрелками влево/вправо 3"/>
          <p:cNvSpPr/>
          <p:nvPr/>
        </p:nvSpPr>
        <p:spPr>
          <a:xfrm>
            <a:off x="2571840" y="1643040"/>
            <a:ext cx="4071960" cy="928800"/>
          </a:xfrm>
          <a:custGeom>
            <a:avLst/>
            <a:gdLst>
              <a:gd name="textAreaLeft" fmla="*/ 487080 w 4071960"/>
              <a:gd name="textAreaRight" fmla="*/ 3584880 w 407196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2584" y="0"/>
                </a:moveTo>
                <a:lnTo>
                  <a:pt x="19016" y="0"/>
                </a:lnTo>
                <a:lnTo>
                  <a:pt x="19016" y="8570"/>
                </a:lnTo>
                <a:lnTo>
                  <a:pt x="20290" y="8570"/>
                </a:lnTo>
                <a:lnTo>
                  <a:pt x="20290" y="6772"/>
                </a:lnTo>
                <a:lnTo>
                  <a:pt x="21600" y="10800"/>
                </a:lnTo>
                <a:lnTo>
                  <a:pt x="20290" y="14828"/>
                </a:lnTo>
                <a:lnTo>
                  <a:pt x="20290" y="13030"/>
                </a:lnTo>
                <a:lnTo>
                  <a:pt x="19016" y="13030"/>
                </a:lnTo>
                <a:lnTo>
                  <a:pt x="19016" y="21600"/>
                </a:lnTo>
                <a:lnTo>
                  <a:pt x="2584" y="21600"/>
                </a:lnTo>
                <a:lnTo>
                  <a:pt x="2584" y="13030"/>
                </a:lnTo>
                <a:lnTo>
                  <a:pt x="1310" y="13030"/>
                </a:lnTo>
                <a:lnTo>
                  <a:pt x="1310" y="14828"/>
                </a:lnTo>
                <a:lnTo>
                  <a:pt x="0" y="10800"/>
                </a:lnTo>
                <a:lnTo>
                  <a:pt x="1310" y="6772"/>
                </a:lnTo>
                <a:lnTo>
                  <a:pt x="1310" y="8570"/>
                </a:lnTo>
                <a:lnTo>
                  <a:pt x="2584" y="8570"/>
                </a:lnTo>
                <a:close/>
              </a:path>
            </a:pathLst>
          </a:custGeom>
          <a:solidFill>
            <a:srgbClr val="406f8d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Times New Roman"/>
              </a:rPr>
              <a:t>правосозн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оугольник 4"/>
          <p:cNvSpPr/>
          <p:nvPr/>
        </p:nvSpPr>
        <p:spPr>
          <a:xfrm>
            <a:off x="250920" y="2133720"/>
            <a:ext cx="2305080" cy="2357280"/>
          </a:xfrm>
          <a:prstGeom prst="rect">
            <a:avLst/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a45"/>
                </a:solidFill>
                <a:latin typeface="Times New Roman"/>
              </a:rPr>
              <a:t>Правов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a45"/>
                </a:solidFill>
                <a:latin typeface="Times New Roman"/>
              </a:rPr>
              <a:t>психоло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оугольник 5"/>
          <p:cNvSpPr/>
          <p:nvPr/>
        </p:nvSpPr>
        <p:spPr>
          <a:xfrm>
            <a:off x="6659640" y="2143080"/>
            <a:ext cx="2198520" cy="2357640"/>
          </a:xfrm>
          <a:prstGeom prst="rect">
            <a:avLst/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a45"/>
                </a:solidFill>
                <a:latin typeface="Times New Roman"/>
              </a:rPr>
              <a:t>Правов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a45"/>
                </a:solidFill>
                <a:latin typeface="Times New Roman"/>
              </a:rPr>
              <a:t>идеоло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4456"/>
                </a:solidFill>
                <a:latin typeface="Times New Roman"/>
              </a:rPr>
              <a:t>Правовая психология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26560" y="2498760"/>
            <a:ext cx="757260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e3f68"/>
                </a:solidFill>
                <a:latin typeface="Times New Roman"/>
              </a:rPr>
              <a:t>это система правовых чувств, эмоций, настроений, выражающих отношение людей к праву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4456"/>
                </a:solidFill>
                <a:latin typeface="Times New Roman"/>
              </a:rPr>
              <a:t>Правовая идеология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56800" y="2285640"/>
            <a:ext cx="757260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e3f68"/>
                </a:solidFill>
                <a:latin typeface="Times New Roman"/>
              </a:rPr>
              <a:t>систематизированное, научно обоснованное отражение правовых явлений (правовые знания, понятия, категории, принципы, убеждения, идеи</a:t>
            </a:r>
            <a:r>
              <a:rPr b="0" lang="ru-RU" sz="4000" spc="-1" strike="noStrike">
                <a:solidFill>
                  <a:srgbClr val="3e3f68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604000" y="-4147920"/>
            <a:ext cx="824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3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4456"/>
                </a:solidFill>
                <a:latin typeface="Times New Roman"/>
              </a:rPr>
              <a:t>Правовые знания</a:t>
            </a:r>
            <a:r>
              <a:rPr b="0" lang="ru-RU" sz="3600" spc="-1" strike="noStrike">
                <a:solidFill>
                  <a:srgbClr val="424456"/>
                </a:solidFill>
                <a:latin typeface="Times New Roman"/>
              </a:rPr>
              <a:t> –информация о различных сторонах правовой системы общества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4456"/>
                </a:solidFill>
                <a:latin typeface="Times New Roman"/>
              </a:rPr>
              <a:t>Правовые эмоции</a:t>
            </a:r>
            <a:r>
              <a:rPr b="0" lang="ru-RU" sz="3600" spc="-1" strike="noStrike">
                <a:solidFill>
                  <a:srgbClr val="424456"/>
                </a:solidFill>
                <a:latin typeface="Times New Roman"/>
              </a:rPr>
              <a:t> – чувственное отношение к праву в форме позитивных и негативных переживаний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424456"/>
                </a:solidFill>
                <a:latin typeface="Times New Roman"/>
              </a:rPr>
              <a:t>Правовая установка</a:t>
            </a:r>
            <a:r>
              <a:rPr b="0" lang="ru-RU" sz="4000" spc="-1" strike="noStrike">
                <a:solidFill>
                  <a:srgbClr val="424456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56800" y="1989000"/>
            <a:ext cx="7572600" cy="45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ru-RU" sz="2800" spc="-1" strike="noStrike">
                <a:solidFill>
                  <a:srgbClr val="424456"/>
                </a:solidFill>
                <a:latin typeface="Times New Roman"/>
              </a:rPr>
              <a:t>предрасположенность личности (группы, общества) определенным (негативным или позитивным) образом воспринимать и оценивать правовые явления и готовность в соответствии с этим действоват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24456"/>
                </a:solidFill>
                <a:latin typeface="Times New Roman"/>
              </a:rPr>
              <a:t>Правомерное поведе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24456"/>
                </a:solidFill>
                <a:latin typeface="Times New Roman"/>
              </a:rPr>
              <a:t>Противоправное поведе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08432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4456"/>
                </a:solidFill>
                <a:latin typeface="Times New Roman"/>
              </a:rPr>
              <a:t>Правосознание по субъектам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ндивидуаль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отношение к праву отдельного человек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ллектив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Группов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тношение к праву групп и коллективов людей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Обществен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правовые идеи, взгляды,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ории обществ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3:44:26Z</dcterms:created>
  <dc:creator>Пыркина</dc:creator>
  <dc:description/>
  <dc:language>en-US</dc:language>
  <cp:lastModifiedBy>LEGION</cp:lastModifiedBy>
  <dcterms:modified xsi:type="dcterms:W3CDTF">2016-01-04T08:09:19Z</dcterms:modified>
  <cp:revision>31</cp:revision>
  <dc:subject/>
  <dc:title>Правосознание                                  и</dc:title>
</cp:coreProperties>
</file>