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6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6.wmf" ContentType="image/x-wmf"/>
  <Override PartName="/ppt/media/image1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14.png" ContentType="image/png"/>
  <Override PartName="/ppt/media/image1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0A27-D2D0-41E4-8B89-2318B8463A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правовой ниги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де закон, там и оби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правовой ниги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де закон, там и обид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элемент правовой 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, и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е 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и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м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элемент правов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ироком 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ний, ид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увст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уз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е в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м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а общ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в политиче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в политиче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Глаг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Глаг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в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инквейн со слово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созн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ьте синквейн со словом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сознани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16, стр. 69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КУЛЬ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ВАЯ КУЛЬТУ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 теат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люди в нем – акт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ждый там свою играет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ксп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ь мир теат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люди в нем – акт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каждый там свою играет ро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експи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ми прав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ите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пр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комство 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ми прав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ажите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я к прав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ульту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 культу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 культура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правозащитной поз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правозащитной пози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F76-5DBD-4792-82CD-0679D082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7B3-2D81-4DA5-898B-A85C503F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B32C4-274B-4370-BFF5-440E6B45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5E588-1054-4414-9D9D-AA046645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B499E-DCFC-48FB-8939-F6D34641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0D07D-A2DF-4BCE-A375-697A35B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A5827-798A-4280-AB6C-BBAEE71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A3B12-D34F-4C35-BBFB-81D98F3F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E2BD5-26BA-434A-A977-2B34389D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0F55C-005B-46B9-A4A5-8AD56723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6DEF7-07BB-48DB-ADEB-E0C96A8B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911B08-6740-42EF-B4E9-42AEF434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E03-5993-47E0-8ED7-BAA47908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CA9DC5-68B8-4D69-A976-69AF32C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7929DD-8373-4BB5-AA1E-B328E10E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C6BFBD-3433-4A2C-9434-A941C55D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90C241-F7B3-4D44-A087-DDBB4DBC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CA5E1-2C2C-4FE3-ACCB-C84313C4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4FE612-F508-49C2-9EB2-5CE6DBC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B768F-2119-44DD-948A-BA11953F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8990ED-1A69-4468-BB6A-1BCBD46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5C4235-C720-43E4-997C-57A552B2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88C24-75B5-46C5-997C-1B55CB74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DFD-940F-4094-8B28-4332B4D3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3BB0E7-0714-4721-BF1C-28AF8CC4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9372-4B94-4FE7-A9E6-CFC03C81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1E501-0572-4B84-8BDF-DB448E4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EC934-6AA1-4293-9069-C79129D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EC8D9-847A-4565-A6CD-1EE7128F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413F9-72D3-4C3D-83C7-3A5808CE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46B64-9B7D-47F3-80B7-FE56D0CB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5E3A6-4A8E-4FBA-8CA0-2F3DCF4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0EF70-BD16-437A-8D93-7FE6B88F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0CD5C-197D-4071-B880-F9A1D9E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5899-27A9-4DEF-9F33-16C011D0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3F196-315A-486D-901A-855FACCF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C5741-E3FD-4D77-A904-323E3377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F54E5-667D-4678-80A9-41B75E3E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E0512-7CF0-4AB3-AE36-C2F69A14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9DD46-55F3-4961-A8F3-BFFEB374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61688-D5CF-4D0B-8808-8F18FD92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E574D-2511-4D27-89DC-BA11AECC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1CEE1-EDBB-4A3E-9D80-4BD03776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52AB1-E9F1-47F7-92B7-C2B3BFE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D6508-679F-42F7-B471-9E35F44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6AA9-6026-47FA-9CDA-E8F57CC1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90A57-66B7-4965-9CF5-D0D0027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8DB0A-10FB-46B0-B3CB-40FA179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15E62-8C36-4CF8-9344-05BEBB3D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2A36C-39D7-4FE4-9917-E579A9D0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FE25E-4EDE-455B-83D7-713ADC19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96615-DD9E-4FD6-B691-F0A6F752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0C49C-F398-42EB-B1FE-C0C9C92C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0C3AA-82DD-45AE-9CEE-C1D29A4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F80D6-1EC9-47C7-AEE8-83B1933C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83431-3D96-41F0-B063-0C72B018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0D1C-8DF9-4B03-92C4-5C5DA5AC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31A29-2AE4-4E6E-9E5F-CCB857CE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6FFE9-7B2B-4B00-AC61-219F25FE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84323-590A-49BF-B050-150AE85A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0E932-FE3C-438F-B6C0-5CAD348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99446-2842-4DD5-A7A8-8068A6D9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0FE91-84F0-437C-922C-0B17F94C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CF862-2C1D-4668-A63C-9E3C3B4B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EC3EE-E06E-4AA6-A760-07F8A2D3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474B6-D577-459D-820D-D285C4B1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7D475-403F-4ECF-A999-49D5554C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CD04-C85D-439E-A3D1-9FDA8534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D5E47-013D-4097-A154-53632C62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7D129-C654-4531-B67D-0AA8C4C7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9587A-8326-4571-9937-5D1F4CF7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B5DC5-5539-4C81-A918-E346C20F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21DDC-C1D9-42E8-8E21-20A940F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3B45A-8355-4057-AD08-1A9DF1A4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FE9AF-4DD7-4B05-BA90-82D8955F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B2D9C-1736-469E-B791-507F84FE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C03E7-073F-4DB1-A8AD-A84FA897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6A95D-256A-49B2-9323-BF37F640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8A66-45C1-49A3-9C2B-6F055B0B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E521C-4199-451B-8C55-EEB25E83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AF879-3813-4A89-93A1-F3B4BD25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3F820-4EC5-4567-8525-ADEF2207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8A9C0-6796-4C92-BBD9-054122DE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CD1BA-C3EA-4CF9-BC13-510B9CD2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3521E-0AAF-40BB-9FD4-5E24361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7F832-9591-4749-8F37-B2648F85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90C62-40F9-434C-BBA5-7C17DB9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92894-3373-49DB-BB0B-86E30271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B8C6E-B767-4906-8E50-0C51BC00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C526-3693-41A8-8247-D12450B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8A881-D1A0-406F-9A95-5C6892D1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C25EF-C963-4A10-8A00-11003FCF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DA392-F5F0-475E-B318-D27A06EA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E68F0-68A6-48E9-A4BC-0507A5DD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D424C-3942-42B1-9EF7-1AE400C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8BB99-87F9-4071-9D43-88038840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859CC-A2E9-4583-8C2D-CE750E2A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68986-B5DD-4BE0-8CDA-05E3DCC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3302A-931D-4FAA-B465-8FF16E41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4F641-8E3B-4140-92C0-5FED9DE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F4C4-339E-42B9-A650-F223AFFF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7D549-8891-431F-915C-1B205562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A9147-A6DF-4006-A8D7-03DC1549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468EF-C216-43A6-AFFA-27EDE848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25057-55DC-42DD-ABB6-66D985F5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2E2CD-A668-4549-BE81-B4AA91E5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8734A-BE09-4EEF-AE59-6CC86762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52A83C-824F-4346-B062-2D4E7DB5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32630-0D5D-40EB-9776-ABE2D0B0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D51ED-21DE-4784-B1DC-B85AB0BA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129E6-81A7-49CD-9030-85AE8C5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9AE-C66D-4748-B4C4-3F91A4F8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28BB-DFCA-4CA8-8FBA-0690F078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154E0-BB47-43A4-A4A9-DFCDCD02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118BB3-24F0-4DF1-908E-A222462F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9E0D0-672D-4EA6-813D-39F99E3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3932F-4ABC-420E-A8C3-6A9C86CC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B58F6-A70C-489C-86C7-B9C6EBB8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9CABB-4A8E-41DA-86A4-FFA912C2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715C4-B4DE-4BBD-B939-7A15D66E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BB59F-8C3E-4FE2-A30C-3D2C29C0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4FEB8-CD56-4AF7-A668-08F20C8A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D9025-6898-45BD-9468-6A53896F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0FD7-4E65-4A6D-BA3A-A6F2AD7E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175701-990A-473A-971D-ECCC9B44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0FDF1-09B7-4F11-AB0E-283B7B6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1D78C-BE88-4774-BFD5-9C4E593D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1F681-557B-47DF-ABE7-369A7393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FC196-2E9A-40EE-B7A5-1BECDD61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D2C16-AF09-4B87-A931-0EA11EE3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21630-2D47-4532-A5F7-B42EF894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353F1-D441-4F52-8C1E-FBDA8428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1B21F2-C0D8-4821-A4A3-D5307C7E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4D40A-D111-4945-B8F3-50A80689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893D-618C-418E-8EE7-50EE1871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127CA-B96C-456D-98A7-D26578F9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23DBF-61F4-444C-AE20-F3987FF2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FE9EA-9E68-404E-A16D-6C761FB1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01A8D-C339-4EC6-914B-75D618D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79E61-3D66-4E3F-8B8D-315483E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62E69A-96D8-46CD-9745-9C62BE1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60C46-77B6-41D6-A8BF-AF72AC4E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E2A90-5C32-46E0-8401-C2693866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5C569-2915-4CFD-9AEA-12414D9A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FBDD3-B396-433B-BF62-553561ED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1F04-6384-4281-A45E-E901928D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5303B2-13E8-4822-8C96-7F71EAC5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E3531-F5BB-4E8F-9E99-27417F17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EBE6F-0932-4569-9DE8-5C7F5755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D7B298-3803-4596-BAC0-EC9E263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26F0C-282C-4044-AFE8-3E97D13B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E62F1-306F-4539-99B9-FF75B96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B8C54-DF31-4007-9C9B-72F5755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BCC72-CA1B-4CF6-9425-DEBD2752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DB6C2-8C93-4390-ABC3-951A79D3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70352-4DD8-430D-BFCA-54DEA7BD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5DB0-F2AB-4340-83EF-511CD04E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EAB5F9-8C2F-4DAC-8E5E-C1C9DBEC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900B6-C32D-4047-8D15-28ACCD69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1D65AB-0911-4836-A410-5E7715C8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92055-45E9-4DC2-A1E0-AFBBB4B9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55AA1-C52B-4623-B821-50C88C92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F17B4E-D374-4CA5-A801-2A1D1EAF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046CB-3FA9-4A7B-A689-AED0F5A9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0F51FA-2117-4C0E-93E4-7179A360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5F515A-1ACA-4B44-9898-78C00B7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00AC6-4487-41B7-8A8D-DACFCB9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3209-C8B3-4F11-B858-1956D4A0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F2F5E-A309-48CE-BD85-180AFD99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05258-9F63-4D1F-BCAA-1EE6602A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65F53-06B8-4F58-A429-A7C64751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D8A80B-4EB2-427D-A481-5E2A8A45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1D1B0E-8810-4D56-B929-FFC4E4B8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52095E-1E29-450F-ABC0-DE23B6C8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ACF20-79CD-45A0-9D7D-3EED127E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D0374-72D0-461E-A4A2-12F86FD4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078882-45EB-49D7-9167-99BE442E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3C293A-F46A-4C51-A871-F22FA06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4A1A-8E64-474A-B0B4-68E99EAF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D3620-2484-45D0-8D9E-DE9F51B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07026-C495-4149-AD0F-89FBF93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CEFC5A-4332-4C31-A16D-8D4CF2E0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B58184-1C80-424E-8320-C0022F80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C6A5F-97E0-410F-A6F7-9DD30DE7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A78086-A8C6-42ED-9CA5-48FEC982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E5389E-6EAF-4439-967A-E646929C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8BF865-36DB-417D-AD52-FB546521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2EC19F-69B8-4474-B3B7-F39EA1D3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16D60A-E259-4E33-8C2E-11DAF19F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A654-E26D-40A1-9D27-CE651C6F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399DE0-C2B8-426A-B74B-D81A1963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4067A4-3C15-4802-A55C-C8D6279C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0C32D-D2A2-4796-A0AD-C47C26D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39CECF-FE33-4F47-87AA-EF5BD43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4B47F8-51FD-46E0-B890-74D6909B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A2391-47A2-4028-A71C-D1FA733D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983F1F-55F6-40CC-BA92-69BEC748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09716E-235B-4308-974B-69398BFE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702844-8411-43BC-B433-D81D68B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2B51E3-A221-46BF-901F-AC2E021D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428B-6F3E-41DD-9A5F-B6806344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F4934-19BB-48E1-9EF4-272E5893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8F0A10-AA1B-41A8-899C-FC2ED96B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6638FD-5C8F-42E7-AA9B-B4A99C8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2CD989-068E-43D8-9D9A-D4B776CB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27C338-B9DC-454B-9D07-949F92B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5D8DD1-CB19-4E2B-8263-31E12ED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5D0527-4951-40DD-A968-3A24646E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0CEC09-ACD5-43B3-8A06-6CF87634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8AE135-5B82-4896-AB3D-2982762C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728DD9-6AE1-444E-9FEA-23613A9D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B00B-35D3-4056-9B2D-F7D655E5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A3DF48-FDAB-4E97-9984-DBE3AD20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74ED4A-6D04-4955-A43F-5D788063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E15027-9229-4518-A57F-9B9D764C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7FAD12-C7C1-459A-8259-D7CD7407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8933BC-B76F-4ACF-AE15-C194796F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491702-E7C1-4878-95ED-F3486FE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EAFA82-690B-4442-AA86-4E2C98B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045751-BC93-40B2-8D3B-CCF4975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FC635E-D6D9-455F-A09D-2B06FCFB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7980A5-BA50-4735-8CAE-90F2B10D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426-228F-4812-81D3-5B70FECD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E1EF-AA00-4FEA-8668-DC9B6857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B47B99-E614-4944-B33B-663AC674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6DE436-1985-4A65-B789-B1115C9A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2F6D1C-63EA-4029-B0F1-ECAA7D5E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46963A-68C7-4B95-BB75-D8B45859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9DE353-10E7-43AB-A7F3-D74EB71E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23672E-D4EC-437C-BFAC-222A32EE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DF0775-372B-4201-A86F-62B63DA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C58837-5316-40DB-8A2A-758F8E1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A734FF-6159-48B5-9AA6-DF4A5E6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7ED07E-D9D4-4422-A7F2-FCE198FF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867C-7EC7-4A0F-9154-FD72A83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C2CE6F-7D66-41D9-87D7-F4325046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A39288-44B5-4B59-8C1F-11AA8168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12A56A-CEA4-4F40-B20D-16AA61FB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74AAF7-48A8-4687-9D1E-B00F4FD6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1BDDD9-4725-4932-B224-76E34CF5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76F47F-1C41-4243-BEB4-F789F7D3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B6BA23-9EC7-4FED-8070-5FB9003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DF1A3D-1B0C-44F5-BE39-0628F4AF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26C980-201A-4A0C-BC84-5C5928A2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9AF281-F480-40C0-8B53-6032EF3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FC44-CDA3-4BB1-B382-C9CC37E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0F8E70-E127-40E6-AA93-AB7FFC77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646F5D-35C6-44B6-8304-6240D44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E2CFED-347C-4190-8E1E-BF7ECA93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05BA88-C885-4F3F-BE08-6557C609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DE290E-6451-430B-9ACF-8A445E28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F7DD17-B672-4E40-B30C-DB72E628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B79A8F-C8AE-40EE-BBEF-23C9FE06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51F940-7C3E-449B-B684-FDC430B6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774360-EC1F-4E28-B0CA-B59659F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2B5911-306D-4638-8A4D-EEB74DE5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EF02-9019-47F0-8C54-0190C6C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D96D8C-1D3C-449A-8E47-B32766D2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728E70-3831-402A-AF3E-0376543A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9FFF3B-C57B-431B-84EE-5191103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437CDA-B01A-434B-B1F8-99960BE1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CD8D2D-C3DC-467E-8937-8DDDD01C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427EFD-BAF7-4611-834B-6AE588AE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437203-B519-4932-AFBC-2773AA12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02AE9E-C335-4165-BD9E-3134A8D5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AE93BD-B830-44A0-9872-CD4CFE2B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8A6DFE-8C2B-447A-8D43-857C4E2C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BB91-5D8B-44B0-9291-1D879A23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85C187-9B1B-4F6D-8CB4-090618C4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DCBC08-DB46-4EBB-8FA9-56AC2B09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E0D45D-C7FF-4ECC-B4A0-B252E7B4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006CC0-CCC3-4487-9943-CC61C12D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43A6DF-CCC5-415E-957E-4DC7F9A4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5A504A-F938-41A9-828C-CBE1B6C1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FB1974-222A-44C7-BD51-D15E7971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EFBFE3-A552-45BC-A5E4-DF435FAF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33FF0D-28C1-4CDA-975F-D076DFE7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AAB8C7-E0E4-46A8-A5DA-A10C49B7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AEC9-747F-4223-8FBE-07D8FBB3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46CC49-3741-4BF4-BC9F-C01228C5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781827-4E9B-4848-B945-6F129D77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28E26F-1AA6-4AD0-8EFC-914B7996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03D2FC-D5A6-4A26-8EAF-9FA813F6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08D89F-6B6D-4A88-A5FA-19F52F47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1F30DE-8438-444A-91A5-5E406D50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A921CE-E918-468C-87C8-6053A550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B020C5-3C2F-4B64-B7DA-EE7D5421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003DDF-6E7B-459D-812A-03A439D6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C381C0-38C6-443F-9878-109F357E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ED52-1246-4AF1-B1F0-F8A4586C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71882D-BAA4-426C-96AF-2D0EB948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D633AD-CD98-44B1-A6DD-4C3E61A1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5A7A7D-ED82-4B15-9970-F1C168ED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1EEF8A-0F7C-4CBB-80B1-603F2488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DF9CF7-8982-49FA-9BB4-7F718AD7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C1645A-EAFB-4582-B8DC-8D221F6A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15E684-3BAD-4CE4-885E-3EFA0072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60AB4F-0F7C-4599-A5CD-C4A3FF1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118590-087C-479C-B845-9E967C2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22995E-0106-44DC-BB65-6CA23EEE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94D2-1AE7-4855-955F-CA197F4F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45A4A7-791E-43E5-A805-6B974A9B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BD9433-FD11-4FFB-9703-31EEC98A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7B5E4E-4AA1-49DB-9F80-5B364DC5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BB5263-D53A-4820-9E8A-AF8FB3C8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C1DC16-E9FF-4300-8ADD-C1038B52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D9FDA6-BD24-47FD-80FC-874C0E5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51AC79-4503-468B-92AC-50D968AE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FE5DC2-0132-4C95-A8D7-6020D9A4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378C59-650F-40DE-9B12-081EAEA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F2121E-8683-4DB9-BE83-12DD0D5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BA38-2A8B-4F69-A0D6-C93CE425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FA13A1-E0D9-4F93-86D9-543A647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815A4E-AC4E-4BDF-80A7-1F09499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38CD92-9CC4-4256-9B0C-01E8EC0E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1734E5-C3ED-4DC9-9BC2-605D1222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FC49D9-C968-4834-AF98-B3BFB4A1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1009EC-8706-4B88-9851-23901843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1BFEFD-57BC-4988-8895-B58D6AA0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B06F07-F74A-4E0A-92BA-04E4D4F2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DCDAE0-E3BE-420E-A1EC-6AAB402F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6BF51A-92AE-4593-9280-250E7C59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9952-B681-4B6B-A42C-A76A3CE4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825166-C0D3-499C-84AC-34609A86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9BB628-FA85-4E75-93F3-FA32D324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6FE54F-D454-48A6-A1C3-842D758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E3F392-0793-4889-83FE-B34B6ADE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60ADEB-1BAA-4951-BE61-102BA32D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42BB44-ACED-4EBF-9FD9-75EDC4EA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4F8CD3-C1D3-472A-93C4-693B1624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ED2E83-5A62-4D23-BEFE-7D185D26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3F16A7-3315-477B-95B4-D8D52F3E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3130A3-C37A-4936-8209-1F32FF8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1D7-B340-48C9-823D-796105E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C6E2D-8935-464C-AE95-FF03AC26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F42FA9-F300-4D4C-AA71-00D2B052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CE8D40-B4A3-4939-8F37-154457E1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66C09F-100A-4113-B2F4-6410F2CF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933658-F004-452D-93B4-430E0980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4FA1E9-D246-4B40-8519-1A722F24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368092-3CE2-46FE-8160-F70CCF5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A0245D-F2E0-456C-9F8D-6A731DD7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C6A288-D071-4D40-A6BC-DCD14195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2584E2-5329-42BB-9D66-E6B5D125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1B5509-DC70-493D-8224-3E80C7BA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D80E-8FC7-46D7-87E0-26CE2571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B53C64-96BE-4B60-BA66-EF829D0C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17D668-AC48-4036-A941-20C27FB9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76BD8D-08E5-4BC9-98A2-028A1148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9841B7-AB8C-4CBB-B176-E8994E06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253687-16A4-4586-85AA-3093ED5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455FD1-7E8A-4585-AEF0-4911D108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3BB7EB-77D3-4155-A049-D8C84B66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AD9E45-BCE5-47B4-B644-FAD03EF9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8DBD99-5DD6-4346-81F8-FA2A93E7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30CAEE-C0D6-463A-9139-AD9CDB75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7E75A-70FF-45C6-8457-92BE55D1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F92FCE-BF61-4AC5-BEB1-926538DD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8FF6DA-1D67-4E65-A826-8D9C2587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08AC02-69E7-44B2-A638-368FF7EF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14040A-3929-41FD-B36C-1BE94C1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CF79D1-42EF-46FE-AD65-D3E395C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792FA9-F313-4DAF-BEFC-F2917E72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1302A2-9B3F-42F0-83FF-F8D52CCB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54BB6F-5999-4A0E-A335-540240F4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329540-CBEC-4186-B505-8992F48A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78C554-3D4A-4F62-9C18-8D5252A3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E5742-B7B3-4E35-AAB3-743D2D7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75103C-C2E4-4863-AA3E-CCBB9507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CE06A8-F91C-4356-BFD3-31ADE6B7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601E1F-71FF-4080-BE98-A9B0F0A3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1D5F54-B087-4B0A-8E8F-2B04633C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2A90D0-82C1-4789-84DB-CF94D4A7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C229E3-2A8F-4FD1-ADA9-C18EE52E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4811A7-4EBE-48FE-83E3-11832353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609CA7-E5E3-4D12-B223-D9BC24C1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AC318B-4026-4CB3-A972-5551F3D4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B41909-53DD-44E5-A8B2-F6F0C765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F54E-9C9D-4720-916F-0104F3A1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752655-5C5A-4C21-9521-464F212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85A7C8-C29D-4066-AA96-EA74CC5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B18BF4-EB89-40A0-A7CD-64F66AD2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D6A955-ECCC-4AB0-9238-D50AAD50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44B90D-A0AB-409E-9097-9B79A561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ABCA64-B04C-411A-AC11-0C4BBED0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B0A2DB-24F7-4013-93DD-17715542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D25D3E-BA84-4ABB-809B-312B5B25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FD6581-5004-464C-9CFA-9CF480CD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78AFB2-847A-4F5B-AC93-3D5F8B59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D7B1-C931-44FB-BF5E-659BBF9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DF2E4A-9952-495D-98E0-C4955EB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F0F1A1-3582-4A92-A1BF-27ED5001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8C36CA-A7F6-4780-8B24-D33B58A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581208-6DFC-4173-969B-B79AC79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1E9E08-E37A-4E78-BF9C-A4636E8B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5FA30F-C6EE-4BA7-8978-4D55C37A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EB461E-F16D-4680-9B40-24EC957A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7AB96B-8D40-4625-AC4B-B086003A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DEBC84-35C7-4557-9BE7-94F07A82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1369E8-285A-4A9A-98A2-E46663AA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D61F0-5C0D-4828-BA72-BC360F76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6653FA-C50C-420F-BD58-8A0338E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FBB2C1-F025-4B38-AB79-802CDAB4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AAE07E-8651-45A6-BC97-C56A6A60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CAC4CD-490E-45BF-9FE3-D15F38D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33FA71-3E2C-4F29-924F-E548E1F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57B442-DC83-4166-856C-40B23C9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5CFCED-46E3-40D7-8014-550D7076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E87591-5685-42D0-B982-BC741ECD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1FE740-38C2-4BC8-9F10-7FFBC464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184F9-C484-4E1F-BD42-F3ABF6BB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523E-75B3-4978-901D-2AE2064F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7BDAE-CC7D-427C-8FDB-556EB09F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BF9-5FC3-41DD-A806-533EACD6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BC08E-6490-49CD-BB64-2FF77EE5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BCA98-8736-40A4-A51E-EBE84337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29D06-71D4-4117-AB83-62519D3D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40DD-E51B-4188-BFBE-96013690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347A-EF52-4A3C-90AC-0E714AB4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5FF3-2FDE-4660-9EF5-FAB31C0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E0C2-62E3-4107-B0B3-F7513B9D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0B74-2467-40D8-BECF-A692927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356C0-FE07-4E85-8291-1F196489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14115-E05C-4FC6-B770-411B89DF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C57-D7F0-4E43-A717-668BD233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D1C98-181F-4BAC-B2C5-B97AF3CC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2481-5702-44E2-9467-5591F0D8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1E67-2CF4-4579-B254-044CF41E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5C3E-9E71-4317-8E80-DF227D46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3F971-0C5C-4D2C-B24E-EF50ECEB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8B8BF-D7FF-4873-89A8-15EEA322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F69A4-619F-423A-B48C-D5BDBD88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07153-52BE-401E-931F-A4B1E34E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0548-3B04-402C-83C2-88B897D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EF2E7-D766-4DB5-9D4B-A7096CB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886-1135-4BD9-BE42-5B78628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EE21A-BD1B-4256-963E-DB8EB8ED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D6245-A97D-441D-8004-7A27001D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3A5E-5852-43AE-A547-A2A2D835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77224-3482-417A-9628-EC73E2C3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DC2A-7F0D-490C-9535-23B2BBA5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A5ED7-CD65-409F-AF50-5CAF7BAF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8A8EB-2953-4820-A4C9-CDBF88C2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282FB-AB6C-4A3A-9E8F-BEC8AB16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17BC4-A8E5-4B2E-AFA3-A8EF8D53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D4128-340C-46DF-9C2E-9C0FB96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22E-6BE8-4F9D-8343-A55ECC9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834F8-C35C-43AC-BDF5-7379A54B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B916-9A07-4FAE-8475-B2A8F9A7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CA37D-0664-46B3-B6CB-261B3F2D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10489-2CDD-4555-A870-D2CDA4E2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1456-0132-4A6F-B4FC-0B042C87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A7C67-7735-4225-BE40-2E059B48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97530-DA3F-459E-BD18-DAEBCD4F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D19CF-0E95-4EB5-A556-71616F55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A56D6-75A8-4B4C-BAAD-64624A47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0AD2-C36C-44FC-9456-6507563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5CF-995B-4327-A257-1CD750AB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0411A-F657-4B28-A518-25B0A250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BE17-1959-45EB-821E-AB5E936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56F48-B0DE-403E-B89B-19C01BE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4648D-B2D9-476B-8C86-EDE340B4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23FBE-34F7-4B9A-B2F0-373CC6B8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FC7AE-DE7E-4044-96C7-8FA0A46A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14533-3B23-4641-8C47-24969357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B40D8-D89D-4C25-95BA-ACF04C39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3F30-437F-4548-B8BD-95A63343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74088-6948-46F3-B10F-DBE068D1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1C60-0EEE-4525-957D-8087C5635C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3740-B23E-4389-8DD5-36D0D248AD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8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8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9AD0-52AB-4696-B4FB-725FA115CF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DC5-78C0-4B51-87C2-5DAD228E41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7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46CE-85A9-47C7-8F10-34EC2DE2BB2B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723C-279E-44F6-9F7E-074CDC8067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4EFD-5A2A-4C80-9F56-93AE627594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1B40-C255-471A-AEA4-9D03C6B7B7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009-39FD-4BDE-8A0E-210E6994776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29ED-AEE3-4F20-B2A7-4252DA4FCE1C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6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39B9-3ABF-4250-9CAF-4299657DBA0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C95-A8A8-4651-A4F7-7DB2ACA5F6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10F5-D18A-45B0-9514-129BE60AA9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E842-539E-4430-B0E8-17D68BF3432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1BB4-E4AA-42F9-96A2-A2928A4193B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A83A-D6F8-4AFC-BB61-2DB277E54AC2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CABD-E7C7-43F8-821A-3DEE81BE52A4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132E-C9E3-448A-87DA-F19C1F0814E8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1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7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7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7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0C1E-3076-436A-96D5-C93F800A9E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2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8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E4A2-8B27-4961-AA98-77AFFF75555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357F-7277-440E-BA20-4152E769258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096D-809D-4AC7-BA32-F72CF2EE0B2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51C2-AB7D-475A-83D6-98A9E66AE7B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C4A-0476-4424-87F1-6A4BF182151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C6DA-7739-40FC-8692-AD3E2B8AD3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0E6D-A764-4312-B0F8-0A7CBF0C73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9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9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9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BBE0-7D81-4891-90DC-0CB91E39E0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31AE-4657-4FB7-B291-FD6CDF3862E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0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0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0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7A1A-8B04-4C2D-9482-58EA44E6AF1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61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 type="dt" idx="10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 type="ftr" idx="10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 type="sldNum" idx="10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C3F6-8C83-4080-8742-35AD6418F3F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6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1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C27-B385-4B89-A151-2E43399848B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1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0313-47DD-4962-A905-31B3444BF2C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1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1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1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3E6C-FD32-4446-A090-4BD7DA040F9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DC75-3433-4309-B158-79D447EC94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1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4323-FFD9-49A7-BA94-56A7527A88E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4B30-45BF-4909-B97A-4BDFF4D8FACC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5E28-AC00-4C27-B14C-3C728B4F7E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6E71-2766-4B62-BD47-0F9B602F7C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9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F097-EAED-4406-9545-912D468CC7A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Rectangle 2" descr=""/>
          <p:cNvPicPr/>
          <p:nvPr/>
        </p:nvPicPr>
        <p:blipFill>
          <a:blip r:embed="rId1"/>
          <a:stretch/>
        </p:blipFill>
        <p:spPr>
          <a:xfrm>
            <a:off x="249120" y="981000"/>
            <a:ext cx="9772920" cy="39196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1" descr="%D0%BF%D1%80%D0%B0%D0%B2%D0%BE_17"/>
          <p:cNvPicPr/>
          <p:nvPr/>
        </p:nvPicPr>
        <p:blipFill>
          <a:blip r:embed="rId2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803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типод правовой культуры – 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   правовой нигилиз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что дышло, куда повернешь, туда и вышл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Где закон, там и обида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Что мне законы, коли судьи знакомы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топтать нельзя, а вокруг ходить можн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6" name="Picture 4" descr="206"/>
          <p:cNvPicPr/>
          <p:nvPr/>
        </p:nvPicPr>
        <p:blipFill>
          <a:blip r:embed="rId1"/>
          <a:stretch/>
        </p:blipFill>
        <p:spPr>
          <a:xfrm>
            <a:off x="3492360" y="4797360"/>
            <a:ext cx="2016360" cy="2060640"/>
          </a:xfrm>
          <a:prstGeom prst="rect">
            <a:avLst/>
          </a:prstGeom>
          <a:ln w="0">
            <a:noFill/>
          </a:ln>
        </p:spPr>
      </p:pic>
      <p:sp>
        <p:nvSpPr>
          <p:cNvPr id="18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-252720" y="291960"/>
            <a:ext cx="9001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авосознание – важнейший   </a:t>
            </a:r>
            <a:br>
              <a:rPr sz="4000"/>
            </a:b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     элемент правовой культур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широком 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й, ид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6215040" y="1905120"/>
            <a:ext cx="29289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уз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е 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и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м д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а 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1" name="Picture 7" descr="obraz"/>
          <p:cNvPicPr/>
          <p:nvPr/>
        </p:nvPicPr>
        <p:blipFill>
          <a:blip r:embed="rId1"/>
          <a:stretch/>
        </p:blipFill>
        <p:spPr>
          <a:xfrm>
            <a:off x="2916360" y="3357720"/>
            <a:ext cx="3095640" cy="2366640"/>
          </a:xfrm>
          <a:prstGeom prst="rect">
            <a:avLst/>
          </a:prstGeom>
          <a:ln w="0">
            <a:noFill/>
          </a:ln>
        </p:spPr>
      </p:pic>
      <p:sp>
        <p:nvSpPr>
          <p:cNvPr id="18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Rectangl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277200" cy="15001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сведомленность в вопросах полити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ность в политической обла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ложительное отношение к политике как роду человече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65" name="Picture 11" descr="j0343393"/>
          <p:cNvPicPr/>
          <p:nvPr/>
        </p:nvPicPr>
        <p:blipFill>
          <a:blip r:embed="rId2"/>
          <a:stretch/>
        </p:blipFill>
        <p:spPr>
          <a:xfrm>
            <a:off x="3924360" y="4076640"/>
            <a:ext cx="1247760" cy="25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66" name="Group 14"/>
          <p:cNvGrpSpPr/>
          <p:nvPr/>
        </p:nvGrpSpPr>
        <p:grpSpPr>
          <a:xfrm>
            <a:off x="7093080" y="4508640"/>
            <a:ext cx="1818720" cy="2461680"/>
            <a:chOff x="7093080" y="4508640"/>
            <a:chExt cx="1818720" cy="2461680"/>
          </a:xfrm>
        </p:grpSpPr>
        <p:pic>
          <p:nvPicPr>
            <p:cNvPr id="1867" name="Picture 15" descr="j0229051"/>
            <p:cNvPicPr/>
            <p:nvPr/>
          </p:nvPicPr>
          <p:blipFill>
            <a:blip r:embed="rId3"/>
            <a:stretch/>
          </p:blipFill>
          <p:spPr>
            <a:xfrm>
              <a:off x="7093080" y="4508640"/>
              <a:ext cx="1818720" cy="21301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68" name="Text Box 16"/>
            <p:cNvSpPr/>
            <p:nvPr/>
          </p:nvSpPr>
          <p:spPr>
            <a:xfrm>
              <a:off x="7909920" y="6514200"/>
              <a:ext cx="1821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9" name="Picture 21" descr="i?id=34623584&amp;tov=3"/>
          <p:cNvPicPr/>
          <p:nvPr/>
        </p:nvPicPr>
        <p:blipFill>
          <a:blip r:embed="rId4"/>
          <a:stretch/>
        </p:blipFill>
        <p:spPr>
          <a:xfrm>
            <a:off x="0" y="4508640"/>
            <a:ext cx="2208240" cy="2349360"/>
          </a:xfrm>
          <a:prstGeom prst="rect">
            <a:avLst/>
          </a:prstGeom>
          <a:ln w="0">
            <a:noFill/>
          </a:ln>
        </p:spPr>
      </p:pic>
      <p:sp>
        <p:nvSpPr>
          <p:cNvPr id="187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Прилагательное                    Прилага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Ф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4"/>
          <p:cNvSpPr/>
          <p:nvPr/>
        </p:nvSpPr>
        <p:spPr>
          <a:xfrm>
            <a:off x="826920" y="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5"/>
          <p:cNvSpPr/>
          <p:nvPr/>
        </p:nvSpPr>
        <p:spPr>
          <a:xfrm>
            <a:off x="611280" y="-171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ставьте синквейн со словом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равосознани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Rectangle 2" descr=""/>
          <p:cNvPicPr/>
          <p:nvPr/>
        </p:nvPicPr>
        <p:blipFill>
          <a:blip r:embed="rId1"/>
          <a:stretch/>
        </p:blipFill>
        <p:spPr>
          <a:xfrm>
            <a:off x="0" y="324000"/>
            <a:ext cx="8070840" cy="15048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9" descr="22-04-2009-pravo"/>
          <p:cNvPicPr/>
          <p:nvPr/>
        </p:nvPicPr>
        <p:blipFill>
          <a:blip r:embed="rId2"/>
          <a:stretch/>
        </p:blipFill>
        <p:spPr>
          <a:xfrm>
            <a:off x="3500280" y="4929120"/>
            <a:ext cx="1524240" cy="161928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10"/>
          <p:cNvSpPr/>
          <p:nvPr/>
        </p:nvSpPr>
        <p:spPr>
          <a:xfrm>
            <a:off x="611280" y="2000160"/>
            <a:ext cx="66974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8062920" cy="32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Тема урока:</a:t>
            </a:r>
            <a:br>
              <a:rPr sz="8800"/>
            </a:br>
            <a:br>
              <a:rPr sz="5400"/>
            </a:b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252000" cy="1258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766f"/>
                </a:solidFill>
                <a:latin typeface="Verdana"/>
              </a:rPr>
              <a:t>«ПРАВОВАЯ КУЛЬТУРА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6" name="Picture 8" descr="yrist"/>
          <p:cNvPicPr/>
          <p:nvPr/>
        </p:nvPicPr>
        <p:blipFill>
          <a:blip r:embed="rId1"/>
          <a:stretch/>
        </p:blipFill>
        <p:spPr>
          <a:xfrm>
            <a:off x="3419640" y="3645000"/>
            <a:ext cx="2447640" cy="2846160"/>
          </a:xfrm>
          <a:prstGeom prst="rect">
            <a:avLst/>
          </a:prstGeom>
          <a:ln w="0">
            <a:noFill/>
          </a:ln>
        </p:spPr>
      </p:pic>
      <p:sp>
        <p:nvSpPr>
          <p:cNvPr id="18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4"/>
          <p:cNvSpPr/>
          <p:nvPr/>
        </p:nvSpPr>
        <p:spPr>
          <a:xfrm>
            <a:off x="140760" y="1478520"/>
            <a:ext cx="841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есь мир театр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А люди в нем – акт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 каждый там свою играет р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експи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785880" y="83664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483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4800" spc="-1" strike="noStrike">
                <a:solidFill>
                  <a:srgbClr val="ff00ff"/>
                </a:solidFill>
                <a:latin typeface="Verdana"/>
              </a:rPr>
              <a:t>ЦЕЛИ УРОКА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28400" y="178596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накомство 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сновами правовой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культуры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Воспита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уважительного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тношения к праву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3" name="Picture 9" descr="i?id=65643925&amp;tov=5"/>
          <p:cNvPicPr/>
          <p:nvPr/>
        </p:nvPicPr>
        <p:blipFill>
          <a:blip r:embed="rId1"/>
          <a:stretch/>
        </p:blipFill>
        <p:spPr>
          <a:xfrm>
            <a:off x="6643800" y="500040"/>
            <a:ext cx="197964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814" name="Group 10"/>
          <p:cNvGrpSpPr/>
          <p:nvPr/>
        </p:nvGrpSpPr>
        <p:grpSpPr>
          <a:xfrm>
            <a:off x="6429240" y="4429080"/>
            <a:ext cx="2160360" cy="1744200"/>
            <a:chOff x="6429240" y="4429080"/>
            <a:chExt cx="2160360" cy="1744200"/>
          </a:xfrm>
        </p:grpSpPr>
        <p:pic>
          <p:nvPicPr>
            <p:cNvPr id="1815" name="Picture 11" descr="j0286939"/>
            <p:cNvPicPr/>
            <p:nvPr/>
          </p:nvPicPr>
          <p:blipFill>
            <a:blip r:embed="rId2"/>
            <a:stretch/>
          </p:blipFill>
          <p:spPr>
            <a:xfrm>
              <a:off x="7120800" y="4429080"/>
              <a:ext cx="1468800" cy="13428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16" name="Text Box 12"/>
            <p:cNvSpPr/>
            <p:nvPr/>
          </p:nvSpPr>
          <p:spPr>
            <a:xfrm>
              <a:off x="6429240" y="571716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66ff33"/>
                </a:solidFill>
                <a:latin typeface="Tahoma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 куль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в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созн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итическ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0" name="Рисунок 3" descr="boy.gif"/>
          <p:cNvPicPr/>
          <p:nvPr/>
        </p:nvPicPr>
        <p:blipFill>
          <a:blip r:embed="rId1"/>
          <a:stretch/>
        </p:blipFill>
        <p:spPr>
          <a:xfrm>
            <a:off x="2340000" y="4365720"/>
            <a:ext cx="4465440" cy="2378160"/>
          </a:xfrm>
          <a:prstGeom prst="rect">
            <a:avLst/>
          </a:prstGeom>
          <a:ln w="0">
            <a:noFill/>
          </a:ln>
        </p:spPr>
      </p:pic>
      <p:sp>
        <p:nvSpPr>
          <p:cNvPr id="18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823" name="Oval 4"/>
          <p:cNvSpPr/>
          <p:nvPr/>
        </p:nvSpPr>
        <p:spPr>
          <a:xfrm>
            <a:off x="2556000" y="2205000"/>
            <a:ext cx="3673440" cy="20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уль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Line 6"/>
          <p:cNvSpPr/>
          <p:nvPr/>
        </p:nvSpPr>
        <p:spPr>
          <a:xfrm flipV="1">
            <a:off x="4427640" y="1125000"/>
            <a:ext cx="0" cy="100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7"/>
          <p:cNvSpPr/>
          <p:nvPr/>
        </p:nvSpPr>
        <p:spPr>
          <a:xfrm flipV="1">
            <a:off x="5580000" y="1557360"/>
            <a:ext cx="108108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8"/>
          <p:cNvSpPr/>
          <p:nvPr/>
        </p:nvSpPr>
        <p:spPr>
          <a:xfrm flipV="1">
            <a:off x="6227640" y="3284280"/>
            <a:ext cx="1800360" cy="7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9"/>
          <p:cNvSpPr/>
          <p:nvPr/>
        </p:nvSpPr>
        <p:spPr>
          <a:xfrm>
            <a:off x="5580000" y="4005360"/>
            <a:ext cx="93672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10"/>
          <p:cNvSpPr/>
          <p:nvPr/>
        </p:nvSpPr>
        <p:spPr>
          <a:xfrm>
            <a:off x="4500720" y="429264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Line 11"/>
          <p:cNvSpPr/>
          <p:nvPr/>
        </p:nvSpPr>
        <p:spPr>
          <a:xfrm flipH="1">
            <a:off x="2050920" y="4149720"/>
            <a:ext cx="144000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Line 12"/>
          <p:cNvSpPr/>
          <p:nvPr/>
        </p:nvSpPr>
        <p:spPr>
          <a:xfrm flipH="1" flipV="1">
            <a:off x="900000" y="3141720"/>
            <a:ext cx="165744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Line 13"/>
          <p:cNvSpPr/>
          <p:nvPr/>
        </p:nvSpPr>
        <p:spPr>
          <a:xfrm flipH="1" flipV="1">
            <a:off x="2195280" y="1413000"/>
            <a:ext cx="936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9" descr="C:\Мои документы\Учителя\Смирнова\рисунки\37.jpg"/>
          <p:cNvPicPr/>
          <p:nvPr/>
        </p:nvPicPr>
        <p:blipFill>
          <a:blip r:embed="rId2"/>
          <a:stretch/>
        </p:blipFill>
        <p:spPr>
          <a:xfrm>
            <a:off x="6851520" y="5500800"/>
            <a:ext cx="2292480" cy="135720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6" descr="i?id=82752023&amp;tov=8"/>
          <p:cNvPicPr/>
          <p:nvPr/>
        </p:nvPicPr>
        <p:blipFill>
          <a:blip r:embed="rId3"/>
          <a:srcRect l="18920" t="12935" r="17464" b="0"/>
          <a:stretch/>
        </p:blipFill>
        <p:spPr>
          <a:xfrm>
            <a:off x="0" y="0"/>
            <a:ext cx="1643040" cy="215100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8" descr="museum10_"/>
          <p:cNvPicPr/>
          <p:nvPr/>
        </p:nvPicPr>
        <p:blipFill>
          <a:blip r:embed="rId4"/>
          <a:stretch/>
        </p:blipFill>
        <p:spPr>
          <a:xfrm>
            <a:off x="7358040" y="214200"/>
            <a:ext cx="1785960" cy="195768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9" descr="Сватовство Майора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0" y="507204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83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38" name="Picture 6" descr="C:\Мои документы\Учителя\Смирнова\рисунки\28.jpg"/>
          <p:cNvPicPr/>
          <p:nvPr/>
        </p:nvPicPr>
        <p:blipFill>
          <a:blip r:embed="rId1"/>
          <a:stretch/>
        </p:blipFill>
        <p:spPr>
          <a:xfrm>
            <a:off x="3635280" y="5376960"/>
            <a:ext cx="1181160" cy="14810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6" descr="i?id=3681989&amp;tov=7"/>
          <p:cNvPicPr/>
          <p:nvPr/>
        </p:nvPicPr>
        <p:blipFill>
          <a:blip r:embed="rId2"/>
          <a:srcRect l="0" t="0" r="4828" b="11535"/>
          <a:stretch/>
        </p:blipFill>
        <p:spPr>
          <a:xfrm>
            <a:off x="6804000" y="5272200"/>
            <a:ext cx="2340000" cy="158580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7" descr="Moscow_Bolshoi_Theatre"/>
          <p:cNvPicPr/>
          <p:nvPr/>
        </p:nvPicPr>
        <p:blipFill>
          <a:blip r:embed="rId3"/>
          <a:stretch/>
        </p:blipFill>
        <p:spPr>
          <a:xfrm>
            <a:off x="6407280" y="115920"/>
            <a:ext cx="2736720" cy="1814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8" descr="448px-Russia-Moscow-Cathedral_of_Christ_the_Saviour-3"/>
          <p:cNvPicPr/>
          <p:nvPr/>
        </p:nvPicPr>
        <p:blipFill>
          <a:blip r:embed="rId4"/>
          <a:srcRect l="0" t="14798" r="0" b="0"/>
          <a:stretch/>
        </p:blipFill>
        <p:spPr>
          <a:xfrm>
            <a:off x="0" y="0"/>
            <a:ext cx="1889280" cy="2060640"/>
          </a:xfrm>
          <a:prstGeom prst="rect">
            <a:avLst/>
          </a:prstGeom>
          <a:ln w="0">
            <a:noFill/>
          </a:ln>
        </p:spPr>
      </p:pic>
      <p:pic>
        <p:nvPicPr>
          <p:cNvPr id="1842" name="Рисунок 5" descr="1.jpg"/>
          <p:cNvPicPr/>
          <p:nvPr/>
        </p:nvPicPr>
        <p:blipFill>
          <a:blip r:embed="rId5"/>
          <a:stretch/>
        </p:blipFill>
        <p:spPr>
          <a:xfrm>
            <a:off x="0" y="5157720"/>
            <a:ext cx="1366920" cy="1700280"/>
          </a:xfrm>
          <a:prstGeom prst="rect">
            <a:avLst/>
          </a:prstGeom>
          <a:ln w="0">
            <a:noFill/>
          </a:ln>
        </p:spPr>
      </p:pic>
      <p:sp>
        <p:nvSpPr>
          <p:cNvPr id="18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47280" y="291960"/>
            <a:ext cx="713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6" name="AutoShape 2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3780000" y="198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1851" name="AutoShape 1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 Box 14"/>
          <p:cNvSpPr/>
          <p:nvPr/>
        </p:nvSpPr>
        <p:spPr>
          <a:xfrm>
            <a:off x="2484360" y="1844640"/>
            <a:ext cx="4967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ктивность правозащитной позиции</a:t>
            </a:r>
            <a:r>
              <a:rPr b="0" lang="ru-RU" sz="1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59:18Z</dcterms:created>
  <dc:creator>HomeComp</dc:creator>
  <dc:description/>
  <dc:language>en-US</dc:language>
  <cp:lastModifiedBy>LEGION</cp:lastModifiedBy>
  <dcterms:modified xsi:type="dcterms:W3CDTF">2016-01-04T08:09:09Z</dcterms:modified>
  <cp:revision>31</cp:revision>
  <dc:subject/>
  <dc:title>УРОК ОБЩЕСТВОЗНАНИЯ 6 класс</dc:title>
</cp:coreProperties>
</file>