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304E-E262-4E11-B08C-C2243266AD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к ЕГЭ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бществ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ОУ Умётской СОШ  Понафидина Е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ЕГЭ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обществозн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БОУ Умётской СОШ  Понафидина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права 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трасль права 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права - совокупность правовых норм, институтов и подотраслей права, регулирующая однород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 права 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трасль права 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права - совокупность правовых норм, институтов и подотраслей права, регулирующая однород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о – германская 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осаксонская Право некодифицированное и прецедентное. Нет разделения права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истическое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ый ( религиозный) 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о – германская 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осаксонская Право некодифицированное и прецедентное. Нет разделения права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истическое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ый ( религиозный) 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тношение 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правоотно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- 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убъе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зические лица(граждане, иностранные граждане, лица без гражда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юридические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рганизации, не являющиеся юридическими л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ые юридические права и обяз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тношение 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право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- 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убъек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государство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физические лица(граждане, иностранные граждане, лица без гражда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юридические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рганизации, не являющиеся юридическими ли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ивные юридические права и обяза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бъек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-способность субъекта иметь права и обязанности. Возникает с 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-способность распоряжаться своими правами и нест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ансипация-объявление несовершеннолетнего полностью дееспособным ( вступление в брак раньше 18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ктоспособность - способность нести юридическую ответственность за совершенные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бъек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-способность субъекта иметь права и обязанности. Возникает с р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-способность распоряжаться своими правами и нести обяза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ансипация-объявление несовершеннолетнего полностью дееспособным ( вступление в брак раньше 18 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ктоспособность - способность нести юридическую ответственность за совершенные правонару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два подхода к пониманию данной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два подхода к пониманию данной категор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блага (веши, предметы, ценности) — они характерны для гражданских право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ые личные блага 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субъектов и его результаты 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ы духовного творчества 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, официальные документы (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ые блага (веши, предметы, ценности) — они характерны для гражданских правоотно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ые личные блага 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ие субъектов и его результаты 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ы духовного творчества 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ые бумаги, официальные документы (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факты 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ридических фа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Предусмотрены нормативно-правовым актом (гипотезой нормы пра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дтверждены документально (справкой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ыражаются в наличии либо отсутствии тех или иных явлений, событий, действий;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е факты 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ридических фак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Предусмотрены нормативно-правовым актом (гипотезой нормы пра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одтверждены документально (справкой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ыражаются в наличии либо отсутствии тех или иных явлений, событий, действий;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арактеру правовых последствий разли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характеру правовых последствий разли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о можно использовать в 3 смысл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ое право-см. 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е в юридическом смысле слова ( на ува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 право – действующее право, как совокупность нормативных правовых а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 право – принципы права, вытекающие из природы человека и не зависящие от социальных условий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аво можно использовать в 3 смысл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е право-см. 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е в юридическом смысле слова ( на ува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 право – действующее право, как совокупность нормативных правовых а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право – принципы права, вытекающие из природы человека и не зависящие от социальных условий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ытия - юридически значимые факты, которые возникают помимо воли и сознания человека (стихийные бедствия, смерть,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 — это факты, связанные с волей участников правоотношений. Они бывают правомерными (соответствующими праву) и неправомерными 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ытия - юридически значимые факты, которые возникают помимо воли и сознания человека (стихийные бедствия, смерть,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я — это факты, связанные с волей участников правоотношений. Они бывают правомерными (соответствующими праву) и неправомерными 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 - противоправное, волевое виновное деяние дееспособного лица, наносящее вред государству, обществу,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или без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ение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правонарушения- главные признаки, необходимые для того, чтобы возложить юридическую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авонарушения- нормы права, на которые посягает 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ая сторона-действие или бездействие; общественно-опасные последствия; причинная связь между деянием и последств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     Субъективная сторона. Характеризуется виной, целью, мо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 - противоправное, волевое виновное деяние дееспособного лица, наносящее вред государству, обществу,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или без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ение в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правонарушения- главные признаки, необходимые для того, чтобы возложить юридическую ответств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авонарушения- нормы права, на которые посягает правонаруш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ая сторона-действие или бездействие; общественно-опасные последствия; причинная связь между деянием и последств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      Субъективная сторона. Характеризуется виной, целью, моти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а - психическое отношение лица к собственному поведению и его результа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мыс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ямой - осознавал опасность, предвидел последствия и желал их на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еосторо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а - психическое отношение лица к собственному поведению и его результа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Умыс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ямой - осознавал опасность, предвидел последствия и желал их на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еосторо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авонарушени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упки                                                 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упок-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ступ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ые                       Администр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                              Труд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                        Международные ( делик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онарушени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упки                                                 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упок-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оступ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ые                       Администра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е                               Труд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уальные                         Международные ( делик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- 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м для Ю.О. является правонару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разрывная связь с гос. принуж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ступает только за совершен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вязана с определенными лиш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существляется в строгом соответствии с нормам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щита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ание граждан в духе уважения к пр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филактика правонарушений ( превентивная фун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- 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м для Ю.О. является правонару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разрывная связь с гос. принужд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ступает только за совершен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вязана с определенными лиш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существляется в строгом соответствии с нормам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а право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спитание граждан в духе уважения к пра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филактика правонарушений ( превентивная функ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раведл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отврат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целесообраз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зумпция невино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умпция невиновности - недопустимость признания лица виновным до вынесения обвинительного приговора 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ко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праведл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отврат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целе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ст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езумпция невинос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умпция невиновности - недопустимость признания лица виновным до вынесения обвинительного приговора 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исциплина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дминистра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ажда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голо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исключающие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я оборона - самостоятельная защита  своей жизни, прав и свобод, а также жизни, прав и свобод други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исциплинар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дминистра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ражда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голо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исключающие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оборона - самостоятельная защита  своей жизни, прав и свобод, а также жизни, прав и свобод други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необходимой оборо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альность посяг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ственная 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декватность защиты степени 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меняемость правонаруш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ержание лица, совершившего пре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приказа или распоря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или психическое прину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необходимой оборо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альность посяг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ществ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декватность защиты степени 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меняемость правонаруш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ееспосо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ержание лица, совершившего престу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приказа или распоря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ое или психическое прину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освобождающие от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е раскаяние винов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рение виновного с потерпев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роков да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но-досрочное освобо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рочка наказания беременным женщинам и женщинам,  имеющим малолетних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чение сроков да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  давности 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еступления небольшой тяжести – 2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тяжести – 6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кие –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тяжкие – 1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пространяется на военные преступления и преступления против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освобождающие от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е раскаяние винов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ирение виновного с потерпев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сроков да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о-досрочное освоб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рочка наказания беременным женщинам и женщинам,  имеющим малолетни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ечение сроков да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  давности 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ступления небольшой тяжести – 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й тяжести – 6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кие – 1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тяжкие – 1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распространяется на военные преступления и преступления против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 - 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 РФ, 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уголовного закона 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ый принцип- все лица, совершившие преступление на территории РФ, подлежат уголовной ответственности по 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гражданства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принцип- 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ый принцип 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 - 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 РФ, 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уголовного закона в простран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ый принцип- все лица, совершившие преступление на территории РФ, подлежат уголовной ответственности по 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гражданства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принцип- 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версальный принцип 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 и мор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мор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е - виновно совершенное общественно-опасное деяние, запрещенное УК под угрозой на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 опасность де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у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участие - умышленное совместное участие двух или более лиц в совершении умышленного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участн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 - непосредственно совершив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рекатель - склонивший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е - виновно совершенное общественно-опасное деяние, запрещенное УК под угрозой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ая опасность де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у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участие - умышленное совместное участие двух или более лиц в совершении умышленного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участни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итель - непосредственно совершивш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рекатель - склонивший друг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ст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 - без смягчающих или отягчающих     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м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цированные  - с от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епени тяже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ольшой тяжести - наказание не больше 2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- не больше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кие - не больше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 тяжкие - больше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ста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 - без смягчающих или отягчающих     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м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цированные  - с от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ой тяжести - наказание не больше 2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й - не больше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кие - не больше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тяжкие - больше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собственности ( кража, грабеж, разбой, мошенничество, угон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ные ( взятка, злоупотребление власть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инские ( мародерство, дезертир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О. Наступает с 16 лет, за особо тяжкие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4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я против собственности ( кража, грабеж, разбой, мошенничество, угон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ностные ( взятка, злоупотребление власть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инские ( мародерство, дезертир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.О. Наступает с 16 лет, за особо тяжкие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4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-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наказ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соц. справедл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ление осужд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отягчающие У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упление тяжелых посл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 активная роль в совершении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ЧП  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-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наказ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ление соц. справедл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ление осужд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отягчающие У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упление тяжелых послед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активная роль в совершении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словиях ЧП  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смягчающие У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ие преступления впер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лиянием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едствии стечения тяжелых семейных или личных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ка с пови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помощь в раскрытии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ольшая тяжесть,  в последствии случайного стечения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м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алолетних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и потерпевш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 или аморальность действий потерпевш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исключающие У.О. -см 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смягчающие У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ие преступления впер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влиянием угр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едствии стечения тяжелых семейных или личных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ка с пови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помощь в раскрытии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ая тяжесть,  в последствии случайного стечения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вершенноле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м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малолетни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ние помои потерпевш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 или аморальность действий потерпевш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исключающие У.О. -см 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каз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 - от 2500 до 1 млн., может быть рассрочка до 3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права занимать определенные должности - от 1 года до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воинского или специального з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по военной службе -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в дисциплинарной воинской части - от 3 месяцев до 2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3 месяца-2 года, удержание в доход государства от 5-20% зар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свободы - содержание в  спец. учреждении без изоляции от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ст-1-6 месяц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вободы на определенный срок - от 2 месяцев до 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изненное лишение своб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ая казнь ( мораторий с 19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аказа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 - от 2500 до 1 млн., может быть рассрочка до 3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права занимать определенные должности - от 1 года до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воинского или специального з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по военной службе -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в дисциплинарной воинской части - от 3 месяцев до 2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3 месяца-2 года, удержание в доход государства от 5-20% зарпл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свободы - содержание в  спец. учреждении без изоляции от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ст-1-6 меся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вободы на определенный срок - от 2 месяцев до 2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изненное лишение своб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ная казнь ( мораторий с 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воспитательного воздействия к несовершеннолетн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за преступления небольшой или средней тяж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под надзор родителей или специализированного гос.ор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ложение обязанност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досуга и установление особых требований к пове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казания для несовершенн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, при наличии самостоятельного заработка - от 100 до 5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права заниматься определенной дея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 до 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ст- с 16 лет, 1-4 меся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вободы - не более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ы воспитательного воздействия к несовершеннолетн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за преступления небольшой или средней тяже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под надзор родителей или специализированного гос.орг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ложение обязанност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досуга и установление особых требований к пове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аказания для несовершенн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, при наличии самостоятельного заработка - от 100 до 5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права заниматься определенной деятель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 до 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ст- с 16 лет, 1-4 меся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вободы - не более 1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 - отрасль права, регулирующая общественные отношения  по поводу реализации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КОАП, дисциплинарные уставы, таможенный и др.кодек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: физические лица, организации, органы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П одной и сторон всегда выступает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административного правонару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е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 - отрасль права, регулирующая общественные отношения  по поводу реализации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КОАП, дисциплинарные уставы, таможенный и др.кодек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: физические лица, организации, органы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АП одной и сторон всегда выступает госуда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административного правонаруш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де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дминистративных правонару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охраны труда и здоровья населения ( сброс предприятием отходов в ре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тельства на гос. соб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четчик электроэнерг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охраны природы, памятников истории и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ранспорте ( бесплатный проез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правил ПД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торговли и финансов ( грубость продавца, обвес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ющие на общественный порядок ( мелкое хулиган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ющие на установленный порядок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неповиновение милиционе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дминистративных правонару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охраны труда и здоровья населения ( сброс предприятием отходов в рек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тельства на гос. соб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четчик электроэнерг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охраны природы, памятников истории и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ранспорте ( бесплатный проез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правил ПД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торговли и финансов ( грубость продавца, обвес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ющие на общественный порядок ( мелкое хулиган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ющие на установленный порядок у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неповиновение милиционер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ер принуждения в А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 наступает с 16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наказание может быть наложено не позднее 2 месяцев со дня совершения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ер принуждения в А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О наступает с 16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наказание может быть наложено не позднее 2 месяцев со дня совершения правонару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и функции пра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щеоб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вязь с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орма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исте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гуля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хра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оспит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ультурно-истор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нигилизм-отрицание роли права в жизни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и функции пра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еоб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вязь с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орма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истема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хра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оспита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ультурно-истор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й нигилизм-отрицание роли права в жизн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взыск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дминистративных взыск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, в письменной фор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 ( для граждан- не больше 5000 руб., для должностных лиц-50000,для юридических лиц-1 м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ездное изъятие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пец права ( водители, не меньше 1 мес., не больше 2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 до 2 месяцев,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иостановление деятельности-до 90 с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выдворение за пределы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взыск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дминистративных взыска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, в письменной фор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 ( для граждан- не больше 5000 руб., для должностных лиц-50000,для юридических лиц-1 млн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ездное изъятие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пец права ( водители, не меньше 1 мес., не больше 2 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 до 2 месяцев,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приостановление деятельности-до 90 су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выдворение за пределы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- отрасль права, регулирующая отношения работника с работодате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е право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е право- отрасль права, регулирующая отношения работника с работодате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й договор 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е ( дополнительные льготы, доп.отпу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 ( контракт)- соглашение между работником и работодателем по выполнению ими определенн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й договор 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е ( дополнительные льготы, доп.отпус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 ( контракт)- соглашение между работником и работодателем по выполнению ими определенных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обходимые ( обязательные) - место работы, профессия, специальность, квалификация, зарпл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я- вид трудовой деятельности, определяемый характером и целью трудовой функции ( вра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- одна из разновидностей профессии (окулис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кация- степень и вид профессиональной  обуч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полнительные ( факультативные)- 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обходимые ( обязательные) - место работы, профессия, специальность, квалификация, зарпл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я- вид трудовой деятельности, определяемый характером и целью трудовой функции ( врач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- одна из разновидностей профессии (окулис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я- степень и вид профессиональной  обуч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ополнительные ( факультативные)- 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на работ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ся по деловым качествам. Причина отказа должна быть в письмен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е 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ая кни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 ( индентификационный налоговый ном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ый би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об образовании и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на работ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ся по деловым качествам. Причина отказа должна быть в письменн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е докумен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ая кни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 ( индентификационный налоговый но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енный би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об образовании и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инициативе админист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квидация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шт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днократное неисполнение работником своих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кратное неисполнение,  повлекшее тяжел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ый поступок работника, выполнявшего воспитательные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подложных документов или ложных сведений при заключении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инициативе админист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квид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шт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днократное неисполнение работником своих обязан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кратное неисполнение,  повлекшее тяжелые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альный поступок работника, выполнявшего воспитательные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подложных документов или ложных сведений при заключении догов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ещается уволь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нетрудоспособности или пребывания в отпус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согласия профсою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снованиям,  не предусмотренным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щин в особ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них без согласия комиссии по делам несовершеннолетн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союзных активис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ное пособие 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ется уволь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ериод нетрудоспособности или пребывания в отпу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 согласия профсою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снованиям,  не предусмотренным зак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 в особых случа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вершеннолетних без согласия комиссии по делам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союзных актив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ное пособие 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время -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абочего врем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е - не может быть больше 40 часов в нед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16-18 лет - не больше 35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14-16 лет - не больше 24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е - по соглашению, беременные, с ребенком до 14 лет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е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ее время -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рабочего времен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ое - не может быть больше 40 часов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16-18 лет - не больше 35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14-16 лет - не больше 24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лное - по соглашению, беременные, с ребенком до 14 лет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отдых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отдыха - свободное от работы время, которое работник может использовать по своему усмотр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ремени отдых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ждусменные перерывы - не могут быть меньше 12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женедельные выходные дни. Работа в выходной запрещена. Может быть в случа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ля предотвращения стихийных б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предотвращения несчастных случ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производства непредвиденных 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 отдых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 отдыха - свободное от работы время, которое работник может использовать по своему усмотр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ремени отдых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еждусменные перерывы - не могут быть меньше 12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Еженедельные выходные дни. Работа в выходной запрещена. Может быть в случа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ля предотвращения стихийных бед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ля предотвращения несчастных случа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ля производства непредвиденных раб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- установленное соглашением сторон и предусмотренное договором система вознаграждения за раб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пл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плата должна выплачиваться не реже раз в полмеся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удерж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 подоходный налог 13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обязательные страховые взносы в пенсионный фонд 1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удержания по судебному ре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удержаний суммарно не может быть больше 20 %, а в особых случаях не больше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лата тру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лата труда - установленное соглашением сторон и предусмотренное договором система вознаграждения за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опл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ремен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плата должна выплачиваться не реже раз в полмеся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удерж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 подоходный налог 13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обязательные страховые взносы в пенсионный фонд 1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удержания по судебному реш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удержаний суммарно не может быть больше 20 %, а в особых случаях не больше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пра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права - документ, в котором записаны правовые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сточников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обычай- 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-соглашение двух или более лиц, санкционирующее возникновение, изменение или прекращен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дивид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ормативный ( РФ-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цедент-факт, имевший место в чьей-либо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ой акт - официальный письменный документ, принятый в особом порядке управомоченным на то гос.орг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пра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права - документ, в котором записаны правовые но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сточников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й обычай- 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-соглашение двух или более лиц, санкционирующее возникновение, изменение или прекращение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индивиду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ормативный ( РФ-СШ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цедент-факт, имевший место в чьей-либо прак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-правовой акт - официальный письменный документ, принятый в особом порядке управомоченным на то гос.орг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ая ответственность- 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исциплинарных взыск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оль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ая ответственность- 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исциплинарных взыск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оль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- разногласия, возникающие по поводу применения трудового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ышестоящими орга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дминистрацией предприятия совместно с профком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возвращении на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изменении даты и формулировки причины уволь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оплате вынужденного прог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- разногласия, возникающие по поводу применения трудового законод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у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ышестоящими орг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дминистрацией предприятия совместно с профком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 возвращении на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изменении даты и формулировки причины уволь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оплате вынужденного прогу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ительно 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абочих тех предприятий, где нет К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заявлению администрации о возмещении работником ущер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удовым арбитражем, создается в 10- дневный с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ительно 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абочих тех предприятий, где нет КТ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 заявлению администрации о возмещении работником ущер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трудовым арбитражем, создается в 10- дневный ср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- отрасль права, регулирующая семей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Семейный кодек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ступления в бр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е согла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е присут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брачного возраста( раньше- только по решению местных органов вла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ятствия к вступлению в бр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упругов уже состоит в законном бра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лицом признанным недееспособным вследствие душевной болезни или слабоу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- отрасль права, регулирующая семей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Семейный кодек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ступления в бр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ное согла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е присут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брачного возраста( раньше- только по решению местных органов вла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ятствия к вступлению в бр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супругов уже состоит в законном бра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лицом признанным недееспособным вследствие душевной болезни или слабоу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бственное имя и фамил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вободного выбора профе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вободного выбора места ж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оспитание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бственное имя и фамил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вободного выбора профе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вободного выбора места ж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воспитание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уще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роди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ФИО, национальность,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место ж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ть права и интересы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лучение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титься о здоровье и нравственном разви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родительских пра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лоняются от выполнения обязанностей по воспитанию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око обращ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ки, нарком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свобождаются от содержания детей, платят али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род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ФИО, национальность,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ть место ж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ть права и интересы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ть получение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титься о здоровье и нравственном разви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ть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родительских пр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яются от выполнения обязанностей по воспитанию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око обращ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альн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ики, нарком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свобождаются от содержания детей, платят али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семейного воспитания детей, оставшихся без попечения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ыновление ( удочер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ёмна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емейного воспитания детей, оставшихся без попечения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ыновление ( удочер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ёмная сем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детей может быть установле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   родители могут подать в загс совместное заявление о признании их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гсе - при наличии совершеннолетних детей, взаимном согласии, отсутствии имущественных сп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де 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детей может быть установле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   родители могут подать в загс совместное заявление о признании их родител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гсе - при наличии совершеннолетних детей, взаимном согласии, отсутствии имущественных сп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уде 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, регулируемые брачным договор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совместной собственности на иму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 по взаимному содерж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участия в доходах друг друга и порядок несения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 имущества в случае расторжения бра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не мож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граничивать правоспособность и дееспособность суп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гулировать личные неимущественные 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я, регулируемые брачным договор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совместной собственности на 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 по взаимному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участия в доходах друг друга и порядок несения рас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имущества в случае расторжения бра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не мож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граничивать правоспособность и дееспособность суп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егулировать личные неимущественные 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П - отрасль права, регулирующая нормальные, повседневные отношения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неимущественные отношения, связанные с имуществом ( опубликование книг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вилистика – то же, что гражданско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Гражданский кодекс, положения и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П - отрасль права, регулирующая нормальные, повседневные отношения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у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неимущественные отношения, связанные с имуществом ( опубликование кни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вилистика – то же, что гражданск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Гражданский кодекс, положения и ин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ые 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юридической силе различ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(имеет высшую юридическую сил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-конституцион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законные а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 президен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ы и инструкции министе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-правовые 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юридической силе различа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я (имеет высшую юридическую сил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о-конституционны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законные ак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зы президент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азы и инструкции министер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Г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Г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РФ, иностранцы и лица без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Ф, субъекты РФ, муниципальные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мал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не могут распоряжаться иму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несовершенн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могут быть субъектами права на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не могут распоряжаться имуществом, купленным на стипен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Г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Г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 РФ, иностранцы и лица без гражд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е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Ф, субъекты РФ, муниципальные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мал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не могут распоряжаться иму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несовершенн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могут быть субъектами права на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не могут распоряжаться имуществом, купленным на стипенд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ГП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Г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деньги,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вижимые вещи - земельные участки и все, что с ними связано ( здания, предприятия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имые вещи - перемещение которых возможно без несоразмерного ущерба их назна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ограниченные в обороте - оружие, летательные аппараты, яды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нтеллект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ГП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Г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деньги, ценные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вижимые вещи - земельные участки и все, что с ними связано ( здания, предприятия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имые вещи - перемещение которых возможно без несоразмерного ущерба их назна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ограниченные в обороте - оружие, летательные аппараты, яды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интеллект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ка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евой 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ждает гражданские 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ействительности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убъектов сделки, обладающих дееспособ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еизъявление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чение в соответствующую форму устную, письменную (простую, нотариальную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людентные  действия 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ка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вой 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ерн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ждает гражданские 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ействительности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субъектов сделки, обладающих дееспосо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изъявление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ер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чение в соответствующую форму устную, письменную (простую, нотариальную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людентные  действия 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сд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де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выполнении работ ( подряда, строительства.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оказании услуг ( перевозка, поручение, хранение, комиссия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договора ( страхование, совместная деятельность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й договор 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доверительства 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выполнении работ ( подряда, строительства.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 оказании услуг ( перевозка, поручение, хранение, комиссия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е договора ( страхование, совместная деятельность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ый договор 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доверительства 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заключен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ерта- предложение, которое адресовано конкретному лицу и содержит существенные условия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пт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заключен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ерта- предложение, которое адресовано конкретному лицу и содержит существенные условия догов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епт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до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авовая ответ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П ответственность- реакция государства на неправомерное поведение, которое влечет неблагоприятные последствия для наруш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ГП ответ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компенсацион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имуществен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ущерб- утрата или повреждение имуества, а также расходы для возвращения имущественного по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ущенная выгода- неполученные доходы, которые потерпевшая сторона могла бы получить если бы не было нарушено её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-правовая ответ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П ответственность- реакция государства на неправомерное поведение, которое влечет неблагоприятные последствия для наруш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ГП ответ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компенсацион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имуществен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ущерб- утрата или повреждение имуества, а также расходы для возвращения имущественного по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ущенная выгода- неполученные доходы, которые потерпевшая сторона могла бы получить если бы не было нарушено её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я возникновения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ые спос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овой ве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ботка, сбор, добыча доступных для этих целей в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вольная постро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права собственности на бесхозное иму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е спос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реемство при реорганизации юридического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возникновения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ые спос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й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, сбор, добыча доступных для этих целей вещ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вольная постро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права собственности на бесхозное 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е спос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ании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преемство при реорганизации юридического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щение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оле собствен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ель ве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дительное изъ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щиты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дикационный иск - об истребовании имущества из чужого незаконного вла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витут- 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кращение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оле собствен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ель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р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удительное изъ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ащиты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дикационный иск - об истребовании имущества из чужого незаконного вла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витут- 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нормы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- указан круг лиц, которому она адресована, обстоятельства, при которых она реализу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озиция -  правила поведения, в которых указываются права и обязанности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ция - меры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нормы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- указан круг лиц, которому она адресована, обстоятельства, при которых она реал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озиция -  правила поведения, в которых указываются права и обязанности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ция - меры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ство- правоотношение, стороны которого называются кредитор и долж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обеспечения обязательст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ойка в виде штрафа или 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ржание- удерживание вещи кредитором до полного исполнения обяз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уч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лог. Ипотека- залог без передачи вещи залогодержат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с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ство- правоотношение, стороны которого называются кредитор и долж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обеспечения обязатель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ка в виде штрафа или п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- удерживание вещи кредитором до полного исполнения обяз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уч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г. Ипотека- залог без передачи вещи залогодержа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е прав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я на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завещанию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зак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очередей на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упруг, родители, д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одные братья и сестры, дедушки и баб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родные дяди и т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прабабушки и прадед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дети племянников и племянниц, родные сестры и братья бабушек и деду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е прав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насле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завещанию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зако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очередей на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упруг, родители, 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одные братья и сестры, дедушки и баб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одные дяди и т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прабабушки и прадед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дети племянников и племянниц, родные сестры и братья бабушек и деду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след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, лишенные родительск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ещательный отказ – возложение на наследника по завещанию исполнение какого-либо обязательства в пользу другого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жизненное использование до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асынки, падчерицы, отчим и маче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проживающие на иждивении не менее 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ают в права наследования в течение  6 месяцев после его откр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аслед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, лишенные родительских 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ещательный отказ – возложение на наследника по завещанию исполнение какого-либо обязательства в пользу другого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жизненное использование до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асынки, падчерицы, отчим и маче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проживающие на иждивении не менее 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упают в права наследования в течение  6 месяцев после его откры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 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П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лица. Заниматься предпринимательством можно с 16 лет, в исключительных случаях с 14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-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 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лица. Заниматься предпринимательством можно с 16 лет, в исключительных случаях с 14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ое лицо-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внутренней структуры организации, учредительных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твечает по дол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в гражданском обороте от собственного и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внутренней структуры организации, учредительных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 отвечает по долг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ет в гражданском обороте от собственного и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Ю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 - цель-получение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лное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 вере ( коммандитное)- 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Ю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- цель-получение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вари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олное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На вере ( коммандитное)- 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 ограниченной ответственностью ООО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кционерное АО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крытое ОАО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крытое ЗАО- акции распределяются только среди учредителей или заранее определенного круга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С ограниченной ответственностью ООО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Акционерное АО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ткрытое ОАО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крытое ЗАО- акции распределяются только среди учредителей или заранее определенного круга л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изводственный кооператив( артель)-добровольное объединение граждан на основе членства для совместной производ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государственные и муниципальные предприятия ( унитарные)- управляют, но не владеют закрепленным за ними гос. имуществом, имущество не может быть поделено по вклад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изводственный кооператив( артель)-добровольное объединение граждан на основе членства для совместной производ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государственные и муниципальные предприятия ( унитарные)- управляют, но не владеют закрепленным за ними гос. имуществом, имущество не может быть поделено по вклад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ммер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требительский кооператив-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ственные и религиозные организации - 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онд- 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оммер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требительский кооператив-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ественные и религиозные организации - 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Фонд- 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 ЮЛ возникает с момента его создания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ЮЛ реализуется через действия органов ЮЛ ( директор, общее собрание акционеров..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реемство- переход прав и обязанностей к новому Ю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организация- изменение организационно-правовой формы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яние с другим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на несколько новых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формы деятельности ( ОАО-ЗА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 ЮЛ возникает с момента его создания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ЮЛ реализуется через действия органов ЮЛ ( директор, общее собрание акционеров..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преемство- переход прав и обязанностей к новому Ю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организация- изменение организационно-правовой формы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яние с другим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ение на несколько новых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ормы деятельности ( ОАО-ЗА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норм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партнёрство 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чайзинг 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чурная фирма 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партнёрство 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чайзинг 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нчурная фирма 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в РФ сложилась единая система судо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существления правосуд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ги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сть су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пустимость посторного осуждения за одно и тоже пре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ользование квалифицированной юридической помо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правие и сост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производство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умпция невино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в РФ сложилась единая система судо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осуществления правосуд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ги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висимость су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пустимость посторного осуждения за одно и тоже престу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пользование квалифицированной юридической помо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правие и сост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производство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умпция невино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система в Р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высшей инстанции - Конституционный суд, Верховный суд, Высший арбитражный с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ебная система в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высшей инстанции - Конституционный суд, Верховный суд, Высший арбитраж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й орган 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 -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 проку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стадии производства дознания и предварительного 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уголовном и гражданском судо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стадии исполнения при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исполнением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действий правоохранительных органов по борьбе с преступ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хранительный орган 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куратура -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 прокур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стадии производства дознания и предварительного 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уголовном и гражданском судо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стадии исполнения пригов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за исполнением прав и своб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ция действий правоохранительных органов по борьбе с преступ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 - профессиональное сообщество адвок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 адвок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ции, разъяснения, справки по юридическим вопро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документов правов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гражданском, уголовном, административном 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интересов доверителя в органах 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 граждан при оказании им психиатриче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обслуживание коммерческих опе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ачестве представителя в Конституционном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вокатура - профессиональное сообщество адвок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 адвок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ации, разъяснения, справки по юридическим вопро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документов правового харак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гражданском, уголовном, административном 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интересов доверителя в органах в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граждан при оказании им психиатрическ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обслуживание коммерческих опе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ачестве представителя в Конституционном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юст РФ 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гос. политики в сфере ю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ав и законных интересов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защита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установленного порядка действия су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актов судебных и други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уголовных наказ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ведение Минюста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судебных приста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ИС ( уголовно-исполнительная система - колонии, тюрьмы, СИЗО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судебных эксперт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акции юридических журн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юст РФ 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гос. политики в сфере ю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прав и законных интересов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ая защита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установленного порядка действия су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актов судебных и други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уголовных наказ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ведение Минюста вход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ба судебных приста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ИС ( уголовно-исполнительная система - колонии, тюрьмы, СИЗО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судебных эксперт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акции юридических журн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иция-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личной безопасност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общественного 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насе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ледование преступлений и розыск скрывшихся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или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альная с подразде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г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Э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перативно-технический от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перативно-поисковый от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илиция общественной безопасности с подразде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иция-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личной безопасности граж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а общественного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ние помощи насе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ледование преступлений и розыск скрывшихся л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или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минальная с подразде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г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Э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перативно-технический от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перативно-поисковый от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илиция общественной безопасности с подразде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 - устойчивая правовая связь человека с государством, выраженная в их взаимных правах и обязанност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- Закон о гражданстве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риобретения гражда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о рождению- фили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инцип крови - гражданство определяется гражданством родителей, место рождения не учит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инцип почвы - гражданство того государства, на территории которого человек родился, независимо от гражданства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приёму в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 - устойчивая правовая связь человека с государством, выраженная в их взаимных правах и обязанност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2- Закон о гражданстве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риобретения граждан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    по рождению- фили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ринцип крови - гражданство определяется гражданством родителей, место рождения не учит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ринцип почвы - гражданство того государства, на территории которого человек родился, независимо от гражданства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приёму в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трид- лицо, не имеющее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патрид- лицо, имеющее двойное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ация- выбор гражданства при изменении государственных границ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ебенку 14-18 лет  спрашивают его согласия при выборе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ми, подтверждающими гражданство РФ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порт гражданин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детельство о рожд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ами РФ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ица, которые приобрели гражданство РФ в соответствии с действующим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атрид- лицо, не имеющее гражд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патрид- лицо, имеющее двойное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ация- выбор гражданства при изменении государственных границ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ку 14-18 лет  спрашивают его согласия при выборе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ами, подтверждающими гражданство РФ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порт гражданин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детельство о рожд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ами РФ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ца, которые приобрели гражданство РФ в соответствии с действующим зак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урализация- процесс приобретения гражданск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в гражданство- с 18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5 л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проживание на территории РФ до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соблюдать Конституцию и други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ть законный источник существ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ют русским язы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 г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достижения в области науки, искусства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раке с гражданином РФ не менее 3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рудоспособный и имеет детей старше 18 лет, имеющих гражданство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щущий политическое убежище на территор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урализация- процесс приобретения гражданских 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в гражданство- с 18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5 л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е проживание на территории РФ до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нность соблюдать Конституцию и други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законный источник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т русским язы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1 г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е достижения в области науки, искусства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раке с гражданином РФ не менее 3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рудоспособный и имеет детей старше 18 лет, имеющих гражданство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щущий политическое убежище на территор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и применение норм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норм права – воплощение содержащихся в 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исаний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реализаци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уществление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сполнение – обязательное совершение активного действия, предписанного нормами права ( юридические обязанности гражд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блюдение – воздержание от совершения действия, запрещённого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норм права 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и применение норм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норм права – воплощение содержащихся в н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исаний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реализаци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существление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нение – обязательное совершение активного действия, предписанного нормами права ( юридические обязанности гражд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блюдение – воздержание от совершения действия, запрещённого нормам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рм права 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в приеме в граждан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 насильственное изменение конституционного стро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 из гражданства невозмо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отбыл воинскую пови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обязательства перед стра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атрид- лицо, лишенное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Ф не допускается лишения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в приеме в граждан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ет за насильственное изменение конституционного строя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гражданства невозмо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отбыл воинскую пови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обязательства перед стра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атрид- лицо, лишенное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Ф не допускается лишения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Российского гражда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гражданства гражданами РФ, проживающими за её преде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ъемлемость гражданства ( не может быть лишё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Российского граждан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ение гражданства гражданами РФ, проживающими за её предел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тъемлемость гражданства ( не может быть лишё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, предоставляемые иностранным физическим и юридическим лиц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, предоставляемые иностранным физическим и юридическим лиц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webarhimed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randars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webarhimed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grandar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4B7-A86A-4D10-83E9-BA0A214E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04D-B5C9-4B9F-AE80-173F1349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1062-41A4-40CC-9DF7-A39DAAAA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182A-6BDA-494D-89B6-6712C980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8643-B90E-454A-A824-D3B6116B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4CE5-9272-425D-867E-35F1AC50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F592-F336-4EDB-BD72-20770EDB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45D6-7ECB-499F-AC86-661414A9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ABB4-5134-418C-BB9A-80DC9719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4C54-EBA3-4D35-981A-FA9AB471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6A29-6D64-4EF2-9E19-E22BB1C6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6FB8-D787-4E0F-A0F4-AEE01A63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7B0A-A449-4776-9D58-AE252F01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131E-0E9A-4FF5-9A26-A41CC717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C15C-8CAA-446A-A864-C56EA4E1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A21D-A405-40F5-8124-FF1A04FE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F98A-4001-4262-8B8C-D8B4564A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53E4-92E8-4EC7-9029-17FC4659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7ED3-FF8C-414A-83ED-B5F4EAF3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64D7-9600-4CAB-AD68-F41D7528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4385-FBAF-47B9-9786-09B8A9DA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1A7-0AA6-4193-BCCE-BE2315D5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3577-A7E7-422E-AAE5-6CC3FEAD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95B-9F4E-401F-8FE9-B451A6A8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2E51-8721-4900-8627-5C9882F899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A1C5-F3B9-49BB-B2D6-EC75DDE03B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387440"/>
            <a:ext cx="8447040" cy="15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дготовка к ЕГЭ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по обществозн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346560"/>
            <a:ext cx="66294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d3dd7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022560" y="5715000"/>
            <a:ext cx="61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d3dd7"/>
                </a:solidFill>
                <a:latin typeface="Times New Roman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d3dd7"/>
                </a:solidFill>
                <a:latin typeface="Times New Roman"/>
              </a:rPr>
              <a:t>МБОУ Умётской СОШ  Понафидин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пр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93080" cy="4751640"/>
          </a:xfrm>
          <a:prstGeom prst="rect">
            <a:avLst/>
          </a:prstGeom>
          <a:noFill/>
          <a:ln w="9360">
            <a:solidFill>
              <a:srgbClr val="7070ff"/>
            </a:solidFill>
            <a:miter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Норма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ститут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одотрасль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трасль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правовых норм, институтов и подотраслей права, регулирующая однородные общественные отнош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549000"/>
            <a:ext cx="80154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отраслей прав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8920" y="1483920"/>
            <a:ext cx="4388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улятив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установление прав и обязанностей (конституционное, гражданское, трудовое, семей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хранитель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4720" y="1483920"/>
            <a:ext cx="446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Част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ивает равенство между всеми субъектами (гражданское, семейное, предприниматель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549000"/>
            <a:ext cx="80154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отраслей прав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8920" y="1483920"/>
            <a:ext cx="4388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улятив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установление прав и обязанностей (конституционное, гражданское, трудовое, семей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хранитель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720" y="1483920"/>
            <a:ext cx="446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Част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ивает равенство между всеми субъектами (гражданское, семейное, предприниматель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ые сист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1341000"/>
            <a:ext cx="8820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омано – германская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Англосаксонская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екодифицированное и прецедентное. Нет разделения права на публичное и частно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оциалистическо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Традиционный (</a:t>
            </a:r>
            <a:r>
              <a:rPr b="0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религиозный)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отнош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5280" y="1341360"/>
            <a:ext cx="842472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отно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Элементы правоотнош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убъекты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бъект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иды субъе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сударство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ие лица(граждане, иностранные граждане, лица без граждан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юридические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ганизации, не являющиеся юридическими л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убъективные юридические права и обяза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Юридический ф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бъект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59984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спосо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ность субъекта иметь права и обязанности. Возникает с ро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ееспосо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ность распоряжаться своими правами и нести обяза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Эмансипац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вление несовершеннолетнего полностью дееспособным ( вступление в брак раньше 18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еликтоспособ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ность нести юридическую ответственность за совершенные правонару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бъектов правоотнош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413000"/>
            <a:ext cx="842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ыделяют два подхода к пониманию данной категор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060640"/>
          <a:ext cx="7921800" cy="4000320"/>
        </p:xfrm>
        <a:graphic>
          <a:graphicData uri="http://schemas.openxmlformats.org/drawingml/2006/table">
            <a:tbl>
              <a:tblPr/>
              <a:tblGrid>
                <a:gridCol w="4105440"/>
                <a:gridCol w="3816360"/>
              </a:tblGrid>
              <a:tr h="4000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ом могут выступать только действия субъектов, поступки людей, повеление участников правоотношений, так как именно на него направлено регулирующее воздействие юридической нор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ом правоотношения является не само поведение, а те явления окружающего мира, по поводу которых люди вступают в отношения друг с другом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бъектов правоотнош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1413000"/>
            <a:ext cx="867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атериальные благ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ши, предметы, ценности) — они характерны для гражданских право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материальные личные благ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ведение субъектов и его результаты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дукты духовного творчеств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нные бумаги, официальные документы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ий фак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159984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ие факты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ридических фа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Предусмотрены нормативно-правовым актом (гипотезой нормы пра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тверждены документально (справкой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ыражаются в наличии либо отсутствии тех или иных явлений, событий, действий;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юридических фак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характеру правовых последствий разли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1916280"/>
          <a:ext cx="8137440" cy="4022640"/>
        </p:xfrm>
        <a:graphic>
          <a:graphicData uri="http://schemas.openxmlformats.org/drawingml/2006/table">
            <a:tbl>
              <a:tblPr/>
              <a:tblGrid>
                <a:gridCol w="2712960"/>
                <a:gridCol w="2687760"/>
                <a:gridCol w="2736720"/>
              </a:tblGrid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образую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изменяю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прекращ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9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 нормы права     связывают возникновение правоотно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заключение гражданско-правовой сделки, рождение человека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 нормы права связывают изменение правоотношений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ринятие  нового гражданст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  нормы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а связывают прекращение правоотно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рть человека,   расторжение брака между супру­гам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3816360" cy="3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27040"/>
            <a:ext cx="8569440" cy="489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нятие право можно использовать в 3 смысл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е право-см. 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е в юридическом смысле слова ( на ува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зитивн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йствующее право, как совокупность нормативных правовых а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стественн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нципы права, вытекающие из природы человека и не зависящие от социальных условий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юридических фак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быти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 значимые факты, которые возникают помимо воли и сознания челове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ихийные бедствия, смерть, т.д.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йств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акты, связанные с волей участников правоотношений. Они бывают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мерны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ответствующими праву) и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правомерны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нару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126792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нару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тивоправное, волевое виновное деяние дееспособного лица, наносящее вред государству, обществу,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или без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ение в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став правонаруш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авные признаки, необходимые для того, чтобы возложить юридическую ответ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ста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 правонаруш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рмы права, на которые посягает правонаруш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ивная сторо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йствие или бездействие; общественно-опасные последствия; причинная связь между деянием и последств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      Субъективная сторон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 виной, целью, моти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нару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4920" y="1341360"/>
            <a:ext cx="82105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ическое отношение лица к собственному поведению и его результа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ы в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Умы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ямой - осознавал опасность, предвидел последствия и желал их на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Неосторо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авонарушений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ступки                                                  Пре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ступок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проступ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инарные                       Администр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е                               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уальные                         Международные ( делик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267920"/>
            <a:ext cx="87123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ая ответственность</a:t>
            </a:r>
            <a:r>
              <a:rPr b="0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ем для Ю.О. является правонаруш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.О.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разрывная связь с гос. принуждени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ступает только за совершенные правонаруш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язана с определенными лишения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существляется в строгом соответствии с нормами пра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Ю.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щита правопоряд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граждан в духе уважения к прав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илактика правонарушений ( превентивная функция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4920" y="159984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ные принципы Ю.О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о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раведл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тврат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елесооб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ст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езумпция невино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зумпция невинов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пустимость признания лица виновным до вынесения обвинительного приговора с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Ю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циплин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министра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голо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исключающие Ю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ая оборо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ая защита  своей жизни, прав и свобод, а также жизни, прав и свобод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395280" y="1341360"/>
            <a:ext cx="84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словия необходимой оборо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альность посяг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щественная 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адекватность защиты степени 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меняемость правонаруш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ееспособ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ержание лица, совершившего пре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ение приказа или распо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ое или психическое прин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684360" y="1484280"/>
            <a:ext cx="770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освобождающие от Ю.О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е раскаяние винов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ирение виновного с потерпевш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роков да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о-досрочное освоб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рочка наказания беременным женщинам и женщинам,  имеющим малолетни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чение сроков да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рок  давности 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еступления небольшой тяжести – 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тяжести – 6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кие – 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тяжкие – 1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спространяется на военные преступления и преступления против челове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47760" y="3808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468360" y="134136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, 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йствие уголовного закона в простран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ерриториальный принцип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ца, совершившие преступление на территории РФ, подлежат уголовной ответственности по 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граждан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ьный принцип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ниверсальный принци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и мора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1484280"/>
          <a:ext cx="8137440" cy="462276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581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ра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12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равственный миним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фера регулирования ши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304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арушение ведет санкции гос.орган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осуждение общественного м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91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закреплены в закон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кладываются в созна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911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обязатель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необязатель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еступле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395280" y="1413000"/>
            <a:ext cx="842472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ступле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новно совершенное общественно-опасное деяние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ное УК под угрозой нака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ая опасность де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у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участ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ышленное совместное участие двух или более лиц в совершении умышленного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соучастн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 - непосредственно совершивш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рекатель - склонивший друг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еступл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395280" y="141300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преступ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ст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 - без смягчающих или отягчающих      обстоя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мягчающими обстоятель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цированные  - с отягчающими обстоятель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пени тяж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ой тяжести - наказание не больше 2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- не больше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кие - не больше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тяжкие - больше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еступл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250920" y="1268280"/>
            <a:ext cx="84978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квалифика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я против собственности ( кража, грабеж, разбой, мошенничество, угон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ные ( взятка, злоупотребление властью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инские ( мародерство, дезертирство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.О. Наступает с 16 лет, за особо тяжкие преступл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14 ле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395280" y="1341360"/>
            <a:ext cx="828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каза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наказ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ление соц. справедл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ление осужд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преступ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отягчающие У.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ление тяжелых посл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активная роль в совершении пре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ЧП  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539640" y="1557360"/>
            <a:ext cx="8209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смягчающие У.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ие преступления впер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лиянием угр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едствии стечения тяжелых семейных или личных обстоя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ка с пови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помощь в раскрытии пре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ая тяжесть,  в последствии случайного стечения обстоя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м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малолетни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и потерпевш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 или аморальность действий потерпевш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исключающие У.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см Юридическая 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324000" y="1268280"/>
            <a:ext cx="856908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наказаний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 - от 2500 до 1 млн., может быть рассрочка до 3 л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права занимать определенные должности - от 1 года до 5 л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воинского или специального зв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по военной службе - удержание из зарплаты до 20 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в дисциплинарной воинской части - от 3 месяцев до 2 л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скация имуще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3 месяца-2 года, удержание в доход государства от 5-20% зарплат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свободы - содержание в  спец. учреждении без изоляции от обще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ст-1-6 месяце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вободы на определенный срок - от 2 месяцев до 20 л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изненное лишение свобо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тная казнь ( мораторий с 1996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324000" y="1268280"/>
            <a:ext cx="835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еры воспитательного воздействия к несовершеннолетн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 за преступления небольшой или средней тяже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 под надзор родителей или специализированного гос.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ожение обязанности загладить причиненный в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досуга и установление особых требований к повед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24000" y="3141720"/>
            <a:ext cx="856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наказания для несовершеннолетн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, при наличии самостоятельного заработка - от 100 до 5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права заниматься определенной деяте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 до 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ст- с 16 лет, 1-4 меся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вободы - не более 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тивное пра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468360" y="1628640"/>
            <a:ext cx="820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расль права, регулирующая общественные отношения  по поводу реализации исполнитель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итуция, КОАП, дисциплинарные уставы, таможенный и др.кодек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ы: физические лица, организации, органы исполнитель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АП одной и сторон всегда выступает государ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административного правонаруш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е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ая 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дминистративные правонару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395280" y="1484280"/>
            <a:ext cx="87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административных правонаруш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охраны труда и здоровья населения ( сброс предприятием отходов в ре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тельства на гос. собстве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четчик электроэнерг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охраны природы, памятников истории 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анспорте ( бесплатный проез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ПД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торговли и финансов ( грубость продавца, обвес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ющие на общественный порядок ( мелкое хулиган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ющие на установленный порядок у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неповиновение милицион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дминистративные правонару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468360" y="148428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мер принуждения в А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ая 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О наступает с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дминистративное наказ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наложено не позднее 2 месяцев со дня совершения правонару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0150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 и функции пра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щеоб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вязь с государ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орма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истемат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ногократность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зменч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716000" y="1628280"/>
            <a:ext cx="38862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ункции прав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егуля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храни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ультурно-истор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611280" y="51577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вой нигилиз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ицание роли права в жизни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тивное взыск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395280" y="1484280"/>
            <a:ext cx="8280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административных взыск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, в письмен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 ( для граждан- не больше 5000 руб., для должностных лиц-50000,для юридических лиц-1 м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ездное изъятие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скация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пец права ( водители, не меньше 1 мес., не больше 2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 до 2 месяцев, удержание из зарплаты до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е приостановление деятельности-до 90 су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е выдворение за пределы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е право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права, регулирующая отношения работника с работода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й 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огов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ллективный догово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огов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( дополнительные льготы, доп.отпус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ой договор ( контракт)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шение между работником и работодателем по выполнению ими определенных усло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й 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4000" y="1341000"/>
            <a:ext cx="8640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ого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обязательные) - место работы, профессия, специальность, квалификация, зарп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фессия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д трудовой деятельности, определяемый характером и целью трудовой функции ( вра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ециаль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дна из разновидностей профессии (окули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валифик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ь и вид профессиональной  обу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полнительные ( факультативные)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 на работу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ся по деловым качествам. Причина отказа должна быть в письмен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ые доку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кни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( индентификационный налоговый ном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й би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 об образовании и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оржение трудового до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инициативе админист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видация пред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ш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нократное неисполнение работником своих обяза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ратное неисполнение,  повлекшее тяжелые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альный поступок работника, выполнявшего воспитательны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одложных документов или ложных сведений при заключении дого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оржение трудового догово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324000" y="126828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прещается уволь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 нетрудоспособности или пребывания в отпу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огласия профсою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снованиям,  не предусмотренным зако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 в особых случа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них без согласия комиссии по делам несовершеннолет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союзных актив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ходное пособ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бочее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468360" y="1341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бочее врем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рабочего врем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ьное - не может быть больше 40 часов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6-18 лет - не больше 35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4-16 лет - не больше 24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ое - по соглашению, беременные, с ребенком до 14 лет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ремя отдых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2"/>
          <p:cNvSpPr/>
          <p:nvPr/>
        </p:nvSpPr>
        <p:spPr>
          <a:xfrm>
            <a:off x="324000" y="1341360"/>
            <a:ext cx="864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ремя отдых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ободное от работы время, которое работник может использовать по своему усмотр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времени отдых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еждусменные перерывы - не могут быть меньше 12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женедельные выходные дни. Работа в выходной запрещена. Может быть в случ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предотвращения стихийных б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ля предотвращения несчастных случа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ля производства непредвиденны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плата труд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468360" y="1557360"/>
            <a:ext cx="8064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лата тру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ное соглашением сторон и предусмотренное договором система вознаграждения за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истемы опл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ме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ь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плата должна выплачиваться не реже раз в полмеся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зможны удерж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подоходный налог 1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обязательные страховые взносы в пенсионный фонд 1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удержания по судебному реш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удержаний суммарно не может быть больше 20 %, а в особых случаях не больше 5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015400" cy="46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и права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умент, в котором записаны правовые нор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источников пра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вой обычай</a:t>
            </a: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глашение двух или более лиц, санкционирующее возникновение, изменение или прекращение право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ндивид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ормативный ( РФ-СШ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цеден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акт, имевший место в чьей-либо прак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тивно-правовой ак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фициальный письменный документ, принятый в особом порядке управомоченным на то гос.орган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сциплинарная ответств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539640" y="155736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исциплинарная ответственность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исциплинарных взыск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ч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ль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овые с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2"/>
          <p:cNvSpPr/>
          <p:nvPr/>
        </p:nvSpPr>
        <p:spPr>
          <a:xfrm>
            <a:off x="468360" y="1628640"/>
            <a:ext cx="795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ые споры-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гласия, возникающие по поводу применения трудового законод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ые спо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ндивиду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шестоящими орга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дминистрацией предприятия совместно с профко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суде рассматриваются сп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возвращении на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изменении даты и формулировки причины уволь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оплате вынужденного прог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овые с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2"/>
          <p:cNvSpPr/>
          <p:nvPr/>
        </p:nvSpPr>
        <p:spPr>
          <a:xfrm>
            <a:off x="468360" y="1444680"/>
            <a:ext cx="799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ключительно в суде рассматриваются сп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бочих тех предприятий, где нет КТ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заявлению администрации о возмещении работником ущер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лле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удовым арбитражем, создается в 10- дневный с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ей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468360" y="1341360"/>
            <a:ext cx="835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сль права, регулирующая семейны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нституция, Семейный код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вступления в бр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ное согла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е присут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брачного возраста( раньше- только по решению местных органов вла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пятствия к вступлению в бр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супругов уже состоит в законном бра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лицом признанным недееспособным вследствие душевной болезни или слабоу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а и обязанности супругов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2"/>
          <p:cNvSpPr/>
          <p:nvPr/>
        </p:nvSpPr>
        <p:spPr>
          <a:xfrm>
            <a:off x="468360" y="134136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а и обязанности супруг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бственное имя и фамил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вободного выбора проф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вободного выбора места жи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воспитание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мущ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а и обязанности родителей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468360" y="1341360"/>
            <a:ext cx="82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а и обязанности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ФИО, национальность,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место жи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щать права и интересы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получен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иться о здоровье и нравственном разви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ь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шение родительских пра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оняются от выполнения обязанностей по воспитанию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око обращ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альное по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ики, нарком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освобождаются от содержания детей, платят али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семейного воспитания детей, оставшихся без попечения родителей:</a:t>
            </a:r>
            <a:br>
              <a:rPr sz="32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оугольник 2"/>
          <p:cNvSpPr/>
          <p:nvPr/>
        </p:nvSpPr>
        <p:spPr>
          <a:xfrm>
            <a:off x="539640" y="1484280"/>
            <a:ext cx="777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ыновление ( удочер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ная 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468360" y="1341360"/>
            <a:ext cx="8136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схождение детей может быть установле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 родители могут подать в загс совместное заявление о признании их родител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зво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загсе 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наличии совершеннолетних детей, взаимном согласии, отсутствии имущественных сп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суд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чный догово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539640" y="1700280"/>
            <a:ext cx="806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ачный договор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ношения, регулируемые брачным договор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совместной собственности на иму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и обязанности супругов по взаимному содерж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участия в доходах друг друга и порядок несения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имущества в случае расторжения бр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ачный договор не мож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ивать правоспособность и дееспособность суп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гулировать личные неимущественные право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611280" y="155736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сль права, регулирующая нормальные, повседневные отноше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щественные 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неимущественные отношения, связанные с имуществом ( опубликование книг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ивилис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о же, что гражданское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жданский кодекс, положения и и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тивно-правовые ак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юридической силе различа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(имеет высшую юридическую сил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-конституционны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законные ак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ы президент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я прави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и инструкции министер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ъекты Г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539640" y="1413000"/>
            <a:ext cx="806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ы Г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е РФ, иностранцы и лица без гражд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Ф, субъекты РФ, муниципальные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малолет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совершать мелкие бытовые с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субъекты авторского и изобретательск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не могут распоряжаться имуще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несовершеннолет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ершать мелкие бытовые с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бъекты авторского и изобретательск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могут быть субъектами права на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не могут распоряжаться имуществом, купленным на стипенд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ы ГП: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ямоугольник 2"/>
          <p:cNvSpPr/>
          <p:nvPr/>
        </p:nvSpPr>
        <p:spPr>
          <a:xfrm>
            <a:off x="684360" y="1503360"/>
            <a:ext cx="78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ы Г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ещи, деньги, 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вижимые вещи - земельные участки и все, что с ними связано ( здания, предприятия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имые вещи - перемещение которых возможно без несоразмерного ущерба их назна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и, ограниченные в обороте - оружие, летательные аппараты, яды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нтеллектуа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териальные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дел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395280" y="1484280"/>
            <a:ext cx="820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дел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сдел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ерное 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ждает гражданские право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ействительности сдел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убъектов сделки, обладающих дееспособ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изъявление сто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ер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чение в соответствующую форму устную, письменную (простую, нотариальную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нклюдентные  действия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иды сдел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4" descr="Схема 2. Классификация сделок"/>
          <p:cNvPicPr/>
          <p:nvPr/>
        </p:nvPicPr>
        <p:blipFill>
          <a:blip r:embed="rId1"/>
          <a:stretch/>
        </p:blipFill>
        <p:spPr>
          <a:xfrm>
            <a:off x="395280" y="1341360"/>
            <a:ext cx="8271000" cy="460872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324000" y="1268280"/>
            <a:ext cx="8496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огов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полнении работ ( подряда, строительства.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казании услуг ( перевозка, поручение, хранение, комиссия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договора ( страхование, совместная деятельность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убличный договор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 доверительства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говор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2"/>
          <p:cNvSpPr/>
          <p:nvPr/>
        </p:nvSpPr>
        <p:spPr>
          <a:xfrm>
            <a:off x="468360" y="141300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рядок заключения дого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фер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е, которое адресовано конкретному лицу и содержит существенные условия дого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кцеп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иды догово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2" descr="http://stupinaoa.narod.ru/olderfiles/1/34.jpg"/>
          <p:cNvPicPr/>
          <p:nvPr/>
        </p:nvPicPr>
        <p:blipFill>
          <a:blip r:embed="rId1"/>
          <a:stretch/>
        </p:blipFill>
        <p:spPr>
          <a:xfrm>
            <a:off x="684360" y="1773360"/>
            <a:ext cx="7991280" cy="388764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ражданско-правовая ответственн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539640" y="148428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П ответственность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государства на неправомерное поведение, которое влечет неблагоприятные последствия для наруш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ГП ответ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 компенсацион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 имуществен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ьный ущерб-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ата или повреждение имуества, а также расходы для возвращения имущественного по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ущенная выгода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ученные доходы, которые потерпевшая сторона могла бы получить если бы не было нарушено её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2"/>
          <p:cNvSpPr/>
          <p:nvPr/>
        </p:nvSpPr>
        <p:spPr>
          <a:xfrm>
            <a:off x="684360" y="130500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я возникновения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воначальные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новой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работка, сбор, добыча доступных для этих целей ве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ольная постро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права собственности на бесхозное иму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зводные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дого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реемство при реорганизации юридического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2"/>
          <p:cNvSpPr/>
          <p:nvPr/>
        </p:nvSpPr>
        <p:spPr>
          <a:xfrm>
            <a:off x="395280" y="11970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кращение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ле собствен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ель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ое изъ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защиты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дикационный иск - об истребовании имущества из чужого незаконного вл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ервитут-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 прав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139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 пра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держание нормы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ипотез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ан круг лиц, которому она адресована, обстоятельства, при которых она реализ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испози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авила поведения, в которых указываются права и обязанности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анк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ры государственного прин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язательст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2"/>
          <p:cNvSpPr/>
          <p:nvPr/>
        </p:nvSpPr>
        <p:spPr>
          <a:xfrm>
            <a:off x="468360" y="148428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язательст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отношение, стороны которого называются кредитор и долж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особы обеспечения обязатель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тойка в виде штрафа или 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ржание- удерживание вещи кредитором до полного исполнения обя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учи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ог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оте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лог без передачи вещи залогодерж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ледственное право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539640" y="1484280"/>
            <a:ext cx="828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я наслед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завещан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зако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 очередей на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пруг, родители, д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дные братья и сестры, дедушки и баб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одные дяди и т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абабушки и прадед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племянников и племянниц, родные сестры и братья бабушек и деду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ледствен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468360" y="3213000"/>
            <a:ext cx="82072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наследу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, лишенные родительских пр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вещательный отказ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ожение на наследника по завещанию исполнение какого-либо обязательства в пользу другого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жизненное использование до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468360" y="1484280"/>
            <a:ext cx="806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асынки, падчерицы, отчим и маче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проживающие на иждивении не менее 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ступают в права наследования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 течение  6 месяцев после его откры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468360" y="1413000"/>
            <a:ext cx="81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дпринимательское прав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ы П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изические лиц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ниматься предпринимательством можно с 16 лет, в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ключительных случаях с 1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ое лиц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2"/>
          <p:cNvSpPr/>
          <p:nvPr/>
        </p:nvSpPr>
        <p:spPr>
          <a:xfrm>
            <a:off x="826920" y="1557360"/>
            <a:ext cx="7490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нутренней структуры организации, учредительных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отвечает по дол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ет в гражданском обороте от собственного и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468360" y="1484280"/>
            <a:ext cx="7991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Ю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мерческие - цель-получение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Товари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 вере ( коммандитное)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оугольник 2"/>
          <p:cNvSpPr/>
          <p:nvPr/>
        </p:nvSpPr>
        <p:spPr>
          <a:xfrm>
            <a:off x="611280" y="1413000"/>
            <a:ext cx="792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 ограниченной ответственностью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О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Акционерн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рыт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крыт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ции распределяются только среди учредителей или заранее определенного круга 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2"/>
          <p:cNvSpPr/>
          <p:nvPr/>
        </p:nvSpPr>
        <p:spPr>
          <a:xfrm>
            <a:off x="468360" y="148428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зводственный кооператив( артель)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ое объединение граждан на основе членства для совместной производстве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государственные и муниципальные предприятия ( унитарные)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ют, но не владеют закрепленным за ними гос. имуществом, имущество не может быть поделено по вкла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2"/>
          <p:cNvSpPr/>
          <p:nvPr/>
        </p:nvSpPr>
        <p:spPr>
          <a:xfrm>
            <a:off x="468360" y="1484280"/>
            <a:ext cx="8207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коммерческ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Потребительский кооператив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Общественные и религиозные организаци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Фонд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2"/>
          <p:cNvSpPr/>
          <p:nvPr/>
        </p:nvSpPr>
        <p:spPr>
          <a:xfrm>
            <a:off x="468360" y="1484280"/>
            <a:ext cx="813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способность ЮЛ возникает с момента его созд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ЮЛ реализуется через действия органов Ю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директор, общее собрание акционеров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преем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ход прав и обязанностей к новому Ю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организ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нение организационно-правовой формы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яние с другим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ие на несколько новых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формы деятельности ( ОАО-ЗА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норм пр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523880" y="1397160"/>
          <a:ext cx="6096240" cy="7412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24000" y="1397160"/>
          <a:ext cx="8424720" cy="5446440"/>
        </p:xfrm>
        <a:graphic>
          <a:graphicData uri="http://schemas.openxmlformats.org/drawingml/2006/table">
            <a:tbl>
              <a:tblPr/>
              <a:tblGrid>
                <a:gridCol w="2736720"/>
                <a:gridCol w="3384360"/>
                <a:gridCol w="2303640"/>
              </a:tblGrid>
              <a:tr h="798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бязывающие 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управомочивающие 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запрещающие 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4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ют обязанность совершать определенные     положительные действия (например, платить за  проезд в  метро, исполнять      гражданско-правовые обязательства и т.д.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    участникам правовых отношений возможность    совершать положительные  действия в   целях   удовлетворения своих   законных   интересов (получать стипендию, подавать иск в суд, и т.п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ют запрет совершать недозволенные действия (злоупотреблять властью, нарушать права   граждан, грабить, убивать и т.п.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2"/>
          <p:cNvSpPr/>
          <p:nvPr/>
        </p:nvSpPr>
        <p:spPr>
          <a:xfrm>
            <a:off x="539640" y="1484280"/>
            <a:ext cx="79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ое партнёрство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ранчайзинг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енчурная фирма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2"/>
          <p:cNvSpPr/>
          <p:nvPr/>
        </p:nvSpPr>
        <p:spPr>
          <a:xfrm>
            <a:off x="468360" y="1484280"/>
            <a:ext cx="8351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РФ сложилась единая система судо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обенности осуществления правосуд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г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правосудия только с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сть су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стимость посторного осуждения за одно и тоже пре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пользование квалифицированной юридической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правие и состяз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опроизводство на национальном я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умпция невино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2"/>
          <p:cNvSpPr/>
          <p:nvPr/>
        </p:nvSpPr>
        <p:spPr>
          <a:xfrm>
            <a:off x="611280" y="148428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дебная система в Р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высшей инстанции - Конституционный суд, Верховный суд, Высший арбитражны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оугольник 2"/>
          <p:cNvSpPr/>
          <p:nvPr/>
        </p:nvSpPr>
        <p:spPr>
          <a:xfrm>
            <a:off x="611280" y="1413000"/>
            <a:ext cx="79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охранительный орга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 проку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за исполнением зак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стадии производства дознания и предварительного 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уголовном и гражданском судопроизвод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стадии исполнения приго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за исполнением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я действий правоохранительных органов по борьбе с преступ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468360" y="155736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двокату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ое сообщество адвок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 адвокат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, разъяснения, справки по юридическим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документов правов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гражданском, уголовном, административном производ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интересов доверителя в органах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ав граждан при оказании им психиатриче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обслуживание коммерческих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качестве представителя в Конституционном су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684360" y="141300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инюст РФ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гос. политики в сфере юст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ав и законных интересов личности и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ая защита интеллектуальной 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установленного порядка действия су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актов судебных и других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уголовных наказ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введение Минюста в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а судебных приста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ИС ( уголовно-исполнительная система - колонии, тюрьмы, СИЗО..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судебных эксперт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акции юридических журн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2"/>
          <p:cNvSpPr/>
          <p:nvPr/>
        </p:nvSpPr>
        <p:spPr>
          <a:xfrm>
            <a:off x="395280" y="1413000"/>
            <a:ext cx="799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илиция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ные направления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личной безопасности 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правонару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общественного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щи насе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едование преступлений и розыск скрывшихся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мили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минальная с подразде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г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Э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еративно-технически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еративно-поисковы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лиция общественной безопасности с подразде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2"/>
          <p:cNvSpPr/>
          <p:nvPr/>
        </p:nvSpPr>
        <p:spPr>
          <a:xfrm>
            <a:off x="539640" y="14446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жданство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ойчивая правовая связь человека с государством, выраженная в их взаимных правах и обязанн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2- Закон о гражданстве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особы приобретения гражда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     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по рождению- фили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кров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тво определяется гражданством родителей, место рождения не учит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почв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тво того государства, на территории которого человек родился, независимо от гражданства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По приёму в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2"/>
          <p:cNvSpPr/>
          <p:nvPr/>
        </p:nvSpPr>
        <p:spPr>
          <a:xfrm>
            <a:off x="539640" y="1484280"/>
            <a:ext cx="806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патри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о, не имеющее гражд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ипатри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цо, имеющее двойное гражд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т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бор гражданства при изменении государственных границ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ку 14-18 лет  спрашивают его согласия при выборе гражд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кументами, подтверждающими гражданство РФ являютс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гражданин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детельство о рож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жданами РФ являю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ица, которые приобрели гражданство РФ в соответствии с действующим зако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324000" y="141300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турализация- процесс приобретения гражданских пр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ем в гражданст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 5 л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е проживание на территории РФ до 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ь соблюдать Конституцию и другие 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законный источник суще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ют русским язы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 1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е достижения в области науки, искусства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раке с гражданином РФ не менее 3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рудоспособный и имеет детей старше 18 лет, имеющих гражданство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щущий политическое убежище на территор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изация и применение норм пра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изация норм права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площение содержащихся в не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исаний повед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ы реализации права</a:t>
            </a: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</a:t>
            </a: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уществлени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Исполнени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язательное совершение активного действия, предписанного нормами права ( юридические обязанности граждан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Соблюдение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здержание от совершения действия, запрещённого нормами пра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менение норм права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оугольник 2"/>
          <p:cNvSpPr/>
          <p:nvPr/>
        </p:nvSpPr>
        <p:spPr>
          <a:xfrm>
            <a:off x="539640" y="155736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каз в приеме в гражда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ет за насильственное изменение конституционного стро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 в качестве обвиняемого по уголовному д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ход из гражданства невозмож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е отбыл воинскую пов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 в качестве обвиняемого по уголовному д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обязательства перед стра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кспатри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о, лишенное гражд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Ф не допускается лишения гражд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2"/>
          <p:cNvSpPr/>
          <p:nvPr/>
        </p:nvSpPr>
        <p:spPr>
          <a:xfrm>
            <a:off x="539640" y="141300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ы Российского гражда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гражданства гражданами РФ, проживающими за её преде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тъемлемость гражданства ( не может быть лишё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Прямоугольник 2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жимы, предоставляемые иностранным физическим и юридическим лиц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спользуемая литерату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509760" y="21337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ebarhimed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4"/>
          <p:cNvSpPr/>
          <p:nvPr/>
        </p:nvSpPr>
        <p:spPr>
          <a:xfrm>
            <a:off x="468360" y="249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randar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6:43:10Z</dcterms:created>
  <dc:creator>user</dc:creator>
  <dc:description/>
  <dc:language>en-US</dc:language>
  <cp:lastModifiedBy>LEGION</cp:lastModifiedBy>
  <dcterms:modified xsi:type="dcterms:W3CDTF">2016-01-04T08:08:57Z</dcterms:modified>
  <cp:revision>96</cp:revision>
  <dc:subject/>
  <dc:title>Подготовка к ЕГЭ по обществознанию</dc:title>
</cp:coreProperties>
</file>